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F59-0D76-4274-BB5F-E9331AB2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57A5-49AA-40F3-8285-2E552EDA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A52-5C3D-4328-92A8-A6F8289C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FF6A-DC7F-4DC4-848D-C89901429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A319-B5CD-46A3-BD9D-9309A5E7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AFC6-A16D-4304-A342-D7FC34AF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B136-2B01-4742-8747-6BFEE447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90EF-8A3F-4995-A7A9-B11D6581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D79C-6280-4945-A4C5-B9DB406F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1345-9A9D-4EFE-AB53-526B914C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88BC-4BB0-429F-8810-304EDD9B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9E6-6DB3-4733-860F-7020E69A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D05D-3307-46FD-B2FD-15970FA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E8DE-05DD-4E85-9D46-F361267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7EC6-DAE4-4E68-8C53-4CD4EE01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02F8-6AE5-429B-AB98-496A63A7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E6B8-72E0-491E-ADEB-BDB24722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275-7B33-483E-A8A0-53D441F1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77B0-010C-408A-AEEC-BC2B3809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9D95-8DED-4BE0-B617-E0D1124E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20B-42B5-4CA7-AED5-488091DF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2C3-F295-49A8-B91D-63FFC924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E63-EE47-47CF-948D-857A7611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33F-4939-47E7-8043-7EE2BC07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931-8CCD-4442-BFEF-A662A24250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491F-C619-463D-AC86-2FAAE419A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95008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DIEU, LE PE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Sous-thèm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Son amou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Paroles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E.-L. Budry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Musique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: G.-C. Steppier</a:t>
            </a:r>
            <a:br>
              <a:rPr sz="1000"/>
            </a:br>
            <a:r>
              <a:rPr b="1" lang="fr-FR" sz="1000" spc="-1" strike="noStrike">
                <a:solidFill>
                  <a:srgbClr val="ffffff"/>
                </a:solidFill>
                <a:latin typeface="Tahoma"/>
              </a:rPr>
              <a:t>Correspondance </a:t>
            </a: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: HL04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76640"/>
            <a:ext cx="9144000" cy="23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ccff"/>
                </a:solidFill>
                <a:latin typeface="Arial"/>
                <a:ea typeface="Arial"/>
              </a:rPr>
              <a:t>DLG001 – JE VEUX CHA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nnez-lui Gloire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754840" y="5272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8749800" y="5653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8740800" y="6033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6" action="ppaction://hlinksldjump"/>
          </p:cNvPr>
          <p:cNvSpPr/>
          <p:nvPr/>
        </p:nvSpPr>
        <p:spPr>
          <a:xfrm>
            <a:off x="8749800" y="487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1 – JE VEUX 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Je veux chanter l'amour puiss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Qui sauve et qui déliv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Qui remplit mon coeur mainten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De joie et me fait vivr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8754840" y="5272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8749800" y="5653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8740800" y="6033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5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6" action="ppaction://hlinksldjump"/>
          </p:cNvPr>
          <p:cNvSpPr/>
          <p:nvPr/>
        </p:nvSpPr>
        <p:spPr>
          <a:xfrm>
            <a:off x="8740080" y="445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1 – JE VEUX 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Refr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Je veux chanter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Chanter de tout mon coe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L'amour de Dieu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L'amour de mon Sauveu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8749800" y="5653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740800" y="6033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5" action="ppaction://hlinksldjump"/>
          </p:cNvPr>
          <p:cNvSpPr/>
          <p:nvPr/>
        </p:nvSpPr>
        <p:spPr>
          <a:xfrm>
            <a:off x="8749800" y="487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6" action="ppaction://hlinksldjump"/>
          </p:cNvPr>
          <p:cNvSpPr/>
          <p:nvPr/>
        </p:nvSpPr>
        <p:spPr>
          <a:xfrm>
            <a:off x="8740080" y="445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1 – JE VEUX 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Je veux chanter l'amour vainque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Qui, malgré ma faibless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Peut me donner, à moi, péche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La victoire sans ces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754840" y="5272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3" action="ppaction://hlinksldjump"/>
          </p:cNvPr>
          <p:cNvSpPr/>
          <p:nvPr/>
        </p:nvSpPr>
        <p:spPr>
          <a:xfrm>
            <a:off x="8740800" y="6033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4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5" action="ppaction://hlinksldjump"/>
          </p:cNvPr>
          <p:cNvSpPr/>
          <p:nvPr/>
        </p:nvSpPr>
        <p:spPr>
          <a:xfrm>
            <a:off x="8749800" y="487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6" action="ppaction://hlinksldjump"/>
          </p:cNvPr>
          <p:cNvSpPr/>
          <p:nvPr/>
        </p:nvSpPr>
        <p:spPr>
          <a:xfrm>
            <a:off x="8740080" y="445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1 – JE VEUX 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Je veux chanter le tendre am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Qui dans les jours de pe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Rends le poids du chagrin moins lourd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Console et rassérè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754840" y="5272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49800" y="5653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8740800" y="63817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749800" y="487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8740080" y="445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001 – JE VEUX 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13000"/>
            <a:ext cx="9144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765000"/>
            <a:ext cx="91440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Je veux chanter le grand amou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Immuable et fidèl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Qui me conduit de jour en jou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rbel"/>
              </a:rPr>
              <a:t>Vers la vie éternel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692280"/>
            <a:ext cx="9144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54840" y="527220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749800" y="56530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740800" y="603396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749800" y="4875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0080" y="4459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8:17:58Z</dcterms:created>
  <dc:creator>RAZAFIMANANTSOA</dc:creator>
  <dc:description/>
  <dc:language>en-US</dc:language>
  <cp:lastModifiedBy>DADA</cp:lastModifiedBy>
  <dcterms:modified xsi:type="dcterms:W3CDTF">2011-09-11T16:02:14Z</dcterms:modified>
  <cp:revision>43</cp:revision>
  <dc:subject/>
  <dc:title>Tiona Advantista</dc:title>
</cp:coreProperties>
</file>