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940-557E-4A0D-9C54-AAB69A11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058-0E44-4C33-A19C-0AEC7BA5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6AF-DD4F-4909-A9F5-B661C3A3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35D-6DAC-4498-9B71-CD936FEA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8ED8-BB92-4AD8-A831-FA48F0C3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C2F0-F152-4401-B028-6566B670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2914-59F4-4BC6-9FE9-4B3EB37E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B4AF-9AF4-4452-8AC9-C3326FEF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0AF3-8B6C-4E24-B245-ADF995CA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92AA-9BD5-487E-898D-4C90D42E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159B-D4EE-4BCE-A8CC-280C6ACB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4CB-B17B-4CF7-BB63-301D69F0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77CF-55A3-4352-8F41-001613E5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9F4F-4D24-4084-A281-E499E000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2C59-66F3-4D48-ACD9-F31B3393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4BFB-EA96-4466-88B9-C05FC721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B4AD-D480-4FCC-A908-F313A9F0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48C-F75A-4A85-8EA0-C7753DB3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AC4-AB31-4E50-B60B-7544EF77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81C-18D1-432D-9792-17EE48DA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143-44F0-45CB-A13D-DE83A63C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84E-C592-4D56-8654-17E9AAEC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B5E-C94E-41CA-B0D0-562A91A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448-3BD3-4738-B25B-4BCB4153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8D2-150E-4384-8205-89B9188173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7F44-E989-4B6A-811F-1567FAEAB7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PSAUM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Théodore De Bez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 : L. Bourgeois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Corespondance </a:t>
            </a:r>
            <a:r>
              <a:rPr b="0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r>
              <a:rPr b="0" lang="fr-FR" sz="10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Tahoma"/>
                <a:ea typeface="Arial"/>
              </a:rPr>
              <a:t>TA001, TA03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Arial"/>
                <a:ea typeface="Arial"/>
              </a:rPr>
              <a:t>HL001 – VOUS, QUI SUR LA TERRE HABITE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Hymnes et Louang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13160" y="5537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818200" y="5918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81316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829000" y="6308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ffff"/>
                </a:solidFill>
                <a:latin typeface="Tahoma"/>
              </a:rPr>
              <a:t>HL001 – VOUS, QUI SUR LA TERRE HABIT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Vous qui sur la terre habitez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Chantez à haute voix, chantez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Réjouissez-vous au Seigne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Par un saint hymne à son honneu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13160" y="5537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18200" y="5918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29000" y="6308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1784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ffff"/>
                </a:solidFill>
                <a:latin typeface="Tahoma"/>
              </a:rPr>
              <a:t>HL001 – VOUS, QUI SUR LA TERRE HABIT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N'est-il pas le Dieu souver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Qui nous a formés de sa mai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Nous, le peuple qu'il veut chéri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Et le troupeau qu'il veut nourri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18200" y="5918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1316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29000" y="6308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881784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ffff"/>
                </a:solidFill>
                <a:latin typeface="Tahoma"/>
              </a:rPr>
              <a:t>HL001 – VOUS, QUI SUR LA TERRE HABIT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Entrez dans son temple aujourd'hu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Venez vous présenter à lui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Célébrez son nom glorieux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Et l'élevez jusques aux cieux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13160" y="5537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1316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29000" y="6308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1784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ffff"/>
                </a:solidFill>
                <a:latin typeface="Tahoma"/>
              </a:rPr>
              <a:t>HL001 – VOUS, QUI SUR LA TERRE HABIT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C'est un Dieu rempli de bonté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D'une éternelle vérité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Toujours propice à nos souhait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Et sa grâce dure à jama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13160" y="5537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18200" y="5918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13160" y="5140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1784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1-23T10:35:22Z</dcterms:modified>
  <cp:revision>76</cp:revision>
  <dc:subject/>
  <dc:title>Tiona Advantista</dc:title>
</cp:coreProperties>
</file>