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687-CFF5-49AF-8FEF-83E11228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2B0-DB9C-44A7-AEEA-67B2A8C7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B12-B941-492D-8623-77A56CF7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CDF-BB3E-4E2B-A04C-C86443CA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5A0A-8DA7-4B4E-A4AF-104126E7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214F-FA2B-43AA-BB4D-64EBA005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1630-0BB0-4F49-BE32-98A5511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92AD-4C3A-49C2-BA00-5193EA4A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C24B-0380-476E-BE20-BE32D4C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012A-A908-4131-BF7A-FCF15470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D8FF-85F6-421B-A159-3E5EEBA4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DE4-6D68-4D02-A8D9-875E159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9FC8-8965-4168-9EB3-902B3EC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45F8-3B57-4536-B8F5-15450C2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3B8E-5401-4AEA-8D39-0BECF710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7EBD-102C-45C5-88AD-81BBEB6C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1DE4-4443-4117-8DCE-4B8E9A89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1FE-AD37-4C0A-B7CC-5210CC4A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190-65EA-4B11-B09E-1F1BE92B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A3D-19DE-469C-8CF0-2D28C453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E06-E4C0-441E-BC17-7830E29C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7B2-61CA-4631-9F85-C632688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164-BE32-4BB3-8C87-11F4DF9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195-7AC9-4D21-8601-9995452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FC1D-C993-48C9-B341-70E97C5B6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EB7-577E-40AD-8DE2-F4F86C0C3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(Tsy fantatra) 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Janet S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80acc4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acc4"/>
                </a:solidFill>
                <a:latin typeface="Arial"/>
                <a:ea typeface="Arial"/>
              </a:rPr>
              <a:t>MMJ086 - HE HANDEHA IANA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86 - HE HANDEHA IANAR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He handeha ianareo ka handa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O ! veloma ho tahin'ny Tompo Jes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336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35:36Z</dcterms:modified>
  <cp:revision>94</cp:revision>
  <dc:subject/>
  <dc:title>Tiona Advantista</dc:title>
</cp:coreProperties>
</file>