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EC5A-D326-4757-8659-8AE156A5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12C0-0C66-4D02-A1D9-ED881D3F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C710-9B53-433D-BE3C-0F29D921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6EDC-FE3F-4F64-A3E1-34CDD407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A061-9C8A-4C40-A116-1B5A7EC5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DEEF-B010-4481-9AC1-60793137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F81F-09F9-4380-939E-9538DBC7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8B60-5DCA-404D-8051-71F11598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70F6-BF7A-421A-B762-B52009A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4F7F-F164-494D-B7A7-E6FD511A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82B2-0C13-47D7-A9DC-13D369D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F9C8-0CE7-4C15-9993-8428341D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648A-1F9E-487B-BC7A-69E2E1B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82A8-9202-4016-A127-455EDF65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A893-BD2A-40F2-BC71-A7E92A73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6C0E-7079-483C-ABBA-314E6683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11F8-E959-48E5-BB70-7FC00477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A9C0-38B9-43DC-969B-30E5DF94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03DB-2576-4632-9A82-C727AC17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5B8C-4838-4107-8650-43875E78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43FA-4DB5-4217-9DA7-8C2C2CDA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6FCD-684E-4162-B572-68F3BCF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6D5C-65EF-46BF-8074-2BBFEA78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1BB9-47D6-481A-B87F-178A3211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66E4-C832-409C-868F-4314E73C24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7468-E5E7-46E1-AD03-390E65776D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ZAFIMAHAFA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e0a5"/>
                </a:solidFill>
                <a:latin typeface="Arial"/>
                <a:ea typeface="Arial"/>
              </a:rPr>
              <a:t>MMJ003 – DERAINAY IANA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3 – DERAINAY IANAO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Derainay Iana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oho ireo soa nataona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robe ka tsy voatanis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 fisaorana no atolo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00560" y="5978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18:55Z</dcterms:modified>
  <cp:revision>35</cp:revision>
  <dc:subject/>
  <dc:title>Tiona Advantista</dc:title>
</cp:coreProperties>
</file>