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7651-54F4-4F92-BB3A-F3ACE6F4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5D31-D53B-4898-A351-5496BBDB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D0539-D037-4D7F-A7FB-89312AAA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3EE5-4CB3-4E5A-8FE1-9C9D5748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3131-9292-4825-B1F0-86B15BC4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018D-EF42-46B8-B203-C6EC4407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11C7-32AB-4F69-84F2-FF3D6A06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9D0C-12A2-43A1-A921-74BEB68E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CE17-EB34-4E3B-8B5A-9E1F045B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E07F-79B7-4D16-88F3-53444EFA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FC9B-2D03-4AAD-96F3-330D31F0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1723D-8ABF-45AB-A107-6579DD0B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A3A7-2643-4CE2-AD49-EDA3B10C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9C2F-08F1-4C00-928F-A8569BEE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54F1-C62F-4C6D-939F-2DC9CFE3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ECFA-DF1F-48CF-B1FF-16B4BBAF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31A3-C6CB-451B-96B6-67A122BA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7C8E-D588-4851-8F44-6E064B5A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A2ACE-6D13-433D-BB3C-5E2F56A6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7EF4-6CA5-4D7C-941F-4B115528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8E96C-0592-4DE0-8D7B-FFAF31B6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3905-5B31-472F-8CFE-D7A17DFB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1CBDA-1758-4F62-95D6-32F3D2BB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0C400-69BA-4112-AD10-8EB350BA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211F-6C04-4487-B72E-925D5080C69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D5D8-07D6-4CD2-80D3-37EA0FECDF0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. S.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. 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Arial"/>
                <a:ea typeface="Arial"/>
              </a:rPr>
              <a:t>MMJ060 – HO AVY JE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434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99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834400" y="5818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MJ060 – HO AVY JE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Ho avy Jeso; Ho avy Je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e hahita Azy ah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Ho faly aho; Ho faly a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Hahita an'i Jesos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02:42:28Z</dcterms:modified>
  <cp:revision>91</cp:revision>
  <dc:subject/>
  <dc:title>Tiona Advantista</dc:title>
</cp:coreProperties>
</file>