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562-A352-43FD-89BD-A8EF3CE6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C37-18C1-4012-A10B-73F71929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9F1-47B5-46DF-B4E7-F1B1DE1C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DF6-E5F2-48C3-94FA-04EFCD60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5D7F-A4EA-460A-8683-694296FC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6841-A5AA-4C85-A816-062941F3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314F-04CC-4ED2-B680-72903064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6625-148D-4CDF-A348-EC7D67E3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B8AD-9885-4F39-8D09-BC73F822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7B7B-06C4-4113-8750-A32607E8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96C3-C662-45F7-899F-648EE176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974-8D2B-4133-949D-FE784376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1CDE-0670-414C-8919-BBB1DE78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C785-2143-4735-8186-518BEF2E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FC5B-27B0-4231-93CC-C14F227E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F9DC-78DC-446E-9790-486C43B4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377A-F741-4CD7-A8B5-80287FD2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597-0C72-40C6-B38A-903DDC8A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D8C-0F5B-498F-BA50-94383217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6D7-7B65-4980-AC40-01E03DC9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A18-7E35-4423-BAFA-4EED6486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9AF-FA70-4276-A5BA-47BEE1CA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D90-DD09-47BD-A06F-A8463668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730-441A-4B6A-A616-71E44B8D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B127-EE3C-4275-B8E3-58CE6D92E34C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61C0-CDFF-444D-A20D-48399A8E9F41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ANKIZY SY FIANAKAVIAN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Ankizy sy fianakavian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(Tsy fantatra) </a:t>
            </a:r>
            <a:br>
              <a:rPr sz="1000"/>
            </a:b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(Tsy fantatra) 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66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75 – NITONDRA NY ZAZ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">
            <a:hlinkClick r:id="rId2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ff"/>
                </a:solidFill>
                <a:latin typeface="Arial Black"/>
              </a:rPr>
              <a:t>Ankizy Advantista – Miaraka mihira amin’i Jesosy</a:t>
            </a:r>
            <a:endParaRPr b="0" lang="en-US" sz="20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75 – NITONDRA NY ZAZ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itondra ny zaza ny reny tao Salem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Mba ho tahian'i Jes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Kanefa voalaza fa tsy mba neken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Mba ho raisin'i Jes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Jesosy niteny ireny zaza ireny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ccffff"/>
                </a:solidFill>
                <a:latin typeface="Corbel"/>
                <a:ea typeface="Arial"/>
              </a:rPr>
              <a:t>Ireny no tiako, ireny no tahiako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Izahay re, ry Neny mba ento manken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Ny hotahian'i Jes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75 – NITONDRA NY ZAZ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Nitondra ny zaza ny reny tao Salem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Mba handova an'i Jes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Ireo no sahaza fa ireny no ten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zanak'Andriamanitr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Izay tsy miova tahaka ny zaz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Dia tsy mba handova na efa mendrika az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Izahay re, ry Neny mba ento manken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Mba handova an'i Jes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75 – NITONDRA NY ZAZ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Nitondra ny zaza ny reny tao Salem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Hiaraka amin'i Jes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Fa na bitik aza tsy azo raran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Hiaraka amin'i Jeso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Na aiza, na aiza Jeso no haleha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Na dia sarotra aza, 'zahay re mba handeh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Izahay re, ry Neny mba ento manken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ffff"/>
                </a:solidFill>
                <a:latin typeface="Corbel"/>
                <a:ea typeface="Arial"/>
              </a:rPr>
              <a:t>Hiaraka amin'i Jes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17:58:08Z</dcterms:modified>
  <cp:revision>90</cp:revision>
  <dc:subject/>
  <dc:title>Tiona Advantista</dc:title>
</cp:coreProperties>
</file>