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46DD-CFC8-4876-88D2-38E69B2EC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4E7B-A72E-4D6F-AB83-66E359D3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F717-B979-4121-ABC1-942B845C1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84AE-B80D-4FE2-86C0-62162DC9A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4DF4-824F-48FC-8592-13D4C636F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79CC-2BA8-4E3D-87DA-53721931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1AD1-6B38-4D2F-8F2D-EFFA9BA4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5ECE-307A-4B99-8C74-64F5D233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BF7F-4EA4-43EC-B59B-E53E9F61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563A-C16C-45D5-BAFF-66CA6CA2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67D0-A806-4C2A-A0D2-A7E46879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4CE7-E156-4226-BABB-C1F6716E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7541-0116-4C38-9FED-73E7C556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57D4-30A6-428B-A138-2D43ABCF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EB87-53B1-4933-9788-DE720FB5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57B4-CBF8-4C2E-8655-EAF595698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9813-D187-4671-82F3-492CBD78F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D487-1C1A-48D3-A550-CC48D608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DA98-4BD1-4940-8089-0650AEDF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7B69-9482-49FC-935F-9F2DB98B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8332-B1CE-47CC-9561-C041801B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1771-9303-449B-B15E-47423844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E197-2A18-4043-A12D-DD3800A1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18D1-9348-43F3-96A5-DC5A2595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1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54F5-5563-4C60-A060-F2BB1384B7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1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25A2-6208-4294-9AA0-A25C86CA8A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N. RAVONI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Clara M. STRIPL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Correspondanc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56925a"/>
                </a:solidFill>
                <a:latin typeface="Times New Roman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925a"/>
                </a:solidFill>
                <a:latin typeface="Arial"/>
                <a:ea typeface="Arial"/>
              </a:rPr>
              <a:t>MMJ066 – AVIA JESOSY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88434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Ankizy Advantista – Miaraka mihira amin’i Jesosy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925a"/>
                </a:solidFill>
                <a:latin typeface="Times New Roman"/>
              </a:rPr>
              <a:t>MMJ066 – AVIA JESOSY TOMP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99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3300"/>
                </a:solidFill>
                <a:latin typeface="Corbel"/>
                <a:ea typeface="Arial"/>
              </a:rPr>
              <a:t>Avia Jesosy Tom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3300"/>
                </a:solidFill>
                <a:latin typeface="Corbel"/>
                <a:ea typeface="Arial"/>
              </a:rPr>
              <a:t>Ato am-poko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3300"/>
                </a:solidFill>
                <a:latin typeface="Corbel"/>
                <a:ea typeface="Arial"/>
              </a:rPr>
              <a:t>Manjakà, monena 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3300"/>
                </a:solidFill>
                <a:latin typeface="Corbel"/>
                <a:ea typeface="Arial"/>
              </a:rPr>
              <a:t>O ! ry Mpamonjik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88434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8833680" y="5581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925a"/>
                </a:solidFill>
                <a:latin typeface="Times New Roman"/>
              </a:rPr>
              <a:t>MMJ066 – AVIA JESOSY TOMP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99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3300"/>
                </a:solidFill>
                <a:latin typeface="Corbel"/>
                <a:ea typeface="Arial"/>
              </a:rPr>
              <a:t>Ampidino am-p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3300"/>
                </a:solidFill>
                <a:latin typeface="Corbel"/>
                <a:ea typeface="Arial"/>
              </a:rPr>
              <a:t>Ny fitiavanao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3300"/>
                </a:solidFill>
                <a:latin typeface="Corbel"/>
                <a:ea typeface="Arial"/>
              </a:rPr>
              <a:t>Hanavao ny toetr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3300"/>
                </a:solidFill>
                <a:latin typeface="Corbel"/>
                <a:ea typeface="Arial"/>
              </a:rPr>
              <a:t>Ho tena zandr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firstslide"/>
          </p:cNvPr>
          <p:cNvSpPr/>
          <p:nvPr/>
        </p:nvSpPr>
        <p:spPr>
          <a:xfrm>
            <a:off x="8833680" y="5581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7T05:03:47Z</dcterms:modified>
  <cp:revision>87</cp:revision>
  <dc:subject/>
  <dc:title>Tiona Advantista</dc:title>
</cp:coreProperties>
</file>