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9E50-301B-470D-AF2C-903BD023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E27B-D2A8-4231-9CF5-BC17EA9D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A63B-8322-4C00-867C-5610A59B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21E2-48B6-4985-94E7-D0ACF576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9F66-1141-4E48-A66C-806C4ADA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16F2-D612-408F-9BEC-78E9B3AB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C870-5E4C-4AE0-A6A1-A7EF8FB5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B507-C18D-4959-9A76-C8D8210C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05C2-7D8F-4A12-8E9A-1A4F7176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8280-0745-4FB7-AEF3-A02EFDEA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9633-ABBB-402A-B4CB-E13E367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A59C-753C-4628-AC5F-7505E491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2437-F485-494E-A4B9-D23A014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DD8D-3B24-4A99-8C66-78E8602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CA85-E447-4402-A9B6-75CFA76B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FBD7-8C04-458F-9B29-27D0D747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203A-D899-48E8-AB08-21E30B76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9D5E-595F-4411-8AD9-970ADB84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C9EC-DB81-4551-A373-7B7938D7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EC82-BB8A-49D7-BA7E-D468578E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007E-8A7A-47AF-A430-1DCF27A8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B4AC-D0D4-41C5-8C62-06EFA5BB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0ACF-C029-4079-87A9-9FEFB463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7A93-648E-42CB-8413-0AF8CD0A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7D8C-8796-4A25-8C2E-DDCD15F0FB4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0992-FDBF-40B8-9400-3AB48A82EB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anet 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4 – TSY HITA I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4 – TSY HITA IZ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sy hita Iz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sy hita ato (1) J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Kanefa ato (2), kanefa at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Fantatro fa ato J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Miverina indroa no fanao az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1) Manondro ny t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2) Manondro ny f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00560" y="590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8T16:32:08Z</dcterms:modified>
  <cp:revision>38</cp:revision>
  <dc:subject/>
  <dc:title>Tiona Advantista</dc:title>
</cp:coreProperties>
</file>