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5EBDA-512E-4949-B72B-C0DDC6FB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1088B-C3FC-43F8-90AF-9794D4F3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3914-899D-43E4-99A8-D674AF43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2B50-D732-4F88-98F9-8D5F6F20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F0DA-290E-4CCC-983A-B82187EF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D7BE-D9F7-4B9C-9BC5-7E65127A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2466-C31C-4FD3-8845-5A4A49B4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4D68-5002-4C49-ABDC-6DD0B22A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D526-629F-4138-9702-472AC74D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AA0F-8B27-499A-8312-4D2C2D83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DB40-FFE1-47EF-A6FA-32C2590E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84CB-D992-4D2F-8ECB-9077FD76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6F5A-CE77-49D0-9CB0-52374CDB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B8DD-7544-4077-B829-1BD51084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915E-AA86-404E-9871-AAA3B0C0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9BCF-DD55-49F2-9431-2BFD7985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058F-BBDD-4078-A057-3CA81DB7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D5D75-9F0B-429B-98FE-D2A48D18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0223-18BE-47FE-A43B-5CAC218B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22926-5276-48A6-910B-95B7CD07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587F-71F6-46AE-BF52-ABA2CBE2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0032-5C40-4ABC-94A7-16FD51E2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668A1-6E1C-467E-BC22-653B053F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A2485-6DDB-4248-80F9-805CFA01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7EB5-111D-47E1-9284-844FFDAAE0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C5F1-A49C-4948-A4AD-BB4F17B2B11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H. et S. GRANDJ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dddcc5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99"/>
                </a:solidFill>
                <a:latin typeface="Arial"/>
                <a:ea typeface="Arial"/>
              </a:rPr>
              <a:t>MMJ037 – MPIANATRA ROALA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10280" y="50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10280" y="544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01280" y="5826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801280" y="6267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8810280" y="46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7 – MPIANATRA ROALA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Mpianatra roalahy Indreto tafarak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Mitantara sy miahia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Ny amin'i Je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Masina, mari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Nohomboin'ireo ratsy fana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Nahonena tokoa 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Lay Mpanjaka Tsito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Ô ! tsy rariny r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Vono, eso, niaretany avoko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810280" y="50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8810280" y="544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8801280" y="5826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4" action="ppaction://hlinksldjump"/>
          </p:cNvPr>
          <p:cNvSpPr/>
          <p:nvPr/>
        </p:nvSpPr>
        <p:spPr>
          <a:xfrm>
            <a:off x="8801280" y="6267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800560" y="4251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7 – MPIANATRA ROALA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Raha nandeha toy iza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Ireo mpianatra ro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Indro tamy toa mba hanont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Ity namana iray Tena liana toko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Fa nahoana no dia malah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Toa kivy tok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Ianareo roalah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Malahelo izah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Very ny Mpamonjy nantenain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8810280" y="544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801280" y="5826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3" action="ppaction://hlinksldjump"/>
          </p:cNvPr>
          <p:cNvSpPr/>
          <p:nvPr/>
        </p:nvSpPr>
        <p:spPr>
          <a:xfrm>
            <a:off x="8801280" y="6267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4" action="ppaction://hlinksldjump"/>
          </p:cNvPr>
          <p:cNvSpPr/>
          <p:nvPr/>
        </p:nvSpPr>
        <p:spPr>
          <a:xfrm>
            <a:off x="8810280" y="46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800560" y="4251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7 – MPIANATRA ROALA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Dia nambarany Ny amin'i J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Izay voalaza hatramin'ny talo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Fa hijaly tok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Eny ho faty k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Fa hitsangana amin'ny m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Ka handresy, hifo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Tsy ho tratry ny 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Fa ho velona s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Ho Mpanafaka amin'ny rat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8810280" y="50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8801280" y="5826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8801280" y="6267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4" action="ppaction://hlinksldjump"/>
          </p:cNvPr>
          <p:cNvSpPr/>
          <p:nvPr/>
        </p:nvSpPr>
        <p:spPr>
          <a:xfrm>
            <a:off x="8810280" y="46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8800560" y="4251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7 – MPIANATRA ROALA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Nampandrosoiny tao An-tokan-tran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Ilay vahiny tsara fana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Dia niantrano I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satria noter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Kanjo ny fihetsiny tazà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Fa mitovy amin'ny an'i Jesosy t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Tena Jesosy 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Faly sy nangorakoraka i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810280" y="50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10280" y="544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8801280" y="6267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8810280" y="46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8800560" y="4251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7 – MPIANATRA ROALA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Ireo mpianatra roa Lasa mba ho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fa efa velona tokoa Jeso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Eny isika k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Na lehibe, na z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Mba asainy milaza iz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Mandehana ian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Ka torio iz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orbel"/>
                <a:ea typeface="Arial"/>
              </a:rPr>
              <a:t>Velona Jeso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  <a:ea typeface="Arial"/>
              </a:rPr>
              <a:t>Raiso Izy ho Mpamonjina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10280" y="50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10280" y="544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801280" y="5826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810280" y="46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800560" y="4251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8T16:39:25Z</dcterms:modified>
  <cp:revision>34</cp:revision>
  <dc:subject/>
  <dc:title>Tiona Advantista</dc:title>
</cp:coreProperties>
</file>