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E81-11D2-452E-B7A3-51CDE132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1A2-6B4F-4E8F-9BD0-1750FD3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2AC-8C0E-43DF-9BD2-49063445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9B1-A5E1-453D-95BF-0A68D6DA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E02F-BB09-4D69-AD80-2A1BFC6B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7BFD-9289-4069-A973-96E65A5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1126-926D-4900-B7E9-34DD6331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FE1-C817-448A-8992-DA55DD5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82EE-9E58-49D3-9AC0-4985085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979B-2125-4297-AA05-4C14B99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1382-A2C6-453E-9142-B640795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CE7-EA7F-4BD5-AE34-3C159912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97D6-6830-4CA4-B385-C48A8519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C038-E84F-4914-AB8E-97C8F99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28A-D641-4878-8FD1-94353B72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858D-9EE2-40A5-94FD-775B8A5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3594-E60C-4905-ACEC-B057369A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26E-DE0A-48C3-AF13-D539A89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8A0-8001-4D3D-9A79-E5992E3C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31F-9BB9-41BE-B996-B57B1D1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29B-5932-4692-B884-941BE57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9F8-EF1D-4397-BE9C-5B291F1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E2C-E201-476C-8BFB-B278631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26C-A3AB-4FF8-A89D-7027809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8B5-FF61-439E-934A-D99E72FC6C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E6B8-11E9-43DC-8F25-6340937EF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MMJ057 – JESOSY Ô, HARIV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799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99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ff99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imé RAOELIARIJAONA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imé RAOELIARIJAONA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MMJ057 – JESOSY Ô, HARIVA NY ANDR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Jesosy ô, hariva ny andr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Mitoera ami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Efa ho dify izao ny masoandr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Matahotra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Hiari-tory foana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Raha tsy Ianao no miambina a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Jesosy ô, meteza hito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Ety an-dasi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99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89400" y="5641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MMJ057 – JESOSY Ô, HARIV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Jesosy ô, Ianao no maz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Hiposaka ami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Ny tahotray hisinda, ho rav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Ho sambatra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Ny tsy finoan esory ami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O ! misehoa mba ho toki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Jesosy ô, Ianao no antenai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Ianao no aro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9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89400" y="5641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27:14Z</dcterms:modified>
  <cp:revision>106</cp:revision>
  <dc:subject/>
  <dc:title>Tiona Advantista</dc:title>
</cp:coreProperties>
</file>