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074C-91AB-4102-9819-C492649B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C319-9107-4BAE-B3D8-043792D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1416-44CA-420C-A9F9-7569F298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CD66-C394-4E3E-A9FE-2644EE2D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FBD-F710-4ED4-A037-786539C3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9E51-B95D-490A-8638-23C2BC59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EA87-B9CA-4F86-AFFE-3C66BC3A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A928-39E3-4B48-B903-E4C43E1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150-0E6C-40B2-B01A-B027DA16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3FF7-8C60-4D35-997B-BD4C4B9E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AC1E-7B82-4666-BF5F-B16A0C4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E11E-070C-4587-BC60-51CCE37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1B22-BD1B-4FB9-8C0B-E71F835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6F02-39EC-4D49-9296-0A364E0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8B5F-4620-4BF7-AB2D-B22F21EA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7A06-FA14-4413-A86D-507CF34A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0A90-0DA8-4C74-8D9F-C563864E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A5FE-D6A9-4D60-B781-37914C22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EE17-BF75-4284-B82E-73DAC146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D6FD-8E7A-4D5B-BF9F-FEA9AC3B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DCE0-21E0-40EF-9709-A7B5423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41A4-A6D2-4123-BCE1-1834442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7338-459B-4FE0-944A-79DC641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AEDD-B3DE-45FD-9FA7-39C6743F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90EB-9455-4492-AF10-CB6D67E29F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A5D1-FF35-436E-97A3-A0BBE28F25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d8771"/>
                </a:solidFill>
                <a:latin typeface="Arial"/>
                <a:ea typeface="Arial"/>
              </a:rPr>
              <a:t>MMJ098 - FONY IANAO MBOLA Z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98 - FONY IANAO MBOLA Z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ony ianao mbola zaza, marina sad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hitsy fo sy tsara laza, nitombo sai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y Ray dia tia Anao, 'zahay toy izan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itovy aminao no tena t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98 - FONY IANAO MBOLA Z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toa Anao tiako Jeso fa hendr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sy atahorako ny eso raha mi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toa Anao, tsara fanahy toko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Hanahaka Anao no fanir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32:24Z</dcterms:modified>
  <cp:revision>91</cp:revision>
  <dc:subject/>
  <dc:title>Tiona Advantista</dc:title>
</cp:coreProperties>
</file>