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2BA-A1DA-4A3B-8E67-2204B3CA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1E9-1590-48A4-A0D4-51EEE43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919-666C-4F69-AA80-1F29924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38B-5AE0-41CD-B301-E31B45BA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9CD5-8123-46E0-9363-325E3AA1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F22D-F27F-4876-B05B-0ECAD95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7352-2C99-458A-9A45-3B6EBA0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D7F-D403-4690-A213-505D3EB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BDA-33B5-463A-BC47-CC8CDD0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8C2B-04A9-4CF1-94AF-D527EA81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C61B-A930-4572-B60D-0DAFEC01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9D1-8CD9-4EA1-8915-4F97429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6081-0B67-4F44-A9E8-1B41655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D33C-454F-4A1E-9D22-953472D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56C2-1D74-4AE9-AA88-0646261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B63-6875-4B53-899B-95A7E756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025F-068A-4784-AB1A-2FE179AF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476-2A3E-436C-A53D-95F1226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85D-2978-49E7-AA40-303950F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489-3E87-4C1A-99E9-DAAA4265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E25-CE8A-4E39-9F40-A510EA1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724-43DB-4457-9C7D-88EF1CB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BFE-6B24-4E86-971A-598BA6B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9CC-208C-4B1A-8644-5C7D664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87AB-4B1A-4EBA-B7AB-561A8B99EE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E2D-86FE-44FE-AD6A-BB9BBCBB4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MMJ063 - 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JESO MIANTSO ANTSIKA MBA HIO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799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99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ff99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Ruth D. GAWFOR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MMJ063 - JESO MIANTSO ANTSIKA MBA HIO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Jeso miantso antsika mba hio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Hiaraka aminy ho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Iriny ho voavonjy isik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Hiaraka hitoetra 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99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89400" y="557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MMJ063 - JESO MIANTSO ANTSIKA MBA HIO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Jeso miantso antsika hiova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Handresy ny fahaleme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Aoka hibanjin'Azy amim-pin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Hiankin'aminy tante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9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89400" y="557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3:07:53Z</dcterms:modified>
  <cp:revision>106</cp:revision>
  <dc:subject/>
  <dc:title>Tiona Advantista</dc:title>
</cp:coreProperties>
</file>