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652-4C6E-42C4-BDA5-E1FA84FD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6BD-5747-4166-A733-61696553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C54-5839-45CC-9AF4-B71AEB18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CA2-8165-4AC3-A1C9-14F6D110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EA5C-770F-4BE6-BF53-22CB7CB4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55ED-6B46-4439-A535-E954616C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B525-77E6-42CA-9997-07AD209A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48D9-D5F2-4F7D-9614-6F402A43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2839-AEFF-488D-B62E-99D128B2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F16E-0F8D-4594-98F6-85A5ADE8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46AC-0240-4AF0-95F6-F04EEC79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174-2BD4-4F8C-8ACF-97747A97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538F-53A7-494B-86AC-2FE94C51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71E2-D178-4A15-8113-56BD362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2983-5737-443A-8378-E43A132D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2D38-D321-4F23-9E2F-D7D6869D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625C-7E90-4DA6-ADB9-98A0B76B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F6E-EE4B-4721-94C1-C59BE635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F83-C2AE-452F-87E9-C1513F32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0FB-E089-4CD5-92C0-EFBF7DFA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F68-A17C-41C7-9433-67C1DBB5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4D4-EEFC-44B4-BD6D-D43402F3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FCF-8028-4136-969E-48BDB617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5F1-6189-4B05-BE93-D315EF6F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B810-F31F-40E9-B08A-653F46658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E72F-81DE-44C7-B963-42C89AA7F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Janet S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6925a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56925a"/>
                </a:solidFill>
                <a:latin typeface="Arial"/>
                <a:ea typeface="Arial"/>
              </a:rPr>
              <a:t>MMJ050 - LA - LA - LA - LA - 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843400" y="573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43400" y="61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43400" y="649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6925a"/>
                </a:solidFill>
                <a:latin typeface="Times New Roman"/>
              </a:rPr>
              <a:t>MMJ050 - LA - LA - LA - LA -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(feo 1) La la la la, la hihir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(feo 2) H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(feo 3)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(feo 4) Eny, te hihi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3400" y="61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43400" y="649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833680" y="530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6925a"/>
                </a:solidFill>
                <a:latin typeface="Times New Roman"/>
              </a:rPr>
              <a:t>MMJ050 - LA - LA - LA - LA -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(feo 1) La la la la, la ho a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eo 2)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eo 3) ...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eo 4) Hira ho 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3400" y="573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43400" y="649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30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6925a"/>
                </a:solidFill>
                <a:latin typeface="Times New Roman"/>
              </a:rPr>
              <a:t>MMJ050 - LA - LA - LA - LA -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99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eo 1) Ho an'i Jeso ny hi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eo 2)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eo 3)  Hi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eo4) Eny, ho an'i Jeso ny hi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73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3400" y="61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30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925a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2:08:31Z</dcterms:modified>
  <cp:revision>87</cp:revision>
  <dc:subject/>
  <dc:title>Tiona Advantista</dc:title>
</cp:coreProperties>
</file>