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7321-C647-42DC-8F57-853DA3AB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29F8-3068-47B7-8A56-D25689E8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BAE2-0CCD-4334-8EAB-E9170261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4958-C5BD-437E-90E4-BD669EDD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100F-5F0C-4584-B594-E29EB544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2FED-20AF-40C4-854A-3AF88DC8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4B4F-3681-4DA7-B939-6698A54D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C276-6637-4F3F-8E43-7D8733A6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2796-96B9-41A4-9764-CE9935BF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01C9-BE50-42FA-9FAE-F1D60A48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0C76-5F20-455F-9E65-D90E6AA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B722-FC89-42AC-944A-DC61257E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9D14-45F9-4836-91F5-51CB89D9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B25F-2EBD-426F-BBB5-ECE9061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41A7-FA0E-4FCE-92C5-A5AD4079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8401-9EA6-46F4-A58B-F5488BB9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1AC5-2273-45DC-AFA1-56C171CF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0150-4716-48D0-9E6A-AED8463C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B98F-25AD-4484-8DCB-D60C7138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1547-3960-470D-9D1A-D7FE38D2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A9BC-A6D5-4D2F-9A35-2C2E84AD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FA97-C8EA-40F1-8F2E-D9751083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B392-8B8F-4EDF-B7AB-EA0C4A18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4FC6-570C-44D4-85C6-222891D0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7DA3-B36E-4C67-A269-8D561E37C6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7F81-9517-44EA-915F-1338134FDB1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(Tsy fantatra)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H. et S. GRANDJ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dddcc5"/>
                </a:solidFill>
                <a:latin typeface="Arial"/>
                <a:ea typeface="Arial"/>
              </a:rPr>
              <a:t>MMJ049 - JESO NO TSY MAND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dddcc5"/>
                </a:solidFill>
                <a:latin typeface="Tahoma"/>
              </a:rPr>
              <a:t>MMJ049 - JESO NO TSY MAND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Jeso no tsy manda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No tsy mandao, no tsy mand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Jeso no tsy mandao,tsy mand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dddcc5"/>
                </a:solidFill>
                <a:latin typeface="Tahoma"/>
              </a:rPr>
              <a:t>MMJ049 - JESO NO TSY MAND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Jeso manafak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Manafaka, manafak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Jeso manafaka hel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dddcc5"/>
                </a:solidFill>
                <a:latin typeface="Tahoma"/>
              </a:rPr>
              <a:t>MMJ049 - JESO NO TSY MAND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Jeso handray an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Handray anay, handray an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Jeso handray anay rahatriz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6T01:58:29Z</dcterms:modified>
  <cp:revision>90</cp:revision>
  <dc:subject/>
  <dc:title>Tiona Advantista</dc:title>
</cp:coreProperties>
</file>