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9145-063B-4C83-8BA5-47611DB1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9E34-51CB-4048-B9CD-B2D5AE8B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F470-0941-4597-ACC5-7A58EA98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FAC1-F681-414D-B74C-1098E284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D5CC-F8D5-48C8-9264-4205F421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7470-7FB2-4DFB-90B8-A4B31934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DEB9-4E65-41D1-8EEC-4A60781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89A0-21D4-4E26-8EAB-3222B754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EE85-A4AF-4B03-96C1-1160125B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3141-B683-4A5C-B492-E718209E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A4F8-D073-4429-9F4A-9DE55BD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FF9E-0405-4D5F-A136-8955AFF6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C569-E522-4423-981C-0DF1635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FE09-DF24-4D59-8880-FCED91FC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367E-41F4-4219-87E2-090E2233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03E5-7882-4DA2-A266-AF298B99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AFA-8024-490D-AD4F-E7DEBDBD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0228-CE4B-40F3-B98B-891C9FA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680A-147B-4CA4-A3E0-28AE3D7C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191E-E69E-48A7-9F13-8F3C9902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5532-C33C-4950-868E-473237E1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837B-5DD3-4853-9FAF-25E857D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4221-8043-4DBD-AA35-E3B842F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84EF-E7C0-40E4-A115-4B1FF03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6546-87E2-4B6F-A773-837F5499F9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CDB7-04B8-49C7-B3C7-0C51E0C1B6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1 – MOA MIFANDRAY AMIN’I KRIST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5320" y="5105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496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0280" y="4708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1 – MOA MIFANDRAY AMIN’I KRISTY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oa mifandray amin'i Kri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Ny fiainantsika rehetra et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Moa hitan'izao tontolo iz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Amintsika ve Jesos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815320" y="5105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81496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0056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1 – MOA MIFANDRAY AMIN’I KRISTY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1) Tazana amiko ve Jeso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</a:t>
            </a: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2) Amiko ve Jesosy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</a:t>
            </a: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3,4) Amiko ve i Jesosy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1) Tazana aminao ve Jeso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</a:t>
            </a: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2) Aminao ve Jeso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</a:t>
            </a: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3) Aminao ve i Jesosy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</a:t>
            </a: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4) Aminao ve Jesosy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1,2) Mba mazava tsara moa 'zany maso, tena ko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3) Mazava tsara moa 'zany maso, tena ko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4) Mba tsara moa 'zany maso, tena ko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orbel"/>
                <a:ea typeface="Arial"/>
              </a:rPr>
              <a:t>(1,2,3,4)Tazana aminao ve Jes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881496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810280" y="4708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80056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1 – MOA MIFANDRAY AMIN’I KRISTY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oetran'iza moa no asehon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Endrik'iza koa no ataratr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'Reo namana diso lal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Lavo anaty hants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815320" y="5105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810280" y="4708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80056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cc5"/>
                </a:solidFill>
                <a:latin typeface="Tahoma"/>
              </a:rPr>
              <a:t>MMJ031 – MOA MIFANDRAY AMIN’I KRISTY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Azonao atao ny hirotsa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Mba ho andrin'irei 'zay trotra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Ô! atsory re 'zato sandrin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Hamikirany iz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15320" y="5105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1496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810280" y="4708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80056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cc5"/>
                </a:solidFill>
                <a:latin typeface="Tahoma"/>
              </a:rPr>
              <a:t>MMJ031 – MOA MIFANDRAY AMIN’I KRISTY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905c8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Toy ny boky iray voasor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Ny fiainantsika mivel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Eo imason'izao rehetra iz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rbel"/>
                <a:ea typeface="Arial"/>
              </a:rPr>
              <a:t>'zay mijery ny at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15320" y="5105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81496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10280" y="4708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80056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8T16:25:24Z</dcterms:modified>
  <cp:revision>38</cp:revision>
  <dc:subject/>
  <dc:title>Tiona Advantista</dc:title>
</cp:coreProperties>
</file>