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18C-21F6-4234-A9A1-353CA052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8E6-1137-462F-8A8A-249DD82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4DD-9751-4F69-B965-F2EDC151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C1A-CBE4-40FF-87D7-097B09E6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642-A804-4EBC-88F8-B8C9B86E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F743-5DFA-46C3-9A3F-E5ED84B8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2C5-E89B-4867-9F6A-C300310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69F-2002-4F72-8CC1-E728D71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4C41-C61F-42C5-831A-9B42104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237-68CC-4DAC-92D0-3A609D9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86E5-3EF9-417C-AA64-FB8A8EB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B8A-B755-4AE8-BBC7-EB3C6341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7DD-05F2-48A4-A16D-F7AA5F9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6A8-B726-40B4-8DB9-EEB123B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2655-992F-4B72-9F26-CAE80D8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D450-29D3-4064-8491-DB8D022D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4A0C-68BC-4BE9-8A78-46FBB042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E28-D34F-40BD-958F-5A74DF40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0A1-9BA9-4375-B9CC-943E8EC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8DD-A130-4EAB-8E3E-C062770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658-A27B-43CF-9095-3D81EEE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9EB-3F91-4879-8743-CEB32AD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E9C-F3FD-4C84-AE89-26E4D3E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82D-FE61-419A-B2D7-FD633A7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3198-66B2-4EBE-985A-0B6727C7BE8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909-3E85-421B-8293-AD7CC4DE38B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 : Jesosy Krist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 :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bd5df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MMJ040 – RAHA JESOSY NO AO AM-P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imes New Roman"/>
              </a:rPr>
              <a:t>Ankizy Advantista – Miaraka Mihira amin’i Jesos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625600" y="5942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2 à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7591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75916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d5df"/>
                </a:solidFill>
                <a:latin typeface="Times New Roman"/>
              </a:rPr>
              <a:t>MMJ040 – RAHA JESOSY NO AO AM-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668e8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Raha Jesosy no ao am-po, sambatra tokoa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Sambatra tokoa ny ao an-trano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Raha Jesosy no ao am-po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Sambatra tokoa, ny ao an-trano</a:t>
            </a:r>
            <a:r>
              <a:rPr b="1" i="1" lang="fr-FR" sz="3600" spc="-1" strike="noStrike">
                <a:solidFill>
                  <a:srgbClr val="003366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25600" y="5942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2 à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7591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755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d5df"/>
                </a:solidFill>
                <a:latin typeface="Times New Roman"/>
              </a:rPr>
              <a:t>MMJ040 – RAHA JESOSY NO AO AM-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668e8"/>
                </a:solidFill>
                <a:latin typeface="Times New Roman"/>
                <a:ea typeface="Arial"/>
              </a:rPr>
              <a:t>2-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2 (...) : Ne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3 (...) : Da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4 (...) : Zok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5 (...) : Zand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Raha</a:t>
            </a:r>
            <a:r>
              <a:rPr b="1" i="1" lang="fr-FR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 (...) </a:t>
            </a: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akaikin'i Jeso, sambatra tokoa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Sambatra tokoa ny ao an-tran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Raha</a:t>
            </a:r>
            <a:r>
              <a:rPr b="1" i="1" lang="fr-FR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 (...) </a:t>
            </a: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akaikin'i Jeso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Sambatra tokoa, ny ao an-trano</a:t>
            </a:r>
            <a:r>
              <a:rPr b="0" lang="fr-FR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591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916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755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d5df"/>
                </a:solidFill>
                <a:latin typeface="Times New Roman"/>
              </a:rPr>
              <a:t>MMJ040 – RAHA JESOSY NO AO AM-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668e8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Raha akaikin'i Jeso ny zazakely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Sambatra tokoa, ny ao an-trano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Raha akaikin'i Jeso ny zazakely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66"/>
                </a:solidFill>
                <a:latin typeface="Corbel"/>
                <a:ea typeface="Arial"/>
              </a:rPr>
              <a:t>Sambatra tokoa,</a:t>
            </a:r>
            <a:r>
              <a:rPr b="0" lang="fr-FR" sz="3200" spc="-1" strike="noStrike">
                <a:solidFill>
                  <a:srgbClr val="003366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25600" y="5942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2 à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5916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755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d5d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5-20T18:02:24Z</dcterms:modified>
  <cp:revision>39</cp:revision>
  <dc:subject/>
  <dc:title>Tiona Advantista</dc:title>
</cp:coreProperties>
</file>