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CE0D-F27F-4E2D-867E-5A286E6E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6C7-1685-44F9-AE0E-CD264AA9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DDA-84AB-4B9A-8EB7-F8B4EAA4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BDA-13ED-4C1F-A0B1-AE4E7166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2C4D-FF45-4382-A4CD-40150A56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4FD2-561B-4734-A2A2-2576BD18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5BF2-EAED-436D-BE8A-91DD3AA2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0ED6-9455-4C31-980C-458A72CF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4E8A-B797-4175-8CFB-D2B7AC17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ECDC-B9F9-4285-B23D-F5CEC79A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8718-4B53-4624-A8E1-2593B749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BD6-F560-49AD-8408-5D7FB2A1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875F-F509-4722-9CEA-8428235C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3097-C753-4AD2-A8F9-DEAF2F48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D9BE-3CCE-4A5F-9B29-EEE016F3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FD54-10A3-4785-9D3D-6D3D36BB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0124-7B87-4562-90F2-8B34B172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2FA-7B68-46E1-AFBD-4289EE1A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2B7-3345-4932-8DFE-94AB4131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B34-8B6C-4958-90BE-76E9B714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CDF-5224-4B62-B9F8-762DFBAD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63B-EAF2-4D31-A7AF-6B6D371A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AF7-6104-41B2-BE10-25E630B5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7DB5-3D62-4C1D-AD79-01DC2513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BDF8-9D9F-4AFB-AF72-BE6EE98CC3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4406-32B9-463C-8BD5-968FCC4065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MJ094 - Ô! FALIFALY ISAN'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79912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799120" y="5981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08480" y="6392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5ffff"/>
                </a:solidFill>
                <a:latin typeface="Tahoma"/>
              </a:rPr>
              <a:t>Ankizy Advantista – Miaraka mihira amin’i Jesosy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FIAINANA ARA-PANAH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H. et S. GRANDJEAN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Corespondance 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MJ094 - Ô! FALIFALY ISAN'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O! falifaly isan'andr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Satria tian'i Jeso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</a:rPr>
              <a:t>Ka na lalao na asa no 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Izy no manome tolo-t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Jeso, Jeso, Izy Mpampianat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99120" y="5981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08480" y="6392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8940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MJ094 - Ô! FALIFALY ISAN'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O! falifaly isan'andr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Fa mizotra izao ny di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Na mafy ny lalan-kizor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Tsy ho kivy, handroso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Jeso, Jeso, Izy Mpampianat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9912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08480" y="6392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8940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MJ094 - Ô! FALIFALY ISAN'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Any andro tena ho sambatra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Fa hihaona aminao re, r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Volamena mamirapir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'Lay tanàna ho vantan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Jeso, Jeso, Ihahita Anao '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9912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99120" y="5981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8940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6:09:16Z</dcterms:modified>
  <cp:revision>106</cp:revision>
  <dc:subject/>
  <dc:title>Tiona Advantista</dc:title>
</cp:coreProperties>
</file>