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A412-2754-42AB-AF6A-55B1937E0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F60B-DC04-4332-A69F-4CD998998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731D-5BAB-4A94-BE80-16B94DB0B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C12E-17D0-420E-A15C-64DD2D434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B396A-2A49-4695-B29A-65DBAAFEF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E38B3-856D-4D9E-9394-E9FE265E4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3BE1B-1CFE-40CD-BA6C-E92FBA8B2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75933-5A7C-45C8-9B9F-88448F83E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C7DD1-B7B9-4CE4-8969-1BBE0AD83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D46BB-98A4-4BEF-98B7-FB0B599B7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662E1-F5C6-424E-A640-719246F6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3CE3-4982-4F95-9D17-CD1E308AD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914FB-D557-4382-A5B3-9298F7E8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32C3A-0CC5-4BA9-903F-4660BC10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8D35F-B77A-4EDB-937F-02F506882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9376C-8957-4182-9D94-F98BA23E0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D4787-8894-4693-9A44-8FF73940D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EF32-952A-47E8-B762-E22E7DF24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D85F-4A12-4833-9117-B5AEDDDF6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9F79-2E17-4770-BE1F-25054AC98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AC07-1217-45BB-B261-5B9F6E4AA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E71B-FD7C-4EE2-8C44-C71564A7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A10E-9B58-4E12-9C79-B9907A3B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23C2-3E7C-43AD-B43D-D5532516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a9a5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3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3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1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7E45-703F-4037-ACCE-D895EB4D06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a9a5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3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3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1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FB3CD-280F-425C-91D7-DEFB66AC38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595008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: FIARAHABANA, FANAOVAM-BELOM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: Fiarahabana, fanaovam-belom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: Dera ARSON 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: Dera ARSON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Correspondance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56925a"/>
                </a:solidFill>
                <a:latin typeface="Times New Roman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925a"/>
                </a:solidFill>
                <a:latin typeface="Arial"/>
                <a:ea typeface="Arial"/>
              </a:rPr>
              <a:t>MMJ089 – AKORY 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8843400" y="6467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925a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cc"/>
                </a:solidFill>
                <a:latin typeface="Times New Roman"/>
              </a:rPr>
              <a:t>Ankizy Advantista – Miaraka mihira amin’i Jesosy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925a"/>
                </a:solidFill>
                <a:latin typeface="Times New Roman"/>
              </a:rPr>
              <a:t>MMJ089 – AKORY IANA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3300"/>
                </a:solidFill>
                <a:latin typeface="Corbel"/>
                <a:ea typeface="Arial"/>
              </a:rPr>
              <a:t>Akory ian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3300"/>
                </a:solidFill>
                <a:latin typeface="Corbel"/>
                <a:ea typeface="Arial"/>
              </a:rPr>
              <a:t>Salama ve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3300"/>
                </a:solidFill>
                <a:latin typeface="Corbel"/>
                <a:ea typeface="Arial"/>
              </a:rPr>
              <a:t>Anio tontolo ani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3300"/>
                </a:solidFill>
                <a:latin typeface="Corbel"/>
                <a:ea typeface="Arial"/>
              </a:rPr>
              <a:t>Jeso homb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" action="ppaction://hlinkshowjump?jump=firstslide"/>
          </p:cNvPr>
          <p:cNvSpPr/>
          <p:nvPr/>
        </p:nvSpPr>
        <p:spPr>
          <a:xfrm>
            <a:off x="8833680" y="6035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925a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1-05-28T04:47:47Z</dcterms:modified>
  <cp:revision>90</cp:revision>
  <dc:subject/>
  <dc:title>Tiona Advantista</dc:title>
</cp:coreProperties>
</file>