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B745-2D47-4E6A-9A66-183BC6C62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15B9-48B5-4095-A8A5-C85533E1F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1502-DF66-4A4F-9261-7B1378281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5B32-C18E-4BC2-9E59-94EC87AB1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8ED60-47F2-493C-97B9-AFB16A061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22630-6D1F-496E-B5AA-3F9D072FF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54A8C-CDFF-4A3F-A009-907F044BE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3465D-1EA1-4C34-94C4-E158656E5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99007-7783-4238-922D-875B86BDE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7600E-8FDD-4048-A500-15665CA9B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1E04D-A40B-4947-A3B2-35A59B5D1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8250-70AE-498A-8402-B6EFE0C46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21063-F1CD-4A1F-98E6-B9BE91972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DFC8A-0E24-4391-8930-9B3F0136E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2E1E2-722E-4099-9437-C4AA86E48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DF35C-A9B2-4AD8-A04E-7EE6C37F3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A972D-B43E-4837-9E91-12823472E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D604-E8CE-4DFE-B7A4-4118C4A7E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CF7E-8912-49C7-A1F3-4C297B087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D4DD-D598-4B32-AE41-8E43A51E0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B898-E7E1-4AB9-807B-80856AD04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9A0F-3443-4BC6-9D92-A375AA28C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4B42-72AF-4980-BC1E-0C0A22D5A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466E-7D09-43B9-9549-3500621FA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CFF5D-F79A-4EF6-B261-87142F9AF4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3C7BF-F884-4880-9C69-241C184158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 : ANDRIAMANIT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 : Fisaorana sy fider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 : Aimé RAOELIARIJAONA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 : Aimé RAOELIARIJAO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bb5f03"/>
                </a:solidFill>
                <a:latin typeface="Times New Roman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cc"/>
                </a:solidFill>
                <a:latin typeface="Arial"/>
                <a:ea typeface="Arial"/>
              </a:rPr>
              <a:t>MMJ016 – NY LANITRA AO AMBO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eec94"/>
                </a:solidFill>
                <a:latin typeface="Tahoma"/>
              </a:rPr>
              <a:t>Ankizy Advantista – Miaraka Mihira amin’i Jesosy</a:t>
            </a:r>
            <a:endParaRPr b="1" lang="en-US" sz="2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2" name="">
            <a:hlinkClick r:id="rId1" action="ppaction://hlinksldjump"/>
          </p:cNvPr>
          <p:cNvSpPr/>
          <p:nvPr/>
        </p:nvSpPr>
        <p:spPr>
          <a:xfrm>
            <a:off x="8824320" y="6323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b5f03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>
            <a:hlinkClick r:id="rId2" action="ppaction://hlinksldjump"/>
          </p:cNvPr>
          <p:cNvSpPr/>
          <p:nvPr/>
        </p:nvSpPr>
        <p:spPr>
          <a:xfrm>
            <a:off x="8824320" y="5925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b5f03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5f03"/>
                </a:solidFill>
                <a:latin typeface="Times New Roman"/>
              </a:rPr>
              <a:t>MMJ016 – NY LANITRA AO AMBON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cccc00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lanitra ao ambony ao, Ny ety an-tany koa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ia miaraka manandra-peo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dera Anao Tsitoh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panjaka Masina tokoa Ny Andriamanitr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y Tompo be famindram-po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Zay hiankohofan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nenika 'zao rehetra izao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voninahitr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>
            <a:hlinkClick r:id="rId1" action="ppaction://hlinksldjump"/>
          </p:cNvPr>
          <p:cNvSpPr/>
          <p:nvPr/>
        </p:nvSpPr>
        <p:spPr>
          <a:xfrm>
            <a:off x="8824320" y="6323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b5f03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>
            <a:hlinkClick r:id="" action="ppaction://hlinkshowjump?jump=firstslide"/>
          </p:cNvPr>
          <p:cNvSpPr/>
          <p:nvPr/>
        </p:nvSpPr>
        <p:spPr>
          <a:xfrm>
            <a:off x="8829000" y="55101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b5f03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16 – NY LANITRA AO AMBON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cccc00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ndraisa anio ny vavakay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mihainoa anay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ry hamasino izahay Hahay midera 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panjaka Masina tokoa Ny Andriamanitr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y Tompo be famindram-p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Zay hiankohofan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nenika 'zao rehetra iz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voninahitr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>
            <a:hlinkClick r:id="rId1" action="ppaction://hlinksldjump"/>
          </p:cNvPr>
          <p:cNvSpPr/>
          <p:nvPr/>
        </p:nvSpPr>
        <p:spPr>
          <a:xfrm>
            <a:off x="8824320" y="5925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b5f03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>
            <a:hlinkClick r:id="" action="ppaction://hlinkshowjump?jump=firstslide"/>
          </p:cNvPr>
          <p:cNvSpPr/>
          <p:nvPr/>
        </p:nvSpPr>
        <p:spPr>
          <a:xfrm>
            <a:off x="8829000" y="55101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b5f03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RAZAFIMANANTSOA</cp:lastModifiedBy>
  <dcterms:modified xsi:type="dcterms:W3CDTF">2011-01-06T01:12:35Z</dcterms:modified>
  <cp:revision>37</cp:revision>
  <dc:subject/>
  <dc:title>Tiona Advantista</dc:title>
</cp:coreProperties>
</file>