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DAFA-30A2-4548-84F5-9737660A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45AC-936C-4100-8D9D-1C3E67EB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7191-B1FE-4E0C-9685-F135990D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6824-4F19-44BC-B129-889A2D6E5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E6DF-0209-4E8C-9735-809228B5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8AEA-F784-44A6-9412-E0202849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B9D7-CBA9-405F-BD4D-7068D6A2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A29B-392D-436B-90EC-114669FA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AC32-FC2B-42EB-8B7A-CEF03677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9B29-4673-4F20-8B2F-FB15DE41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628E-5D26-4EE3-8472-087F6A39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BCDA-F1A0-4035-B28D-300EB595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429A-CFA3-4914-8ED0-1CD2DEB5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CA07-FFDC-4CF5-83D1-EF9E1F63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E578-AAC3-4FD6-A6E8-55F5ECDE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FB5F-B9AE-43BF-9B98-5B0B5A385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69E6-82C4-4F34-9579-D726BE685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8625-8310-4A95-8CFD-C085C898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FE3F-6144-4226-9BB4-ED80ADBB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A089-83AF-4D2A-B89C-204F3E71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F656-A104-4BC8-8B08-9663442B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F314-8F4B-4044-8BCC-FA5388FA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456D-DF43-472D-9DA9-18AE10C6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D932-08D6-4116-9FFE-89338818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0C50-1EE2-4577-A548-7BF17E7BB5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6C4A-634B-4068-8E83-7E895976CA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Fisaor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A. R. MARNOË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bb5f03"/>
                </a:solidFill>
                <a:latin typeface="Times New Roman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MMJ015 – TIANAY RY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eec94"/>
                </a:solidFill>
                <a:latin typeface="Tahoma"/>
              </a:rPr>
              <a:t>Ankizy Advantista – Miaraka Mihira amin’i Jesosy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881028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MMJ015 – TIANAY RY JE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nay ry Jeso, Raha Ianao Zok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avitra ny eso, Falifaly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ira sy ny hoby r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ohy tsy ho tap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aleloia lehib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zary hiran-d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avitra ny eso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lifaly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8814960" y="5907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1-01-06T01:10:28Z</dcterms:modified>
  <cp:revision>37</cp:revision>
  <dc:subject/>
  <dc:title>Tiona Advantista</dc:title>
</cp:coreProperties>
</file>