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5519-7026-4A25-B14A-F4FC9BC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0123-73C1-4B6F-A367-2BF74371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8DF0-D074-4809-9388-93BEFBAD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E865-81BA-49F6-B11C-C24CF048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0CC3-6566-40CD-8C96-45BAE6CB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065B-00A0-4D4A-96A2-8D1ADD8E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4053-A917-492A-9799-6775BCB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135-6DD4-47A6-B0C1-9C520FC9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DAE-2426-4C7B-BE39-B9517E0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2165-E128-4276-A36D-3D6C817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2EE9-088B-462B-84FB-93A2306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3A21-7F9D-4EA4-B21D-DC2F36F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794D-1AE2-498D-9FD7-FCF638E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F3F8-856A-42DA-B8E4-2238978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736-5FFC-40CB-AD90-4B80B17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3284-562B-454C-B31F-EBB5A2ED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7FB-BAFF-415C-8CA1-0AB148D6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030D-75E2-445E-902B-00717865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3F1F-960F-4840-B43A-30307571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19F2-5507-4765-9FCA-212DAB7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4D83-DA79-4AF2-804B-DE1E27B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47D8-FECB-4578-92FA-537FF05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4F5F-B11A-4C95-A046-81FE7BE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B15C-074D-4508-A4A7-0EF073E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4C50-3663-4B82-A271-03FA55056F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5B77-F80B-4E6A-9A35-513AB6F7C1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anet 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6d8771"/>
                </a:solidFill>
                <a:latin typeface="Arial"/>
                <a:ea typeface="Arial"/>
              </a:rPr>
              <a:t>MMJ067 - JESO NO NANA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d8771"/>
                </a:solidFill>
                <a:latin typeface="Tahoma"/>
              </a:rPr>
              <a:t>MMJ067 - JESO NO NANA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nana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ka, tena ts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nana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tia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5:08:02Z</dcterms:modified>
  <cp:revision>89</cp:revision>
  <dc:subject/>
  <dc:title>Tiona Advantista</dc:title>
</cp:coreProperties>
</file>