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9BC5-ECF8-4859-B627-266AD0F6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9A56-82AA-4FE3-8642-A64AC1BD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7048-91F5-4505-BB1E-F76A8606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C9C0-14B3-4F77-9819-3FA4C62C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D154-5DD9-4C6B-B433-9B2D8A77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AB4E-E02F-405A-8E63-BE1300B0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90A5-7157-48BC-A178-412774A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D037-AD4B-480A-BABC-A9B992E6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E7C-58AC-4CD6-A85E-036452C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028-2DA0-48AF-8E63-83D8EECC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153A-932E-4234-9885-CA0FA9E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8F2B-42F2-4943-A9E8-33E056A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F38-07DB-4857-8B8D-A943504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DCE5-4A7A-45EE-A9B9-49B9258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38E-5090-4CF1-89D1-EE6B6AEC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FC82-590B-4825-B426-387E6C3F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234-D323-48DD-B391-A885CFA8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B0EE-AD3E-464F-B407-6524670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81B5-BE8D-4DCB-B7A5-FC29130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0CDE-D390-45EC-9C84-A95B14F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F9D3-56FB-4727-B0BF-34E1C6F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B4CB-4359-4E02-AEC7-B4CAD0E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0D8F-4AB6-48E9-BC56-1B3FF576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EE3B-4C75-4EC9-BDE2-231145C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7062-D3E7-4636-A380-712A7E64E9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266F-4D0D-488F-881A-7ECBFF481B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9 – ‘NJAY FA MAND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0280" y="585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9 – ‘NJAY FA MANDO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'Njay fa mandona, mandona ao am-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antson'i Jesosy Mpamonjik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a miangavy mba hiditra 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O! mandrosoa, mandrosoa re,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1028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0056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9 – ‘NJAY FA MANDO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Raha Jesosy no manjaka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o faly Izy, ho sambatra 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azo antoka ny ho avik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tria Jesosy no mitarika a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10280" y="585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0056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43:35Z</dcterms:modified>
  <cp:revision>38</cp:revision>
  <dc:subject/>
  <dc:title>Tiona Advantista</dc:title>
</cp:coreProperties>
</file>