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EC1F4-ECCC-452B-BB05-A37FD991E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2ACC7-D0CD-4F86-9729-D88968F9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73908-336E-47D8-8350-36FC49893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2C599-DE61-4F9A-9FD4-EB7C72AAD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2A1F-D225-41B0-8980-4C10F42FF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7A57-3EFE-4F7B-972B-CC25DCB7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0448-1A3D-4A89-9AC2-EF16B8EE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94F7-4673-432E-A5BE-C8C22A35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C233-C787-4B82-8C05-CC567D96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DE85-412F-49EB-AA24-DCDFDF28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04E4-310C-429E-95CA-6A71DE39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086D8-3A29-4BBD-A44D-BA19EDE3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8A74-15E6-4F96-9571-4383F6C8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CFD3-F0D0-44AD-B425-73413795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981B-BB69-46B5-AFCB-ABFDF8B2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16C3-2106-4D16-BC0E-03544B9B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8F60-0325-4317-AC64-CAE1926CD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31DF3-B0A8-45E8-9EE6-B9D5B3C7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34D3F-0B1B-4028-A6B4-42EC1654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D713D-E11F-4673-84EA-FFFB2110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46338-9814-4214-93C5-3EC48BFB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8F949-7493-4123-A43C-17F7E5BB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6B9D9-658B-4920-902A-B05D44B7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0AE1A-3F8D-4993-AD15-61280DEC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F792-5D6C-4979-8318-CDB79393BEE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53C7-9ED4-41EC-BDB4-AAEB0C09087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Janet 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dddcc5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6699"/>
                </a:solidFill>
                <a:latin typeface="Arial"/>
                <a:ea typeface="Arial"/>
              </a:rPr>
              <a:t>MMJ030 – IZAHO, IZAHO DIA AN’I JESOSIK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Tahoma"/>
              </a:rPr>
              <a:t>Ankizy Advantista – Miaraka Mihira amin’i Jesosy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881028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cc5"/>
                </a:solidFill>
                <a:latin typeface="Tahoma"/>
              </a:rPr>
              <a:t>MMJ030 – IZAHO, IZAHO DIA AN’I JESOSIK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Izaho, Izaho, dia an'i Jesos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  <a:ea typeface="Arial"/>
              </a:rPr>
              <a:t>Izaho, eny Izaho, dia an'i Jesosiko</a:t>
            </a:r>
            <a:r>
              <a:rPr b="1" i="1" lang="fr-FR" sz="3200" spc="-1" strike="noStrike">
                <a:solidFill>
                  <a:srgbClr val="000000"/>
                </a:solidFill>
                <a:latin typeface="Tahoma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8814960" y="5907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cc5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1-01-07T14:34:29Z</dcterms:modified>
  <cp:revision>40</cp:revision>
  <dc:subject/>
  <dc:title>Tiona Advantista</dc:title>
</cp:coreProperties>
</file>