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9D3-EAA9-4363-B236-0739B42B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03A-D280-4B90-B079-65195DB0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888-09E5-4AA5-9512-5244E23D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B9A-CA7A-434E-8E7F-DFEBFCF8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1CCE-A31C-467A-B694-50259923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92F0-C62B-44FA-9C61-B0372087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1884-981C-48EE-9BFA-7995CF52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749C-9F10-4760-AB76-96A4F410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CB67-E2D2-4DDD-9951-01576CC0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A6FF-8CF3-4C6F-AFF9-7442BEA2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2919-ECE1-429F-9DB8-AF3D71B0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7E5-11E7-43A0-8EB8-F3457ACD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9B6C-CC88-499C-9224-E0DBBD82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1D1D-9678-4D51-A5D0-B03C0FCD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2301-30F5-48B9-9506-92D22F63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82C9-5BDF-4D21-A129-C8260F94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9E81-2BB7-4FE9-A522-829F4E08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30B-9659-468E-9F11-A1AC8D10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448-2C19-461C-9DBA-24C76A96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D45-67AA-4746-B3BE-53A168DF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500-5FB4-439B-B3FE-FE7AE042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850-C25C-4CAB-BE1B-14F9AC0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78F-83FB-4D2C-BD22-AD09781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A9A-A030-4592-A731-027A81A4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D4EE-3EE3-48EA-BF5D-63A349504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FB1D-A85F-45BC-B070-0CD79BBEA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 R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Milder White WALLA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MMJ018 – JEHOVAH ANDRIAMANITRA DIA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ec94"/>
                </a:solidFill>
                <a:latin typeface="Tahoma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822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8228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138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88228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5f03"/>
                </a:solidFill>
                <a:latin typeface="Times New Roman"/>
              </a:rPr>
              <a:t>MMJ018 – JEHOVAH ANDRIAMANITRA DIA FITIAV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Andriamanitra dia fiti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Baiboly manambara izany 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22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228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138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27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5f03"/>
                </a:solidFill>
                <a:latin typeface="Times New Roman"/>
              </a:rPr>
              <a:t>MMJ018 – JEHOVAH ANDRIAMANITRA DIA FITIAV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sy tanteraka ny fitiav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ry no nilaza izany t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8228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8138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88228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27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5f03"/>
                </a:solidFill>
                <a:latin typeface="Times New Roman"/>
              </a:rPr>
              <a:t>MMJ018 – JEHOVAH ANDRIAMANITRA DIA FITIAV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fitiavana tokoa 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andro no nilaza izany t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22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138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28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827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5f03"/>
                </a:solidFill>
                <a:latin typeface="Times New Roman"/>
              </a:rPr>
              <a:t>MMJ018 – JEHOVAH ANDRIAMANITRA DIA FITIAV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fitiavana tokoa 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rana no nanambara izany t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22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228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228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8827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18:27Z</dcterms:modified>
  <cp:revision>35</cp:revision>
  <dc:subject/>
  <dc:title>Tiona Advantista</dc:title>
</cp:coreProperties>
</file>