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BFD-B33D-4D07-A0AF-5FF5C832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62C-A9B1-4E9C-8967-A8FE5B06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5C4-68C5-408A-B545-1EDCC747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BC3-7D91-4374-9A0C-7567A75F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5C6D-6459-475F-9EA8-9E0A38F1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4C2E-390D-48CB-98A4-0C258F03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74A1-B512-4D0D-ACAC-A60A8305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B5A8-8501-475F-9E34-4AF1EDB3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C7E2-30DA-47C1-91A8-ADB10951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D09D-E64E-40D4-AE8F-2E3DC6D4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08E5-7FA5-4E61-AA53-1BD3E4D0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DC1-2FA2-46CE-9A69-44F41563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D742-D2EA-4333-9664-A98D2093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579D-FA81-4000-B587-7ABFC82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627A-F869-423E-B731-871C07D0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748D-4ACD-4822-BA18-CC34D80F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C651-BF1F-4423-A996-F45ED81A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2D0-88B1-4BD9-864F-BAE707D2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DC7-86E1-4ECD-9FFA-97DBE97F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E28-6740-4314-BEFF-108057AF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8DF-16B7-4446-86C8-9FBA6047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43F-8B37-4553-8B76-FCEFC617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1ED-F298-4AF6-90BE-87AAA3B9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FD1-4D7E-4D58-A344-25A0B55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38D4-4421-4E3B-A291-7825346DB82D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B2D-E1D4-48CA-A8A8-F3C418D64C41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Orien JOHNSON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5 – JESO ‘LAY MPIANDRY TSA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81028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5 – JESO ‘LAY MPIANDRY TSAR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Jeso, 'Lay Mpiandry tsara, no mitarika ah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Ho eo amin'ny ahi-maitso mavana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Faly aho entiny miaraka Aminy Isan'andr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Jeso (Jesosy) no Mpiandry Tsara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Izy no Mpamonjy tena ti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Jeso  (Jesosy) no Mpiandry Tsar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Izy no Mpamonjy ti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88149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5 – JESO ‘LAY MPIANDRY TSAR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Jeso, 'Lay Mpiandry tsara, mahalala toko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Ny amin'ny andian'ondriny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Raha misy mitady hamely azy ireo Arovan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Entiny (Ho entiny) ao am-bal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Ny ondry izay (Ny ondry) tarihin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Entiny (Ho entiny) ao am-bal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cffff"/>
                </a:solidFill>
                <a:latin typeface="Corbel"/>
                <a:ea typeface="Arial"/>
              </a:rPr>
              <a:t>Ny ondry izay (Ny ondry) tarihin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81028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88149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48:08Z</dcterms:modified>
  <cp:revision>39</cp:revision>
  <dc:subject/>
  <dc:title>Tiona Advantista</dc:title>
</cp:coreProperties>
</file>