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F2816-546C-403E-AB57-62640D43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31F1-38EA-40A2-8822-6336A547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84D4-898B-4DE3-80C1-EDBD8201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03264-2975-424A-AFF6-A892A94E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24F8-42D8-459F-95E2-09A7E96C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4C92-446C-423F-8DCD-B78F4DF4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DE51-4E7E-40DD-9FE0-AFDE5A16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E140-52FB-4BE7-87BE-CC7A4201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20D2-8C62-4B32-B371-8DD899A7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7A4A-1B3E-4020-80D0-568C10C6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D4AF-7B42-44D4-A57E-7A9D40BA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FF9A8-5301-414F-958B-2CACC0C8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C96C-FD91-4F16-AF52-0E74D246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5BE0-777A-4A03-80A3-94ADF062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6898-F58D-4685-A2AD-0031CFD7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71D8-3F49-4244-9F04-4B7510B7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9C7A-E873-42FB-95B4-B44B1CEB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574A0-2BB6-41D2-9848-0FCC96A2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7DD92-7ABE-456E-B8B8-D58B5B3B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D5A5D-B935-4DF9-B2D3-F0114730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77295-A994-4155-8048-92E3BC7D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4A426-69F2-4C0C-AA87-B42A0C6B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14454-6AE9-4AFD-B3F3-D936D1B6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21170-F747-41B1-B049-F35BDAF0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3505-B6A5-419F-9E82-D12A6777ED5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CABB-3BA2-492A-A91D-26B9B267EA9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 : Samoely LALA JAM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amoely LALA JAM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d8771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d8771"/>
                </a:solidFill>
                <a:latin typeface="Arial"/>
                <a:ea typeface="Arial"/>
              </a:rPr>
              <a:t>MMJ044 - RAHA NIVORY IREO VAHOAKA SESEH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ececb2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d8771"/>
                </a:solidFill>
                <a:latin typeface="Tahoma"/>
              </a:rPr>
              <a:t>MMJ044 - RAHA NIVORY IREO VAHOAKA SESEHE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ivory ireo vahoaka seseh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o Jesosy no nifidy, tsy terena roambinio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mbara ny hafatry ny Filazan-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Matio, Tadeo, Tomasy sy Bartolom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Simona ilay Zelota, Filipo, Jaona, Andre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Corbel"/>
                <a:ea typeface="Arial"/>
              </a:rPr>
              <a:t>Mpanompo tena fat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Corbel"/>
                <a:ea typeface="Arial"/>
              </a:rPr>
              <a:t>Jakoba, Jakoba zanak'i Alfeo sy Zebe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Corbel"/>
                <a:ea typeface="Arial"/>
              </a:rPr>
              <a:t>Petera sy Jodasy dia samy iray kila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odasy no namad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33680" y="58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8771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5T05:40:51Z</dcterms:modified>
  <cp:revision>89</cp:revision>
  <dc:subject/>
  <dc:title>Tiona Advantista</dc:title>
</cp:coreProperties>
</file>