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52314-4624-4144-8AD8-014E2877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CCB05-08A5-42ED-A954-2A2A2884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FB3C5-6B7E-45E5-BCB3-E1248DD8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0B012-0515-4965-88F4-ED84F82A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4113-41E7-46C2-AD64-316943E6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C502-F830-4D5B-AD24-EEB721DA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A714-62E3-4D37-838C-65BF87CE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8EFA-7347-4E86-882F-14844AFC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EAA8-C799-47B9-A2F6-C17C81EB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2D99-B013-4AE7-B554-A1426F8D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75C2-DA2E-4B0D-8839-87496137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5E86C-2C18-44F5-A703-5FF390BA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BC1D-2DA6-4156-A44B-6E85129F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DBCA-DFE5-4223-8CD4-FC605410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858B-5527-49D5-BA5C-089969C1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CF6D-7332-4A56-990E-ED1671F8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E0C3-AAA6-49E5-800D-ED2BF936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EA804-5148-42E8-AE1B-B035D49C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190EF-8BC7-4256-9779-DB85510F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D1F96-7F3D-4EE3-9CA5-0F356EF0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7DCEA-6533-4ABC-AEE3-C9C1E125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55549-489B-4C9E-ADBE-5AFDA854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CD7FB-16FF-41D3-B4BD-9523CEB7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25D3-DF18-40AE-88A5-A68B73E6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3708-C4AF-423C-BFF9-EDFE3D48C2A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7BA1-1FD1-44E2-82D2-3D942D8BEFD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FIARAHABANA, FANAOVAM-BELO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Fiarahabana, fanaovam-belo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R. TSIMAITOARIVO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MOZ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dddcc5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cc5"/>
                </a:solidFill>
                <a:latin typeface="Arial"/>
                <a:ea typeface="Arial"/>
              </a:rPr>
              <a:t>MMJ085 - </a:t>
            </a:r>
            <a:r>
              <a:rPr b="1" i="1" lang="en-US" sz="3600" spc="-1" strike="noStrike">
                <a:solidFill>
                  <a:srgbClr val="dddcc5"/>
                </a:solidFill>
                <a:latin typeface="Tahoma"/>
                <a:ea typeface="Arial"/>
              </a:rPr>
              <a:t>FALY AHO … MAHITA AN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85 - FALY AHO … MAHITA AN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He ! faly aho Sakaiza, fa mahita anao ani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Corbel"/>
                <a:ea typeface="Arial"/>
              </a:rPr>
              <a:t>He ! faly aho Sakaiza, satria mahita ana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Corbel"/>
                <a:ea typeface="Arial"/>
              </a:rPr>
              <a:t>Derao ô ! derao ny Tom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Corbel"/>
                <a:ea typeface="Arial"/>
              </a:rPr>
              <a:t>Fa Izy naha toy iz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He ! faly aho Sakaizaizak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Miarahaba anao ani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833680" y="5962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8T04:43:58Z</dcterms:modified>
  <cp:revision>93</cp:revision>
  <dc:subject/>
  <dc:title>Tiona Advantista</dc:title>
</cp:coreProperties>
</file>