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FD34-30D3-45B7-99CE-3A7724B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4178-A1A6-4A28-A739-9CD6587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49F4-1D83-48A3-8BC3-67B53663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EF2F-F6C7-40D1-B6E1-CB9297CA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840-0506-4E08-BE01-51250D5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74B-8086-4818-9FB9-709D8B94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46F-8203-4D3B-9C1B-7DE17893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1C1-D264-4695-BBF2-394316D6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608D-8ED0-444A-B745-8AABBC0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3D9-D33D-4DD7-90DB-641BC9F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0FC-35C0-45D4-972C-F03F96F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C98F-F91F-42DA-A3D3-918CF91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1FB0-2A8E-430A-8DBE-7D32333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B2EC-FEA4-4161-A197-A4FC1BD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1436-3CDA-40FA-9ECD-AA0AA58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9AB-F2E1-4A3E-96BB-86E64FE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F0B4-8D85-42A1-AF85-A04E0123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17B5-F9D6-4E08-AD83-6F695E1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5F0E-EB8C-4002-B9AA-42BAE186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8146-1FB1-48BC-A837-12C5EF80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B63D-1989-455C-B71F-08B657F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9017-926D-4370-A69A-B4080B4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6738-39B3-44B2-B989-751C73C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40F3-4554-42C8-89B6-2A6F750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19E-CD2B-4272-A7F3-ECEBF8FC3F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697-2445-4469-83DB-0E174BFD4B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99"/>
                </a:solidFill>
                <a:latin typeface="Arial"/>
                <a:ea typeface="Arial"/>
              </a:rPr>
              <a:t>MMJ04 - TSY MISY NAMANA TSARA K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99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MMJ048 - TSY MISY NAMANA TSARA KOK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namana tsara k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oho i Jeso Sakaiza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havana mahafatra-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oho i Jeso Zoki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a ao an-trano aho na milala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a falifaly aho, na mitala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 manampy fa tsy mba manda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Raiso Izy ho nama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434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MMJ048 - TSY MISY NAMANA TSARA KOK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Be fitiavana, be indra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Jesosy no Mpamonji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Izy nanologtra ny ràny s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o anao sy ho ahy 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Omeko mba hanjakany ny f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Atolotro Azy ny talenta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Izay ananako foiko av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ba hanjakan'i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434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1:51:51Z</dcterms:modified>
  <cp:revision>92</cp:revision>
  <dc:subject/>
  <dc:title>Tiona Advantista</dc:title>
</cp:coreProperties>
</file>