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90BA-0F7C-4C13-A951-B0D92C1E8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3552-D95E-41F1-8D8A-2D627898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F39C-DE99-46AC-A37A-5E1124B7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B0B1-D262-4220-8D5E-7A3C523B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8612-320D-452F-A8E5-4C48262B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02D0-5D41-41FF-A25B-2CE1520C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0A2D-9E2D-4C57-A74A-94A71FC8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8F99-4BB1-4183-962D-4A66E4EC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2AD6-318C-4D05-B559-14122C08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D191-2539-4F63-97B2-7C764116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79E1-51FB-4E81-BB46-967B782C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4146-0EA7-4466-BA96-917086CF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A5CA-26B6-42CE-ADA3-DEF96F4C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DD2F-F4CE-488B-9ECE-8C20E228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8D86-877D-47E1-A507-6AC27A77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8A42-5823-447C-9DE5-1939524ED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E2C5-6680-497F-B52A-722F4C4A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7A9D-F6EB-4609-9FA5-35DAC340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76D0-CEF7-4106-8E56-ABCC60FD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EAB8-6855-492C-AE46-7333D316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390C-A867-44B4-B919-7017F1F9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65AA-FB97-4E3D-B1DC-0D3B8EC8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9CD0-F8E2-4156-9AF6-26E7921C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6CAD-3BDC-416B-8A04-96AADFE2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E4F8-6DE3-439C-BE41-BAD0692B0B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BAD0-A7AA-4709-ABB0-6F0A22CB29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Fisaor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Esther BA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Esther BARY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bb5f03"/>
                </a:solidFill>
                <a:latin typeface="Times New Roman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MMJ011 – HOY JESO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eec94"/>
                </a:solidFill>
                <a:latin typeface="Tahoma"/>
              </a:rPr>
              <a:t>Ankizy Advantista – Miaraka Mihira amin’i Jesosy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8817480" y="6394320"/>
            <a:ext cx="2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8818200" y="5997600"/>
            <a:ext cx="27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2924280"/>
            <a:ext cx="8351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Atao canon amin'ny fiverenana fanindroany ka rehefa tonga eo amin'ny (*) ny groupe A dia manomboka amin'ny Haleloia ny groupe B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MMJ011 – HOY JESO T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cc00"/>
                </a:solidFill>
                <a:latin typeface="Times New Roman"/>
                <a:ea typeface="Arial"/>
              </a:rPr>
              <a:t>Groupe 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y Jeso ti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"Avia, avia, manaraha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mora re na sarotra f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o tsy mandao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zotra soa ny d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raha Azy, ho sambatra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8817480" y="6394320"/>
            <a:ext cx="2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8819640" y="5581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MMJ011 – HOY JESO T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cc00"/>
                </a:solidFill>
                <a:latin typeface="Times New Roman"/>
                <a:ea typeface="Arial"/>
              </a:rPr>
              <a:t>Groupe 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, mider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kalazao fatra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, mihir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y 'zao rehetr'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Mpanjakanao ek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sambatra ianao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818200" y="5997600"/>
            <a:ext cx="27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19640" y="5581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1-01-06T00:56:24Z</dcterms:modified>
  <cp:revision>38</cp:revision>
  <dc:subject/>
  <dc:title>Tiona Advantista</dc:title>
</cp:coreProperties>
</file>