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36AB-D734-4CF7-90FE-62167649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C382-9276-403C-88AE-2996721D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AA0C-F67E-49D4-9BFD-FAE94444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AA03-32EB-4A85-84F8-596F2071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14F1-8656-4897-8219-26F81A9A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D23A-C4E1-4A14-864B-AA212CA7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07EA-B5BF-480F-A896-F4980113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D051-396B-4FD9-8338-2C00CDCB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0771-FD86-4D9E-87E8-00868A9E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CE76-3E11-4BA2-BD76-923AD73B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330C-4AEF-4A02-AF72-CFF58CB3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70DF-EA94-4175-B631-7975C67B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708B-0C3A-453A-802E-0EB2F81C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95BC-E3BB-4485-9A2F-2C62EAF6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3BB7-7382-4E80-9435-F1E36AC2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5790-23F1-444F-9CE5-7E065D98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81B1-D0FE-4F1A-B4DA-C6D51D89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149D-8B53-40DF-A8A6-A2E6AF8A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87AD-DEB8-4EBB-A04D-94501510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8760-40EA-4287-9266-1CE1ABE6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A584-186E-406B-9920-5F6EEA99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73BC-3936-41D5-B000-C0E7912D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E4496-9C5E-4838-A17A-6822395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8059-AB91-447E-97C9-0D6BCDB4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E591-8999-4E30-9E28-46BAB1A3648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A1A5-D937-467D-BE24-CE5969BB9E6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H. et S. GRANDJ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MMJ038 – MOA FANTATRAO NAHOANA AHO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0280" y="5897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8 – MOA FANTATRAO NAHOANA AHO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Moa fantatrao nahoana 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o falifaly toy iza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He ! fantatro, zava-dehibe tok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Jesosy velo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10280" y="5897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005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8 – MOA FANTATRAO NAHOANA AHO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Moa fantatrao nahoana 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o mivavak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He ! fantatro, Jesosy velon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Sady mandre toko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005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8 – MOA FANTATRAO NAHOANA AHO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Moa fantatrao nahoana 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o tia Soratra Masin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Voalaza ao ny tena làl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Mankany an-danit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10280" y="5897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005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8T16:41:30Z</dcterms:modified>
  <cp:revision>38</cp:revision>
  <dc:subject/>
  <dc:title>Tiona Advantista</dc:title>
</cp:coreProperties>
</file>