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621-B9EE-4EF2-AEEB-93BA9B73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096-8D77-42AD-AC76-95335D2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73C-BCCA-4A43-BD3C-93B0A50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375-90DF-45D0-9B60-53B78E0D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CAB9-0B5E-459F-9E32-43295D85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6F2-7ED6-4456-8335-96758F0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DE17-D914-468C-86D7-A8849FC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16BA-5456-4862-BB10-6F534DC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E6E4-51B8-441A-AAB8-A70F8EF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C56-ED2F-4B38-AAEA-D6F927F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8C12-7A8A-4FF0-A0CB-5F687B9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6AF-7334-4C07-8AB6-8A5C433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DD03-FAFE-43E7-9069-5F9C453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0027-CBAE-4966-9A39-2773589E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354-DE1F-49D0-ACCE-709EA89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D55-E6D7-42B7-B477-C5B30DEC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A0D9-A225-4930-B237-D0FE511E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F48-50AB-4574-A045-B0D31D7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EF0-E683-4814-B3BC-6816EB2E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627-24CA-4C7A-93D5-741BEE4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C44-D9FA-41CC-8AB7-3C829650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982-FA05-40D1-AA45-F29C34D7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64F-1C79-4432-9413-B788C4C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C15-9BCA-4F6F-AC67-F0AA5E2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995-E33E-4F87-A702-73A3A7F36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907A-EB89-4CF5-80D1-807F7CCC4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. Louis NORBER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. Louis NORBE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3 – RAHA NY ANKIZ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2288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2288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8822880" y="50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3 – RAHA NY ANKIZY REHE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ankiz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faka nanandra-p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niaraka nihi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288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288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2756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3 – RAHA NY ANKIZY REHE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eo i zoky sy z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faka nanandra-p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niaraka nihi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2288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822880" y="50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2756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3 – RAHA NY ANKIZY REHE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eo i Dada sy i N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faka nanandra-p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niaraka nihi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nao 'zahay.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288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2880" y="50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2756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3 – RAHA NY ANKIZY REHE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deha, rankizy, is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 hitaona na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so ny olo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288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82288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22880" y="50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82756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1:05:11Z</dcterms:modified>
  <cp:revision>33</cp:revision>
  <dc:subject/>
  <dc:title>Tiona Advantista</dc:title>
</cp:coreProperties>
</file>