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FCF-694C-4D63-BD94-9B993100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B99-BDCD-4624-8BE9-86B4B4A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C80-A6C5-45C2-ABB9-6356C446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CF3-3E49-44B1-84E6-79FFA5D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AE91-16A3-4F26-8E67-C1D6BE77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2A1-6BA1-4447-8735-B9B076D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8AA-C449-4AF3-BC18-7B4EC519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E2A-7F22-4A4E-A3A0-09965DA2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47F8-7628-4A1D-9D6B-8C0432E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0A2-5B75-49C4-AB15-B16CE83F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FB3-4E0A-4501-B41D-5C17995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33C-E0F6-4232-9EE1-BD77806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0A9-A7DC-4E08-A790-8F5C201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B493-8301-4D85-9ED4-6495A0A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C69-32C4-4D7E-9B36-D5B4DE1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97C-D5C5-4EC2-9428-45FF4CAA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FA13-2C82-4266-A8F1-C9E9E808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EAD-3651-4DA9-AE63-8376912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5F0-C890-48E5-9EAC-890EDF4E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B4F-60EA-40ED-B71D-BAC76BD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227-AD92-47CA-BCF7-C92F93C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B40-EF7B-48DB-B5DE-FFE0490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936-6186-45E2-B11B-6C26EF7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937-5D14-44CC-9301-46F3E7A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23CC-C34B-4E36-968A-047ABA800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8D1-E0AD-434F-B4E0-987E89902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7c3e"/>
                </a:solidFill>
                <a:latin typeface="Arial"/>
                <a:ea typeface="Arial"/>
              </a:rPr>
              <a:t>MMJ056 – FOKOM-PIRE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99120" y="51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04160" y="5537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0848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RAZAFIMAHAFALY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4e4c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56 – FOKOM-PIRE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Manompo tompo sam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ka mitara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Zaza mahantra mila mpanam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sy tohan'aina 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04160" y="5537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0848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789400" y="478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56 – FOKOM-PIRE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Ianao Jeso no zoky miantra ny zaz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ry koa mahavonjy ny zaza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99120" y="51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0848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789400" y="478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56 – FOKOM-PIRE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</a:rPr>
              <a:t>Ny andalam-pandroso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</a:rPr>
              <a:t>omeo fin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y rafimpiainana tena amba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o ivelom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99120" y="51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04160" y="5537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90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89400" y="478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MJ056 – FOKOM-PIRE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Iza no mba hit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ny teny fiain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Amin'ny zaza 'zay tena 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</a:rPr>
              <a:t>sy mahonena e!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99120" y="51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04160" y="5537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0848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89400" y="478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7T02:28:34Z</dcterms:modified>
  <cp:revision>107</cp:revision>
  <dc:subject/>
  <dc:title>Tiona Advantista</dc:title>
</cp:coreProperties>
</file>