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2D4A-ACB0-4DFF-8675-A3776EAD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B25C-A2A2-4543-B4CA-21183644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7C37-BA78-4DD2-9553-1A96B400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A889-F233-40B4-947B-C2CA0A97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1874-D1A8-41D9-8543-AF1C0260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6BFE-3A26-43F2-972B-2F41C404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A71F-6541-4964-96D5-B36329F8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1C85-979C-4360-84EB-A9059066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8F3A-73C9-42DE-8B88-67CDE5F6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FDDC-7689-459F-B185-37C3BAC0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EE5C-D2C9-44B9-B55D-FE237722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FCD7-CC49-48E5-B33E-10320196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7B01-FBC1-4A63-A6C1-B92D6249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EA79-DF83-4F2D-93B9-232283F7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CCB2-66EE-4C27-AC11-A91389EA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145B-C8FC-4657-AB1A-618958EE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F4A5-BF9F-4FEE-B76C-5803BBC5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508F-958C-4DE0-A08C-21FA15C5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2ED2-0E44-4EEF-BF32-944921FE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88D5-1170-46F2-94DF-F3F115DE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37D5-B7FA-4BAC-B206-96CDB481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38B7-D68F-48B1-9F41-F6FEBFC1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EA5F-73CB-4C43-A8DB-B9321976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722B-A3CF-4011-80D7-4C5D7AC3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5D51-3ABC-422C-879F-8DAA1233B2E6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4548-3DAA-4238-99F2-4FD5FBDBF1F9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Thèm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ANDRIAMANITRA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Jesosy Kristy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N. RAVONINJATOVO</a:t>
            </a:r>
            <a:br>
              <a:rPr sz="1000"/>
            </a:b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N. RAVONINJATOVO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Correspondance : 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99"/>
                </a:solidFill>
                <a:latin typeface="Arial"/>
                <a:ea typeface="Arial"/>
              </a:rPr>
              <a:t>MMJ023 – TOY NY ZAZAKELY REHETR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ff"/>
                </a:solidFill>
                <a:latin typeface="Tahoma"/>
              </a:rPr>
              <a:t>Ankizy Advantista – Miaraka Mihira amin’i Jesosy</a:t>
            </a:r>
            <a:endParaRPr b="0" lang="en-US" sz="2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2" name=""/>
          <p:cNvSpPr/>
          <p:nvPr/>
        </p:nvSpPr>
        <p:spPr>
          <a:xfrm>
            <a:off x="8815320" y="5897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8814960" y="635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4" name="">
            <a:hlinkClick r:id="rId2" action="ppaction://hlinksldjump"/>
          </p:cNvPr>
          <p:cNvSpPr/>
          <p:nvPr/>
        </p:nvSpPr>
        <p:spPr>
          <a:xfrm>
            <a:off x="881028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b2e3"/>
                </a:solidFill>
                <a:latin typeface="Tahoma"/>
              </a:rPr>
              <a:t>MMJ023 – TOY NY ZAZAKELY REHETRA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f5fd5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Toy ny zazakely rehetr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Jesosy notantanana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Nefa nitombo saina, toetra,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Hery sy fitiavana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815320" y="5897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814960" y="635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9" name="">
            <a:hlinkClick r:id="" action="ppaction://hlinkshowjump?jump=firstslide"/>
          </p:cNvPr>
          <p:cNvSpPr/>
          <p:nvPr/>
        </p:nvSpPr>
        <p:spPr>
          <a:xfrm>
            <a:off x="8814960" y="50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b2e3"/>
                </a:solidFill>
                <a:latin typeface="Tahoma"/>
              </a:rPr>
              <a:t>MMJ023 – TOY NY ZAZAKELY REHETRA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f5fd5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Tiako ny hitombo koa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Amin'ny fitiavan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Tahaka an'i Jesosy soa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Manaja fa tsy miavona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815320" y="5897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81028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firstslide"/>
          </p:cNvPr>
          <p:cNvSpPr/>
          <p:nvPr/>
        </p:nvSpPr>
        <p:spPr>
          <a:xfrm>
            <a:off x="8814960" y="50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b2e3"/>
                </a:solidFill>
                <a:latin typeface="Tahoma"/>
              </a:rPr>
              <a:t>MMJ023 – TOY NY ZAZAKELY REHETRA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f5fd5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Jeso nitombo fahendren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Sady be fitiavana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Nanahaka ny toetran-dRain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Izay any an-danitra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6T01:40:32Z</dcterms:modified>
  <cp:revision>39</cp:revision>
  <dc:subject/>
  <dc:title>Tiona Advantista</dc:title>
</cp:coreProperties>
</file>