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B5B6-8152-4B25-9F95-51DBB041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A880-D0BA-43B2-8006-19E317BF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4D5F-D0D6-4F19-A2F5-6B1EF3F2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E331-B76A-43A3-89EE-953BB5B6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67CB-BEC4-4370-AC6F-4CA79429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BEE0-5608-492B-A87B-265FD320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D454-5183-4B86-80D4-82E4F650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0F33-E37F-412D-B97B-A8A46DA8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07C7-DA90-43A8-951A-764AD929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14AB-3C20-43A2-B1AB-49247D07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4095-598E-465B-B0FA-53001EED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9316-752C-4994-8075-09D41D00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A073-BFC4-445A-9EED-78486414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AB91-F74A-41B0-93F1-AAEC2E7A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43A2-18CC-4B67-8466-B07162A6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8A44-D1A0-48DD-BEA3-3DEE7E86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CBDD-86DD-48C6-9C11-EF4D8A9C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0E3E-4E6E-4303-ABD7-708CD6C9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A8CD-2136-447B-BEAF-DB154973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78E8-DDA0-441B-8EFB-185E1CC4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4F26-A492-4FA5-8D40-1456F282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BE81-EDE0-4364-94C6-880358CF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CEE0-44B7-4A21-AE0F-EDB2F624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D00C-ECED-4B07-B41A-E83C6C90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bbc6d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606d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D829-3437-4509-9075-C69F85F39B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bbc6d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606d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2618-1241-4E31-96B6-BD9E566711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ANKIZY SY FIANAKAV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Ankizy sy fianakav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RAZAFIMAHAFALY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H. et S. GRANDJE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80acc4"/>
                </a:solidFill>
                <a:latin typeface="Times New Roman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acc4"/>
                </a:solidFill>
                <a:latin typeface="Arial"/>
                <a:ea typeface="Arial"/>
              </a:rPr>
              <a:t>MMJ077 – IREO ZAZA MANERAN-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Ankizy Advantista – Miaraka mihira amin’i Jesos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acc4"/>
                </a:solidFill>
                <a:latin typeface="Times New Roman"/>
              </a:rPr>
              <a:t>MMJ077 – IREO ZAZA MANERAN-T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6699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003300"/>
                </a:solidFill>
                <a:latin typeface="Corbel"/>
                <a:ea typeface="Arial"/>
              </a:rPr>
              <a:t>Ireo zaza maneran-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Mahatsiaro samb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Rehefa miposaka ny maso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3300"/>
                </a:solidFill>
                <a:latin typeface="Corbel"/>
                <a:ea typeface="Arial"/>
              </a:rPr>
              <a:t>Mitondra aina vao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3300"/>
                </a:solidFill>
                <a:latin typeface="Corbel"/>
                <a:ea typeface="Arial"/>
              </a:rPr>
              <a:t>Ny rivotra malefadef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3300"/>
                </a:solidFill>
                <a:latin typeface="Corbel"/>
                <a:ea typeface="Arial"/>
              </a:rPr>
              <a:t>Mitondra fifal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3300"/>
                </a:solidFill>
                <a:latin typeface="Corbel"/>
                <a:ea typeface="Arial"/>
              </a:rPr>
              <a:t>Mamelombelona fan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acc4"/>
                </a:solidFill>
                <a:latin typeface="Times New Roman"/>
              </a:rPr>
              <a:t>MMJ077 – IREO ZAZA MANERAN-T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6699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3300"/>
                </a:solidFill>
                <a:latin typeface="Corbel"/>
                <a:ea typeface="Arial"/>
              </a:rPr>
              <a:t>Ireo zaza maneran-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3300"/>
                </a:solidFill>
                <a:latin typeface="Corbel"/>
                <a:ea typeface="Arial"/>
              </a:rPr>
              <a:t>Mahatsiaro samb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3300"/>
                </a:solidFill>
                <a:latin typeface="Corbel"/>
                <a:ea typeface="Arial"/>
              </a:rPr>
              <a:t>Rehefa mba milalao ra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3300"/>
                </a:solidFill>
                <a:latin typeface="Corbel"/>
                <a:ea typeface="Arial"/>
              </a:rPr>
              <a:t>Toy ireo trondro maro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3300"/>
                </a:solidFill>
                <a:latin typeface="Corbel"/>
                <a:ea typeface="Arial"/>
              </a:rPr>
              <a:t>Ny orana izay milats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3300"/>
                </a:solidFill>
                <a:latin typeface="Corbel"/>
                <a:ea typeface="Arial"/>
              </a:rPr>
              <a:t>Mitondra fifal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3300"/>
                </a:solidFill>
                <a:latin typeface="Corbel"/>
                <a:ea typeface="Arial"/>
              </a:rPr>
              <a:t>Mamelombelona fan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acc4"/>
                </a:solidFill>
                <a:latin typeface="Times New Roman"/>
              </a:rPr>
              <a:t>MMJ077 – IREO ZAZA MANERAN-T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6699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3300"/>
                </a:solidFill>
                <a:latin typeface="Corbel"/>
                <a:ea typeface="Arial"/>
              </a:rPr>
              <a:t>Ireo zaza maneran-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3300"/>
                </a:solidFill>
                <a:latin typeface="Corbel"/>
                <a:ea typeface="Arial"/>
              </a:rPr>
              <a:t>Mahatsiaro samb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3300"/>
                </a:solidFill>
                <a:latin typeface="Corbel"/>
                <a:ea typeface="Arial"/>
              </a:rPr>
              <a:t>Raha mahalala Ilay Mpah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3300"/>
                </a:solidFill>
                <a:latin typeface="Corbel"/>
                <a:ea typeface="Arial"/>
              </a:rPr>
              <a:t>Sady Mpikarakara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3300"/>
                </a:solidFill>
                <a:latin typeface="Corbel"/>
                <a:ea typeface="Arial"/>
              </a:rPr>
              <a:t>Na sarotra, na mora re ny d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3300"/>
                </a:solidFill>
                <a:latin typeface="Corbel"/>
                <a:ea typeface="Arial"/>
              </a:rPr>
              <a:t>Andriamanitra mit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3300"/>
                </a:solidFill>
                <a:latin typeface="Corbel"/>
                <a:ea typeface="Arial"/>
              </a:rPr>
              <a:t>Manampy sy mitant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7T18:32:08Z</dcterms:modified>
  <cp:revision>92</cp:revision>
  <dc:subject/>
  <dc:title>Tiona Advantista</dc:title>
</cp:coreProperties>
</file>