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DAF-FA77-412E-AC71-0F153CCB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01A-4E72-4269-858D-BAEF1EEB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F8E-D863-4949-9CB6-C0D8B75E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790-46B4-43BB-9325-85623FF2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F610-50A6-4667-A92E-3F23F78C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B11E-B681-48DF-9D3F-E69B1A1B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5C0D-6C50-41E8-B6A2-5027C97C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152F-9DCC-478C-8A5A-D339CBC1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0514-FDA9-49BC-8AD1-3EBFE204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ECAA-F450-4CC7-9E4C-D11D404C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D945-60AD-4D70-A157-C118F1E2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8A4-580B-40DC-A242-429426F5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58A6-47A3-4751-A753-D7422A75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95A0-0AE1-46E6-9C18-5CD51F20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693B-2C4E-4D31-8B8D-CDFCA210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F4C9-F27A-41A5-BA91-0FA9ABE7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6730-B194-41F7-BE72-EF9A3DBB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DD4-F7D8-4108-9389-14C748DA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A08-3E28-41AC-9AB1-10638858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631-9342-438B-83E0-4799730A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865-4255-4D36-A9FC-2339BAB6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290-7D29-4E1C-B841-0EB1C4E0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56F-581D-463E-AC38-C154C159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68D-74F8-46CD-B18A-520B29D4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D8EA-6452-4DDC-9357-7C066734B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2FA8-3EDA-4A13-9706-C0E381645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56925a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ff33"/>
                </a:solidFill>
                <a:latin typeface="Arial"/>
                <a:ea typeface="Arial"/>
              </a:rPr>
              <a:t>MMJ053 - TIAKO NY AO AKAIKINAO,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53 - TIAKO NY AO AKAIKINAO,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 ny eo akaikinao,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iriako ny ho tanta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tanako fihin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avela hial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 koa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  <a:ea typeface="Arial"/>
              </a:rPr>
              <a:t>Ka anjakao re ry Tom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8336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925a"/>
                </a:solidFill>
                <a:latin typeface="Times New Roman"/>
              </a:rPr>
              <a:t>MMJ053 - TIAKO NY AO AKAIKINAO,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  <a:ea typeface="Arial"/>
              </a:rPr>
              <a:t>Miaraka mandeha aminao ah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  <a:ea typeface="Arial"/>
              </a:rPr>
              <a:t>Fahasambarana sy fits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tolotrao ho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intsony mamp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rako tsy afen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minao no misy ny so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88336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6T02:51:43Z</dcterms:modified>
  <cp:revision>87</cp:revision>
  <dc:subject/>
  <dc:title>Tiona Advantista</dc:title>
</cp:coreProperties>
</file>