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1F0-15CD-4CF5-B064-6B165BCB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37D-2196-4CD7-AED8-0E5DF76E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4B3-24B2-4565-810E-F24C00EF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F06-C4B8-4315-9DA4-208E32CE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C354-74F0-43F7-BE49-097DA35A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D635-B1EA-480C-81C4-6FFFF46A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13D4-EA6D-4A03-AA94-62540912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4FBD-1D1C-4C8D-ADAE-7927EFD2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1825-9377-4B57-AB7C-2BFEA19A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9E98-1ACB-46D0-A21F-F0C0CDB7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4C24-706B-4B74-B216-EA463A71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B82-0AD9-4356-8D00-87B7637F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CD68-D0AF-48CC-89E0-6FBFC680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345A-3D4B-4F9E-B7D2-2E487AA0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E8BC-D13D-45A6-95AE-45F1AFA2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E8B0-CB59-4992-AD3A-2025C4D7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EE7A-A6AB-4E9C-A717-89AD08FA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8537-0853-4517-881B-F92D1AF3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466-E261-4143-A50B-C503875E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5AE-FD21-4926-B149-B986B843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933-D2DF-483E-BFE9-FEF1FEC1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039-2967-45BD-8752-789838CC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FC9-DD91-4CCC-9282-A3F38E7E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3EB6-5EE6-4889-AE65-C7D52A40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DC0B-6894-45E9-A299-897387F91AC6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A4EC-5661-4A43-9634-34651FD5D56B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ANDRIAMANITR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Jesosy Kristy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(Tsy fantatra)</a:t>
            </a:r>
            <a:br>
              <a:rPr sz="1000"/>
            </a:b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Sr. Jean PAYNE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66"/>
                </a:solidFill>
                <a:latin typeface="Arial Black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3399"/>
                </a:solidFill>
                <a:latin typeface="Arial"/>
                <a:ea typeface="Arial"/>
              </a:rPr>
              <a:t>MMJ052 - REHEFA MIDITRA AO AM-P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2" name="">
            <a:hlinkClick r:id="rId2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ff"/>
                </a:solidFill>
                <a:latin typeface="Arial Black"/>
              </a:rPr>
              <a:t>Ankizy Advantista – Miaraka mihira amin’i Jesosy</a:t>
            </a:r>
            <a:endParaRPr b="0" lang="en-US" sz="2000" spc="-1" strike="noStrike">
              <a:solidFill>
                <a:srgbClr val="00ffff"/>
              </a:solidFill>
              <a:latin typeface="Arial Black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ahoma"/>
              </a:rPr>
              <a:t>MMJ052 - REHEFA MIDITRA AO AM-PO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ccffff"/>
                </a:solidFill>
                <a:latin typeface="Corbel"/>
                <a:ea typeface="Arial"/>
              </a:rPr>
              <a:t>Rehefa miditra ao am-po Jeso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Dia ho Tompon'ny fiainan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Izy no hanjaka ao mandrakizay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Ny fanahiny no hampandresy anao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Ka raha tonga ny devol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Mba hamitaka ana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Hanan-kery ianao hamaly hoe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&lt;&lt; 'Zaho zanak'i Jeso&gt;&gt;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firstslide"/>
          </p:cNvPr>
          <p:cNvSpPr/>
          <p:nvPr/>
        </p:nvSpPr>
        <p:spPr>
          <a:xfrm>
            <a:off x="88336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ahoma"/>
              </a:rPr>
              <a:t>MMJ052 - REHEFA MIDITRA AO AM-PO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Ampidiro ao am-poko Jeso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Avelao Izy hanjaka ao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Ho sasany mba hadio re ny fo;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Ho masina, ho mendrika Azy ko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Ka raha tonga ny devol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Dia sahia milaza hoe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&lt;&lt; Tsia, tsia, tsy hanaiky anao ah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Fa mpandoto fo ianao &gt;&gt;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firstslide"/>
          </p:cNvPr>
          <p:cNvSpPr/>
          <p:nvPr/>
        </p:nvSpPr>
        <p:spPr>
          <a:xfrm>
            <a:off x="88336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6T02:44:56Z</dcterms:modified>
  <cp:revision>89</cp:revision>
  <dc:subject/>
  <dc:title>Tiona Advantista</dc:title>
</cp:coreProperties>
</file>