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6A30-C463-482D-9FBD-25EE5980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E345-5817-42B8-BF86-526C8BB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EAC2-3FD5-4CB1-BA71-41802A7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60E1-E416-409C-B826-230970B9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1D5-9DE1-4EFB-B05B-BC886DB3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6D6-45C0-4B10-B2D1-47AC2892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D512-1BE6-402A-ADF0-576C961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634-BA88-4B74-A471-3197E840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E72-D241-4DAF-94FC-059AA7F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E3F-38A3-488E-B725-99C9AE71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2F6E-3798-4022-9B72-D81A109A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414D-9979-4804-A2F9-C191FBA1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B7E-AB82-4690-83DF-59ACF48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B3E-EB77-4C30-A456-04E8173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79F-C55A-4AB8-BDE7-CFE59F2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3AC-1694-4464-B1BA-449C7DA5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231B-8A71-42C1-9A11-66FC6AD5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C0AC-E858-44C8-AA3F-EBD4A59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81D7-4D64-4027-8FE6-8552C27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877F-EC6C-43AE-80BE-1AF85944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CF32-FAF7-4588-8833-DC445BC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EB89-9C08-4C5F-8937-5458F51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52A4-CA42-454C-A3DC-25385EC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7682-351B-49D9-911C-A54A652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DF44-29B9-45B9-837A-A6DBF349FE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305F-684A-4CE0-939E-1116E28D27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43 - ‘NDAO R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8484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3 - ‘ND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 'ndao rankiz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 'ndao ho av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ilazao ny N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 'nd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ho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484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3 - ‘ND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ly dia faly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n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handra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3 - ‘ND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 'ndao rankiz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ry to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, 'ndao, 'ndeha i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zandrinao sy z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, 'ndao, aza el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ho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84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3 - ‘ND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  'ndao rankiz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y namanao tar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, 'ndao,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ampitso fa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Ndao, 'ndao, faingà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ho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484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5T05:39:11Z</dcterms:modified>
  <cp:revision>87</cp:revision>
  <dc:subject/>
  <dc:title>Tiona Advantista</dc:title>
</cp:coreProperties>
</file>