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A922-5BB8-4ECB-B59C-660E88FC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3D16-567A-41CB-9F73-BE5F159A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D6AC-06DA-472B-A9CD-38A47E88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D3DE-FB97-4DB4-B70A-C2558A1E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622-26C5-4040-8367-56951951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453D-D6B7-47C2-86BF-8BE7602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C540-C668-447A-9D67-99887338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1C6D-359F-4022-89BD-F60FD578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C527-239A-452D-9239-A7B1FB9A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41F0-773F-46FE-AFE9-AE806843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586-2B31-4E99-BD3F-CBED869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D718-FBFF-4DC2-973C-A805AB88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FA4-D9EB-4EF9-A65E-3BC063FE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864A-45CF-4D8B-9E3F-304B83C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CC66-2B69-4632-9477-78BE958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50CB-C8AF-4F1C-A1EC-C7336489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36AD-57F6-4333-98A6-17B494F5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409B-7AF1-498A-B2C6-5B4185B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DC02-17FD-4FB9-A036-9C370E21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62D3-511F-4D31-B871-20B2F92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9181-3FF2-4A96-A0E4-D6D38AB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40D0-0621-4AF7-8A59-37F6902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3893-D5FC-4450-A5AC-D34A367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FFD9-6081-4D91-AE74-17A07E1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B5ED-A29C-4D97-A910-468A51C23B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60B5-EC29-4CCC-990C-2359EA7650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lara M. STRIPLI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41 – FANTA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-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1 –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 ? Jeso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at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y ny ankizy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taony tsinontsin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102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1</a:t>
            </a:r>
            <a:r>
              <a:rPr b="0" lang="en-US" sz="3200" spc="-1" strike="noStrike">
                <a:solidFill>
                  <a:srgbClr val="00e0a5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–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 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anao ny voninkaz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defa ho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rana 'zay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1 –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 ? Jeso n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katra any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boatra ho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oerana tsara tokoa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102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41 –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 ? Jeso ho 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aka ny te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tondra izay tia 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nina any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102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0T18:34:24Z</dcterms:modified>
  <cp:revision>39</cp:revision>
  <dc:subject/>
  <dc:title>Tiona Advantista</dc:title>
</cp:coreProperties>
</file>