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392-9FBB-4BA7-9BAB-3F67295A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8E1-21E1-4435-9D70-2673575A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D20-EFDA-49C6-BD86-E8AF970D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4729-360B-414B-8101-FC5C6690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46BA-F7BF-4777-B00E-B5F922F5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5AB2-8EAE-4DB3-B348-5EF047C9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28C3-1C36-4F55-AE56-D6B0C6F4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0434-9473-4AFF-949C-499ECB83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9B24-64CD-4A79-8A81-A87CF70F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D081-9A62-4D1B-9985-7B91D24A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A55E-983A-4CFD-828C-DEC05156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BB9-6C0F-4713-B643-EBC5D8DB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674F-EB04-49DD-B497-45AE155B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0D42-2AD2-4E79-9318-84184C63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D995-2F23-4888-8FD1-D179DCEF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CE00-C9E8-468E-9DF5-75FB3AA5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D5DD-F4D9-4879-A037-2E54E17B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6788-E49B-4BD6-B1ED-93EE0CD2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0C1-38AD-448F-93DB-FC2DD098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73F-986A-4D82-9D31-D28A6DE6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FC72-F824-4D0D-AFE9-41AF7C6C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129-DA39-4190-A77D-A0C85671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C65-06A5-4D97-B9E4-DA891291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F7B7-2B6C-4F38-BD69-D0D1F227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9C6B-1818-4267-ABA2-2665345165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8A6F-DFDF-47D4-8998-FDCAF5C3CB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KIZY SY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kizy sy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(Tsy fantatra)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(Tsy fantatra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56925a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925a"/>
                </a:solidFill>
                <a:latin typeface="Arial"/>
                <a:ea typeface="Arial"/>
              </a:rPr>
              <a:t>MMJ079 – TANY AN-TRANON’I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4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925a"/>
                </a:solidFill>
                <a:latin typeface="Times New Roman"/>
              </a:rPr>
              <a:t>MMJ079 – TANY AN-TRANON’I J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99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Tany an-tranon'i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Be raharaha f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Toy ny mamafa, manad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Mitoto var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925a"/>
                </a:solidFill>
                <a:latin typeface="Times New Roman"/>
              </a:rPr>
              <a:t>MMJ079 – TANY AN-TRANON’I J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99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Tsara ny tokantrano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Raha monina ao Kris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'Zao zava-tsoa rehetr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Dia samy omen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925a"/>
                </a:solidFill>
                <a:latin typeface="Times New Roman"/>
              </a:rPr>
              <a:t>MMJ079 – TANY AN-TRANON’I J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99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Na miasa, na mian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Na lasa milal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Dia eo Jeso manan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Manampy amin'ny 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925a"/>
                </a:solidFill>
                <a:latin typeface="Times New Roman"/>
              </a:rPr>
              <a:t>MMJ079 – TANY AN-TRANON’I J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99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Ny tokantrano 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Onenan'i Kris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ivoatra sy hisand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Ety sy hatr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18:44:18Z</dcterms:modified>
  <cp:revision>89</cp:revision>
  <dc:subject/>
  <dc:title>Tiona Advantista</dc:title>
</cp:coreProperties>
</file>