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719-3DD2-4B7B-B9AC-4D32BF8B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7EC-3FEC-458E-8695-B6AAAF1D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266-CA4C-4660-A7EC-F11DC321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B44-1854-4F1A-9F28-D37BB660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6B0E-DF48-4D5F-B001-5B649552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30E5-198B-4819-9D8E-D5DED174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5BAD-2280-4703-BC5F-56EEC770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50A1-C0B8-4F3F-A640-DFEF689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6DD8-9D1F-4A16-9803-E927B151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52A7-AA7F-4754-9B82-12BD3717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797C-F487-4BB2-BCCC-82C5E6C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0BB-4CF2-434D-B1B6-D09784D8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1E98-AD8A-45A1-9E32-06E955E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AAB0-F930-40D7-BD22-2ADE0B8B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6655-2361-44EB-84EC-D6D943C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3EEC-6355-494D-955F-A25EDFCF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F6EA-C5A8-49DD-87AB-BF7BDBDA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FD6-6934-498F-B12D-AF257CFC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491-2A8F-4EC4-AF59-71D1FCCA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B14-E9E6-47B1-8578-D89FD516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F1A-EA54-402E-B92F-73E6582D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8D4-DF55-43A1-99C3-06D3F30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E2C-50DB-45FA-81DB-8A77689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E69-3390-4327-9653-E7B57E4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725F-1C66-401F-BFA7-08C9D4690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6D93-9E3A-4DEC-BB7D-6E5FF12D8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Fanoloran-t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Z. RAZAFIMAHAFAL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80acc4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acc4"/>
                </a:solidFill>
                <a:latin typeface="Arial"/>
                <a:ea typeface="Arial"/>
              </a:rPr>
              <a:t>MMJ096 - MIARAMILA KELI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77716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96 - MIARAMILA KELIN'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iaramila keli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iaramila keli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(</a:t>
            </a:r>
            <a:r>
              <a:rPr b="0" i="1" lang="en-GB" sz="3600" spc="-1" strike="noStrike">
                <a:solidFill>
                  <a:srgbClr val="0000ff"/>
                </a:solidFill>
                <a:latin typeface="Corbel"/>
                <a:ea typeface="Arial"/>
              </a:rPr>
              <a:t>feo 1,2</a:t>
            </a: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) Mijoroa, misehoa, mitrak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(</a:t>
            </a:r>
            <a:r>
              <a:rPr b="0" i="1" lang="en-GB" sz="3600" spc="-1" strike="noStrike">
                <a:solidFill>
                  <a:srgbClr val="0000ff"/>
                </a:solidFill>
                <a:latin typeface="Corbel"/>
                <a:ea typeface="Arial"/>
              </a:rPr>
              <a:t>feo 3,4</a:t>
            </a: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) Mijoroa izao, miseho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 </a:t>
            </a: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itrakà ianao (rehetra)  fa lehil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7716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96 - MIARAMILA KELIN'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(</a:t>
            </a:r>
            <a:r>
              <a:rPr b="0" i="1" lang="fr-FR" sz="3600" spc="-1" strike="noStrike">
                <a:solidFill>
                  <a:srgbClr val="0000ff"/>
                </a:solidFill>
                <a:latin typeface="Corbel"/>
                <a:ea typeface="Arial"/>
              </a:rPr>
              <a:t>feo 1,2</a:t>
            </a: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) Mitsangàna, mitsangà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itsangàna ka faing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(</a:t>
            </a:r>
            <a:r>
              <a:rPr b="0" i="1" lang="fr-FR" sz="3600" spc="-1" strike="noStrike">
                <a:solidFill>
                  <a:srgbClr val="0000ff"/>
                </a:solidFill>
                <a:latin typeface="Corbel"/>
                <a:ea typeface="Arial"/>
              </a:rPr>
              <a:t>feo 3,4</a:t>
            </a: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) Mitsangàna ianao, mitsangàna ianao, mitsangàna ianao ka faing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(rehetra) Efa akaiky anao ilay K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96 - MIARAMILA KELIN'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iaramila keli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iaramila keli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(</a:t>
            </a:r>
            <a:r>
              <a:rPr b="0" i="1" lang="en-GB" sz="3600" spc="-1" strike="noStrike">
                <a:solidFill>
                  <a:srgbClr val="0000ff"/>
                </a:solidFill>
                <a:latin typeface="Corbel"/>
                <a:ea typeface="Arial"/>
              </a:rPr>
              <a:t>feo 1,2</a:t>
            </a: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) Mandrosoa eo aloha, mia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(</a:t>
            </a:r>
            <a:r>
              <a:rPr b="0" i="1" lang="en-GB" sz="3600" spc="-1" strike="noStrike">
                <a:solidFill>
                  <a:srgbClr val="0000ff"/>
                </a:solidFill>
                <a:latin typeface="Corbel"/>
                <a:ea typeface="Arial"/>
              </a:rPr>
              <a:t>feo 3,4</a:t>
            </a: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) Mandrosoa izao, eo aloha ia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iadia ianao (rehetra) ka mandre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77716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6:22:51Z</dcterms:modified>
  <cp:revision>95</cp:revision>
  <dc:subject/>
  <dc:title>Tiona Advantista</dc:title>
</cp:coreProperties>
</file>