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365-7465-4184-8A16-815C19D7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063-EC88-4D3D-9DFF-755C7BCE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182-0387-477E-B0BC-51F4F7B2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B58-0AD5-40AE-925F-5D92ED58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A565-3149-4E53-9138-B5558B42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F5A8-B81A-4FDF-9386-B19DB24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3B35-E63E-4811-A2FE-A2D3E9A1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139-4C26-430F-95F0-3EBF8C8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7647-FEA5-438C-A818-DE64F65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59EE-6FBE-4F13-A27E-EB159B06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54B1-89C2-44CE-8D22-70F22376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318-09E9-43C2-9AAF-9D1927BC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1BA8-2F69-452C-BE77-CB20947F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EFC7-2859-43EE-9C72-4424066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1669-CDB7-4B4B-B7C2-E39D685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CB38-C094-4549-93ED-89ED452F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478C-3BA6-48BF-9B2E-45D6019F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016-ADAB-4E17-A5D1-EAB0E69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E35-9E73-429A-99C3-3E610BC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DF4-C988-4C4C-8614-FAE1C910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2AF-7FB8-4F9D-B5BC-7650750B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A37-A251-4E2F-8D97-10FB3C2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029-28DE-4EC5-AA09-E1A904E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150-7E73-40C1-B1EC-5FA158F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99C4-3A13-4E1A-8610-AC63DECA55BA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EFB6-2F4E-4558-861C-FFE3C2332B67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Harry Dixons LOCS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9 – NY OLONA REHETRA NO TOKONY HAHALAL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8149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8815320" y="5545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b2e3"/>
                </a:solidFill>
                <a:latin typeface="Tahoma"/>
              </a:rPr>
              <a:t>029 – NY OLONA REHETRA NO TOKONY HAHALALA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, 2</a:t>
            </a: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y olona rehet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, 2</a:t>
            </a: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o tokony hahalala avoko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</a:t>
            </a: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An'ilay Mpamonjy so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, 3,4</a:t>
            </a: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'Lay Mpamonjy Tompo so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Jeso Kris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8149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8149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b2e3"/>
                </a:solidFill>
                <a:latin typeface="Tahoma"/>
              </a:rPr>
              <a:t>029 – NY OLONA REHETRA NO TOKONY HAHALALA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zy no Ilay lili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aniry eny an-dohasah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lay kintan'ny marai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Sy fialofana ho ah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1496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815320" y="5545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8149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b2e3"/>
                </a:solidFill>
                <a:latin typeface="Tahoma"/>
              </a:rPr>
              <a:t>029 – NY OLONA REHETRA NO TOKONY HAHALALA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y ankizy dia lalain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zy no sakaizan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y mandao tsy mba hain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y ankizy arovany</a:t>
            </a: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815320" y="5545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8149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2:03:09Z</dcterms:modified>
  <cp:revision>39</cp:revision>
  <dc:subject/>
  <dc:title>Tiona Advantista</dc:title>
</cp:coreProperties>
</file>