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B163-7E5E-4981-AB0A-5EAD01AE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41DE-0654-4CD7-9005-7D5E9EC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C41C-949E-4D02-8E55-757E4C7B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1F3B-287C-490E-B714-2713F4EF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878-465E-47C8-AF6B-8B13BA99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DC4-A987-451D-862E-F5B85586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69DE-EE81-402A-963D-8040BFCC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9A04-BCE7-4534-A830-AF29F45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1246-9171-40A5-A70B-93050509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CB13-9A1C-4AFB-A674-4E2B63B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16D-CD15-4FC2-A145-ABCAD4E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7125-FC47-48BE-AAF9-76E83B5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8378-3FA0-4526-89C7-6C10B80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C83A-06B1-4868-9917-AD4A15A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762-B98E-4D37-8A26-1D9F2245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7F7-20EF-419E-B821-722FB76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9EC0-8144-4A56-BBD3-1EDDA44F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D238-2DF7-4C4A-89AC-61249D6F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FDD5-5DDA-41AD-807D-F71B8D4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EE47-62A2-41B5-BA49-738E6BDC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A29B-0F87-43BC-A67E-D9EE525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99A0-E885-4200-881E-AA2DB12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9736-3C13-4341-9466-EA7E679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6FB2-5CC4-43E1-A632-39F150B0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A01-3E74-4293-93DC-9F0C3F6FDF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A3FF-3C87-4404-AE49-1CA7D4A587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6d8771"/>
                </a:solidFill>
                <a:latin typeface="Arial"/>
                <a:ea typeface="Arial"/>
              </a:rPr>
              <a:t>MMJ064 - </a:t>
            </a:r>
            <a:r>
              <a:rPr b="1" i="1" lang="en-GB" sz="3600" spc="-1" strike="noStrike">
                <a:solidFill>
                  <a:srgbClr val="6d8771"/>
                </a:solidFill>
                <a:latin typeface="Arial"/>
                <a:ea typeface="Arial"/>
              </a:rPr>
              <a:t>INDRAY ANDRO ANY ITY 'ZAHO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d8771"/>
                </a:solidFill>
                <a:latin typeface="Tahoma"/>
              </a:rPr>
              <a:t>MMJ064 - </a:t>
            </a:r>
            <a:r>
              <a:rPr b="0" lang="en-GB" sz="3200" spc="-1" strike="noStrike">
                <a:solidFill>
                  <a:srgbClr val="6d8771"/>
                </a:solidFill>
                <a:latin typeface="Tahoma"/>
              </a:rPr>
              <a:t>INDRAY ANDRO ANY ITY 'ZAH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ndray andro any ity 'zaho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seho eo amin'i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Raha voasoratra any ny anara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Ho vohany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Raha voasoratra any ny anara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vohany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d8771"/>
                </a:solidFill>
                <a:latin typeface="Tahoma"/>
              </a:rPr>
              <a:t>MMJ064 - </a:t>
            </a:r>
            <a:r>
              <a:rPr b="0" lang="en-GB" sz="3200" spc="-1" strike="noStrike">
                <a:solidFill>
                  <a:srgbClr val="6d8771"/>
                </a:solidFill>
                <a:latin typeface="Tahoma"/>
              </a:rPr>
              <a:t>INDRAY ANDRO ANY ITY 'ZAH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maintsy hiseho eo 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efa raha Jeso no nam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Ka voasoratra any ny an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vohany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Ka voasoratra any ny an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Ho vohany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d8771"/>
                </a:solidFill>
                <a:latin typeface="Tahoma"/>
              </a:rPr>
              <a:t>MMJ064 - </a:t>
            </a:r>
            <a:r>
              <a:rPr b="0" lang="en-GB" sz="3200" spc="-1" strike="noStrike">
                <a:solidFill>
                  <a:srgbClr val="6d8771"/>
                </a:solidFill>
                <a:latin typeface="Tahoma"/>
              </a:rPr>
              <a:t>INDRAY ANDRO ANY ITY 'ZAH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raiso ho a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O ! ovay mba ho zanak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Ho voasoratra ao anaty b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Ny anaranay rehetra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Ho voasoratra ao anaty b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Ny anaranay rehetra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3:07:06Z</dcterms:modified>
  <cp:revision>89</cp:revision>
  <dc:subject/>
  <dc:title>Tiona Advantista</dc:title>
</cp:coreProperties>
</file>