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568E-8CF6-4E27-8152-D87A2FDB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525C-379D-4E92-AE2B-88143F48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887E-9F25-45A1-AB97-670B02BF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91C3-5FEC-4AF2-9C97-EA4EC411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0D00-1817-47E1-8F24-B88F6514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BC80-89E2-40A9-A9EA-C0F92079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0E54-6BA5-4E25-B2CD-61DD01F6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5E28-688F-4381-949B-B28A091D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BF37-97CF-4855-ABA5-5BA5036A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12A7-BAEA-4E02-9BD8-DDC5163C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15EF-522A-414C-A4E6-912C137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0B02-6238-4932-B21D-B713D8C9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2CC7-A081-45AD-A255-BB89D46C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6FBE-21FF-41E5-A65F-8CB8AD5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2456-9E27-4BD2-8E57-A909BBB8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126B-2C1A-4845-B25B-E6DDD63A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9AB6-6463-48E9-AE2F-55B970C4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1F77-3C93-4598-806F-B10562AB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EC4E-C9DB-487E-A7FF-F0965157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3441-42A6-4292-9063-BEED23DA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6F39-5911-4B69-B481-F6D77A9B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47C4-D4A6-4487-A1AF-A56B99C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D0E2-D5BB-473A-9AF1-DD79DCB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535C-2207-4551-BB2F-D5E5039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BABE-BEDC-47AE-8915-69F9BB3C6B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67BA-7318-4B59-B9ED-72A7FA96A7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Mildred AD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MMJ090 – RAHA HIFANDAO ISIKA IZ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99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90 – RAHA HIFANDAO ISIKA IZ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00"/>
                </a:solidFill>
                <a:latin typeface="Corbel"/>
                <a:ea typeface="Arial"/>
              </a:rPr>
              <a:t>Raha hifandao isika iza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Rankizy namako 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Aoka isika hivavaka ho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"Mombà anay Jeso. Am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58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51:00Z</dcterms:modified>
  <cp:revision>93</cp:revision>
  <dc:subject/>
  <dc:title>Tiona Advantista</dc:title>
</cp:coreProperties>
</file>