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7D8-1EC1-41EE-B9A9-86A1AF51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AFD-15E2-41F5-B9DC-94C9B0C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57A-1B5E-49C9-9002-03CD5B39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2EF-8F27-4160-BB8E-F5418111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A0B2-7775-4F16-AB61-C8B85BC1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7468-7946-494F-ADA1-1B2FE95E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554B-7E5E-41C5-AB1A-E3E85EC7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0DB2-B38F-4C56-B760-1B5E2BAA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EFA0-6766-4DDA-A159-B0664B1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46C7-B7C3-4016-B700-2F2B960F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A6F9-13C0-468A-838D-D3D1BDE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B1A-158A-488E-A2CE-BA06114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5FC1-EA29-48CD-858C-E80413F4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901A-CA2E-43E1-8EA6-0E771EF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B4ED-ED6E-4C79-AB34-388C1980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31EF-3355-44F1-992A-4EF54F80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602-A290-4D65-97EA-0EF40A40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09E-133E-4DD6-AE64-129A7E4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9FD-A455-463C-965A-02AB3423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089-F012-4187-8514-2C1EC2B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4DE-0A22-42AA-835F-6D631308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3BA-EAA7-4819-8E1D-50CAA663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13F-4F08-4C94-9F91-02DBE3B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249-9786-4ABD-81B5-6FCA3538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CA8-264C-433E-9201-59243AAD97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BACC-35CD-4367-B916-9643866670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b0ac"/>
                </a:solidFill>
                <a:latin typeface="Arial"/>
              </a:rPr>
              <a:t>MMJ099 - RY TANORA Ô, MET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7991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0848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790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anolor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4e4c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ahoma"/>
              </a:rPr>
              <a:t>MMJ099 - RY TANORA Ô, MET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Ry tanora ô, meteza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iantso anao ny Tomp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He ny fony an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tiany ho sambatr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oa tsy fant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Izy dia nanavotr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Ô ! omeo Azy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991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0848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90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789400" y="4929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ahoma"/>
              </a:rPr>
              <a:t>MMJ099 - RY TANORA Ô, MET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Ry tanora ô, meteza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Jeso miangav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Ô ! afoizo re ny o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sao dia mani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Na mangirifiry az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tsy hisy hanen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Raha mandà ny rat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99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0848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90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789400" y="4929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ahoma"/>
              </a:rPr>
              <a:t>MMJ099 - RY TANORA Ô, MET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Ry tanora ô, meteza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Jeso miantso a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Aoka Izy irery no fidio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ba ho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ny hatsaran-toet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ia hitombo e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Ka handresy hatran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99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991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90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89400" y="4929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ahoma"/>
              </a:rPr>
              <a:t>MMJ099 - RY TANORA Ô, MET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Ry tanora ô, meteza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Jeso Mpitar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'Ndeha hitady 'reo fan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ila famonje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Ny talentanao rehet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ia hitob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Ianao no sambat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99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991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0848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89400" y="4929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39:10Z</dcterms:modified>
  <cp:revision>108</cp:revision>
  <dc:subject/>
  <dc:title>Tiona Advantista</dc:title>
</cp:coreProperties>
</file>