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E3C01-4D57-4016-BD6A-C7A2889E8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02868-AE2C-4A62-8E56-381061D5B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77CAC-A303-461B-9900-AB7FDACF8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A78A2-9B9C-49D2-8A05-2BA84FDCC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CC1F4-F93B-4385-84D3-8F3832560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782B6-5E51-4419-B7DF-6381329B6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6DB98-B5BC-425E-AE2D-52CE70953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BE715-EADB-4EFD-BBEB-729721EDD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8FA70-FA4F-4E23-95C3-DAE063A2A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22DCF-75FD-4FAF-8126-ED5760BDD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49097-319B-48B5-8275-38DCDDF7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40B01-E4CD-4233-9384-21D4D3CCE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BE3B6-558B-4172-8223-C3DD0617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0F235-F6E3-43D4-AAEB-031C419D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5F4C8-437A-41F2-8010-5008CF820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6117E-EF4A-451A-8FC8-9949F95EC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138B5-469C-4EC5-AC36-758661BFD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24737-DA1C-465D-A3C0-CF17A3EA5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7473A-8366-478A-BD6B-2703DEA24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FC943-81F1-4D6D-BA8E-E6122CE5A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D14E8-D444-4964-B700-B77874E1C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20A20-C484-4E56-A95B-9C87AD9C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600A0-5066-47E6-99CA-70572EC7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8744F-E186-42B2-93DE-448F2B65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505f52"/>
                </a:gs>
                <a:gs pos="100000">
                  <a:srgbClr val="46564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d8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48574a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4351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566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566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526454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465648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526454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465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65648"/>
                </a:gs>
                <a:gs pos="50000">
                  <a:srgbClr val="4b5a4d"/>
                </a:gs>
                <a:gs pos="100000">
                  <a:srgbClr val="46564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cecb2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c991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ececb2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C3390-C969-4F97-98EC-122EB852EBD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505f52"/>
                </a:gs>
                <a:gs pos="100000">
                  <a:srgbClr val="46564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d8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48574a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4351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566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566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526454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465648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526454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465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65648"/>
                </a:gs>
                <a:gs pos="50000">
                  <a:srgbClr val="4b5a4d"/>
                </a:gs>
                <a:gs pos="100000">
                  <a:srgbClr val="46564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ecb2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E70A2-6058-475D-8DDE-44BCFA00891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595008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INANA ARA-PANAH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anoloran-te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. RAVONINJATOVO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Marjorie LEWI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6d8771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d8771"/>
                </a:solidFill>
                <a:latin typeface="Arial"/>
                <a:ea typeface="Arial"/>
              </a:rPr>
              <a:t>MMJ095 - AVIA RY TANO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>
            <a:hlinkClick r:id="rId1" action="ppaction://hlinksldjump"/>
          </p:cNvPr>
          <p:cNvSpPr/>
          <p:nvPr/>
        </p:nvSpPr>
        <p:spPr>
          <a:xfrm>
            <a:off x="88434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d8771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>
            <a:hlinkClick r:id="rId2" action="ppaction://hlinksldjump"/>
          </p:cNvPr>
          <p:cNvSpPr/>
          <p:nvPr/>
        </p:nvSpPr>
        <p:spPr>
          <a:xfrm>
            <a:off x="884844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d8771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>
            <a:hlinkClick r:id="rId3" action="ppaction://hlinksldjump"/>
          </p:cNvPr>
          <p:cNvSpPr/>
          <p:nvPr/>
        </p:nvSpPr>
        <p:spPr>
          <a:xfrm>
            <a:off x="88434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d8771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>
            <a:hlinkClick r:id="rId4" action="ppaction://hlinksldjump"/>
          </p:cNvPr>
          <p:cNvSpPr/>
          <p:nvPr/>
        </p:nvSpPr>
        <p:spPr>
          <a:xfrm>
            <a:off x="88344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d8771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ececb2"/>
                </a:solidFill>
                <a:latin typeface="Tahoma"/>
              </a:rPr>
              <a:t>Ankizy Advantista – Miaraka mihira amin’i Jesosy</a:t>
            </a:r>
            <a:endParaRPr b="0" lang="en-US" sz="1900" spc="-1" strike="noStrike">
              <a:solidFill>
                <a:srgbClr val="ececb2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8771"/>
                </a:solidFill>
                <a:latin typeface="Tahoma"/>
              </a:rPr>
              <a:t>MMJ095 - AVIA RY TANO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c9916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1" i="1" lang="pt-BR" sz="3600" spc="-1" strike="noStrike">
                <a:solidFill>
                  <a:srgbClr val="ffffff"/>
                </a:solidFill>
                <a:latin typeface="Corbel"/>
                <a:ea typeface="Arial"/>
              </a:rPr>
              <a:t>Avia ry tanora, avia mandros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rbel"/>
                <a:ea typeface="Arial"/>
              </a:rPr>
              <a:t>Araho Jesosy 'Lay Mpamonj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Isika rehetra samy hankat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Hiara mandresy ny ratsy ho l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884844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d8771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88434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d8771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>
            <a:hlinkClick r:id="rId3" action="ppaction://hlinksldjump"/>
          </p:cNvPr>
          <p:cNvSpPr/>
          <p:nvPr/>
        </p:nvSpPr>
        <p:spPr>
          <a:xfrm>
            <a:off x="88344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d8771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>
            <a:hlinkClick r:id="" action="ppaction://hlinkshowjump?jump=firstslide"/>
          </p:cNvPr>
          <p:cNvSpPr/>
          <p:nvPr/>
        </p:nvSpPr>
        <p:spPr>
          <a:xfrm>
            <a:off x="88336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d8771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8771"/>
                </a:solidFill>
                <a:latin typeface="Tahoma"/>
              </a:rPr>
              <a:t>MMJ095 - AVIA RY TANO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c9916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Avia ry tanora ô, ka mba sah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Handresy ny ota izay mitaon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'Lay filohantsika miandry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atona, Azy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88434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d8771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8434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d8771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>
            <a:hlinkClick r:id="rId3" action="ppaction://hlinksldjump"/>
          </p:cNvPr>
          <p:cNvSpPr/>
          <p:nvPr/>
        </p:nvSpPr>
        <p:spPr>
          <a:xfrm>
            <a:off x="88344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d8771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>
            <a:hlinkClick r:id="" action="ppaction://hlinkshowjump?jump=firstslide"/>
          </p:cNvPr>
          <p:cNvSpPr/>
          <p:nvPr/>
        </p:nvSpPr>
        <p:spPr>
          <a:xfrm>
            <a:off x="88336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d8771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8771"/>
                </a:solidFill>
                <a:latin typeface="Tahoma"/>
              </a:rPr>
              <a:t>MMJ095 - AVIA RY TANO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c9916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miaramilan'i Jeso Kris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ana filamatra tsra tokoa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madio fo sy handroso fit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rina sy tsara toetra av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8434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d8771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84844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d8771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8344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d8771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88336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d8771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8771"/>
                </a:solidFill>
                <a:latin typeface="Tahoma"/>
              </a:rPr>
              <a:t>MMJ095 - AVIA RY TANO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c9916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keko, ry Tompo, 'zany antso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indro ny foko raiso ka sas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omeo ahy ny fanahinao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ditra tamin'ny lasa avel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8434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d8771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84844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d8771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8434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d8771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88336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d8771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c9916"/>
                </a:solidFill>
                <a:latin typeface="Times New Roman"/>
                <a:ea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5</a:t>
            </a:r>
            <a:r>
              <a:rPr b="1" i="1" lang="en-US" sz="3600" spc="-1" strike="noStrike" baseline="30000">
                <a:solidFill>
                  <a:srgbClr val="ffffff"/>
                </a:solidFill>
                <a:latin typeface="Times New Roman"/>
                <a:ea typeface="Arial"/>
              </a:rPr>
              <a:t>ème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Coupl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8771"/>
                </a:solidFill>
                <a:latin typeface="Tahoma"/>
              </a:rPr>
              <a:t>TITRE DU CANTIQ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8771"/>
                </a:solidFill>
                <a:latin typeface="Tahoma"/>
              </a:rPr>
              <a:t>TITRE DU CANTIQ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765000"/>
            <a:ext cx="9144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c9916"/>
                </a:solidFill>
                <a:latin typeface="Times New Roman"/>
                <a:ea typeface="Arial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6</a:t>
            </a:r>
            <a:r>
              <a:rPr b="1" i="1" lang="en-US" sz="3600" spc="-1" strike="noStrike" baseline="30000">
                <a:solidFill>
                  <a:srgbClr val="ffffff"/>
                </a:solidFill>
                <a:latin typeface="Times New Roman"/>
                <a:ea typeface="Arial"/>
              </a:rPr>
              <a:t>ème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Coupl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1-05-28T06:14:30Z</dcterms:modified>
  <cp:revision>91</cp:revision>
  <dc:subject/>
  <dc:title>Tiona Advantista</dc:title>
</cp:coreProperties>
</file>