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0675-B389-4FD5-AC7B-C4BCE296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B8FB-5841-4F89-8D3B-AD64CC1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D417-3B28-42C2-85E6-CD9E2BDF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E9E6-A810-4875-824D-22B8A596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843E-FC44-4395-A7B4-ECADAC5B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CC02-F013-46E9-9BF8-1461DFB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377-6916-46A5-9DF6-A5899EA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08AF-475E-44D8-AA69-44A01B8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DA8-49C3-4A5B-8692-6DA2AE3A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2EC-0DBA-4809-9299-F5D4302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3017-1276-4585-905D-6BF2165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C598-EDB2-43E1-8824-5DC414D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216D-01BE-4D3D-BF21-901E2B7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647F-61D1-4DF4-B32F-3CAAF78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666E-F135-4862-AE77-0E9576C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3F6-485F-482B-931D-8DE56181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80E-43B1-45CC-8727-A5E2977E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0F89-D6EC-42A5-BD1E-F2076857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FC8F-B198-462D-B8B2-3BC0057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609E-44FD-4ED2-AECB-E3758890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4C78-C49B-4A7A-A4C8-BBDC8938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5CB0-AFD0-4AF4-87F7-7027972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0F4B-8F4A-4031-9D34-5162C13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7427-473C-415D-BF4C-D905A54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9B1-3A21-4EA1-B03A-C11B599F4B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F11-9603-4FDB-B2F0-64A6D92FC0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6 – FANTATR’I JESO AV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6 – FANTATR’I JESO AVOK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ntatr'i Jesosy av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'Zay lazaina sy 'zay ata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y eritreritrao ao am-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miafina amin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mihintsy anie</a:t>
            </a:r>
            <a:r>
              <a:rPr b="0" lang="fr-FR" sz="3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6 – FANTATR’I JESO AVOK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itan'i Jesosy avo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orbel"/>
                <a:ea typeface="Arial"/>
              </a:rPr>
              <a:t>Rehefa mandainga isik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orbel"/>
                <a:ea typeface="Arial"/>
              </a:rPr>
              <a:t>Mangalatra na tsy mank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miafina amin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sy misy miafina am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6 – FANTATR’I JESO AVOK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Tompo Jesosy von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amela ny ota rehetr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anova ny toetra ratsy 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'Zay miantso Azy ampi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iany tokoa is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36:55Z</dcterms:modified>
  <cp:revision>38</cp:revision>
  <dc:subject/>
  <dc:title>Tiona Advantista</dc:title>
</cp:coreProperties>
</file>