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AE9-D534-42F5-82F2-DC9A7013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C60-1EA8-4F7C-89EB-601B0EB2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352-7D7F-4D01-8A26-8EA7AA95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BD2-A287-464E-8937-671E84AD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5E70-B0FA-4552-BADE-0FFA99D9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45E3-4BDF-4161-94D2-40936517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5848-0B38-4390-B56C-1FBA84AC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EA98-8C36-48C0-989F-2DE38AE4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CD28-80FF-47CC-B7A4-2BAA89DB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04E7-A1FB-41E2-9642-4405AD68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426C-E4E2-4958-ABA1-7AAEBD49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244-E8F2-41DA-838C-3C362AE4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4967-7AEB-450D-82F9-8EE2AFE9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DDE6-9E1D-4782-90FF-56445533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BB6A-202A-4C6C-B3DC-69D0F5F6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0FDB-685F-4278-ACFD-36D7DE20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FDF5-AF42-4276-ACF2-41D5DA37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908-E59C-4664-BD76-4F907F46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B83-6A0C-4710-A255-AF5DB5F1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7DD-EF22-4739-82A1-9B5C6264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29D-D3D1-45C8-9941-2BEF4422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1EC-4AB8-4BFE-A969-B0065D11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9F9-2183-48A1-85E4-7D3BA29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D47-BEF0-48C1-8D07-7C462B4A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2CDD-314A-4DD3-9C4F-59F97692C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31B6-D91E-44DB-B526-3B7050827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RAZAFIMAHAFAL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bb5f03"/>
                </a:solidFill>
                <a:latin typeface="Times New Roman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MMJ010 – TSOFY TSARA NY SOD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ec94"/>
                </a:solidFill>
                <a:latin typeface="Tahoma"/>
              </a:rPr>
              <a:t>Ankizy Advantista – Miaraka Mihira amin’i Jesosy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810280" y="5925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0 – TSOFY TSARA NY SODIN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ofy tsara ny sod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dreo koa ny lokang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nao ezaho mba ho re iza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hiderana Ilay Mpamonj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itantana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81496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MMJ010 – TSOFY TSARA NY SODIN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tebiteby avel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ny sorisorinao ape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tanan'i Kr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tok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hitondra ny en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iada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810280" y="5925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881496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0:52:35Z</dcterms:modified>
  <cp:revision>37</cp:revision>
  <dc:subject/>
  <dc:title>Tiona Advantista</dc:title>
</cp:coreProperties>
</file>