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0F87-DE11-4EFD-9DF6-4B467476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5FA4-C297-400C-AFC3-E90CE0E9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2BCF-3F09-4200-B9D2-40FA04B2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EF95-48A1-4C47-9588-1B5208D6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A8C9-3948-4DB9-A375-8AC1E53C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C29D-17AD-4DEC-9DFF-54C0351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A87E-A6A9-44A7-9A38-B9506E1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41C2-701F-4ED0-AA6F-7CD3A1F5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D666-5387-40E8-A0CB-181F29E6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D591-26D2-45C1-ABF2-C5DBA742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2C86-054B-47C2-BC47-5144A5F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6ADF-8945-435C-9061-19EBD6A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150A-238E-4F35-9583-780245C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1597-E8A6-427E-A68F-EFC4BC8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C195-1FEE-4C20-AFAB-DEA86306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575C-7432-4CA3-ADFF-E2F2C4F9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8E18-0A33-4D4B-B175-299BC119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9902-E24A-4200-862B-E63AD88D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AF0E-81FF-4623-84BE-D9803A89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6E99-6E7F-4383-A3F0-E68BB5C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D8DC-116A-4DA8-B567-EB039D86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9CE1-7B5A-45DE-B82F-D20625C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3F72-A779-4D56-9858-55259D7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302B-1E0B-418C-BEC6-D0D950C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CDBA-C89B-40A9-87A8-76D3B35300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5E5A-4B9B-4ACC-BDCC-4A44C5AEDA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lara M. STRIPL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4 – MISAOTRA ANAO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243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2432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4 – MISAOTRA ANO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Jes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ohon'ny fitah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amin'ny herin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iarahanay t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ko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oho ireo tantar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ohenoinay teo amin'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Sekoly sabat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243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290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4 – MISAOTRA ANO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mpio 'zahay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hendry toa 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haneso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ho tia na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e maniry ko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ahaka 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itrapon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o hataonay hat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82432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290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21:40Z</dcterms:modified>
  <cp:revision>37</cp:revision>
  <dc:subject/>
  <dc:title>Tiona Advantista</dc:title>
</cp:coreProperties>
</file>