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E7469-540B-4704-B931-B52CB1636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3AD6B-BAC9-488D-B8B1-CBA6740C1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15818-9ED7-41E3-A205-82120D0AA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D36DA-BE68-40FD-942F-002D204D3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9FA38-58F0-4678-A8EF-2A4A2F822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51E4A-9E84-4A69-8458-F374F2D8E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8485D-258D-4302-8039-20FD04512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D545C-3394-4675-B77A-95D78FD0C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F80AF-32DB-4D52-A194-3FA902E15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DA344-CC1D-437E-8F38-BB29935C6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25951-EFD7-4257-9500-3A5C5AA96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42626-82D9-45F2-A1D0-BF810325E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4E90B-18E9-4160-8B82-5D8C026F9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63E7D-9DF6-4932-B321-BD0D3DF4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2FBB2-DDD4-424B-A24E-7E7014C69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4DE19-39A5-44FA-BFB1-F79F00312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342E8-D7C5-4C2C-ABE9-D3123D034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73003-4CF3-40C7-9A10-6EAFE15C3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DB94F-C2DD-484E-8486-9426A5618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DD7E1-B341-4EB3-B0D6-74B22B826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25C88-5297-4987-86D3-C74A4DED4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C5D79-8CBD-4C9F-A6AD-B59626E0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4B673-A5C1-4AD7-9FC9-FD1FAA09B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5FB29-A31C-4A5E-837E-0B993F43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5b59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d8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85756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751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5250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525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75755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8dec6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b8dec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6E2CB-F2A6-4A43-89A0-4DD84688C3B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5b59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d8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85756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751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5250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525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75755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8dec6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3D25B-EF82-4B98-B0F9-8238E7674C0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NDRIAMANIT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saorana sy fider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ZAFIMAHAFALY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H. et S. GRANDJEA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d8784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e0a5"/>
                </a:solidFill>
                <a:latin typeface="Arial"/>
                <a:ea typeface="Arial"/>
              </a:rPr>
              <a:t>MMJ02 – HO DERAINA I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b8dec6"/>
                </a:solidFill>
                <a:latin typeface="Tahoma"/>
              </a:rPr>
              <a:t>Ankizy Advantista – Miaraka Mihira amin’i Jesosy</a:t>
            </a:r>
            <a:endParaRPr b="0" lang="en-US" sz="19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28" name="">
            <a:hlinkClick r:id="rId1" action="ppaction://hlinksldjump"/>
          </p:cNvPr>
          <p:cNvSpPr/>
          <p:nvPr/>
        </p:nvSpPr>
        <p:spPr>
          <a:xfrm>
            <a:off x="881028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881028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>
            <a:hlinkClick r:id="rId3" action="ppaction://hlinksldjump"/>
          </p:cNvPr>
          <p:cNvSpPr/>
          <p:nvPr/>
        </p:nvSpPr>
        <p:spPr>
          <a:xfrm>
            <a:off x="8810280" y="5545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>
            <a:hlinkClick r:id="" action="ppaction://hlinkshowjump?jump=firstslide"/>
          </p:cNvPr>
          <p:cNvSpPr/>
          <p:nvPr/>
        </p:nvSpPr>
        <p:spPr>
          <a:xfrm>
            <a:off x="880056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8784"/>
                </a:solidFill>
                <a:latin typeface="Tahoma"/>
              </a:rPr>
              <a:t>MMJ002 – HO DERAINA I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cc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Ho deraiko I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Ry Mpamonjiko ô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Nanome aina ho ah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Fo sy saina ho a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Masoandro, sakafo sy zava-ts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Ho deraiko I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Ry Mpamonjiko ô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81028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rId1" action="ppaction://hlinksldjump"/>
          </p:cNvPr>
          <p:cNvSpPr/>
          <p:nvPr/>
        </p:nvSpPr>
        <p:spPr>
          <a:xfrm>
            <a:off x="881028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>
            <a:hlinkClick r:id="" action="ppaction://hlinkshowjump?jump=firstslide"/>
          </p:cNvPr>
          <p:cNvSpPr/>
          <p:nvPr/>
        </p:nvSpPr>
        <p:spPr>
          <a:xfrm>
            <a:off x="880056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8784"/>
                </a:solidFill>
                <a:latin typeface="Tahoma"/>
              </a:rPr>
              <a:t>MMJ002 – HO DERAINA I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cc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deraiko I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Mpamonjiko ô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Nho ny Ten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Izay nambar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Ao anatin'ny baiboly Mas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Ho deraiko I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Ry Mpamonjiko ô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81028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810280" y="5545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>
            <a:hlinkClick r:id="" action="ppaction://hlinkshowjump?jump=firstslide"/>
          </p:cNvPr>
          <p:cNvSpPr/>
          <p:nvPr/>
        </p:nvSpPr>
        <p:spPr>
          <a:xfrm>
            <a:off x="880056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8784"/>
                </a:solidFill>
                <a:latin typeface="Tahoma"/>
              </a:rPr>
              <a:t>MMJ002 – HO DERAINA I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cc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Ho deraiko I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Ry Mpamonjiko ô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Fa na dia ny a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Dia nafo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Teo an-kazo fijaliana mba ho a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Ho deraiko I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  <a:ea typeface="Arial"/>
              </a:rPr>
              <a:t>Ry Mpamonjiko ô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81028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810280" y="5545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>
            <a:hlinkClick r:id="" action="ppaction://hlinkshowjump?jump=firstslide"/>
          </p:cNvPr>
          <p:cNvSpPr/>
          <p:nvPr/>
        </p:nvSpPr>
        <p:spPr>
          <a:xfrm>
            <a:off x="880056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8784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RAZAFIMANANTSOA</cp:lastModifiedBy>
  <dcterms:modified xsi:type="dcterms:W3CDTF">2011-01-06T00:15:42Z</dcterms:modified>
  <cp:revision>34</cp:revision>
  <dc:subject/>
  <dc:title>Tiona Advantista</dc:title>
</cp:coreProperties>
</file>