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92D-653E-447D-86FF-B9A8C592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75C-C226-4434-AF84-9615657C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60F-A493-420D-94B2-9BAB0E8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A06-E926-43F2-8C94-2649E866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C3B2-ABE8-445C-9811-F2F20ADE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FD6D-5D28-4618-90BB-1DE0571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216-1BE6-41CD-8E19-737351E4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B2C-3A90-4AF0-B668-8AA576FC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7AA-E10F-418D-A247-AE32F061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A9A9-C933-467E-93F2-E8E6787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DBE-88A9-4EFA-A6EF-77E2599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ABD-7A6B-403B-9157-E30F5E64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3AD3-A645-42F2-8344-E3B711BA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F27-6460-4019-93E4-9210106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79F0-E843-4FD0-A250-F2DA8655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208-0140-4772-9352-791883AB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947-B079-4752-886E-B8DB10D6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BB9-ADA7-425F-A19A-25335CC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4E8-D278-49C6-BFA0-1CA1CD7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70D-E0E5-4F62-BBBE-AFCEFFF9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607-1970-42CB-89C3-1D680C6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53B-975A-4C53-A154-0E2764C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273-6773-46E1-8773-A45F8E1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B95-04ED-40C8-84F1-F2C2F75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9EE-ECE7-47BC-B769-7120C8B00131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E01-8B49-4D4A-B48A-DAB9B8A51BF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Ellie CALVINS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6 – HO AVY INDRAY JESO KRIS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0280" y="5826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14960" y="62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8810280" y="5429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6 – HO AVY INDRAY JESO KRISTY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 avy indray Jesosy Kris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aka ny azy hafindra ar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ely sisa ny fotoa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miomàna avo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10280" y="5826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14960" y="62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14960" y="501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6 – HO AVY INDRAY JESO KRISTY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anjely no hanango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reo voavonjy 'zay hiakatr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trompetra no ho tsof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anakoako maf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14960" y="62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10280" y="5429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14960" y="501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MJ026 – HO AVY INDRAY JESO KRISTY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'Reo tsy mahalala ilazao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 hilaozana 'zao hita izao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ho any an-tany vaov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amboarina ho antsika</a:t>
            </a:r>
            <a:r>
              <a:rPr b="1" i="1" lang="fr-F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810280" y="5826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10280" y="5429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14960" y="501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50:56Z</dcterms:modified>
  <cp:revision>39</cp:revision>
  <dc:subject/>
  <dc:title>Tiona Advantista</dc:title>
</cp:coreProperties>
</file>