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1BC-214B-4058-9E78-4FFE64E9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2F8-7AE0-4771-A115-907E4F10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397-BEE7-469E-8D31-B78A1892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5C1-4702-4B41-9901-96F269E1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2F6E-2310-422F-B6CB-747E7636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C2F7-1D99-438C-80B4-3E62362A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9880-003F-4EA0-AE95-7A3C148A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495E-056F-4601-9302-0909ECC2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E3A0-FAF7-46BD-80E1-9AF15294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D352-1B98-4789-B33B-028E70CB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79B6-A2BC-4222-9D02-7DFD6901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940-6C27-46ED-8AED-F22F8D70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6107-AE0F-4671-8477-2DB5BDD5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7749-0A90-49B8-BE07-58FA3165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8466-C3A3-449F-A3C5-C24CEF91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351D-8915-4DB0-B6DB-7DABC649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5A57-D322-4587-B5AC-7B23DBCB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954-BFB1-4114-90A7-994783BA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6E1-7948-4327-8A49-A79BA826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73F-E38B-4A6C-9E88-CF1F6920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260-D6E3-4133-A889-E3EA33A3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0AE-45F7-4200-A8A0-C22C7340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49E-D141-4D0D-8564-02A440AC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F3C-D194-420D-8C47-02D5765A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8DD8-83F3-4018-AF8A-E6E78469D5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272E-6326-41EC-B225-A511C0AB12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ff"/>
                </a:solidFill>
                <a:latin typeface="Arial"/>
                <a:ea typeface="Arial"/>
              </a:rPr>
              <a:t>MMJ092 – VITA HATREO INDRAY NY FIANAR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799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5ffff"/>
                </a:solidFill>
                <a:latin typeface="Tahoma"/>
              </a:rPr>
              <a:t>Ankizy Advantista – Miaraka mihira amin’i Jesosy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N. RAVONINJATOVO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Fanny B. EARLE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Corespondance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MMJ092 – VITA HATREO INDRAY NY FIANARAN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Vita hatreo indray ny fiana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Tompo ô, mba henoy ny fivavak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orbel"/>
              </a:rPr>
              <a:t>Ô ! tahio 'zahay ka tantano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orbel"/>
              </a:rPr>
              <a:t>Hiaraka aminao ho sambatr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orbel"/>
              </a:rPr>
              <a:t>Am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789400" y="6022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4:56:53Z</dcterms:modified>
  <cp:revision>105</cp:revision>
  <dc:subject/>
  <dc:title>Tiona Advantista</dc:title>
</cp:coreProperties>
</file>