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C5C-F19E-4B8C-A19B-EC470918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7FD-5FC0-4192-A7F6-04288DE3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930-39D6-4A8E-B2C2-FE75E54A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843-6725-416D-9ACD-8A64360F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9E8-CFB4-48DD-A16B-C26EFB18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9DA6-8E58-4CDF-A4CC-735D2876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E742-B3F4-4ABE-800D-72D97D6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A5B4-21CE-442D-A4F6-4167ED6E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161D-FC4D-4679-BA4C-91E8AB7B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895-B1DD-433E-9A53-A9C97480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D2DC-39E3-4966-A20F-260E758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5F3-2837-4D6F-A7DC-30EFBFE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17AD-D151-4136-8CAF-4843D7B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F844-22CC-498F-A4BD-28E3195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4E1-32EF-47C5-A2AB-C18A4E6F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4410-444F-4D36-8246-03BBCF00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7C2-0454-4C4B-9B59-50546EC5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26A-F61C-469C-B291-EEB7A395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0CA-C42B-42A7-AD34-57FB70E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76C-1462-46AC-9629-7919D7DF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701-4F48-43F6-A551-F8A4B34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8D5-020D-4AB1-A294-F001A28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046-A85D-4E3C-B699-EF19C5CB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1A7-BFA3-4DB6-8CBF-7B7FE6E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A4A-0BF6-4159-9D93-F571669B5E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96B-0C55-41E8-B271-561262A6F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C. L. PARKER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Arial"/>
                <a:ea typeface="Arial"/>
              </a:rPr>
              <a:t>MMJ014 – MANENO NY LAKOL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Ankizy Advantista – Miaraka Mihira amin’i Jesosy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822160" y="6323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4 – MANENO NY LAKOL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y lakolosy hen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Miant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Ary toa milaza ho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Efa o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Aoka hangin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a et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Hira fid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o aoka h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22160" y="6323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2160" y="6323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09-07-28T17:35:12Z</dcterms:modified>
  <cp:revision>36</cp:revision>
  <dc:subject/>
  <dc:title>Tiona Advantista</dc:title>
</cp:coreProperties>
</file>