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3E6B-2589-475E-80D6-3EDE62BA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BBC3-289A-4E05-8E29-AA6D2C27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AFAF5-7E07-41B1-A34D-E4B046B0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435C-2704-45AB-A158-FFCE9816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025B-6055-458B-AAD5-F73588E0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02D9-9ABA-4DEA-9551-5849A44A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408E-3D34-48DD-A898-A76FE143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F3EC-1B07-4806-8146-E2E18C86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FB4A-4BCB-4F03-AB83-215B59CA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42CF-D29E-4935-AE2F-B93DAE4D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DC26-EAEB-4861-A3D0-96E21E60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FC897-AA7B-4DEF-ABD0-4A110C87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A640-C030-4C39-8736-F83D21ED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2323-70B1-4716-9FD4-4813111A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0A18-82B1-457C-9348-7C3CC56D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60D5-B48E-4EC4-8602-42ECF243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98DF-E014-4908-8222-958E8F37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3040-20D6-4E3B-A8BA-FCB41A07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0926-92EB-4685-91E5-5A87F110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F2D29-55C8-43A7-9B4C-632ED5C0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C143-6141-4B5D-AB42-6935FC8B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038F-76E3-4CB3-866E-8B5C73AC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8CC06-2D20-40D1-919F-9D3E589C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B2C0D-450F-4634-A6E6-A7862D7B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009F-2DD0-4692-BE4A-A534D9F2F24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74F1-8C94-436A-9514-77994697FCB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KIZY SY FIANAKAVI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Ankizy sy fianakavi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N. RAVONINJATOVO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. Adèle FL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dddcc5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cc5"/>
                </a:solidFill>
                <a:latin typeface="Arial"/>
                <a:ea typeface="Arial"/>
              </a:rPr>
              <a:t>MMJ071 – NY ANKIZY REHETRA REHEFA SAMB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84340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88434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88344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cc5"/>
                </a:solidFill>
                <a:latin typeface="Tahoma"/>
              </a:rPr>
              <a:t>MMJ071 – NY ANKIZY REHETRA REHEFA SAMBAT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Ny ankizy rehefa samb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Mihira lalandava iza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oy izany no nanaovan'Andriamanitra 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4340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434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344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cc5"/>
                </a:solidFill>
                <a:latin typeface="Tahoma"/>
              </a:rPr>
              <a:t>MMJ071 – NY ANKIZY REHETRA REHEFA SAMBAT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Ny alika kely manao ho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O! o! o! o!   o! o! o! 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oy izany no nanaovan'Andriamanitra 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8434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8434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8344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cc5"/>
                </a:solidFill>
                <a:latin typeface="Tahoma"/>
              </a:rPr>
              <a:t>MMJ071 – NY ANKIZY REHETRA REHEFA SAMBAT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Ny saka kely manao ho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Miao! miao! miao! mia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oy izany no nanaovan'Andriamanitra 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434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4340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344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cc5"/>
                </a:solidFill>
                <a:latin typeface="Tahoma"/>
              </a:rPr>
              <a:t>MMJ071 – NY ANKIZY REHETRA REHEFA SAMBAT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Ny ganagana manao ho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Ga! ga! ga! ga!  ga! ga! ga! g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oy izany no nanaovan'Andriamanitra 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8434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4340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8434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17:52:52Z</dcterms:modified>
  <cp:revision>92</cp:revision>
  <dc:subject/>
  <dc:title>Tiona Advantista</dc:title>
</cp:coreProperties>
</file>