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64F-23F6-4A7E-84EB-D9214B0B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1BC-610F-4476-8A75-687AB6CF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D37-1B63-4D16-894F-79F7A619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4F5-EE26-457A-84D3-DD84B126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B8D3-CD0A-4FF6-8D15-4002DBBF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86BB-F8F1-4370-97FF-67CA14A2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FA8B-2050-4E62-88B4-2023BF35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0F78-ED3D-4A68-BD21-E1BD6B05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8DEA-6FBD-49F4-9096-06FBAD5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BACE-51F3-422D-85DF-2DED0231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E17-E98B-4E4E-8041-FB29839A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A8B-25BD-45D3-883F-AFF11F1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486-496E-4BC0-BBAB-A9BAC3F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F178-17A0-41D8-B3C8-4FAC9EB5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E367-64F0-4545-8FD2-3F28774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4DE4-9D4F-4D41-A331-E23405D4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9896-6BD2-4112-9C9F-A2D5D78D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BA8-A966-436A-BA50-B61B930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A92-A8E7-454F-8B68-9F56AB4A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B49-C762-4D90-8A5F-76E09134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D8C-B606-402C-9128-1CF89D1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0CD-8D93-46E1-AA51-0AA4067D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565-9C3D-43A4-9F37-7730F45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1E3-9303-45EC-BA0D-337D2054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21BA-BBDE-4C6D-BE46-84B42060C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AE1-BE9D-4691-90CF-5ECCDF64C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 R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KOTONJANAHARY (BY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KOTONJANAHARY (BY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9 – ANDRIAMANITRA Ô, R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243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2432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9 – ANDRIAMANITRA Ô, RAIN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 R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be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tokoa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rovana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velon'ai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ahatratra izao andronao lehib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243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290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9 – ANDRIAMANITRA Ô, RAIN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, saina sy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Ray di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, maso, t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ô! mba ar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zon'i Sa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madi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kat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nay ô, hatrizao</a:t>
            </a:r>
            <a:r>
              <a:rPr b="0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432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290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9 – ANDRIAMANITRA Ô, RAIN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aiza na aiza aleh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za af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antatrao fa soa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mba ator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zo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ny vav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nay ô! mane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243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2432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290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21:00Z</dcterms:modified>
  <cp:revision>38</cp:revision>
  <dc:subject/>
  <dc:title>Tiona Advantista</dc:title>
</cp:coreProperties>
</file>