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C2BD-225C-4EB5-80BC-7B0AC8F9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113D-F3D7-4E97-A4F0-EED66321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F8CB-3948-4D96-AB1D-F9D057F5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4401-582D-4EF1-9E16-86B35890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60CC-FBB3-4BA7-8B04-DEDD649E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49C6-994B-4ED6-805D-A1E639BC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16F6-D41C-4AC0-B432-149638B4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B220-7AC0-4DD8-943C-D099C6CF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5348-C794-4923-82E2-18BD3F06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7F6D-1A2C-4B01-BE9F-A5F98123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4E97-DE98-4532-9BD7-7A1FA94D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6D1A-31E3-4C93-A24D-76BDED8B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CDBF-D40D-45D5-91E6-BC3A5E2A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356F-89D7-4095-9637-F59EBBCA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6F9F-B96D-479B-A551-0095AD15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3B2F-E2D0-49D3-A4CB-0980FA53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1753-287F-46BD-8DAE-570FA63A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FB85-8D18-4FA2-B9CC-D5B37758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3D3F-F6BF-433F-90B4-666678A8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4152-C2F1-473D-8D5C-1F53E64A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0BBF-1DE4-475E-8052-56F82126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8F9C-620E-43B4-8D04-0241F7A7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6341-F837-413E-934E-B6821F61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E2ED-2A61-4B9B-A474-0E363775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bbc6d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606d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5400-488E-45E9-9A7E-A46063811A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bbc6d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606d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8C13-2072-4E0C-B987-8B2D4E2EC6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FIAINANA ARA-PANAH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Fanoloran-te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(Tsy fantatra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Janet SAG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80acc4"/>
                </a:solidFill>
                <a:latin typeface="Times New Roman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acc4"/>
                </a:solidFill>
                <a:latin typeface="Arial"/>
                <a:ea typeface="Arial"/>
              </a:rPr>
              <a:t>MMJ101 - O! AMPIO, AMPIO AHO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884340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Ankizy Advantista – Miaraka mihira amin’i Jesos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acc4"/>
                </a:solidFill>
                <a:latin typeface="Times New Roman"/>
              </a:rPr>
              <a:t>MMJ101 - O! AMPIO, AMPIO AHO JE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6699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8080"/>
                </a:solidFill>
                <a:latin typeface="Corbel"/>
                <a:ea typeface="Arial"/>
              </a:rPr>
              <a:t>Ô ! ampio, ampio aho Jes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8080"/>
                </a:solidFill>
                <a:latin typeface="Corbel"/>
                <a:ea typeface="Arial"/>
              </a:rPr>
              <a:t>mba hitovy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8080"/>
                </a:solidFill>
                <a:latin typeface="Corbel"/>
                <a:ea typeface="Arial"/>
              </a:rPr>
              <a:t>Ô ! ampio, ampio aho Jes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8080"/>
                </a:solidFill>
                <a:latin typeface="Corbel"/>
                <a:ea typeface="Arial"/>
              </a:rPr>
              <a:t>mba hitovy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8833680" y="6035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8T06:50:57Z</dcterms:modified>
  <cp:revision>95</cp:revision>
  <dc:subject/>
  <dc:title>Tiona Advantista</dc:title>
</cp:coreProperties>
</file>