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E88-4812-41AE-BFF3-4F78277C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244-847E-4036-AF53-7F0F9EE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DA4-FBE5-456E-B8A4-257AD161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08F-95F9-4336-BC54-D75BFBE3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5C7-0C27-4920-AD81-42BE447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021-E811-4460-BDD6-D75C482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F79-F35B-47D2-B704-E7F5C970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3580-CD25-47E2-B8A2-F167695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4251-1337-410E-8EC5-34FE81CF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BD5-AFF6-4D0D-8903-4DF44C38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5488-EC56-439F-BBFB-BD80F54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2A2-5FAA-499B-8D73-6F5908C9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0DF-02F5-4DB9-9D85-55D8B76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4B2-33F4-4AE3-B219-A29D08B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2CF8-48F8-42D2-98D5-0C46EF53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8034-5C5A-48DA-BA9D-F0337D1D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F1A6-4DC1-473E-9F1C-46CC834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0A3-5F5F-4FB4-8047-FBDCE66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38C-8049-47AD-B42F-E24BB2C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D8E-D96A-4FFB-9613-AA349F9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4BF-89CE-4C85-B512-2427335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4FD-8CBF-479A-9B95-B8476C7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6DC-EC6D-4B10-B94D-161F4CD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5F6-E652-4C99-81DB-51AE210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CF0E-D683-4A7E-939E-D0F0D4657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CC7-1CCD-4F47-BBB3-63258506A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aymond BERNARD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aymond BERN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2 - INDRETO JES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27920" y="5064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88138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2 - INDRETO JESO IZAH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Jes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et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Jes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panav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827920" y="5064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8138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2 - INDRETO JESO IZAH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, dera no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Mpamonjy tsy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Jes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panav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8138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2 - INDRETO JESO IZAH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 iza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enoy ka val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saorana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tao et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827920" y="5064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8138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2 - INDRETO JESO IZAH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nania, nana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! ova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re mba ho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27920" y="5064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813880" y="6267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2 - INDRETO JESO IZAH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oary Jeso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ia 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mba hotahaf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etranao 'zay mi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7920" y="5064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22880" y="544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13880" y="5826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822880" y="46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8827560" y="4251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59:41Z</dcterms:modified>
  <cp:revision>33</cp:revision>
  <dc:subject/>
  <dc:title>Tiona Advantista</dc:title>
</cp:coreProperties>
</file>