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54E5-03C8-491C-B163-651B9645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270-B5A8-4E63-8F04-6EE33AB3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D24-3A29-49F0-9324-4D5546C2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F56-9C36-484E-B49B-FCF53041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4C52-27B6-4A44-9BA7-04AF5BAC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50EA-8DAD-4524-AFC5-00230BCC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4041-BD5B-4F81-93B4-026A599E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FF5B-335A-450B-BE9B-A15CA841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4B07-6B28-4F34-BF23-A872ED0F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0A7B-0145-4F27-A849-0DEE8336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1F32-CDBF-4882-B0E6-4DD65334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824-C1B1-4C26-8649-55FF992A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A03A-88FA-4244-9AC5-D2762602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1A0B-B4F2-4918-BF05-0B57A9A0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6B17-5242-4B46-BE71-1C5E947D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8B51-9EFE-485C-826F-93613F3B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4B6D-9CCE-4A7F-9447-0AC54A6A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3CA-CAC7-42A6-B87D-E394B103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40DE-7886-4F64-9091-A2765390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513-CDFD-482A-8E54-23922ECA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2C1-FE33-486F-A922-ED7342C5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83E-4A87-4A71-92C2-45927B92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519-98DB-4654-96C8-711C45DA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DB2C-9E36-439A-9F27-5373C4D0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90AD-5084-44DD-8F22-763DC0D26E4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7293-EEA7-4E13-9B0A-23C6707587B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Janet SAG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Janet S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  <a:ea typeface="Arial"/>
              </a:rPr>
              <a:t>MMJ087 - HE MISY MPAMAN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8843400" y="6308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Black"/>
              </a:rPr>
              <a:t>Ankizy Advantista – Miaraka mihira amin’i Jesos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MJ087 - HE MISY MPAMANG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e misy mpamangy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Salam ! bonjour salam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e misy mpamangy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lam ! bonjour salam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8833680" y="587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4:43:31Z</dcterms:modified>
  <cp:revision>90</cp:revision>
  <dc:subject/>
  <dc:title>Tiona Advantista</dc:title>
</cp:coreProperties>
</file>