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025F-4047-4B19-AC6A-926E3023B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4E83-0C94-4F1B-AA61-4EF8F81AC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7CE4-00DE-410D-843D-BD4A5D197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26A1-D62B-4E70-9923-03C533FA8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4F8BD-F4FF-45C8-A1F9-1C7C9D154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17DA1-C2BF-40FD-AC81-2F41691BD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B0974-703E-46BF-A0B2-0E0859534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C398F-3599-4B4D-B67F-836003054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ADF66-78F7-4C05-B2EF-FD4022B1E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0C490-BC71-4E21-A1CF-EC7791AD4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78AC7-89A8-42A6-B5F2-BC448439F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B491-1DB7-4104-B81C-7FD7D6630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73F7A-5885-4D29-96B4-A76272448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B642A-97D2-4F19-89EC-4CFA177B8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AD52D-6D58-481B-97B7-C420DA24A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DD5E5-6CF3-42FE-9079-823E79C9B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5CCC0-427F-4A12-91B4-0CF0D4C93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9049-CC05-450A-974A-B367C54F0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A907-9F27-4F4D-9CDC-D81477AA7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4796-4425-411F-B1B4-F954B5492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32E8-E831-4074-9BD1-E27301B68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A124-7306-4618-BDE9-84285CFA5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9C31-D066-4F15-9F18-7264774FD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2423-B1C7-44E8-8C68-7A5967E59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9CDB5-375B-414E-822F-9BE278CEC8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7823A-6507-4A4E-A3D2-7F3627BDBC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595008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 : ANDRIAMANIT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 : Jesosy Krist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 : Aimé RAOELIARIJAONA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 : Aimé RAOELIARIJAO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Correspondance</a:t>
            </a:r>
            <a:r>
              <a:rPr b="0" lang="fr-FR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bb5f03"/>
                </a:solidFill>
                <a:latin typeface="Times New Roman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bb5f03"/>
                </a:solidFill>
                <a:latin typeface="Arial"/>
                <a:ea typeface="Arial"/>
              </a:rPr>
              <a:t>MMJ059 – TAMIN’NY ALI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>
            <a:hlinkClick r:id="rId1" action="ppaction://hlinksldjump"/>
          </p:cNvPr>
          <p:cNvSpPr/>
          <p:nvPr/>
        </p:nvSpPr>
        <p:spPr>
          <a:xfrm>
            <a:off x="8843400" y="5661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b5f03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>
            <a:hlinkClick r:id="rId2" action="ppaction://hlinksldjump"/>
          </p:cNvPr>
          <p:cNvSpPr/>
          <p:nvPr/>
        </p:nvSpPr>
        <p:spPr>
          <a:xfrm>
            <a:off x="8848440" y="604188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b5f03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>
            <a:hlinkClick r:id="rId3" action="ppaction://hlinksldjump"/>
          </p:cNvPr>
          <p:cNvSpPr/>
          <p:nvPr/>
        </p:nvSpPr>
        <p:spPr>
          <a:xfrm>
            <a:off x="8843400" y="6423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b5f03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ec94"/>
                </a:solidFill>
                <a:latin typeface="Times New Roman"/>
              </a:rPr>
              <a:t>Ankizy Advantista – Miaraka mihira amin’i Jesosy</a:t>
            </a:r>
            <a:endParaRPr b="1" lang="en-US" sz="20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b5f03"/>
                </a:solidFill>
                <a:latin typeface="Times New Roman"/>
              </a:rPr>
              <a:t>MMJ059 – TAMIN’NY ALI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cccc00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Tamin'ny alina teny an-tsaha nisy hazavana b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'Zay nameno ny habakabaka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hazavana vetivety te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Ka raiki-tahotr'ireo mpiandry ondry fahiz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848440" y="604188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b5f03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>
            <a:hlinkClick r:id="rId1" action="ppaction://hlinksldjump"/>
          </p:cNvPr>
          <p:cNvSpPr/>
          <p:nvPr/>
        </p:nvSpPr>
        <p:spPr>
          <a:xfrm>
            <a:off x="8843400" y="6423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b5f03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>
            <a:hlinkClick r:id="" action="ppaction://hlinkshowjump?jump=firstslide"/>
          </p:cNvPr>
          <p:cNvSpPr/>
          <p:nvPr/>
        </p:nvSpPr>
        <p:spPr>
          <a:xfrm>
            <a:off x="8833680" y="5229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b5f03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b5f03"/>
                </a:solidFill>
                <a:latin typeface="Times New Roman"/>
              </a:rPr>
              <a:t>MMJ059 – TAMIN’NY ALI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cccc00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Fanahin'anjelin'ny lanitra nihira te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Ny voninahitra ho any amin'ny avo indrind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ffffff"/>
                </a:solidFill>
                <a:latin typeface="Corbel"/>
                <a:ea typeface="Arial"/>
              </a:rPr>
              <a:t>Ny voninahitra ho any amin'ny avo indrind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Ary fiadanana ho ety amin'ny ankasitrahan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843400" y="5661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b5f03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843400" y="6423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b5f03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>
            <a:hlinkClick r:id="" action="ppaction://hlinkshowjump?jump=firstslide"/>
          </p:cNvPr>
          <p:cNvSpPr/>
          <p:nvPr/>
        </p:nvSpPr>
        <p:spPr>
          <a:xfrm>
            <a:off x="8833680" y="5229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b5f03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b5f03"/>
                </a:solidFill>
                <a:latin typeface="Times New Roman"/>
              </a:rPr>
              <a:t>MMJ059 – TAMIN’NY ALI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cccc00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Mety ho alina koa rehefa kelikely e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No hiverina ety Jeso sy Ireo anjely marob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Ho raiki-tahotra indray angamb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izao tontolo iza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843400" y="5661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b5f03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848440" y="604188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b5f03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>
            <a:hlinkClick r:id="" action="ppaction://hlinkshowjump?jump=firstslide"/>
          </p:cNvPr>
          <p:cNvSpPr/>
          <p:nvPr/>
        </p:nvSpPr>
        <p:spPr>
          <a:xfrm>
            <a:off x="8833680" y="5229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b5f03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1-05-27T02:37:30Z</dcterms:modified>
  <cp:revision>88</cp:revision>
  <dc:subject/>
  <dc:title>Tiona Advantista</dc:title>
</cp:coreProperties>
</file>