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8C9D-5418-46DB-972B-5E6ABF381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D275-2283-41F2-9E58-1A59DA35E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176E-C408-4105-806A-4E7FFA994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3531-AAB2-4976-BBB0-F03465B9F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B2483-DA28-4134-AB67-54F9ECF94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325D2-7615-4F96-99A5-2259AC621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BC1A3-8A07-413B-A2D6-38974D416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05961-AA19-48B3-9ABF-1302D25B5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BB6CA-87D3-4855-8580-038281FFF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2AFCE-541F-4C07-8C94-0C8EC5457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0D01C-1283-43EE-A635-DC10DD053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A213-9175-4180-A368-426129FE4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59C41-42D5-4DDB-ACDF-49E328660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47D67-A937-480C-BDE0-11DC71163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CF93E-C9A9-475A-B58A-02B1D282F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1D937-F8FD-4A07-97F9-1A574D2BE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E10D3-34CE-4E56-A3B2-F7D80DD09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A15F-2EA0-421B-981C-BB3DD9839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49D7-C31B-4A73-BECE-6E909B472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889C-A70F-4D2A-AD9B-2F861A27B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8B1A-2B88-4910-A8EE-32EF1A182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1C31-799C-49D4-93AF-744CB8073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1695-046A-489C-994D-4E78417B1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7DFC-5984-4F2E-ACB6-D76C41805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0F995-812C-4A0C-B3D0-B9F15E3F501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09046-6755-4C11-B417-55F78F7B2CD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1.xm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a7c3e"/>
                </a:solidFill>
                <a:latin typeface="Arial"/>
                <a:ea typeface="Arial"/>
              </a:rPr>
              <a:t>MMJ073 – ZAZA HENDRY IZAH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>
            <a:hlinkClick r:id="rId2" action="ppaction://hlinksldjump"/>
          </p:cNvPr>
          <p:cNvSpPr/>
          <p:nvPr/>
        </p:nvSpPr>
        <p:spPr>
          <a:xfrm>
            <a:off x="8799120" y="55306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3" action="ppaction://hlinksldjump"/>
          </p:cNvPr>
          <p:cNvSpPr/>
          <p:nvPr/>
        </p:nvSpPr>
        <p:spPr>
          <a:xfrm>
            <a:off x="8799120" y="5911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4" action="ppaction://hlinksldjump"/>
          </p:cNvPr>
          <p:cNvSpPr/>
          <p:nvPr/>
        </p:nvSpPr>
        <p:spPr>
          <a:xfrm>
            <a:off x="880848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ahoma"/>
              </a:rPr>
              <a:t>Ankizy Advantista – Miaraka mihira amin’i Jesosy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</a:rPr>
              <a:t>Thème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</a:rPr>
              <a:t> : ANKIZY SY FIANAKAVIAN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</a:rPr>
              <a:t>Sous-thème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</a:rPr>
              <a:t> : Ankizy sy fianakav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</a:rPr>
              <a:t>Paroles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</a:rPr>
              <a:t> : Dera ARSON 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Tahoma"/>
              </a:rPr>
              <a:t>Musique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</a:rPr>
              <a:t> : Dera ARSON 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Tahoma"/>
              </a:rPr>
              <a:t>Corespondance 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4e4c"/>
                </a:solidFill>
                <a:latin typeface="Tahoma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MMJ073 – ZAZA HENDRY IZAH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Corbel"/>
              </a:rPr>
              <a:t>Zaza hendry izah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Corbel"/>
              </a:rPr>
              <a:t>Tsy mitabatab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Corbel"/>
              </a:rPr>
              <a:t>Ato am-piangonana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Corbel"/>
              </a:rPr>
              <a:t>(azo soloina hoe : "Ato an-dakilasinay"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Corbel"/>
              </a:rPr>
              <a:t>Dia mangina tsa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799120" y="5911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0848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789400" y="51595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MMJ073 – ZAZA HENDRY IZAH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Corbel"/>
              </a:rPr>
              <a:t>Jeso dia mijery a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Corbel"/>
              </a:rPr>
              <a:t>Sady falifal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Corbel"/>
              </a:rPr>
              <a:t>Izy dia maniry a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Corbel"/>
              </a:rPr>
              <a:t>Mba ho zaza hendr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799120" y="55306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80848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789400" y="51595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MMJ073 – ZAZA HENDRY IZAH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Corbel"/>
              </a:rPr>
              <a:t>Ny mpampianatra tia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Corbel"/>
              </a:rPr>
              <a:t>Ka henoinay tsa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Corbel"/>
              </a:rPr>
              <a:t>Dia mipetraka izah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Corbel"/>
              </a:rPr>
              <a:t>Tsy mitabatab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799120" y="55306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799120" y="5911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789400" y="51595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1-05-27T17:55:51Z</dcterms:modified>
  <cp:revision>107</cp:revision>
  <dc:subject/>
  <dc:title>Tiona Advantista</dc:title>
</cp:coreProperties>
</file>