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958-46C2-46A6-8625-5DDBDF6F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306-77EA-4B06-8CF1-C1C8A6E0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E60-D6A4-4CD2-AA07-90A27B8F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9B1-1462-46E2-B90F-F516F1AE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E62-8968-45F0-BE39-C7B33044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944-B8E3-4552-B33F-DDA1FA8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3B8-C7AA-4A0C-AB2D-D8784D6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B8B2-A47D-46D3-99C7-0831043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5AA-AAE9-4E0A-B23C-C8BA08B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DADA-B563-4D88-924C-F1C09ED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B89-2358-474B-BE66-1CC0E29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D85-4A3B-4DFD-AFF5-72DA869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BA15-E9D0-4AAB-A14B-BB60535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320E-64AC-4868-B887-731DF13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2C7D-F3B6-4B14-8623-3B23E2F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6C79-FE53-4EE1-8C7C-F216FB6D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F5AA-59B2-40F7-9DB4-C7951656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C92-D8EE-42B5-B4FF-5367804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F10-22C2-4A6F-A16F-9063500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B2F-88C2-4286-9D66-E8533F2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B9D-3ABD-4968-BCC0-3AC70EE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04A-C508-4FBA-AA0E-A04EEED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0C7-85AC-48EC-8BBE-17CAD2BE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7FC-79CE-4F2B-A6C1-699841F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600-C904-4102-ADD0-A1AA8158D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E07-0359-487B-9FA5-DC638B955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MMJ081 - </a:t>
            </a:r>
            <a:r>
              <a:rPr b="1" i="1" lang="en-US" sz="3600" spc="-1" strike="noStrike">
                <a:solidFill>
                  <a:srgbClr val="00ccff"/>
                </a:solidFill>
                <a:latin typeface="Arial"/>
              </a:rPr>
              <a:t>FALI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Fiarahabana, fanaovam-be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. R. MARNOËL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. R. MARNOËL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MJ081 - FALIFAL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Falifaly izahay,'zao ankehitrin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Fa mahita anareo, Ray sy Reny zokin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en-GB" sz="3200" spc="-1" strike="noStrike">
                <a:solidFill>
                  <a:srgbClr val="008080"/>
                </a:solidFill>
                <a:latin typeface="Corbel"/>
              </a:rPr>
              <a:t>feo 1</a:t>
            </a: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) Faly re (</a:t>
            </a:r>
            <a:r>
              <a:rPr b="1" i="1" lang="en-GB" sz="3200" spc="-1" strike="noStrike">
                <a:solidFill>
                  <a:srgbClr val="008080"/>
                </a:solidFill>
                <a:latin typeface="Corbel"/>
              </a:rPr>
              <a:t>feo 2,3,4</a:t>
            </a: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)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en-GB" sz="3200" spc="-1" strike="noStrike">
                <a:solidFill>
                  <a:srgbClr val="008080"/>
                </a:solidFill>
                <a:latin typeface="Corbel"/>
              </a:rPr>
              <a:t>feo 1</a:t>
            </a: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) Faly re (</a:t>
            </a:r>
            <a:r>
              <a:rPr b="1" i="1" lang="en-GB" sz="3200" spc="-1" strike="noStrike">
                <a:solidFill>
                  <a:srgbClr val="008080"/>
                </a:solidFill>
                <a:latin typeface="Corbel"/>
              </a:rPr>
              <a:t>feo 2,3,4</a:t>
            </a:r>
            <a:r>
              <a:rPr b="1" i="1" lang="en-GB" sz="3200" spc="-1" strike="noStrike">
                <a:solidFill>
                  <a:srgbClr val="000000"/>
                </a:solidFill>
                <a:latin typeface="Corbel"/>
              </a:rPr>
              <a:t>)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fr-FR" sz="3200" spc="-1" strike="noStrike">
                <a:solidFill>
                  <a:srgbClr val="008080"/>
                </a:solidFill>
                <a:latin typeface="Corbel"/>
              </a:rPr>
              <a:t>feo 1</a:t>
            </a: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) 'Zao ankehitrin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fr-FR" sz="3200" spc="-1" strike="noStrike">
                <a:solidFill>
                  <a:srgbClr val="008080"/>
                </a:solidFill>
                <a:latin typeface="Corbel"/>
              </a:rPr>
              <a:t>feo 2,3,4</a:t>
            </a: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) Izahay faly 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fr-FR" sz="3200" spc="-1" strike="noStrike">
                <a:solidFill>
                  <a:srgbClr val="008080"/>
                </a:solidFill>
                <a:latin typeface="Corbel"/>
              </a:rPr>
              <a:t>feo 1</a:t>
            </a: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) Faly re (</a:t>
            </a:r>
            <a:r>
              <a:rPr b="1" i="1" lang="fr-FR" sz="3200" spc="-1" strike="noStrike">
                <a:solidFill>
                  <a:srgbClr val="008080"/>
                </a:solidFill>
                <a:latin typeface="Corbel"/>
              </a:rPr>
              <a:t>feo 2,3,4</a:t>
            </a: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)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es-ES" sz="3200" spc="-1" strike="noStrike">
                <a:solidFill>
                  <a:srgbClr val="008080"/>
                </a:solidFill>
                <a:latin typeface="Corbel"/>
              </a:rPr>
              <a:t>feo 1</a:t>
            </a:r>
            <a:r>
              <a:rPr b="1" i="1" lang="es-ES" sz="3200" spc="-1" strike="noStrike">
                <a:solidFill>
                  <a:srgbClr val="000000"/>
                </a:solidFill>
                <a:latin typeface="Corbel"/>
              </a:rPr>
              <a:t>) Faly re (</a:t>
            </a:r>
            <a:r>
              <a:rPr b="1" i="1" lang="es-ES" sz="3200" spc="-1" strike="noStrike">
                <a:solidFill>
                  <a:srgbClr val="008080"/>
                </a:solidFill>
                <a:latin typeface="Corbel"/>
              </a:rPr>
              <a:t>feo 2,3,4</a:t>
            </a:r>
            <a:r>
              <a:rPr b="1" i="1" lang="es-ES" sz="3200" spc="-1" strike="noStrike">
                <a:solidFill>
                  <a:srgbClr val="000000"/>
                </a:solidFill>
                <a:latin typeface="Corbel"/>
              </a:rPr>
              <a:t>)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rbel"/>
              </a:rPr>
              <a:t>Izahay fa mahita anar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rbel"/>
              </a:rPr>
              <a:t>Arahaba, arahaba fa tratry ny an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789400" y="5951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8T04:22:26Z</dcterms:modified>
  <cp:revision>106</cp:revision>
  <dc:subject/>
  <dc:title>Tiona Advantista</dc:title>
</cp:coreProperties>
</file>