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F0A1-A1DE-4571-BEFB-AC64C511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16D0-C7AE-4AF1-A775-340E4B96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E524-5AF0-4C98-85C5-88D58B68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A8E-F13F-4EC0-AEF6-2019A14C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B7AB-00A7-4B46-8FD5-C7598DCF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BC23-250E-4BE1-AA8A-3EE52FA2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C3AE-2DB0-4F91-9E37-BF1DB238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23EA-8B71-4B15-A4C4-07768091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BFA7-9B92-4DB0-892F-746284B7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3D3E-990F-4C18-AD01-7D44B73F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35F9-4B4E-44B6-945E-A0EDBF8B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C35F-583F-426D-AC2A-4D32EE1C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13F1-BD42-44F2-8DEE-8F5770CF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5ADB-CDB1-44E5-B8E9-14C74420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458D-7FF3-42D7-8DC5-A0F27133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25BB-21C4-4D20-9A69-9285161C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DA34-3A1B-4698-9CC9-8E659822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8814-FA99-4CDB-A793-B548AEEB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2A0-E908-4116-A720-AC893F2F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552-BB28-42EF-ABE1-8DA1E916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3A3D-F1B3-4F2B-B7B2-69B80718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ED75-19DA-4700-B665-E6E6E3A7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95A2-F07E-4A80-B5BB-3D1CB8FB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E89-5434-43A1-B901-0ECBD8F6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9A74-0408-4BA7-A40F-3D0F65DE64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5F43-C294-406F-9285-04FF3655F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ANKIZY SY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Ankizy sy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(Tsy fantatra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80acc4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acc4"/>
                </a:solidFill>
                <a:latin typeface="Arial"/>
                <a:ea typeface="Arial"/>
              </a:rPr>
              <a:t>MMJ076 – TSARA RE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88434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8434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8434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4" action="ppaction://hlinksldjump"/>
          </p:cNvPr>
          <p:cNvSpPr/>
          <p:nvPr/>
        </p:nvSpPr>
        <p:spPr>
          <a:xfrm>
            <a:off x="88344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Ankizy Advantista – Miaraka mihira amin’i Jesos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cc4"/>
                </a:solidFill>
                <a:latin typeface="Tahoma"/>
              </a:rPr>
              <a:t>MMJ076 – TSARA RE NY AND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6699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Tsara re ny and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Sambatsambatra e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ny voronkely maniditsid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Raha hariva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Dia tsy misy man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'Ndreny fa samy mamonjy fod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434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434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8344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336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cc4"/>
                </a:solidFill>
                <a:latin typeface="Tahoma"/>
              </a:rPr>
              <a:t>MMJ076 – TSARA RE NY AND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6699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Sambatra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Izy mianaka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Mifankahita amin'ny zanany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3300"/>
                </a:solidFill>
                <a:latin typeface="Corbel"/>
                <a:ea typeface="Arial"/>
              </a:rPr>
              <a:t>Efa alin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3300"/>
                </a:solidFill>
                <a:latin typeface="Corbel"/>
                <a:ea typeface="Arial"/>
              </a:rPr>
              <a:t>Ao an-tranony av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3300"/>
                </a:solidFill>
                <a:latin typeface="Corbel"/>
                <a:ea typeface="Arial"/>
              </a:rPr>
              <a:t>Faly matory akaikin'ila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8434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88434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88344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8336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cc4"/>
                </a:solidFill>
                <a:latin typeface="Tahoma"/>
              </a:rPr>
              <a:t>MMJ076 – TSARA RE NY AND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6699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3300"/>
                </a:solidFill>
                <a:latin typeface="Corbel"/>
                <a:ea typeface="Arial"/>
              </a:rPr>
              <a:t>Vao maraina mif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3300"/>
                </a:solidFill>
                <a:latin typeface="Corbel"/>
                <a:ea typeface="Arial"/>
              </a:rPr>
              <a:t>Fa handeha ind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600" spc="-1" strike="noStrike">
                <a:solidFill>
                  <a:srgbClr val="003300"/>
                </a:solidFill>
                <a:latin typeface="Corbel"/>
                <a:ea typeface="Arial"/>
              </a:rPr>
              <a:t>Raha vao miposaka ny masoand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Ilay lahy no al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Izy moa no m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Ny toeran-kaleha hihazàna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8434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434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344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88336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cc4"/>
                </a:solidFill>
                <a:latin typeface="Tahoma"/>
              </a:rPr>
              <a:t>MMJ076 – TSARA RE NY AND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6699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Sambatr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Ny voarinao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Kolokoloina sy arovan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Fanomezana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No atolotra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Ka saotra no asandratray r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434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434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8434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88336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17:59:27Z</dcterms:modified>
  <cp:revision>93</cp:revision>
  <dc:subject/>
  <dc:title>Tiona Advantista</dc:title>
</cp:coreProperties>
</file>