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9597-ED87-47DD-8BA2-75854DD0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21A0-EFB4-4D10-BE64-D93292CD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EBB1-B692-472B-851E-5CCE205F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C9A7-199F-45A5-937A-868822A7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31C4-22CA-4529-9E73-DECDB46D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0577-8DE1-4FD9-A836-1ABA73BC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77C1-8D2C-4FA6-A370-6D2DB88C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3958-DD06-44F8-95DC-7533C87C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E1E0-B479-45A4-BDDB-9D74E201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CDCD-D011-4627-AAD3-A3FC7AB2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1670-9CF5-4483-9373-07973A8B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050F0-1FB8-47EF-93B9-784935CA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56D9-CE8D-44AD-A93D-83086AC9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1FAF-86E2-448A-B611-AE4B3D96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36D9-F149-45A0-9CC0-A7A9A71A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AD40-1974-4160-BC1F-8029D63F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5E75-4497-45CD-99C9-8D199CD1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16F5-3FD8-44F9-A373-860ED494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7647-CA9F-41ED-B05C-17057790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B49D6-043B-41A0-9CB5-F5378E87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D8F0-BF2A-44F0-AF07-2163DCB7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DC26-09A5-41C7-A85F-ED36F47C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8E84-E1CA-4143-93FF-D56B87E8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2748-E038-4472-A46A-0B7ECC6E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C94B-0C5A-4673-8C85-83203AD4DE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34A1-BF78-42DA-BC92-F275BE8E04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e0a5"/>
                </a:solidFill>
                <a:latin typeface="Arial"/>
                <a:ea typeface="Arial"/>
              </a:rPr>
              <a:t>MMJ008 - RA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028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0280" y="5932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8 - RA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andrandraiko ny tany vaov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olon'ny trano lay 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Zay hifaliako indrindra Jeso 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hira ny fiderana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dera ny hasoav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dera ny fitiav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drakizay hankalaza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drakizay hanompoako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ny foko rehetra Hidera Anao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81028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2756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8 - RA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hanavao 'zao rehetr'izao ny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hisy fiainam-baov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Zay antenaiko indrindra Jeso 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toetra aminao mandrakiz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dera ny hasoav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dera ny fitiav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drakizay hankalaza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drakizay hanompoako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ny foko rehetra Hidera Anao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810280" y="5932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2756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0:35:36Z</dcterms:modified>
  <cp:revision>34</cp:revision>
  <dc:subject/>
  <dc:title>Tiona Advantista</dc:title>
</cp:coreProperties>
</file>