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C00-A125-414B-A959-BF51D5B0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41A-2912-46AD-8E64-ECA2FB49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FE56-4D55-4D6B-8D7F-2E188266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33C-31FC-446B-AA4E-B6139D3A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9F98-CECB-4274-916B-DA2586C7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0726-EE6D-4C5D-994B-D4238E62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B3C9-8BF7-4584-9ED0-F1E2B468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C8FC-0C7A-4433-8122-658942D1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462B-AA16-4106-B64A-400EBFBD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8B7B-3779-493D-9C4C-D411D218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21D3-DD9F-4EFF-AF00-02FA6824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855E-39CC-4C88-BD40-23A66D44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A2CE-A974-4622-A0E2-C5177867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3B9E-F1BA-41AD-ABD8-5C682A87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04D4-C5B8-4917-8241-141DB4AD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25C2-7421-486B-BE8E-C620BD61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C04D-3422-4868-8B9A-E0315116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0DB-6A3E-4D6B-AB6D-5B5A34A2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4F0-9CF5-40B0-BEA9-E7B54A9E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3EA-B552-40E3-9E5B-4F7394C8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042-C61F-4030-9AE8-82EA34FA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D57-6562-4BDE-8F5B-AF5175C9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C01-1BD6-410E-81A6-7551CC4A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396-9603-48C6-981F-EF810006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DF2F-A8AA-4999-9674-E3829836B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8019-3A7B-45C8-B794-7D943500C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ANKIZY SY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Ankizy sy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RAZAFIMAHAFALY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RAZAFIMAHAFA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80acc4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acc4"/>
                </a:solidFill>
                <a:latin typeface="Arial"/>
                <a:ea typeface="Arial"/>
              </a:rPr>
              <a:t>MMJ080 – TIAKO I DADA SY I N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cc4"/>
                </a:solidFill>
                <a:latin typeface="Times New Roman"/>
              </a:rPr>
              <a:t>MMJ080 – TIAKO I DADA SY I NE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003300"/>
                </a:solidFill>
                <a:latin typeface="Corbel"/>
                <a:ea typeface="Arial"/>
              </a:rPr>
              <a:t>Tiako i Dada, tiako i Dad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Fa miasa hanaso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Tiako i Dada, tiako i Dad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Ka hankatoav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cc4"/>
                </a:solidFill>
                <a:latin typeface="Times New Roman"/>
              </a:rPr>
              <a:t>MMJ080 – TIAKO I DADA SY I NE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Tiako i Neny, tiako i Ne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Tia sy tsara f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Tiako i Neny, tiako i Ne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Sitrako ho samb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cc4"/>
                </a:solidFill>
                <a:latin typeface="Times New Roman"/>
              </a:rPr>
              <a:t>MMJ080 – TIAKO I DADA SY I NE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Tiako i Jeso, tiako 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Be fitia be indra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Tiako i Jeso, tiako 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Jeso no Mpamonj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18:49:30Z</dcterms:modified>
  <cp:revision>92</cp:revision>
  <dc:subject/>
  <dc:title>Tiona Advantista</dc:title>
</cp:coreProperties>
</file>