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F5BD9-ECD2-4B47-BA5A-3B8B7CCF3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EFB18-2352-41A4-9DFF-FF36692BA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336F8-8E7C-4B3E-9119-E15D1066F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0C903-6C6E-4093-9CC8-D3B3DF001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A8FA9-4FC9-4315-AB25-46E80C1CC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B671C-09D6-4082-ADB5-2310EB3AA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27ED3-2DEF-4BB0-9B54-3697FC6EE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CEB6E-90D2-4BCF-A1F2-74D1CBBD9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B89A8-F68F-4F8F-850B-BC6A37EF7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2AF5E-D9D2-46BE-ABCE-2040A84E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7B019-B906-4A1F-ACED-14579262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BFD4F-E5C7-4BE1-A6E2-5C1CA4167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8C8FA-3BD7-4C29-86D2-725AD758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D6885-B3AF-4731-ADDE-3ACFAB05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52F26-6AEC-40C5-9408-C0B1C8A60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D1802-2165-4179-8223-E29DACDB2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BA095-2ED3-4455-B574-37B668B7E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61151-BFDE-4A5F-9807-DF18BF3B7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1E2E4-E97C-4F6D-9672-D1D59D2C0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F87D3-0645-498C-9A6C-D62A8E027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70672-E72B-4EF5-ADC3-15875A5CC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B2E6F-B16E-44FB-A46F-005E360C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C7E71-28E9-48BD-957E-43642C61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01DFE-6093-432D-8B0E-1DDC33E4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b3b095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ddd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a9a78b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9d9b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b0ac90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b0ac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b0ac90"/>
                </a:gs>
                <a:gs pos="50000">
                  <a:srgbClr val="b1ad92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05c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33144-16EF-4830-B30C-13622166AD1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b3b095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ddd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a9a78b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9d9b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b0ac90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b0ac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b0ac90"/>
                </a:gs>
                <a:gs pos="50000">
                  <a:srgbClr val="b1ad92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DF69C-00A0-4BFB-94B2-4EE38A7D30F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 : ANDRIAMANI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 : 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 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dddcc5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6699"/>
                </a:solidFill>
                <a:latin typeface="Arial"/>
                <a:ea typeface="Arial"/>
              </a:rPr>
              <a:t>MMJ032 – SAKAIZAKO MAHATOKY JES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Tahoma"/>
              </a:rPr>
              <a:t>Ankizy Advantista – Miaraka Mihira amin’i Jesosy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>
            <a:hlinkClick r:id="rId1" action="ppaction://hlinksldjump"/>
          </p:cNvPr>
          <p:cNvSpPr/>
          <p:nvPr/>
        </p:nvSpPr>
        <p:spPr>
          <a:xfrm>
            <a:off x="8815320" y="5897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8814960" y="635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3" action="ppaction://hlinksldjump"/>
          </p:cNvPr>
          <p:cNvSpPr/>
          <p:nvPr/>
        </p:nvSpPr>
        <p:spPr>
          <a:xfrm>
            <a:off x="8810280" y="5500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cc5"/>
                </a:solidFill>
                <a:latin typeface="Tahoma"/>
              </a:rPr>
              <a:t>MMJ032 – SAKAIZAKO MAHATOKY JES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905c8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Sakaizako mahatoky Jesos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Mitana ny tsiambara tel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Tia ahy tokoa, eny, fantatro izan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Sakaizako Izy, akaikin'ny f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815320" y="5897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8814960" y="635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8800560" y="5084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cc5"/>
                </a:solidFill>
                <a:latin typeface="Tahoma"/>
              </a:rPr>
              <a:t>MMJ032 – SAKAIZAKO MAHATOKY JES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905c8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Na ory na faly aho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Izy tsy mandao fa mitoetra eo anilak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Koa tsy misy izay hampanahy a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Fa Izy no Mpiandry ahy</a:t>
            </a:r>
            <a:r>
              <a:rPr b="1" i="1" lang="fr-FR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814960" y="635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810280" y="5500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>
            <a:hlinkClick r:id="" action="ppaction://hlinkshowjump?jump=firstslide"/>
          </p:cNvPr>
          <p:cNvSpPr/>
          <p:nvPr/>
        </p:nvSpPr>
        <p:spPr>
          <a:xfrm>
            <a:off x="8800560" y="5084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cc5"/>
                </a:solidFill>
                <a:latin typeface="Tahoma"/>
              </a:rPr>
              <a:t>MMJ032 – SAKAIZAKO MAHATOKY JES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905c8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Sakaizako mahatoky Jesos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Iriny koa ny ho sakaizana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Sakaiza tia, tsy mahafoy hatriz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Sakaiza anio, sy mandrakiz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815320" y="5897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810280" y="5500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" action="ppaction://hlinkshowjump?jump=firstslide"/>
          </p:cNvPr>
          <p:cNvSpPr/>
          <p:nvPr/>
        </p:nvSpPr>
        <p:spPr>
          <a:xfrm>
            <a:off x="8800560" y="5084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RAZAFIMANANTSOA</cp:lastModifiedBy>
  <dcterms:modified xsi:type="dcterms:W3CDTF">2011-01-08T16:30:11Z</dcterms:modified>
  <cp:revision>39</cp:revision>
  <dc:subject/>
  <dc:title>Tiona Advantista</dc:title>
</cp:coreProperties>
</file>