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102-4345-41D6-9A2C-8108D3E8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FDA-2170-4ACE-9238-19EF9562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976-9A7C-441A-86EF-69FD431F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A8D-4384-41C4-A213-5C73F058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2578-D6FE-492C-AE6B-6E060CB2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F21C-2B96-47F7-A629-91E78E6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3F6-87ED-482C-BAF3-FFE7B459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5D14-989B-47AA-8785-F478E653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2E18-DCC0-4D5D-BEC0-090F5CF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F148-013F-4872-9464-1F784705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43A3-C516-46FA-9CC4-640F33A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DAC-4BCD-4ADD-8834-77F1AF1B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564A-631F-4F1A-A0DD-5B5A9B7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3B02-35CB-4B2A-A110-1E13039E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16B9-7656-4038-93D8-7C0B1ACD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615F-9466-4A32-8A39-3F77C30F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B2AA-9111-48FE-8861-3B2D0E42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4B0-618E-4BA8-B5C2-213F47E6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D7D-FE66-46B1-9E23-D91E0A27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052-2637-4496-A205-FDF3286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4F8-578D-4CF9-A445-061EA6D1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78D-CDA1-47ED-88E9-7B2B275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831-5739-4857-BD65-F58F0610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29F-F122-47C9-931A-82DD752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5D02-E932-4EE7-ADF6-ABDCB1232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9930-D9BC-4F1A-B9D5-A87ACD2F73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7c3e"/>
                </a:solidFill>
                <a:latin typeface="Arial"/>
                <a:ea typeface="Arial"/>
              </a:rPr>
              <a:t>MMJ062 – DO – RE - 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04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0848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79012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4e4c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62 – DO – RE - 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re mi. 'Njay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i fa so. 'Nja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mi re. 'Zay m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so do. 'Ndao 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04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0848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9012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789400" y="4367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62 – DO – RE - 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Andao, andao, andao rankizy ô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Andao, andao hirao ny Do re mi fa 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Andao, andao hitsena 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re mi fa so la so fa mi re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99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0848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9012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789400" y="4367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62 – DO – RE - 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re mi. Malak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i fa so. Ho av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mi re. N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so do. 'Ndao 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99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04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9012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789400" y="4367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62 – DO – RE - 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re mi. Matok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i fa so. Ka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mi re. Mafy ho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so do. Ndao 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99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04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0848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789400" y="4367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re mi. Mif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Mi fa so.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Fa mi re. Fa h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Do so do. Ny fe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62 – DO – RE - 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99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04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08480" y="553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9012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9400" y="4367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2:56:27Z</dcterms:modified>
  <cp:revision>106</cp:revision>
  <dc:subject/>
  <dc:title>Tiona Advantista</dc:title>
</cp:coreProperties>
</file>