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08BC8-9DBB-4686-A110-C6B39E3B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C24C3-34FB-4CDC-B739-B3F822DA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C212-D040-4289-AF69-628A490F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F9AB3-8451-46B3-9A9E-F1263D11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4FF8-D514-4B56-A53F-0A36CDE2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27EF-9DC7-4130-916D-D3467F70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757D-CA1C-429D-8389-FFA572EB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1937-FFAE-4EE8-84CD-4503497F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F603-1DCD-4FDF-8DE3-9CA401A3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272B-7669-4ECA-BD12-F3A994D3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9F2A-1462-406A-A8EB-690EA73A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A4CA-A9DB-4339-9687-B6556658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5433-3E4E-4B33-B688-AE450EA6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C2C0-D047-4859-8CA4-98B6A02A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7635-BCF0-4707-9B4C-A467F6E2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56DF-29EE-4C24-B828-3B29C564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E499-F791-4E9C-BBDA-44197CA4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802B-50BD-42EF-9BA4-3F6A966A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433A0-3423-433E-8163-9F0AEBB6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0B81-27C6-4569-B6C2-1C3CE0AE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47748-D2F4-41D8-88A3-E77A672F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EAB0-AE5B-4F45-961E-CD01C18C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25F89-95F0-473C-B71B-21C2BBA7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6B3FF-A96F-494C-92AF-78A7CAF8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2810-0965-4B7C-B501-9BB1157C412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17EB-9FB0-4C33-947E-9FB8136B49C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ean Dillow PAYN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Arial"/>
                <a:ea typeface="Arial"/>
              </a:rPr>
              <a:t>MMJ042 – JESOSY MANOMANA HO ANTS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99"/>
                </a:solidFill>
                <a:latin typeface="Tahoma"/>
              </a:rPr>
              <a:t>Ankizy Advantista - Miaraka Mihira amin’i Jesosy</a:t>
            </a:r>
            <a:endParaRPr b="0" lang="en-US" sz="19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1028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1496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MJ042 – JESOSY MANOMANA HO ANTS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900cc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Jeso manomana ho antsik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oerana tsara ho mandrakiz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oerana kanto, tsy misy tomik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oerana mamy ny "tranon'ny Ray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1028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1496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005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MJ042 – JESOSY MANOMANA HO ANTS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900cc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Izy niteny nampanant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Fa tsy ho ela ho avy indr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Ka miomàna ianao mba hits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Fa tena tiany ianao ho voar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1496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005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MJ042 – JESOSY MANOMANA HO ANTS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900cc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Ny voavonjy ho sambatra a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Hiara manjaka amin'i Jeso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Moa ve mba vonona koa iana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Omeo ho sasany madio re ny f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1028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8005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0T18:35:01Z</dcterms:modified>
  <cp:revision>41</cp:revision>
  <dc:subject/>
  <dc:title>Tiona Advantista</dc:title>
</cp:coreProperties>
</file>