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FDA-ED86-4D32-8250-242ED7A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E3A-FB68-4117-9EA6-AC23FB63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428-CE1D-49BA-A16D-85D3154A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3FB-A14E-4B37-989A-E572638C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7157-AEA6-4732-8B10-1DFA7A5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DD1-D335-4ECC-B2E7-29F7EE7A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25F-EE16-4844-B06C-1CE4ECCB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3BA3-B4C0-46D8-80FA-05B4A965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13C2-348E-41BD-95B4-33651EF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2F51-6FC4-4A4E-8D1B-5AFBE81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7D2E-117F-426B-A9CA-E2C9912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5B3-3A92-4F09-B3F1-FF282B1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98F-C9D9-46AD-8AFC-35EF4EC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03F-790B-4C95-9164-EDA4092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A4E5-BC70-4B53-A41B-C26898A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2D1-F7E3-4DE0-B16D-95608884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FE1-0369-4B46-A004-F9BC44EB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982-54B6-4F9D-BFD4-6C97AE09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FE8-A8DD-4EB1-9DB4-7613B9B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794-7F0C-4E34-B24C-80B0272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D6A-FD2E-43E5-ACC7-B155AE11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F1E-B063-4E28-89C9-A09C4CD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3C5-D951-49B7-8AAF-701FF98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BDA-2254-4959-99F1-DD46181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5AC-2379-49FF-ADD6-6E544C2BE0E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93C3-18C1-4A30-94D9-18AB175B1D9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Ankizy sy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D. RASOLONJATOV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70 - ZAZAKE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70 - ZAZAKELY IZAH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kely izahay, mbola tsy m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lona alona ao am-po, mifanes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any fantatray dia ny mifa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Mifandray am-po sy mifanis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70 - ZAZAKELY IZAH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, ry Tompo ti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izao vavak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hirizo ho doria, tsy hiova sanat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y mba ho A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70 - ZAZAKELY IZAH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jery sy ny feo dia mampi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diovam-po sy fanah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ady indraindray ifanao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dalo sy miser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70 - ZAZAKELY IZAH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ankizy ô, avia mba hifanka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omen'i Jeso tia ho ana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y lapasoa iry, 'ry ankoatra i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tokana ho anao doria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17:52:20Z</dcterms:modified>
  <cp:revision>89</cp:revision>
  <dc:subject/>
  <dc:title>Tiona Advantista</dc:title>
</cp:coreProperties>
</file>