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40D0E-56C2-4680-800B-2E683D48D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5CC4F-4403-4871-A8FA-59223051A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FA3E3-DDAF-4736-95D8-164B9D15B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9C898-6645-47D9-923D-6A7E29399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751E6-284A-4879-A6ED-9DBB672D0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754B5-2414-414F-B34A-B770CD622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40493-3767-460F-8E39-0485337E4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FE4EB-98CF-45DC-B2C5-6D4FC02B1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115EC-1082-4F90-A7C2-598BB247E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53FEE-9CEE-4937-9411-138D88C12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2B74E-EE8E-4393-9EE3-E8B66EC50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AE697-B6D8-4080-8202-140FBD9C6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DA188-41CF-443C-96B4-0F83597F3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2C3FF-AD85-4931-9965-8186B84ED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A208D-C7A9-4193-A38C-4D76B8566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AF9B2-F13D-4967-AB3E-28A8442FB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949F7-10BD-4873-89F9-B3C191795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1ABDA-C819-4D27-99A8-EF1016634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A28D0-AFBA-4B6B-9BAC-50AB52196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90FAC-6C00-4808-8504-F48A1594E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CFA93-A359-4820-90BE-41FA95232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06C95-429C-438A-8B71-51014B96A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B9771-EDFC-4CAB-A905-12B8714C4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7C0DA-4AFF-409E-B91E-BA779BD6A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0000a4"/>
                  </a:gs>
                  <a:gs pos="100000">
                    <a:srgbClr val="00006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51b2e3"/>
                  </a:gs>
                  <a:gs pos="100000">
                    <a:srgbClr val="0000a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0000a4"/>
                  </a:gs>
                  <a:gs pos="100000">
                    <a:srgbClr val="00006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51b2e3"/>
                  </a:gs>
                  <a:gs pos="100000">
                    <a:srgbClr val="0000a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0000a4"/>
                  </a:gs>
                  <a:gs pos="100000">
                    <a:srgbClr val="00006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51b2e3"/>
                  </a:gs>
                  <a:gs pos="100000">
                    <a:srgbClr val="0000a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a4"/>
                    </a:gs>
                    <a:gs pos="100000">
                      <a:srgbClr val="000066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ccffff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4e8ac"/>
                    </a:gs>
                    <a:gs pos="100000">
                      <a:srgbClr val="0000a4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cc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66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66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66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66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66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66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66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66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04e8ac"/>
                    </a:gs>
                    <a:gs pos="100000">
                      <a:srgbClr val="8f5fd5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ccffff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8f5fd5"/>
                    </a:gs>
                    <a:gs pos="100000">
                      <a:srgbClr val="000066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ccffff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66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66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66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51b2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8f5fd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51b2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51b2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8f5fd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8f5fd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51b2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8f5fd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51b2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51b2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04e8a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8f5fd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51b2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04e8a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8f5fd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8f5fd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8f5fd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51b2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8f5fd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8f5fd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04e8a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04e8a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8f5fd5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cc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ccffff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cc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cc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DDF5C-5377-4069-AA31-AE5D6F691DFE}" type="slidenum">
              <a:rPr b="0" lang="en-US" sz="1400" spc="-1" strike="noStrike">
                <a:solidFill>
                  <a:srgbClr val="cc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0000a4"/>
                  </a:gs>
                  <a:gs pos="100000">
                    <a:srgbClr val="00006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51b2e3"/>
                  </a:gs>
                  <a:gs pos="100000">
                    <a:srgbClr val="0000a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0000a4"/>
                      </a:gs>
                      <a:gs pos="100000">
                        <a:srgbClr val="000066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0000a4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51b2e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8f5fd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51b2e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8f5fd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51b2e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04e8a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8f5fd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04e8a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cc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51b2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8f5fd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51b2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8f5fd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51b2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8f5fd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51b2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04e8a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8f5fd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8f5fd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51b2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8f5fd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8f5fd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04e8a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C922B-B341-4EC7-B040-7F8A07B8EA9F}" type="slidenum">
              <a:rPr b="0" lang="en-US" sz="1400" spc="-1" strike="noStrike">
                <a:solidFill>
                  <a:srgbClr val="cc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ccffff"/>
                </a:solidFill>
                <a:latin typeface="Arial Black"/>
                <a:ea typeface="Arial"/>
              </a:rPr>
              <a:t>Thème</a:t>
            </a:r>
            <a:r>
              <a:rPr b="0" lang="fr-FR" sz="1000" spc="-1" strike="noStrike">
                <a:solidFill>
                  <a:srgbClr val="ccffff"/>
                </a:solidFill>
                <a:latin typeface="Arial Black"/>
                <a:ea typeface="Arial"/>
              </a:rPr>
              <a:t> : ANDRIAMANITRA</a:t>
            </a:r>
            <a:endParaRPr b="0" lang="en-US" sz="1000" spc="-1" strike="noStrike">
              <a:solidFill>
                <a:srgbClr val="cc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ccffff"/>
                </a:solidFill>
                <a:latin typeface="Arial Black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ccffff"/>
                </a:solidFill>
                <a:latin typeface="Arial Black"/>
                <a:ea typeface="Arial"/>
              </a:rPr>
              <a:t> : Andriamanitra Ray</a:t>
            </a:r>
            <a:endParaRPr b="0" lang="en-US" sz="1000" spc="-1" strike="noStrike">
              <a:solidFill>
                <a:srgbClr val="cc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ccffff"/>
                </a:solidFill>
                <a:latin typeface="Arial Black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ccffff"/>
                </a:solidFill>
                <a:latin typeface="Arial Black"/>
                <a:ea typeface="Arial"/>
              </a:rPr>
              <a:t> : </a:t>
            </a:r>
            <a:br>
              <a:rPr sz="1000"/>
            </a:br>
            <a:r>
              <a:rPr b="1" lang="fr-FR" sz="1000" spc="-1" strike="noStrike">
                <a:solidFill>
                  <a:srgbClr val="ccffff"/>
                </a:solidFill>
                <a:latin typeface="Arial Black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ccffff"/>
                </a:solidFill>
                <a:latin typeface="Arial Black"/>
                <a:ea typeface="Arial"/>
              </a:rPr>
              <a:t> : Vera D. FOOTE</a:t>
            </a:r>
            <a:endParaRPr b="0" lang="en-US" sz="1000" spc="-1" strike="noStrike">
              <a:solidFill>
                <a:srgbClr val="cc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ccffff"/>
                </a:solidFill>
                <a:latin typeface="Arial Black"/>
                <a:ea typeface="Arial"/>
              </a:rPr>
              <a:t>Correspondance : </a:t>
            </a:r>
            <a:endParaRPr b="0" lang="en-US" sz="1000" spc="-1" strike="noStrike">
              <a:solidFill>
                <a:srgbClr val="cc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cc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ccffff"/>
                </a:solidFill>
                <a:latin typeface="Arial Black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3399"/>
                </a:solidFill>
                <a:latin typeface="Arial"/>
                <a:ea typeface="Arial"/>
              </a:rPr>
              <a:t>MMJ020 – Ô, TANTARAO NY FITIAVAN’ANDRIAMANITRA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ffff"/>
                </a:solidFill>
                <a:latin typeface="Tahoma"/>
              </a:rPr>
              <a:t>Ankizy Advantista – Miaraka Mihira amin’i Jesosy</a:t>
            </a:r>
            <a:endParaRPr b="0" lang="en-US" sz="20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52" name="">
            <a:hlinkClick r:id="rId1" action="ppaction://hlinksldjump"/>
          </p:cNvPr>
          <p:cNvSpPr/>
          <p:nvPr/>
        </p:nvSpPr>
        <p:spPr>
          <a:xfrm>
            <a:off x="8810280" y="6323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3" name="">
            <a:hlinkClick r:id="rId2" action="ppaction://hlinksldjump"/>
          </p:cNvPr>
          <p:cNvSpPr/>
          <p:nvPr/>
        </p:nvSpPr>
        <p:spPr>
          <a:xfrm>
            <a:off x="8810280" y="59259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1b2e3"/>
                </a:solidFill>
                <a:latin typeface="Tahoma"/>
              </a:rPr>
              <a:t>MMJ020 – Ô, TANTARAO NY FITIAVAN’ANDRIAMANITRA</a:t>
            </a:r>
            <a:endParaRPr b="0" lang="en-US" sz="2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55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8f5fd5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ccffff"/>
                </a:solidFill>
                <a:latin typeface="Corbel"/>
                <a:ea typeface="Arial"/>
              </a:rPr>
              <a:t>O! tantarao ny fitiavan'Andriamanitra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ccffff"/>
                </a:solidFill>
                <a:latin typeface="Corbel"/>
                <a:ea typeface="Arial"/>
              </a:rPr>
              <a:t>Fa satro-bolamena efa nomaniny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ccffff"/>
                </a:solidFill>
                <a:latin typeface="Corbel"/>
                <a:ea typeface="Arial"/>
              </a:rPr>
              <a:t>Homeny antsika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ccffff"/>
                </a:solidFill>
                <a:latin typeface="Corbel"/>
                <a:ea typeface="Arial"/>
              </a:rPr>
              <a:t>Homeny antsika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ccffff"/>
                </a:solidFill>
                <a:latin typeface="Corbel"/>
                <a:ea typeface="Arial"/>
              </a:rPr>
              <a:t>Ho mariky ny fitiavany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ccffff"/>
                </a:solidFill>
                <a:latin typeface="Corbel"/>
                <a:ea typeface="Arial"/>
              </a:rPr>
              <a:t>Satro-boninahitra.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6" name="">
            <a:hlinkClick r:id="rId1" action="ppaction://hlinksldjump"/>
          </p:cNvPr>
          <p:cNvSpPr/>
          <p:nvPr/>
        </p:nvSpPr>
        <p:spPr>
          <a:xfrm>
            <a:off x="8810280" y="6323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7" name="">
            <a:hlinkClick r:id="" action="ppaction://hlinkshowjump?jump=firstslide"/>
          </p:cNvPr>
          <p:cNvSpPr/>
          <p:nvPr/>
        </p:nvSpPr>
        <p:spPr>
          <a:xfrm>
            <a:off x="8814960" y="55101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1b2e3"/>
                </a:solidFill>
                <a:latin typeface="Tahoma"/>
              </a:rPr>
              <a:t>MMJ020 – Ô, TANTARAO NY FITIAVAN’ANDRIAMANITRA</a:t>
            </a:r>
            <a:endParaRPr b="0" lang="en-US" sz="2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5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8f5fd5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ccffff"/>
                </a:solidFill>
                <a:latin typeface="Corbel"/>
                <a:ea typeface="Arial"/>
              </a:rPr>
              <a:t>Lazao ombieny, ombieny ilay tantara soa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ccffff"/>
                </a:solidFill>
                <a:latin typeface="Corbel"/>
                <a:ea typeface="Arial"/>
              </a:rPr>
              <a:t>Akanjo fotsy lava efa nomaniny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ccffff"/>
                </a:solidFill>
                <a:latin typeface="Corbel"/>
                <a:ea typeface="Arial"/>
              </a:rPr>
              <a:t>Homeny antsika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ccffff"/>
                </a:solidFill>
                <a:latin typeface="Corbel"/>
                <a:ea typeface="Arial"/>
              </a:rPr>
              <a:t>Homeny antsika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ccffff"/>
                </a:solidFill>
                <a:latin typeface="Corbel"/>
                <a:ea typeface="Arial"/>
              </a:rPr>
              <a:t>Akanjo fotsy lava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ccffff"/>
                </a:solidFill>
                <a:latin typeface="Corbel"/>
                <a:ea typeface="Arial"/>
              </a:rPr>
              <a:t>Efa nomaniny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1" name="">
            <a:hlinkClick r:id="rId1" action="ppaction://hlinksldjump"/>
          </p:cNvPr>
          <p:cNvSpPr/>
          <p:nvPr/>
        </p:nvSpPr>
        <p:spPr>
          <a:xfrm>
            <a:off x="8810280" y="59259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2" name="">
            <a:hlinkClick r:id="" action="ppaction://hlinkshowjump?jump=firstslide"/>
          </p:cNvPr>
          <p:cNvSpPr/>
          <p:nvPr/>
        </p:nvSpPr>
        <p:spPr>
          <a:xfrm>
            <a:off x="8814960" y="55101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RAZAFIMANANTSOA</cp:lastModifiedBy>
  <dcterms:modified xsi:type="dcterms:W3CDTF">2011-01-06T01:29:02Z</dcterms:modified>
  <cp:revision>38</cp:revision>
  <dc:subject/>
  <dc:title>Tiona Advantista</dc:title>
</cp:coreProperties>
</file>