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D4A-3FB8-4587-86E0-D3133569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8C1-F77F-4DE4-B7BE-8A08F2EE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4D9-48F1-4F4C-B46C-A26EF93F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5A9-7526-4486-AD3D-0EA62AD3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CC39-E7F4-4A94-9415-57F4852F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4A65-6F33-4285-A452-2F1627BB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C45D-3B04-4EE7-9C5B-4B19973A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8BA0-D8C4-4921-8926-41A83806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368A-DCC5-4062-8045-5943371F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701E-374D-4825-84C5-297EAFC4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DFAC-CF3E-4FA1-8CB8-FCA85CB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4C5-C223-4483-ABC2-0B0DF9CC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43BE-E245-48DE-9835-6CBD114E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EBBD-3041-4C0B-8355-3CFF576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DBAA-E2CA-4C95-A751-1DB28AF3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C312-6866-4128-BE69-D82D5A25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D111-98DD-415B-942B-FC5F0B55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696-4CAC-4264-BE6A-29BAE547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45E-5FC9-42A0-97FA-4D4FC69F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27A-03B8-452A-A798-8BE386D5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CA3-1737-4084-8B41-7D73E10C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1B1-438E-496D-ABA7-4B5EC3E4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090-AE07-4518-AF6B-3A372638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D42-2AFE-4517-97FC-41979A9D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C737-EA18-4D8F-817F-A1A4D5B8AA0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2B78-51F6-4544-B402-39F1D78D2D6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Arial Black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3399"/>
                </a:solidFill>
                <a:latin typeface="Arial"/>
                <a:ea typeface="Arial"/>
              </a:rPr>
              <a:t>MMJ051 - MOA HENONAO JESO MAND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88434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>
            <a:hlinkClick r:id="rId2" action="ppaction://hlinksldjump"/>
          </p:cNvPr>
          <p:cNvSpPr/>
          <p:nvPr/>
        </p:nvSpPr>
        <p:spPr>
          <a:xfrm>
            <a:off x="88484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88434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Black"/>
              </a:rPr>
              <a:t>Ankizy Advantista – Miaraka mihira amin’i Jesos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ahoma"/>
              </a:rPr>
              <a:t>MMJ051 - MOA HENONAO JESO MANDON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Moa henonao Jeso mand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iditra ao an-tranona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hay ka ampandrosoy 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iza, aza lavinao (Nahoana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8484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88434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ahoma"/>
              </a:rPr>
              <a:t>MMJ051 - MOA HENONAO JESO MANDON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Kristy no fanaz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izina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nenika anao ny m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samba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8434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8434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ahoma"/>
              </a:rPr>
              <a:t>MMJ051 - MOA HENONAO JESO MANDON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9966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fantatrao Jeso mani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onina ao am-ponao 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roahiny 'lay ra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Izy no mitoetra ao ('Zay 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8434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8484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6T02:38:48Z</dcterms:modified>
  <cp:revision>88</cp:revision>
  <dc:subject/>
  <dc:title>Tiona Advantista</dc:title>
</cp:coreProperties>
</file>