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D639E-BD18-4404-930E-48BAC352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20777-9E46-4097-AE8F-044EA5DC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3069B-B595-4835-ABB5-906461B1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08358-0A7D-4525-A9A3-5B6A2098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5910-D6FE-4D5C-A7D7-099BB404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554E-4D91-4CD8-88AE-D154157E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57E9-AD4A-42ED-8EBE-9D9BBF7A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1269-0154-4F26-9CAD-BD95DCA6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CC6C-CE5C-4706-8432-DEDB548C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A4E1-2C06-465E-A378-A3E04933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B507-B471-42C8-9DDA-CAA0F823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F9426-7D60-4BE3-ADE3-5F3E4CD8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D2AE-0712-47C1-A15F-757636AE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299F-44E6-4954-AA10-D12E9995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B380-A845-467E-9150-681050FF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A2E1-DEB7-4164-863C-3CE5155D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58DA-4DD0-460D-ACE8-8EDA3EE2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EE7E-3C9B-4059-9973-74F3D75E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9DA21-5D3E-45D3-93ED-BD48DF09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5861-380B-4CAB-816B-B7A42250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69B27-C6B0-47E9-B88D-203DB2B6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C65BC-9F02-46ED-BB1D-42CDB534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716C-10E9-4273-943B-99B35685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FE1A-7223-4981-AC74-06CE2F95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5850-C19E-407D-B035-7C9ABB54DF4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905D-CB52-4D12-ABDC-1F709982F0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saor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d8784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e0a5"/>
                </a:solidFill>
                <a:latin typeface="Arial"/>
                <a:ea typeface="Arial"/>
              </a:rPr>
              <a:t>MMJ009 – FEON-DAKOLOSY, RENAO 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b8dec6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2792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2288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1388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82288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9 – FEON-DAKOLOSY, RENAO 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on-dakolosy, renao v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anao 'Lay Tomp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'Lay Mpamonjy miantso ho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ingàna re, av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82792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2288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1388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882756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9 – FEON-DAKOLOSY, RENAO 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halelo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 rankizy mifal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halelo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Jeso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82288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81388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882288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882756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9 – FEON-DAKOLOSY, RENAO 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on'ny trompetra, renao v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ho avy faing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lona rehetra dia hand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ty hitsang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sns</a:t>
            </a:r>
            <a:r>
              <a:rPr b="0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e0a5"/>
                </a:solidFill>
                <a:uFillTx/>
                <a:latin typeface="Times New Roman"/>
                <a:ea typeface="Arial"/>
                <a:hlinkClick r:id="rId1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2792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1388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82288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82756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9 – FEON-DAKOLOSY, RENAO 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on'i Jesosy, renao v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bitsika ao am-ponao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efa niantso ela 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nkizy ô! and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s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e0a5"/>
                </a:solidFill>
                <a:uFillTx/>
                <a:latin typeface="Times New Roman"/>
                <a:ea typeface="Arial"/>
                <a:hlinkClick r:id="rId1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82792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82288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82288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82756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0:38:53Z</dcterms:modified>
  <cp:revision>34</cp:revision>
  <dc:subject/>
  <dc:title>Tiona Advantista</dc:title>
</cp:coreProperties>
</file>