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4BCD-5889-4885-8C55-4F8360B1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BD8C-96F6-4533-8675-5CFF4B50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1C7B-A3DD-41F6-9215-365A0C5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104A-1FB4-45BA-AA9E-21C536BF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88A-6265-4B87-BAA0-0ED8BD84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55F4-2295-4BC8-8911-CE626218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5A7-CB20-408B-9FA1-0CAE292C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285A-1866-4243-AD8B-68A34699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02E-D868-4FFA-A282-E359590D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C39A-C911-4FB6-9389-2C7810A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EA47-EC28-4CEE-B599-5EDA2EBE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6D8B-700F-47D6-92F1-8D9517A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698-E0F3-4D43-8A59-D266261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1FB3-89E3-4C6A-ACF9-762E488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59D-35AC-4D95-A99B-5F6135EC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781-A254-4FD1-831C-3C4FB20B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CDA-0372-46EA-B246-07D4B4FD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4785-0236-49FA-AF86-88264C3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BC05-3317-4F5B-BB2C-C159C0F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73A9-731B-422E-97D4-CA96ECE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0015-EE87-4F6F-A0D6-4039DEE6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C8FE-0DE1-4A7C-870A-67B7149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F165-5981-4C82-8C0B-574C728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E80A-EEF2-450A-A7F5-A1867105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8641-AD1B-4C97-957E-765E19B054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683-F0EF-448B-BBA3-D4B26331C8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KOTO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KOTO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5 – INDRETO NY MADININ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5 – INDRETO NY MADININK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ny madini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 Zok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vy mba hisa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5 – INDRETO NY MADININK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1, 2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Raiso re 'zao saotr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Amboary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ho mendrik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en-GB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3, 4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Mba raiso re, mba raiso 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Zao saotra aterina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Ka mba amboary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orbel"/>
                <a:ea typeface="Arial"/>
              </a:rPr>
              <a:t>Ho mendrik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5 – INDRETO NY MADININK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naritra ry Jeso Z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zany fo kel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na Anao ho 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Sy Mpiah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0596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5 – INDRETO NY MADININK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e tena samba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zandrikelina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ampoky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 iainanay iza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2000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1496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1496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81964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26:07Z</dcterms:modified>
  <cp:revision>34</cp:revision>
  <dc:subject/>
  <dc:title>Tiona Advantista</dc:title>
</cp:coreProperties>
</file>