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E12-BF45-40EC-9158-C66AE11D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28F-2CD2-4C8C-8782-A811F6A6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76A-CF7E-4FA5-AB49-EE5F5857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783-2F1E-4FED-A4BD-2661D813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A791-726A-42F4-A3CD-9EF875DC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B7BE-E880-4FAC-9655-3FE74EB2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AD8D-56F7-44B0-9995-99AF532F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FBDC-42B9-4BE9-8787-7A2B9BB5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5EF5-0E2A-40A8-A172-1B328ED7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5C1C-E7EE-4764-A6F0-5DB4CEBA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3FD5-0199-4D1C-B7FA-A57E5785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B10-CBCD-42D9-9AC7-7A176CBD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FE9E-1A7D-44CF-A022-710C0500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1247-F5E0-4E2D-A349-4B1F83B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F675-D507-4E0C-9138-D685A53E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9C50-4154-4D18-B8A2-F14CCF09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366-2C50-44BB-BDFE-B13F29D4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E52-E71C-4F9A-8D5D-A597A79F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886-5046-4D97-804E-B9BEFD91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98E-D72F-4D93-994C-C982F27E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3C5-9CFB-4FCA-81BC-28111E1F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4A3-4F38-40A8-9EE0-0120F733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7C9-9946-4274-AE42-D8B63924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B62-C01F-460B-923B-1334EBE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7139-C833-4032-8A3A-683C4FA134D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6F5B-4F0E-43CA-8D56-1F3C2567475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RAZAFIMAHAFA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61 – AVY INDRAY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Black"/>
              </a:rPr>
              <a:t>Ankizy Advantista – Miaraka mihira amin’i Jesos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MJ061 – AVY INDRAY KRIS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indray Kris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indray Krist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m-be ho an'izay niom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itsena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m-be ho an'izay niom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sena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MJ061 – AVY INDRAY KRIS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von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von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raisantsika fifali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raisantsika fifali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2:48:25Z</dcterms:modified>
  <cp:revision>88</cp:revision>
  <dc:subject/>
  <dc:title>Tiona Advantista</dc:title>
</cp:coreProperties>
</file>