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C84-4BAA-453A-9999-A91DBE3C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2C0-8328-48A9-AC85-6EF3CC0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10D-FBE8-45B4-BE83-2C42027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309-3820-4844-A6E6-B602B6C1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E2F1-828E-45E8-BD86-83DCE61C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C5C1-2948-4644-93F3-37CDAA0A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8257-B2D1-40A5-9902-6F14C2C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1F1C-9086-467E-A013-CB677740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CC3F-1420-4E88-8A23-D93CD5D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A72-856C-4E9C-A765-1EFFB0B8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2547-9A5C-4E8D-8AB0-DEE422B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E7A-4402-4DBD-ACCF-86B7868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073D-199B-4488-B0E7-1424E9A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C2B2-3AB6-4C73-9E14-DE3FE78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FDD9-3DF1-4757-8249-59CE98B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0824-A1EF-400C-AF7E-F47D888E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EFE4-6B28-461A-84DD-0C0F563C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50E-6E4E-43C4-B5B5-3EF903CF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BA5-945C-4FD5-BF7D-9E62CF2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755-2057-4CA9-8E84-B60038A0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2A1-3D8B-48FC-88DC-0F40CB6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B10-A7D4-43F1-B032-DD04ABD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788-FB79-4FAE-812F-8D26052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3C3-69A8-4957-A63B-85C6F24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BC9D-BAD7-45AF-AB37-F4F6EE43FAA5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C1B-4036-4D5C-A9ED-804F615BBEE4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Jesosy Krist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H. et S. GRANDJEAN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1 – MANGA NY LANI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1532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1496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1 – MANGA NY LANIT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anga ny lanitra ka falifaly aho;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Eny sambatra tok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Faly aho satria Jesosy Tompok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itoetra ato anatik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1532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81496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8149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1 – MANGA NY LANIT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Jeso 'lay Mpamonjik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Efa nitsangana toko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Niakatra any an-danitra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'Lay Tompo Andriamanitr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1496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8149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b2e3"/>
                </a:solidFill>
                <a:latin typeface="Tahoma"/>
              </a:rPr>
              <a:t>MMJ021 – MANGA NY LANITR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Mianatra Baiboly isa-maraina ah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Ka dia sambatra toko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Jeso mitantana ahy ka dia mihira ah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Eo am-pandehanan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81532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8149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34:19Z</dcterms:modified>
  <cp:revision>39</cp:revision>
  <dc:subject/>
  <dc:title>Tiona Advantista</dc:title>
</cp:coreProperties>
</file>