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B0E5B-0C8F-4AF7-BB42-0D397CF5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8F00C-50FE-401B-B3EE-CE741C05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CAB0B-965D-4491-B08F-D5A74109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E0016-1C37-4538-80C1-E41C02CBC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E06D-4F8E-43D6-B1A5-F919A80C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84D8-A5C7-40D4-9D19-FEFCC74A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F98C-15B5-4498-BD1C-ADC18280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1169-BFB8-4A8C-B164-C84D9F8F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2472-9DCF-47BD-91BA-33BF29EC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4E70-F079-413E-ABC2-5BC80B4B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0338-D072-4B06-BBA2-75B639BA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C4A6C-92EE-4CF7-9A3B-50899A6B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DD54-BD52-416B-8242-B0D383C6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B2DD-2275-435E-87FE-C8BE80D2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4D4D-5DBB-4B0E-BA28-EEBD5651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6FEE-3214-418A-B8DC-8631D0AB2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5AEF-9A01-4471-A696-7EE24BD54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40719-8423-4946-87AF-5ED1B492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BEA64-EAA2-414B-9B5C-E4C4FB80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5DC9E-2224-4DA4-989B-8D79A214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1D22C-E346-49C9-944F-DE5C1B2C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36C10-2735-4249-BF79-488134BD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8518C-8D93-4C55-B064-647936B4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EE722-C0EA-4A4E-91DB-EB2790FE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C590-66A5-482E-BC5B-8E74C7C7F03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F5AF-7DCA-413D-BE62-79E835714F0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ouis-Norbert R.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. et S. GRANDJE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d8784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8784"/>
                </a:solidFill>
                <a:latin typeface="Arial"/>
                <a:ea typeface="Arial"/>
              </a:rPr>
              <a:t>MMJ058 - RAHA MIHIRATRA NY ANDR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8561520" y="54878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1 -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8561520" y="586908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3 -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3" action="ppaction://hlinksldjump"/>
          </p:cNvPr>
          <p:cNvSpPr/>
          <p:nvPr/>
        </p:nvSpPr>
        <p:spPr>
          <a:xfrm>
            <a:off x="8561520" y="624996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5 -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b8dec6"/>
                </a:solidFill>
                <a:latin typeface="Tahoma"/>
              </a:rPr>
              <a:t>Ankizy Advantista – Miaraka mihira amin’i Jesosy</a:t>
            </a:r>
            <a:endParaRPr b="0" lang="en-US" sz="1900" spc="-1" strike="noStrike">
              <a:solidFill>
                <a:srgbClr val="b8dec6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8784"/>
                </a:solidFill>
                <a:latin typeface="Tahoma"/>
              </a:rPr>
              <a:t>MMJ058 - RAHA MIHIRATRA NY ANDRO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ihiratra ny andr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ffffff"/>
                </a:solidFill>
                <a:latin typeface="Corbel"/>
                <a:ea typeface="Arial"/>
              </a:rPr>
              <a:t>O ! jereo Jeso; fa Izy eo anil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600" spc="-1" strike="noStrike">
                <a:solidFill>
                  <a:srgbClr val="ffffff"/>
                </a:solidFill>
                <a:latin typeface="Corbel"/>
                <a:ea typeface="Arial"/>
              </a:rPr>
              <a:t>Na koa toa maloka ny andr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600" spc="-1" strike="noStrike">
                <a:solidFill>
                  <a:srgbClr val="ffffff"/>
                </a:solidFill>
                <a:latin typeface="Corbel"/>
                <a:ea typeface="Arial"/>
              </a:rPr>
              <a:t>Raha semban-drahona,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jereo Jes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z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561520" y="586908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3 -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8561520" y="624996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5 -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691120" y="5056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8784"/>
                </a:solidFill>
                <a:latin typeface="Tahoma"/>
              </a:rPr>
              <a:t>MMJ058 - RAHA MIHIRATRA NY ANDRO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mbatra izahay manan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mbatr'izahay raha eo akaikinao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mpoky ny soa ny fiain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mbatra izahay manan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Corbel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a ! la ! l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561520" y="54878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1 -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561520" y="624996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5 -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8691120" y="5056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8784"/>
                </a:solidFill>
                <a:latin typeface="Tahoma"/>
              </a:rPr>
              <a:t>MMJ058 - RAHA MIHIRATRA NY ANDRO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milalao, matory, na mandeh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jereo Jeso fa Izy eo anil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mitomany, malahelo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koa faly ianao, O ! jereo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Corbel"/>
                <a:ea typeface="Aria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zi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561520" y="54878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1 -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561520" y="586908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3 -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8691120" y="5056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7T02:30:17Z</dcterms:modified>
  <cp:revision>88</cp:revision>
  <dc:subject/>
  <dc:title>Tiona Advantista</dc:title>
</cp:coreProperties>
</file>