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0FA-1CC4-466E-8633-9F6BCE45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036-6E16-457A-9FCF-F4AB3C42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0D7-849C-48C0-85DD-D5B55567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0D9-7697-40F0-B1BE-2D9DB493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DE8A-FF88-4EC5-A101-09DFC305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DFCA-1528-4660-8F6A-D8869F68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A857-0454-4F46-85FC-116E8D9E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7113-5BEF-4AE5-B13E-49E524D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BC39-D911-46CC-906A-3F7762F7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FF83-B500-46FD-9D4F-885CE4A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9D9F-8326-4139-9D8B-6183A86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532-B17E-4E00-B24E-EBA0F2F2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09FF-0CD8-4840-9DDA-C264048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F6ED-A3AC-4141-9BEB-DD17B5C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2A81-B44D-47FC-BECC-CF38098F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84CE-D6C3-4D74-AC14-1C9C9CCB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B3E3-8C4D-4910-BC1B-A201B4F6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4C3-A4F8-48C0-A4B4-9D426668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331-2547-419C-B7C7-A9BA9EA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7C5-7C7E-4F5E-9AFB-192ED09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4B2-5ADB-48B2-816D-CD4BB14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E10-D813-4AF3-A4FB-7B83831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22-FE85-4CFB-95D6-8277B05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426-5CF0-42CF-AF27-9F20F86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2D79-B466-45F2-9E57-41DA68C7E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482B-BDA1-4040-A184-495EF1A0C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 R. TSIMAITOAR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R. TSIMAITOAR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925a"/>
                </a:solidFill>
                <a:latin typeface="Arial"/>
                <a:ea typeface="Arial"/>
              </a:rPr>
              <a:t>MMJ084 – MANDRA-PIHA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38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84 – MANDRA-PIHA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Hirava isika ka dia velom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ihaona amin'ny Sabat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anie homba anar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itahy sy hiaro anareo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3680" y="595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44:20Z</dcterms:modified>
  <cp:revision>91</cp:revision>
  <dc:subject/>
  <dc:title>Tiona Advantista</dc:title>
</cp:coreProperties>
</file>