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93D-9927-41AF-86DE-9454026B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87E-73B5-4FCD-85F6-A02A3FB9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277-1F66-49CB-B493-B925FA17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6C4-805A-4C46-9B65-4E4C4232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432-E081-4613-BFB2-207BD9B5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06D8-6269-47D5-9175-808DBB5E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1719-78CC-43B2-AF57-4DB99E8F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A906-4A63-4573-8CB9-917B5ABF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E992-AE41-4EA4-B212-2038E32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8E3D-2653-41ED-99F0-90328C06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EAEF-24B6-4713-B6AE-3CF929EC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76D-B7E7-4F43-A0A1-7B47B03A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A8E3-5109-4F72-8886-20D3FE6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ACF6-5D4A-473D-AA80-CE0CD882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2F18-AC88-4B41-ACE1-531D4472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0BB6-E648-4BB0-8156-B2961074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FBF6-439F-4D99-A608-54534B77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C9D-FEC3-42D1-A337-696C2920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CBC-6C9C-4239-9748-DF587AE2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5FA-A446-45D2-A2DF-EC3CE70E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1C3-A0A7-4421-AEEA-73AE7A68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F90-04F4-41C3-B121-F82C53EF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2BC-AFC5-457A-B764-A5F0CD46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376-D1D1-4E8D-A664-61CE43D0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7235-F85D-4ED6-90CD-4DED81CB0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BF58-80BD-47B6-B6C1-CB07EEC01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AINANA ARA-PAN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anoloran-t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S. RATSIMB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S. RATSIMB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5f03"/>
                </a:solidFill>
                <a:latin typeface="Arial"/>
                <a:ea typeface="Arial"/>
              </a:rPr>
              <a:t>MMJ100 - JESOSY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100 - JESOSY 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 ! </a:t>
            </a: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Iriko re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ko, ny tongo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iara-di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y sandriko, ny tanak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iako hifandray ami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 ! mba tah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Ireto madini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33680" y="603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6:42:44Z</dcterms:modified>
  <cp:revision>91</cp:revision>
  <dc:subject/>
  <dc:title>Tiona Advantista</dc:title>
</cp:coreProperties>
</file>