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F78-A9F3-457C-8DA9-6283B8A6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A46-EF04-406F-9542-CF2CEE3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C4B-C28A-4F97-A23E-5037874D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220-BA28-4812-BCF4-EC71C871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E89C-C12F-415D-B4E2-55F7A773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546-6E07-4799-A5B6-B8676F2E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B06-50E2-4C25-B230-5B5F3FE6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F7F-80F6-475C-8AB1-951AAE9B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95F9-B991-441E-AB1F-45736BC2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62BF-5E62-4B16-9E7F-E10604B4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68D-8D4B-4B28-A7A9-4ECF4AF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852-34E4-4256-8389-42352417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BCEA-8EEC-4EF9-81F5-5986E0C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819-9A07-453A-AF34-3A2C597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A1EC-6351-4A99-A797-0D38ACDD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9B4A-B619-4343-80D8-C39F63CA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A678-E967-4CD3-ADD9-C76F434D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666-4840-4EEE-B282-A2B23B0E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FF8-FADF-4838-B976-27EEFAF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A69-AACA-4C80-9B2A-6EA12D0B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DB0-D2D9-4FEE-B119-1D43F413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763-4358-4DB7-B1E9-1690F67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915-E75F-4E45-A450-BCC526F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252-4B5A-4FDA-86F3-B22EDF9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9D9B-CCA9-4C4E-854F-396AEE94C09E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3B5-C865-4BF0-B3D9-3303D3E57575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H. et S. GRANDJEAN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4 – IZA IZAO MANDO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2432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24320" y="5932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4 – IZA IZAO MANDON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o ! do ! do ! ô ! iza izao mandona 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o ! do ! do ! ô ! iza moa iza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y devoly no te hiditra a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sia, tsia, tsia, tsy avelako ianao</a:t>
            </a:r>
            <a:r>
              <a:rPr b="0" lang="fr-FR" sz="3200" spc="-1" strike="noStrike">
                <a:solidFill>
                  <a:srgbClr val="ccffff"/>
                </a:solidFill>
                <a:latin typeface="Arial Black"/>
                <a:ea typeface="Arial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824320" y="5932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882900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4 – IZA IZAO MANDON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o ! do ! do ! ô ! iza izao mandona 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o ! do ! do ! ô ! iza moa iza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 Jesosy no te hiditra a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Eny, eny, eny, midira Jeso ô!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43:11Z</dcterms:modified>
  <cp:revision>39</cp:revision>
  <dc:subject/>
  <dc:title>Tiona Advantista</dc:title>
</cp:coreProperties>
</file>