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38EC-118B-4FEB-ADD0-CC6211B0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9DED-893A-4CC1-B242-5A1E5978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B787-F852-4C79-9649-F1EC12AD8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7CBA-01CB-40E5-8B59-385858F4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A41A-E724-461B-9872-A67BDFB04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E376-A832-4755-B3CC-FD0845A9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4225-02D6-4636-B724-4A86A8EB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4405-9280-48E0-89F7-F40A01FB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D63E-7D35-4562-8F3D-1CF7E0D3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DD61-38BA-4962-93A2-3A9FB8BF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F719-DC2B-4684-9F79-7FB2E5C0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20EB-C01E-4089-B3A3-63822F44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4C14-C62D-41F1-A7F5-12752F1F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E778-D175-4E07-ACAD-EFE60668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B75A-7BD4-4039-8333-5E9D48E2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2C6A-1339-463B-8796-B34C488E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6ACD-6DB4-4986-9E50-8CD5241FC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6E46-BFEC-483D-90DF-99815618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8FDB-A3AB-4240-9B67-1B494F81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B24B-C63C-4B76-941B-53CB26B9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9324-282C-42FC-82BC-B398B4C7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47F4-8BD0-4AED-A577-3078A9FC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7EC2-6A22-4D8B-A3B1-05898654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E373-3A57-4FE5-A5EE-87F9D827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bbc6d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606d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7070-D624-403A-911C-505DC2ACBB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bbc6d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606d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2FC3-D768-4867-B842-86B43705AB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Thème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: (Tsy fantatra) 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: (Tsy fantatra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80acc4"/>
                </a:solidFill>
                <a:latin typeface="Times New Roman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6699"/>
                </a:solidFill>
                <a:latin typeface="Arial"/>
                <a:ea typeface="Arial"/>
              </a:rPr>
              <a:t>MMJ054 - AO AM-PON'I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88434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3" action="ppaction://hlinksldjump"/>
          </p:cNvPr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Ankizy Advantista – Miaraka mihira amin’i Jesos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0acc4"/>
                </a:solidFill>
                <a:latin typeface="Times New Roman"/>
              </a:rPr>
              <a:t>MMJ054 - AO AM-PON'I JE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6699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3300"/>
                </a:solidFill>
                <a:latin typeface="Corbel"/>
                <a:ea typeface="Arial"/>
              </a:rPr>
              <a:t>Ao am-pon'i Jeso ny fitiav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Ampy ho zaraina ho ahy sy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Koa nahoana moa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No misento toy iz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Aza manirery fa Jeso dia ti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88336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0acc4"/>
                </a:solidFill>
                <a:latin typeface="Times New Roman"/>
              </a:rPr>
              <a:t>MMJ054 - AO AM-PON'I JE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6699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Ao am-pon'i Jeso ny fiadan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Omeny ho anao sy ahy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Koa nahoana moa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No misalasala iz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Mba handray izany ho anao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434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8336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0acc4"/>
                </a:solidFill>
                <a:latin typeface="Times New Roman"/>
              </a:rPr>
              <a:t>MMJ054 - AO AM-PON'I JE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6699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Eo amin'i Jeso azo anto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Ny fanantenana sy fandrese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Koa nahoana moa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No dia kivy toy iz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Mitsangàna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300"/>
                </a:solidFill>
                <a:latin typeface="Corbel"/>
                <a:ea typeface="Arial"/>
              </a:rPr>
              <a:t>Fa homeny hery 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8434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88336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acc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6T03:05:43Z</dcterms:modified>
  <cp:revision>91</cp:revision>
  <dc:subject/>
  <dc:title>Tiona Advantista</dc:title>
</cp:coreProperties>
</file>