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480-38B8-4A20-BB6E-742519CE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D7A-E610-41B3-AC41-81EEDD3C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172-26D8-4FDC-A535-74CD7707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AA4-F603-4361-A0B2-5A71B6E6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0785-2637-42BE-A6BA-D31A3D8B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0252-49DB-4339-8C0F-E6F36FE5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33F7-2E94-4025-BFB0-512D2898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9DE2-05CC-4ABA-A400-821EB6A9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1341-6B49-4974-A2A6-215AA168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D7B3-9833-4AD7-9AB8-4E86EBB1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AF94-F856-4F1A-8118-B69DA957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302-71B0-4204-9C4B-035291C7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B9BC-9D4E-4B3F-934E-D8680571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AF2E-174E-4576-8E70-3492CD40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8688-3B07-40D1-82EB-B2596057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EE90-86FC-4BB0-9004-295362A1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C31E-AD8A-4AF4-B065-477C6DDB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C74-2D03-421E-90C6-74232BAF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BF7-60CF-4810-BA9E-25558F6D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4DD-1A48-4D00-ABC2-9C19BB25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99D-8AE9-4238-85C8-ECDD7ED1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EE4-DFF5-46A5-ABC1-B9837501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B77-5B22-4B30-91B4-68D520A2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93B-CB8A-48B6-85EC-97664294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6F70-D404-43E7-9028-C992D9BA0BC8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1EC9-AF82-492F-9996-9ADA6D2BC74F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ANDRIAMANITR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Jesosy Kristy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H. et S. GRANDJEAN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Correspondance : 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  <a:ea typeface="Arial"/>
              </a:rPr>
              <a:t>MMJ028 – MPIANDRY ONDRY MORA JES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ahoma"/>
              </a:rPr>
              <a:t>Ankizy Advantista – Miaraka Mihira amin’i Jesosy</a:t>
            </a:r>
            <a:endParaRPr b="0" lang="en-US" sz="2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8822880" y="50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8822880" y="544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">
            <a:hlinkClick r:id="rId3" action="ppaction://hlinksldjump"/>
          </p:cNvPr>
          <p:cNvSpPr/>
          <p:nvPr/>
        </p:nvSpPr>
        <p:spPr>
          <a:xfrm>
            <a:off x="8813880" y="5826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5" name="">
            <a:hlinkClick r:id="rId4" action="ppaction://hlinksldjump"/>
          </p:cNvPr>
          <p:cNvSpPr/>
          <p:nvPr/>
        </p:nvSpPr>
        <p:spPr>
          <a:xfrm>
            <a:off x="881388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6" name="">
            <a:hlinkClick r:id="rId5" action="ppaction://hlinksldjump"/>
          </p:cNvPr>
          <p:cNvSpPr/>
          <p:nvPr/>
        </p:nvSpPr>
        <p:spPr>
          <a:xfrm>
            <a:off x="8822880" y="46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8 – MPIANDRY ONDRY MORA JESO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Mpiandry ondry mora Jes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'Zahay no zanak'ondriny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Ka sambatsambatra tokoa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Fa Jeso no Mpiandrinay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8822880" y="50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0" name="">
            <a:hlinkClick r:id="rId2" action="ppaction://hlinksldjump"/>
          </p:cNvPr>
          <p:cNvSpPr/>
          <p:nvPr/>
        </p:nvSpPr>
        <p:spPr>
          <a:xfrm>
            <a:off x="8822880" y="544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">
            <a:hlinkClick r:id="rId3" action="ppaction://hlinksldjump"/>
          </p:cNvPr>
          <p:cNvSpPr/>
          <p:nvPr/>
        </p:nvSpPr>
        <p:spPr>
          <a:xfrm>
            <a:off x="8813880" y="5826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">
            <a:hlinkClick r:id="rId4" action="ppaction://hlinksldjump"/>
          </p:cNvPr>
          <p:cNvSpPr/>
          <p:nvPr/>
        </p:nvSpPr>
        <p:spPr>
          <a:xfrm>
            <a:off x="881388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firstslide"/>
          </p:cNvPr>
          <p:cNvSpPr/>
          <p:nvPr/>
        </p:nvSpPr>
        <p:spPr>
          <a:xfrm>
            <a:off x="8827560" y="4251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8 – MPIANDRY ONDRY MORA JESO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Eo amin'ny ahi-maitso tsar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Sy moron-drano velona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No miala sasatra ny ondr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Izay tarihin'i Jeso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8822880" y="544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8" name="">
            <a:hlinkClick r:id="rId2" action="ppaction://hlinksldjump"/>
          </p:cNvPr>
          <p:cNvSpPr/>
          <p:nvPr/>
        </p:nvSpPr>
        <p:spPr>
          <a:xfrm>
            <a:off x="8813880" y="5826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9" name="">
            <a:hlinkClick r:id="rId3" action="ppaction://hlinksldjump"/>
          </p:cNvPr>
          <p:cNvSpPr/>
          <p:nvPr/>
        </p:nvSpPr>
        <p:spPr>
          <a:xfrm>
            <a:off x="881388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0" name="">
            <a:hlinkClick r:id="rId4" action="ppaction://hlinksldjump"/>
          </p:cNvPr>
          <p:cNvSpPr/>
          <p:nvPr/>
        </p:nvSpPr>
        <p:spPr>
          <a:xfrm>
            <a:off x="8822880" y="46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>
            <a:off x="8827560" y="4251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8 – MPIANDRY ONDRY MORA JESO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Indreny mody ny ondriny;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Manisa ilay Mpiandry ti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Iray no he ! fa tsy hitany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Inoany fa lasa nani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5" name="">
            <a:hlinkClick r:id="rId1" action="ppaction://hlinksldjump"/>
          </p:cNvPr>
          <p:cNvSpPr/>
          <p:nvPr/>
        </p:nvSpPr>
        <p:spPr>
          <a:xfrm>
            <a:off x="8822880" y="50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6" name="">
            <a:hlinkClick r:id="rId2" action="ppaction://hlinksldjump"/>
          </p:cNvPr>
          <p:cNvSpPr/>
          <p:nvPr/>
        </p:nvSpPr>
        <p:spPr>
          <a:xfrm>
            <a:off x="8813880" y="5826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881388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8822880" y="46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>
            <a:off x="8827560" y="4251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8 – MPIANDRY ONDRY MORA JESO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Dia lasa nitady Ilay Mpiandry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Onena ny ondry nani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Tsy mba natory na mba nandry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Miantsoantso hoe: "Avia"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822880" y="50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822880" y="544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7" name="">
            <a:hlinkClick r:id="rId1" action="ppaction://hlinksldjump"/>
          </p:cNvPr>
          <p:cNvSpPr/>
          <p:nvPr/>
        </p:nvSpPr>
        <p:spPr>
          <a:xfrm>
            <a:off x="881388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8" name="">
            <a:hlinkClick r:id="rId2" action="ppaction://hlinksldjump"/>
          </p:cNvPr>
          <p:cNvSpPr/>
          <p:nvPr/>
        </p:nvSpPr>
        <p:spPr>
          <a:xfrm>
            <a:off x="8822880" y="46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firstslide"/>
          </p:cNvPr>
          <p:cNvSpPr/>
          <p:nvPr/>
        </p:nvSpPr>
        <p:spPr>
          <a:xfrm>
            <a:off x="8827560" y="4251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8 – MPIANDRY ONDRY MORA JESO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Namaly ilay ondry nania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Dia hitan'ilay Mpiandry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Ianao no antsoina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Mamalia fa aza miandry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822880" y="50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822880" y="544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813880" y="5826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822880" y="46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firstslide"/>
          </p:cNvPr>
          <p:cNvSpPr/>
          <p:nvPr/>
        </p:nvSpPr>
        <p:spPr>
          <a:xfrm>
            <a:off x="8827560" y="4251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1:57:26Z</dcterms:modified>
  <cp:revision>35</cp:revision>
  <dc:subject/>
  <dc:title>Tiona Advantista</dc:title>
</cp:coreProperties>
</file>