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A80D8-FA92-4D30-8CF0-9CD0AC77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3751E-28D8-451D-B183-FB5047FF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CA33A-593B-4F1E-8156-75616C70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08393-943F-4EA9-BF75-6E77E9CB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6067-605A-4B1A-B019-E7EB7F1C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EA19-D391-4485-ABD5-31C89F19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B3E0-6DA1-4F6B-A038-63779342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A19E-8E4D-428D-91FE-6EBC2CB5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D8D2-0048-45FB-89B0-17F022A9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F9F9-0ED5-413E-8D25-93C773FF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6E0F-5AF8-45D5-98C6-9420DD78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E48A0-D91C-483A-B51C-B2682B83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AA0A-0383-48BF-94E4-BBF65269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30BB-3C55-414F-A4FB-ED669CB6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571F-C57B-4C0A-8D96-545A8E5F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8169-65EA-4ECA-890B-DBEE45F6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AAB7-B854-4823-A2CF-272DEDAF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8E395-7D9A-4545-9C42-6A7E0852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A0C1B-F9AE-4973-BB54-497B158B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A39DA-59C2-4A50-9E99-60EA8932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EEDD0-1BAD-4135-BF11-EFA03CBA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E15BC-BB92-4D3A-802A-E1A8852F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CC20A-711B-4EA6-B2EB-F5A31077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2814E-10DD-4809-AE1C-43CE3ABF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1338-70FF-4F22-9628-FA84091FF4E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8C7A-B0AA-41FE-9A8E-E5F0FD17682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ARA-PANAH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oloran-t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. et S. GRANDJE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d8784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8784"/>
                </a:solidFill>
                <a:latin typeface="Arial"/>
                <a:ea typeface="Arial"/>
              </a:rPr>
              <a:t>MMJ097 - FIFALIANA, HASAMB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b8dec6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b8dec6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97 - FIFALIANA, HASAMBA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Fifaliana, hasambar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Raha Jesosy monina ao 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Fifaliana, hasambar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Raha Jesosy monina ao 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Ambarako, laz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alasal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Andramo ka izahao. Ô ! sahi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o sambatra tokoa, sambatr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Andramo ka izahao. Ô ! sahi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833680" y="5962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8T06:27:45Z</dcterms:modified>
  <cp:revision>89</cp:revision>
  <dc:subject/>
  <dc:title>Tiona Advantista</dc:title>
</cp:coreProperties>
</file>