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FB0C-2BD6-45AE-B617-EF816052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BEEB-9B18-4036-B4BB-3FA6F2C8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52AB2-1482-4A2E-AE4E-76F34605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96EA-EFE4-4DE4-A101-12758F5D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7117-CF3C-48E3-A516-0192683F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5975-AF2E-4601-936D-C7C31E27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B88A-4269-45E1-8F44-3FE729A0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44CD-BD99-46B1-9FDD-C906832C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4E3F-0DD4-452C-A5BF-35119555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6DAE-57AD-4075-8EDD-B564BB2C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BC83-0025-42B3-ABB1-9CFCBE0A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22F4-ADF3-423F-AF4A-D4AAD0A2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E6BC-B379-4077-9B56-E23EA31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F454-09F4-4705-B2A6-E5AB0950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59C6-7BC2-4A09-AA27-83EE8B9F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147F-AE4F-48AD-B1D0-E882F4BD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1519-4377-4FF5-9420-5A5DCB37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27E3-3C55-47A5-983B-492074CF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9BBA3-B1FF-4B25-8D24-C46A4D79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A55B-FFC5-4E68-B991-7DFD38A9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73123-411D-47DC-B871-02AA1259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73BC-8458-46E7-BFE0-6716ECA8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92E1-0CFA-4A9B-827B-98B53E9C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8172-EE08-4169-B6CE-309105FA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599A-B3E2-4F20-9D18-BB8F76EEF4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D2E0-69C7-472D-92FF-9B768DE1FB8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N. RAVONINJATOVO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(Tsy fantatr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dddcc5"/>
                </a:solidFill>
                <a:latin typeface="Arial"/>
                <a:ea typeface="Arial"/>
              </a:rPr>
              <a:t>MMJ069 - </a:t>
            </a:r>
            <a:r>
              <a:rPr b="1" i="1" lang="fi-FI" sz="3600" spc="-1" strike="noStrike">
                <a:solidFill>
                  <a:srgbClr val="dddcc5"/>
                </a:solidFill>
                <a:latin typeface="Arial"/>
                <a:ea typeface="Arial"/>
              </a:rPr>
              <a:t>RAHA MITOETRA AO ANATIKO NY FANAHY MAS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8440" y="4292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8434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5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8834400" y="5818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dcc5"/>
                </a:solidFill>
                <a:latin typeface="Tahoma"/>
              </a:rPr>
              <a:t>MMJ069 - </a:t>
            </a:r>
            <a:r>
              <a:rPr b="0" lang="fi-FI" sz="2400" spc="-1" strike="noStrike">
                <a:solidFill>
                  <a:srgbClr val="dddcc5"/>
                </a:solidFill>
                <a:latin typeface="Tahoma"/>
              </a:rPr>
              <a:t>RAHA MITOETRA AO ANATIKO NY FANAHY MAS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000000"/>
                </a:solidFill>
                <a:latin typeface="Corbel"/>
                <a:ea typeface="Arial"/>
              </a:rPr>
              <a:t>Raha mitoetra ao anatiko ny Fanahy Mas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1" i="1" lang="fi-FI" sz="3600" spc="-1" strike="noStrike">
                <a:solidFill>
                  <a:srgbClr val="000000"/>
                </a:solidFill>
                <a:latin typeface="Corbel"/>
                <a:ea typeface="Arial"/>
              </a:rPr>
              <a:t>Raha mitoetra ao anatiko ny Fanahy Mas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88434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8834400" y="5818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dcc5"/>
                </a:solidFill>
                <a:latin typeface="Tahoma"/>
              </a:rPr>
              <a:t>MMJ069 - </a:t>
            </a:r>
            <a:r>
              <a:rPr b="0" lang="fi-FI" sz="2400" spc="-1" strike="noStrike">
                <a:solidFill>
                  <a:srgbClr val="dddcc5"/>
                </a:solidFill>
                <a:latin typeface="Tahoma"/>
              </a:rPr>
              <a:t>RAHA MITOETRA AO ANATIKO NY FANAHY MAS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000000"/>
                </a:solidFill>
                <a:latin typeface="Corbel"/>
                <a:ea typeface="Arial"/>
              </a:rPr>
              <a:t>Mihira aho, mihira ah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ahaka an'i Da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Mihira aho, mihira ah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ahaka an'i Da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848440" y="4292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5" action="ppaction://hlinksldjump"/>
          </p:cNvPr>
          <p:cNvSpPr/>
          <p:nvPr/>
        </p:nvSpPr>
        <p:spPr>
          <a:xfrm>
            <a:off x="8834400" y="5818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dcc5"/>
                </a:solidFill>
                <a:latin typeface="Tahoma"/>
              </a:rPr>
              <a:t>MMJ069 - </a:t>
            </a:r>
            <a:r>
              <a:rPr b="0" lang="fi-FI" sz="2400" spc="-1" strike="noStrike">
                <a:solidFill>
                  <a:srgbClr val="dddcc5"/>
                </a:solidFill>
                <a:latin typeface="Tahoma"/>
              </a:rPr>
              <a:t>RAHA MITOETRA AO ANATIKO NY FANAHY MAS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Mandresy aho, mandresy ah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ahaka an'i Samsona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Mitolona aho, Mitolona ah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ahaka an'i Samsona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8848440" y="4292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88434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5" action="ppaction://hlinksldjump"/>
          </p:cNvPr>
          <p:cNvSpPr/>
          <p:nvPr/>
        </p:nvSpPr>
        <p:spPr>
          <a:xfrm>
            <a:off x="8834400" y="5818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dcc5"/>
                </a:solidFill>
                <a:latin typeface="Tahoma"/>
              </a:rPr>
              <a:t>MMJ069 - </a:t>
            </a:r>
            <a:r>
              <a:rPr b="0" lang="fi-FI" sz="2400" spc="-1" strike="noStrike">
                <a:solidFill>
                  <a:srgbClr val="dddcc5"/>
                </a:solidFill>
                <a:latin typeface="Tahoma"/>
              </a:rPr>
              <a:t>RAHA MITOETRA AO ANATIKO NY FANAHY MAS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Mihaino aho, mihaino ah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ahaka an'i Samoe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Mihaino aho, mihaino ah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ahaka an'i Samoe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8848440" y="4292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88434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4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5" action="ppaction://hlinksldjump"/>
          </p:cNvPr>
          <p:cNvSpPr/>
          <p:nvPr/>
        </p:nvSpPr>
        <p:spPr>
          <a:xfrm>
            <a:off x="8834400" y="5818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Mivavaka aho, mivavaka ah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ahaka an'i Danie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Mivavaka aho, mivavaka ah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ahaka an'i Danie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dcc5"/>
                </a:solidFill>
                <a:latin typeface="Tahoma"/>
              </a:rPr>
              <a:t>MMJ069 - </a:t>
            </a:r>
            <a:r>
              <a:rPr b="0" lang="fi-FI" sz="2400" spc="-1" strike="noStrike">
                <a:solidFill>
                  <a:srgbClr val="dddcc5"/>
                </a:solidFill>
                <a:latin typeface="Tahoma"/>
              </a:rPr>
              <a:t>RAHA MITOETRA AO ANATIKO NY FANAHY MAS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48440" y="4292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88434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3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4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dcc5"/>
                </a:solidFill>
                <a:latin typeface="Tahoma"/>
              </a:rPr>
              <a:t>MMJ069 - </a:t>
            </a:r>
            <a:r>
              <a:rPr b="0" lang="fi-FI" sz="2400" spc="-1" strike="noStrike">
                <a:solidFill>
                  <a:srgbClr val="dddcc5"/>
                </a:solidFill>
                <a:latin typeface="Tahoma"/>
              </a:rPr>
              <a:t>RAHA MITOETRA AO ANATIKO NY FANAHY MAS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Mitia aho, mitia ah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ahaka an'i Je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Mitia aho, mitia ah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ahaka an'i Jeso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848440" y="4292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434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834400" y="5818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5:25:41Z</dcterms:modified>
  <cp:revision>91</cp:revision>
  <dc:subject/>
  <dc:title>Tiona Advantista</dc:title>
</cp:coreProperties>
</file>