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9812-5ED4-46B2-BC2F-D18D4B68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BCD9-14BD-4D54-A48E-FBD6EDD3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D68D-9DCA-423F-A14E-F413DB71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6BDB-3987-448F-8AC8-091F6C4E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EC33-6675-4EE7-BE14-3669EE30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0466-B56C-4888-A116-A0542E3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19DE-2157-4F49-AA2B-16898593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4D0-94BC-4F71-80F1-CEAE067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06EE-6648-43A0-A6DA-6A592EF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4262-4AA5-4505-9A31-FA9B13E6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9989-E24F-4574-BD70-6DF59DC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93B8-8691-4455-89B2-C6CAA2E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1205-9D57-47B1-8A9A-D753E6E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B5D0-68DC-4442-B506-B730529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B59-3E37-4779-AB6D-D281EBF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DBCE-42AC-4DE1-881E-4745ECD3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5A9A-7A9A-4934-9764-0C42F758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FB44-EEBA-4711-81A3-3E69910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D26B-6587-476C-AE1A-C380E0AC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8776-310E-474E-BE50-FDBEEAF1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BDAC-1CD2-41F2-8D87-B3A9F6A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3D1E-E6DA-4907-A741-9EAA462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E73B-F9FC-4861-88AB-01DADAC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8D61-216C-4038-9477-0AEF52B8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C443-A8F7-41AF-A466-5A1787E115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629B-9493-4CF3-B6D8-4A775C560E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e87ac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66ccff"/>
                </a:solidFill>
                <a:latin typeface="Arial"/>
                <a:ea typeface="Arial"/>
              </a:rPr>
              <a:t>MMJ047 - FA NAHOA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e87ac"/>
                </a:solidFill>
                <a:latin typeface="Tahoma"/>
              </a:rPr>
              <a:t>MMJ047 - FA NAHOA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Fa nahoa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many to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lazao hoe: iza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tadiav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dia azoko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ba manolo-tsai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tadiav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ia ô ! Iza re la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e87ac"/>
                </a:solidFill>
                <a:latin typeface="Tahoma"/>
              </a:rPr>
              <a:t>MMJ047 - FA NAHOA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tadiav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dia tsy 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ahy rah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galatra azy 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to no nitoere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jereo fa foana 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za no ale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ery re ny Tompo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e87ac"/>
                </a:solidFill>
                <a:latin typeface="Tahoma"/>
              </a:rPr>
              <a:t>MMJ047 - FA NAHOA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ia ô ! Mangi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sy henoy an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no Jeso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na 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iko ny fa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tsy nahahazo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lazao ny nam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zava-dehib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87ac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1:46:39Z</dcterms:modified>
  <cp:revision>89</cp:revision>
  <dc:subject/>
  <dc:title>Tiona Advantista</dc:title>
</cp:coreProperties>
</file>