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D2F4E-5701-4CC7-B464-3890A1366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800E8-DF2B-438A-9A77-EECDF36F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8CDE7-1CC2-44EF-A14B-BF393A3F8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96B46-8FFE-477A-801B-38AF12909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410D-66FD-4D75-9F46-15941A48B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63A9-5E8A-4C3E-AE38-72821CFD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6777-8D25-4E54-815F-07E62774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F080-2288-445B-A256-F63CEDD2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0B46-69E6-48D3-B558-8FA8429C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93D9-05D2-4CBB-B2CC-C7350788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9B9C-82BD-42D1-AAC6-EB312DE3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C22DE-8A8F-4035-A307-3BA14D4B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F191-7427-440C-AE3A-F706D9A7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7289-C806-4194-AC34-60D7B6D0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B0B5-E759-4AEB-9BCD-0EF21C50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FC0B-83D3-4D74-92C3-659DE581E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23EA-A64E-43AE-AA67-69EBCFFA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BAC85-7E60-442C-9908-B9B68D75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DD5CB-E55A-4ED5-A3F0-524A1F3F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1A949-735C-4274-A788-A7E98AE2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F7BC2-B0DA-4FB1-ACAA-082C2C34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07F21-C111-485B-8709-1A8968BD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DCB5C-2423-4E54-976D-39F706C9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100DD-F6A8-4C6F-AC6B-1B5FC8A6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CF5D-4E42-42A4-B167-C1050B6C291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189C-3B2A-481E-BAC4-31F6B810D99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RAHABANA, FANAOVAM-BELOM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rahabana, fanaovam-belom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. RAVONINJATOVO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oyce M. JON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d8784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8784"/>
                </a:solidFill>
                <a:latin typeface="Arial"/>
                <a:ea typeface="Arial"/>
              </a:rPr>
              <a:t>MMJ083 – AKORY IANAR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b8dec6"/>
                </a:solidFill>
                <a:latin typeface="Tahoma"/>
              </a:rPr>
              <a:t>Ankizy Advantista – Miaraka mihira amin’i Jesosy</a:t>
            </a:r>
            <a:endParaRPr b="0" lang="en-US" sz="1900" spc="-1" strike="noStrike">
              <a:solidFill>
                <a:srgbClr val="b8dec6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8784"/>
                </a:solidFill>
                <a:latin typeface="Tahoma"/>
              </a:rPr>
              <a:t>MMJ083 – AKORY IANARE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kory ianareo, ianareo rehe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tonga ny Sabata, andro fitsaha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hoana daholo ianareo rehe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ly izahay miarahaba anareo tonga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8833680" y="5950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8T04:44:39Z</dcterms:modified>
  <cp:revision>89</cp:revision>
  <dc:subject/>
  <dc:title>Tiona Advantista</dc:title>
</cp:coreProperties>
</file>