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A8C-D475-489B-95B1-7D6BA988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878-A0E9-49BA-B4E4-5605BED4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364-254E-45DA-BB7E-FBCADE5C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A72-EE29-4A7C-9BAB-B248726D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3CAF-38E4-4500-8665-EF3638FA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96B7-0200-495D-82D2-7BC32C36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AE40-2D66-4295-8792-FC49690A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E90-9538-4E83-A000-1AE1C06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ED4-BBB4-4438-B80B-ECBC031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4380-0732-47AE-BCE5-058E428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8188-D58C-4218-8F25-DD96F23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225-33D3-4A54-885E-0D39360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B00-CAA7-4F5D-85CF-F14E3F8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2BA2-51C1-4675-94A3-C3E75A27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0A5A-414E-4080-9F29-780DE25F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2D1A-21BF-4546-B3D7-2C471FC6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105E-A6C7-4F89-A96A-3FB049B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A0F-40B6-41F2-8EE1-8794BC5A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8A1-9EB5-4A67-935B-783F01D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9C9-A7F9-4A01-A096-01DF957E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CAD-FC51-459E-9E36-737120F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F0E-8DA2-4C27-A411-FD2DDF1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3C9-1539-48BA-AD74-AFF281E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757-514C-4A2F-8349-3685847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A477-A24C-49D6-84C0-66086D957A4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1A5A-6DD5-4520-9869-2924D45269B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KOTONJANAHARY (BY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KOTONJANAHARY (BY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3399"/>
                </a:solidFill>
                <a:latin typeface="Arial"/>
                <a:ea typeface="Arial"/>
              </a:rPr>
              <a:t>MMJ055 - </a:t>
            </a:r>
            <a:r>
              <a:rPr b="1" i="1" lang="pl-PL" sz="3600" spc="-1" strike="noStrike">
                <a:solidFill>
                  <a:srgbClr val="ff3399"/>
                </a:solidFill>
                <a:latin typeface="Arial"/>
                <a:ea typeface="Arial"/>
              </a:rPr>
              <a:t>'ZAHO ANIE RY JESOS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ahoma"/>
              </a:rPr>
              <a:t>MMJ055 - </a:t>
            </a:r>
            <a:r>
              <a:rPr b="0" lang="pl-PL" sz="3200" spc="-1" strike="noStrike">
                <a:solidFill>
                  <a:srgbClr val="003366"/>
                </a:solidFill>
                <a:latin typeface="Tahoma"/>
              </a:rPr>
              <a:t>'ZAHO ANIE RY JESOSY T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'Zaho anie ry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 ! maniry h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han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ahoma"/>
              </a:rPr>
              <a:t>MMJ055 - </a:t>
            </a:r>
            <a:r>
              <a:rPr b="0" lang="pl-PL" sz="3200" spc="-1" strike="noStrike">
                <a:solidFill>
                  <a:srgbClr val="003366"/>
                </a:solidFill>
                <a:latin typeface="Tahoma"/>
              </a:rPr>
              <a:t>'ZAHO ANIE RY JESOSY T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m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araka Amin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hatrety ary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a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ahoma"/>
              </a:rPr>
              <a:t>MMJ055 - </a:t>
            </a:r>
            <a:r>
              <a:rPr b="0" lang="pl-PL" sz="3200" spc="-1" strike="noStrike">
                <a:solidFill>
                  <a:srgbClr val="003366"/>
                </a:solidFill>
                <a:latin typeface="Tahoma"/>
              </a:rPr>
              <a:t>'ZAHO ANIE RY JESOSY T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anie ry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ompo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ao izay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to Anao er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kely ny her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tohano, hatanj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ahoma"/>
              </a:rPr>
              <a:t>MMJ055 - </a:t>
            </a:r>
            <a:r>
              <a:rPr b="0" lang="pl-PL" sz="3200" spc="-1" strike="noStrike">
                <a:solidFill>
                  <a:srgbClr val="003366"/>
                </a:solidFill>
                <a:latin typeface="Tahoma"/>
              </a:rPr>
              <a:t>'ZAHO ANIE RY JESOSY T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anie ry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amirana, fal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'inon'inona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mpio aho re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oso re ka aza l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3:15:01Z</dcterms:modified>
  <cp:revision>88</cp:revision>
  <dc:subject/>
  <dc:title>Tiona Advantista</dc:title>
</cp:coreProperties>
</file>