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D7D-D074-4DE0-B88A-E87289C8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B0AF-C32E-4907-AB1F-B675D2A3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EE54-AA0D-42A8-86EF-59B0B5B2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766-18DB-4C8D-BC1D-4E796B37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580B-6EA7-492D-B180-03F68C9E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B5C3-0AD4-454A-BF4B-3B5EA8AD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B247-E350-4041-B766-46BBEFA1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74D3-64FB-43BB-B0EE-3F51BD87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85B3-27A0-46E5-A130-4A0E2220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81A6-0A33-42E2-8AC7-8539E10E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4162-982A-4086-9AD7-71733E19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B44-E3BF-4AC3-9C3D-F1B5BB81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7D16-092A-4907-8D2B-D558E52D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A69F-7D5F-4E3C-AF3B-7FB32BDC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B10A-8788-41FC-AB66-F5FD39F6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7DEE-28FC-450D-B5DC-62AD8CFB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5C5F-48E4-4157-969F-7E217F26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1A9-92E6-4017-BD04-594D6A10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C5F-5EFB-45B7-8CE1-137D712C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BF0F-5019-4F01-A4FA-BA9E9C07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6E6-AEF9-4C85-8E73-322744B8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B4A-307C-4E1B-9ED4-7767EBA4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334-45E6-43DC-8556-7FA05A9C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6A7-AD7F-4062-99DD-7AFCDAB7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038E-8D95-45C0-8A49-D3BAE28CC86D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5E22-A63E-47CE-87B2-F01FBA840417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ANDRIAMANITR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Jesosy Kristy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H. et S. GRANDJEAN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Correspondance : 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Arial"/>
                <a:ea typeface="Arial"/>
              </a:rPr>
              <a:t>MMJ027 – TIAKO JES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ff"/>
                </a:solidFill>
                <a:latin typeface="Tahoma"/>
              </a:rPr>
              <a:t>Ankizy Advantista – Miaraka Mihira amin’i Jesosy</a:t>
            </a:r>
            <a:endParaRPr b="0" lang="en-US" sz="2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8810280" y="5897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8814960" y="635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881028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27 – TIAKO JESO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Tiako Jeso; tiako tokoa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Izy nanaiky hamonjy ahy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Namonjy ahy mba tsy ho very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810280" y="5897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814960" y="635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firstslide"/>
          </p:cNvPr>
          <p:cNvSpPr/>
          <p:nvPr/>
        </p:nvSpPr>
        <p:spPr>
          <a:xfrm>
            <a:off x="8814960" y="50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27 – TIAKO JESO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Senton'ny fo, zava-manjo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Dia samy henony, fantany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Ka amboariny ho mahasoa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810280" y="5897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81028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firstslide"/>
          </p:cNvPr>
          <p:cNvSpPr/>
          <p:nvPr/>
        </p:nvSpPr>
        <p:spPr>
          <a:xfrm>
            <a:off x="8814960" y="50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27 – TIAKO JESO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Sambatra aho, Jesosy ô!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Manana Anao ho Mpiandriko;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Mpiandry tsara fanahy tokoa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1:53:52Z</dcterms:modified>
  <cp:revision>39</cp:revision>
  <dc:subject/>
  <dc:title>Tiona Advantista</dc:title>
</cp:coreProperties>
</file>