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01B5-9512-4164-95DC-E7DCA3D1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BB2E-59B1-46BC-AE8B-A02B8025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E239-01AB-4568-AB63-AF2446A6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DCA49-FB8B-4A43-8F5F-BE296B22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BC8C-EA19-4F90-A00A-5C5A7F23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EB44-34F0-4909-B441-437C646E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E279-1897-4E0A-9575-B72795A6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9A22-C3BB-45B7-8862-D2E9257A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139A-2243-4D3D-9A48-525AF14F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B862-C30A-4B6D-8C7F-EEEFA025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4C4B-7D22-462F-9245-D90537C2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405A3-0BCD-449F-9919-6E3DCB2B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9A9D-B4B3-4BF8-9CAD-B8E08773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DF94-986E-483A-B3FB-7A7D7A7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1664-BC8F-40A1-97C1-7EFC8D6C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6E63-CFDD-4771-BE1F-277B7887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CCD2-F0AF-4BAA-9334-B72E2D50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B647-4D89-42E8-A435-45420BFB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7C91-A62D-42D7-89FC-524A4FC6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255D-67B8-4794-906C-947D280B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932F-5C07-4039-9E8B-1C85924E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96B3-B0DF-4E81-91DA-A8453D2F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85EB-AAB6-4C8C-9A49-23876E06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0493-E8D1-4D9D-BC9B-471F8443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0CE2-590D-4930-8500-C3B7811CCA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CB7B-7D3F-4967-8DF6-4B104D692D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e0a5"/>
                </a:solidFill>
                <a:latin typeface="Arial"/>
                <a:ea typeface="Arial"/>
              </a:rPr>
              <a:t>MMJ006 – ENDREY IZANY HIRAN’N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2000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496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0596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81496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6 – ENDREY IZANY HIRAN’N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'zany hiran'ny lanitr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kanto sy mahafin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inga ny foko hihira ho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2000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1496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0596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881964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6 – ENDREY IZANY HIRAN’N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iran'ny lanitr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mahafin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a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tsy manam-paha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81496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80596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81496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881964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6 – ENDREY IZANY HIRAN’N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mitondra fiai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amelona anao 'zay toro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tsy manam-paha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2000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0596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1496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81964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6 – ENDREY IZANY HIRAN’N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ahasalamana sy her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Dia samy omeny an-tsitra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tsy manam-paha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2000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1496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1496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81964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0:30:04Z</dcterms:modified>
  <cp:revision>35</cp:revision>
  <dc:subject/>
  <dc:title>Tiona Advantista</dc:title>
</cp:coreProperties>
</file>