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BA5-A72E-4D4E-AFF5-757F306D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AE5-6047-4302-A648-2563080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783-B0FF-437D-8F99-562C4D51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BE3-44AD-4433-A9A8-6FA51A2F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3CD-D090-4A71-B01D-CD29AD74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4BC1-02B6-4BBF-9C4B-D4149FE2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3D05-5117-46D0-9057-992375B8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109-5308-4515-8AE5-2F558D9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D51B-E8CF-46ED-B101-9023B07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A97-3739-402A-BC6A-73CC94F9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925-C715-48E8-BF59-D1B03A6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D2D-BB55-4D37-9802-F6FDCF5F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7D69-A7C2-4F8D-BFA9-1B60BC8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C8BD-17B6-44CB-8E85-3E5B5B4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778-DA60-4406-897D-C45F1D6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0833-60B8-4FFD-A652-2CC8F27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D570-5DFE-42B7-80FF-4720010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774-823D-4882-AD87-72D5F00B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EC0-0D96-4BF4-877C-7A9FBC04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168-65E1-42EB-A7C1-F040B64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606-3746-4A7F-9E7C-B55B73D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90E-DD35-47FE-9A9E-856EB60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22E-7DFA-44B5-AEF8-BE05636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D30-9303-4B1C-BAE4-8BE1E13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A4D-464C-407F-B26A-7220B95B6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168-0301-4FA2-80E1-3AD111DCBC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Arial"/>
              </a:rPr>
              <a:t>MMJ088 - MANAHOANA, MANAH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632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MJ088 - MANAHOANA, MANAH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600" spc="-1" strike="noStrike">
                <a:solidFill>
                  <a:srgbClr val="003300"/>
                </a:solidFill>
                <a:latin typeface="Corbel"/>
              </a:rPr>
              <a:t>Manahoana, manaho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600" spc="-1" strike="noStrike">
                <a:solidFill>
                  <a:srgbClr val="003300"/>
                </a:solidFill>
                <a:latin typeface="Corbel"/>
              </a:rPr>
              <a:t>Faly tafah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</a:rPr>
              <a:t>Ravo mahit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</a:rPr>
              <a:t>Manahoan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789400" y="595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2:58Z</dcterms:modified>
  <cp:revision>105</cp:revision>
  <dc:subject/>
  <dc:title>Tiona Advantista</dc:title>
</cp:coreProperties>
</file>