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C171-9E4E-4C70-9E47-3BF6BCD7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704B-0960-48CB-9E2C-E36DDFB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DDB9E-8535-4FEC-9F31-6CDCA459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A35B-43AC-40C4-80EB-A0177BDF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3017-6094-414F-B86A-9AD9F7DC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0110-55E7-46C6-9D7E-2A4C5F85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5E30-4C28-4DAA-9955-ABB7555B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AE30-F6C6-4456-A7D8-196779D1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A5A5-3061-4E81-93A6-E71A28B7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0D32-4AB8-4036-A466-C2EC8028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BE1A-DE78-434B-AB6B-E3EEB2E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2F10-A16F-4273-B119-66DC8A6A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5826-D8C9-413D-9BDB-DFC71ACF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D8B6-B322-4885-90F9-72026C5D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9E79-506E-4F5A-A8A3-B79E596F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4E67-3E79-4287-8E02-93AD141B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EA19-7B5F-4B06-A6EC-96909E05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C7B2-237D-4049-8DDA-6C8C7837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3F7C-9BD9-4986-8F2C-3CE224A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8790-F075-4066-B5A8-F2440D95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688B-B2AD-4A54-AC28-A078D704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B0BD-6B92-4F58-A43A-A38B7E5E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763B-0C97-4005-B1C5-32B8231E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9D44-B8DD-4364-A5DC-628A1213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1484-AB73-4046-AFA8-D09FAA2A9B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851F-20F7-458F-A150-63FE84A8E2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d8771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d8771"/>
                </a:solidFill>
                <a:latin typeface="Arial"/>
                <a:ea typeface="Arial"/>
              </a:rPr>
              <a:t>MMJ074 – TIAKO S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8440" y="6323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ececb2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MMJ074 – TIAKO SAT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ffffff"/>
                </a:solidFill>
                <a:latin typeface="Corbel"/>
                <a:ea typeface="Arial"/>
              </a:rPr>
              <a:t>Tiako 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 </a:t>
            </a:r>
            <a:r>
              <a:rPr b="1" i="1" lang="pl-PL" sz="3200" spc="-1" strike="noStrike">
                <a:solidFill>
                  <a:srgbClr val="ffffff"/>
                </a:solidFill>
                <a:latin typeface="Corbel"/>
                <a:ea typeface="Arial"/>
              </a:rPr>
              <a:t>1 - reniko;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2 - raiko; 3 - zandriko; 4 - zokiko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iako, tiako satri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atria ny Tompo tia ahy sy 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 </a:t>
            </a:r>
            <a:r>
              <a:rPr b="1" i="1" lang="pl-PL" sz="3200" spc="-1" strike="noStrike">
                <a:solidFill>
                  <a:srgbClr val="ffffff"/>
                </a:solidFill>
                <a:latin typeface="Corbel"/>
                <a:ea typeface="Arial"/>
              </a:rPr>
              <a:t>1 - reniko;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2 - raiko; 3 - zandriko; 4 - zokiko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848440" y="6323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8771"/>
                </a:solidFill>
                <a:latin typeface="Tahoma"/>
              </a:rPr>
              <a:t>MMJ074 – TIAKO SAT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ia, tia ahy sy 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 </a:t>
            </a:r>
            <a:r>
              <a:rPr b="1" i="1" lang="pl-PL" sz="3200" spc="-1" strike="noStrike">
                <a:solidFill>
                  <a:srgbClr val="ffffff"/>
                </a:solidFill>
                <a:latin typeface="Corbel"/>
                <a:ea typeface="Arial"/>
              </a:rPr>
              <a:t>1 - reniko;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2 - raiko; 3 - zandriko; 4 - zokiko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336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7:56:33Z</dcterms:modified>
  <cp:revision>90</cp:revision>
  <dc:subject/>
  <dc:title>Tiona Advantista</dc:title>
</cp:coreProperties>
</file>