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6AC0-B06F-425E-B8D7-253DFCC7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7103-33F0-4D46-8DD2-91B07FCF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09EF-4BAC-4EA2-9819-ED2B932D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B502-CF53-4291-9657-A3C85483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731C-2178-4581-90A3-24A14CB1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F818-994D-4BFE-8DC3-5DCB798F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058-DA99-47BD-AE1A-B7FC0530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06B0-8A00-4B5E-BAA4-7A2E0EF8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BC3A-C3E3-49F3-92E7-2FBF6BB9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BFB9-8077-4BF9-BCA4-CE9876D0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F571-EC6A-4FBB-BA6E-19A5426E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8EEE-6031-4344-8D74-94B20635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510D-D784-494C-AA15-44C7AFB2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54CF-E609-4714-A2FA-7065016E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8E51-7F04-46A3-91ED-9C55011F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EDD3-3B92-4E56-852C-16195672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9647-E48B-406A-8B85-ED792B92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AD7E-B52E-4DF7-AC8A-0624A369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8585-F742-43E7-AAB0-521E764C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2F74-2BCB-4008-A600-64315F04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88DE-6C6E-4A78-AC1E-DA99D173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6D27-3827-489B-B782-64BB1D5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8481-7753-4518-A8F7-5170998E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0E66-9AE2-4851-BD97-3198268B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435-EAD5-4698-9E1F-CAED42E105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C4CB-A31B-4650-B3D8-7E59985D18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MJ046 - JESOSY TIA 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d8f6f8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d8f6f8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MMJ046 - JESOSY TIA 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72c676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tia antsika ankizy maro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mifalia, Matokia, Minoa sy mane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sara orina ny fino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Jeso miambina sy mamonjy ants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MMJ046 - JESOSY TIA 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72c676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tia anareo ray sy reny maro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mifalia, Matokia, ry Dada sy Ne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ny teniny izao isik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dia aminy izaho 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1:41:00Z</dcterms:modified>
  <cp:revision>91</cp:revision>
  <dc:subject/>
  <dc:title>Tiona Advantista</dc:title>
</cp:coreProperties>
</file>