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8F22-E62A-4C68-922E-3C15EEF9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2CAE-2B1C-48D9-88D2-8E586DB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72A0-FD49-41DD-B353-380C7818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90DA-676F-49ED-B0BC-091C5A1D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C4FA-6AF7-4858-875E-867A33AF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A2AF-B8A6-48DC-A412-5B9F1718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1B53-128A-4CD7-904C-502E0BC8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82AE-4C77-48F0-A718-DCDAE9DC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BB22-BD9D-4D2B-9EF9-5BE10504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AF9F-4D22-4C35-A309-EB025971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8CE4-7871-452E-91AF-08DBFC5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B5AF-A9EC-4F94-84C6-B3369D24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3E33-53F7-4E3A-95ED-E40A3D81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549B-FA4B-4FDC-A931-1E06F4C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6393-54B9-413C-9116-9B580D0C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4E8B-D21A-470E-B4DE-3ACFC906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8A45-35D3-4347-A2B9-BD70E89D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83A7-23C3-4929-92FC-E10B4B65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77CC-CED4-49AC-B282-3F827A94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07B2-211B-4DD1-95BC-8007067B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347C-4635-4053-B256-3A96075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C8C3-ADE1-4908-929A-28DDE6A8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3CDC-B94B-46C2-A8D5-03432518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4CB5-043C-4DE6-A881-C831C97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9554-42F6-4259-A5C0-BC3A086CE0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B474-3019-4AC8-AA92-1F2BB67656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07 – MITEHAFA T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5897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7 – MITEHAFA 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, rankizy kel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, ho a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mendrik'Azy anie ny hanaovanao ho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, rankizy kel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10280" y="5897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149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7 – MITEHAFA 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hobio, ankalazao, rankizy kel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hobio, ankalazao, 'Lay Mpamonj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sy Tomponao izay ti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, rankizy kely ô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14960" y="63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8149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7 – MITEHAFA 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miderà, rankizy kel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miderà, ho 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avo anio 'zany hira m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, rankizy kel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10280" y="5897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1028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814960" y="50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32:57Z</dcterms:modified>
  <cp:revision>37</cp:revision>
  <dc:subject/>
  <dc:title>Tiona Advantista</dc:title>
</cp:coreProperties>
</file>