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B5645-E521-44A5-A8A6-F47B3A59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4F4D3-9387-4EBA-960A-FDEEBA50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CD13A-A66E-4CC3-9508-DEC8CF05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B129B-50CA-47C4-B8D6-58456E88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7D18-B4C4-42E0-A8F6-AFA29941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5FD8-1166-4CBA-8B86-9D09D1FB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E560-BE3D-43D4-B669-D5E9C708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82AC-7E3A-4E1D-B761-D7E21F57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EAC4-A56E-406C-8153-16956E31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D382-8DFB-400D-A62C-A4506EF5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9536-39B0-437E-8C27-8EF63640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5EC54-E132-4EA1-A524-A325B3F4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5309-711D-4EA4-AFA2-8BA28860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24B0-FD8E-4B4C-9586-DBDDBB8E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D632-2179-403E-B80F-741EB65F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E5A2-D7D6-4F54-846A-1879AD0F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5F3D-EEB7-4B51-8B93-96958534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D3267-F250-476D-8785-7058A6B2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AC5E7-4AED-4BAA-96F6-E5FA71F4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7CB4E-FB2F-418B-B3EA-57EA48CA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9FF86-BDB4-4CBA-BB0B-84BD1528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F9661-EB40-4740-8276-2E72AB5A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244E2-573D-4EF8-8F08-8B830D4F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B5FEC-EA03-424A-B345-5E31621B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C0F6-7724-470D-A9E0-DA5630A6FCD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5527-3112-49BF-8C2B-3D1BED919BF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RAHABANA, FANAOVAM-BELO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rahabana, fanaovam-belo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. RAVONIN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d8784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8784"/>
                </a:solidFill>
                <a:latin typeface="Arial"/>
                <a:ea typeface="Arial"/>
              </a:rPr>
              <a:t>MMJ082 – MANAO AHOANA ISIKA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88434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3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b8dec6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b8dec6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82 – MANAO AHOANA ISIKA REH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ffffff"/>
                </a:solidFill>
                <a:latin typeface="Corbel"/>
                <a:ea typeface="Arial"/>
              </a:rPr>
              <a:t>Manao ahoana isika rehetr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ffffff"/>
                </a:solidFill>
                <a:latin typeface="Corbel"/>
                <a:ea typeface="Arial"/>
              </a:rPr>
              <a:t>Mifaly fa mifankahita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ffffff"/>
                </a:solidFill>
                <a:latin typeface="Corbel"/>
                <a:ea typeface="Arial"/>
              </a:rPr>
              <a:t>Eto amin'ny sekoly Saba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Mahafinar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8434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82 – MANAO AHOANA ISIKA REH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Manao ahoana isika rehetr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'Ndao hiaraka mihira isika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Eto amin'ny sekoly Saba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Mahafinar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82 – MANAO AHOANA ISIKA REH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Manao ahoana isika rehetr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Andao hiaraka mivav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Ka ny Fanahy no hampiana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Mahafinar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8434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82 – MANAO AHOANA ISIKA REH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Andeha ho etsy kely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ijery voninkazo m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'Zay mampiseho ny endriky n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Be voninah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8434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8T04:21:15Z</dcterms:modified>
  <cp:revision>88</cp:revision>
  <dc:subject/>
  <dc:title>Tiona Advantista</dc:title>
</cp:coreProperties>
</file>