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119C-E906-45CC-AD42-4622E451C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4454-6F39-437E-999A-9811C8E2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178B-4C57-4FD0-82D4-E00889719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DFD4-F7BD-491B-9CF9-B95D69CB7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2579-7163-4BB6-882C-94F9E1774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3BDA-BAB9-4F26-A557-B9DA2C69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7EE2-40AB-4281-8A87-F24CE491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2BCD-7A9B-4603-82C1-1A086540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AC07-6665-45A3-A9F4-F163A87F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05B5-48C9-45B5-B78B-96316264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6B35-68D2-4F72-A7D4-41070E13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31F8-31E5-496E-B0F6-AFDF551B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6B90-AE57-4FF9-AD6B-780405FF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BEAE-ECB7-4C7F-8159-1FF8B7BF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704B-900F-4B5A-88A6-43F852D7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B1E0-01E2-429A-A808-0D97BEE24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C921-F945-4C23-BDDC-E1213434A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2F62-28A1-418E-B9C3-9F419DF6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7060-9848-486B-8BE8-680FDFE8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4450-AF61-4C71-8618-65683796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52CE-FDBD-4E9A-A7A0-1B44BF0A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9ACF-382E-4051-B08E-C4955C82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3F8A-A1C7-4A84-A2FA-5BEF6140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D7EB-8278-4696-8561-C204476E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29DD-6CB2-4ADF-91C4-6B5B43367C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6FB4-5798-4BC1-B3E5-185E1EA1C0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a7c3e"/>
                </a:solidFill>
                <a:latin typeface="Arial"/>
              </a:rPr>
              <a:t>MMJ068 - KANTO INDRINDRA NY ANAR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799120" y="5602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04160" y="5983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80848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ahoma"/>
              </a:rPr>
              <a:t>Ankizy Advantista – Miaraka mihira amin’i Jesosy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Sous-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Paroles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 : N. RAVONINJATOVO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Musiqu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 : (Tsy fantatra) 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Corespondance 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4e4c"/>
                </a:solidFill>
                <a:latin typeface="Tahoma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MJ068 - KANTO INDRINDRA NY ANAR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</a:rPr>
              <a:t>Kanto indrindra, kanto indri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</a:rPr>
              <a:t>Ny anaran-tsoan'i Tompo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</a:rPr>
              <a:t>Mpanjaka lehibe, be voninah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</a:rPr>
              <a:t>Kanto indrindra Tompo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</a:rPr>
              <a:t>Miaro ahy sy mikarakara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</a:rPr>
              <a:t>Ny fiainako Iz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99120" y="5602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80848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789400" y="5230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MJ068 - KANTO INDRINDRA NY ANAR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</a:rPr>
              <a:t>Tiavo Izy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</a:rPr>
              <a:t>Ka miankohof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</a:rPr>
              <a:t>Fa kanto indrindra ny fitiav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99120" y="5602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04160" y="5983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789400" y="5230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MJ068 - KANTO INDRINDRA NY ANAR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</a:rPr>
              <a:t>Kanto indrindra, kanto indri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</a:rPr>
              <a:t>Ny anaran-tsoan'i Tompo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</a:rPr>
              <a:t>Fa Izy no nanao izao rehetra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</a:rPr>
              <a:t>Kanto indrindra ny anar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Mpiandry lehibe, Vatolampy mandrak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Izy ilay Tsitoh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7T05:17:21Z</dcterms:modified>
  <cp:revision>106</cp:revision>
  <dc:subject/>
  <dc:title>Tiona Advantista</dc:title>
</cp:coreProperties>
</file>