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C2D5-CE62-4DF3-B7B3-BA48D156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C761-6124-4828-8B30-175D40A4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2419-D127-4C92-801F-81C554AA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18AE-B6AB-46D7-9FF0-92995074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449-6168-498E-B74A-DB07800D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64DA-3197-4947-B10F-DF817A8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24CF-B608-44A2-9C8D-A7B94A09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E81-8B0A-4776-9238-C3756FB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5A81-8FB6-45BA-B68E-265D6FC4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A64F-DA97-40E6-9E10-AAE4F035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8DF9-E6E7-4D75-BAB4-156DAE8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8852-FEE4-48FA-8933-1AB65078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2AE8-964B-4D70-B637-09BEC46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AEB-3A30-42D5-A864-F443CBA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99F-2B03-493C-8AF9-E1A8B4EF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C7B-37B7-44A2-B761-180F1231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656-2909-4335-90FB-F2273452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C578-DDB1-46D2-BF8C-1DBE1B8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36AF-77B1-425F-BCA9-A0314879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4FC9-522D-4BDD-AFC8-9B01B1D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2C0F-A124-4AD1-950D-E7B0CE8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6651-964F-4488-B2AE-3F924A8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12F7-3068-47ED-B85F-9DC3206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6FB1-ED9E-4AE9-8819-28C5248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7839-5659-4F48-A8B7-EC971FDB64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E631-8D86-4CD2-9A0E-3BEEFC6B0E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5 – TIA ANAO J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5 – TIA ANO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ia anao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ia anay,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tia dia tia to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tiako 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avanao Je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avanay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Zoky tena mami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mamin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5 – TIA ANO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ia anay Ia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tia toko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Havan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zoky mamin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Ka mba raiso na dia tsy mendrik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Jeso ô, ny fitiavan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5 – TIA ANO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anjakao Jes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anjakay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Aro sady toki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ena tokin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Volanao Jes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Volanay,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zy no harenanao Sy fananan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ia anay, sns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666699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34:50Z</dcterms:modified>
  <cp:revision>38</cp:revision>
  <dc:subject/>
  <dc:title>Tiona Advantista</dc:title>
</cp:coreProperties>
</file>