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9C6-0D1A-4050-8BF6-B3C9F358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B00-F547-495D-9CB5-7555D99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923-A457-4862-A9B9-C532230C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0E1-B5B2-44A5-A40C-756AD7B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5319-3F65-453F-8921-6132B107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62C4-29F2-4542-8C9A-42F6C2F5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3D1-D7E5-4606-BFD7-3FE51572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7E66-91E8-446E-9D9D-40B33FF6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7082-F034-4FE2-9E96-626ACF56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3330-BDBE-44E8-B05F-F0A461F8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320-29A7-4329-BAB9-BBF65E7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7EC-D066-4712-B771-7C154E11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885F-5762-44FC-B86E-F94945C9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7098-594C-48E7-BD6B-922F7AD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472-BA1B-470F-8BDA-1ED9BB73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C5F0-AE5E-4B21-BC4D-D75D5B5D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3219-9442-41FD-8F4B-C2D6389C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759-76F5-4648-8BB4-CE8CE0CA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E6B-F410-43AD-B54C-4043D91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B63-DA36-46EF-A7E7-E4F465F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D69-87D6-44BD-A1D9-1BB3E4B3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2D9-A0DB-405F-840D-9C0CB52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E78-B808-4962-9BF8-B9052E7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261-1706-413E-8254-A510105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2932-37BF-4941-814B-67FEC0AA5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3DF-B11E-429A-A91B-A03E15489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Esther B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5f03"/>
                </a:solidFill>
                <a:latin typeface="Arial"/>
                <a:ea typeface="Arial"/>
              </a:rPr>
              <a:t>MMJ072 – AVIA FAINGANA RE R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72 – AVIA FAINGANA RE RANKI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faingana re, rank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ena fa maraina ny 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ia mavitrika daho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ao ary hitsambikimbikina 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 isik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o marai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 isik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en'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72 – AVIA FAINGANA RE RANKI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faingana re, rank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omana ireo saka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ao vorio ny mpianak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lazao hoe "Mazotoa homana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'zahay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izao sakafo antoandr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sitrahan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fa sakaf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72 – AVIA FAINGANA RE RANKI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faingana re, rank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efa tonga ny har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diniho ny Baib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koa hahita 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ory izaha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vy mba hisa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iarovana ataonao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3:23Z</dcterms:modified>
  <cp:revision>89</cp:revision>
  <dc:subject/>
  <dc:title>Tiona Advantista</dc:title>
</cp:coreProperties>
</file>