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91E-D6ED-410E-A4B8-4967D5B9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035-56EC-468B-BD68-FDA37171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B61-6CAE-43A5-8495-30DC91C9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DC6-C919-4977-97B3-16638B34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A2C8-5822-4A74-BF5F-665E69D1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16C2-BF95-4315-91A6-8C561307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C777-016A-4815-A0B8-2DE23792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089D-EC3F-4F33-AF08-99876828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729A-73CA-434E-B3B5-A2E4A371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6803-C11E-4CB8-B8C2-2C4F0D1E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1CF8-A0D2-4BE1-860B-8C0EEEDD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E7F-F6CE-437D-8434-14AF4AF5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A48A-57F4-46BA-85B7-F4ECDE2A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FA40-061C-4969-A351-111DCAD1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68EA-F959-45E4-8461-1A2108E3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753A-2B08-4291-9C80-9F722A3A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817D-0373-4121-BBFD-C49ACB9A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B0A-A8D2-463A-802E-7E99CEF0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93C-86FF-4D8D-B798-43DD02EB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AFA-D55D-458F-9717-C27993D8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001-7A7C-4214-B0C4-A237C5B7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EC9-6E7D-435D-AABC-A8C73862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266-C409-42FA-AC18-14229A6F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08C-61CF-4D4F-A22B-625DD03A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3107-7A8A-4D63-B2B1-E6A625009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E83A-9D7E-4112-87A7-FE072A844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FIAINANA ARA-PANAH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(Tsy fantatra)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(Tsy fantatra)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56925a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925a"/>
                </a:solidFill>
                <a:latin typeface="Arial"/>
                <a:ea typeface="Arial"/>
              </a:rPr>
              <a:t>MMJ093 – FINOANA NO NAMPIROD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843400" y="6524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925a"/>
                </a:solidFill>
                <a:latin typeface="Times New Roman"/>
              </a:rPr>
              <a:t>MMJ093 – FINOANA NO NAMPIROD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Finoana no nampirod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Ilay mandan'i Jer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Eny tamin'ny fino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Dia nirod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833680" y="609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5:06:43Z</dcterms:modified>
  <cp:revision>91</cp:revision>
  <dc:subject/>
  <dc:title>Tiona Advantista</dc:title>
</cp:coreProperties>
</file>