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F0C00-58FD-4F5A-A873-D326AF3E3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CDD40-3E51-439F-A5E3-5E9345BA8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45CAF-693C-4772-817E-EF604E437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90C5E-6326-4F70-97D3-7A702B8A7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DA706-B7F1-4BFE-A901-45E86DDE6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6187C-2615-49B1-A0A5-64293826A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A9CED-3387-4DC4-8E6D-AA8468FFA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7F0C7-6D3B-4289-87A6-0DD6A6B8C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E9103-B40A-428F-9374-C18CB2E8A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C69B7-0573-4C9F-A061-3BC8EAC8A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AF174-2857-42FC-8910-8B3AC011F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27D6C-B236-457D-BBFB-EB5ED0054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A51CD-DB96-488C-96F3-B9143DBF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C108C-4FE6-465C-86F0-2AD3B511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D4294-3EB1-4640-9E24-C17F999D6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0F87D-D3A9-40AB-BFF4-EB052C23E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B9AD9-3CC1-4CCE-B80D-F7BC86017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CDECA-7FD5-4B79-86C3-7030F69AD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E2699-AAAC-4D8D-BEDC-BA31E8417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B0FEE-5982-4C07-BC0B-6D2504682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FA423-BC1E-4AC7-AE41-43EFD680D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74C55-894C-49A2-9C2E-4C7ED679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1A768-128A-45AB-9D17-5D377243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0D784-F055-4CD0-BB17-45580E007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505f52"/>
                </a:gs>
                <a:gs pos="100000">
                  <a:srgbClr val="46564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d8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48574a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4351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566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566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526454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465648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6d8771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526454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465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65648"/>
                </a:gs>
                <a:gs pos="50000">
                  <a:srgbClr val="4b5a4d"/>
                </a:gs>
                <a:gs pos="100000">
                  <a:srgbClr val="46564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cecb2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c0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c991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ececb2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dc0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35389-C685-4038-BF4D-E10BA03FFCD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505f52"/>
                </a:gs>
                <a:gs pos="100000">
                  <a:srgbClr val="46564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d8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48574a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4351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566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566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526454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465648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6d8771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526454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465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65648"/>
                </a:gs>
                <a:gs pos="50000">
                  <a:srgbClr val="4b5a4d"/>
                </a:gs>
                <a:gs pos="100000">
                  <a:srgbClr val="46564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cecb2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DAB02-9E89-45D8-98B3-75AEF737353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595008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NDRIAMANIT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esosy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imé RAOELIARIJAON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imé RAOELIARIJAO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6d8771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d8771"/>
                </a:solidFill>
                <a:latin typeface="Arial"/>
                <a:ea typeface="Arial"/>
              </a:rPr>
              <a:t>MMJ045 - RAHA NITENY I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>
            <a:hlinkClick r:id="rId1" action="ppaction://hlinksldjump"/>
          </p:cNvPr>
          <p:cNvSpPr/>
          <p:nvPr/>
        </p:nvSpPr>
        <p:spPr>
          <a:xfrm>
            <a:off x="8843400" y="5589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d8771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>
            <a:hlinkClick r:id="rId2" action="ppaction://hlinksldjump"/>
          </p:cNvPr>
          <p:cNvSpPr/>
          <p:nvPr/>
        </p:nvSpPr>
        <p:spPr>
          <a:xfrm>
            <a:off x="8848440" y="59706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d8771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>
            <a:hlinkClick r:id="rId3" action="ppaction://hlinksldjump"/>
          </p:cNvPr>
          <p:cNvSpPr/>
          <p:nvPr/>
        </p:nvSpPr>
        <p:spPr>
          <a:xfrm>
            <a:off x="8843400" y="6351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d8771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ececb2"/>
                </a:solidFill>
                <a:latin typeface="Tahoma"/>
              </a:rPr>
              <a:t>Ankizy Advantista – Miaraka mihira amin’i Jesosy</a:t>
            </a:r>
            <a:endParaRPr b="0" lang="en-US" sz="1900" spc="-1" strike="noStrike">
              <a:solidFill>
                <a:srgbClr val="ececb2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d8771"/>
                </a:solidFill>
                <a:latin typeface="Tahoma"/>
              </a:rPr>
              <a:t>MMJ045 - RAHA NITENY I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c9916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niteny Ianao, tsy nihaino aho, Je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niantso Ianao, nihodina aho, Je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namonjy Ianao, nihifika aho, Je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848440" y="59706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d8771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8843400" y="6351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d8771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" action="ppaction://hlinkshowjump?jump=firstslide"/>
          </p:cNvPr>
          <p:cNvSpPr/>
          <p:nvPr/>
        </p:nvSpPr>
        <p:spPr>
          <a:xfrm>
            <a:off x="8833680" y="5157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d8771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d8771"/>
                </a:solidFill>
                <a:latin typeface="Tahoma"/>
              </a:rPr>
              <a:t>MMJ045 - RAHA NITENY I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c9916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meloka aho eo imaso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fonako Jeso ny ota izay nat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fonako tokoa izao hadalako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eteza Tompo ô, diovy a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tsy hanameloka ahy ny rà nalatsak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843400" y="5589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d8771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843400" y="6351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d8771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>
            <a:hlinkClick r:id="" action="ppaction://hlinkshowjump?jump=firstslide"/>
          </p:cNvPr>
          <p:cNvSpPr/>
          <p:nvPr/>
        </p:nvSpPr>
        <p:spPr>
          <a:xfrm>
            <a:off x="8833680" y="5157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d8771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d8771"/>
                </a:solidFill>
                <a:latin typeface="Tahoma"/>
              </a:rPr>
              <a:t>MMJ045 - RAHA NITENY I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c9916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nijaly Ianao, namadika aho, Je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 nohomboana Ianao, naneso aho, Je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maty Ianao, nandositra aho, Je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843400" y="5589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d8771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848440" y="59706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d8771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>
            <a:hlinkClick r:id="" action="ppaction://hlinkshowjump?jump=firstslide"/>
          </p:cNvPr>
          <p:cNvSpPr/>
          <p:nvPr/>
        </p:nvSpPr>
        <p:spPr>
          <a:xfrm>
            <a:off x="8833680" y="5157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d8771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1-05-26T01:34:21Z</dcterms:modified>
  <cp:revision>89</cp:revision>
  <dc:subject/>
  <dc:title>Tiona Advantista</dc:title>
</cp:coreProperties>
</file>