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4FED-2446-434D-97BD-4FC3FF75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C5C2-D798-48EB-9D75-8FE54E78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5057-4900-46EC-8929-B580533C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EE97-529D-42AE-B13A-259005F8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D536-D0CC-4582-8F5A-C6727C48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D955-5DA9-473A-8B1E-5A6137AE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F95F-BFFD-4C41-AEF0-86FF6B6B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E728-93A8-4CA4-9A23-B61A62AC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0DBE-1C7D-4FEB-A950-9606D5A5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1294-CE5B-4194-BB84-B2F53849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711A-A20C-4EAC-BC12-0097DECD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B02D-42E0-4AA7-BE50-310C556F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DA59-B546-4AFE-90DB-9F6213D1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B21E-1FF0-4CFA-AFC4-64A2CBBB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F036-9532-4C28-B39C-D3E99C45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3F0A-2E53-4623-BA27-9FB84902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3C9B-D640-46AA-8F56-15FB1598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3C1B-8F74-4BC0-936D-8AA7712E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07E5-705E-4661-9DE2-6B57B4F7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78F-203E-4749-8E79-72F53C79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2BFD-87D0-483D-9B3A-00CE7921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8F8E-60B0-4EC2-AC61-702DE47D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8BFC-75CF-4852-A778-9D0B10C4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F4D1-B8EB-4F33-B612-983CF2C2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8B70-A154-40A8-A978-A3FBF3B17A9B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F699-03F2-43C0-A3CD-5E0941EC9DBC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Thèm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ANDRIAMANITRA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Jesosy Kristy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R. TSIMAITOARIVO</a:t>
            </a:r>
            <a:br>
              <a:rPr sz="1000"/>
            </a:b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Georges G. STEBBINS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Correspondance : 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99"/>
                </a:solidFill>
                <a:latin typeface="Arial"/>
                <a:ea typeface="Arial"/>
              </a:rPr>
              <a:t>MMJ022 – AVELAO NY ZAZA HANATONA AH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ffff"/>
                </a:solidFill>
                <a:latin typeface="Tahoma"/>
              </a:rPr>
              <a:t>Ankizy Advantista – Miaraka Mihira amin’i Jesosy</a:t>
            </a:r>
            <a:endParaRPr b="0" lang="en-US" sz="20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2" name="">
            <a:hlinkClick r:id="rId1" action="ppaction://hlinksldjump"/>
          </p:cNvPr>
          <p:cNvSpPr/>
          <p:nvPr/>
        </p:nvSpPr>
        <p:spPr>
          <a:xfrm>
            <a:off x="881028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b2e3"/>
                </a:solidFill>
                <a:latin typeface="Tahoma"/>
              </a:rPr>
              <a:t>MMJ022 – AVELAO NY ZAZA HANATONA AHY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Avelao ny zaza hanatona ahy, hoy Jesosy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Fa an'izay toa azy ny fanjakan'ny lanitra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Raha tsy miova ianao ho toy ny zazakely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Tsy handova ny fiainana,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dia fiainana mandrakizay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8814960" y="5907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6T01:37:20Z</dcterms:modified>
  <cp:revision>40</cp:revision>
  <dc:subject/>
  <dc:title>Tiona Advantista</dc:title>
</cp:coreProperties>
</file>