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5043-9104-471B-ABB9-B3AF9EBE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5195A-B412-4ED4-9DC8-2633EBE4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D02A3-4B4F-41CB-B840-0B6AAE53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34E9C-6094-452A-A56E-D3E7F50E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8B70-9A48-4660-AECE-FFB485EC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F647-24BD-4BD6-BDA4-24F40B5F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2CE3-417A-4122-984A-E2BB7346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CB92-469D-4BDA-A96F-4AFB28D0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AD29-2D75-4AB8-A43A-B2D4310C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49E1-A4AD-4CDE-AFBB-B6099E8E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7A14-E7C4-4010-B282-41B8AC4F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4364D-CD8A-48E4-AE02-46B944FD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A842-1447-4E29-B187-B34AAFC7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8F72-F4C2-4D68-B3D9-568EA65A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A51F-1A59-47AB-BFD9-2CF3B250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EE92-40DC-417B-8CBC-9C33D2E5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BC73-0CE8-40A2-A62C-30315C95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249BC-6239-469D-AA55-12E7FCF9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1F817-CEC9-4247-A472-D5A4DE38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4DCD3-9B03-4137-A7E1-969CD51B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9270E-75B8-40F2-9DBD-47B1A3DA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63199-EE5E-4C6E-809B-5BF2D7B6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C8918-DD3A-4950-B71C-10A0483E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193E9-9351-4302-B906-1E9EEEE8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E4D9-BD49-4E5B-98C9-B4F19D3780D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4DAC-C45F-4B2D-B6B1-0C503A10DF5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Clara M. STRIP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dddcc5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99"/>
                </a:solidFill>
                <a:latin typeface="Arial"/>
                <a:ea typeface="Arial"/>
              </a:rPr>
              <a:t>MMJ033 – REHEFA TERAKA JESOSY T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881028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822160" y="6323040"/>
            <a:ext cx="27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881028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3 – REHEFA TERAKA JESOSY T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Rehefa teraka Jesosy t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ao an-tranon'omby fahiz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Indro tazana namiratra 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Kintana soa ir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881028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8822160" y="6323040"/>
            <a:ext cx="27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80056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3 – REHEFA TERAKA JESOSY T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Ireo mpihiran'ny lani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Nanao hira fiderana k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Nitory vaovao mahasambatr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Fa teraka Jesos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22160" y="6323040"/>
            <a:ext cx="27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880056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81028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3 – REHEFA TERAKA JESOSY T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Nisy koa mpiandry ondry t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onga mba hitsoka Azy 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Ny nentin'ny Magy no mba jer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Zava-tsoa be dia b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1028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880056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1028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8T16:29:17Z</dcterms:modified>
  <cp:revision>38</cp:revision>
  <dc:subject/>
  <dc:title>Tiona Advantista</dc:title>
</cp:coreProperties>
</file>