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06F-CC3E-4556-9289-E241A5C7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345-52CB-4578-87F6-448F4916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866-BA18-480C-BC0B-52D156CA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D61-CD50-4731-A599-D63A5C87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3C79-6540-40CA-BAB9-3DC0CD3E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129C-34E8-4FE2-90B9-D1757072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F50A-DF09-42B0-A948-B53E7BD5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E7CC-E59B-4EFB-9407-C209BC70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CC18-2A4D-4B1C-B82F-12C798CC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B8D3-7FE2-421A-B48A-ADACDFBF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34B3-E77F-469E-8017-903260EE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9E1-7907-4BA2-BA0C-FF256EC2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CD6F-6844-4F55-B018-1398A3E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C869-B812-41C9-B726-E318E1DA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0476-BCC6-4395-A246-BE4456E6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85F7-DD00-4B3A-B82E-358A401D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8C44-ADF6-4103-A0E0-455D7F8B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657-2119-4AAF-AE26-3CED4608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92B-8C48-4F03-85EA-B7062E03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BAF-10B8-497F-84AC-7CC5B112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994-AFC6-4B9C-A177-847A08C2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0D5-CA7A-4A4F-A3C1-8381B816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822-5CE8-4E7B-BC50-E46734BE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06E-8E57-4F6E-8125-3061F778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148D-6585-478D-A070-3653A9803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522F-EECA-4223-A60C-DD637507F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Chalvar A. GABRI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6925a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ff33"/>
                </a:solidFill>
                <a:latin typeface="Arial"/>
                <a:ea typeface="Arial"/>
              </a:rPr>
              <a:t>MMJ065 – IZA NO SAKAIZA MAHAFATRA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484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65 – IZA NO SAKAIZA MAHAFATRA-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Iza no sakaiza mahafatra-p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ana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 fanahy sy be indraf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ana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484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65 – IZA NO SAKAIZA MAHAFATRA-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iza no mifandra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ilazao izao hafatra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Jesosy mba ho nam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voavonj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65 – IZA NO SAKAIZA MAHAFATRA-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no afaka hamonjy m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ny zava-manj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namana tsara k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oatra noho 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484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65 – IZA NO SAKAIZA MAHAFATRA-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o tokoa ny fitiav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lazao ary hi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atsotrany ny tan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hy s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484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4:53:50Z</dcterms:modified>
  <cp:revision>87</cp:revision>
  <dc:subject/>
  <dc:title>Tiona Advantista</dc:title>
</cp:coreProperties>
</file>