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CB4-1A60-40B8-BF63-6CB529C3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2DF-6CF9-49E4-B423-B0269DD9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E2D-C229-4377-A396-7952AC96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6BD-2F33-4938-9E1D-E7DBC25B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D5F5-2808-4B0E-92BF-D7ACACCF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529A-F058-4A1E-9A6E-50117F01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58CD-727B-40A6-9672-9D675A90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5ED1-96CE-4D45-9962-7F3FD33D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0A68-5844-4EA5-878D-25C5DC0A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AB67-AA4D-4E65-A690-23B47A36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00B3-D418-4004-8354-902DDD6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AC1-BE0D-4D21-8EC0-27898DB2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8828-85AB-4A1A-AD7F-36AE8CA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0E30-B519-4552-A28F-EC66324C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956F-4B11-4B6F-95D6-6BFBBF87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0AC1-8D8B-4F3A-9F99-EF8C31E8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9B65-AF0F-4A60-8440-2CA25A8D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6D6-26B9-474C-82FA-0CA2B11B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63C-9CBB-43A9-A977-02620851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E7F-D586-4F4C-A323-4EDC808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A1F-7992-4873-8D00-A1DBAE0A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AB8-FB43-4586-ABF3-AB394DC1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CBC-1F6A-4560-A65F-0A23625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C46-B954-4BE4-AC2E-5C0CA0E2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0A77-312B-4C44-9650-CD786DD05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A8EC-3E0C-4FF6-85DB-9E5C58B5C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kizy sy fianakavian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D. RAZAKAR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5f03"/>
                </a:solidFill>
                <a:latin typeface="Arial"/>
                <a:ea typeface="Arial"/>
              </a:rPr>
              <a:t>MMJ078 – VONINKAZO SOA NO ATOLOT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8434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5f03"/>
                </a:solidFill>
                <a:latin typeface="Times New Roman"/>
              </a:rPr>
              <a:t>MMJ078 – VONINKAZO SOA NO ATOLOTRO AN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Voninkazo soa no atolotr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 tiako tokoa ianao ry Nen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y toetra tsara dia an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ongalafatra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34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833680" y="5654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5f03"/>
                </a:solidFill>
                <a:latin typeface="Times New Roman"/>
              </a:rPr>
              <a:t>MMJ078 – VONINKAZO SOA NO ATOLOTRO AN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ahian'i Jeso toko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Ianao sy ny nataonao ry Nen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tsroako ireo anatrao be di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indrindra re ry Neny ti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67160" y="6610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5654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8:37:22Z</dcterms:modified>
  <cp:revision>89</cp:revision>
  <dc:subject/>
  <dc:title>Tiona Advantista</dc:title>
</cp:coreProperties>
</file>