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0366-9819-426A-B72C-459336F0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1A3D-807A-480F-96EF-563E0A92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E7A0-E3A4-4B4B-92C3-B91E65E2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FDA8-3AC9-4D30-9032-09AF9841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DED2-2A2D-43D6-93FC-D1672358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64D2-D274-4324-BE2B-D5C3E349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990F-3726-46CD-9EA6-CB527C28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A5D3-9D3F-4C03-A310-BABC41CD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C474-992F-4CDA-810F-6D1DB96B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2F6D-DF96-4646-8A9E-5ADAAEBF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E095-7542-4548-8CEC-9757AF3F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9001-87B7-4979-BF4C-205799CE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29B-E814-4C72-B693-8019434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CD4E-F043-4BCC-9B23-5763B38C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6A53-E425-48A0-987C-6C07FCB6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F1B2-AE9A-4E51-B804-7074AA94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AEF8-D2C6-42BF-87A6-8393DEAA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4823-7150-4BD6-89EF-24E26E85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6A21-EABA-45C5-8E62-D764E099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C660-6E65-4C5A-AECD-28516A34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614E-B15B-4428-99F2-04A42242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212E-E3EC-47C3-9CDF-18237276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F669-146D-4016-B044-9824E0D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BCD4-B98C-4B98-B438-B79F223C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70B6-F591-4CCC-A390-7EB0ACEBB1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4435-ADF2-4EE7-8E86-12D8B56128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S.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d8771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d8771"/>
                </a:solidFill>
                <a:latin typeface="Arial"/>
                <a:ea typeface="Arial"/>
              </a:rPr>
              <a:t>MMJ091 - VEL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ececb2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MMJ091 - VEL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Veloma, velom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Veloma, velom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ihaon'indray ani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ihaon'indray 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53:47Z</dcterms:modified>
  <cp:revision>90</cp:revision>
  <dc:subject/>
  <dc:title>Tiona Advantista</dc:title>
</cp:coreProperties>
</file>