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3C3E-28E7-4636-A31F-AA8EB08D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F97-DA97-438B-81A8-063AB5BC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A03-F402-46AA-AD7B-165AC1EE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9C6-187B-45CC-8064-3DB763D0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D1AF-B6C0-401B-8089-B837EBBD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060E-28B5-4889-8A45-7C6EDA9E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7F1A-37F8-450A-8971-8991FCDF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48A8-3235-4B30-9AAE-40AF5B1F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5F09-9D28-4006-86BB-198F1496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3BA0-1D33-4A4A-AAB2-2E7DAD84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C299-DF6B-440F-9894-F127CB12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385-14E1-43A3-A9DD-34E1F073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7DF9-85B5-4E23-B27B-8134DEDE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2361-4EEB-4379-A3A4-31B22B74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D08A-F663-44E0-B08B-43E3EA6A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108B-DBE6-4206-9DD3-93CFD106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D61E-E12A-496D-A616-566D30F4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9E2-3199-4666-946A-9C6EF095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A40-564F-4EA8-B74F-4F01E283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B2E-A169-43FF-A06F-9B674542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5EC-B3B2-42BB-96F6-7903403A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A4C-E71D-48E7-9CB0-B0258BF6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379-18DA-44EF-A82D-96D53AE7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6DE-89ED-4C9B-904B-7628E713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841E-353F-426B-A24C-6614F23F3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6616-55A9-4BDE-85B6-A710F6942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 Ra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H. et S. GRANDJE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bb5f03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MMJ017 – NAMAKO Ô, HIALA SASATR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ec94"/>
                </a:solidFill>
                <a:latin typeface="Tahoma"/>
              </a:rPr>
              <a:t>Ankizy Advantista – Miaraka Mihira amin’i Jesosy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810280" y="5838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81496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8810280" y="5442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7 – NAMAKO Ô, HIALA SASATRA A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ako ô! Raha hiala sasatr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aovy ho re 'zao hir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mba hanakoako er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inona fiara handehananao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« Hafaliana be ny eo amin'ny Ray! »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10280" y="5838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1496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814960" y="502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7 – NAMAKO Ô, HIALA SASATRA A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ako ô! Raha any an-tsekol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aovy tsara ny fiana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 aloha izay vao milal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sarotra, ianaro ny lesonao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« Fahombiazana ny eo amin'ny Ray! 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1496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10280" y="5442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14960" y="502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7 – NAMAKO Ô, HIALA SASATRA A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ako ô! Tsarovy tsara ao an-t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andalo fisedran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raha matoky an'i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sambatra anio sy dori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« Mahasambatra ny eo amin'ny Ray! 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10280" y="5838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10280" y="5442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14960" y="502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1:15:31Z</dcterms:modified>
  <cp:revision>38</cp:revision>
  <dc:subject/>
  <dc:title>Tiona Advantista</dc:title>
</cp:coreProperties>
</file>