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A98-B6E6-48CF-8EC0-202E2277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4B3-1170-439D-876D-36A52F7A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83D-8C38-4EA0-8CA9-13685C1F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2CD-9328-4A51-9105-9B4622D8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7DAF-F6B5-4EB1-A6BE-B8B58BB9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07E-CB27-4B50-82FC-023BA67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85F-17D2-462E-8ED7-FEBEDF92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B27-AE1A-48A1-B109-4EB151A4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A2E6-8EF0-4A34-A969-F8B159C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D41-E069-4395-8A12-E38E1FD8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0CE-2A8A-4189-BEA4-9073C57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023-F2E7-4D25-BBF8-6E43B65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40C0-7DA2-48D1-9DBC-C5E0B98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32E0-B5C0-49BC-A988-89344AD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9A0-83B9-4E2B-9B5D-B3D4ADF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59B-EA8E-4D4C-973A-8408956F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0FBE-1C04-4DDF-A2E6-4799F36A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6A3-9313-48DC-8722-984ACEB7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C4C-F05C-4F82-9F99-F964BD8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664-359E-4593-828E-544FC97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5EC-6414-4482-AB7C-47FD570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D63-1F77-4786-8E67-33AD2AD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73C-BD44-47E3-BCCB-E1A5BA2C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129-6C6D-45D7-AA26-79011CE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56F-3C69-490D-B45C-8D8CBEA54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36E-BD34-4477-8323-EB4960148C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hari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hari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1 – TAZANAO VE NY MPAMONJ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1 – TAZANAO VE NY MPAMONJ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zanao ve n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niaritra t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-tanany ny v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dia mifona ho anao,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1 – TAZANAO VE NY MPAMONJ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aho (anio mb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lo-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ran'ny fanek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lay ra madio azo anto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avao ny f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re ny sa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tantana ny dia Anio h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1 – TAZANAO VE NY MPAMONJ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vanan'ny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iny ny 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 rai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eny ani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1 – TAZANAO VE NY MPAMONJ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andrao ny fij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miandry fa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nao ry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mponao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36:12Z</dcterms:modified>
  <cp:revision>50</cp:revision>
  <dc:subject/>
  <dc:title>Tiona Advantista</dc:title>
</cp:coreProperties>
</file>