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812-B44C-4DF4-BD74-A08E3197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D51-13C7-474E-8548-DBDD03D4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145-6E28-4257-9765-53A9EA6E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CE7-1605-48DB-B9B6-6C3355DD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1C91-5188-4867-85C6-F7308BA9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A6E8-7CE0-46CF-8670-760F08F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D0A-9E8B-4C4A-AE82-54FB40EB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BD7C-1FBA-4C89-AB0F-E8421BDF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3187-4190-4574-AA29-45B68DBE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51B-550D-411E-86FE-9B5D94F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066-D5ED-4D71-B9D7-2479A56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50F-8818-4538-BB24-3C406B94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E268-EB21-4966-B8BD-B94AC61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0B4F-FBAA-4E9F-860C-DDAC87F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80D8-12C9-46A3-A38A-E02C029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CC9F-9E58-4613-9B81-B059B2B7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E66-1368-4723-BDF8-6E60FE0B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F8A-C925-444E-B177-F67362E8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F4C-327E-4DA3-BFD7-EEFEF7B8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34B-06E7-4EDB-9CDD-C1A15C93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434-0E14-43F0-AE6F-B662FB81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421-00E0-44E7-806D-7FE4C48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3A7-DBAC-49CB-8C98-2D44135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C5A-27BC-4B71-8E7F-4307759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0B2-385E-48B8-8AF6-8F79E33C5F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1E48-98A3-46CD-A699-873F8FB9DD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enriksen-Ra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31, DLG4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6 – INDRETO IZAHAY MANA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6 – INDRETO IZAHAY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mba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ofo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dindon'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navotr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iky f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sol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6 – INDRETO IZAHAY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ofony sy 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ti-pisol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ato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y latab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disoanay s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vono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vaozy indray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6 – INDRETO IZAHAY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nay et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bitebina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sol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k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ra sarob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tok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anten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jy, ai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6 – INDRETO IZAHAY MANA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! Vokis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hoakanao, ry Ray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y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iada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koa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any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orina fin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di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15:25Z</dcterms:modified>
  <cp:revision>47</cp:revision>
  <dc:subject/>
  <dc:title>Tiona Advantista</dc:title>
</cp:coreProperties>
</file>