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455-A853-464E-BB58-35D0283B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A02-E7DD-4CCF-A98C-4552003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139-5D2C-4220-8DF0-00DD51FD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049-E9D3-4EF1-80C6-CC951C4F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22D1-7370-4708-84E9-2E4C2AEB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8BE0-A3F3-4AE6-B3A8-D7DAEFFF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90B7-8115-4DE8-A066-EF438F1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9E6E-49C0-459B-BED2-AED6133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2A2-4622-4E1C-A0F6-AC9A8355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36D-6F40-4994-8162-0F652289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393B-0137-476D-A456-0460E29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047-B7F4-4DFD-BA9F-C68841C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A7FD-3761-4078-9677-F895CD1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563B-6B9E-4D3D-9A19-1C91C8F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7D89-EB9E-4711-8BEF-46038C5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378B-228F-41D8-9043-B01A0268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D29-EF85-4BE6-928E-92FDABA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1CA-4FC7-4FA8-A4F9-14F247C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D45-6354-43BD-A312-E0D6120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329-8552-42EA-8C00-3DD674A8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D44-8ABC-4428-BCF1-E88EB542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CA6-4F75-4086-B003-BB241E0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CC5-8932-4DC0-BBA7-69CBF56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BDF-7BB4-4089-9C9E-9A933120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C208-7938-4FF6-A33E-30E43988E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F5E-ED84-4E3A-96FA-A427DF4BF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N. Peters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2 – MOA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2 – MOA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ry nam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y Mpamoro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'ny fiti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nandram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2 – MOA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talanjona ny Andriamani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ambarany tiany ho anai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ia anao Izy, ka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linteninao no andras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2 – MOA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ry nam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y mandrakiz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m-petra ny her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2 – MOA FANTATR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ry nam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Ray Mpamind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nao lasa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iovin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33:11Z</dcterms:modified>
  <cp:revision>28</cp:revision>
  <dc:subject/>
  <dc:title>Tiona Advantista</dc:title>
</cp:coreProperties>
</file>