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476-7ACD-4DD3-B9F0-3BCBC221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94E-FD08-4F1B-A87D-0327312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01E-D2FD-4299-9231-3A0CE12E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2B3-A585-48B8-A5C2-53BD04E1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3E6-D480-482E-BC60-CC9C9519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FD3-5010-4588-AE30-7BAA5E2A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70AA-7CF6-48F8-B772-830DEAB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D778-6173-4787-897C-B53F3B47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C582-0099-40CB-81EF-32D91D0B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BB04-F133-4677-8D49-9736629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C2E5-E38D-4D10-93B1-697BC52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F4D-D6A8-42BB-8C03-639EA80F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891-8D1B-4BD1-9C30-72C9B6F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C438-347F-4638-BEDD-4E29FAF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CE67-15DD-4921-B213-CED2EBEB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AB1D-EEAF-418D-A271-F032ECCE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E291-8F34-4753-8ADA-58F79563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B4D-7F5C-46AD-9614-9B85B834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841-FFA1-45F0-BB26-9DB81E39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18A-4258-4A23-B983-C57A6822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5EE-4D5C-48FF-9387-809EC4E2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BB4-0705-4FFE-8EFC-0661204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77E-5F10-4EBF-9B5A-0BEC801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EF2-73EB-438C-BB0D-74D9E440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BC45-3E1E-4F3C-A257-CD36D30F85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D94C-E976-43B0-A75A-7665090C14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Alfred B. Smith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7 – MAZANA MIS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7 – MAZANA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zàna misy feo aseran'ny ank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mavesatra ny fitsap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feon-dakolosy mipaika 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itsika magina hoe: "  Andraso.  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7 – MAZANA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asa ihany, hoy ilay f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asa re fa 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tanan'ny Ray tsy h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aisotra ireo ratsy i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7 – MAZANA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njavona ny fitondran'ny R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a ho loza re no hiafa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henoko mibitsika ih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" Mahatoky ny fiasany, andraso 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7 – MAZANA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maharitra ka tsy andrin'ny m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o teny fikasana n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henoko 'lay teny vola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" Na toa ela, dia ho avy, andraso 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tsy izay mahomby, indro fa manes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arina mazàna toa 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ny ratsy hataontsiaka hoe s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" Ô ! Ry foko mitandrema, andraso. 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7 – MAZANA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56:33Z</dcterms:modified>
  <cp:revision>70</cp:revision>
  <dc:subject/>
  <dc:title>Tiona Advantista</dc:title>
</cp:coreProperties>
</file>