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EE4-3124-489F-816F-2AE82A48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9E9-5CB2-4825-9EA1-D0AF31FA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424-B68C-46AB-90CB-4E2D301E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6B9-B13B-45DE-96FB-01CFD339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1105-F93D-4A67-8AF9-AF396F46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26CF-A0DC-4168-BE99-62506DFA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F1C5-ED15-4490-AA41-1769C570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40C5-10A1-4885-BF00-719A40A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1A4E-96C5-417D-9AEB-5D15CED1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7E5A-7C61-49F2-8E2D-CF949DD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3655-34EB-4E42-ABA9-5629033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4A8-EEE8-4002-AD9A-7E6C450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FF28-20D7-4E69-BF2F-CCBBA07F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2C5B-06D1-4E9A-8242-D26764A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A391-2E0F-4460-A917-D505CAF7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FB8F-6F8F-48A1-9756-36FDC335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F313-6959-45BD-A550-8E74F28A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67F-022D-45A6-B102-D142DB99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234-4846-4FBF-AB27-33F3773C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65B-A530-4DE3-ADCD-B8499625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AD9-8450-4EA9-B139-90081BE2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F10-BA56-4C26-9660-58814F33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3E3-0110-4762-8B24-9CAD9CD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12D-5E9A-4556-B9E6-0F64303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F021-E0AF-435B-83C4-EFF37958DE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5A69-7CE7-4A56-984D-EA4D91BBE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70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IRIKO E, R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Andrianaivoravel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Andrianaivoravel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0 - IRIKO E,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 e, ry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ov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tsy manan-k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asina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 e, ry Jes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tonga to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monjy sy nanaf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hy, ai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70 - IRIKO E, RY J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,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o sakaiz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ka ory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sy handao 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, ry Mpamonj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-d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zo fij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enti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0 - IRIKO E,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, ry Mpandres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k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eo an-toby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miaramil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, ry Mpandres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k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tondra ny fane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ay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70 - IRIKO E, R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, ry Mpanj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o an-dap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ra-pal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onga zanak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, ry Mpanjak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eo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ay ny lova atolo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njaka be fi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6120" y="5645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11:12Z</dcterms:modified>
  <cp:revision>115</cp:revision>
  <dc:subject/>
  <dc:title>Tiona Advantista</dc:title>
</cp:coreProperties>
</file>