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604F-8DA5-4B83-890C-9A19F282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6244-8F26-42E7-A71E-3E166DE9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DD80-CC31-4D22-BA7F-3FCE4CE46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3FE1-0BD0-4014-98BD-F86830FE3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4DA4-60DF-4088-8E24-1C1EA7CE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4310-8008-4951-B1F3-ED8080AE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FCD4-0F08-41FA-BFB0-318CD775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9D4B-0069-4F2D-8DC7-8B5D1D2B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890F-3BC3-47CB-BE79-69AD13DD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5B8A-72E8-4309-9B47-48770E8E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FD3C-B252-4172-BBFB-23804266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784B-E073-4D5B-85BB-5F7BA7CE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65F8-A193-4A01-946C-D4916FD4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5742-286F-4CDA-BAC9-20729039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8952-4CF3-4043-8E7D-A39BB18B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CAD2-8D02-47A8-B18E-28DF136A0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4EF7-1727-4204-9AC7-B06805844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6B6C-67DE-44FB-91B7-6AD27097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72F0-B171-41EF-A094-4ECA07EE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3751-825C-4F67-9004-C6434887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18C0-8502-4662-80EF-5EEE8F66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FE5E-A893-4235-A137-CA1788FF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6964-70E6-4E94-89BB-7C434CBA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AB92-2522-44A5-AF37-412E7A43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1B5C-35F2-4C9D-970F-A3B04577CC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C27B-BCAD-430D-BCCB-511BCA681B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05440"/>
            <a:ext cx="914400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pamor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. Ramanantsialoni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Care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HL02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17 – NY HASO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684640" y="5373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684640" y="5754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">
            <a:hlinkClick r:id="rId4" action="ppaction://hlinksldjump"/>
          </p:cNvPr>
          <p:cNvSpPr/>
          <p:nvPr/>
        </p:nvSpPr>
        <p:spPr>
          <a:xfrm>
            <a:off x="86846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17 – NY HASOAV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so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ny fiti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hovah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:,: Narotsaka ho 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ifali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sotra atolot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rakiza. 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684640" y="5754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8674920" y="4941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6846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17 – NY HASOAV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Mpamoro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hay foron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der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:,: Fa lehibe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oninahitr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saotra sy ny haja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ao tokoa. 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84640" y="5373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8674920" y="4941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6846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17 – NY HASOAV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oa Anao 'zah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irakao ind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:,: Ka mba tahi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haùasin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ena olom-baov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sa ho aAnao 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684640" y="5373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684640" y="5754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674920" y="4941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08T12:22:55Z</dcterms:modified>
  <cp:revision>31</cp:revision>
  <dc:subject/>
  <dc:title>Tiona Advantista</dc:title>
</cp:coreProperties>
</file>