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317-6E96-4F2F-9109-C4C1D4CF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78B8-167E-4E5B-BFA3-F5A93380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7377-22D3-42B4-8118-B7AD3AF3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5BA-4CCF-4CF3-9169-F0244DB0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B80E-042A-4BE7-B942-9A8A1387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7440-8337-49B0-B112-8B1B2B83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7303-1342-4C3C-8480-FA392E83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4416-4048-4EB8-A941-4F5EEAF4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EDFE-F3FE-40C1-B915-2960F900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814A-54FA-449A-9CD2-AE6BD25C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BC85-DB87-4B65-A172-297FE710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501-778B-429D-84D4-3CE7BB58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DA41-3C59-44ED-958D-E529AAC4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D093-B3CB-46A4-BF6D-C7348515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0855-2312-45B5-B21C-8C3A2E27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B92A-AAE8-45EB-9E9D-692D8608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2F35-ED82-4337-B886-4AB9B53B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2DEE-404C-4B26-A7DF-D1188E67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F1A-A9E7-432C-B0C0-9F8000F6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DDE8-BC17-44A5-A136-D73C2B9A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4119-5F21-4D18-8EED-18B408E8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BA5-ECF6-40B5-8BCE-D662C483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F43-453F-4EE3-9223-14D22CB8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AFF-BBD9-4EC0-9CE9-86E3F066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C3D6-02F2-4B72-B2A0-1D7DDE26EB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2741-209C-4B3D-834E-0F64935B0A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HY MAS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ayd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74 – MITSAOKA ANAO ‘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4 – MITSAOKA ANAO ‘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soka Anao 'zahay, ry Zanah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amonjy anay tamin'ny o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menao anay ny Fanah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ariky ny fanavot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bokasen'ny voninahi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atafy anay mpano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4 – MITSAOKA ANAO ‘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anafaka anay tsy ho andev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ahy no manambara am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onga zanakao izao '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voavidin'ny ran'i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ia isaina handova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jakana 'zay very fah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4 – MITSAOKA ANAO ‘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to hanaraka ny haz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ay, Fanahy Mpitarik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aoka re tsy hangin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toroy anay ny lal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ia hizotra tokoa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rihinao ry Fanahin'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74 – MITSAOKA ANAO ‘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hano hery izahay fa malem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onony raha mila ho kiv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a ampidino ho ao am-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anjaka sady hery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ba ho tody an-danitra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i mba handova ny fanjak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7:38:09Z</dcterms:modified>
  <cp:revision>39</cp:revision>
  <dc:subject/>
  <dc:title>Tiona Advantista</dc:title>
</cp:coreProperties>
</file>