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E535-6272-4B88-8E00-352EE913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F908-4042-4566-8FE8-75FAAD01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A458-919A-41A2-8115-BA6B7EC8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2E05-1FA1-4916-9135-8FD1895A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FE7A-32DE-477A-A98E-1D2AA218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02CF-B9E8-441C-82A8-3EE64D6E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E399-8EE9-4922-AC94-CA794FE2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5C72-C913-4B86-A3D6-1FE53084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F81D-5710-4109-83E4-94BC1AAC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CF17-F4D3-4EF0-B046-5B3243A8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723F-25D6-4FEF-A06D-8AAB07F6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A868-94A7-439A-9F5F-C7891372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C4E2-83C6-45C4-B6DD-EF7B487A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5B3C-155F-44C7-91AB-930A6C8E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E391-2FB1-48CB-B629-1406A11C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4F9A-3090-4130-BD74-68FEEFFE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CC6B-BE57-44A9-843D-5C9C953F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108B-E203-40B4-ACF0-3FFC043C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734B-93A6-4132-8705-6698AE77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C2F-7692-4A35-83F5-784CFCEF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8D82-673E-4E98-BAFC-5649EC05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1D0-A176-4699-BDDA-7ACB640A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F85B-024D-408F-A35F-88970EBF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A19-587F-40F1-A2E6-70822E98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4E72-8DBD-44BE-A1C6-2C4C2C3875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70A2-9079-4257-8D90-0FA6532023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Bourgeoi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00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36 – RY MPONINA AN-TANY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6 – RY MPONINA AN-TANY 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onina an-tany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iondreha ka mifal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o Andriam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Tompo ao an-d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6 – RY MPONINA AN-TANY 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kohofa tsara an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n-tempoly tadid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zao ny hasoav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ny voninah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6 – RY MPONINA AN-TANY 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dera ny Ana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ay, ry Tompo tok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ira sy Hosan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tray manok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6 – RY MPONINA AN-TANY 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zavatra rehetr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samy noforon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ndro manambar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Zanahary Lehi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ja, saotra ater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tokana ho Anao,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Zanaka, Fanah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tsy mba manam-pahar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6 – RY MPONINA AN-TANY 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8T08:00:58Z</dcterms:modified>
  <cp:revision>29</cp:revision>
  <dc:subject/>
  <dc:title>Tiona Advantista</dc:title>
</cp:coreProperties>
</file>