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1F8E-090A-4941-AB26-B39D2E76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87FD-CA22-4FF7-80A6-6C6EDADA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4FE2-C682-48D3-A341-1740EB6C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DA30-417E-4828-B259-BEAF3AC3B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7164-7F97-4718-9B9F-25F8BF46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8818-EE38-415D-9C4F-2F0CDCF6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EC17-056D-45F8-B52D-C47F94B4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6A0C-FC20-427F-A5CA-2E640458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2100-883C-4543-94C3-1A646414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958D-C1DA-49B1-A61D-5F589081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B756-A951-4F35-A049-362D16F3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5953-70AB-4532-B65E-F937EC24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CD21-A5B5-4C6C-A1E0-DC03362D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CD70-B1F0-4BAE-ADF7-4880F902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0A58-97D5-4175-981D-1FE45437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74BA-16F4-406A-A7DD-FA71385E0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9A0C-1BC3-4F38-9787-267DAF96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C7A5-0749-4E39-BFA6-5C8ECD08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6D83-B254-474B-B15E-9BF79F62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A05F-31D2-4BDD-95D2-A66984C4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F21A-578D-4104-92C3-6BEA29AB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D214-1F8D-45C3-8607-CC1DAE03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75E1-4DAC-4445-B711-13A033E3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EBEA-8EA8-445D-83C8-427F09B5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55BA-CE5E-4F1B-B980-AD9E202A9C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47FE-2635-4F72-9E69-998B6FC9BB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ba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I. D. Sanke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FFPM35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42 – NY MPAMONJY NO MITADY FIHAVAN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342 – NY MPAMONJY NO MITADY FIHAVAN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pamonjy no mita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havanana ami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no manambitamb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tonanao iz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o manjary fandats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fonana am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mety, mihavà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ny Mpamonj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342 – NY MPAMONJY NO MITADY FIHAVAN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eny misy hafan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angoraka ny f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tona ny Mpam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o dia mangatsiaka ind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o no andro famonj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vonjeo sao nenin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anota, miver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o ankehitrin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342 – NY MPAMONJY NO MITADY FIHAVAN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o ity no torite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ra-fanasana 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o anio no foto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ra-ahavelom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za mba misalasal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o manjary nen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tsy mety mahal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o fotoana met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42 – NY MPAMONJY NO MITADY FIHAVAN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isy be ny fahot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Be ny ratsy vitak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o tsy raisin'ny Mpam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panota tahaka iz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verena, fa ny 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y hahadio 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tona hosas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ankehitrin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15:10:01Z</dcterms:modified>
  <cp:revision>61</cp:revision>
  <dc:subject/>
  <dc:title>Tiona Advantista</dc:title>
</cp:coreProperties>
</file>