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9EC-049F-41B7-BEA1-B2D2B4E9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6AE-AD21-4FFC-BC29-C16D50B3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35A-B99E-412F-B4BD-24D02D66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2A8-5310-4AC1-A574-04FE47AB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014-E18A-46D9-9FA1-B7D9C4C5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F8D-FBAD-40C3-A0FE-A282201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94EB-5EA1-4F23-90C5-EAD8D00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2B53-13CF-44F5-A6FE-EFA1DD9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8EB2-30DA-4B0E-8273-B8546F7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14D-FFC8-4A3F-ADEE-A991D1D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8041-F642-4557-AF52-A2273795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244-F9F2-48CB-B32D-418B014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797F-308E-4741-9A7E-53095F81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F1AB-6695-4E92-A66A-D35AEF3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E1B-CA34-4080-84E5-09EC4A3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7E9-0EDB-4A91-A02D-76A643E6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1668-652A-4307-A71C-3E504B70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079-3169-458E-A98D-AF2C940E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C3A-F074-468F-AF98-B60FF8C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B4B-ECBA-47CA-9B73-6947FB89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674-1C75-4EE2-A624-6FBCFA6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B05-9481-4BB4-9FFA-F3E2CEB5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C4C-CC1E-410B-80B8-6CA4082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4AE-EA9F-49AF-823E-1920CF7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EC6-701F-4C99-9E12-68005605A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29A-A618-4A2B-81AA-41C25FE8AE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Bati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sther B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eorge J. Elv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6 – HIRA NO ASANDRA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6 – HIRA NO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 no asandra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i fisaorana 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Ny fita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rotsakao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tsimbininao '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hazo vok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tao an-tsop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kasitrak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6 – HIRA NO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ha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isika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y te hamok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zaho 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mboa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oa be dia be,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-pal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a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7212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66 – HIRA NO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, ho av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y ireo vok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ay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ao ao an-tsop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hi-dratsy do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 tsara angon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o aminay 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asoava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212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7212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59:52Z</dcterms:modified>
  <cp:revision>49</cp:revision>
  <dc:subject/>
  <dc:title>Tiona Advantista</dc:title>
</cp:coreProperties>
</file>