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1FF-5FF4-4176-A604-1DEF3404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773-84EA-4085-AE24-0947B42C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522-408E-43E9-B8BD-53796186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F23-DF75-4E6A-BB67-12218AE2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C65C-ABDF-40EC-A7B6-ADA008B6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9D1D-3CB8-4A79-B636-D4AFA974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4ED9-D005-4D7C-BFC6-A86218DA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1B2E-79F9-4132-A0A6-AA69FC44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4AA9-54EC-45D8-B8CD-12CDC0B9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6891-D61C-4F3E-B43E-F4B16BC5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8FFF-9421-4509-9EFE-BC394C6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1C1-FF5C-48E0-A6FB-47B76F99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7A5-DE7C-44C1-AB07-569AAB5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5083-29D4-4149-8B47-1F28A94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2282-D8CD-420D-A260-9CF927C9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E5F3-27B5-4E40-99C8-387913EC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1339-511B-4B57-A7EF-B6A99DE5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604-ACD1-4158-9E55-995482F7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9B7-B5D1-4651-A24B-F1C9069E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56D-37C2-44BA-B3B5-EF727443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37E-2CEB-40D8-B5E5-BEBE554B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47C-1F49-4A68-94B3-7D9B58F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23A-4E75-44B4-A4D7-98CDE341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935-5E7D-4983-AAC1-E645F0EF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457-5CE0-4701-B6C9-1E6B26875B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E221-1CC5-4770-BE3A-EBF7B5C1A1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ldor Lillen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6 – MISY MAMENO NY FIAIN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6 – MISY MAMENO NY FIAIN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mameno ny fiain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harena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amiko aleo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sy manam-paharoa (Tsy mba ro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6 – MISY MAMENO NY FIAIN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no anton'ny hi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mpahery ny fo (Mampahery ny f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ratry ny fitiav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rapiratra ery. (Tena tsara er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injo ahy ny mas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ntana ahy ny tan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oky aho ka sambat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a ny Tomp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6 – MISY MAMENO NY FIAIN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aka ny andro mami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arai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tarany maha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melombelona fo, (Tena s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6 – MISY MAMENO NY FIAIN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loharanon'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fototry ny hi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ara tokoa, tsy manam-paha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mpo sy Mpamonjiko (Vonji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13:58Z</dcterms:modified>
  <cp:revision>70</cp:revision>
  <dc:subject/>
  <dc:title>Tiona Advantista</dc:title>
</cp:coreProperties>
</file>