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434-B0F8-4BC7-8B31-A3038158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862-33C4-44A5-98FE-FE13E891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034-D4F3-41DE-88E7-FE5E19DF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794-FAB0-4938-8A87-6D9A25DE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6548-669A-40E8-A449-0CD50856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CA6E-38A2-4B38-B3A9-54866660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F15D-65F8-4F72-845A-73915DAD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E6E1-D19D-4757-8915-38C90B1F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F7DC-EA6A-4965-8AF8-85A301EE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98D4-2DCB-43E7-9B00-D3B0E5B5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5DCD-1A41-49DE-8058-1603E938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5D6-30B9-4CCC-8A67-8128A371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ACB4-52A5-494C-A225-9E3A297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1E28-7FEA-460A-B42B-0FCDA2D6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A5EB-458F-4884-B151-7AE95F3E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8FB3-3786-4A18-B852-B0DB49F4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6031-5F59-4A94-BCEF-0FE8EEB4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723-B02F-4E68-8983-3A9F49B8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A34-774F-43D8-85F8-205B0180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109-83D1-46D1-A06C-A0D4C620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98F-A4F4-4C7D-A9B2-DC7C2884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E04-C13E-455A-B8AA-A35165E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9D3-2ACB-4195-AF76-98DC1CA8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FD7-E1EA-451C-B850-80F09BAA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02C2-D81B-4EB7-BB1A-74F68AFAA1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DA63-50EE-4F79-984D-83B049AA16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h. Hast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4 – RY MPITORY TENY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916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9160" y="5321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9160" y="570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75772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4 – RY MPITORY TEN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tory teny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kivy man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vy re,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dia ho lasa n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haza, ry mpanota ver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haza, ry mpanota ver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9160" y="5321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9160" y="570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7498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5772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4 – RY MPITORY TEN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titly, miamb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bony mand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kivy, miten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hadin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avy, avy re ny ali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sondriana, ry mpanota ver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sondriana, ry mpanota ver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916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9160" y="570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7498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75772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4 – RY MPITORY TEN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ady, mahere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ho ketrak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kivy fa met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ntana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kivy, ao ny fitsahar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reta, ry miaramil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reta, ry miaramil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916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9160" y="5321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498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5772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74 – RY MPITORY TEN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jaka, Tompon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andra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tena ilay m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andraisana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iranay ilay fihiram-b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faly izahay hahit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faly izahay hahit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59160" y="4940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59160" y="5321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9160" y="5702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49800" y="450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24:58Z</dcterms:modified>
  <cp:revision>66</cp:revision>
  <dc:subject/>
  <dc:title>Tiona Advantista</dc:title>
</cp:coreProperties>
</file>