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E18-2BCA-47E7-9DFD-ABF699D6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A91-695E-44EF-B5EC-EB0228A1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75C-146B-468E-A8C6-388855D2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729-B948-430B-94CE-FE7B7C3D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53C7-D8C4-4E13-ACF5-C430C4DC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EB8C-BBBB-4A3C-A63B-B8B3D88A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9AF3-018A-4CEF-8819-6C299583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A995-0EC2-4DD6-9592-DD42B389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F7AE-7C86-4D1C-8312-449CB335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42DA-4CE2-4E6A-9B7B-76E9D4E1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DA99-8FE5-467A-892D-5FF472BA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4B5C-450C-4F8F-90A8-7D9121D0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1863-269F-4435-AF07-7F95F1D1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7FEE-5D98-4497-A5B9-E0022B78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5471-D4EC-44E5-ACDD-1FFEA3A6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2DEB-4E14-4567-A73A-87B9D1AE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8E0F-3C8D-44CB-A6D9-65436786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4D6-4261-4835-8449-46A101C3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DA9-0CB6-486C-8EA0-3911668F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A51-FA9F-4975-AECD-960A61BD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9B4-BA42-4FB5-9510-68A55499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D6E-DAFD-48BB-A2BD-FCB14D2B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D56-60D9-4503-8B8D-892C18DB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390E-BEFA-47F4-82FA-4C8D7848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9E01-02D5-41B7-8EA8-3D304ACF2C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C124-37A5-4666-8241-F0D723F61D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B. Mars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02 – RY FANAHY MANIR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2 – RY FANAHY MANIR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anahy manir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tena ti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mpikatsaka ny v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y noho ny helo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andrà re ka je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o Mpamonjy tia 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inoa ka ek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ho anao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2 – RY FANAHY MANIR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fo misalas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hodidina haizim-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Jesosy mah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anary toky v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tsy fantatrao ny f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itepo ho 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iondrika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andrandrà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2 – RY FANAHY MANIR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onjiko m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ah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 mafy tsy hi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ondana eo an-tsand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-pototr'ilay ha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erako hatr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izaho no haha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dana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8:01:35Z</dcterms:modified>
  <cp:revision>61</cp:revision>
  <dc:subject/>
  <dc:title>Tiona Advantista</dc:title>
</cp:coreProperties>
</file>