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02B-7FA4-4B9D-9E13-6D90E5FC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280-56CF-42EF-AB7B-A7BC521D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5EF-DA95-4B39-A113-0FE033E3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A06-C755-4673-912A-687DF517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3257-2A5F-4621-B84F-91D4D4B8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D835-42E5-4A17-BA70-11707230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6E0F-A349-4430-8545-B563542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3D5E-9993-4A89-8EA7-81CC3147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D6B-B500-4097-8A96-118AC56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3FFD-4EBD-4EB1-A0B9-2234E66C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AFF3-7935-4FF4-81DB-24C3E836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CC6-BE79-4F60-BDB7-C29B7FCE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F77A-05D4-4A6E-B0B8-5E37F7E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A8F1-86FF-4129-A23C-3B4DCB6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C242-7A96-45DB-8DBE-F1B0B62C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6972-B967-441A-918B-963ABB44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FA09-534F-419F-9513-84AD1076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6FA-E1EB-41F7-A6D3-6606CCAC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09E-4DEB-4BAA-AE21-12A31649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411-1F52-439F-AC83-B14FEF21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C6A-1279-4B62-94A5-E94B2E4D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D19-2F01-484B-8AC8-FA00D1C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6D1-33BE-4D70-AEA9-90C1F3E5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04F-5019-4C1E-A0CC-BCF23700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6EE2-5D06-4695-9214-74EDD0BBB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AD2F-176A-4FD0-92E4-EF7316A875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C. Stebbi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4 – VENTESO ‘ZAO RANK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4 – VENTESO ‘ZAO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nteso 'zao rank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hira m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ia zaza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o ka ifal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endrika Azy 'z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zao ka ihob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iav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4 – VENTESO ‘ZAO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ry tan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y ho saka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nga izao ny 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ana Az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ô malak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ro ny adi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o, eny vi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sa neke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4 – VENTESO ‘ZAO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olom-b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y havo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foiny ho 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, loza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lao ny ota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mba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ka mba fi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an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4 – VENTESO ‘ZAO RANKI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ika nov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miezah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mpy tsy te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olo-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o, eny 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tsy mbola na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rio, eny amba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fitiavan-d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9:01:05Z</dcterms:modified>
  <cp:revision>85</cp:revision>
  <dc:subject/>
  <dc:title>Tiona Advantista</dc:title>
</cp:coreProperties>
</file>