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13A-C398-4653-A837-A5520729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9A0-6264-4E6E-AC93-3BF3D846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05B-AB8E-414C-BD50-EA63E6EF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5FA8-702F-437A-B50A-7E37D5D7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2367-1699-4097-89A9-9504853E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EF24-AC4D-4D19-B7E7-25EA3225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8D88-F3F5-425E-B2E0-42189B5D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9AB1-61CB-482F-9E32-31281F51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2992-06BC-4CE8-AABA-B577B498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207A-F50D-43D9-BED9-E911F8BD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1E3E-A725-416D-9453-2AEEA8A7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217-E7F5-43E8-8F85-7A784528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E4F6-D0A7-48B2-A2FD-EA8E2D5D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86AF-7B5F-40B0-BE0F-B0649E52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2BD1-14BC-41CA-9023-01EACEF9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4CA3-A2DD-4F87-897D-AC22AF05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61E8-A2B0-421F-9574-81C224E9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1B91-8706-4E2E-B50C-E7603F69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907-2D0A-4705-A28A-F7C104C1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61F-74B0-4E4C-BBF7-E7311BDB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F7A-D8BB-45F1-806D-EA519748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319-85E8-4AA8-9E70-A13E527D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458-B78D-4012-A040-BE65E7A8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FDC-BD97-49C6-9D2C-09EDCCF9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5653-1616-4CAF-8EA3-2F10C993B8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9B61-04C5-4077-B8A9-08AA13CC8C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</a:t>
            </a:r>
            <a:r>
              <a:rPr b="0" lang="fr-FR" sz="1000" spc="-1" strike="noStrike">
                <a:solidFill>
                  <a:srgbClr val="003366"/>
                </a:solidFill>
                <a:latin typeface="Tahoma"/>
                <a:ea typeface="Arial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62 – ANY ANDRO IZAY HAHIT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2 – ANY ANDRO IZAY HAHIT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y andro izay hahit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anjely mitsoka tromp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lanitra hanako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andray 'reo voavonjy rehe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izay ho hit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Jesosy 'zay nanafak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4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2 – ANY ANDRO IZAY HAHIT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katra ireo voavonjy maro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sena Ilay Jesos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namaha azy ire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izay hihir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hira aho, hihir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ando 'ty tany feno to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62 – ANY ANDRO IZAY HAHIT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Hitako ny l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voha ho ahy sy an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ako ny Tompo, i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ona ho ahy sy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ako indreo anj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vonon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ina ka hampi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 avy indray ny Tompo. 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D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3:03:25Z</dcterms:modified>
  <cp:revision>40</cp:revision>
  <dc:subject/>
  <dc:title>Tiona Advantista</dc:title>
</cp:coreProperties>
</file>