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20C5-C786-4FDE-84DB-5CFC3F733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3BD3-EA59-4DA3-BC1A-80859FFAA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1B52-E8C8-4C42-A725-89E7106BB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828D-E55C-4F35-A29A-59FF14854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05D94-A538-44EB-AB6F-0FEF6DDF5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24E2A-39A3-457C-B5A4-AB8C6A7C8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34A88-E13C-446F-834C-D54048613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E604B-D880-43FB-A621-96D89D336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12087-C48D-4BBE-94D2-690F8B726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9DC3C-18BE-42DB-8F2D-E5A228107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37F9D-8DC6-4B44-82B9-2209C240C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534A-D552-4C6F-9333-DB0BDB458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016B4-C72E-4111-8D17-4127CEA74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F4210-1004-41AA-A041-EE5B8BA00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AC397-193C-4A40-971F-0ACEB82AA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088BA-E34C-478C-B850-4031778DE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8E202-37A2-4B5C-AD3E-D4D18C431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9764-439A-4BD0-9B8B-BAB5DE581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F345-1B8F-4145-B5B6-85463C740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E884-F317-419B-A6B1-3BEE05035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D46B-9738-4A12-8B04-905AA4F4F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A83D-6606-4C2A-A129-7FDCDFE64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13F0-3DEF-44D2-A3A5-347CDB2E1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6403-5062-4213-9EC7-0ADA827B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0DA16-157C-4B10-B15B-4BE6E029FF4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F136E-05E3-4166-809D-E1D36D2FA39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TORIANA NY FILAZANTSA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ntso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joeli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H. P. Dank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HL59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304 – FANTATRAO VE NAM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434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434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434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344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04 – FANTATRAO VE NAMA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ntatrao ve nama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Ry tanàna s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sy 'Lay Mpanjakak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Ô ! Jereo, mivoh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o miandry ahy '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ny ka maniry 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risty Zanaky ny Av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efa tia ny lav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434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434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344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336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04 – FANTATRAO VE NAMA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ntatrao ve hav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Ry tanàna tsara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sy Ilay mpiandri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y mpikarakara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a manetsika ahy i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ry koa manasa 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finaritra tok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 dia efa v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434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434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344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336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04 – FANTATRAO VE NAMA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Jereo sakaiz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ry Salema ambo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o ny fitsahar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o amoron'o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 ! Miandry ahy 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dy manina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Lay nijaly noho ny o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any Gologot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434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434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344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336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04 – FANTATRAO VE NAMA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oa tsy tianao, vali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mako mijal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andrandra ankehitr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Lay tanàna faly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mpanota sasa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anao ny lani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oa ekeonao tsy tere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e ny famonje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434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434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434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336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5T08:06:49Z</dcterms:modified>
  <cp:revision>61</cp:revision>
  <dc:subject/>
  <dc:title>Tiona Advantista</dc:title>
</cp:coreProperties>
</file>