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58C-B147-4522-B72B-5087B701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DE4-B808-4226-8DEF-4004676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ACB-D247-486A-BAA1-2D54F694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0C5-42E2-4A7F-8673-8B2AD7F3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33F-1CCC-490B-BA5C-E63EB76D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6B28-5B22-433B-B357-37100A17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C8FE-B6B3-4292-81E6-FF5F658A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912A-54DA-4B34-819F-074E299A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3146-3A00-4086-8770-0439481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BB76-766F-4E48-8D02-7E512662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4A12-9362-4D87-B924-B18AB60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0FF-F8DE-4FE2-96D8-4E92514C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4D18-33BF-4D54-B6EF-FF3E69F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2F88-30AF-46FA-9390-3ABFF357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64B0-5245-4A1C-BF53-958965E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8C10-9635-4171-9914-49207FA4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558B-CA6A-4F32-BCC7-904032C5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238-400E-4436-8754-16B7E6F9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D0E-FCEE-43A8-B4FD-9CDF2AE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132-6873-44DB-83D0-18DBB1B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768-A48E-43E1-B87E-F59F99D2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09F-81C4-40F3-864B-94BE788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4D5-C89E-499B-BDE1-4A586D23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E6F-6EA4-49C2-BAE9-5B45ECC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B8A4-717B-4BB9-B717-A99502BD19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0E13-B2C1-499D-AAE6-DE934C312E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20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RY ANKOATR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. Henriks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0 - ARY ANKOATRA 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, ankoatra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nena-mamy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hihaonantsik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natrehan'n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mbatr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0 - ARY ANKOATRA 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, tapi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any sy sent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dreny mamiratr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Reo volamena ar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apa tsy fahita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0 - ARY ANKOATRA 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noy, feo manak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reona toa ran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okanga tsara f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ro antsa, maneh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avi-tsento sy to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20 - ARY ANKOATRA 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, tsy ho el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ay ilay lov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risty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mpody antsika amin-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ho mandraki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, fanantenana 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nten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2T11:05:04Z</dcterms:modified>
  <cp:revision>119</cp:revision>
  <dc:subject/>
  <dc:title>Tiona Advantista</dc:title>
</cp:coreProperties>
</file>