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A283-4FFA-418B-BB50-E642850A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C4C-F1C4-4BFF-B1FA-21C2BFDA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11B-41E0-4285-AD2C-F300C282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0C7B-70D8-46A2-8033-317BCCE2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E2CC-AE66-4EB1-87DC-2590A38F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82C3-706C-4CB2-92CC-E53254E2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A06D-0CDE-495C-B06B-E9CB6831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667E-DB7A-46F5-818E-2C20F1C9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4591-47AA-439E-975E-2AEB9135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94BF-12AF-4F0C-94BD-AD1188D2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B484-9D77-4CFB-A429-F6AA5F6F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D075-6CFB-4C6B-85D6-08247500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2357-5871-4650-8693-CA5E0594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ADC7-D7E5-4779-B419-BB4EB0BB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7599-17A4-4C4F-B14E-B235691B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3C65-7514-4CCA-B179-770CECC5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29EE-503C-4AFC-926A-5D5EF620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6F8-FDB2-4D57-9F74-FBB586F8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C853-2AE2-4A98-BE2A-45A3A446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DD64-81AE-4E1E-A3A7-68740646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8623-F145-4FEF-89EB-E6E97C95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86D-741B-48E7-B0E0-EA9B81C6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9D62-80EF-43AF-B12A-AC794825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E09-EE68-4E3D-9D5D-919D6213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1C87-69E3-4374-8EA2-82DF2A1290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463B-6D7F-4B44-B877-2B2A7A028D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88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HANGIN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972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31880" y="63547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=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dy sy Fandres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8 - HANGI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gina aho, r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gin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mamolivoly 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haiko laz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tratry ny s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lay niaretanao fo fanavotan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takatry ny saiko 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haben'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nitondranao mafy tahaka i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ccff"/>
                </a:solidFill>
                <a:latin typeface="Corbel"/>
              </a:rPr>
              <a:t>=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831880" y="63547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=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1600" y="5602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8 - HANGI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haiko tantaraina 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omba namonoan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nentinao tany Kalvar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gina aho, r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gin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rakitra ato am-p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26120" y="5972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41600" y="5602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4:30:58Z</dcterms:modified>
  <cp:revision>119</cp:revision>
  <dc:subject/>
  <dc:title>Tiona Advantista</dc:title>
</cp:coreProperties>
</file>