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26B-1553-48B2-8176-11D596D4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48E-AE9B-4FB7-AD42-6FF71532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15D-6E1F-4A13-A444-AE9423A8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7AD-0ED0-4724-97BA-5D9F6718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DC49-2332-4BE0-BE9B-40DD609A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A5F-5094-4E3D-96EC-8399BE51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D33F-FA85-4EE4-BDA9-22D0EC6C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9A62-4F2F-42C4-A672-13581473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286C-F46F-496E-8ABC-B9A3AB69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699-1CED-4594-97CC-97E80AD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C56-8858-4FFB-9CD9-28D6F66B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207-09CB-441B-8902-9A1F51AE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0573-6693-43AC-B944-DE2B884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06F6-C782-48EE-88FB-8AE0BDA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ABAD-BE52-4146-8E12-763805BF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3B59-ED55-4B8B-AEAB-BDEEBC2D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D8F7-6BFF-492A-92E9-29D1A9C3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BB5-3F94-41C3-9EE3-B18FF22B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171-018F-4743-9EE2-09848BD3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DBA-1182-4FF3-8ECC-2EBCA271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09F-900E-4760-A10B-EB2223AE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B87-5DCA-488D-AA8D-F57E1089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89A-011E-43F6-B76B-A8EFB46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10F-6918-4141-9C04-BC81411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8719-7164-4CCF-9347-EAAB0C5838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697-09AB-47F2-A907-CC97B4E4C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5 – ZOVY NO H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5 – ZOVY NO HIARA-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ovy no hiara-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y an-danitra, fonenan-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boarin'i Jesosy, Zok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nak'Andriamani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mitak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saino sy banjino 'Lay Salem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pan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5 – ZOVY NO HIARA-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rendrarendr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zàna tena manodok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andrika velarin'i Sa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itahan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dia va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dalo n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nkoso-bolamena Ilay Sal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hidi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15 – ZOVY NO HIARA-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ena fanir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 ankohonan'Andriamani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ebaha ary izao ankehit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ais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dia tonga tamp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fate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anao vesaran-keloka tsy z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hivaloz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43:15Z</dcterms:modified>
  <cp:revision>61</cp:revision>
  <dc:subject/>
  <dc:title>Tiona Advantista</dc:title>
</cp:coreProperties>
</file>