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5674-FE50-4739-9BC5-22A609A5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09E-A82E-4BFA-8574-F6DDD03D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0848-A71C-489A-99BB-67C3B867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C41-8717-4C86-89BC-27EE15FB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95A6-B581-43F0-9A7C-347DBDFB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953E-AE5F-404C-B622-DA0BB007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2805-44EB-4D30-9F40-12769C82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BB11-F980-4C36-AF65-E2E10726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C08B-E8A3-458C-8C4D-8AD7BAC8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C78B-3CD2-4333-85C7-D8214A62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4F15-0FD5-4D42-8075-E4F70752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199-CFE5-4141-9511-7A127EE9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06C8-257D-44E8-92FD-BE9B01C5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CD2E-77B2-42EE-BB5D-31196BD7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5EF8-6C53-419D-B2C3-816EB7EF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5055-922B-470F-990D-CB757D2B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3846-3EDD-4A64-A936-2B1324AB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257-95EC-4029-B7CB-AC55B995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51FC-1BB1-41FB-9142-C771539F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B80F-AAE1-4A2A-BF17-4B50776E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0B6A-32BF-4636-8695-E6FCDBC1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1DC9-C0A9-4521-8DC7-4AC51A1F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C9CA-F400-4020-909D-EAB79881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AE4A-DC66-4AD7-9ACA-0F860A70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5450-025E-46B1-A2EC-3733095EC3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CC79-13B2-4BC6-98D8-B425E5BB7D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Razakarivon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Razakarivo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81 – MIDERA AN’I JEHOV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87960" y="59421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88320" y="632304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1 – MIDERA AN’I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Miderà an'i Jeshovah, miantsoa ny anar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taovy fantatra any amin'ny firenena ny asan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ihirà ho Azy, Mankalazà Az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Saintsaino ny fahagagana rehetra ataony </a:t>
            </a:r>
            <a:r>
              <a:rPr b="1" i="1" lang="fr-FR" sz="32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88320" y="632304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76240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1 – MIDERA AN’I JEHOV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Ataovy ho reharehanareo ny anarany mas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oka hifaly ny fon'izay mitady an'i Jehov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itadiava an'i Jehovah sy ny heriny, sy ny heri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tsaho mandrakariva ny tavany</a:t>
            </a:r>
            <a:r>
              <a:rPr b="1" i="1" lang="fr-FR" sz="32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men, A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87960" y="59421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762400" y="551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3T08:23:43Z</dcterms:modified>
  <cp:revision>91</cp:revision>
  <dc:subject/>
  <dc:title>Tiona Advantista</dc:title>
</cp:coreProperties>
</file>