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3E2-B593-4937-9833-504933A4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605-8B91-45F5-8FD0-248E86E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E35-1BB5-499E-87A1-CB38931D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322-9417-4F87-A5FF-ECED2E86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5CA-728D-4E44-9CFC-3498785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01F0-8E5A-4365-B943-8288F6F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F12-EE00-45BA-9B86-BC5F727B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10B-317D-4DBE-B86D-EF4FFC4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4CB8-3081-4B78-951D-1DC5D4B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69DD-9116-4107-9740-4D2429A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FC43-FAD4-44CA-9BCA-F2E8C7E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D0D-A8BA-4BF1-A74F-BAD7A3BB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947C-0CD6-4E00-9284-DE891FF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ECA1-6D9E-404C-AB7B-713DCD9A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DCC1-CF98-4BFB-B7F4-7E8DF55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C700-9D5A-4593-A653-2F397C87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1A52-0E6D-470A-821C-A2536291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0E0-BF54-42F3-9650-2A5BA1E1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E17-4D14-421C-9115-800292A9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18B-99B3-4397-A76C-5F480CA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00C-6342-4AC1-A182-F41D758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A6A-A903-4875-AAEF-3EDE8A2F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6D1-6551-4D18-BA33-996B9DA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28C-D766-42BC-9D04-4DF5348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9D0D-5202-4C82-901C-EDA5D8028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F3BA-85F4-421C-A6D7-50D453ECDE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ir Galloi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063, DLG17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6 – VAOVAO MAHA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6 – VAOVAO MAHAF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ovao mahafa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mi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nj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6 – VAOVAO MAHAF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era sy haj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sao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avotr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6 – VAOVAO MAHAF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tsy n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jal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6 – VAOVAO MAHAF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dinitrao n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el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a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rat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fandres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masi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ina 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6 – VAOVAO MAHAF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09:50Z</dcterms:modified>
  <cp:revision>32</cp:revision>
  <dc:subject/>
  <dc:title>Tiona Advantista</dc:title>
</cp:coreProperties>
</file>