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6C0-30A5-4D04-8A97-5F93423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12A-15DC-4394-836A-B3FEB8C6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554-2DDA-48F6-B8F0-755FA52A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CBE-2E9F-42DC-B1D6-BF3D225E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97B-BC88-4682-837E-6DC74E47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968-9974-4781-9B78-5FCE218B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C35-F0D7-4C4B-9A2D-B5FC094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D23-07FE-4FAD-B7E9-5BE76964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7E27-6B06-44C9-B8F1-FEC4FCDC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714B-FA08-4EEA-AE3A-E1D64B7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D555-6E9F-41F4-AB09-0F8FA2B3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6A9-B249-4A88-AC88-B99A4400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177C-CF1C-40DD-9788-06DD0CB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159-0606-48F3-8928-37A00D6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7688-FCB5-4F44-A60A-3B9862CB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FDD5-2B72-4D96-98C9-B1A34A7C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8CF2-A4DF-4C3F-AFE8-CD454C68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0FA-6663-4D57-B64E-4DFF556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96E-2FFB-481D-9A20-F6235E0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7CA-7C9A-4B33-9070-870B792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04-48EB-4020-B9BA-747B91AF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228-FC7B-4BE3-9A20-157ABD2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E50-E1B9-4812-8AC2-54ECEDA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75D-DEAB-49E6-A287-AC33B4A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D32-01C5-4E18-840A-F610875748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F43-B735-48EF-ADCE-23C76A47E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verenany - Ny fanjak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. Root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618, DLG44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4 – JEHOVAH NO FAHAZA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8796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8832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704 – JEHOVAH NO FAHAZ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hovah no fahazavako Sady t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'zay tokony hatah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anki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a dia mifofofofo ny tafio-dri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feno tebiteby Ny foko sasatra, rer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y mamelona ny fino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aher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ampahery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832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704 – JEHOVAH NO FAHAZAV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falia r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Mifalia ry foko, re ry f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Jesos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jao manakaiky </a:t>
            </a: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akaik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samb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(Ilay sambokely, ilay samb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mpitony ny onjabe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796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1T07:29:53Z</dcterms:modified>
  <cp:revision>41</cp:revision>
  <dc:subject/>
  <dc:title>Tiona Advantista</dc:title>
</cp:coreProperties>
</file>