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FFE8-5561-4F21-BDDE-38A22267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3B1C-AEB9-4E81-A532-00ED89D8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7766-51C9-40A0-8ABD-35EF1F2EC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5E46-EA5E-4168-85FD-1D8B41433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6352-F1EE-48FB-AC6C-AE4E2B0C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33B2-802E-4AB6-9640-D76FB864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C609-D2ED-47B5-9213-9058DFF9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F4C5-E1A9-4A02-BE77-3B3D3D6C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AFCC-1F3A-406F-BBF4-684DD19A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B0CD-231E-48B2-8415-0C240B4D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F7F6-F5CA-4716-A75B-1FA8B288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183C-FCEC-4A08-B2B1-14362585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DB62-9F5F-4A2C-9217-FEECC47C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0711-87A6-48C1-9169-B49E5478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C5D5-4E72-43C5-9A38-439DD267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8C56-FEAC-4ECC-A85D-472B569B5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FAF1-6E96-41B9-B997-31F390884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A67D-101F-4F7C-AE27-474AC550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E5D1-E412-4D8C-926A-11D8C55E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A419-2BFF-46EB-9829-9DD28CF3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3E7B-52A6-4346-B645-37D92AC0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BF41-4045-4ED6-89AD-0ADA1AA8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6C08-516B-42D7-A7F4-C1A01F64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6826-5E38-4285-9320-45056165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B72B-423E-4DE1-91DF-D06105E9F9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3FFF-E8CF-42DA-89A1-508D82F058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34 – TSAROAKO AN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34 – TSAROAKO AN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aroako anio, Jeso, ny fanavotanao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tao an-davaka aho no nakar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sandrinao mahery no natsotr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tarika ahy ho eo anil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84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34 – TSAROAKO AN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o no voady ataoko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Jesosy ô)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oadiko anio, mandrakizay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hisy hahasaraka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hitoetra eo anil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eo an-tongotrao, akaik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34 – TSAROAKO AN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e ! Sambatra aho, Jeso, satria voasas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heloko rehetra dia voavel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iainako tontolo dia nohavaoz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mendrika tokoa ny lap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84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39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34 – TSAROAKO AN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ndrey ny hafalia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nan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lanitra no hamboar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trano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reo anjely ma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y myder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hiaraka amiko eo akaik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o no voady, sns</a:t>
            </a:r>
            <a:r>
              <a:rPr b="1" i="1" lang="fr-FR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Times New Roman"/>
                <a:ea typeface="Arial"/>
                <a:hlinkClick r:id="rId2" action="ppaction://hlinksldjump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25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8440" y="5632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81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2T14:41:34Z</dcterms:modified>
  <cp:revision>78</cp:revision>
  <dc:subject/>
  <dc:title>Tiona Advantista</dc:title>
</cp:coreProperties>
</file>