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63C-B520-4833-B89B-4DA5C0A8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389-EA3C-45D9-B3CE-A8A4DF0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107-385C-42A2-91EA-B5758A8D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91F-83CC-4BF1-8BA9-A903484E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436-9683-4711-94C7-EF810BD3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DDB0-3179-412F-A77E-DD0F79D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2A1-CF6C-4F19-92A1-DB6D7441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71A6-BBAC-4EC4-B4CD-540917A6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28F8-B545-4DB6-B7EC-3E6A624D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A20A-4E63-427B-AFCD-0D7DFC41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658D-F3C2-4419-8A2E-8A93802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8F6-6506-4F0D-B9C6-AA5FF012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E9C1-5029-4E19-BA3B-84F38FCD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4AA9-0D36-449A-9794-64C99ED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F30B-0F3A-41A9-813A-D91B68B6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16B7-ED29-4850-B5A8-F72F5A51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355E-2684-4A77-BE30-5469D92D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238-CB3E-49C3-9B0D-689775D3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270-E898-4EBE-9C8E-8CE178CC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BCD-B0FA-49CC-B5FC-CDB1A57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04B-17AA-4F7B-BCF4-7A788316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783-F0FA-4DF8-8CE1-D20DB22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DEE-2C93-4458-BDD2-0E7EBFB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72F-3378-40EB-BCCD-E4157D6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1287-C8EA-431D-AEB9-95D5103B9B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E92D-899E-4755-8F0C-D90412E16C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Raob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Raobija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6 – TOMPO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6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ô ! Jere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osa ny fo tsy aro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rotsahy ao anat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sa ao am-po, 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6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ny fe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l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eke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vavak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6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ô ! Ampi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to ondry mila hery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saina vonona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ndresy 'reto zand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6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ô ! aza af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to fanahy, eny mito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trotroy eo an-trat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, mba eke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56:54Z</dcterms:modified>
  <cp:revision>45</cp:revision>
  <dc:subject/>
  <dc:title>Tiona Advantista</dc:title>
</cp:coreProperties>
</file>