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FD4-22CE-4762-A590-E76B2E80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7C2-9945-422F-B8DE-780D75F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B8D-191E-41C0-BD7B-10C46D4B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746-975F-4DD1-B030-A30D7434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E71-1B5C-4170-AE97-4AAF92E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E04-07ED-476F-ABD9-7AC4598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F68-A6E8-4FA1-8E13-E989BE00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1EC-B873-4A02-B867-681B9ED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13D-5B90-462E-8815-F0E526CD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64C-9D59-4A92-9FF8-537096D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4F5-0F44-47F0-A772-49CEE3A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FC1-ECDB-452A-9667-22E727C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2933-4744-4288-878C-24B710C710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. A. Backm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HL504, DLG35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136 – EFA AKAIKY ‘LAY ANDR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4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5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1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17">
            <a:hlinkClick r:id="rId7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'lay andro mala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sokafan'ny lanitra r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seho 'lay tena maz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pisava ny alina 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9">
            <a:hlinkClick r:id="rId2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0">
            <a:hlinkClick r:id="rId3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1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42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43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44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leloia ! Hosana, ry Tompo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leloia ! Hoy ireto mpanompo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oby Anao 'zaha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Ilay Mpanjakanay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leloia re ho amin'ny Avo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0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32">
            <a:hlinkClick r:id="rId3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3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4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5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6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ilay fandresena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vohana ny fasana r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tsangana ireo 'zay nek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pandova ny lanitra e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8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9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21">
            <a:hlinkClick r:id="rId4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2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3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4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ilay fitsena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-drahon'ny lanitra 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'i Jeso Mpamonjy, Hosana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y ny hiran'ireo marob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25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6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7">
            <a:hlinkClick r:id="rId4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9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30">
            <a:hlinkClick r:id="rId6" action="ppaction://hlinksldjump"/>
          </p:cNvPr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31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ilay vavah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kanesana amin'ny R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osoan'ireo afaka ady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very fa hita indray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>
            <a:hlinkClick r:id="rId2" action="ppaction://hlinksldjump"/>
          </p:cNvPr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4">
            <a:hlinkClick r:id="rId3" action="ppaction://hlinksldjump"/>
          </p:cNvPr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5">
            <a:hlinkClick r:id="rId4" action="ppaction://hlinksldjump"/>
          </p:cNvPr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6">
            <a:hlinkClick r:id="rId5" action="ppaction://hlinksldjump"/>
          </p:cNvPr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7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9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6 – EFA AKAIKY ‘LA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ilay famonj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ratsy nandoza ho l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oriana koa ho res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ra, hoby izao no at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8757720" y="437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762760" y="4759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5"/>
          <p:cNvSpPr/>
          <p:nvPr/>
        </p:nvSpPr>
        <p:spPr>
          <a:xfrm>
            <a:off x="875772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8748720" y="5521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38"/>
          <p:cNvSpPr/>
          <p:nvPr/>
        </p:nvSpPr>
        <p:spPr>
          <a:xfrm>
            <a:off x="8748720" y="5962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39">
            <a:hlinkClick r:id="" action="ppaction://hlinkshowjump?jump=firstslide"/>
          </p:cNvPr>
          <p:cNvSpPr/>
          <p:nvPr/>
        </p:nvSpPr>
        <p:spPr>
          <a:xfrm>
            <a:off x="8763840" y="3946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22:52Z</dcterms:modified>
  <cp:revision>38</cp:revision>
  <dc:subject/>
  <dc:title>Tiona Advantista</dc:title>
</cp:coreProperties>
</file>