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232-0A5C-4514-9ECE-8B25278B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B79-A31E-4B9F-A2D3-AE871AE9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1DD-496C-4C2F-992B-2B6AC64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A10-7DCC-460C-8911-2A2BBA81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F26-C6B5-4328-B7A0-7AC4166F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324C-40E1-431D-9D62-A3E460D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247-9576-4252-BAFC-F495F70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C4E8-3A5B-4235-9D39-B5E1870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3B3-7D04-4026-96C3-C1B7B8C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BFD8-8A19-40B0-88A0-EF0827D4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4A06-B60D-44DB-A5B2-17C2B08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DFA-C40F-4779-BC27-D5AEF7D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A9A-5374-4217-BFC8-D5ED31B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D67C-050B-4C36-A2C6-C4481BD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318-32D7-4A76-A89A-891BB8F9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CB6F-0107-4DCD-90D7-B59F842B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6569-4A38-4818-AFC4-DD23368A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21E-90CF-4874-BADE-D9D0E328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EA3-33FD-4552-BB11-9455AE8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D48-F8AF-4CC6-A417-A887BCA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C9F-FB7D-4A4C-AF25-DC3B56E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C6E-A68F-4EA4-B9B7-3E58513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C83-ABA1-481B-966A-58BE7CC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857-1058-4463-B70C-6244C79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F435-993F-4E76-AD87-2D0EA5BCF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6C2-7297-4823-9F2E-42874850B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OTOANA SAMY HAF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ra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uteur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534 – NY ALINA HO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9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9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9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0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4 – NY ALINA HO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lina ho lasa, na ela az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poaka ny andro mahafinar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ona hisava an-tendrombohit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vahady tsara ho tsinjo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49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49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0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40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4 – NY ALINA HO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sarotra tokoa ny fiakarana 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y mafy koa ny rivo-doza 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e ny mpivahiny izay efa tro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anan'ny mpamonjy tsy ho sol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49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49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0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40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4 – NY ALINA HO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'i Kristy, ny fanavo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loharano soa mangarangar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ramako sahady ny rano v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nahazo hery am-pandeh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9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49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0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40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4 – NY ALINA HO L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be hitànay, ny fefy tsil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àlana mahàna ho afaka avok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era, Haleloia, no mendrika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ara-pahatonga am-pitsah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49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49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49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40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20:56Z</dcterms:modified>
  <cp:revision>74</cp:revision>
  <dc:subject/>
  <dc:title>Tiona Advantista</dc:title>
</cp:coreProperties>
</file>