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D60F-1525-4085-A499-B38F1907C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F35B-F7CB-43DC-AAEE-2A4DAB45C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276D-DDEA-4ACF-8E53-23D2ED301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374A-6176-423E-80BB-01B677B13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AACA7-6C6E-43ED-B40A-9A7CF1078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2EAE9-013C-4B1C-8525-732059752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A8DF9-51D5-4A50-A1CA-A8847D542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7999A-B7B4-4600-89D6-507B06BB2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9DE84-1174-4B48-8015-61C8D787B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5687B-A0FB-44D9-A2BB-FCF68F18F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D3940-2F27-4EC1-B97E-E9D7F5E72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7872-F3B1-415F-9E84-BA46F41A1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28170-693B-4A06-BF96-A7508C200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EBFF3-D5E4-4533-B77C-22142488B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C68DD-301B-4B79-B579-EE2237DAF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84A8B-237C-4B9B-B0A7-936070A52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7EED1-D05D-4F4A-BC98-77D1C4D2E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A833-F853-49F3-96A8-9B6B0DF22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277A-8E9C-439B-84D0-CB1D3899B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E76A-A091-45D4-AFA3-547FE12A6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6FF1-89AC-4E20-93E6-F13048FD7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817A-EEE2-4FA0-AE1D-525E910A8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34C2-A9AA-431F-A813-1B5A2AD5F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0D4D-0105-4045-A217-9EACE71CD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BC473-AAF8-4FC5-AE75-9B226E0EE13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E9CCB-93A6-4176-96E3-F8ED17C1143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OTOANA SAMY HAF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Marai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L. D. Randriamampandry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L. D. Randriamampandr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537 – MISAOTRA ANAO RY R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5780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5780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5780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84880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37 – MISAOTRA ANAO RY R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saotra Anao, ry R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ofohazinao indr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andon'ny marai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melona ny sai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okinay 'zao hita iz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Ianao dia tsy mand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85780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85780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884880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884808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37 – MISAOTRA ANAO RY R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hira tian-kat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hankalaza 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nomenao ny he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tsy hiasa irer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anjely irak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ndreo koa alef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85780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85780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84880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884808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37 – MISAOTRA ANAO RY R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antano, Tompo ô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zanakao ani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itory famonje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ndeha tsy hive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hanao ny as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zahay mpanompo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85780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85780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84880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884808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37 – MISAOTRA ANAO RY R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Vimbino izah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nio, rahatriz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tavanao, ry Rain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o aoka hialoh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ia hatoky izah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Ianao no amin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85780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85780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85780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884808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8T08:30:28Z</dcterms:modified>
  <cp:revision>75</cp:revision>
  <dc:subject/>
  <dc:title>Tiona Advantista</dc:title>
</cp:coreProperties>
</file>