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FE5-6F91-4884-BCE4-A96DE876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B634-42C9-42A6-9A7B-C52671A9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CB5-8D89-45CF-BDC8-EFCE0355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73E-EBAA-4BD5-AE6C-B7B00DD8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0E08-0665-46B9-A390-D9966F22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6973-9B42-4281-934A-656C2D09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35CA-8EF5-4FFD-B3D3-C9BED73D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250C-38E8-40E6-80F5-2E74EF32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E19D-2713-4511-ACFE-C170262D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F8F9-8CE7-4D25-9C51-FA245962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F545-8467-49A6-9019-6DD66B5B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8F4-98F8-4DD7-A4CD-0395CD76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8633-A8A9-4FDA-AE20-2CB19341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D744-C897-4233-81FE-27C936FE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9154-4829-4552-B365-D2B13586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4101-EB11-4461-9C13-319BFDF3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C410-632D-4095-826B-0E9879F3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773-2C75-4441-AB51-86A19525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4175-AAF6-4851-8FE4-AA9D2E02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A11-45E9-4D9A-8719-C960A135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0DF-8C93-42B6-BE3B-6B082E29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C84-00A4-44EA-BE37-A8F1D009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CA3-F736-4648-82DD-37751227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20A-7C85-4FD0-9921-B08F1A0E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2652-EBD3-49C4-BC17-A1E3A08CEF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7CA7-D437-402F-8384-17400836E8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bebahana - Fiovam-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it-IT" sz="1000" spc="-1" strike="noStrike">
                <a:solidFill>
                  <a:srgbClr val="ffffff"/>
                </a:solidFill>
                <a:latin typeface="Tahoma"/>
                <a:ea typeface="Arial"/>
              </a:rPr>
              <a:t>Ramala, Andriamampihantona, Rajaobelona, C. Borchgrevink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F. Roo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45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94 – MIHIRA, RY MPONINA AO AN-D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4 – MIHIRA, RY MPONINA AO AN-D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à, ry mponina ao an-d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izao ny very fah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Rainy faly sy finar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dray ny zanany indr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4 – MIHIRA, RY MPONINA AO AN-D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obia re, ry l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erao Andriam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mihobia re, ry min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irao ny fihiram-b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4 – MIHIRA, RY MPONINA AO AN-D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à, ry mponina ao an-d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lay very dia hit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ray ho zanak'Andriam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tonga olona v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4 – MIHIRA, RY MPONINA AO AN-D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à, ry mponina ao an-d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ehibe ny fifali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erao izao Andriam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maty, velona indr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10:54:03Z</dcterms:modified>
  <cp:revision>67</cp:revision>
  <dc:subject/>
  <dc:title>Tiona Advantista</dc:title>
</cp:coreProperties>
</file>