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0E1-11F0-46EC-9D2F-705D34F4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C96-BFB5-4E4C-A7A4-24E2303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AA4-F13E-4F0E-A143-AC48069B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F1E-2959-4BBC-9065-0CDEB7B7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DCE2-2038-48A7-8552-6CC0D7B2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2734-9D29-4C4E-9089-E3BB91B3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AA70-A6BA-46B3-996A-77F1221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4E8-B0E3-4C21-B724-4A4812F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A9F-A9EC-46BF-923C-309187B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3D0-D51F-444E-A316-155FDB3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E2A3-1A3A-4C7C-AE4A-E103805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75C-81B4-4D4F-B2AA-ECADB840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419-17C3-469D-AA1E-1D22F70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522-DBAB-43B8-9FFF-4A4A1E1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865-C96F-4491-9507-1D06A49E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B825-1319-40C8-8DE5-277E5D1C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DC94-7C0A-4A61-B431-7F702BDD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7E3-3B80-4B27-91C0-306F3FED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020-2D21-49DC-A723-755D9ADA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B8E-7B62-4E4F-8E63-5E335E29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3A9-36AB-47F4-9BDB-8E5B8E1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EF9-5677-405B-B091-CE9AAFC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675-D53C-4234-B630-9BBAC57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45A-D04F-4769-9BE9-06C3001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818-8F4E-4324-8793-BA370DCB0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44D-3977-40BF-B689-F8BA560C5A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9 – AN’I 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5772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57720" y="638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9 – AN’I JEHOVAH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hovah aho, a</a:t>
            </a: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n'i 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Ka ankiniko aminy ny androko rehetr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fiainako sy hery maha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Faly aho satria efa an'n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Na sendra sarotra aza, izy re no t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ndao ny sakaiza, izy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hovah aho, an'i 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Ny amiko rehetra dia ankiniko am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57720" y="638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38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76240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439 – AN’I JEHOVAH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hovah aho, an'i 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hatahorako, Izy ato amink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aroko sy hery maha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Faly aho satria efa an'ny Tomp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jo fitsapana, Izy re tsy mahaf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Fa ny sandriny mitana, he tsy mba fo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hovah aho, an'i 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amiko ; tsy hisy hataho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5772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05:21Z</dcterms:modified>
  <cp:revision>71</cp:revision>
  <dc:subject/>
  <dc:title>Tiona Advantista</dc:title>
</cp:coreProperties>
</file>