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C7C-A438-494C-9299-03D60924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4B3-9259-4CD3-BF11-E7D00B2A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168-5938-4D64-99D8-2B16F9E5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16B-CBB0-47B3-8EB9-FDD57ADF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896-CE41-4793-98CF-6BD681E5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5A7B-F5A7-420F-9B81-BF260108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80B7-B8C3-44AA-A6DB-ED30B5E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16AF-9DFC-4511-9BBE-3367BDA7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3F8-0529-4347-8575-E9F05F9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CE28-3F5F-4D1F-9552-011088FA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C530-7EAA-4119-AD3F-52D6CA4C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A71-09EB-40EE-A199-9A896266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7226-8F53-4658-B7B8-36C01D3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F8B8-CA8D-4505-8B84-B9A3495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00A4-5B1C-453D-ADED-4CFACCF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729-56B3-424A-8525-65319CA9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89E5-8A4B-4433-9BF5-224238FA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7C2-BF3A-40CC-9893-38758FB4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DC4-03E8-4B63-BA06-B46F3E3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EC1-E718-43AC-B799-7C769AC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CBD-697B-440F-AD94-5227C7A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B5D-52E5-49CD-A729-AF93C17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825-87FB-4AC3-B569-572F2D40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7C5-6DCF-459E-9002-03915C9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7BC-C566-4108-909B-9E2242EC5C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E92-58D8-402F-9614-5D2CA4BA65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H. T. Re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3 – EKEKO R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3 – EKEK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, ry Tompo malal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lahatra izay vit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, ry Tomp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tao hanitsy ny 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nanome fahori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y nahaoriory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reo 'zay nitondra hafalia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ho ahy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3 – EKEK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, ry Tompo Tsitoh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didin'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tokoa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itsy ny dia tsy ha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henjana toa tsy ho vit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droso tsy mba han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arika ahy ho taf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fa fitiavana a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3 – EKEKO RY TO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keko ry Tompon'ny fo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or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mora, na sarotr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tety 'zao rehetra iz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ho haingana na mbola ho 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andro hivere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o Tompo ô, tsy ham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hafatr'izay nome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4:36:50Z</dcterms:modified>
  <cp:revision>78</cp:revision>
  <dc:subject/>
  <dc:title>Tiona Advantista</dc:title>
</cp:coreProperties>
</file>