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FEE-BCD2-4CA7-B4AD-2B29EF03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873-C4A1-4499-AFF1-9036B436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FB8-8102-4690-AEA9-6F1E10F3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D91-376C-4A0A-92BD-365BA564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1971-99D7-47BA-9433-53D19C1F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DCEC-32EF-4414-8F1A-588EF613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B1E0-A2C1-4F73-8B28-BAC73E18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9AE5-E584-4C14-80F7-2711AE2A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9DFC-EC12-42AF-A322-48CDE391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828A-9485-4C4A-A515-02167B3D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0285-4A5D-41EB-B9C4-E8CB0D6F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1BA-698D-4735-ACCC-517A47C5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0926-79F1-4D92-8463-ADB5F310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72EA-E4B8-4866-BBFD-3989DB72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96AC-20AB-47F3-8218-6A448F60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6105-9C8B-43EC-BBD4-6614A0C6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A970-407F-4BC5-A959-35BA9A81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45E-01DF-4881-8B11-B2A82A93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775-0F5D-4310-850E-D29B2FDE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0A4-B8A4-4757-B210-1E27B7ED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317-E000-438A-ADF4-A05E8D5A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D5D-5EFE-4288-9600-D76FE121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92E-0024-40AD-AE5D-66193901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61C-624A-4336-ACC4-D1F3000A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CD9C-84ED-4B24-8B5A-040B759AF2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F499-4ECB-4CEC-9E48-FB7E276123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otte Ramboa sy David Huntsinger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78 – MANATREHA RY FANAHY MASINA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8 – MANATREHA RY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reha ry Fanahy Masin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reha eto Iana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Rainay mahery, be famindram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etreha ana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va mba hanasitrana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irery no mahavonjy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reha, ry Fanahy Masina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enoy A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63840" y="5654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8 – MANATREHA RY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Avia, ry Fanahy Masi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reha eto Iana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Rainay mahery, be famindram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etreha ana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, vokiso fa noana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belominao ny fanah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reha, ry Fanahy Masina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enoy A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3840" y="5654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7:49:00Z</dcterms:modified>
  <cp:revision>39</cp:revision>
  <dc:subject/>
  <dc:title>Tiona Advantista</dc:title>
</cp:coreProperties>
</file>