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488-873C-44A3-97E6-8C84D539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A13-0EEE-448D-929D-72C711A2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7C8-4425-4F5D-9178-9F8A51F7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EE2-E7E7-4774-AA99-FBB6FB6E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025D-F6A4-431F-A428-449AF67E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1E02-49BB-4C5C-8795-EE662DC9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773B-6B20-4528-BFC5-3C8DCDA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E619-2E0C-47EA-AB6B-DA58728A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3817-8002-46B5-9760-2EC8334E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ED99-2A53-4F83-ABCB-A227291D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FB7F-6136-496D-A222-2A5C0C6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6CE-CE15-4331-A92D-FF15EAC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3B8A-BDBB-4FCF-ABA2-4EFB34A4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750D-C558-4E36-9C86-C183EF7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FDD7-91E6-4BF0-B530-8127AAFC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37C-4ED0-4C82-A11E-950E43A6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E8E7-B330-48A3-879C-83439912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174-59E3-4AD1-B89E-BD628552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BAA-1C21-4EE7-8EF8-031D6FBD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384-809C-4126-8B9D-49F6D13F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A4C-46BF-429E-B4C0-7A7E5077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F92-0D80-483A-9AA6-DD6E33F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9DB-44D3-4A32-8E57-CF41937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689-AE42-4BC2-970C-BBD153DC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9EA-73BF-4EB6-BB4E-C74992A6A1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AB1-B670-40E3-89BB-F96D34733A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1 – INONA KOSA NO HOM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083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46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72840" y="6249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1 – INONA KOSA NO HOM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kosa no hom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'i Jesos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izay nanavotra ny 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on'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mendrika Azy ve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vesaran-tsento sy tol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azàna velon-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adin-ts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46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762400" y="465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72840" y="6249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1 – INONA KOSA NO HOM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zakaiko ny vokov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efa nihombo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aisotra 'reo o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nataoko t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anie izaho dia male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oa hahazaka izany mem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ahiahy sy tah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sy sar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083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762400" y="465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772840" y="6249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1 – INONA KOSA NO HOM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o an-tampon'ilay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angidy nosotr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soloanao 'ty olom-be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voavidy, i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ko ny tananao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 handray ny tanako malo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mba raiso hiasa ho 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fon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083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46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465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72840" y="6249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1 – INONA KOSA NO HOM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aho anio hias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72120" y="5083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72120" y="5464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62400" y="465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8:07:35Z</dcterms:modified>
  <cp:revision>90</cp:revision>
  <dc:subject/>
  <dc:title>Tiona Advantista</dc:title>
</cp:coreProperties>
</file>