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2AB-01E8-4B6D-97FA-2B96D1C9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DCC-7F30-4D4A-9034-25B504D2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E56-575D-41B2-A5A7-8461832E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F2F-E022-442A-B5A7-A49E6DF8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3890-9182-4E04-96E3-DA24B0D8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5D60-D695-4F41-BE92-FF05CDB5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E040-5298-4DC2-AF03-83AE2D7B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331D-A28E-4255-A7D0-B856907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9171-E959-4C01-97E2-7CD3D453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525E-2A0B-4060-ADAD-01C7A36F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5803-A066-4E9B-A0CD-8BF1F60C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CB3-551A-483F-AE49-878D1807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6FD6-B539-458B-8047-F761E1D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92C5-B52E-4C7F-AF34-465AC6C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9A7B-611C-4B6D-AD65-90143060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EFBA-A360-4BDD-B8F4-23DFC508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CCFE-8D4C-4B78-BAC4-DF9F2FFA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617-13EA-4ED9-86FC-4EB294AC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F77-EC3F-40D2-8070-9D38874E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689-5E93-42CF-8E4E-AC557F6B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CC9-8A32-42DE-9A79-D4DC661B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129-4121-463E-937C-CEABA20F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792-1A6D-432F-8A8F-E486E6D1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423-FFA9-4EE5-8571-51FD060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37FB-A18C-4A96-823F-4E011E673E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9C43-9E54-49D7-B36A-EE350BB919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boavonjiarina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boavonjiarina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8 – MITSANGANA, MIH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2240" y="50562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652240" y="543708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636040" y="58183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699760" y="6178680"/>
            <a:ext cx="38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8 – MITSANGANA, MIH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00"/>
                </a:solidFill>
                <a:latin typeface="Corbel"/>
                <a:ea typeface="Arial"/>
              </a:rPr>
              <a:t>:,: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Mitsangàna mihazavà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tsangàna mihazav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a tonga ny fahazava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tsangàna mitsangàna mihazav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tonga ny fahazav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tonga ny fahazav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tsangàna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mitsangà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hazavà,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mihazavà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tonga ny fahazav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tonga ny fahazavanao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652240" y="543708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636040" y="58183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70984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699760" y="6178680"/>
            <a:ext cx="38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8 – MITSANGANA, MIH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ny voninahitr'i Jehov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fa miposaka am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voninahitr'i Jehov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fa miposaka aminao, (ami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Corbel"/>
                <a:ea typeface="Arial"/>
                <a:hlinkClick r:id="rId2" action="ppaction://hlinksldjump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3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8742240" y="50562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8636040" y="58183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70984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6" action="ppaction://hlinksldjump"/>
          </p:cNvPr>
          <p:cNvSpPr/>
          <p:nvPr/>
        </p:nvSpPr>
        <p:spPr>
          <a:xfrm>
            <a:off x="8699760" y="6178680"/>
            <a:ext cx="38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8 – MITSANGANA, MIH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00"/>
                </a:solidFill>
                <a:latin typeface="Corbel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a indro ny haizina manarona ny tan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ny haizim-pito manarona ny firen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aminao kosa no iposahan'i Jehov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y isehoan'ny voninahin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voninahiny, ny voninahi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00"/>
                </a:solidFill>
                <a:latin typeface="Corbel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42240" y="50562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52240" y="543708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0984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699760" y="6178680"/>
            <a:ext cx="38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8 – MITSANGANA, MIHAZ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00"/>
                </a:solidFill>
                <a:latin typeface="Corbel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ny firenena reh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atona ny fahazavana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ny Mpanjaka mankeo amin'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mirapiratry ny fiposah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00"/>
                </a:solidFill>
                <a:latin typeface="Corbel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D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42240" y="50562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52240" y="543708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36040" y="58183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09840" y="4653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08:43:28Z</dcterms:modified>
  <cp:revision>80</cp:revision>
  <dc:subject/>
  <dc:title>Tiona Advantista</dc:title>
</cp:coreProperties>
</file>