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F57-15A8-4E73-BA2B-0F066CB8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14C-CF6D-461A-8BA2-3980D5AB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752-73A9-441D-B01E-5B3287AB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9BF-5DA7-40F1-9630-997C3149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4150-84AE-4D33-A09A-B43749BC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1808-5495-4036-9EBE-0C90498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8FB-4C7C-4E24-BB0A-D26855F3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96B3-31F0-4652-BD0E-AD66E2D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34FE-F74E-4D7C-8F1D-CF70BB4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297C-27AA-4C52-ADEF-A860263A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5A6-5A94-4076-989D-57E8B381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141-9FB2-4FE9-85F8-BB79AFFE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0FA9-E1A9-4D36-B8B3-A4DC7C61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819-4B6F-4B20-9903-7201BD0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D25A-84EB-4748-A5FB-6CB6ACE8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CFEC-13AD-45E3-91FB-C3581F70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9AC0-12D8-4AB1-ADD1-A771ADB3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395-6847-46A2-941E-C6711EDA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65F-B5A3-4074-9E5E-AD710FB3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14D-2287-476A-902A-D7D5F0AA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FE1-FC37-474C-8140-B6562D9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8A4-B8AA-4CC3-9BD1-9DEAE1D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0BF-BE31-4E2C-8CE1-1F8B1443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AD8-8BAE-4964-B2DD-70BE5542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51FC-85E8-4BD7-8AB7-1B5044B854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AEC4-C43F-4C22-855F-261C6F9CB0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mahais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mahais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9 – MIFALIA RE RANKIZ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9 – MIFALIA RE RANKIZ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 re, rankizy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otahi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mafy re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z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9 – MIFALIA RE RANKIZ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 re, mihobi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my tratry ny taona i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nolo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9 – MIFALIA RE RANKIZ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vela ho very mai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 izay nom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re ny t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25:36Z</dcterms:modified>
  <cp:revision>84</cp:revision>
  <dc:subject/>
  <dc:title>Tiona Advantista</dc:title>
</cp:coreProperties>
</file>