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CC1-76CA-45E4-BF88-88D8648E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2B7-3619-4018-A1C5-3035D16B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B03-903A-4A4F-89D9-97D35203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2F3-D131-42BE-A102-E3CF4F6A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31E5-D045-4DC4-AC16-6C03DE4E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486B-D8B1-4732-8C49-592B6E1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BFBD-2F4D-47E1-9E36-284473A7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33F7-6BFF-422D-B89F-E52A1DD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EBBD-8BDC-4AC1-AEB5-97A2122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0AD0-EA01-4335-8164-E6F22B98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41EF-7E53-4F6F-8E20-F1FD10D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6AD-927B-4887-85AF-C1518D70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69A3-0BD0-46D9-A1E1-4BBBE0D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F04-D730-4900-B91F-D52A41B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F912-932B-4459-B4E8-C0373EDC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F951-9837-483F-A76E-790CE5A4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CAF3-A699-4519-AAE0-72ADE495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386-C079-479E-BAF9-D280096F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1A5-AB21-46F3-B3E0-A54DED3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4C4-FE0A-4655-9E19-C6EB169E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462-2061-40B6-835D-670827E7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990-15C4-4ED5-9AF7-B06096DE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25F-9149-4C19-8D56-E5277FFC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3AC-15FF-4C27-A3B0-0EDE0F7D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F2A-3510-4F43-B334-436B58842A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647F-DD6B-4A61-B4D9-CF23895EE0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hah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ha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9 – I JESO ‘ZAY ZOKI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9 – I JESO ‘ZAY ZOKI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 Jeso 'zay Zoki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pamonjy mora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ota vit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havelan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ety hovonj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andao ny 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fiainana no om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inana tsy mety 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9 – I JESO ‘ZAY ZOKI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e ny zava-mahasond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a mamir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libàna an-kamam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ange tsy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injao 'lay feo male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gavy mital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zandriko manj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ta ave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9 – I JESO ‘ZAY ZOKI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anora maher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zotoa, mias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 ! Ny làlana mid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sahia hitomban-d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zao ireo tsy m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omy koa ireo n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hafatra aza hadin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vy indray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8:56:53Z</dcterms:modified>
  <cp:revision>89</cp:revision>
  <dc:subject/>
  <dc:title>Tiona Advantista</dc:title>
</cp:coreProperties>
</file>