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2663-5226-497D-B4D4-22A9CC6F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EBA-F33B-4954-B443-F18DCF7F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0CE2-FDF9-41B8-AD7B-F212C3A6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5454-7592-455D-9D72-76190E8B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76A1-BE3B-4B04-A1F7-D01DB564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722A-1701-4798-A4DB-568124C7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9C48-A60F-4B25-BA32-54EA8DBC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5561-B541-473A-91B3-AAB87159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C664-B184-49AE-8DA6-AE2E8DB5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6ED9-5A23-4183-8C52-DBE59E37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20A0-44E3-4B05-B66C-35C9B725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B7BE-4558-4FE9-8050-2F2542D7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3BEA-CEC8-422C-97A1-70601514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7E57-CB0F-4519-B4D3-C1F36DE9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2700-3780-4C67-863B-98D8B63C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D49A-0B68-43C0-B3C4-0A419D97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D602-D23E-4403-83D4-DD88A821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0890-CDA8-4AC0-B472-9602AE96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A07-B532-439A-83E9-DF9705C7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074-4A44-43A0-9DED-6E973AF5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B9A7-D846-4773-A691-6675FD6E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07A-0DAC-4782-B70B-F70EDBA3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F89B-4B07-49BD-B46A-B766105E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5FF-C5CC-484E-9189-DBFE0E18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D164-3692-4B6A-B97A-4B3FF18902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4CF6-630A-403C-8498-E65C3250C3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HY MAS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oris Ak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81 – HE, INJAO MAMELOMBEL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6086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1 – HE, INJAO MAMELOMBEL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injao mamelombelon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anahy Masina avy amin'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pitsiky mampifalifa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anahy Masina avy amin'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62760" y="6086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1 – HE, INJAO MAMELOMBEL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romailala avy amin'n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aza mi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miala am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mba fenoy 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ba tahio ny fo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ba tahio re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hio hider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1 – HE, INJAO MAMELOMBEL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, manova, eny manaf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anahy Masina avy amin'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eha re ho hendry ka ha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anahy Masina avy amin'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62760" y="6086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8:02:31Z</dcterms:modified>
  <cp:revision>40</cp:revision>
  <dc:subject/>
  <dc:title>Tiona Advantista</dc:title>
</cp:coreProperties>
</file>