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C62-D9A5-4DB9-91D2-30D4947F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66B-2843-4C43-ADC1-1DD7883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B24-2859-49CA-BBED-ED4ACF02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1AB-2E64-47FD-BA5E-97960206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7325-0B79-45B1-98D1-804A182D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0516-D249-44C3-9D95-0402933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5157-5308-4178-9E53-2D738DEC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A4AB-F29F-4956-8045-5E807B2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1B1-F4C2-42B4-B0E3-5E1597F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5973-B398-485F-8E8A-5F8C8F8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6FEB-EFCE-4614-88F4-4AE6B6C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253-6DE2-476D-AEAE-0DF44B86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62B-E081-47BC-9A7C-7680D0D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D9F5-0B1F-4028-879E-A7BEF9B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244-B04A-46DB-92B7-BAB2AD45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DA6-C2F9-4426-90FE-68281D6E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9DA-D4CF-4DB8-BD2E-F4E64E17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8A6-36B1-4810-885F-C6FCE3F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559-F70A-4A0C-9D19-D130663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5B3-51E7-4B79-86BD-44F74E6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020-DA1A-4231-8D2C-945CD00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045-BDE9-424D-9F6D-6295EA3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36B-7205-4207-9236-FF9BE9D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F74-25A0-4365-A2B8-FB462C0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682-3482-41FD-B924-E4BBAE659F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07A6-94A7-4553-8385-2D23F52F1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samoeli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3 - ANA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3 - AN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tsy manam-pahar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sy mba manam-pahar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'zay ti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Sady tiana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miraki-java-t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akitry ny zava-t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fantatrao ve ? Jesosy Kris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antatrao ve Kristy 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3 - AN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-tsoa, anaran-t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-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Kristy Anar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3 - AN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hobian'ny anjely 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ankalazaina e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ria nietry tany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fantarao ve ? Jesosy Kris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3 - ANA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rana 'zay hoderaina in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hefa vory anatrehan-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ao an-danitra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fantarao ve ? Jesosy Krist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06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487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67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30:18Z</dcterms:modified>
  <cp:revision>90</cp:revision>
  <dc:subject/>
  <dc:title>Tiona Advantista</dc:title>
</cp:coreProperties>
</file>