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2DB-1EC4-4D17-A304-D709A7EC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4C0-C618-49D5-A217-083567CA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473-9B29-4599-956F-3F392B8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F31-8B10-4BA0-BE11-8FFA63F1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F543-EB8E-4C1B-A1C6-3AA5AAD2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2E8D-B18C-4EA6-A66C-89FAB3CF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1A0-6BFE-44C8-B88B-794EFE4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83E4-15BB-480C-B2B6-B16C774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ED5D-88DC-4608-BDDA-8D0CF3BC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0F0-7B40-4EB3-8B4B-FF5DA5F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5E9-4F41-4B60-A8E6-5DDDBE0F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E05-8EF4-4C90-B427-D127665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6A3-B60E-43C6-B967-AC8EBFC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8B7-F414-414A-9875-3A4EC98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BCA-A19A-49B0-BC1C-86578E9F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E9E7-8A88-4588-9DE4-D05E325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25A-75A6-4AC4-B005-A3576189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1B0-0844-47E1-AEDB-D5A67046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57F-5E73-43B4-80DE-838D238C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718-903A-48C5-817D-B32DD21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4F9-B514-4586-BAE8-CE4FB7C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5A2-6AF6-4609-822E-19CA024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26F-884E-43B9-8FEE-458016B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15F-F4EF-42C0-804A-0416769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0F0-001A-4E5B-81F7-F493A967A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13B-7174-4D38-A2BD-3BD60AE81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176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17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17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4 – AVIA, FANAHY MASIN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26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4 – AVIA,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Fanah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ina eto ami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noforoni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7720" y="526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4 – AVIA,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va ry Mpanana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'Andriamanit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oharano v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oiboika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4 – AVIA,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kafy ny fanah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iram-pitiav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nay malem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herezonao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57720" y="526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4 – AVIA,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eo ny fahavalo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ony koa ny tahot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o an-d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traranay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57720" y="526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mba hitia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y sy Jeso z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itokian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Fanah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84 – AVIA,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57720" y="526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13:50Z</dcterms:modified>
  <cp:revision>39</cp:revision>
  <dc:subject/>
  <dc:title>Tiona Advantista</dc:title>
</cp:coreProperties>
</file>