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0E1-CBCA-4688-A051-68E8E3C9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C0A-4822-46E4-A9F1-A7AD27F3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618-E8D4-4186-AC09-C89D5508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2BE-15FD-4304-9A21-3C275F55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9F0F-E1B0-4570-88CC-8DD5847E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5289-1375-4AFE-B5D3-37D8E4D5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E70E-EE0E-4C52-B6E4-1B36F806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E7B3-15A7-4285-A00D-3743DCDB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6A8A-5937-45A5-8AE3-8721FB97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1E6D-7D8D-400C-8090-8F1ED899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1FEF-FC1E-40EF-880F-C5E3B9A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AA2-14BD-400B-AA54-3EBCCD4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BDA-12FC-4F6F-B8BB-10B5895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C995-AB68-45C9-B070-763BD76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A415-1472-4D64-A083-B5E1F8F9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BBCF-2DB0-40CD-B5B0-5507AB91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5866-7149-476C-86E6-08A617F3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2D1-DFB8-4065-BB10-A131E839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582-53A6-4054-90AB-138E3FD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4AB-8BCE-47AD-9BD1-72198A27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A17-3D7C-4A62-AEB0-5B01061A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BF2-4470-4480-A7A0-B370AB3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BFE-A2EC-4BF2-B0FF-D4CCE701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160-9814-4B7B-B54D-1E22072C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BB0E-F966-4F4C-BB38-20EBF94826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AA3E-69FC-4C67-AA43-CB798EF2EE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eph Parry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TA154 – TOY INONA ALI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4 – TOY INONA ALI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Toy inona ali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ambina ô, mba la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efa miseh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amantarana be ? &gt;&gt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Ry mpandeha trot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fa mipos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rain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oa ve vonona ianao ?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4 – TOY INONA ALI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Toy inona ali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ambina ô, mba la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isandratra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kitan-d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bara inona ?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Ry mpandeha miono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Jeszo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oa ve vonona ianao ?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4 – TOY INONA ALI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Toy inona ali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ambina ô, mba la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efa mazava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mbola maizina be ?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Ry mpandeha matoki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Jeso, mif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rakao ny loh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vonona ianao.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10:05:55Z</dcterms:modified>
  <cp:revision>36</cp:revision>
  <dc:subject/>
  <dc:title>Tiona Advantista</dc:title>
</cp:coreProperties>
</file>