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0B5-20CF-4FBE-8AC5-114CAF55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7A1-2684-4603-AF38-BE793924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1BB-8742-4866-BC2E-AC3980D9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50D-FA70-4107-9443-5AD11A7C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7FCC-FD0D-41D0-8003-F54D9FF6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1892-AD27-4B7A-89C9-2B7424D3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C1CC-B0C7-42A3-BA58-68A0C3C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70F6-BBE9-4696-902E-B8BB154B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937B-5CFC-4C66-AE40-2FD11AB5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EB2-724B-4364-BBAD-423CAF0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9CDD-E5D3-4471-AFDA-E17CF8D2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874-5D73-4EF8-B234-188F3051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9F49-E714-4074-AFD9-4F2206C2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8089-503D-434A-9664-DFA84D6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ADEA-0068-467F-9F69-6C47A93F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4B0D-3968-4F96-A4BE-F3909FA1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347B-0EEB-4EEA-BD3A-D9059CA6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E24-EF13-49B6-95D1-703D2D1A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CC3-0072-4104-B252-B291EC36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FE9-FCA1-49E8-883E-2D2A2B2B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3D8-40F5-4796-A533-953B046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FD2-01EB-48DE-9136-DFE2B98E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875-E6BD-436C-9ED5-A486B83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37C-6B15-49C7-ABEF-B62FA195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F4B7-5328-4DD1-A6BC-869B5381DE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8FE2-F6E7-42A8-8BA5-7A971FF56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n Hat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5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1 – TIAKO, TIAKO ISAN’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1 – TIAKO, TIAKO ISAN’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, tiako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mihir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Ho avy, ho avy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drah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zy tsy ho ela.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dray ahy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y an-danitr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1 – TIAKO, TIAKO ISAN’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, tiako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mihir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, ho avy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drah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zy tsy ho e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ov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to fah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fali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1 – TIAKO, TIAKO ISAN’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, tiako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mihir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, ho avy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drah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zy tsy ho e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pod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Edena fah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1 – TIAKO, TIAKO ISAN’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, tiako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mihir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, ho avy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drah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zy tsy ho e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dra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zaz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 mpaka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21:28Z</dcterms:modified>
  <cp:revision>36</cp:revision>
  <dc:subject/>
  <dc:title>Tiona Advantista</dc:title>
</cp:coreProperties>
</file>