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C96-CB92-4D12-BB68-52129B40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D22-1867-4C80-9A83-30359E61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23D-5284-4B92-825D-7A5421AB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AA8-F1EB-481B-908E-86E693D4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8CE-0850-42D7-9BDD-579562C0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5BB1-B42F-4B78-91CB-B0442F28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DB75-71A1-4CD0-90D4-D64B794A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1716-A940-4455-AD73-2F60DB6C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C623-9562-4084-89CE-94013554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7255-003B-4A6A-9C2B-4433F09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7F12-D558-4756-9F95-8CF3A4D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D2F-19DE-4D76-A421-CE209F46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5D9C-2367-4336-ADA9-985FEA9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89E4-2D28-436B-947F-B045319B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7B4F-37A6-48C4-8036-773DC0A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4B88-CCFC-44AF-BB16-49583F6D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849-AB04-45C4-A20A-C272BC4F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E65-C648-4B8F-99EE-D6FC94C7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33F-B5A8-46B1-B141-73A26337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4E7-ADAA-4948-B7DA-3E06997D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C0A-B9A5-4EFB-A481-3393BB89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2D0-C815-41C9-9562-4D2B541D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2AB-F273-4B27-9A5D-C4ECA5C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944-A8FD-48C9-9A34-D683356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CF0-DB99-42E8-9139-3519D4CE35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1245-305A-472C-9726-0F3F9FB7FF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de Flutt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1 – IZA MOA IRETO 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1 – IZA MOA IRETO 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moa ireto 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-kery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mitafy haz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voninahi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1 – IZA MOA IRETO 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(avia) ô, av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àna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votanao (iz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o, (ento)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 Ilay Mpanjak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boninahitra, (Amen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1 – IZA MOA IRETO 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Derao, ry ondry vit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satrohy diad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efa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1 – IZA MOA IRETO 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sa izao ny aizim-pi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pahory t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ny mazava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sy ho tap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hiranay : Hos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senanay 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pamonj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1 – IZA MOA IRETO 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41:11Z</dcterms:modified>
  <cp:revision>36</cp:revision>
  <dc:subject/>
  <dc:title>Tiona Advantista</dc:title>
</cp:coreProperties>
</file>