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255F-12B0-4211-8D46-DA320CC4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69C1-4B56-4DCA-8278-4A5911D8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313C-56F2-46F5-BD24-2478E87B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839E-1DEA-4D22-B586-CA34DAEC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ECC2-05F0-406F-BB40-BB141D06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1565-1264-466F-A712-A1223926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F30B-CFC4-4419-BC1D-9D8EF7B1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8462-7E2D-4CC1-8761-A6684A59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2F10-41B2-4040-AFE7-7A242985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01A0-6DA0-461A-88AA-99A9CDDC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9241-5E15-4159-85D0-09646231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9080-1C18-427F-950E-7877D991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6AB2-5DF0-4667-9773-92BB886B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2EB2-64FA-4921-8003-84A9C486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3D13-2470-48A3-904C-A053E8D6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5930-10B6-4422-9228-359795F3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8356-E471-4EDC-9B1F-A09360912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2442-B88F-4436-BDF8-6E252CD5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CF0F-5E10-42CE-BDCA-01C32407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F7CD-3F38-43F2-B302-A6CD9FBA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A489-DAA4-4494-8C70-6B3B28B4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5C09-9FFC-42E5-A32A-CC505803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38B5-D3A6-4AD6-8210-B785FCE3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BC4C-CF96-4561-AD10-33BEEB2E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B720-185F-4BB3-995C-380B6C86D0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81F9-B761-4688-BE6E-325A2B9F65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ankizy madini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Andrianaivoravel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c. Granaha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75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79 – RY SAKAIZAN’NY TAN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9 – RY SAKAIZAN’NY TAN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Sakaizan'ny tanor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oky be fi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kambino moram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ay mpan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628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578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488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48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9 – RY SAKAIZAN’NY TAN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mpo ô ! Arov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Tompo,  Tompo ô ! Arov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madini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Tompo ny madinik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za afoy fa mba tsarov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no mafy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y, aza afoy fa mba tsarov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no mafy ho Anao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ho Anao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578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578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488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9 – RY SAKAIZAN’NY TAN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Sakaizan'ny tanor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injonao 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ny ady tsy mba m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anay e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578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628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488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48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9 – RY SAKAIZAN’NY TAN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Sakaizan'ny tanor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nonao '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fa be ny mpanak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lavo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mpo ô ! sns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578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628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3" action="ppaction://hlinksldjump"/>
          </p:cNvPr>
          <p:cNvSpPr/>
          <p:nvPr/>
        </p:nvSpPr>
        <p:spPr>
          <a:xfrm>
            <a:off x="88578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48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Sakaizan'ny tanor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y, sitrak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san'andro, isan'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Anao '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mpo ô ! sns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9 – RY SAKAIZAN’NY TAN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578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628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578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488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48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09:24:00Z</dcterms:modified>
  <cp:revision>84</cp:revision>
  <dc:subject/>
  <dc:title>Tiona Advantista</dc:title>
</cp:coreProperties>
</file>