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848-BB02-42C7-A447-AD48F319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39E-1D21-4877-80B8-2400585C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2B1-189D-4574-8146-323F6B92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5D9-CCD6-4231-91C6-32E30E52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AC9E-BE4C-4169-A2CF-4AE863D0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D8FE-747F-4A6F-A18D-6063656F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F88F-02DA-43BF-8C84-B73D5E7B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AB71-50E7-40C7-A46E-33D8BD8D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4D4B-271A-49C4-B40D-F9B21CA9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A8FB-9353-4BC0-9A3B-1FF76961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B78B-F2B2-4253-953B-EB30EE43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274-51EC-4C12-A743-7E255946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2C7A-B9C0-43C2-8911-55AB1D4B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A23A-5501-42D8-9A45-5E85A0C6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D541-EEF0-4E00-B766-79A76DA7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8ED7-FB5C-45D9-BABD-796F329F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5F0A-4CE6-4B3C-9B6A-CD90032E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1DC-13AD-4E28-925F-81DD9A59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939-B798-49B0-876F-C3BDFC15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545-5F8B-4904-B0A1-7E4DEFA6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6E0-762C-49C0-9200-A8739536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E3A-A41E-49F8-8E6D-1EDCE8CA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2BA-E000-46D6-B9F8-99A1F5E0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07D-C43C-4847-A714-8207BAAB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FFDF-710A-4FA6-8663-72780A8A8F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42F3-2815-4988-B080-406012D6A7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John W. Peterson - Mamy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41 – MPIANDRY TI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6440" y="57546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135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516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1 – MPIANDRY TI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iandry ti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jeo re fa ver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iandry ti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jeo fa he mital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tadiavinao aho ka h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entinao nod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vonjy, eny, taf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nania intson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6440" y="57546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135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516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1 – MPIANDRY TI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iandry ti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jeo re fa ver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iandry ti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jeo fa he mital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135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516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1 – MPIANDRY TI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ti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y, Mpitar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 tano aho tsy hisa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tadiavinao aho ka hi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entinao nod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vonjy, eny, taf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nania intson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6440" y="57546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516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1 – MPIANDRY TI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ti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y, Mpitar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 aho tsy hisa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6440" y="57546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135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4:15:18Z</dcterms:modified>
  <cp:revision>46</cp:revision>
  <dc:subject/>
  <dc:title>Tiona Advantista</dc:title>
</cp:coreProperties>
</file>