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89C-22A7-467E-AB03-F6FF790F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4F4-C528-48B7-AA91-0A124086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050-6C79-4818-B59A-1A9330F5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F92-C16D-416E-9AFE-4AA5EE0B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3672-1075-446B-A830-EFAA727C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EDEB-F82C-467E-9D5D-481341B0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AAC9-ED5F-432A-82CA-C9F5DD8D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CA1B-C6FC-475F-9540-DD0438B8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44F4-B4A4-4D05-846E-17C818D0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759A-88D8-4F7A-B671-6169C848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C45B-8158-4E4B-8994-7B87CB7B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A7C-66AB-4DB4-9A0F-552D66AC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2B20-0D33-4D17-8252-FB524E5E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2A5F-A19C-4168-A3D5-E2061B4F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F8DE-40C1-4B93-A89A-6987B462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B8BD-D779-46C3-8B24-0024B411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1845-1659-4C75-8FBE-DB08EFC0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F3D-D2E7-4523-97D2-A3E1CC5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EEF-53C9-47BD-926E-8EAA6985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447-7540-49FF-BC26-426F45DE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475-B1AE-48EF-8876-1BCEF085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B96-457F-4238-ACC3-628765B1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D3B-1A33-46A8-805D-1679EAFC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083-0E4C-4788-B707-3A51B2E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E491-D9A4-472A-95CD-9D7F92C0DD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FD4A-ABAE-4467-9186-C3E02BD2AD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27 – NY MITOETRA EO ANIL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7 – NY MITOETRA EO ANIL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mitoetra eo anil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y mitoetra, mitoetra anil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eo an-kianjanao, ry Tsitoh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nilanao, an-kianjanao, ry Tsitoh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dera Anao tahaka ireo anjel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idera Anao tahaka ireo anjelinao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o faniriako vokatry ny f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o faniriako avy ao am-po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7 – NY MITOETRA EO ANIL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o sitrako tokoa anio, ry Ray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o sitrako anio, anio, ry Ray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idera Anao eo an-Tempol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idera Anao eo amin'nyTempoli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oy ireo izay navot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Ho toy ireo, ho toy ireo navot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oavelanao toy 'reo mpanompo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Voasasanao, madio 'reo mpanompona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43400" y="62499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7 – NY MITOETRA EO ANILAN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Ampianaro aho hahay man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Ampianaro aho mba hahay man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'Zay sitrakao sy fandahar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'Zay sitrakao sy ny fandaharana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Ry Tompo ô, midina avia ka mihain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Ry Tompo ô, midina avia ka mihaino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y vavako ho fiderana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(Ny vavako hidera Anao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43400" y="548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48440" y="586908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833680" y="5056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3:10:33Z</dcterms:modified>
  <cp:revision>78</cp:revision>
  <dc:subject/>
  <dc:title>Tiona Advantista</dc:title>
</cp:coreProperties>
</file>