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524-0685-437E-A9BA-61071732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53D-6D71-4107-9152-F0EE95CF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5E0-8BBA-43AB-8E0A-D2C968D9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BE4-C1EB-44EC-B3DF-924BDAD7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1BE2-25F5-48BC-A84B-836739E0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0C4A-3D55-47E4-9990-5F9DB803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C75B-1ACB-4DCE-8F73-0FC4E728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29A2-FE2F-4FA5-B701-1B0528D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F62D-D652-4CF8-A3E8-0CFA08BD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0929-AA96-459F-83D7-F5F6BE77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B469-DED5-4B0B-B1DC-1E1B701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708-3641-40B8-8022-046A8134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C412-6D59-4DF5-87D8-EA5AADF4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F11C-CCCB-43A3-BF97-8A69DEA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730A-600E-444D-9E1E-18CC6D63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4F93-81F0-4139-AF5D-D45ED2D1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15F0-4383-4051-BA24-1718F429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E3C-E3FB-4115-B1E3-CC9E23D3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B7C-2536-4724-814C-DC3D2406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922-61FA-42A4-89DB-480141A6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24D-0E4F-4DB0-BAB2-F305F0D1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4AB-36CD-4840-884A-9165E51B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753-743F-4E0C-8758-E5D77E3C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8EC-88C1-4C35-9DDF-A2E5AF9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8EA-C629-4D2F-8889-865269B03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CDDE-9B01-454F-86B9-A2A14EC6B3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33 – EFA ELA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3 – EFA ELA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ela Jeso, efa el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ainako lavi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tsy haiko, Jeso, nokoloin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herin'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3 – EFA ELA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Jeso tao Nazar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mafa ny ota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vahiny aho s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ompo efa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tantana hatrizao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3 – EFA ELA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o anaty alim-be no nahita ah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'lay endrikao 'zay tena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iadananare no iaina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adanan'i Jeso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3 – EFA ELA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isy ety 'zay mahafatra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kaizako tah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tena tia ka ho tia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hiraik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09:10Z</dcterms:modified>
  <cp:revision>35</cp:revision>
  <dc:subject/>
  <dc:title>Tiona Advantista</dc:title>
</cp:coreProperties>
</file>