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9469-7230-4129-9C02-92FE24D1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974B-153F-4A74-879F-47C3C39C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A0DD-B5EA-423D-89BE-BA97A7B8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5811-5FF4-4D6B-B6E8-9C77A192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E677-1255-499E-A45D-0BA3C6E8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7BD9-D858-4BB7-A587-84B76F52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019A-0CF5-4D79-B9A1-73C32CE2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BC05-EB53-4B74-8F3F-18FD81E0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492D-3408-418F-80BD-9F93A689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7034-36C7-4D44-A1FE-4820F675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559F-5D8E-4496-ABCF-7F8C2044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9F98-901A-4A9E-BDB4-026AB9C1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FE00-ACAD-484B-9B2A-65F77D79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1C7D-A47C-4AD5-9C37-33558896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A01B-0CC8-4EF3-831F-0A72AAA2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A569-A290-4F1C-9E8E-D63A99AC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8F6F-6C97-4599-A7B7-E8F6B76D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34DE-CB47-43E2-8358-C1843FC7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3E52-1066-4353-83D9-9520B90A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FFD4-5371-41BC-8ABB-BAB32A5F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0775-3F09-40A2-99D6-36A0F471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F9DB-8191-4B29-AC8D-B76F7C3A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3C43-C1BF-4469-BEA1-A587C526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E83D-B10A-4C57-8F8E-172CC99B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B850-6600-4363-931F-0D8ACF4E6C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C168-8522-4D70-9560-ABAE277499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tiav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. Ross Philips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17 – TENA FITIA TSY METY R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373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5754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135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516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17 – TENA FITIA TSY METY R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fitia tsy mety r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'Ilay mpamonjintsik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zy dia tena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5754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135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516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941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17 – TENA FITIA TSY METY R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 naseho tao Gologot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 mamonjy ny mpano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mandray dia voao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ia ind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373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135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516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941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17 – TENA FITIA TSY METY R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 izay tsy mba tia t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ena feno famonje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dy madio tsara loa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ba fid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373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2120" y="5754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516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941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117 – TENA FITIA TSY METY R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katoavana no t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ina, sy fandavan-t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monjena olom-b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ody 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373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2120" y="5754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135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941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0T08:09:20Z</dcterms:modified>
  <cp:revision>35</cp:revision>
  <dc:subject/>
  <dc:title>Tiona Advantista</dc:title>
</cp:coreProperties>
</file>