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D5F-48BB-4159-A597-8DC711C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55C-E34D-4DE0-8E51-00813F33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1D7-7066-4572-87FF-6CBAA83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94A-9EC8-4D4D-BA03-C151C48C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E76-30D3-4682-ACBB-36D763D0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FFA-F250-4766-882A-6D85DC3D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A09B-8875-4D0A-AAF0-6F2195E6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F5B-F65E-49CF-B38E-6D84FD60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85D-A674-4F08-B5B2-D2134EBC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DF67-9046-4079-BEFB-46280121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39FA-35C2-4D7B-880A-3C16F56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A33-C119-4299-BE00-AB9508A4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9E36-C300-477D-968F-84A3C4D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F9CE-E461-4743-A4A2-06DB711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3E90-C77A-4B49-B542-E67AAB3F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F4C9-01BC-4B94-8C20-6E43721E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2C9D-809E-4C65-A718-B502939E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4C3-65AE-4E93-AFD1-CD8592A4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5B3-F368-45B8-AD76-C1FEBC6A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DAF-805A-49CA-8CE7-A3930FA7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154-92DB-4CF0-B2A5-0C490BF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AF1-F6EA-4E0F-9BD9-7DDA292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793-A31A-435E-9D03-46614AA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122-F534-4CD8-BDE9-A8A7A51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60C-DF47-4EEF-AAFE-C6C09079A9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CC0-7279-4F6E-A16C-0B394DEE3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Henriks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7 – TSAROANAY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7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nay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hafaly,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ho ny haj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7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, derai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pahar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nao 'ty andro '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lova hatr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7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misa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'zay mana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va ny f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7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azanay sahad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dro soa sy lehi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kan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hano ny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oky tsa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ja sy hitand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7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10:01:32Z</dcterms:modified>
  <cp:revision>44</cp:revision>
  <dc:subject/>
  <dc:title>Tiona Advantista</dc:title>
</cp:coreProperties>
</file>