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E16-3A64-4D39-8B0C-59B49D25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27D-4C1B-468C-B0BD-6A523AF3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DDE0-18B0-4A8A-9090-F2441218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E06-2BF3-4097-94FF-35A816F3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F8D0-DDAC-4CFB-9F47-357FC316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8E1C-2598-4D0A-8CE3-B2F2EA12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2127-8D77-4785-B8BE-851F16EA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BC9E-C37B-4E4D-8199-E1627435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EC1A-94F6-410C-805C-79D55A97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1948-EA32-4567-A6E6-23B2AA5A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9C17-FB27-4777-B01C-2D304F1A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2B5-F1F4-4D9E-9249-6778A9EE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F190-01AF-4B02-8090-09A596FE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957F-D45B-488F-9073-C58A0465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C3E7-7716-4D4F-B2CE-D6DCFF8F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2F90-2BDF-414F-B733-6525E3A6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A56A-7DBC-4A96-8D27-02B81D87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367-5D56-4F89-9505-636BA5E7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84C-EB21-4072-9183-A45C558A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D99-1CB0-4720-9DB2-B8795D68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FED-799C-4AD8-ADC3-2C3BD2B5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C20-8C59-42E4-9C47-68EFDD2A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8BC-A4E8-40FE-A879-54E68AFE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89A-A60B-4364-B43D-2D22D830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DB49-9C03-4CAD-B532-22949DD3BB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9F36-AC8E-4BC4-8D78-61A2EC7636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sa misiône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T10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67 – MISY BAIK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7- MISY BAIKO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baiko re, tong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rotsaka ao an-tob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eo aloha koa dia mandro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ady sy handres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7- MISY BAIKO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andehana ianao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ao dia taf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ndro Kristy momb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piteny izay tsy mba res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7- MISY BAIKO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a mafy no manoloan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avalo koa lian-d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jany misy feo toa mitor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y vonjy aminao i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7- MISY BAIKO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ketraka na dia kel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banjino re ny fanev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Ny sabatra fa mamir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y tenin'Andriam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Babo marobe no ho az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hanaiky re an'i Kristy '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ny ho vatosoa, ravak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oboninahitra tsy ho l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7- MISY BAIKO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andehana ianao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ao dia taf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, indro Kristy avy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me anao fitsahara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7- MISY BAIKO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05:44:10Z</dcterms:modified>
  <cp:revision>63</cp:revision>
  <dc:subject/>
  <dc:title>Tiona Advantista</dc:title>
</cp:coreProperties>
</file>