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A1A-4D11-483B-9D4C-326E5AEC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1C3-F667-4A20-86CD-0EBDB714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542-5F03-42C0-88DF-2F32AF00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9AF-CD7A-476F-897D-7A6D5438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3F37-D798-4591-9DA2-A994F436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C108-EB01-45CC-8018-D6658CED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E29B-539C-441D-8626-C8A6C41D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0C0D-B1E6-4FFA-9F85-A492530E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B488-6DD3-451B-9CD0-268567CE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936F-B789-4447-9EF2-26455678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FCC8-5A4A-4DA0-8696-61F68D8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B26-18A0-4D7C-A3A8-E043C444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DAA4-7585-4276-A4F3-BA0C27C3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0B75-14C6-481F-9433-7D7C4344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7CB3-7137-4CFF-8CC5-8C99A4D8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0460-BFE0-440A-9F12-EC8AD88E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433F-D3A3-453D-9E36-6DF831DE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FDA-0A13-445D-8896-7B70CBF3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9EE-4165-4DEE-A9B9-F6D186C4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4DF-B124-4423-BD33-B248FA12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06A-0399-4A6B-8679-5A2B956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5F4-388C-4087-A17C-8988F6D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97B-34FC-4D39-AB06-8778233E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0EA-0544-4DCE-A2CD-F8C2C713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CF87-ADF5-4B4D-AEE4-16C4654962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11AE-CDA2-4365-B1B6-76B5A7278A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arkn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6 – VONONA AHO,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6 – VONONA AHO,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aho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kato ny did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araiko 'zao ny v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ny fanavo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avelanao 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fa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ratsy fa mpan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inao ho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6 – VONONA AHO,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aho mba han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hanar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aho re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kato ny did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6 – VONONA AHO,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sarotra sy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nara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aho mba hih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anao ny sitr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ekeko ny ho 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ota lav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ba tena ho mpandre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hijoro to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6 – VONONA AHO, RY MPAMONJ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efa kely 'zany h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ntiko mba hank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làlana dia t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ady feno tsilo 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y Mpamonjy ô, tant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mpanompokeli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fanahiko toh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nkato ny didi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aho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2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8:39:52Z</dcterms:modified>
  <cp:revision>91</cp:revision>
  <dc:subject/>
  <dc:title>Tiona Advantista</dc:title>
</cp:coreProperties>
</file>