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F26-10E3-4314-9682-D932DD33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33C-316A-4B9C-9D44-8694BBF4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75D-068B-42CE-A4FB-C2FCF3F0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722-6856-494F-83CB-01F9532A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C835-DB59-4ACE-9F28-56EE4611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8C70-11AA-430C-B74F-D72A409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A6EE-CCDB-46F5-A3B4-40CF3668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DD77-7B6D-4EF3-A145-C78D0CEA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E6B8-E2E8-4E3D-BD6E-1E526B3E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427-1007-4E01-9F2C-687A7B8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0362-616E-4126-8536-44FDE61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85B-A0B5-4B9E-8EDA-C2CE202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ABCE-6248-4CF7-BA82-E1D7438D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DAA-B44E-40E8-83EA-65F6D09E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503B-0AB7-44F6-BF0D-3E23D7A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548-27C7-4B2F-A57B-46FE5AF1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696E-9C3B-4123-9E95-BE0F4A50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745-8D55-4B34-88DE-2BD034F7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315-40D7-4B8C-8297-48AC7415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58B-FC6D-4836-854D-B353CDE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923-456D-4FE4-80DA-8512EDD0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7AD-815C-4A02-9FFD-D0455E3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595-0AED-4838-8F9C-7623826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F3B-8330-4A7B-A539-E0B9337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B579-25F4-4EF9-81DC-D8FF9484C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488-CE8C-42AA-88E4-50170106C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lfredo Colum 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40 – HIDERA AN’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0 – HIDERA AN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dera an'Andriamanitra aho raha vao mara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Izy ihany re No azoko antena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y mandray ny fitarainako ao amb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manome fiainan-tsambatra sy t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tanany mahery no mamonj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Ty foko manirery sy milonj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a mitsoka aza ny tafio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ny, hoderaiko ny anarany Tsitoh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0 – HIDERA AN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manakaiky ny alim-be tsy hahita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oko falifaly Sady manant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fiadanany natolony ho ah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njao mamelombelona aina sy fana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dia nilentika aza ny hazava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sy irery no fananten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o ventesiko hanako hatran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irako hidera Anao, ry Ilay Tsitoh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0 – HIDERA AN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dia mamaky lohasahan-dranoma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toa mangeja irony loza sy anka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tanano, ry Tompo tia, no mampaher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andratra avo ity mpanompo saika 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o deraiko, eny ho dera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lay fitiavanao 'zay antenaik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amonjena izay natolotra 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hiderako Anao ry Tompon'ny fana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40 – HIDERA AN’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Indro tazako eo an-kazo fijal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satro-tsilo sy ilay rany mikoria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lay fitiavany manolo-pamonje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iandrasako ny satro-diade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oderaiko, eny ho dera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lay fitiavam-be izay lalaik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 ! Hafaliana tsy haiko laza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hita Anao, ry Tompo Haleloia, A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41:08Z</dcterms:modified>
  <cp:revision>76</cp:revision>
  <dc:subject/>
  <dc:title>Tiona Advantista</dc:title>
</cp:coreProperties>
</file>