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B1EC-A6A2-4B0D-A0D4-34E79118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A077-6C60-4521-BBAE-1E796202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FA3-A83C-42FD-AED7-553F8A7C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B0D-82FB-4045-BD8A-3B262002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23AE-8754-4BFB-83FE-FD2817D0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F10B-C1CE-45D8-BA2E-D6A0D6A2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503B-40B4-4ABA-A23C-8DFC5799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6419-C8BB-40D7-9568-8FEE628B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29DE-F777-4BB7-9FED-0F8C9427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82B1-0E7A-4E04-A07C-323D8164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F069-1744-45A1-AAC0-E710DBD3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B23-6BF6-4465-9BBE-D3DC5C34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A31C-E5F4-41F2-BFD9-39B5724A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9DDD-D860-491B-9EF2-B554E47D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10E1-FBAB-4320-8798-FF2F86B0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9881-8BCB-4458-AA02-8C5D2724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399B-291E-4AB5-BAA0-30CEEA30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45B-D0B9-42B4-B0AE-FD3CBF29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4C52-347C-4F71-A8D2-525B69C9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0DC-8A8D-4B58-941B-5065DCF7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6BD-DD27-4EA0-8AD1-D93D318D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4748-05FF-48FF-B0A6-9447704D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EB6-3E70-43ED-8BB7-9C27E982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830-5076-4C27-AD8A-0431D350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E592-B36A-4268-8A0F-7A0E638750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1CAA-11B5-45A5-A5AF-83A964534C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hn W. Pete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07 – AMIM-PINOANA N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07 – AMIM-PINOANA N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m-pinoana ny Tompo no androso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min-kafaliam-po no ikalo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mananontanona aza re ny tafiotr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ola hatoky ihany aho, Izy tsy handa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71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07 – AMIM-PINOANA N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kaiza tsra, faly mba ha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teherako, ho mandrakiz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ho mandrakiz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m-pinoana ny Tompo no androso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min-kafaliam-po no ikalo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mananontanona aza re ny tafiotr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ola hatoky ihany aho, Izy tsy hand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07 – AMIM-PINOANA N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làlan-tsarotra aza re no hitond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feno fanahiana be, mampitom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bola hatoky azy aho, tsy hihemo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ivavaka hitalaho, tsy hiaho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kaiza tsra, sns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71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1-20T07:16:14Z</dcterms:modified>
  <cp:revision>67</cp:revision>
  <dc:subject/>
  <dc:title>Tiona Advantista</dc:title>
</cp:coreProperties>
</file>