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6DC-90CD-4830-BCDC-F40E150F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D47-0F4F-4669-B05D-CBE8A60F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C0F-9E70-4FA7-A061-10CE3C6B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45C-97DE-41DD-B26D-AEF41793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A882-76F6-45B5-913B-BAB7802A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7F2C-7094-42E1-A0AC-37439F01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2362-46E6-4F7E-80D5-013DC0CD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FFEB-7E1A-4B85-8B42-058C0D19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9D7D-2278-4A5A-AE7D-F8AA0749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8589-7DC5-4B68-B8D7-A7E209E6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466F-4E2F-4BD8-8DEE-EA7820D8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1CC-93C6-4A31-AEEF-E922099B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6587-3865-4E52-94B2-31EA8A32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2930-84E4-42E3-841A-685F35CD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776B-11A4-462F-9316-B9933A82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15DF-206E-4EE1-8EE9-DBC16D3C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86CA-B640-4EC8-A76F-9CC8A7EA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26B-031A-407D-BB8F-8A21A25F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B84-2AC4-4EA4-91F5-7FEF9C2E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668-0778-4464-A1A5-5A9D4212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18D-955A-4315-8ACE-F61B30DC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EBA9-FEB7-4491-ABF2-FA9B7503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485-BFCE-4DEF-BB82-5996F7A2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5DC9-0D2F-42CA-81B8-4556FDB9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EE09-E42E-4067-AB3A-49C861A0FE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B472-EA22-4A23-B0DE-C076D8252C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–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. D. Rasolonjatovo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90 – TSY MBA RENAO V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69904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19920" y="46735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690040" y="50547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69004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69004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69004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0 – TSY MBA RENAO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ba renao ve ?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-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Ding, dong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-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eo manakoako a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-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o am-ponao ao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-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eo manakoako ao am-ponao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o mba re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eon'i Jeso miants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19920" y="46735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690040" y="50547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69004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69004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69004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68932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0 – TSY MBA RENAO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Lakolosy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Ding, dong, s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manakoako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Jesosy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Ding, dong, do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mandona ny f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no te hanadio io fonao maloto 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olory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tolory i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olory ny fona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o Azy ny fonao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869904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8690040" y="50547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869004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6" action="ppaction://hlinksldjump"/>
          </p:cNvPr>
          <p:cNvSpPr/>
          <p:nvPr/>
        </p:nvSpPr>
        <p:spPr>
          <a:xfrm>
            <a:off x="869004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7" action="ppaction://hlinksldjump"/>
          </p:cNvPr>
          <p:cNvSpPr/>
          <p:nvPr/>
        </p:nvSpPr>
        <p:spPr>
          <a:xfrm>
            <a:off x="869004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68932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0 – TSY MBA RENAO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olory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tolory i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olory ny fona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o Azy ny fo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olory ny fona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tolory izao ny fo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olory an'i Jes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ba ho an'i Je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69904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19920" y="46735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69004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69004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69004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68932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0 – TSY MBA RENAO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ta marobe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-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Ding, dong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-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miafinafina a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-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o am-ponao ao ?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-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miafinafina ao am-ponao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ta ma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sehoy an'i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69904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19920" y="46735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690040" y="50547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69004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69004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68932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Satana ve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-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Ding, dong) (in-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misitrisitrikao ?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-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o am-ponao ao ?) (in-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misitrisitrika ao am-ponao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sat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Ndeha mba ilaza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0 – TSY MBA RENAO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69904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19920" y="46735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690040" y="50547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69004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69004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68932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90 – TSY MBA RENAO 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a ela be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-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Ding, dong) (in-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salasalana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in-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o am-ponao ao ?) (in-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salasalanao ao am-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lakia s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ahandry ani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69904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19920" y="467352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90040" y="50547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69004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69004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68932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4T07:46:16Z</dcterms:modified>
  <cp:revision>37</cp:revision>
  <dc:subject/>
  <dc:title>Tiona Advantista</dc:title>
</cp:coreProperties>
</file>