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5F61-ED07-4511-BE19-09B89029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AAB-FE8E-465A-B6E9-8D994229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239-A8D1-41C5-AC84-C333CAA1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13B-3AB0-42FD-85C1-6BDCC721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3C54-E7A0-4C1C-A12B-20BA88A3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630D-D397-4C2C-B2C5-315FD19A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A5C2-6812-48CD-958A-59C14A29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CA82-759B-4187-8776-E6DDF9BD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3989-A7E7-41C1-9373-D0ED57B5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418B-4A81-4F17-AC75-14C92BB0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3F06-8FA9-45FE-A260-7C0E487A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3150-0809-450C-B496-2776F45F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E1A9-7303-4614-9BD6-DDA673F9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B528-B17B-4FCB-8310-B228AB37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4A98-5EC3-4DED-B784-22FCD28D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E75C-D907-4FAB-9269-D14CEA3B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5CC1-D6DD-4D7D-B365-29C4735E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1D23-FB30-4BF7-A9D5-824DAAF5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03F0-E840-4519-8BDB-C1058FED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7F16-E938-41F5-88AB-6670F4D5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0107-50A5-403D-B60D-682C2FDF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5195-AA17-4025-966B-FBF3AFD4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1C5C-4BEB-43E4-A749-033B6A9A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4198-A7A4-446C-B55A-E8DE5A7E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18BE-24C3-41F4-AAD3-7BF150341E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E6C1-CC29-4E60-A563-1C66D270CA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ankizy madini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. Rowland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. B. Gou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78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80 – JESO BE FI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0 – JESO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be fit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za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mitar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ainoa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0 – JESO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Bodo sy ad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eo ny zanak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ô, malal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lav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0 – JESO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iandry ondry mor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ariho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o tsy h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ndrikel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0 – JESO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avela hita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za aman-j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anao ir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ahafa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nao ny zaz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! Fantat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nolo-t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'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0 – JESO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80 – JESO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be fit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za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mba hider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ainoa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9:35:15Z</dcterms:modified>
  <cp:revision>84</cp:revision>
  <dc:subject/>
  <dc:title>Tiona Advantista</dc:title>
</cp:coreProperties>
</file>