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B16-B2CE-4594-AB95-3E49D6DB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1D6-0642-4801-A68A-C15AC5E8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611-AC55-4947-8F0C-8A635B2D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D48-F009-45CF-AD64-7E26715D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4DFA-742C-48EF-BA8C-4ED29AE2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ED5-2387-48DC-AF07-68B5E784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390F-2016-4D43-87EC-19C79D1B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348C-967E-4C29-9D6C-5177C392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5224-1056-481A-9BF2-7143C818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72DD-B9CD-4063-B8D3-D4544C0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A90E-801A-4CA4-8E40-58FE2F0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425-B053-4BEE-AA57-A81EA8B2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9A94-F066-4AC9-AC58-81464CAD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9525-80A5-4F76-9C53-C70E096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DFCC-F90A-46B1-B7E8-A615E5AF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5281-0126-41C6-9C44-A6281280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89A5-8E7D-4913-9DE3-8102D765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9F4-078F-4EFF-B741-973B30A5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EF0-2D25-4326-877B-8C6675AE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C56-8360-493E-A2CE-AA5A3A6C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D37-23ED-4DB9-A3C2-0599BB12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87D-50E6-4771-9A31-AEAE3C1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129-3B1E-4CB7-8C6A-2BE1D4EE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FB4-336E-45D0-975C-35EC1A3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7392-C231-436C-89A2-0919E02C8B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449D-86A9-4A41-862A-2D23CA2BFD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aranana - Tsodra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h. Grég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1 – NY FAHASOAVAN’I JESO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81 – NY FAHASOAVAN’I JESO KRI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soavan'i Jeso Kristy Tompo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'ny Rai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iraisana amin'n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ints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mintsika, Amen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48080" y="58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02:14Z</dcterms:modified>
  <cp:revision>51</cp:revision>
  <dc:subject/>
  <dc:title>Tiona Advantista</dc:title>
</cp:coreProperties>
</file>