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59F-EE7F-45BA-807D-AAD9A3E7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72C-62C1-4466-8E4B-450A74E5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C69-28D1-4EF6-A0A0-BCE18E19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7EC-D460-4EBA-AFAF-D04FE27E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902D-C289-4BBD-B1DA-66DC56C6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7083-1FF2-40C5-AB22-2A70DC0A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8CAB-CAB7-49AC-93C6-C4FD37C8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1EF7-9639-47DE-B5BC-2C4E37F0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F2D1-345F-44E5-8C43-CAA8DCBF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6F8A-7B0E-440D-A551-A7C88885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BD18-FCEE-46AD-A5B8-09132FE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F47-BEEF-48F9-9C92-8CDD220C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7991-7194-40FB-B0F0-4174DB8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A8E7-59E8-4687-A500-21AE802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FD40-988A-4003-9EE4-CEAF5029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3CA-4132-4BAC-810C-A542608E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0F0A-0C7D-4916-B0A4-8BD2C1D1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959-AA6F-4C54-835F-554089FF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8D3-5323-4A3C-98B7-B53EE9E4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9B2-746D-4FDB-9EBE-4FE10540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D5A-B100-4B1E-B190-AD80EF49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BD0-DA86-4487-ABAC-72F6A038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3A4-F455-431B-950E-779ADBA1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04D-246F-4E61-BB8C-C7E9F51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D52C-255C-40B2-9DAC-D10B2B1CA7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B0BC-230D-4F27-A525-431F0A977B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en H. Pric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6 – IRERY N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6 – IRERY NY MPAMONJ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n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ao Getsema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tro irery ny ngid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amonjen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6 – IRERY NY MPAMONJ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rery te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isolo ny ma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nolotra ny rany s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o ahy sy ho anao 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6 – IRERY NY MPAMONJ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n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o am-pits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atro-tsilo irer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ofato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6 – IRERY NY MPAMONJ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n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ohomboh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girifiry, nit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neso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n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'ilay jiol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hatsiaro fa re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 sy am-p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6 – IRERY NY MPAMONJ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08:00Z</dcterms:modified>
  <cp:revision>32</cp:revision>
  <dc:subject/>
  <dc:title>Tiona Advantista</dc:title>
</cp:coreProperties>
</file>