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603-BFC8-4A26-9538-E8CB2B97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6DA-3711-4691-A536-F0245E4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094-5356-4A15-AD1D-8AC55D93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0FB-4939-4FBB-AD89-D0DECAF2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DDE-6A92-4C80-866D-D4A7A34A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0A7-07D8-4DA0-A8B5-588268C8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F69D-E2BE-4DA4-828E-BD5235EF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6403-A207-4F36-9D1F-CAC19108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BDF4-3583-41DE-A691-CB4342B0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193F-385D-4EC4-9D81-1BCEDDED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8CE2-5A79-49B4-80E6-C5D2380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796-68D7-49E7-8312-545A7F90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66EC-1E09-41EF-84B2-4AEEDC3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F9E-8A1B-45C5-817D-BD5D6F7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26FA-F1E1-4632-8D5C-9F4820F2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AF9F-A7A9-4426-81A0-B1AB17B0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6BBA-1C2F-40A4-8D26-04065140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2B7-EB01-48D9-8D66-873C376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544-6201-4E0C-9D73-6D370B70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60E-B980-4B84-B466-022A9C33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995-D440-4C20-A061-F58E8F4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FF6-EBE6-411E-8219-90C1A1D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BEC-D8CB-447B-B7DA-A60BF9B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DDA-9275-4DE4-B7F0-72686FD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C379-89EF-407F-833D-DECBCDDEB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2A02-5BB2-413B-A90C-3C8EF8ADB2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iam J. Gaith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1 – HATRIZAY NANOMP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0 – HATRIZAY NANOMP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izay nanompoako 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raisako 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anarahako 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nihena ny fitiavan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0 – HATRIZAY NANOMP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aka ny anompoana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tomboan'ny fitiavana Az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san'andro miboika avy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mbo hatrany ny fitiavan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0 – HATRIZAY NANOMP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y izay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oav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zava ery ny d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aky ny anompoako isan'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30:23Z</dcterms:modified>
  <cp:revision>70</cp:revision>
  <dc:subject/>
  <dc:title>Tiona Advantista</dc:title>
</cp:coreProperties>
</file>