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8AC-A27E-4043-BCA3-AF0D5A07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645-4B94-4F18-BD55-B4B44CC3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2D9-BA46-46B0-85B5-82C9431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366-169A-4C38-80F9-B93D9810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FDFD-BE7C-499D-960A-345D952A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90D3-C643-4E4D-A010-565F1A8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7C29-D477-42B0-AB16-A83A7C34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704F-70C1-4433-8D19-A4C0C2B9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8BC5-B3A2-4A37-8CD6-3DF9262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B907-F4F5-4FFD-82A6-29E3BD86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B68-BB31-4922-A107-488E512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75B-621A-4296-A8DC-3ED41CB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7E79-ED2C-4239-9C75-9F1988A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7BA0-39DC-4E62-B225-A7089934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A029-1EC0-454A-97EF-A1DF03D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B116-DC02-4832-BC05-E328AAFB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3AB-1A97-417D-87BF-F2B8D3FC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F99-12E3-4AD2-B1E1-4DAE9895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C97-D603-4650-833D-A8C32168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C96-3129-4970-8541-F7442D59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398-9FC5-46ED-8B84-BBC25F17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0AD-F7FA-4C2A-BBA6-F9AB229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ED6-51C4-4E40-A8D9-4E36ABD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F2B-9615-4185-9474-8B678BB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AC1-4BD2-448B-B871-B5206C1BC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207-6D7A-4DA4-A41A-5972B94786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1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ESOSY NO ANTOM-P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. Rabenaso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0 - JESOSY NO ANTOM-PIAIN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antom-p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raiko isan'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ova ny fis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Jesosy no banjin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okako ho Az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drok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arako sy l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Tompo Jeso,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0 - JESOSY NO ANTOM-PIAIN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zava-d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hafa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tiavana tsy voa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meny avy any amb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olotro manok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zy iza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arako sy lov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Zanaka Lahitok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10 - JESOSY NO ANTOM-PIAIN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no iantsampa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sendra fahor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ilany tsy hi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feno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okiko sy he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Ilay Mpanavo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arako sy l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Jesosy antom-p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35:01Z</dcterms:modified>
  <cp:revision>118</cp:revision>
  <dc:subject/>
  <dc:title>Tiona Advantista</dc:title>
</cp:coreProperties>
</file>