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10BB-CC05-4094-AD1D-07111029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0E58-876C-48CD-B1BC-92781B99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BA9C-D5E4-4071-8479-0D04F8CE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9DAA-77A8-4B87-89DC-EF755CD4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4039-2D0B-436B-9DD4-2807CFD1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34E3-F5E3-468E-BDBA-BFEECBF7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1ABB-FED0-479B-B875-8535485F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50E9-A4B6-4461-BB56-7CBAD7E6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D772-7B59-4764-AFA9-85135272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E362-3D5D-4546-8938-714823D0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ADA4-56CB-4EBF-8045-28D3F7C0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E065-5103-46B2-83DC-E024FB1C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FFE7-7F62-4BE1-8E0D-4E6B0368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604C-E4C6-4FA3-8706-83688F3A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61C2-BF95-4C45-AE6C-ABCD48C3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A180-6FFC-4705-9A79-58385AA9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72F1-5DDB-4271-BF74-43A5E005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31C0-B0CE-4093-B16B-4D9EBC5E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95EB-6CB4-4880-8D41-336A4D4E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D5A5-8667-47A0-AC9F-FE169151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CD2C-6009-4B56-A643-30554273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5F0-E4D1-4DA1-B0B9-C57A8753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FCC6-10CA-402B-9B14-0BD50D75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3567-0BCC-451E-8C65-D3898549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FD22-0E02-433D-9BC0-503BD1D2EC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BE4B-836B-41C5-9FEE-CB9EF19512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akav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D. Randriamampand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D. Randriamampand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55 – NOHAMARININA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877212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8772120" y="5178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877212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5" action="ppaction://hlinksldjump"/>
          </p:cNvPr>
          <p:cNvSpPr/>
          <p:nvPr/>
        </p:nvSpPr>
        <p:spPr>
          <a:xfrm>
            <a:off x="8763120" y="594036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63120" y="638172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55 – NOHAMARININ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amarinina aho, afaka aho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dia meloka aza dia nodiovin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Dia nodiovi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hy koa milaza fa voavonjy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saronanao (nosaronanao) ny fahotako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ny Hosana izay asandrat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novalianao ny famindram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72120" y="5178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7212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63120" y="594036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63120" y="638172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240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55 – NOHAMARININ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noraisina aho ho mpandov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tsy nanao 'zay tokony hat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hafatesana no tamby mendrika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izao soloanao fifaliam-p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nao ny saotra 'zay atolot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y vavaka lazain'ny molotr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7212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7212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63120" y="594036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63120" y="638172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55 – NOHAMARININ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any an-danitra aza, tsy hangin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ola hilaza fa heni-java-t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ny anjely hahita mar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pamonjy Ianao ka manamar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rehetra miaina mankalaza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zay ho very no tsy min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7212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72120" y="5178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63120" y="594036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63120" y="638172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240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55 – NOHAMARININ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nona aho Jeso hanaton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dia hoe ho faty, mety ka ir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jely alinkisa no mije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amin'ny Batisa no hanatonak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Zava-dehibe imasonao, r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ahafatesan'olo-masina i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7212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72120" y="5178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3" action="ppaction://hlinksldjump"/>
          </p:cNvPr>
          <p:cNvSpPr/>
          <p:nvPr/>
        </p:nvSpPr>
        <p:spPr>
          <a:xfrm>
            <a:off x="877212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4" action="ppaction://hlinksldjump"/>
          </p:cNvPr>
          <p:cNvSpPr/>
          <p:nvPr/>
        </p:nvSpPr>
        <p:spPr>
          <a:xfrm>
            <a:off x="8763120" y="638172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240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voalaza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iza na iza manaiky fa hatao bati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amarina an'Andriam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mifaly ny anjely an-d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55 – NOHAMARININ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7212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72120" y="5178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7212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63120" y="594036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240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13:16:21Z</dcterms:modified>
  <cp:revision>79</cp:revision>
  <dc:subject/>
  <dc:title>Tiona Advantista</dc:title>
</cp:coreProperties>
</file>