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72B-7591-4666-91C8-D617BF71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899-618E-48A5-9009-BB9512B1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C26-C7C7-42FC-A698-A2E4E029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280-0120-4879-8CD9-DB87D3B6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1602-9172-455B-AA6E-5F7E3F0C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2425-9F5B-4F6D-9674-3E3692BE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F039-CBD2-47E6-9377-96AE412F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EF09-D47A-43B1-B2C5-580F2D48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1491-AD90-48CE-8636-E17D5DE6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2D62-7BBD-47AB-A856-69060447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B05B-9974-4BA9-B77F-2FF24761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BE5-5302-44A7-BBD8-88621DC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6D11-E653-4430-A3DA-4D10C74E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F61A-F9FC-4671-AC2C-494B5316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AB98-1D57-45BF-8D9D-9C5FB953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0C6D-0F3A-4F9A-8827-E8074554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C674-3452-47DD-9CDC-1C258CD5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DBF-D8A4-46A7-83D8-D82754DB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522-0574-4391-9168-9E461F01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A0C-DADF-43CC-B0CB-F2161F25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4B6-3AF5-4AA8-8433-221950A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8B3-B6F2-42A2-8CBE-7AB68DE6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DFE-7B8C-454F-8430-DADBC93C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D67-761C-4D06-9822-A7AB8E5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0279-3346-44BC-AC36-AF064ACAF1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6963-EB54-4CD4-B80E-C619157574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A. Ramboniariso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A. Ramboniari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7 – VONON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7 – VONO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aho,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nar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atolotrao ny 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avo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4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7 – VONO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sarotra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sy maf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nara-di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aho ny hih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kato ny baikona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Satria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7 – VONONA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kely 'zan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iko hanara-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oa tantano sao dia 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ho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(zay mpani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84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8:42:19Z</dcterms:modified>
  <cp:revision>90</cp:revision>
  <dc:subject/>
  <dc:title>Tiona Advantista</dc:title>
</cp:coreProperties>
</file>