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D725-5434-448F-8201-95042F0E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AEED-23B4-43F7-A723-29EA3287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BE11-2D2A-4244-9E54-4795707B1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D86C-1ADD-4C8F-9499-19AD169E4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6B97-6D33-4AE6-B1A6-AEDA61382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392E-4191-4E9E-9862-B49389DD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CDE5-3BAF-4912-A9AE-9F9FDC55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3EA6-E937-4BA1-B20E-824318B2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0172-C31D-467A-8647-0939D6DA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6BE4-75D8-40F4-A67C-1E8DD58B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EE14-7EDE-437C-B95E-37614564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EE4B-F22E-4967-A42B-F6D93BCA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E8BE-2DB1-4007-8422-C662FA21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E77B-373E-4A2F-ACE4-10822B12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A5FF-A795-49E0-A733-943A823C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AE53-F549-42FD-A201-2F28DB0FC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01CB-170F-4693-BF85-DFF4693FF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C1D3-4FC5-4E47-BD3A-5C15C5C7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3316-315B-4222-8250-477DE273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4A6C-9958-4139-BACF-88B19957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D634-5774-411B-88F6-36322B5D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8C99-28CD-49F5-B4A8-064BA9E5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8328-9E6E-4813-9834-9C977491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FD80-71F2-4E18-A959-199E61AC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565A-4B2A-4D1F-8037-855F1FE55F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CFBD-5DF7-4ABC-ABFF-DCDA693D25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faliana sy Fahatok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H. Lesi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20 – AKAIKINAO, RY TOMPO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7631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7631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20 – AKAIKINAO, RY TOMPO 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kaikinao, ry Tompo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ena akaik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faniriako ka av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tony ah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77212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7721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7631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7631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87631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20 – AKAIKINAO, RY TOMPO 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kaikinao no mahatamà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a akaik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eo dia lavitra Sat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tria res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7721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7721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7631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7631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87631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20 – AKAIKINAO, RY TOMPO 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kaikinao no misy h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eo akaiki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zorana andalan-t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kany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7721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77212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7631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7631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87631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20 – AKAIKINAO, RY TOMPO 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kaikinao no fahori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tena akaik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mody re ho fifal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fitahian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7721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77212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7721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7631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87631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kaikinao no hahit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, eo akaik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avanao 'zay fahazav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tokik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20 – AKAIKINAO, RY TOMPO 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7721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77212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7721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7631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87631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20 – AKAIKINAO, RY TOMPO 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kaikinao tsy ho ela ints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ena akaik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ehefa tonga any amb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ntreh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7721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77212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7721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7631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7631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7:34:34Z</dcterms:modified>
  <cp:revision>70</cp:revision>
  <dc:subject/>
  <dc:title>Tiona Advantista</dc:title>
</cp:coreProperties>
</file>