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F4B-C694-4A3A-B4C1-DDEEBA2E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C97-8EDB-437B-B414-B861BE14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B61-E4A2-45DD-A71B-DB48D869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3FF-379E-42B8-9DD9-C9A114ED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92D1-46F0-488A-824D-36010000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658-96C0-4A14-8957-F8BAC24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771C-A472-4DF2-8B57-FB827342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DCE4-6017-4322-8EF9-F2CA99A1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3D1A-88A8-49C5-BE55-3A90708D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0A10-BB5D-4B8A-A6AD-67118B99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F41D-69BE-4CAE-A11B-68FE68EE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998-35BB-4300-B878-D9A06F9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6B72-3BBF-4976-A4C9-82537041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3A7D-48AE-4884-A6F2-12041CA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19B3-B05D-4B50-8008-7F07123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E7AE-DBBA-4D33-A222-33525837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7610-C573-4354-88BB-B0896F32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D05-62E3-467E-914E-08EB426A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A8D-8B09-41C6-8D07-D40E738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203-9C4F-40A9-A47D-BA796758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656-5F60-4258-9C3F-CBB8729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3C5-51D4-4020-B01D-474FFB3C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210-3D6E-4A4A-84C5-75544B1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2F5-69EF-4005-89D2-EF2451E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021B-DFC7-4752-9B95-76F7CFE7D6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994-CB78-4B7D-942A-70277E7149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Hoffma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4 – EFA ANANANA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4 – EFA ANANA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anananao ve ny fiadanan'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tolotr'i Jes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iavanay be, mahatok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efa norais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4 – EFA ANANA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anio, ho fanatitr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o, fa iri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ny androna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ilain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homenao hatr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4 – EFA ANANA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anananao ve 'zany herin'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tolotr'i Jes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re, manda maf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rovana maf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4 – EFA ANANA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anananao ve ho fiainan'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tolotr'i Jes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anie tena ai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amelona re ny 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7:55:19Z</dcterms:modified>
  <cp:revision>35</cp:revision>
  <dc:subject/>
  <dc:title>Tiona Advantista</dc:title>
</cp:coreProperties>
</file>