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873A-CAC6-4B2F-8CF8-BAE7C510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5CC1-7C26-4CE6-8A03-512EA0C0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C074-A0A9-4BF7-BC11-0AF5FD7D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2EDA-E63E-4508-89F4-D5C28127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84C7-9BF1-4F45-AE26-ED9F39141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0527-660A-4A2B-8A6D-C1E8610A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C80B-9FC2-4D26-A4CF-C2E5AAD1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7A6B-A65B-453B-85C3-9295C5DC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7A21-150D-460D-80A2-B0576927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ABC0-3120-458D-8958-50D65D45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1BDC-A314-4091-B611-5B756364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B9F1-A124-4C47-8E56-FFBB05E0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8F45-8132-4A15-A1FE-CDB19A75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4012-F065-400F-B296-D849D6D9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70F4-87CF-4F4E-B8D0-2D09B678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5D05-5EA7-4622-9DF8-32297349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273E-8022-424E-B210-087C6ECF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F53B-A1F7-4880-B93D-199E6195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61BE-5F78-4741-B185-9D6ECCDE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DD58-AFD3-4DC5-BCE4-759BE960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FEC3-AC04-45F3-A04B-EEC8AEDB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3774-178A-4309-94A9-63435335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83C4-8A31-4A23-A5FD-FF3AB021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4685-84A1-4650-A604-653DDA10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D25D-CEA2-4CFD-8E5B-CC61275163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ECEB-8334-49CE-8213-8CAA76A628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oloran-tena sy fanir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B. Rasolotahia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B. Rasolotah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17 – AMBOARY AHO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7 – AMBOARY AHO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boary aho, Jeso, mba ho to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ndrindra fa ity foko, ity Jes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ora fanahy sady be fitiav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ara sy maha-te ho tia Jes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7 – AMBOARY AHO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boary, Jeso, ny fiain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fenoy ny fanahy ho tsara sy mendr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Hanan-toe-panahy tsara sy mendrik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isainana sy ny fiten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Ny fisaina sy ny fitenik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ga anie, Jeso, mba ho toy n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Enga anie ka mba ho toy ny Anao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7 – AMBOARY AHO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o tenako izay feno ot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ndrindra fa ity foko ity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atolotro mba hohavaoz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hanala baraka Ana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7 – AMBOARY AHO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pitoero amiko, ny fiti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hitiavako ny fahavalok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reo fomba ratsy, 'zay niain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oloy re Jeso ô ! Mba ho tena 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2:39:31Z</dcterms:modified>
  <cp:revision>87</cp:revision>
  <dc:subject/>
  <dc:title>Tiona Advantista</dc:title>
</cp:coreProperties>
</file>