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33E-16BA-4F90-BDC2-A4D7BD7C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223-1019-4F6D-99A7-905907B0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3C4-1CDA-458E-98F1-2B85AF26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AF0-6AC1-4CDB-922C-A493115D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4FEC-DBA1-4C26-8C90-31B28E64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301C-D861-4614-A19A-54F95D0D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5575-9595-4E4C-8211-E771930F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C049-019B-4A08-8723-2436C167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7C4D-B4BE-4ECF-BE5D-444D5C52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6B8D-4E92-404A-9D7D-A51BF714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1EF8-B220-418F-B543-3E5B8F27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042-6E68-40E7-87C7-315C7E18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3536-B22F-489A-B894-ADCD02CC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E75A-247D-411C-9212-684D4F6A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1BEA-AB00-4C75-ABFC-7EAEF88C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B830-31D6-41DF-8FBA-E1538548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143B-6455-4292-80B2-4DD5E9B6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1F4-F7F0-4422-BF44-7920B02D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A7B-25E7-4512-B6FF-510B6F04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EFA-897C-4C6D-839D-31F08A08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910-752E-4CCF-879F-283D8027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EE6-531A-4088-B125-346769ED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FDAB-F833-4C70-A349-1EFB1F87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6BE-1498-45BD-BEF0-F56B1B8D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3A7F-2631-4101-8C83-BF139AAF7C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D62A-69A7-453E-9128-D6C91DBF6A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kari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harles H. Gabri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44 – NY TSINTSINA AZA AH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41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622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04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4 – NY TSINTSINA AZA AH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hoana aho no kivy ka alahelo f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hoana no hisento ka hamoy f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ntana ahy Jesosy (Jesosy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kaiza tia tokoa (tok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sintsina aza ahiana, maika fa izaho mo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sintsina aza ahiana, maika fa izaho mo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622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04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09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4 – NY TSINTSINA AZA AH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a aho fa faly (fa fa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omeny soa (ny soa)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sintsina aza ah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ika fa izaho mo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41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04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09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4 – NY TSINTSINA AZA AH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«  Aza manahy ianao fa matokia Ahy »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y ny feon'i Jesosy 'zay mampahery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aizina ny tany (ny tany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ho haiko ny hanjo (ny hanjo)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sintsina aza ahiana, maika fa izaho mo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sintsina aza ahiana, maika fa izaho mo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41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622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09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4 – NY TSINTSINA AZA AH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a alaim-panahy, tataovan-drah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ry fanantenana, sehatra vah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oniko ny Tompo (ny Tompo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lan'ny tahotro (ny tahotro)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sintsina aza ahiana, maika fa izaho mo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sintsina aza ahiana, maika fa izaho mo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41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622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04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09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9:22:03Z</dcterms:modified>
  <cp:revision>70</cp:revision>
  <dc:subject/>
  <dc:title>Tiona Advantista</dc:title>
</cp:coreProperties>
</file>