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076-21CE-4BF3-A6FF-992F4B18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D9A-A951-44D8-9E68-94A96F1B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2B5-41BC-4FF8-89D0-AD833048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50B-82F5-4B42-ADDA-FB9588ED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8DEF-00C4-4F86-8445-A7C436CB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5E7-3DC4-4A59-9F75-D279ED58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AAA7-3CBA-4E84-9B78-031EF65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E2C2-DA75-4A1D-BB96-298AB2D7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D01F-5DE0-4798-9CD9-05118201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8A1E-E8FE-4C79-874E-2F9AD192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82D8-A593-43B6-A518-C63A398C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766-896B-4490-A04B-26E36A90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3257-CE4A-4C00-965D-E395FA65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2361-00BB-4F0D-9DB5-CF3BE615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4C82-3DEB-4907-83A9-8EB44392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C072-56D5-40FA-A034-00606D08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DD53-2EAE-41A6-AC9B-6D35D6E8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AE8-7F34-48E0-826A-904F8E32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8C2-E174-444C-8012-39F687D4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928-A153-4854-8070-495D67FD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80F-8E2D-4039-A75C-4C61083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964-08F4-44A9-BEFF-21E766F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95C-130C-47E7-921D-B207BC46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0D4-49C6-43ED-A0C2-80942DF4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984-A7A9-4642-B517-94CB290DE9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B19-0F28-46A0-8201-CC5ADC7DDC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5 – RY TOMPO Ô ! A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5 – RY TOMPO Ô ! AMP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 a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ngo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ka mba tah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y av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ry ten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za ny haf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afaing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v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5 – RY TOMPO Ô ! AMP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hano ireo mpit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sa mba ham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dry 'zay man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fah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fa i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ho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ompoa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45 – RY TOMPO Ô ! AMP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miten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hazy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sy hanolo-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itsy ny m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y haf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ny voady 'zay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koa hande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4:28:42Z</dcterms:modified>
  <cp:revision>45</cp:revision>
  <dc:subject/>
  <dc:title>Tiona Advantista</dc:title>
</cp:coreProperties>
</file>