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F7D-A4A2-4C5A-AB5A-670E2E5D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94B-5B57-4A0E-B42A-D8DDAB3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369-5455-46C2-A64B-9082301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D7E-4383-4B67-9061-E1C4434F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7C7-ABFF-442F-8601-756E0CAE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47FF-44F4-4BC4-ADA1-5AB37D2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B0F-ABF1-4A09-B6EB-680CED3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EA29-7272-4AED-8D0C-1B287FBD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A97-F2F8-4191-A345-B4F291A2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B475-A841-4059-AEAF-497AB7C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A75-80C0-4D95-AB7E-843CF2A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28F-ADB5-4B6B-9BCC-F040210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588-1E58-40BA-A8B2-4533EB4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3E3-EA1A-4419-BF2D-80AB7D8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A032-5975-420F-96DF-BA4C2019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CA7A-7AF8-4934-9424-0CC1588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549-07C5-47EF-A601-F770EA90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25A-A90B-4587-B9A9-CD36C86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682-2E2E-475A-B789-F7D0FE0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0E5-403C-412A-A4B6-6B052F0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C7C-68E4-457E-B3C7-3E48F02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E2B-32BB-41F5-AB8C-0883536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C7D-7EBB-49AC-A61B-B09D311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A99-A112-4EF4-9CDB-8A4738D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BE0-8844-4AC0-A058-E8B9FEC84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33C-75F8-400C-A226-0854B6C6B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E. Mac Naught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3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3 – AVY ‘LAY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3 – AV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'Lay Mpanjaka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mba handray a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etivety foana dia hanolo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inahi-dehibe, eo an-danitra 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e fantatr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'Lay Mpanjakanao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3 – AV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'Lay Mpamonji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mba handray a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! Ho lasa avokoa, sento sy mahory 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ifalian-danitra tsy ho tapi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e fantatr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y 'Lay Mpanjakanao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no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3 – AVY ‘LAY MPANJAK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mpo ô, ampio '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o vono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y tsy hangai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o von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Faingana Ianao haka ny navot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nina finaritra ao an-dan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Avia Tompon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ho ny hasoava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ona i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54:52Z</dcterms:modified>
  <cp:revision>37</cp:revision>
  <dc:subject/>
  <dc:title>Tiona Advantista</dc:title>
</cp:coreProperties>
</file>