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1AB9-7404-4E7F-A3CB-864C405B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890-37E9-4066-A5E1-5F5D43B3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BBB-6DC8-4F5A-A06B-27600902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65E9-60D1-4426-9DA0-59281449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EEAA-885C-4F43-AC94-7A10E71A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C911-21B0-4C0C-A37E-10E7FAFF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C7BC-ECC4-4FC1-A94C-A4F37CC4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5FD2-4A4F-4CC2-879D-9FB81AE2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961C-4B46-4F26-B703-E021EF57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15BA-F571-4285-9B8C-444CDAAA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71F8-C5B4-45EB-AC3F-C687911C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F8EC-75BF-4666-9D10-74EAC3B9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7918-0FA0-490F-87F8-07C77FFA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68A7-5BD8-427C-B19B-854283EE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3241-C64F-4B4E-8300-AF0DB06B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55B6-75B7-4AFE-92A0-8F1DA050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F682-3B87-4983-8B2B-109DE562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C4EC-2497-4826-B5B7-A031E1E7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7FC-12BB-4142-A6C4-416015A7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1C9-C9B8-4C1B-ABB6-BE2270CC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F42-38BA-4948-8BD0-F2F2C571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9A3-D509-40F0-898A-86285782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F09-4EB4-457D-B544-F9E2D18C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4DF-A418-4306-A694-51C434E3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60E5-5662-4370-87BD-19ED2F2039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0AC9-CEE8-47B9-B35C-A1102541AB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57 – TOMPO MAL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7 – TOMPO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alala ô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vavako izao mba henoina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ahiako esory tsy ho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o hitako ny he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rotra loatra ‘zao lalak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ko tokoa ny tant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alala ô, midina, av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sao aho ho very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8480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7 – TOMPO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malala ô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-tànanao, eo an-tongotr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itondrako izao fiainak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ga anie ho vimbin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fikasako, ry Ray, fanta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iriako dia efa hit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, ry Ray ô, izay sitr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koa anie no 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480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3:59:54Z</dcterms:modified>
  <cp:revision>78</cp:revision>
  <dc:subject/>
  <dc:title>Tiona Advantista</dc:title>
</cp:coreProperties>
</file>