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0E7F-9F15-48D8-AB3D-2A3ACC9E7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85CF-2DDA-4957-A0A9-5995DAF7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5F5A-F451-4F1B-8AB3-EE551BC1F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5A4C-82A2-4F71-822C-6EBB79CDF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7918-31BC-4121-8DE1-6233094A7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72DD-F070-4BC3-855A-070FF5FD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2829-F146-4D3A-8A96-501355E6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4985-EB2F-4EDC-A4E7-4C956D69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4742-68F4-4921-A2CE-C750561A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F0FD-78E7-43AF-8919-4EED555A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7AA2-F353-4112-91CB-F162C524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2C6B-A595-4CF3-9067-038014D0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580B-3A14-48FA-8D7C-93B2D2AF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1F10-BD55-47BE-A80E-3159C1E7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CD1D-E0B2-4AA0-BF0A-286A4CB8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BD27-8C5C-4C14-8975-2D65C5859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1F69C-4C43-4EFC-A335-56B0FC4AA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B823-651A-4451-BF91-40D47BE6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7407-3027-4E2C-99B6-31CB349C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1964-6F82-4F08-B3A4-A32F5E39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0C73-59C4-46A4-8A27-735264EE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625A-E8BB-4C24-9455-B09B14C6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6810-A5AC-41B1-BF62-7A8C826D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EFC7-EDCD-4785-8CBF-7EADC244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45A9-43DE-408F-B7A0-A5F4DA988E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B8AC-F9EC-44D8-A97F-2C4C65C638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dresena eo amin'i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31 – RAHA MAFY NY ADY AT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31 – RAHA MAFY NY ADY AT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ha mafy ny ady atao 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karo ny mas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sosy mitazana anao 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te ho akaik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31 – RAHA MAFY NY ADY AT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sandriny no fihi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mitsotra hitantan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Borahy eo aminy ny sento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Vonona Izy hanamp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31 – RAHA MAFY NY ADY AT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ha ana sy sasatra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ha mila ho kivy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ho ela dia ho av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lay Tomp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afaka anao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31 – RAHA MAFY NY ADY AT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ha toa fahoriana no hita a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ha toa ranomaso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ndalo izany fa ilay 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mpionona ny ao am-p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0T07:57:33Z</dcterms:modified>
  <cp:revision>88</cp:revision>
  <dc:subject/>
  <dc:title>Tiona Advantista</dc:title>
</cp:coreProperties>
</file>