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D28A-7AFD-450A-95ED-3479DCF25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2B59-B9A8-4772-9FAA-2CAB5A42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885D-226C-407F-8561-FF2E76735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9B81-E8AE-4621-8D99-8CDEC019B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1FA6-1CAD-48F9-A9C9-D6A01CFF5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CB88-0F3D-49AF-BB0F-216D24CF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2748-D189-48B5-AE0E-78BB43ED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48C5-A3AA-4AED-916E-FB0CFFC1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96CC9-408D-4E34-951A-3D86B336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56D5-AF58-4DE2-B6BC-2FAFF219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5422-8907-4929-AD1A-43E09D78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E1F4-4A17-4808-9F45-B86C86A7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262C-86FD-4619-B830-5B6EC4BF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BBEF-F323-46F3-B244-A03675F8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882E-904B-4242-BE7E-49C6F138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C154-B656-4CC5-883F-0DE865D5F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66C5-E4EC-4958-8C7D-613BBE2D9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665D-35BC-4735-8481-5BD489FD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0775-33C7-42BD-ADAA-BE804A3B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BAD3-3C25-4097-A494-957E8548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65AD-A4AE-438C-AAD6-022EB98C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6708-4CAA-4E12-8111-8A61FD95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E96A-A6A5-4EC3-8135-0C392AA2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A0A6-7DD3-4C4B-B341-A62BC265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6BF8-EC8D-4FA4-B22B-347AB305D0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77D7-5994-43BF-9028-C027573E21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NAHY MASI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. Ramanantsialoni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Mac Granaha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128, AF14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71 – JESOSY Ô, AROTSAH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48720" y="5805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74872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71 – JESOSY Ô, AROTSA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ô, arotsah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vatravatra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minay ny Fan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ranonorana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76276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7577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87487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748720" y="5805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876384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6" action="ppaction://hlinksldjump"/>
          </p:cNvPr>
          <p:cNvSpPr/>
          <p:nvPr/>
        </p:nvSpPr>
        <p:spPr>
          <a:xfrm>
            <a:off x="874872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71 – JESOSY Ô, AROTSA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andon'aina (andon'ain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ndray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ena karaka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elombelomy ind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en, ame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87577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7577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87487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5" action="ppaction://hlinksldjump"/>
          </p:cNvPr>
          <p:cNvSpPr/>
          <p:nvPr/>
        </p:nvSpPr>
        <p:spPr>
          <a:xfrm>
            <a:off x="8748720" y="5805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876384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6" action="ppaction://hlinksldjump"/>
          </p:cNvPr>
          <p:cNvSpPr/>
          <p:nvPr/>
        </p:nvSpPr>
        <p:spPr>
          <a:xfrm>
            <a:off x="874872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71 – JESOSY Ô, AROTSA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dina ô, ry Fanah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enika ny fo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la ny ahiah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ari-dalana 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87577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76276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87487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8748720" y="5805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876384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rId6" action="ppaction://hlinksldjump"/>
          </p:cNvPr>
          <p:cNvSpPr/>
          <p:nvPr/>
        </p:nvSpPr>
        <p:spPr>
          <a:xfrm>
            <a:off x="874872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71 – JESOSY Ô, AROTSA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irinay ry Fanah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vavolombelo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mahatoky sy s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abo fo h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87577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876276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87577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8748720" y="5805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876384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6" action="ppaction://hlinksldjump"/>
          </p:cNvPr>
          <p:cNvSpPr/>
          <p:nvPr/>
        </p:nvSpPr>
        <p:spPr>
          <a:xfrm>
            <a:off x="874872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boary mba ho mpando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ainana mandrakiza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y fonay ho voao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tena lapan'ny 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71 – JESOSY Ô, AROTSA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7577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76276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87577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87487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876384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rId5" action="ppaction://hlinksldjump"/>
          </p:cNvPr>
          <p:cNvSpPr/>
          <p:nvPr/>
        </p:nvSpPr>
        <p:spPr>
          <a:xfrm>
            <a:off x="874872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FAR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ny fonay, (ny fona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ovy ho lap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, hamasino ny sai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tsara toy ny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71 – JESOSY Ô, AROTSA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7577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76276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7577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7487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748720" y="5805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>
            <a:hlinkClick r:id="" action="ppaction://hlinkshowjump?jump=firstslide"/>
          </p:cNvPr>
          <p:cNvSpPr/>
          <p:nvPr/>
        </p:nvSpPr>
        <p:spPr>
          <a:xfrm>
            <a:off x="876384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07:28:09Z</dcterms:modified>
  <cp:revision>39</cp:revision>
  <dc:subject/>
  <dc:title>Tiona Advantista</dc:title>
</cp:coreProperties>
</file>