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6A8-3C68-449B-B391-08743D68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B78-B2C1-46D5-8675-B88860E3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C5D-0E70-4C7D-B9BA-57BE8429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5A0-BB9E-4C6C-813D-E72A892A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D13C-3FB8-4FDD-9FDA-2C614454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4260-0F8A-4C37-A932-31D9FA32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3640-E59F-4CD1-9775-46155C5C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AA68-E6F7-4D39-8015-E139FF56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2471-A41D-4083-A49A-BDFE2E46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1A83-2A4F-462D-A764-651F391A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8099-BD72-4D7E-9EA2-935AFFCF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67D-0163-4BB7-AC94-7B048139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CC4D-493B-473C-85EE-7D27739F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5578-F630-4F68-A4C2-457D31AB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664F-8494-45AA-B99B-166B14EB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C852-0E2A-4EF6-AB17-F5E084F5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FC4A-59C9-4AE2-BF8E-1664A754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1B7-5923-4DF8-9770-A2534DE2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C6F-DFB0-4601-A4DC-56CE48CB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0A4-B549-4BC3-94E0-272357BD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BA4-B1CB-46AE-8128-16DD2B99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2E5-771B-441A-919D-8A84870C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8C9-18FE-4878-98D1-EB8981C8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A84-5B2B-459E-98AD-AAC821A4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C9FE-4828-43C9-88F1-091FA744A5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222B-8B3D-4EA1-81EE-B1C3BC2C86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84 – RAIKO Ô! AVIA ES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60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66440" y="64022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4 – RAIKO Ô! AVIA ES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3963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1      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ô avia esory 'ty kapoakako it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Feo 2,3,4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ko ô avia esory 'ty kapoakako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1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: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ny dinitro manjary ra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Feo 2,3,4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ny dinitro manjary ra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1      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y Raiko ô, esory Raiko ô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Feo 2,3,4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y Raiko ô !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1      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, ry Raiko, ekeko tokoa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2,3,4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, Raiko ô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</a:rPr>
              <a:t>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66440" y="64022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58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084 – RAIKO Ô! AVIA ES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1      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fa voatendry mba hiaretak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Feo 2,3,4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sitrakao no at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1      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izay sitrapoko no atao fa n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An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Feo 2,3,4 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y sitrapoko anie, ry Raiko, no atao fa ny Anao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60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558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26:16Z</dcterms:modified>
  <cp:revision>31</cp:revision>
  <dc:subject/>
  <dc:title>Tiona Advantista</dc:title>
</cp:coreProperties>
</file>