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5AB-49D4-4560-9564-CBD1D401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1A0-62F3-4195-B0A7-EA98F959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FC6-DE6D-4CAF-9758-347A8B0A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ED3-7A1F-4839-BC96-F6CE622E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923-99EA-493F-AE81-8CF76B08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EE9D-A769-440C-85D7-748C8EF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3F59-772E-4FAC-B929-68F3D8ED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A89C-F755-4649-8392-B476C866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A2F-4419-43EE-9DD3-4821E41B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10B3-2561-481A-B242-0B647277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F5B3-94DF-47D1-A616-2B051F4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C44-8552-451A-AFDE-9EA649B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1EF1-4F23-42A2-B4E0-7A9D115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2688-6595-4771-A040-4717388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3AE-7D4C-45F6-B556-55E3AA9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FEAE-3C13-4FF7-A7D5-7D22F4A3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146-C941-49B2-A3E7-5E867CBA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2DC-8D44-40A4-B0A6-9D050ABA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AC6-B3F7-45C4-B543-9D81C095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B5D-5870-481B-8468-8DC197F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D3E-C697-4D46-9515-B134885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843-874A-427D-A51F-BEC3650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F5C-E074-4B67-8988-3965D89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FC3-B92B-44E8-B740-5EE778E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3F4-3621-4F88-B6D6-48C19EEE0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922-4239-4AB4-9EA2-92BB427B83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Andrianjaf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Hartsoug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3 – RY MPAMONJY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3 – RY MPAMONJY TOMP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y, Tompo 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zah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iky sy han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ver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ran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elona ny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nten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la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3 – RY MPAMONJY TOMP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izaha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diso t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onje sy manav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i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ah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anki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raiso, ry Tompo Mpamonj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ona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3 – RY MPAMONJY TOMP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y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ntanonao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lavo 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hazo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mety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ele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inao no mis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tanjak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3 – RY MPAMONJY TOMP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mba tanter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otanay af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imba ana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anara anay han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o ny 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zoanay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ela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51:11Z</dcterms:modified>
  <cp:revision>67</cp:revision>
  <dc:subject/>
  <dc:title>Tiona Advantista</dc:title>
</cp:coreProperties>
</file>