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D6DB-4164-4F26-BBAD-9AABA76B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7C19-9708-4843-852F-5C0B501D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8B67-2BA2-4221-96CC-01BD610C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5C3E-B11A-4C76-83B9-89725B2E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5D2B-F182-4313-88F7-0E90BDFB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DDA2-74DD-4F61-B19F-3C26FFEA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C972-2E1D-49ED-9C97-68D251B0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22B3-E8CB-4A26-B2B7-4D726ACE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84A8-0458-4B10-A914-62484EBD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B36F-F025-4D09-99FE-58D1A3B9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99CD-C7B9-4950-89F9-79DF8E78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D15D-785E-4DD1-8C64-765831C2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BD15-E5F7-4801-BD0E-A27EA25E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CB7D-91B5-4A8B-852F-D016D493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6C10-250A-4F33-930C-749AE878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E90E-813D-44A6-910C-ADEA2C00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52D4-9D66-495A-9139-41BA0609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D064-5B9C-431A-93C3-9F3C7E00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FBF8-F65F-4B21-B42E-70DC86BA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8786-1325-40DC-9EE8-B24DF1F1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E6B1-D4E7-4A3E-88A1-8CE3C074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1288-2CB1-49A2-99CE-8F46731B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4A3C-C665-493D-84DA-CFD5C7F8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B033-7DF3-4E52-A156-BE42D75F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B9E9-7912-456C-A5EF-051130289C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BA4D-88C1-40B8-8148-1A9FAA9433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oloran-tena sy fanir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zak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za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23 – EO AN-TANANAO R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3 – EO AN-TANANAO R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n-tananao, ry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etrahako ny f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fiainako rehe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iko anio tsy misy fe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n-tongotrao r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ipetrahako, ihaino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3 – EO AN-TANANAO R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to teny mampahery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o tsy ho v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ty aho manolo-t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vao ny faneke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iala fa han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sa ho Anao, ry Tom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3 – EO AN-TANANAO R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n-tratranao ihany Jes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itokiako hatr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hiahim-pamonj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, Jeso no anten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kaikinao, ry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ny aho satria mato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fiadanana sy so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omenao ahy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3 – EO AN-TANANAO R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nilanao, ry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tiako ka tsy hial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androko izay si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ady ny Paradis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kaikinao, ry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no tena fifali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ainana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menao rahatr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0T02:03:19Z</dcterms:modified>
  <cp:revision>87</cp:revision>
  <dc:subject/>
  <dc:title>Tiona Advantista</dc:title>
</cp:coreProperties>
</file>