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03F-D85E-4649-8E63-6B45D2A1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A80-DB84-4C91-A8FF-11DF4E0D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936-7168-47B8-82A0-409BC61D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F60-2099-4E1B-BC5A-2AB7ADFF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8BBE-ED4C-49B0-8E2E-9D1EDFD6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7C98-189C-41E7-B153-48E4FAC0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8149-FAE4-4170-B4EF-4D56632A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A69D-B33E-4764-8085-D02A2C68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CDF1-563A-4B70-BD9E-863BF18F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45FF-8B01-4A8B-AE11-1F1ECBDA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8C1F-0332-4E13-A49C-33A72EF7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2C9-9107-44CC-A481-722718E0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95DF-5C6A-4C7C-8E44-D11F6604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EEB7-1A27-4926-B437-7ED37A32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8B5C-1B0E-4440-B18A-F815E5C1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EE2D-2143-4218-953D-0074AD10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4899-D190-4540-9FC2-980A1B1B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883-14E9-47F2-A959-AF54AA85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3B9-43CA-4E93-9125-B07D8F8B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1A4-ADFC-4EB0-8C86-4C63B35B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DC8-4584-465A-8BE8-780D3388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442-6101-486A-88CB-58C3D7E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52A-591A-42BD-88B5-E02E51A1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071-CDB4-44CD-B949-D76B75F4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A762-DAF3-4897-AE80-ACB3E942CC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9AC5-7BC6-452F-8226-4BA1A07204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39 – INJANY FEO MIAN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9 – INJANY FEO MIANT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ny feo miant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ko eran-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gavy tsy miat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renao va izan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sa ny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tona n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bebak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iky hel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69 – INJANY FEO MIANT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o mamelove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eon'ny Tomp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y malahe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tian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njam-pitah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y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any ny fahakiv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fiai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69 – INJANY FEO MIANT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ko avy hatr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antso be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irery i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ntenaiko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mofo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loharanon-t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 karank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fiadan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51:56Z</dcterms:modified>
  <cp:revision>61</cp:revision>
  <dc:subject/>
  <dc:title>Tiona Advantista</dc:title>
</cp:coreProperties>
</file>