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585-26E2-4C44-9694-2B2C3EB9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72A-E2B8-4984-8FF7-778BDFD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94A-B112-407E-BDA5-6E21BEA9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D83-93B3-4255-AF72-3A1E5C31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1B4E-54A8-4CDB-B7C2-EF1696C6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1FB0-BA92-488B-A97C-0943E568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FF4A-864F-4E3D-AE31-9D7F43D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DED-F4C4-4ADD-9C7B-3C32979E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C83-3D18-4D42-AD08-2FA12FE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DE65-418F-45A3-96ED-5E2EF45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DD29-4224-436F-BF14-4E37611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ACE-E865-4A56-8461-335F5DE8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C7C-A012-40AC-BE19-91CCA86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D769-D29E-4E27-8420-4D0D9C6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6F5B-AB48-47A7-B6C2-BFBDF8E8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45F-A6B7-4E25-8225-2634318E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24B-0395-47E6-9C1F-7674EAB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87B-FF14-4B20-83D8-2EF1546C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92F-03B1-4DAE-A3D7-5C571DD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2F8-1342-477B-8467-C6F62B74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248-F398-4BD1-818B-E6E91708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6D5-C827-49A8-BABA-5B47ED7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104-FACC-45E6-A7BB-CECDE5D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129-3CFE-460F-8592-C269342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EB1B-AEFD-4408-991D-AF2F37CEC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1227-619B-4A87-9867-0320863954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9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Y MIARAMILA ! MANDROS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T. Pr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S. Baring-Gou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FFPM63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iaramila ! Mandroso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risty Kapiteny mialoh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aloha tafika, loza, ratr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tsaharana tsy misy, misikina 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iaramila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oso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risty Kapite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loh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lehy ratsy no manot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ny tsipika no milatsa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no ny finoana ho amping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onao ho fandresena izao rehetra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iamboho na mihe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an-tratranao ny fiarov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ba matahotra fa sahia, fandr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sy mandresy dia ho resy 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mandrosoa i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raisa-dia aminay h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lofosa fatratra, aza ket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&lt;&lt; Miadia ady tsaran'ny finoana 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89 - RY MIARAMILA ! MANDROSOA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risty Kapiteny tapitra o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o mpiaro ny mpanafi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kina aminy maf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za mba ny tenanao no itokian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39:45Z</dcterms:modified>
  <cp:revision>114</cp:revision>
  <dc:subject/>
  <dc:title>Tiona Advantista</dc:title>
</cp:coreProperties>
</file>