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214F2-6716-4B46-AC95-4C3C11D1A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6627A-E197-4431-9949-069EB6943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79D5A-F804-47D1-BC80-574B3912B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077CF-A524-4C9C-8739-0C2BB684A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770EC-B833-4665-86CC-C46F08450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8E7DF-A2B7-4714-ABA1-B941F3725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B1553-5631-45DD-A7EB-D7C050C0A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88DF3-AE38-4B59-A9FD-A7AED2EAE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83FA9-1419-4D61-804F-8174A2E2D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8F06F-7C43-4D07-9D8C-5802F87D6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1AAC1-AD3F-4EF9-98E4-0CCC1CAB9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8E28C-DBA6-4E94-91C2-476BE02D4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3B36C-E49B-4811-B54F-DE7580CB6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23A69-3ED0-4B79-BAA1-B3F093CC2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B487C-B592-4EDE-A64D-9F41FFD4D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7EE3A-12C5-4299-850D-35F8F5FAC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B5A8D-80E5-49A3-95D2-A5495A65A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9A54F-AF38-4F9F-BF8C-FBA95735B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CB0B3-CAAF-4C03-A453-6C7E395B6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3EBC9-A828-4E4B-B220-E24E23D1C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58DBB-6CB2-4503-A206-44B1FD3F3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0C3B6-29A5-4F22-858E-762C6C053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C1B96-B46E-4308-932A-71A9A6444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370CE-6E5E-49CA-AFA7-B8B52B240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32A2B-4F46-4936-8717-8252AB84F8D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3B431-C502-4891-91E5-1B2BA51D85C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FIAINANA KRISTIA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Fitiavana sy Finoa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R. Tsimaitoarivo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James Row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405 – TSY MISY SAKAIZA MAMIK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772120" y="5251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777160" y="563256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772120" y="6013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>
            <a:hlinkClick r:id="rId5" action="ppaction://hlinksldjump"/>
          </p:cNvPr>
          <p:cNvSpPr/>
          <p:nvPr/>
        </p:nvSpPr>
        <p:spPr>
          <a:xfrm>
            <a:off x="876312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405 – TSY MISY SAKAIZA MAMIK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sy misy sakaiza mamik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aha tsy Jesosy ihan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sy misy izay itokiak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aha tsy Jesosy irer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>
            <a:hlinkClick r:id="rId2" action="ppaction://hlinksldjump"/>
          </p:cNvPr>
          <p:cNvSpPr/>
          <p:nvPr/>
        </p:nvSpPr>
        <p:spPr>
          <a:xfrm>
            <a:off x="8777160" y="563256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rId3" action="ppaction://hlinksldjump"/>
          </p:cNvPr>
          <p:cNvSpPr/>
          <p:nvPr/>
        </p:nvSpPr>
        <p:spPr>
          <a:xfrm>
            <a:off x="8772120" y="6013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>
            <a:hlinkClick r:id="rId4" action="ppaction://hlinksldjump"/>
          </p:cNvPr>
          <p:cNvSpPr/>
          <p:nvPr/>
        </p:nvSpPr>
        <p:spPr>
          <a:xfrm>
            <a:off x="876312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>
            <a:hlinkClick r:id="" action="ppaction://hlinkshowjump?jump=firstslide"/>
          </p:cNvPr>
          <p:cNvSpPr/>
          <p:nvPr/>
        </p:nvSpPr>
        <p:spPr>
          <a:xfrm>
            <a:off x="8762400" y="48196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405 – TSY MISY SAKAIZA MAMIK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ISAN’ANDINI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Jeso, Jes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ena tiako I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Jeso, Jes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ena mamik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miantso ny anar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Jeso, Jes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ena tiako I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>
            <a:hlinkClick r:id="rId2" action="ppaction://hlinksldjump"/>
          </p:cNvPr>
          <p:cNvSpPr/>
          <p:nvPr/>
        </p:nvSpPr>
        <p:spPr>
          <a:xfrm>
            <a:off x="8772120" y="5251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>
            <a:hlinkClick r:id="rId3" action="ppaction://hlinksldjump"/>
          </p:cNvPr>
          <p:cNvSpPr/>
          <p:nvPr/>
        </p:nvSpPr>
        <p:spPr>
          <a:xfrm>
            <a:off x="8772120" y="6013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>
            <a:hlinkClick r:id="rId4" action="ppaction://hlinksldjump"/>
          </p:cNvPr>
          <p:cNvSpPr/>
          <p:nvPr/>
        </p:nvSpPr>
        <p:spPr>
          <a:xfrm>
            <a:off x="876312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>
            <a:hlinkClick r:id="" action="ppaction://hlinkshowjump?jump=firstslide"/>
          </p:cNvPr>
          <p:cNvSpPr/>
          <p:nvPr/>
        </p:nvSpPr>
        <p:spPr>
          <a:xfrm>
            <a:off x="8762400" y="48196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405 – TSY MISY SAKAIZA MAMIK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aha sendra ka mila ho kivy ah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ntsoiko 'Lay Sakaiz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sy misy izay hampionona ah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aha tsy Jesosy irer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772120" y="5251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777160" y="563256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76312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>
            <a:hlinkClick r:id="" action="ppaction://hlinkshowjump?jump=firstslide"/>
          </p:cNvPr>
          <p:cNvSpPr/>
          <p:nvPr/>
        </p:nvSpPr>
        <p:spPr>
          <a:xfrm>
            <a:off x="8762400" y="48196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405 – TSY MISY SAKAIZA MAMIK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e ! Miramirana ny endrik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Satria Jesosy iha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o mitoetra ao am-poko 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a mampifaly ah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772120" y="5251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777160" y="563256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772120" y="6013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8762400" y="48196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17T05:40:20Z</dcterms:modified>
  <cp:revision>68</cp:revision>
  <dc:subject/>
  <dc:title>Tiona Advantista</dc:title>
</cp:coreProperties>
</file>