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7A5-C924-42E0-A5D6-E262FA23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88D-E638-495C-BF12-839EB1EB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99B-D4BA-41CE-94D6-988D4B80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22B-1E69-489A-8528-9DC6F59B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A23-D96E-44FB-8140-C4D93D6E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0AFD-6F99-4C2D-9CDE-10C52CC2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DCF6-DD51-46DF-9845-5F009AA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8338-240C-41E5-A1EF-C2E53BC6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0FA9-7FE3-493C-9864-35AC465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1951-C916-4C98-B233-EF95D6F1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AB2-419B-4515-9B39-A4A28A7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B13-40F9-4876-8023-9DDE5BDF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B715-2BAE-42A1-B0D4-FB2DCC5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BA5-FE96-42DC-82AD-521736E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60C-11EC-427A-A988-3EBF6D6D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044B-0C13-41C6-9264-2936570C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38A-CE56-46F6-95BD-E4A0FD81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515-0F06-4C96-845A-D3EF7890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314-7B8F-4928-9486-FD6BD1E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E20-E9ED-4CDD-ABA1-479E533D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D40-D11F-4C07-98C5-E4B4DEA2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4C6-8B87-42AB-9BF5-285D25F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801-476F-453C-BC6D-78E6F33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31F-86A0-4948-A6F8-AC3A9A2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E5B4-874A-458C-8258-D6CADCB08E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309F-5E76-42D3-A99C-574FD1AB1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Harknes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0 – VOAVONO TOY NY OLON-DRA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0 – VOAVONO TOY NY OLON-DRAT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no toy ny olon-drats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an-kazo fij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etany ny latsa sy ny 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angirifir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0 – VOAVONO TOY NY OLON-DRAT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ROD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panjak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monje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0 – VOAVONO TOY NY OLON-DRAT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isy làlana misok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làlana soa ts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han'ny olona vo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rah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0 – VOAVONO TOY NY OLON-DRAT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dresena, azonay anto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mifona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amela anay hiala ami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mi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8:53:44Z</dcterms:modified>
  <cp:revision>35</cp:revision>
  <dc:subject/>
  <dc:title>Tiona Advantista</dc:title>
</cp:coreProperties>
</file>