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01C3-CACB-45C0-8A7F-E5F5B438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1AAB-B07E-45B3-9C43-87FE62FD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C4C-0973-4059-A6E9-1FCB9B28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255-B52F-4508-B915-718BABB1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71F2-7E96-451B-BDDE-6BC02909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D449-F930-4B5B-AC98-DB938672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C98A-9FD5-4297-8058-8A94FE4D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6BBA-B33B-4062-8DC3-9564F2DB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BE4E-04BA-4871-BCCD-BE397EFD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42BD-8EDE-4233-A088-F65294FF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918A-4913-485F-B5B8-015D1FDD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8916-1129-49B5-9663-9AD391E5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9C56-2138-44C2-9C96-F8BCC967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136D-2C14-4942-83A6-5BC5A26C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02EE-12CD-4F34-B839-A9FA4C3B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607D-C4B7-4223-9072-8F9AE630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551F-2833-4AFC-8E8E-32B93646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C22-9A40-423D-8B26-8B519181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60F-8F5C-44E3-809E-33BEB0FB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736-050B-4E70-8982-9070A62E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8075-C0F6-4094-B848-89B2C885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EC3-4465-491C-B0B0-8CFA7E0F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888-8FB8-4833-9462-4F2179F5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632-ED66-44CB-863F-8A43F4E5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9A75-BC6E-483B-BC1D-BDC348D3BD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86DB-064F-4E9E-AEF3-8C870209AD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bebahana - Fiovam-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Andrianaivoravelona zanan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P. P. Bilhor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53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84 – ENDREY NY HAMAROAN’N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63120" y="6453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4 – ENDREY NY HAMAROAN’NY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ey ny hamaroan'ny soa (ny s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menao Ray ho ahy koa ! (tok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iko, he, navot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loko vono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7716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7212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6312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63120" y="6453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4 – ENDREY NY HAMAROAN’NY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Ra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, fa ravo tokoa (tok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ty zanakao voavonjy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velombelona 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7212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7212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6312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63120" y="6453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4 – ENDREY NY HAMAROAN’NY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, azoko tokoa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peral soa, madio sy v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zava-tsoan'ny tan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sy ahoak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7212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7716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6312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63120" y="6453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4 – ENDREY NY HAMAROAN’NY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iko ny hilaz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isavisa re, ry Ra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omezan-d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sy voatonoko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7212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7716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7212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63120" y="6453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ko no hider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saotra sy hanaj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a, ho vonona h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itrakao rehe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4 – ENDREY NY HAMAROAN’NY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7212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7716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7212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6312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09:59:55Z</dcterms:modified>
  <cp:revision>67</cp:revision>
  <dc:subject/>
  <dc:title>Tiona Advantista</dc:title>
</cp:coreProperties>
</file>