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E31-ED2E-4777-A28C-DE0AB123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432-03C8-462D-B228-A9E0806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0DD-3558-43F1-BFAA-BB6B3812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DB4-3E4B-4A8A-BABE-0B43BE1A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7736-CFC1-4D43-9B73-E7EDC705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873-039D-4C35-BA70-73692691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1778-45BF-4D2A-B875-2903D86C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DD0-FC52-4AA6-8819-6B6AA14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2399-7846-431F-A340-FD03E52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94DE-F62A-4EF8-A2F2-B5AEFD1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7773-116B-487A-AFC0-1405D1E9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3B0-0803-4D18-8979-5E3F8D0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0A1D-6D54-4C64-A2FF-7FC2E168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131-A34E-42F5-B63E-125A935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97B7-48A1-438D-B968-B6698EB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32DF-07F6-40DF-9FE7-D4D75F7F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E963-AB6D-4E98-B722-3A6FD36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997-9B16-4191-AAB7-6B8A88A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34C-249E-4C54-8277-2BD4E3F0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F9F-3F71-4371-8732-2C7C62E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5D2-6E57-4BCB-A0E3-5F77D45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58A-22FB-45CB-BD35-D36470C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27C-583B-4F6B-AA32-ED3BE835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3E8-D73C-41B0-A37C-7685D70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D71-B2C9-4072-A6D7-9C5C31779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0864-9C6D-40FC-B0AE-DF93029296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3 – TANTARA M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3 – TANTAR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mami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la ny haizin'ny f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loharan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tantara milaza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3 – TANTAR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Tantarao indray, tanta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Tantar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miko re ! Ka tohizo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ntar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3 – TANTAR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sarobid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iro mitsilo ny d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manadio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n'i Jeso, tantara t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3 – TANTARA MAM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tena so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isotra ny ahi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ndra ilay fiadan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elombelona ny fo s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tantara indray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7:38:53Z</dcterms:modified>
  <cp:revision>90</cp:revision>
  <dc:subject/>
  <dc:title>Tiona Advantista</dc:title>
</cp:coreProperties>
</file>