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075-9366-4296-AD6D-E4304120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F86-349E-4B82-B80F-9BA54CC1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1F7-91B3-4342-BC05-EDE9D156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20B-331A-4E80-ACE8-9AAA43BB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E3B4-BED4-47A1-8B63-204E848D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6D93-1E75-4BCF-A99B-89495B4D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D9DE-9122-48A2-B6F0-650DD749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7101-1D84-4FE8-83C9-E4B47A4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6AFE-6C3A-4967-B8F2-FAFB0CE5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60A5-D9C2-4767-AB59-8A6A0019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5296-3B93-4D21-BA4E-712769A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750-B0CE-4A1F-B9CA-4C231C4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273D-939E-4CFB-A1FF-B049B33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DE1C-4288-40AC-AD28-CA60A7F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094-3ECC-4705-9FC6-9F180CB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108-FE6D-4660-A766-E561DCEA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0A2C-2A55-48B7-89C9-2085F47F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417-4A0D-4597-BACD-DEDA986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9DC-712D-4EB1-9F4E-2432835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53B-C19D-4F66-A458-AE10F65A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9CF-7EF0-4B74-9085-26A484F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0C5-EA55-4DA5-8677-1F3F557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1C6-CC33-4DCA-A751-5E96D29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A56-3748-4D68-8F47-36E64AD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8080-8B70-480F-A2A9-58CE707D15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4DD5-34B6-4E2F-B478-24FF90E734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Wel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6 – JESO,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6 – JESO, JES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 no tiak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mank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anara-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min'ny za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6 – JESO, JES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 deraik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bola ke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indrindra ny 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hiran'ny anj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6 – JESO, JES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 sakaiz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y an-dalan-t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sady ti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ofy 'zay ho ver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6 – JESO, JES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 tompo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iogany dia m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diny har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ilonay tano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 hamba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ia ny mp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y no anja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y tao Golog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6 – JESO, JES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91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13:33Z</dcterms:modified>
  <cp:revision>84</cp:revision>
  <dc:subject/>
  <dc:title>Tiona Advantista</dc:title>
</cp:coreProperties>
</file>