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6C4-2157-4640-BF06-4B109966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C6C-C681-4E53-9F11-D1235E02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6D3-30ED-4F11-9094-ECE7669A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5A3-EA54-4CED-95EF-3A4A6BA7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231F-E6A4-4E11-90A4-FC38EEE1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133-3B7D-4FB5-B139-3549D5F7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825D-19F7-4696-B2BD-E2E985DD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7983-38AC-45A5-8FA5-C62A78F7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AF8C-19CA-4523-ABA4-5A12B967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71C3-AD93-4F6D-9C3D-07CD6DB3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36DF-C59C-4CC4-8252-22743853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614-74CF-4FE9-8317-F6ECCA1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6112-8B1E-4B4D-87B9-609ED3D6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D704-409B-449C-96EC-FD7ACBA9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CAD6-B4B7-4ADE-B4B7-451BF396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AD2D-85A1-4E3D-9C07-A1428018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F853-F983-4B3A-A24B-3139293A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75F-78E1-4964-8AD2-C148CB7B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DE3-A8CF-4565-8B4E-AE51EDEC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020-83E9-4F20-972D-C7DA7C61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6BE-3087-4B2F-9613-C1441F30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883-FB33-49AE-896A-FAFFD97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92D-C2F0-466C-AB10-D4513BED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AB8-1236-4124-A252-1922BAA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1392-3226-4EC1-8EA1-45D7124A90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D644-0FBF-41E7-AA80-267486D4D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60 - AN-TANANAO, RY RAY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A. H. Ack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HL29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60 - AN-TANANAO, RY RA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-tananao, ry Ray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ainak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zony aho tsy hi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mahatok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60 - AN-TANANAO, RY RA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a saro-dàlana na m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raka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ny, isan'andro, isan'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eo an-tananao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60 - AN-TANANAO, RY RA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e! Fantatrao ny fahaleme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dy mafy 'zay manj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takona aminao ny sen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hano ny fino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60 - AN-TANANAO, RY RA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toa lavitra ny f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kivy re 'ty z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afio ny herinao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ohy indray ny di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n-tananao, ry Ray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hasambarako 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eo ihany raha hif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dray ny lova soa ar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60 - AN-TANANAO, RY RAY MAL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26120" y="48402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1160" y="52228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35480" y="5634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17120" y="6008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41600" y="447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32:53Z</dcterms:modified>
  <cp:revision>116</cp:revision>
  <dc:subject/>
  <dc:title>Tiona Advantista</dc:title>
</cp:coreProperties>
</file>