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687-DD82-4048-B4D2-1D04C744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849-8D02-4E98-BD60-B11D011D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3FB-E998-47AD-84D3-0CAABE35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CA8-97D8-46D0-A451-0D09F309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C5B8-BBEF-4788-972F-81599D72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1739-2B3C-450B-8B31-76B5EFDE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A973-D0D6-403A-A058-52AB2EF5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ABD2-E164-43CD-BA95-347E3267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65EF-85DA-4C30-AAAB-362A8486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C1C6-3035-42E3-84CC-CC6DC9DA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3AEF-2786-4168-B828-AED0707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07D-6B76-4EE5-B406-1237544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95B-E729-4A2C-AC41-7F43EBE0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C40-815A-41DC-90E8-F6F6274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3643-B6F1-4C1A-A283-AAB58A07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2317-9088-4201-89A5-B3086C8C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D4B7-2DF0-45FF-8E15-D6C75684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428-377E-441F-8903-94F4FAB6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64E-1D12-43A7-B184-CB081E3C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958-200A-46CE-88A8-950314AC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63C-873A-44EE-A203-71EF3648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7A3-178E-4694-B436-331C505A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5D9-B1D9-4EE0-B1B0-EFB4670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320-7442-4E4D-A295-C2A219D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35B-612B-4166-9D78-64EFD0D6F6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D1F8-1F0E-4FAE-B99C-38C7056E58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Gloes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9A – TAZO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9A – TAZ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ah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ilanao,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d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mandrak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mora kivy 'za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tohano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kiro tsy hi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ao misalas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9A – TAZ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ka vari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kafy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adino ny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maf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fa tsara lav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eram-b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ota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29A – TAZ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injovinao ny di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vy sy tant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sehoy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ndraka ny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re ny ta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ndrandrao ny mas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banjina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Kanana 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30:40Z</dcterms:modified>
  <cp:revision>47</cp:revision>
  <dc:subject/>
  <dc:title>Tiona Advantista</dc:title>
</cp:coreProperties>
</file>