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0C98-450E-4AAC-A662-51A12E01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754F-E685-4C4C-848B-EA0256DE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89CA-5BAC-4A1F-990A-16B00298B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537D-8307-49C6-90D3-E579E457C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DD79-26A2-420A-8964-6D0B8337B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37EF-1519-4CA9-8E22-71768BC3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DE34-81EC-4CFA-8E34-9C6E7347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319C-C259-4D5C-9F18-AA709D02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6FF1-850D-4FC3-BC49-A055393E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AA32-C6FF-4D08-A011-6185851F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3662-5599-409E-9967-D4ED99B4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E0C8-5485-4694-A97D-4853C5B1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6E39-35F9-4EBD-A90F-76B6A0B5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BD2E-0694-48F7-8621-5DF85E7D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6040-0FF8-4813-96A3-2882E893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6FE7-DED4-46B2-BFCF-C2245FB0D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3FAF-442D-4983-B14E-9BA1E00C3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8A97-615F-43D2-90FA-69AB7446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5442-8288-497B-A3F4-D6245C6C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6384-A7B9-4D29-B974-306FFC46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9341-7998-42CE-8D39-53E5749B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1E54-5BB6-4CB8-AA03-C8A482F4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EE86-A0C4-4B6A-944A-75C2DFAB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49D7-1586-4D28-AE82-E0E99004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96D3-725E-46CF-9F9A-4663FA41C8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297D-A5C4-46C4-A074-EFBB458A4D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faliana sy Fahatok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23 – JESOSY IRERY NO FAMONJ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23 – JESOSY IRERY NO FAMONJ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irery no famonj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y 'zay, ampy '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no avotra izay ek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y 'zay, ampy '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ny ainy no nafoi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tolony tao Kalv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olom-bery izao antsoi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y 'zay, ampy '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23 – JESOSY IRERY NO FAMONJ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irery no fahendr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y 'zay, ampy 'za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oro-heviny dia hare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y 'zay, ampy 'za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baiboly no manamb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sitrapony mas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ny soan'ny filazan-tsa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y 'zay, ampy 'za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23 – JESOSY IRERY NO FAMONJ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irery no andrandra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y 'zay, ampy 'za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no herin'ny fo sy sa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y 'zay, ampy 'za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ihany no vatolam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mafy tsy mihetsi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fialofana tena am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y 'zay, ampy 'za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08:05:44Z</dcterms:modified>
  <cp:revision>70</cp:revision>
  <dc:subject/>
  <dc:title>Tiona Advantista</dc:title>
</cp:coreProperties>
</file>