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E45-84EF-4DAB-92A0-F3421863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DCA-4E02-4937-AA57-EC735CE9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B1F-AF52-4B47-8DF4-2631F2C9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594-981E-449F-AEA0-569138EF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37A4-AAB1-4598-8F65-D0B154D6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11D2-A251-4F6D-ADA6-D9BCD6DF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26DF-56C1-47AC-8DF3-3B06D4E1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6F84-825C-4AB9-BFCB-23FBC482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6C52-1DBD-4611-B847-B96DAFCE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A333-DDD2-4073-96C1-7448397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48B1-5BD2-49BA-9C32-5D810AE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523-E172-4FF4-9BCF-2DF3E9EF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611B-7C2D-4F13-84FA-E688FD4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21F6-83A8-425B-9A69-9B74C5B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FC57-757B-4678-9A80-01695064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F2A5-C4C8-41C6-AD18-665C1F5D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41ED-65DE-41CB-A959-306A78AF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F52-A165-46F5-B86F-0FBE87B3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02E-9328-4BE1-AFB1-D2CF750D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0C2-BB2B-43F4-B7A5-3A872C3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A92-CFB1-4EE1-A824-75DCA0D2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845-8FDA-4D57-9889-7A5ED0D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C6A-294A-485C-95D3-3CA4B22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76F-CC2E-42A5-BD27-274C0D3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6BE8-0CE9-406B-A3B5-16B435A193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7113-65E2-412A-B452-E64B155554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Bati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D. Randriamampand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5 – ARY RAHA NAD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814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90120" y="63230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5 – ARY RAHA NAD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raha nadeha teny an-dalana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onga teny amin'izay nisy 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oy ilay tandapa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rano (indro ran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nona moa no misakana a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no misakana ah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sakana ahy (no misakana ahy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tao batis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Sylfaen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90120" y="63230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861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65 – ARY RAHA NADE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asainy najanona (ny kalesy), ny kal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izy roa lahy dia Filipo sy ilay tanda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dina (nidina), nidina (nidina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dina teo amin'ny 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atao bati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atao bati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atao bati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atao batisa i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8148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8616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57:27Z</dcterms:modified>
  <cp:revision>49</cp:revision>
  <dc:subject/>
  <dc:title>Tiona Advantista</dc:title>
</cp:coreProperties>
</file>