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72E-A9A1-4FDE-88DB-E8F00C10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F5F-426E-44AC-8846-370E2A63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46E-DC76-4D6B-B92D-62DCB461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DA6-3C5D-44CE-9A42-522083EB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A530-9F60-4017-976E-7CF0DF0F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1938-3FB4-4411-B488-F56977BA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8058-E0D3-4EE8-B97F-B9E3B875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4EB7-6FF8-4C8C-A715-C8D91E95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9180-0287-4353-A5C2-7941361B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7388-CE77-4C0D-B74E-556F95A8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3C3D-29C8-4E18-AF40-465A854D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25FC-DD44-4022-8C1A-86A14EB9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2EC1-EA85-4EFE-8948-98BF4A4D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5216-6BCA-4CA5-97D4-390C2A18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9471-D1E6-458E-87D3-762E09CC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B990-0B22-4328-B084-F0946D9F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8A33-C7DE-42E6-9303-F1C2463A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707-D06D-4FBE-9E49-9D7C77B7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54E-F121-4907-A1BC-81D0B929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022-88CB-45F0-8C09-78C91D28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EE3-C4C4-4D5C-9C62-F52D7C87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CA5-8A17-4FC6-BA23-B65255F1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F14-9627-47B2-BF4C-0FCE9714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F30-5C27-4016-85C6-86D6957D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BD6B-F662-42B1-96E7-32453AD3B2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5476-8130-41D7-8995-30D2FC42B2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sa misiône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H. Gabri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68 – LAZAO ‘LAY TANTARAN’NY V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8 – LAZAO ‘LAY TANTARAN’NY V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 'lay tantaran'ny v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, tena mamiko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 fa Kristy no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 'lay fitiavany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8 – LAZAO ‘LAY TANTARAN’NY V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aran'ny nitiavan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 ! Tantara mamy, o ! Tantara mam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soloana ny hel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Nisoloan'i Jeso 'zao ny helo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Ravo ny fanahy afaka ahi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e ! Ravo re fa afaka ahiahy i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oavonjinao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Fa voavonjinao, eny, ho mandrakiz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8 – LAZAO ‘LAY TANTARAN’NY V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ry an-kavoanan'i Golog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nihombo ho ahy r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lanja ny vesatry ny 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foy tao anaty ali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8 – LAZAO ‘LAY TANTARAN’NY V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 mba ho lazaik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tantara lehib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 mba handre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lom-bery maro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5:48:27Z</dcterms:modified>
  <cp:revision>63</cp:revision>
  <dc:subject/>
  <dc:title>Tiona Advantista</dc:title>
</cp:coreProperties>
</file>