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925-2B29-49CC-BFA9-43648F59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939-0746-4B19-AD18-5AF732D4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B7B-07FA-45EF-A201-2CFA20F0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FE2-28EC-4182-8D87-D0048B03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73F-6203-410F-8C4D-489532DC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82E9-D3E6-408E-A2EF-46CDB0D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E52-079B-406C-BAF1-CC422E5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66B7-3D2B-486A-AFEA-77651887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F48-82CE-4DFE-B929-A14A14C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86A-BE2F-4818-ACF3-B70E725A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902D-8E87-4518-B453-B39858E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749-6DBD-4074-9AF7-5A57D988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451-8C50-4000-B0EC-FD4EB7A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42D-93CE-4D1B-91C9-6E9EC43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195-2A97-48C2-8DE5-95872A74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B9A1-BF95-46B7-908C-03EB780B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8E9-B25C-475C-ADE0-D46663D6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5DE-A647-474B-909E-A37D1A7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FDF-37A6-4226-BA2D-F07916E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C68-3532-42A3-8347-B8D0E23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E15-71EC-424A-A3F6-69BDC21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683-0319-4A5E-9A26-A3150AA4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4FB-E0BA-4260-BF7D-1CA6DC7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C0F-6F36-4031-90A4-CB755B2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796B-E246-42F0-A10A-84D08EF9C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2335-3D5C-4112-94AC-0A341E438F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9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6 - REK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8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R. K. Car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495, DLG3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ko 'zao ny feon'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tso hoe : avi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iso koa ny vokov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raha Ah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7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 , mandra-pahaf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hak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iza hanaba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tsy handa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efa anie ka lala-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ankany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eno tahotra sy r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mitondra mank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7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gamba hafoin'ire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ebahin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lazaina hoe : adal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angirifir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botsoa seseh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Voninahitra sy 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aza soa sy ha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ety hilaozaz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6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7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ô, handeha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'zay nav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bola eto 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iriko : ho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n-dranon'ny bat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hak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androko 'zay s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laniak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8" action="ppaction://hlinksldjump"/>
          </p:cNvPr>
          <p:cNvSpPr/>
          <p:nvPr/>
        </p:nvSpPr>
        <p:spPr>
          <a:xfrm>
            <a:off x="88297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9" action="ppaction://hlinksldjump"/>
          </p:cNvPr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6 - REKO '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panompo maha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ety ka hatrary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Ô! Ampionao ry Z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o tody so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8826120" y="3759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1160" y="4141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35480" y="455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17120" y="492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17120" y="563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17120" y="527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297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41600" y="338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16:28Z</dcterms:modified>
  <cp:revision>110</cp:revision>
  <dc:subject/>
  <dc:title>Tiona Advantista</dc:title>
</cp:coreProperties>
</file>