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9F5-D07B-4569-9BF3-A2B3FE7B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92B-16D4-4469-BD7E-4A37159E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D49-CDDC-42FB-AC1E-544BA0AF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907-13E0-4516-B28D-434D6B1D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475C-9346-41CD-8DA0-1A88E094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6D3E-014A-4B1D-8484-AFB5BC23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8B55-2BD6-4CC8-A4D2-27A335D8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988B-E40C-4C80-9F8D-3AAB34E9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3B84-A137-4C10-8C8B-50C3DA34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973F-C907-401F-B312-55C2BFBD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5D35-F626-441F-8CB9-D84A2133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37B-F83A-409C-8887-F9913FE9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BB41-BA7A-41E9-A0A6-5AFB7CFD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E33C-999E-480A-9D42-8DB62F95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22F5-5B20-4882-BC44-B740E351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B87B-E8BF-4BC9-8D02-66B36152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3BE3-B8A9-460B-A447-9DFC50D2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7A1-3286-45D0-9D5F-56D6E545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819-CD22-411E-9E3D-893B6E05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131-9C68-42D3-823E-C0E33392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F70-568F-46F6-9C8A-CFC1E19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5E1-C653-4580-9358-76A5107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7F9-8E24-47C9-A102-509FE8EC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778-7479-4F33-A324-F20D66B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B2CB-9811-4E2C-9C5D-5CE4E585C2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3DFD-CE40-428E-95A2-EE428FB8E8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mer Rodeheav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6 – HO AVY INDRA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6 – HO AVY INDRA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 Mpanj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handray ny ol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zy izao hanj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inana no atol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6 – HO AVY INDRA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o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o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tse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tamy 'La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jaka Tsit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6 – HO AVY INDRA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 Mpi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y ho hi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izay nanao ny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anao ny sit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6 – HO AVY INDRA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zao he tsy ho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lazao ny hev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katra sa dia havel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 ô ! lazao, ô laz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6:31:34Z</dcterms:modified>
  <cp:revision>37</cp:revision>
  <dc:subject/>
  <dc:title>Tiona Advantista</dc:title>
</cp:coreProperties>
</file>