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6E1-1199-4230-B0F8-CF5023CD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5E7-51AD-4C5B-AE77-461107D8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8E8-0B70-47F7-9863-DE99888E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45A-2A05-4CD1-A151-0BFC4564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4EC8-213D-4098-8AA6-1E5B7EB6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E9D-562F-4D7C-89C5-5AA6243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1A37-46CF-4D84-B2EF-B79E9EA7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FE52-7B68-466B-A773-96D9CFE1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EEF0-8433-4727-9999-2DDB8EE2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35A-FDE4-4D77-85F8-C8CA8EFF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349C-19B8-4C10-B42C-8D43FD1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8F0-C507-407C-A83D-04A1CEC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55BC-27B0-4FD4-9477-3E086C2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DF12-4F26-491A-9E3D-6E7C112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BAD-F06E-46B5-8004-FB7C3E1B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9AA-D449-4900-BA8D-FD9AEBCC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1967-FB55-4A8D-8831-D28DD67E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6A8-406C-4EB8-987B-DDB09305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061-AAC6-4724-AF38-828E7BC8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77A-1AC8-44E5-BAD5-2B15E69C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C77-6B32-4C4E-B7A2-31513CC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E7C-0991-47A3-9C93-9E7ABDC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651-2E2E-45C3-B36E-2C644C6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287-37C6-4561-90FD-D584F7F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B64-7EC6-464C-A69F-38DF86320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CA96-6554-4CD9-80A4-2730EFF91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6 – ERAN’NY TANY S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6 – ERAN’NY TANY S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ran'ny tany sy lanitra izao ny h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nitsangana iz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nitsangana iz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 sy Haleloia 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jaka lehibe, (Mpanja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dresena efa natolotra aho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'zao rehetra izao 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jakany mandrakiz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6 – ERAN’NY TANY S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itsangana tokoa 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velona Jeso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atolotr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tontolo izao ho fanjakany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Ka der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sy laza omenay A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isa ny fiderana avy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06 – ERAN’NY TANY S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santatr'izay efa nodim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ola hatsangana rahatr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ola hatsangana rahatr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fy orina indray ny fino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jaka lehibe (Mpanja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ntenana ho antsika ny fandres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sika izao hitaf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mari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76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8:21:50Z</dcterms:modified>
  <cp:revision>34</cp:revision>
  <dc:subject/>
  <dc:title>Tiona Advantista</dc:title>
</cp:coreProperties>
</file>