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7FE-30DA-48DA-9FBA-1029E7D0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44B-322D-4D89-B7D8-04001869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8B3-4AFD-4B60-A584-3E0452A1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2B8-6CA1-41CA-B5AB-AAC9F993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85EC-AD83-4A04-86BA-F4DC26A1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0386-7764-4EE9-94CE-9DD20BCE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3FCD-3CFB-450F-9DD0-DEFD36ED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8A91-9BDB-4373-8039-0CF42E52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68BD-3CAE-406F-8F35-FAD2A3DD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6663-F17A-4979-B94A-7914E102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8E7C-C546-4E68-96FD-85D2B0D2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AA7-7247-42BE-8CE8-F5C82AD7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A060-CD48-4BE7-A10D-1AFF0BF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ECC8-FA1D-4020-92BC-CFB6DF8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7A4D-4076-4B3F-B9FF-D10280A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36A5-1D0E-45DE-BBFD-53D6C0C8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F67B-E3C0-40FF-963B-6F8E9ACE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DFD-4824-4F5F-B089-05A12037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ECE-19C3-4DD7-9AC0-CF1A22C9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B4D-4654-4F1B-9DEE-6019D40E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874-67EC-47F0-8494-340296DC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CBE-7AC0-4D4C-9FB1-8297FA71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D91-BF85-4693-B607-B9D56776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5D3-6F07-469F-ABB9-E8573AE9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555-B417-42F2-B7E9-4CF34A2154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530-D0D4-492C-B2F4-67FF54DA65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ames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larence Kohimann - Mamy J.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23 – MOA MBA FANTATRAO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3 – MOA MBA FANTATR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mba fantatrao ve 'Lay Sakaiz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iara-dàlana amiko, (ô ami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, hatrany, na aiza na 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lana aleh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3 – MOA MBA FANTATR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Kristy, Ilay Sakaiz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andao ny lapa fah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ao ny lapa fah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nanao izay hahaz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y ny fiain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3 – MOA MBA FANTATR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na ve no sendra ah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zaraiko amin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ana teo ny ahi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ny fiadan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627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3 – MOA MBA FANTATR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tojo fitsap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tsaroana maizina 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làlana mah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eo Jesosy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453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ahy 'rery nefa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y ho Sakaiz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ny lehibe na ny ank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Jeso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3 – MOA MBA FANTATR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9:01:34Z</dcterms:modified>
  <cp:revision>35</cp:revision>
  <dc:subject/>
  <dc:title>Tiona Advantista</dc:title>
</cp:coreProperties>
</file>