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AE0D-2142-49ED-A422-F809A2745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698F-3577-424B-B659-65F963FF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E6FC-3C00-4F12-9BDD-92B7C6CF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B37D-0332-4168-840C-2BB503E6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6BB0-13AE-482F-9826-FD0AB665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AE45-E60A-4325-BC09-A9F902F9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E70C-09CC-4889-998D-9505E65E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109C-2687-4300-9D98-ADE894A8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F221-7B63-4FCE-AA86-C1E466A1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C6B4-A5C2-4B2D-984F-349D2735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CEC7-D96B-4173-AAE1-09E538AE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0C14-12C9-4DBC-8976-F7F4FB06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3775-A407-4B99-BA23-0BE94768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65B8-B7E8-4AE9-BD8D-BE21AFE9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F93E-A0F5-49A0-AB25-4B169552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A244-A3EE-4E3F-A002-505E5104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36A3-2931-41EE-98F9-B5942779D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C5B4-D218-42FB-B787-55D4DFBC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2904-5E3E-4A66-B1A4-28DBE7A3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E923-6E49-4773-9ED9-7CD482FD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A35F-C472-4343-8601-0B675905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61A2-1A9D-4FFD-AA05-3DB055A9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2800-A5F4-48A0-ADE7-A85836C5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4032-C3BD-4AC3-8DB8-B9989EF4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5887-20AB-485B-BF77-819916969C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A561-6A80-4860-94FF-A1C41EE842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NA SAMY HAF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arai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J. Rah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I. D. Sanke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36 – MAZAVA SY MAMIR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36 – MAZAVA SY MAMIRA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zava sy mamiratra aok'iz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asoandro raha mipos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inda izao ny haizina an-t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zava soa no injay mirots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628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578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488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480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36 – MAZAVA SY MAMIRA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nga ao am-po Jesosiko malal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azavana ahy hatr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amonjy soa tsy mba manan-tsah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ondra toky, hery, aim-bao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578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578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488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36 – MAZAVA SY MAMIRA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vo tokoa ny fo raha isan'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monina ao 'Lay Tompo Lehi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Kristy Ilay Maso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elona fanahy ka 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« O, endrey 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578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628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488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8480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36 – MAZAVA SY MAMIRA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hasambarana fen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fifaliana safonono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biteby, ahiahy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ao am-po Jeso dia af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578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628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578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8480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toa saron-drahona ny 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isy ady tena saro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kiko dia Ilay Masoandr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nga ao am-po hanala taho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36 – MAZAVA SY MAMIRA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578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628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578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488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480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8T08:27:30Z</dcterms:modified>
  <cp:revision>75</cp:revision>
  <dc:subject/>
  <dc:title>Tiona Advantista</dc:title>
</cp:coreProperties>
</file>