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9FC-EA74-44B1-AB05-16029625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122-0FC1-44CA-A661-E85D41E4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DCF-2651-4ECE-B679-B1897834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644-981D-4F99-B8B1-C6738A61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9A81-45E3-4FD5-814E-EE7C6B4D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18FB-D015-4827-9B90-354714AF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4FE3-58AD-4142-A759-B45F7790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0933-7666-46EE-8C48-82C8EFCC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616A-FC2A-4120-9FB2-F92CAAF9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FEA9-9DA4-4450-8194-993B8C0A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E035-38BE-43AB-8B07-8D43C02B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B63-5AF4-4A79-A274-6B171728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3E07-C101-4EE1-BB8B-A04B0DEB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38AE-EA37-473C-9EBA-17B621C3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DDDD-1EEC-4E17-BD0E-FC96CC3F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25F7-29E5-44A0-9253-E465D3EC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4695-7A61-4EAA-B541-F35B0171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89D-9CF7-4F73-A2CF-7A7BE204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823-8435-4B92-9015-8D6AF13D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399-2E4F-49D9-AAE5-0F98DE7A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2C4-5AF0-4A3F-812E-72799092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C22-EBA2-4965-A72E-88CD5640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54B-2699-4AFF-9832-40667424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DC8-2517-4B1F-9BC7-4B55CF90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B23E-8FF1-4BE4-A408-0F531B24C9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5384-B13E-4647-9346-C895AFBB96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Humbert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15, DLG09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42 – HE, NY ANTSO MAF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2 – HE, NY ANTSO MAFY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ny antso maf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! Henoy, ô! Heno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Ilay Mpanjak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-drah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jay ny trômp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! Henoy, ô! Heno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nga ny fetra izay nandras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2 – HE, NY ANTSO MAFY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eo anjely mar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! Henoy, ô! Heno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ndray mihira ho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inahit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feo maharav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! Henoy, ô! Heno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no ny a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a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2 – HE, NY ANTSO MAFY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izao ny Tom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! Henoy, ô! Heno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faly ny fo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lazao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tsy tere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izao, Iz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omana hits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y am-po mad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8:45:05Z</dcterms:modified>
  <cp:revision>36</cp:revision>
  <dc:subject/>
  <dc:title>Tiona Advantista</dc:title>
</cp:coreProperties>
</file>