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109-980B-49DB-B9B8-847A8E6F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C70-C294-4593-BCD3-E1AEB672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C28-0C22-4C10-8E76-BB079C53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8EFA-C2C1-481C-A3E6-A2409F68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9C92-FD7F-43B6-AFFC-85F4626D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F97B-DEB8-40D6-88CA-8CA72DBB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225D-3480-46D8-89D5-D96D7192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491E-240E-4389-ABB9-CACDDB84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60B3-1117-4475-A9E4-C0B30CB7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2D65-199F-4838-BBEF-322CF055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2094-F57D-40FF-B1BE-B83452E7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709-37DA-46C1-8441-EF82F016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065A-6701-4E02-9BD6-927FD921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0A55-FA5D-42C3-ADEF-1FD252BC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04DD-99DA-4705-ABE3-9D94FC40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8F8B-A214-4F13-8F3A-1189A5AF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9FAB-786D-41BD-A2B0-CCADC76C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286-C46D-4339-8BE8-18F21060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CF3-7DC6-4396-94E9-798A9469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937F-4264-4F9D-8330-2F10113E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AB2-24BF-4D87-9831-F6E0F84F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C189-2C81-4F4C-A4AE-85C8F0CB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5F8-9572-4479-835D-2DB5C107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66A-05CD-4C52-9D22-1CD91E6B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95CF-A25F-4E76-872B-AD0292D743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495A-ED0E-4610-A98A-E945954BEC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B. Wil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10 – MOA MBOLA MIV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0 – MOA MBOLA MIVO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mbola mivoha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ravara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ola azo atao ve hiditra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ho lavi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mbola misy ny indra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ny mahantra toy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ola misy sombin-t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ty ho azoko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0 – MOA MBOLA MIVO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mbola tia ahy ve n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efa diso b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a va Izy mba ha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bebaka 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efa lasa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dro mety hifo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efa tapitra amin'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ora fanatona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10 – MOA MBOLA MIVO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y mpanota avi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, manat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danadana hidi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aravara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mindrampo, famelan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mena izay torotoro f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oa an-danitra be dia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fa anao avok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8:26:40Z</dcterms:modified>
  <cp:revision>61</cp:revision>
  <dc:subject/>
  <dc:title>Tiona Advantista</dc:title>
</cp:coreProperties>
</file>