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B34-4687-4B85-88A6-98AEDB66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2F9A-7D07-469C-BE15-CAB3D2D6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370-A7CE-4DF9-B030-B8483400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28B-0A67-4D60-AEF2-63FF2F49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C68D-E44A-440A-A290-3D94FFF5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432E-7CF7-4562-B39A-DD8CF89B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20EA-DDA2-4B62-A5C2-FC12BED7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0BB6-3320-48BE-BD33-5A2DD40A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A6AA-7D62-400F-AB8D-C801624D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A730-6639-4C85-870D-77B2DCCD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BE4D-9FDA-494F-B2E2-DA34643B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8FD1-8D9E-4BFB-B926-DDF90B75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F824-7A78-4EF9-A251-0A5361CD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0847-BB47-40FA-A5C8-EE9B9AE1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D1C2-2B22-48BD-93C3-6C39A052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044F-C00F-4311-9AFC-601D570C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5413-8735-4D2E-A3B7-CB9B5D53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DC2A-9A72-4C14-9D6A-A400E9BD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218-0F6A-4EDD-8851-630FB93E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C14F-F879-42AB-97F6-361BC941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8993-E3B3-4E27-AE41-A79C3373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97AB-3756-4AEF-B705-ACAF30D6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31E4-A29C-4A36-82B2-D519AACF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73C-9118-4A50-B911-50DD996F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936C-FDDF-4657-AD4A-A5A041E097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CD26-0CC3-4490-A71C-FEFB00BA03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bebahana - Fiovam-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oseph Yates Peek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90 – HO MARIN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0 – HO MARI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arina aho satria itok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dio aho, fa ao ‘reo mievitr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ery aho, ny sarotra sedra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anjaka aho, na inona hanj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anjaka aho, na inona hanj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0 – HO MARI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namana aho, tsy hanam-pahava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me aho, amim-pitiav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etry tena, tsy hizahoz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ndrandra aho, hitsiky sy ho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ndrandra aho, hitsiky sy h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90 – HO MARI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natra isan'andro isan'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esona omen'ny Raiko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haino ny feony malefak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vonona hanao 'zay reko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vonona hanao 'zay reko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10:38:06Z</dcterms:modified>
  <cp:revision>67</cp:revision>
  <dc:subject/>
  <dc:title>Tiona Advantista</dc:title>
</cp:coreProperties>
</file>