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0EA4-FE9A-4962-80AA-61A32F04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3120-53D9-4873-8BAC-BB863746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6D2-5EDE-4708-A25B-6A21A60A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D8A0-FE04-4DA6-809C-4AB58B7B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14F3-1EC3-46A1-ACC1-5FA9FCF1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5B1C-A6CD-40CD-B9DA-2100B1B5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FDB6-6591-41BD-9804-FF0630BB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36DD-B71B-4B61-88B2-AA746989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AAF6-5508-48A3-ACA5-4BB9425A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9141-B14A-4A73-94F2-9D861B00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32CE-FA45-480D-BD79-98043AF8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4B1-7E26-4308-87A5-83A76B08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3CA4-3D6C-4150-B87E-134829F4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7F35-D603-4AA4-AD5D-5E332BA0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148E-01EE-4EE9-BF3A-38DBD565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3B16-A59A-4705-BE6A-23545D30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12BA-6AE0-4D19-9CB4-92204DE0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CF2-FCF2-4FC1-9DF9-DE0D6275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AE7F-A544-4DA3-882A-63755D0E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B12C-E63E-46FE-83B3-14EBF3BD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9C2E-30CF-41B2-BA10-6EAFE71B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2380-BDA7-47B9-BAC8-32E673F4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176B-D818-4E14-9B1E-4722A167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B93-1194-4CA6-8D28-E0899D01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66D0-2950-4E23-AA2A-26B5B4CDE7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90E0-FCA9-4790-A76F-BC414101C4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93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ZA MBA MANDALO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Vonjy sy Fampiono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Ramboa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FFPM5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3 - AZA MBA MANDALO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za mba mandalo 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Mpamonj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za mba manary 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3 - AZA MBA MANDALO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ffffff"/>
                </a:solidFill>
                <a:latin typeface="Corbel"/>
              </a:rPr>
              <a:t>Ry Mpanjaka, mihainoa r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ffffff"/>
                </a:solidFill>
                <a:latin typeface="Corbel"/>
              </a:rPr>
              <a:t>Mamonje fa mitar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ffffff"/>
                </a:solidFill>
                <a:latin typeface="Corbel"/>
              </a:rPr>
              <a:t>Ny vaho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3 - AZA MBA MANDALO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ntatrao fa malahe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mpanompo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mbola eto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tsinjov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3 - AZA MBA MANDALO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ndro ! Fa miandry e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navot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oka tsy mba halahel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falio iz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ny, manomeza 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ho ahy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hahery sy handre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mpanompo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3 - AZA MBA MANDALO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5:00:22Z</dcterms:modified>
  <cp:revision>117</cp:revision>
  <dc:subject/>
  <dc:title>Tiona Advantista</dc:title>
</cp:coreProperties>
</file>