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C0D1-BA2E-4307-9C01-207F8ABB8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01B2-CF97-44CD-8936-2C1B06E87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9135-E65F-4947-8680-3C0249FEF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B92F-6EFB-4D8E-8360-CD6A312AA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66680-50C7-47AD-A05C-D0ECE5988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72D5D-D670-45C5-8221-8FA619546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8F662-1404-4E7D-8BC9-8D041300A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352FA-3889-4AC1-91CE-72438CDF4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7BD94-EB3E-4936-80CE-CA30A2EFD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6B5CD-9643-4C30-87C9-C1FC89014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376F4-BE07-4FCF-9EA8-893564C35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8BF3-0AED-4502-ADE0-EE1AFCEC4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934CE-0D08-4FCD-8037-3FAEF2E09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5FEE8-4E88-4660-844D-7450B7D59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9B125-9D0F-4407-836B-411C72B12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4F7E4-1C9C-4CB1-96D1-9A132BE71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088D8-1040-4A8C-8F57-F12375532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C768-7CAC-40B1-8232-E1B31AA3F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26A2-1D0E-4E29-9553-0F7270D82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9AB8-D5C3-40A0-8CA2-CC7F1A438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160F-2F20-451E-8F8B-E0AC06189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7F45-2F26-4C09-89D1-E5ABB06C6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FE40-5CEE-49EC-8AE8-87A82FD0D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788A-A6F6-44D2-B69D-1B506A8F6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DE3EF-A011-47D9-9CD8-3E6F3741F45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FA1BD-CCBF-4DEE-87D1-2D2F07AA1A9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" Target="slide2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" Target="slide6.xml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NY FIANGON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Hafatra farany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G. Raharinjatovo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G. Raharinjatov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290 – FEO MIANTSO MAF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57800" y="4809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62840" y="51912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66440" y="5572080"/>
            <a:ext cx="30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848800" y="59529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">
            <a:hlinkClick r:id="rId6" action="ppaction://hlinksldjump"/>
          </p:cNvPr>
          <p:cNvSpPr/>
          <p:nvPr/>
        </p:nvSpPr>
        <p:spPr>
          <a:xfrm>
            <a:off x="884880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90 – FEO MIANTSO MAF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eo miantso maf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e anivon-dani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nao hoe : &lt;&lt;Matahora an'Andriamani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y miankohofa tsara eo anatreha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efa nanomboka ny fitsaràny&gt;&gt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2" action="ppaction://hlinksldjump"/>
          </p:cNvPr>
          <p:cNvSpPr/>
          <p:nvPr/>
        </p:nvSpPr>
        <p:spPr>
          <a:xfrm>
            <a:off x="8862840" y="51912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3" action="ppaction://hlinksldjump"/>
          </p:cNvPr>
          <p:cNvSpPr/>
          <p:nvPr/>
        </p:nvSpPr>
        <p:spPr>
          <a:xfrm>
            <a:off x="8866440" y="5572080"/>
            <a:ext cx="30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rId4" action="ppaction://hlinksldjump"/>
          </p:cNvPr>
          <p:cNvSpPr/>
          <p:nvPr/>
        </p:nvSpPr>
        <p:spPr>
          <a:xfrm>
            <a:off x="8848800" y="59529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>
            <a:hlinkClick r:id="rId5" action="ppaction://hlinksldjump"/>
          </p:cNvPr>
          <p:cNvSpPr/>
          <p:nvPr/>
        </p:nvSpPr>
        <p:spPr>
          <a:xfrm>
            <a:off x="884880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>
            <a:hlinkClick r:id="" action="ppaction://hlinkshowjump?jump=firstslide"/>
          </p:cNvPr>
          <p:cNvSpPr/>
          <p:nvPr/>
        </p:nvSpPr>
        <p:spPr>
          <a:xfrm>
            <a:off x="8848080" y="4378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90 – FEO MIANTSO MAF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enonao </a:t>
            </a:r>
            <a:r>
              <a:rPr b="0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(ve)</a:t>
            </a: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 ny hafa-dehibe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tsangàna izao, mihazavà i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alà amin'ny ot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(Ialao, ialao ny otanao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avy indray ny Tompo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(Tomponao)</a:t>
            </a: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 </a:t>
            </a:r>
            <a:r>
              <a:rPr b="1" i="1" lang="fr-FR" sz="36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fr-FR" sz="3600" spc="-1" strike="noStrike" u="sng">
                <a:solidFill>
                  <a:srgbClr val="00ccff"/>
                </a:solidFill>
                <a:uFillTx/>
                <a:latin typeface="Symbol"/>
                <a:ea typeface="Symbol"/>
                <a:hlinkClick r:id="rId2" action="ppaction://hlinksldjump"/>
              </a:rPr>
              <a:t>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3" action="ppaction://hlinksldjump"/>
          </p:cNvPr>
          <p:cNvSpPr/>
          <p:nvPr/>
        </p:nvSpPr>
        <p:spPr>
          <a:xfrm>
            <a:off x="8857800" y="4809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rId4" action="ppaction://hlinksldjump"/>
          </p:cNvPr>
          <p:cNvSpPr/>
          <p:nvPr/>
        </p:nvSpPr>
        <p:spPr>
          <a:xfrm>
            <a:off x="8866440" y="5572080"/>
            <a:ext cx="30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>
            <a:hlinkClick r:id="rId5" action="ppaction://hlinksldjump"/>
          </p:cNvPr>
          <p:cNvSpPr/>
          <p:nvPr/>
        </p:nvSpPr>
        <p:spPr>
          <a:xfrm>
            <a:off x="8848800" y="59529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>
            <a:hlinkClick r:id="rId6" action="ppaction://hlinksldjump"/>
          </p:cNvPr>
          <p:cNvSpPr/>
          <p:nvPr/>
        </p:nvSpPr>
        <p:spPr>
          <a:xfrm>
            <a:off x="884880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848080" y="4378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90 – FEO MIANTSO MAF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ISAN’ANDININY (tohiny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 ! Miomàna i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(Miomàna, miambena, sao neninao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ankatoavana sy ny fino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(Fankatoavana sy finoana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</a:t>
            </a:r>
            <a:r>
              <a:rPr b="0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(tsenao)</a:t>
            </a: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 tsenao ny Tompo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ho avy tsy ho el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vy handray 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rId2" action="ppaction://hlinksldjump"/>
          </p:cNvPr>
          <p:cNvSpPr/>
          <p:nvPr/>
        </p:nvSpPr>
        <p:spPr>
          <a:xfrm>
            <a:off x="8857800" y="4809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>
            <a:hlinkClick r:id="rId3" action="ppaction://hlinksldjump"/>
          </p:cNvPr>
          <p:cNvSpPr/>
          <p:nvPr/>
        </p:nvSpPr>
        <p:spPr>
          <a:xfrm>
            <a:off x="8848800" y="59529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>
            <a:hlinkClick r:id="rId4" action="ppaction://hlinksldjump"/>
          </p:cNvPr>
          <p:cNvSpPr/>
          <p:nvPr/>
        </p:nvSpPr>
        <p:spPr>
          <a:xfrm>
            <a:off x="884880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>
            <a:hlinkClick r:id="" action="ppaction://hlinkshowjump?jump=firstslide"/>
          </p:cNvPr>
          <p:cNvSpPr/>
          <p:nvPr/>
        </p:nvSpPr>
        <p:spPr>
          <a:xfrm>
            <a:off x="8848080" y="4378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90 – FEO MIANTSO MAF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eo miantso maf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ba ho fitsahara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min'ny Babilona fihemor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Jesosy Mpiandry tsara hsaka ny ondr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sy fitoerana 'zay namboar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857800" y="4809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862840" y="51912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>
            <a:hlinkClick r:id="rId2" action="ppaction://hlinksldjump"/>
          </p:cNvPr>
          <p:cNvSpPr/>
          <p:nvPr/>
        </p:nvSpPr>
        <p:spPr>
          <a:xfrm>
            <a:off x="8866440" y="5572080"/>
            <a:ext cx="30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>
            <a:hlinkClick r:id="rId3" action="ppaction://hlinksldjump"/>
          </p:cNvPr>
          <p:cNvSpPr/>
          <p:nvPr/>
        </p:nvSpPr>
        <p:spPr>
          <a:xfrm>
            <a:off x="884880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>
            <a:hlinkClick r:id="" action="ppaction://hlinkshowjump?jump=firstslide"/>
          </p:cNvPr>
          <p:cNvSpPr/>
          <p:nvPr/>
        </p:nvSpPr>
        <p:spPr>
          <a:xfrm>
            <a:off x="8848080" y="4378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eo miantso maf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fampitandrem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ifarana ny androm-pahasoav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zay tsy mety mino no ho helohi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enao ve ny antso ka tsy hanoina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90 – FEO MIANTSO MAF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857800" y="4809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862840" y="51912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866440" y="5572080"/>
            <a:ext cx="30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848800" y="59529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>
            <a:hlinkClick r:id="" action="ppaction://hlinkshowjump?jump=firstslide"/>
          </p:cNvPr>
          <p:cNvSpPr/>
          <p:nvPr/>
        </p:nvSpPr>
        <p:spPr>
          <a:xfrm>
            <a:off x="8848080" y="4378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5T05:42:10Z</dcterms:modified>
  <cp:revision>57</cp:revision>
  <dc:subject/>
  <dc:title>Tiona Advantista</dc:title>
</cp:coreProperties>
</file>