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EF1-4948-4EA8-9F27-7981F33B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C9A-0AA7-4894-BB8C-A02F0473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4B14-CDB6-4A1B-B4EC-ECD60277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FB9-CA0B-431A-A29E-52BB9478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15EE-F85A-4B54-AFB4-692D8688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35B3-C9F5-49DE-9DFE-A9260864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19CC-413E-44BC-802E-25DC68F2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C9CD-76AE-4CF8-AE1C-5813FF8E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2695-6788-456E-9A49-74380ACD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697A-4D07-4806-9D54-E43B786E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6078-495B-47AE-9A0B-C28B7A57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502-8BE1-45AD-9908-B23C7573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07FB-0C5E-4704-84A7-197FE362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DA64-2D2A-4106-89D3-1A2DAE1E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0852-6A0F-4BB4-8725-B05D513A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9AAE-72D1-47F4-BB2B-B5F3FCCA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2F56-AC03-4F12-B4E3-691E0428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1EA-5A57-448C-B9D6-EBA484B4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6CC-1AC4-40B5-B4A9-0FED8077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5E4-9B08-4940-8B5D-EC7BE9B7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8343-2A09-4E08-A83A-DD24BC87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0A3A-A7F4-4DD8-8FCF-2478CAA4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C23E-7065-45B7-8F9A-659677DF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02B-701F-4F17-A3DF-5C3E9FD2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BB7C-E0DD-496E-A14F-60A4292CBF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3CAB-1C72-4119-BDD1-CEAEF173E9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9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9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. Ravoninjatovo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53 – MISAORA AN’I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8080" y="37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6720" y="415440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453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9080" y="4916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48800" y="64231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e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39080" y="5300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8" action="ppaction://hlinksldjump"/>
          </p:cNvPr>
          <p:cNvSpPr/>
          <p:nvPr/>
        </p:nvSpPr>
        <p:spPr>
          <a:xfrm>
            <a:off x="8839080" y="5684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9" action="ppaction://hlinksldjump"/>
          </p:cNvPr>
          <p:cNvSpPr/>
          <p:nvPr/>
        </p:nvSpPr>
        <p:spPr>
          <a:xfrm>
            <a:off x="8853480" y="607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3 – MISAORA A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50880"/>
            <a:ext cx="914400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aora an'i Jehova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ry fanah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aora an'i Jehova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o, derao ny T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ahiany rehetr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intsaino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indra fo sy mihantr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Mpamonjiko.</a:t>
            </a:r>
            <a:r>
              <a:rPr b="1" i="1" lang="fr-FR" sz="36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8856720" y="415440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8857800" y="453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5" action="ppaction://hlinksldjump"/>
          </p:cNvPr>
          <p:cNvSpPr/>
          <p:nvPr/>
        </p:nvSpPr>
        <p:spPr>
          <a:xfrm>
            <a:off x="8839080" y="4916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8848800" y="64231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7" action="ppaction://hlinksldjump"/>
          </p:cNvPr>
          <p:cNvSpPr/>
          <p:nvPr/>
        </p:nvSpPr>
        <p:spPr>
          <a:xfrm>
            <a:off x="8839080" y="5300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8" action="ppaction://hlinksldjump"/>
          </p:cNvPr>
          <p:cNvSpPr/>
          <p:nvPr/>
        </p:nvSpPr>
        <p:spPr>
          <a:xfrm>
            <a:off x="8839080" y="5684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9" action="ppaction://hlinksldjump"/>
          </p:cNvPr>
          <p:cNvSpPr/>
          <p:nvPr/>
        </p:nvSpPr>
        <p:spPr>
          <a:xfrm>
            <a:off x="8853480" y="607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8833680" y="33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3 – MISAORA A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50880"/>
            <a:ext cx="914400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an'iJehovah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bola miain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an'i Jehovah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bola miain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ny fe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'zay ol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ny f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o ny anar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8848080" y="37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8857800" y="453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8839080" y="4916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8848800" y="64231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8839080" y="5300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8839080" y="5684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8853480" y="607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8833680" y="33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3 – MISAORA A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79320"/>
            <a:ext cx="9144000" cy="62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alia ry zatov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itrakao 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sitraky n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ifalia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re tsarov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Mpana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Atolory A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nao izao.</a:t>
            </a:r>
            <a:r>
              <a:rPr b="1" i="1" lang="fr-FR" sz="36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rId3" action="ppaction://hlinksldjump"/>
          </p:cNvPr>
          <p:cNvSpPr/>
          <p:nvPr/>
        </p:nvSpPr>
        <p:spPr>
          <a:xfrm>
            <a:off x="8848080" y="37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4" action="ppaction://hlinksldjump"/>
          </p:cNvPr>
          <p:cNvSpPr/>
          <p:nvPr/>
        </p:nvSpPr>
        <p:spPr>
          <a:xfrm>
            <a:off x="8856720" y="415440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5" action="ppaction://hlinksldjump"/>
          </p:cNvPr>
          <p:cNvSpPr/>
          <p:nvPr/>
        </p:nvSpPr>
        <p:spPr>
          <a:xfrm>
            <a:off x="8839080" y="4916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6" action="ppaction://hlinksldjump"/>
          </p:cNvPr>
          <p:cNvSpPr/>
          <p:nvPr/>
        </p:nvSpPr>
        <p:spPr>
          <a:xfrm>
            <a:off x="8848800" y="64231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7" action="ppaction://hlinksldjump"/>
          </p:cNvPr>
          <p:cNvSpPr/>
          <p:nvPr/>
        </p:nvSpPr>
        <p:spPr>
          <a:xfrm>
            <a:off x="8839080" y="5300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8" action="ppaction://hlinksldjump"/>
          </p:cNvPr>
          <p:cNvSpPr/>
          <p:nvPr/>
        </p:nvSpPr>
        <p:spPr>
          <a:xfrm>
            <a:off x="8839080" y="5684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9" action="ppaction://hlinksldjump"/>
          </p:cNvPr>
          <p:cNvSpPr/>
          <p:nvPr/>
        </p:nvSpPr>
        <p:spPr>
          <a:xfrm>
            <a:off x="8853480" y="607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8833680" y="33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3 – MISAORA A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50880"/>
            <a:ext cx="914400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izay ny alahe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andos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ifalia mandrakariv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mifal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ny fe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o ny hatsar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ny fe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o ny anar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48080" y="37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856720" y="415440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857800" y="453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8848800" y="64231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8839080" y="5300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8839080" y="5684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8" action="ppaction://hlinksldjump"/>
          </p:cNvPr>
          <p:cNvSpPr/>
          <p:nvPr/>
        </p:nvSpPr>
        <p:spPr>
          <a:xfrm>
            <a:off x="8853480" y="607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833680" y="33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413000"/>
            <a:ext cx="91440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50880"/>
            <a:ext cx="914400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endra ka manjomb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 ny lani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Matokia ih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sy lav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ondran'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fina am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dia nike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hasoa anao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53 – MISAORA A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3" action="ppaction://hlinksldjump"/>
          </p:cNvPr>
          <p:cNvSpPr/>
          <p:nvPr/>
        </p:nvSpPr>
        <p:spPr>
          <a:xfrm>
            <a:off x="8848080" y="37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4" action="ppaction://hlinksldjump"/>
          </p:cNvPr>
          <p:cNvSpPr/>
          <p:nvPr/>
        </p:nvSpPr>
        <p:spPr>
          <a:xfrm>
            <a:off x="8856720" y="415440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5" action="ppaction://hlinksldjump"/>
          </p:cNvPr>
          <p:cNvSpPr/>
          <p:nvPr/>
        </p:nvSpPr>
        <p:spPr>
          <a:xfrm>
            <a:off x="8857800" y="453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6" action="ppaction://hlinksldjump"/>
          </p:cNvPr>
          <p:cNvSpPr/>
          <p:nvPr/>
        </p:nvSpPr>
        <p:spPr>
          <a:xfrm>
            <a:off x="8839080" y="4916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rId7" action="ppaction://hlinksldjump"/>
          </p:cNvPr>
          <p:cNvSpPr/>
          <p:nvPr/>
        </p:nvSpPr>
        <p:spPr>
          <a:xfrm>
            <a:off x="8848800" y="64231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rId8" action="ppaction://hlinksldjump"/>
          </p:cNvPr>
          <p:cNvSpPr/>
          <p:nvPr/>
        </p:nvSpPr>
        <p:spPr>
          <a:xfrm>
            <a:off x="8839080" y="5684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9" action="ppaction://hlinksldjump"/>
          </p:cNvPr>
          <p:cNvSpPr/>
          <p:nvPr/>
        </p:nvSpPr>
        <p:spPr>
          <a:xfrm>
            <a:off x="8853480" y="607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833680" y="33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53 – MISAORA A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79320"/>
            <a:ext cx="9144000" cy="62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 (tohiny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danana, fiada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fitah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lahelo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dy fifal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ny fe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o ny hatsar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ny fe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o ny anar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8848080" y="37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8856720" y="415440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4" action="ppaction://hlinksldjump"/>
          </p:cNvPr>
          <p:cNvSpPr/>
          <p:nvPr/>
        </p:nvSpPr>
        <p:spPr>
          <a:xfrm>
            <a:off x="8857800" y="453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5" action="ppaction://hlinksldjump"/>
          </p:cNvPr>
          <p:cNvSpPr/>
          <p:nvPr/>
        </p:nvSpPr>
        <p:spPr>
          <a:xfrm>
            <a:off x="8839080" y="4916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rId6" action="ppaction://hlinksldjump"/>
          </p:cNvPr>
          <p:cNvSpPr/>
          <p:nvPr/>
        </p:nvSpPr>
        <p:spPr>
          <a:xfrm>
            <a:off x="8848800" y="64231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>
            <a:hlinkClick r:id="rId7" action="ppaction://hlinksldjump"/>
          </p:cNvPr>
          <p:cNvSpPr/>
          <p:nvPr/>
        </p:nvSpPr>
        <p:spPr>
          <a:xfrm>
            <a:off x="8839080" y="5300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rId8" action="ppaction://hlinksldjump"/>
          </p:cNvPr>
          <p:cNvSpPr/>
          <p:nvPr/>
        </p:nvSpPr>
        <p:spPr>
          <a:xfrm>
            <a:off x="8853480" y="607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8833680" y="33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3 – MISAORA A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50880"/>
            <a:ext cx="914400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anie ho a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ela intson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ndra famonj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ireo ol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oa tsy ho fal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indra 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mpo avel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sa ao am-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8848080" y="37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8856720" y="415440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8857800" y="453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rId5" action="ppaction://hlinksldjump"/>
          </p:cNvPr>
          <p:cNvSpPr/>
          <p:nvPr/>
        </p:nvSpPr>
        <p:spPr>
          <a:xfrm>
            <a:off x="8839080" y="4916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>
            <a:hlinkClick r:id="rId6" action="ppaction://hlinksldjump"/>
          </p:cNvPr>
          <p:cNvSpPr/>
          <p:nvPr/>
        </p:nvSpPr>
        <p:spPr>
          <a:xfrm>
            <a:off x="8848800" y="64231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7" action="ppaction://hlinksldjump"/>
          </p:cNvPr>
          <p:cNvSpPr/>
          <p:nvPr/>
        </p:nvSpPr>
        <p:spPr>
          <a:xfrm>
            <a:off x="8839080" y="5300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8" action="ppaction://hlinksldjump"/>
          </p:cNvPr>
          <p:cNvSpPr/>
          <p:nvPr/>
        </p:nvSpPr>
        <p:spPr>
          <a:xfrm>
            <a:off x="8839080" y="5684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8833680" y="33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3 – MISAORA A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84360"/>
            <a:ext cx="914400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izay, amin'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vonon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Mifalia mandrakariv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mifal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ny fe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o  ka mba la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ankala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Mpanjak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48080" y="37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856720" y="415440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857800" y="453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839080" y="4916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839080" y="5300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839080" y="5684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853480" y="607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8833680" y="33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06:03:42Z</dcterms:modified>
  <cp:revision>29</cp:revision>
  <dc:subject/>
  <dc:title>Tiona Advantista</dc:title>
</cp:coreProperties>
</file>