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A48E-A98D-4340-B5BF-BE1719563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5375-FA61-4064-AD29-4150A1CBF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BCB3-2F4E-4FE2-BDA6-51EC705D6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3CEE-B747-4F13-A9A8-24C68DA9D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F3D30-C304-4982-82B9-557494E14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4C6A2-2726-4CC5-B50B-85F67F5DC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C6F8E-A026-46E5-86DF-5A269873A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56C2B-F84B-4189-B7E0-D0EBF094A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C6F94-C5FF-471B-B8A8-E9D6E2DED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7CE16-0E47-47A9-942F-6660A3E01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65974-6E09-430A-BB23-63B421128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5A01-A40D-4591-9B33-A865C80A4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84291-80D2-47D1-A20E-9D5924CA4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C3AFC-8BBC-421D-8548-E53932F6C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6FAD0-612B-4D1C-B099-B5F9FC9BB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BA2D4-BE0A-4F9D-9AB5-4CDC26B62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40BE9-0172-4D70-B476-CE29A5AA4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342A-6671-4872-8F22-22F9A1165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DEF9-203F-48F1-AF7C-B66C66778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4618-B199-4444-BF6C-C2B65797D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B3D8-F6CD-4994-9E8B-F0E449A6B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75B5-7264-4A24-BFA8-2204DE293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FAC3-5B5B-4BC0-A811-015A9807D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A038-2D29-46F0-94F8-2F072B329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C24CA-B728-485D-8ADF-CDCEE1E6989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5B541-E520-4DED-8B40-DC0DE5BE37E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OLON-TOKANA - OLON-DROA - RODOB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tovondrahety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tovondrahet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749 – ILAY BOKY ‘ZAY NODOR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51240" y="518004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51600" y="5560920"/>
            <a:ext cx="38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51240" y="594216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26400" y="6323040"/>
            <a:ext cx="45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49 – ILAY BOKY ‘ZAY NODOR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lay boky 'zay nodor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Dia may, nefa tsy levona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zay natao ho laveno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Lasa vato fanorenana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oheverina ho fo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Kanjo mainka koa velo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'Lay nafenina, nalevi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 u="sng">
                <a:solidFill>
                  <a:srgbClr val="00ccff"/>
                </a:solidFill>
                <a:uFillTx/>
                <a:latin typeface="Symbol"/>
                <a:ea typeface="Symbol"/>
                <a:hlinkClick r:id="rId2" action="ppaction://hlinksldjump"/>
              </a:rPr>
              <a:t>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3" action="ppaction://hlinksldjump"/>
          </p:cNvPr>
          <p:cNvSpPr/>
          <p:nvPr/>
        </p:nvSpPr>
        <p:spPr>
          <a:xfrm>
            <a:off x="8751600" y="5560920"/>
            <a:ext cx="38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4" action="ppaction://hlinksldjump"/>
          </p:cNvPr>
          <p:cNvSpPr/>
          <p:nvPr/>
        </p:nvSpPr>
        <p:spPr>
          <a:xfrm>
            <a:off x="8751240" y="594216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5" action="ppaction://hlinksldjump"/>
          </p:cNvPr>
          <p:cNvSpPr/>
          <p:nvPr/>
        </p:nvSpPr>
        <p:spPr>
          <a:xfrm>
            <a:off x="8726400" y="6323040"/>
            <a:ext cx="45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72604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49 – ILAY BOKY ‘ZAY NODOR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…</a:t>
            </a: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o nisandratra nivelatra ! (Mba heno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za moa no hahasakana, (Iza mo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Eny, iza no hanohitra (No hanohitr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lay teny voasoratra, (ilay ten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Dia ny tenin'Andriamanitra ? (Andriamanitr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'Zao rehetra izao ho levona (levon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ny teny no haharitra (haharitr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751240" y="518004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751240" y="594216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726400" y="6323040"/>
            <a:ext cx="45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72604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49 – ILAY BOKY ‘ZAY NODOR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lay Teny Masina sy t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anambara ny Mpamonji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ena sarobidy ao am-p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Ka vakiko sy iainako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ifaliana, fiarovak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hazavana ao an-dàlak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Koa tanako ho lov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 u="sng">
                <a:solidFill>
                  <a:srgbClr val="00ccff"/>
                </a:solidFill>
                <a:uFillTx/>
                <a:latin typeface="Symbol"/>
                <a:ea typeface="Symbol"/>
                <a:hlinkClick r:id="rId2" action="ppaction://hlinksldjump"/>
              </a:rPr>
              <a:t>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751240" y="518004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751600" y="5560920"/>
            <a:ext cx="38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726400" y="6323040"/>
            <a:ext cx="45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72604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49 – ILAY BOKY ‘ZAY NODOR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…</a:t>
            </a: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Sy isaorako ny Tompoko ! (Maty ah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aty aho nefa velona, (Velon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Kristy no ahavelomako, (Ahavelomak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aty Izy, ho Mpisoloko, (solok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oho ny fahotana vitako ; (Ota vitak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efa Izy dia natsangana,(Tsangan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Santatry ny fitsanganako. (Haleloia !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751240" y="518004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751600" y="5560920"/>
            <a:ext cx="38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751240" y="594216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72604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10-04T07:33:51Z</dcterms:modified>
  <cp:revision>78</cp:revision>
  <dc:subject/>
  <dc:title>Tiona Advantista</dc:title>
</cp:coreProperties>
</file>