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2DE-7EE0-4A43-9519-89F14CD1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EA2-505D-4DB2-B10F-BD7FBB55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222-8A44-4B0C-8F22-1B04342F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BDA-8BB9-4AD1-BCFD-E3DD9924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6F9A-BBD2-42A5-B6CD-B08C086F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7E22-4D5E-4015-B7E4-1778891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CE0D-FC43-41A7-98E2-353DD6D1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E6D6-89EE-43A6-97D8-73FD977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BC5-88E0-4914-82D3-C1AF5D48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A203-E6D3-46D2-B90B-A79DC94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314D-DF48-4DC4-84DE-392609B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268-C4DB-4FF2-AECC-415D020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F0D2-1AB8-4BEC-A3D2-7DE3923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43AE-8CD3-478B-8EA0-344FB85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98C-54CD-41E8-9B39-7A10CAD8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DBF-6C7F-4DBA-A76A-17C9248D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890C-3D9A-4BAA-AB1E-EE9DD51E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6D6-9B32-47B9-AB07-CDBFAFE1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2EE-7B62-4311-B5F5-D4AC7E2A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10F-FA4B-4BFC-8231-9C475A1F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BCA-4C0C-4E83-8B5F-F46CE784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7B5-B887-4795-88F4-A9A49A3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8E4-9B46-4161-8729-5595E66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A84-F02F-425A-B38A-720B510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CBF-B8E3-4231-9334-3DBE7E2334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0CCC-2CD9-49C7-A61A-C848DF44C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7 – RAHA NY FITSAP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7 – RAHA NY FITSAP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fitsap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el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ah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lemy 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7 – RAHA NY FITSAP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, akekez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vonjeo 't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omeo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ek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7 – RAHA NY FITSAP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zava-p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tao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 mir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handao 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7 – RAHA NY FITSAP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sitra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ndà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dro ny fin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ho resy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foy mihin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 't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mahi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leh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7 – RAHA NY FITSAP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tantanonao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hidera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monjy tia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7 – RAHA NY FITSAP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1:05:03Z</dcterms:modified>
  <cp:revision>69</cp:revision>
  <dc:subject/>
  <dc:title>Tiona Advantista</dc:title>
</cp:coreProperties>
</file>