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4BF-A060-4F0E-AC13-18113B18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99D-6A9F-46FE-B5CA-653E9109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21E-4CE0-4E32-B12A-59C2BE6E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0A0-E215-4465-9EE2-87C0059F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48C9-3121-448A-A240-34817BDB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FC9E-0167-4392-B9D3-DCE9B3E4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072D-840A-4CF8-85E1-57F03CB2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4355-CB7B-43C0-ACA9-659938E9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792F-ECA3-45F3-A8FB-7B4F0596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B84A-CA6B-47D2-88B2-69684B2D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2E9F-AE43-43E9-8113-7570D070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DFC-D1DD-4DFF-98E3-83EBD77B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D44F-30A7-49D8-A931-F1DC7FE6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F305-CEBA-453E-85B9-7CD2F1F0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5FE6-A712-40C7-92B5-21140393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2726-B837-49C2-A825-11D69CD1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17C3-3548-4F8F-A657-4CC11131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D52-50FD-4B0F-B77A-7D5E0C60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A35-22DF-4722-81FA-B3502D65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532-E40C-4D5A-8AAD-83C4DB7C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5E3-16C6-44E0-88CC-A26541CE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FE0-2F0B-4B2D-B85A-DD1F6893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C39-23DB-47EE-B8AC-7336BFB0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A68-A6FA-41DD-B1EC-5D062C7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83FD-F802-4887-9399-A7D21E4937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B1F7-A486-462A-ADDD-59A3A8C8DA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76 – METEZA RA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6 – METEZA RA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eteza Ray ô, hihaino ahy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noy ny feoko miants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eteza Ray ô, ary koa val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Ty zanakao 'zay mitady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6 – METEZA RA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ny fahotako 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Feo 2: Fa ny fahotako ihany 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tsy ahitako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Feo 2: No manimba ka tsy ahitako Ana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Feà 2 sy 3 : Entiko sasanao Ray ô 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itrako tokoa</a:t>
            </a: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 (Sitrako tok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ho diovinao </a:t>
            </a: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Ny ho diovina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zaza mank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(Feo 4: Ho zanaka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tia Anao tok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6 – METEZA RA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hainoa, ry Ray ô, ary mamal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nga eto aho hifo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toa tsy mendrika ho zan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iso ho toy ireo mpan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6 – METEZA RAY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hako, Ray ô, ho Anao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sasana hadio to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ny voady dia ny h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mendrika ny hone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3T07:45:06Z</dcterms:modified>
  <cp:revision>90</cp:revision>
  <dc:subject/>
  <dc:title>Tiona Advantista</dc:title>
</cp:coreProperties>
</file>