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FAC3-478D-4001-AA8F-0DB03DF96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4179-8863-4F88-9DD3-B7EE737D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11F0-CEAD-4156-AC38-AD66B7280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7730-5B3E-427F-BE7D-29F0BBBC2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34C9-726E-490B-9DA8-9D76CCE64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C477-5667-405D-8F19-274CA9D7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1063-A072-44AC-A39D-898946A9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D178-1C1E-4971-BA65-9DF4D7BE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4D56-93E0-4D38-8951-D66A63FA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4700-5E80-43D1-9023-98FD061E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456C-0FA8-4183-8E0B-556D2298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DA97-318E-4807-AF4A-77F72A39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D8BC-E20A-4408-BB8D-A731FF5A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75F6-3D7D-4AF4-94ED-A12EA387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2B08-547E-4F25-B31A-FD37B6FE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2B7F-B098-4F1F-8FFA-A9764C7E4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B731-C3AF-4AC0-AC2C-B89A206B6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A10C-E056-44AB-8E20-6B3A7711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5AA1-F9EC-465A-9601-9F59A3F3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1379-D7FB-439C-BE67-2136B583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B50F-3921-4B31-A108-0C5419FE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DEC3-1292-4E00-BC21-6AC992AD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1C26-22EE-45BA-BDDC-1728376A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53EE-03C9-4BC9-A6CF-ECE7C4AA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8913-C776-47EB-A753-7D4A53D950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8A06-7CDB-4AC8-A450-009B6AF15F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Valin’ny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Rabarij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Rabarijoë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56 – APETRAKO AN-TAN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3224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3224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3224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56 – APETRAKO AN-TAN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petrako an-tananao, ry Rai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ainako tontolo hatriz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isy izay mahafa-po ny sa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rehetra hita sy at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minao no ionon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minao no itoer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-tananao ihany re no ti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eo no misy hery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3224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3224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228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56 – APETRAKO AN-TAN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petrako anilanao ny fo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 ô, mba ho arov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oeran-kafa dia mampitolo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ahatamana ahy, zan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ilanao no mamiko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ilmanao no ampoky ny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ilanao no toerana ir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eo tokoa no misy ny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3224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3224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228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56 – APETRAKO AN-TAN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petrako mba ho Anao, ry Tom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petrako tsy hanenen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ra-dia Anao sy mba hanom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enako sy ny fanah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raiso ho fanati-tsitrak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dia tsy mendrika ny haj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petrako tanteraka, ô ! Ry 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-tananao ho mandrak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3224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3224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228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17:08:10Z</dcterms:modified>
  <cp:revision>62</cp:revision>
  <dc:subject/>
  <dc:title>Tiona Advantista</dc:title>
</cp:coreProperties>
</file>