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8DB-5FFF-4889-AD09-5C17BF8F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EC6-260C-4CC7-91D0-1EFB33C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62D-5524-4B09-BACC-DDD0ED92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E5D-BA08-4459-A324-57D697C1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D31B-262C-4B93-828D-5BE452EB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F92C-C7B2-4CE5-B3BE-895B500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3BE9-1F1A-4A22-8C5F-EEA784FC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DBC-96BC-4C34-B5D7-0F9787E8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F1CA-CEC1-43A1-9D65-C0D9E3D3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87EA-A767-43DC-BCB7-9EEC11E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911B-9A05-43E1-A593-BA53C7F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648-DA42-4109-84FD-180DDE2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45CB-3760-47BA-AD0C-10265044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1433-0356-42F3-A908-67933510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76B7-8195-4180-8628-E8021A33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5180-EA9D-4734-B46E-048819A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0E09-8AFD-4EA1-8166-0AA237F1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DAF-B4FF-42C2-B8DE-3259F69B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091-C65C-45E5-A39E-5C046D43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209-685F-4644-9B3E-1F72FF5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D54-4CBD-4FFA-8D7D-DCDA69E1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06C-F3AD-4B40-88EE-781DB784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593-832D-446C-8834-A9F8D8C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0A0-4345-4707-AEB8-9089174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B851-60F3-47FB-A261-4C4DB885A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5A2-83F6-46FF-A0E4-19D177D3BA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1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IADY, JESO 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1496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000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432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E. L. Bud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346, DLG5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1 - HIADY, JES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dy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iantsoana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eto izaha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o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o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itsanga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000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432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3368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1 - HIADY, JES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'zah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fiadanan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esy ho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1496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2432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3368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1 - HIADY, JES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fino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afanao ny fona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ery, fahendre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tomboy, h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eh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pandresy m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496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000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3368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1 - HIADY, JES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sandratr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zo fij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mim-pi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ndresena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an'ny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mpandres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1496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000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2432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3368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dia, miaret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andresy i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tao an-doh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diadema an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dia, miareta 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jakantsik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1 - HIADY, JESO 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1496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2432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3368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49:13Z</dcterms:modified>
  <cp:revision>116</cp:revision>
  <dc:subject/>
  <dc:title>Tiona Advantista</dc:title>
</cp:coreProperties>
</file>