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266D-7DF4-4A6F-AA26-B7CB3BB7D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5635-BE48-420F-AE54-67A8A221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8E3D-F0AD-477C-899E-4C3E935EE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D12A-5B63-43F9-9242-B2242DD86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18B9-45B2-4E0F-949C-C235D3E9B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D000-164B-49BA-AC8A-F69288DC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015E-8753-4698-BE21-73F6557D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4658-B342-48CE-89AE-89FC2DAD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15FC-DF10-42B7-B5C4-57A44CAF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5AF5-58AE-4A10-9CAF-22973385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213D-8838-4813-A144-2C1401C5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F501-286D-4C44-977C-63DF02DB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68C5-97F7-4F18-8715-894D422A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3321-68BE-4D44-86E9-F370A31C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0789-51C4-4C31-B74A-226BC3C5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9270-ABDB-4EE5-BBCF-3B0C8790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07E2-9A10-4ABF-A8BA-EA56E1A1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780E-5F35-4FEC-B202-15B2D11F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28F2-A672-4A6E-B2DA-6657362A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904D-CA76-4617-92A4-207F13DE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327C-B8D2-459B-8B0D-5FF738C3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5456-B440-4CDF-80EC-75A66F01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CFD3-15E3-45ED-915D-C7CAE093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DE81-7409-4F47-8240-509056C8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2175-6166-4B72-A36D-993437916D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4FB2-3587-48C8-8513-32D6272363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. Razakarivon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. Razakarivo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79 – RAY Ô, TSY MBA TAKATRY NY S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2120" y="4665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77160" y="50468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72120" y="5427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3120" y="5808600"/>
            <a:ext cx="48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63120" y="6249960"/>
            <a:ext cx="48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679 – RAY Ô, TSY MBA TAKATRY NY SA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y ô, tsy mba takatry ny s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haben'ny fiti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ambony loatra ka lal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o ankehitrin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ahay no mendrika ho fa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ho ny fahotana vitan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efa kosa fijaliana ma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nasaina nisoloana 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77160" y="50468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72120" y="5427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63120" y="5808600"/>
            <a:ext cx="48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63120" y="6249960"/>
            <a:ext cx="48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62400" y="423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679 – RAY Ô, TSY MBA TAKATRY NY SA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fa nenina tokoa ny la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y nandavana ny ten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oa indro izao fa mika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kato izay baik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men, Ame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72120" y="4665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72120" y="5427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63120" y="5808600"/>
            <a:ext cx="48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763120" y="6249960"/>
            <a:ext cx="48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2400" y="423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679 – RAY Ô, TSY MBA TAKATRY NY SA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y ô ! Mamy ny fiti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tsy hay ho hadinoin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mibitsika mangina 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a hifikitra aminao ry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ny, fitiavana tsy l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maharitra mandrak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atlotrao ety an-t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monjena olom-bery indray</a:t>
            </a: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72120" y="4665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77160" y="50468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63120" y="5808600"/>
            <a:ext cx="48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763120" y="6249960"/>
            <a:ext cx="48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762400" y="423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679 – RAY Ô, TSY MBA TAKATRY NY SA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y ô ! Indro fa miha-maz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minay ny fitiav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maharitra tsy mety r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ianteherana hatr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itiavanao irery ih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mba azo antoka et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oa raha mbola ato an-t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irina : ho Anao dor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72120" y="4665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77160" y="50468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772120" y="5427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763120" y="6249960"/>
            <a:ext cx="48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762400" y="423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FA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isonao anio ny dera, sao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y atolotra Anao, ry R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oa ampio izahay mba hivo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Anao anio,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men ! Am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679 – RAY Ô, TSY MBA TAKATRY NY SA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72120" y="4665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77160" y="50468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72120" y="5427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63120" y="5808600"/>
            <a:ext cx="48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762400" y="423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3T08:11:14Z</dcterms:modified>
  <cp:revision>91</cp:revision>
  <dc:subject/>
  <dc:title>Tiona Advantista</dc:title>
</cp:coreProperties>
</file>