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C02F-4719-43EC-A75E-52BEA9D83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50B4-F745-48F2-B4DC-AAB16604B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C6DA-B610-4385-B914-C6B10FD9F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2367-B922-44D6-895D-1EF5A1D17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E6026-78DE-4E65-9060-6240AD15B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47A31-795B-435B-9F7B-BCD6A6430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F665B-1B80-451B-BAF8-58FB1D734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EBF00-DC8D-4F20-BE2A-7E58E1DE9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7455F-68F0-47CA-BEDE-B963802FF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2AC0F-4085-4369-BB3F-2F704B670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C7BAB-EFF7-498D-97F0-8D4ED267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CA82-0C66-4BAC-94E4-E458D9E79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E755B-AD5D-452A-8949-DD9513CE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5B3F9-F86E-4DEF-96F6-D11F85B5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70517-FA33-4784-B3CF-4A7F37523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B0D35-CDD9-4648-8077-2D51C91D7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5C1D9-CFDA-4D7F-96FA-A5F81AB49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D737-D6ED-44F3-9BD0-D9A6E7196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8A38-3A7C-419A-BAEB-5C8C6E29A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FBA1-A278-438D-8D67-78B35A040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2401-A732-44AF-87AB-6E5444213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29AB-1099-4FFB-960F-A37E9705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5623-AF6E-42C6-92AC-7D5D0CB8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0DA3-76DA-4288-B2CE-D41767BF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131E7-002C-4C07-9718-167359BB3B6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5E210-6E62-4457-8728-1AFC0C1D475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OTOANA SAMY HAF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Eo amin'ny fiai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Maintimolal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(Tsy fantatra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FFPM74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567 – ZANAHARY NO MAHE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67 – ZANAHARY NO MAHE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Zanahary no mahe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fe-taona iaina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iantra sy mame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mbon'andro ho a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efa vitsy, nefa vits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ho andronay a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efa vitsy, nefa vits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ho andronay a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67 – ZANAHARY NO MAHE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Betsaka ny andro l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naranam-po iz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sy feo manontany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« Vita va ny asanao ? 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ezaha, miezah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vy re ny alim-b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ezaha, miezah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vy re ny alim-b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67 – ZANAHARY NO MAHE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Mamindrà fo , Zanahary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Mamelà ny helokay 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Tompo ! Aza mba manary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'Ndrao ho very izahay 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Mihainoa, mihainoa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y mifona amina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Mihainoa, mihainoa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y mifona amina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67 – ZANAHARY NO MAHE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Jehovah ! Manomez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ilainay olo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tahia, mampaherez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o tonga ao ami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hahazo, ka hahaz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troboninahitr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hahazo, ka hahaz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troboninahitr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9T07:19:31Z</dcterms:modified>
  <cp:revision>82</cp:revision>
  <dc:subject/>
  <dc:title>Tiona Advantista</dc:title>
</cp:coreProperties>
</file>