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929-8AE4-4FDF-B3EB-0B162E80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CDB-C069-4B44-84FF-202D88D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F41-252C-4AEB-B6F6-CB4729C4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4A9-CC97-4D1F-9626-28EBADB8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0BE-3BBE-4D1D-B032-FE34C7A2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126E-087E-4E7B-AEE1-13727D7F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C73-926D-4B43-B051-7EF425A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82D7-6146-4696-BF5D-87AE4655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643-C578-4202-96DF-B7D7A17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2BB8-5C0B-48C9-B521-2C2F71C9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B6E-C28D-4A9C-B52D-4CE2250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F25-9BC6-4EE6-A628-E31644B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803-E41A-4606-AEFB-DCED5E8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B3D-BA09-443A-9A22-9CD6AFE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6F9D-B0C9-4934-9883-F94F043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313-F704-4B05-B50F-787B7DFC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8E49-B06E-4A47-9F91-4DC5A3FA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1A1-820A-4780-B79E-D9057FB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19B-61D8-4717-B892-4C64ECB4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6FB-9EA2-48B8-8AF3-CF5D4E0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383-719A-4C92-B50F-A0D572C7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834-73F3-4A49-B27E-E4923AD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B44-7D6A-4620-84EC-9F789A5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51F-80EC-4D57-B324-CC631AB3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A046-B54B-4D65-8275-1DF2EDEB0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994-89F6-4C39-A251-8791CBA64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0 – TOMPO JESO NO MANDON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8464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05520" y="5105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05880" y="54864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7564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6756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20 – TOMPO JESO NO MANDONA AO AM-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Jeso no mandona ao am-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 hiditra ao izao ani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indrisy fa be sitra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, mamindrà f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 ô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05520" y="5105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05880" y="54864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67564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6756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20 – TOMPO JESO NO MANDONA AO AM-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ir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hay ny fo anio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iditra ao 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hay 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nandona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andona ao efa ela b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dry An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68464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705880" y="54864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67564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6756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20 – TOMPO JESO NO MANDONA AO AM-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an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hay ny fo anio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itra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hay 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ba vohay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Ô ! Mba vohay re 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y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androsoan'ny Tompo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68464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05520" y="5105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67564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6756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20 – TOMPO JESO NO MANDONA AO AM-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Jeso no madona ao am-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o efa niandry anao ela b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neninao raha toa ka tsy ham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avy Izy re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464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05520" y="5105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05880" y="54864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6756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Jeso no madona ao am-p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nao sa tsy manaitra 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sa ratsy esory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 hiditra 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20 – TOMPO JESO NO MANDONA AO AM-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464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05520" y="5105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5880" y="54864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75640" y="586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1:05:10Z</dcterms:modified>
  <cp:revision>79</cp:revision>
  <dc:subject/>
  <dc:title>Tiona Advantista</dc:title>
</cp:coreProperties>
</file>