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E61-5C1A-4883-99D4-F39694DB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32B-CF95-4CCC-9534-E3507D8B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637-0E11-4154-B4C7-DC51A4A1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249-7D1E-4E62-9239-219EB48F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CB91-A4C9-47C3-9BF4-6C55DD68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E54E-A02F-4701-86F2-80E713EE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37F3-2C22-454E-A450-88687C69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B32C-19E1-47A4-96BE-D123AB8A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E38A-B5DA-46B2-BA1A-E68DD92E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AA92-EA7B-40E2-A066-F6EE03C5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7B6A-6363-4BB9-8ECF-EA36C9ED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A5C-DEA5-4584-9069-C8EDDBAE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3BF9-DBA5-42D0-9DA0-35A08F35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7BF8-0BAA-443C-BB58-6260D64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C7E0-29E9-4C6D-8E9D-165DA1EA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3302-F58D-4F0A-9642-0D3355FE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4A84-29F4-44AD-B4FF-FCE0D1D1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8CA-C5A2-4A39-89E1-A31F48E8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886-EB8E-445E-ABBB-17EC8E15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927-9F6D-4529-A906-36DAD0F7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095-CD74-4E09-8FDA-D5B74F73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C86-67B1-41C6-86F7-E2403A1A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955-72F4-4E39-9629-F46E8567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B8B-5B5C-4AD6-BC1D-742AF4F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1014-2B5E-41C7-BD95-8DD65FDE31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B8B7-6D28-4491-A9A3-550663E9D4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C. C. Conver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51 – ‘LAY JESOSY NO SAK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1 – ‘LAY JESOSY NO SAKAI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Jesosy no sakai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hatoky tsy mand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ikolo sy nitaiz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namboatra nana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halala ny halem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ananatr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Sakaiza tena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Mpanarina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1 – ‘LAY JESOSY NO SAKAI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no sakaiza ts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Mpiaro ny f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y ihany no anja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jy sy Mpanafak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Natsotrany ny sand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ndray ana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iadana sy mand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ny eo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1 – ‘LAY JESOSY NO SAKAI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tena mahatok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y hiadan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fo tena mahavok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tena tanj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Ry namako atol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ainanao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za ketraka ak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y ampy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1 – ‘LAY JESOSY NO SAKAI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no Sakaiza hend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panalàla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Mpamonjy voatend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navotr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ho avy tsy 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ndray anao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omàna sao tavel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hanenina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4T07:41:06Z</dcterms:modified>
  <cp:revision>78</cp:revision>
  <dc:subject/>
  <dc:title>Tiona Advantista</dc:title>
</cp:coreProperties>
</file>