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B4D-4E0B-4894-826A-98350123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553-CC1E-4F97-A664-D9CE3030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63F-BE43-4516-A3E4-0E78B71A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0E7-2775-43B9-AD84-301605C1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4052-69B8-4CA6-9BF4-A1A82EC1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9610-DB7F-4243-BBA4-FF89B6D0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7741-9B5D-4B77-93B2-212B4234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CA01-B1DD-45A4-B5F7-40E52522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DBC1-B1A0-449A-AFDA-815D2378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B725-23A5-4D40-B822-C9698E8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81CB-43C8-4DBA-AFF4-0EAD9CB3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4EA-E724-4E0A-A8CD-CCC444D2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AF9B-3F5A-416C-9474-CAAF4821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B81D-FA1C-48E7-A82A-4F5B1CBC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943-27D4-4E60-B4A5-B90BE477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F486-A3F6-4653-83D3-638F4E79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8FCB-1BC8-4110-982A-0A4F95A1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CAF-ABF8-4589-9E52-C826DE5F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500-C753-47A1-9104-B6D401A9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A8B-123F-4107-8B25-C221068D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ACD-BB17-4834-A466-50D0B1C5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D0D-0382-43CA-A6D9-F965342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603-2A89-40AB-8C89-C26DA901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00D-1E97-4F19-95A3-6D87E66A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BD36-5C08-42CF-B835-9CD0BDE99D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377-561F-4978-B0DF-573B9097F8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Mondai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c Granah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53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16 – MISY DIDY TEN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6 – MISY DIDY TENA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didy ten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omen'ny Tompo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mifankatiav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reo 'zay mino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raisa, ka mirai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o didy l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raisa, ka mirai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o didy l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6 – MISY DIDY TENA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Jeso mba h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ba hampiav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panaraka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sy tia nam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adiavo, ka tadi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o fampirai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adiavo, ka tadi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o fampirai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6 – MISY DIDY TENA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ray tokoa ny L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Jesosy Zan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iky ny Ray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alaina tah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resy, tsy ho re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ray ny taf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resy, tsy ho re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ray ny taf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6 – MISY DIDY TENA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ilay foto-kaz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voalobok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sampana halaz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afasa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kambano, ikamba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mba mihat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kambano, ikamba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mba mihat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7:22:19Z</dcterms:modified>
  <cp:revision>69</cp:revision>
  <dc:subject/>
  <dc:title>Tiona Advantista</dc:title>
</cp:coreProperties>
</file>