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115-40B8-4878-AC0D-66F644B1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004-7EB3-4010-B17F-349D03F2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45E-37B0-499B-A570-FCA2D9D4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441-DDE5-4DA3-9DCE-1EA18D9B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1B49-E003-44FF-B7DA-668DBCA4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92AC-9E84-49AE-B859-BD8DCE15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594E-0AFB-483F-9EE6-A4CDE8F0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89B2-DFE5-49B2-91C5-B0CE71DF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F736-F13A-41FA-BE20-F4AE7F9A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28F5-1EFE-4C12-8D1D-F719E5DB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7AB3-2DCF-4FCB-A708-E99FF6C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9F8-845C-4DF3-B694-A047C17C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CD9F-418D-47C3-A50F-59E50BF5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E3DF-B1A2-40BB-9A1D-F0B220FE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4803-D6D6-4061-A9E1-D5511F9B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6C99-EF76-409C-B38B-5A8BF2C2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08F0-D692-4A39-932F-524A2628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070-F29A-4B32-B0B8-E37272FF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42A-9044-41EA-9564-6EB64B34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075-20B6-4E8B-A6B9-F9E1D15E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395-AAEA-4570-8A87-1B94D027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42D-3259-4380-A0C1-636EA8C1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550-54CD-42A1-ACAD-854809EC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4C4-DA81-422F-85AC-797D239D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B569-2AE9-4D69-B62F-004B29AA1E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E039-7BF6-432E-A8D1-25E7EE177F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pakaram-bad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J. Vai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47 – JESO TOMPO BE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7 – JESO TOMPO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 be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anatreh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zatovo hiara-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 ho tan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otsahy et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otsahy et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meno 'zao ny f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itiavana mad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578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7 – JESO TOMPO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 Fanek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ady 'zay n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itrapo fa tsy ter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hamafis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mbano izy 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ambano izy 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midina ao am-p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raiso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7 – JESO TOMPO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 Vatolam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 ifaha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rovana 'zay am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o fitsaha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ren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ren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toky 'zao ny f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amely ny m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578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7 – JESO TOMPO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 Fitah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omeo raha sitr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naka ho f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ry a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fantan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fantan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velona ao am-p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fom-p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578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 Fandres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tanta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resy na hiv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to ondrikel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tosa anie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tosa anie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oera ao am-p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-pahatonga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7 – JESO TOMPO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578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12:51:51Z</dcterms:modified>
  <cp:revision>77</cp:revision>
  <dc:subject/>
  <dc:title>Tiona Advantista</dc:title>
</cp:coreProperties>
</file>