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F573-5FB3-4B1E-922C-150D3DE39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7CBD-2AA9-410C-B0DF-0AD6D176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983E-E1E2-4F80-A6B9-87BBC8930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8373-E89E-448D-BC86-628E7F8E5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4678-FC23-44C4-972E-A11896761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64D7-B51F-4530-B7A1-1C4B653B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79A3D-BAC4-4609-A94D-A814503C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A76B-D3E6-4733-9B33-24CEEE3F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A754-C602-4F0D-8071-2660C94C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FBFB-5B9A-4F80-AC9F-CC90578A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57BD-7176-4584-A1F8-839A7AF5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2DC8-96AA-40EB-8335-977B5859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56E7-9693-45A5-A589-CCDB880C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D5D3-D1D2-4700-9796-6E811806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802E-187C-4BBC-BDED-40EF9B39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D495-FF6F-428D-A7B6-9134C3FD4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D12D-6B19-4709-B4BF-13C0CEA52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271E-2E6A-410A-8EC0-D91C1FF3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6091-FF2F-444B-B744-6054D130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74F5-799E-4F52-8604-3E9B21BD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FB9A-A351-4E00-B098-A188B5D9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A99D-5426-45FB-B5B8-B3879E36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B9F3-8CBA-44FF-A045-822B6AE0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CB34-3F9A-43BB-B46B-C0770E77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72A0-A7D8-447E-9A58-67FB92E4A6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53E1-2341-4C18-8CF8-C8107B42D1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Vavak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. Razakarivon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. Razakarivo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38 – TOMPO Ô ! MBA TON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38 – TOMPO Ô ! MBA TONE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ô, mba toneo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to tebitebin-tsa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la hampivadi-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dy sarotra tsy ha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pihorohoro la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mandreraka ny f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raha tone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o resy ny manj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6392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38 – TOMPO Ô ! MBA TONE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ô ! Ampangino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to herin'onja iain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amboaravoa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la hanafotra ny fiain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ho mantsy ra sy nof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lombelona ihan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heriko tsy am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oherana iz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6392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38 – TOMPO Ô ! MBA TONE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ô ! mba sitrano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to ratra ato am-pok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soloy fifal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ny sento sy tolo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zay sitran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o orin-java-t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, sambatra aoka iz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a tretrika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6392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4T04:03:34Z</dcterms:modified>
  <cp:revision>45</cp:revision>
  <dc:subject/>
  <dc:title>Tiona Advantista</dc:title>
</cp:coreProperties>
</file>