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7459-2DBB-4F9C-80AC-B8C9C199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120C-1A66-477A-9DA4-14BC8149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A9E8-04E0-4443-90E2-704CCC46D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3C04-E234-4B2E-B9B0-F2A503C7D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8AA3-AD3C-4AFC-B043-8699F8582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CAC9-8996-44A9-956E-840279BA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0177-293D-4720-A12C-220E9ED1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4B17-B0B4-40BE-B630-60895EC9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2331-75F5-4C76-A6A6-FEB7748A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B070-5786-49CD-BF41-113714AD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476D-68C2-4237-B708-861F97E6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7493-A90D-4C16-8F34-1809CE1F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D671-8828-47D9-898E-A4D14313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B810-6EC8-4FDA-9FCD-0C19B7EB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3196-A4EA-439E-A656-D5277FDC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D7BC-353D-4BCA-8A58-D5F69757E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AA5E-5754-4AAB-889C-41AA7A4D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826B-065D-4856-AC2D-B65BBEAE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D94B-BABF-42ED-A01F-15E6EB5F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D4D1-6822-4155-B570-E7D221FD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5185-DBA2-47F3-A692-1C8C9D36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CA93-1F8E-417C-98CB-519A2565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BF93-53CC-4F5D-A897-96036849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582F-3A91-48C1-BBF5-049DF2F1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E0E9-3CE9-4FCE-9ED5-A2270ABC8B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E00D-542D-45F7-BF38-A5EFFC1FBF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sa misiône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. Mart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d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71 – VELOMY MAFY MBA HO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6360" y="4673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7487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7487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71 – VELOMY MAFY MBA HO 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elomy mafy mba ho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ko eran-tany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antso mahafaly hoe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no Mpamonj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elomy mafy (velomy r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re a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elomy mafy (velomy r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ako ary.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66360" y="4673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577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487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6" action="ppaction://hlinksldjump"/>
          </p:cNvPr>
          <p:cNvSpPr/>
          <p:nvPr/>
        </p:nvSpPr>
        <p:spPr>
          <a:xfrm>
            <a:off x="87487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7" action="ppaction://hlinksldjump"/>
          </p:cNvPr>
          <p:cNvSpPr/>
          <p:nvPr/>
        </p:nvSpPr>
        <p:spPr>
          <a:xfrm>
            <a:off x="87487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71 – VELOMY MAFY MBA HO 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 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y olona ory ani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dry sy misento 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aty alim-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ta hand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7577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7577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7487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7487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87487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71 – VELOMY MAFY MBA HO 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elomy mafy mba ho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eo lakolosin-dan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, indro tafaverina 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nania lav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elomy mafy (velomy r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re a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elomy mafy (velomy r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ako ary.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87577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4" action="ppaction://hlinksldjump"/>
          </p:cNvPr>
          <p:cNvSpPr/>
          <p:nvPr/>
        </p:nvSpPr>
        <p:spPr>
          <a:xfrm>
            <a:off x="8766360" y="4673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5" action="ppaction://hlinksldjump"/>
          </p:cNvPr>
          <p:cNvSpPr/>
          <p:nvPr/>
        </p:nvSpPr>
        <p:spPr>
          <a:xfrm>
            <a:off x="87487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6" action="ppaction://hlinksldjump"/>
          </p:cNvPr>
          <p:cNvSpPr/>
          <p:nvPr/>
        </p:nvSpPr>
        <p:spPr>
          <a:xfrm>
            <a:off x="87487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7" action="ppaction://hlinksldjump"/>
          </p:cNvPr>
          <p:cNvSpPr/>
          <p:nvPr/>
        </p:nvSpPr>
        <p:spPr>
          <a:xfrm>
            <a:off x="87487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71 – VELOMY MAFY MBA HO 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 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y kivy fo ani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esy, mitomany 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aty alim-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ta hand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7577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766360" y="4673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7577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7487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87487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elomy mafy mba ho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, indro avy Krist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antenana mamy re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vy Izy hak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elomy mafy (velomy r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re a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elomy mafy (velomy r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ako ary.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71 – VELOMY MAFY MBA HO 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7577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3" action="ppaction://hlinksldjump"/>
          </p:cNvPr>
          <p:cNvSpPr/>
          <p:nvPr/>
        </p:nvSpPr>
        <p:spPr>
          <a:xfrm>
            <a:off x="8766360" y="4673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4" action="ppaction://hlinksldjump"/>
          </p:cNvPr>
          <p:cNvSpPr/>
          <p:nvPr/>
        </p:nvSpPr>
        <p:spPr>
          <a:xfrm>
            <a:off x="87577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5" action="ppaction://hlinksldjump"/>
          </p:cNvPr>
          <p:cNvSpPr/>
          <p:nvPr/>
        </p:nvSpPr>
        <p:spPr>
          <a:xfrm>
            <a:off x="87487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6" action="ppaction://hlinksldjump"/>
          </p:cNvPr>
          <p:cNvSpPr/>
          <p:nvPr/>
        </p:nvSpPr>
        <p:spPr>
          <a:xfrm>
            <a:off x="87487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71 – VELOMY MAFY MBA HO 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 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y izay sondriana an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ny mandalo 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aty alim-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mba hand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7577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766360" y="4673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7577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7487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7487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1-19T12:40:56Z</dcterms:modified>
  <cp:revision>62</cp:revision>
  <dc:subject/>
  <dc:title>Tiona Advantista</dc:title>
</cp:coreProperties>
</file>