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57CB-66A9-4DDE-8019-E2EAE4C7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A6AF-6316-498F-B756-85D07FCE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58DF-BC0E-4473-9688-A47029A0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AE52-8BC4-4FD6-B87B-BA4FD1B6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4369-3FCC-4026-BDE2-A10A210D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A52F-2CAA-4200-A55A-C8FAD07B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0B7A-F930-4E7A-9ADF-5EBAC246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E9B2-2298-475A-B77E-E7407371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FB56-5DE1-4635-BBDA-03A57E77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FFDA-33CF-4031-BDE7-7DF5CBE3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8B84-A0A0-405F-B3FB-D1FD4228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6AB0-1E4D-43FF-BC1F-F1F77D90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697F-AC3E-43F9-87B5-8FE9D7B9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6840-B399-49BE-A601-2D45792F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BADB-81BE-4EAF-BA40-684D0366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1AFD-7A03-48C4-B203-38F16654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CCEE-DFA1-4BAF-9899-6BE65431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6276-2419-4695-ADB4-4A2508D5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ECA3-380E-441D-9223-6A76AAA7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57AC-8C11-48B2-BA7F-62591447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ACDB-59F9-4FCE-AAC9-E2060C82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8D52-3F44-4F85-B03D-5907F1A8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74F0-B8CC-4AC5-ACC9-66E69395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06E-D89E-4153-B91F-6A179563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43B0-56CB-45AC-9CD8-CCF6F7E91F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2DC2-AF16-4487-B2C7-A3379B96E7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sa misiône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tovondrahet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S. Bac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70 – ERAN’NY TANY NO ITOR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70 – ERAN’NY TANY NO ITOR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ran'ny tany no itor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Jesosy Kristy Mpamonj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sambatra tokoa 'zay mihai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naiky izao am-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sy misy anarana haf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hazoana famonj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fa-tsy ny anran'i Jesosy Kris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76240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70 – ERAN’NY TANY NO ITOR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monjinay ô, 'zao no iri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tanjahonao ny fino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onao hery mba hijoro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fanompoa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katoavinay ny fanendr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vavolombelona hanamb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lova : Fiainana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76240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1-19T12:35:16Z</dcterms:modified>
  <cp:revision>62</cp:revision>
  <dc:subject/>
  <dc:title>Tiona Advantista</dc:title>
</cp:coreProperties>
</file>