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EC4B-4C12-49C4-86EB-13EE0323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876-26EA-4BEC-AFF8-ADB60903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AB34-F40F-498B-8061-BCB3AC5A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AAFC-030A-4513-AAF0-FFD1737E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C451-C33B-4432-BC96-05396EA8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414C-6AF7-4B36-84CD-5C2E6017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F664-2183-48ED-B2F1-6FDC0111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243A-CFC2-414E-A932-EF43391F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36DB-FA88-4F9A-8CAD-4FB7AB8B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03A2-7002-4FEF-895F-AE6F85D2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DEB9-6D85-4882-BDD7-88AE3C94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EABB-C657-40A5-9C25-51DC2C38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E1F0-81CD-44A6-ABFC-2A1D5006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16FF-CFBA-4901-BDF5-609DBAF3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F55B-EB3B-47FB-BD05-420EA415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0044-89C6-4195-92F0-3C00C499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09F8-D9EA-4B44-B87F-BCC776D9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BCB4-1C4A-49E7-85B6-FEC21A22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0A29-CBA6-4AFD-9357-9362B0D0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DAC3-FC50-44A3-BC8D-A85A15C2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406F-53C7-4557-8580-FDE7D1D7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396-4665-4B47-A8F8-0E5F7033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531B-84AF-4DBA-9FE3-FDC159D2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01CE-412C-4D6D-9670-E2772B3A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9057-762A-4CEF-A924-DFC38EE367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B8D8-A975-4755-AF6D-1F045EBC1D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A031 – MASINA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75628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756280" y="5562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759160" y="5962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Rakotonjanaha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Rakotonjanaha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8761680" y="632304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1 – MASINA INDRIN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sina indrindr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sina indrind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derain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erainay h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onenan'ao ambon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y ny mponina an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amy heninky ny hamasi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hay te hidera toy ireo anj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mba ampianaro 'Zay fanaon'ire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6280" y="5562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9160" y="5962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1680" y="632304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762400" y="473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1 – MASINA INDRIN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rina indrindr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rina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eken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kenay h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e ! ny fitsarana ataon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y ny fotondran-d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mitory ny fahamasi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zavatra irinay ny hiovan'ny 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tany anjakan'ny Hamari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628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9160" y="5962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1680" y="632304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8762400" y="473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1 – MASINA INDRIN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Be fitia indrindr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Be fitia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tian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ianay h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ny zavatra rehetr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ny hita sy tsy hi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amy mahatsapa fitah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ny manan-teny, na tsy manam-p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manan-tarehy te hisaot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en, Amen, Amen, Am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628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6280" y="5562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761680" y="632304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762400" y="473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31 – MASINA INDRIN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Times New Roman"/>
              </a:rPr>
              <a:t>FAMARA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Amen, Amen, Amen, Am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75628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56280" y="5562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9160" y="5962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400" y="473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8-28T07:59:44Z</dcterms:modified>
  <cp:revision>118</cp:revision>
  <dc:subject/>
  <dc:title>Tiona Advantista</dc:title>
</cp:coreProperties>
</file>