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5587C-5213-409F-A2F1-97C817129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64D6D-7113-40A0-AEAF-F467C9B73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5B17E-5635-42E1-9B4D-7E2B77949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F8A6C-DFF4-4BBC-BBE3-E7D0AEB65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4C8A7-2DE4-43E5-A6B0-B4C9BA04E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C1180-5E3C-4527-99D7-D595E6742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00D5C-F81C-4C34-ACBA-80C845BA1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E1D7C-A534-4573-ABF7-9FAF4017A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0D25F-B838-4D67-88C0-007880C80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B6246-8A8F-44FD-AE44-936F2133A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26D0A-BBC5-4696-9A3F-50FFE99C1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30D32-8C57-4F00-A790-78685B7EA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B6DA2-2C3C-42BB-B39D-0E141A7EB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C2502-5059-4FFE-A0D6-8CD28D55C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C9FDE-B3FD-4DFB-B871-2900F1048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5905B-261D-475F-B154-EDBD531BB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952D4-9A45-4CBD-B146-93A30BFF8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884BB-73C0-4E0A-9221-5631C2BCE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9D70A-E848-4C86-B67E-6F2CBE12D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72600-ACAA-47F7-903E-9D8D33747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97D40-E838-4DA8-A7BB-BCC9BA3C1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5ADDB-DB06-41EF-AA71-100AB55EF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AEE8A-874C-44EE-91C1-8A5B8F5E8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0B49D-AA45-4858-8BCD-4EB472041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28154-0651-4C95-A3A4-01F58705A1A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4BB3E-33E3-476D-A489-B1BA8F84C32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slide6.xml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slide" Target="slide6.xml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OLON-TOKANA - OLON-DROA - RODOB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Dera Arson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Dera Arson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713 – HODY AHO, RAIKO Ô 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843400" y="47386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848440" y="511956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843400" y="55008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>
            <a:hlinkClick r:id="rId5" action="ppaction://hlinksldjump"/>
          </p:cNvPr>
          <p:cNvSpPr/>
          <p:nvPr/>
        </p:nvSpPr>
        <p:spPr>
          <a:xfrm>
            <a:off x="8834400" y="588168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8" name="">
            <a:hlinkClick r:id="rId6" action="ppaction://hlinksldjump"/>
          </p:cNvPr>
          <p:cNvSpPr/>
          <p:nvPr/>
        </p:nvSpPr>
        <p:spPr>
          <a:xfrm>
            <a:off x="8834400" y="63230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713 – HODY AHO, RAIKO Ô 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Hody aho, Raiko ô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Hody any ami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(Hody any aminao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Efa manina aho, Ray ô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Avelao hody ami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(Hody aminao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rId2" action="ppaction://hlinksldjump"/>
          </p:cNvPr>
          <p:cNvSpPr/>
          <p:nvPr/>
        </p:nvSpPr>
        <p:spPr>
          <a:xfrm>
            <a:off x="8848440" y="511956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>
            <a:hlinkClick r:id="rId3" action="ppaction://hlinksldjump"/>
          </p:cNvPr>
          <p:cNvSpPr/>
          <p:nvPr/>
        </p:nvSpPr>
        <p:spPr>
          <a:xfrm>
            <a:off x="8843400" y="55008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>
            <a:hlinkClick r:id="rId4" action="ppaction://hlinksldjump"/>
          </p:cNvPr>
          <p:cNvSpPr/>
          <p:nvPr/>
        </p:nvSpPr>
        <p:spPr>
          <a:xfrm>
            <a:off x="8834400" y="588168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>
            <a:hlinkClick r:id="rId5" action="ppaction://hlinksldjump"/>
          </p:cNvPr>
          <p:cNvSpPr/>
          <p:nvPr/>
        </p:nvSpPr>
        <p:spPr>
          <a:xfrm>
            <a:off x="8834400" y="63230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>
            <a:hlinkClick r:id="" action="ppaction://hlinkshowjump?jump=firstslide"/>
          </p:cNvPr>
          <p:cNvSpPr/>
          <p:nvPr/>
        </p:nvSpPr>
        <p:spPr>
          <a:xfrm>
            <a:off x="8833680" y="43070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713 – HODY AHO, RAIKO Ô 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ISAN’ANDINI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Manimanina ny lanit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'Lay fiainana mandrakiz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'Ty tany ity mampahor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Avelao hody ami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(Hody aminao !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>
            <a:hlinkClick r:id="rId2" action="ppaction://hlinksldjump"/>
          </p:cNvPr>
          <p:cNvSpPr/>
          <p:nvPr/>
        </p:nvSpPr>
        <p:spPr>
          <a:xfrm>
            <a:off x="8843400" y="47386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>
            <a:hlinkClick r:id="rId3" action="ppaction://hlinksldjump"/>
          </p:cNvPr>
          <p:cNvSpPr/>
          <p:nvPr/>
        </p:nvSpPr>
        <p:spPr>
          <a:xfrm>
            <a:off x="8843400" y="55008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>
            <a:hlinkClick r:id="rId4" action="ppaction://hlinksldjump"/>
          </p:cNvPr>
          <p:cNvSpPr/>
          <p:nvPr/>
        </p:nvSpPr>
        <p:spPr>
          <a:xfrm>
            <a:off x="8834400" y="588168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>
            <a:hlinkClick r:id="rId5" action="ppaction://hlinksldjump"/>
          </p:cNvPr>
          <p:cNvSpPr/>
          <p:nvPr/>
        </p:nvSpPr>
        <p:spPr>
          <a:xfrm>
            <a:off x="8834400" y="63230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>
            <a:hlinkClick r:id="" action="ppaction://hlinkshowjump?jump=firstslide"/>
          </p:cNvPr>
          <p:cNvSpPr/>
          <p:nvPr/>
        </p:nvSpPr>
        <p:spPr>
          <a:xfrm>
            <a:off x="8833680" y="43070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713 – HODY AHO, RAIKO Ô 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Tsy tamana eto ah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Fa te hody ami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Maizim-pito re ny ta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Avelao hody ami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>
            <a:hlinkClick r:id="rId2" action="ppaction://hlinksldjump"/>
          </p:cNvPr>
          <p:cNvSpPr/>
          <p:nvPr/>
        </p:nvSpPr>
        <p:spPr>
          <a:xfrm>
            <a:off x="8843400" y="47386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>
            <a:hlinkClick r:id="rId3" action="ppaction://hlinksldjump"/>
          </p:cNvPr>
          <p:cNvSpPr/>
          <p:nvPr/>
        </p:nvSpPr>
        <p:spPr>
          <a:xfrm>
            <a:off x="8848440" y="511956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>
            <a:hlinkClick r:id="rId4" action="ppaction://hlinksldjump"/>
          </p:cNvPr>
          <p:cNvSpPr/>
          <p:nvPr/>
        </p:nvSpPr>
        <p:spPr>
          <a:xfrm>
            <a:off x="8834400" y="588168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>
            <a:hlinkClick r:id="rId5" action="ppaction://hlinksldjump"/>
          </p:cNvPr>
          <p:cNvSpPr/>
          <p:nvPr/>
        </p:nvSpPr>
        <p:spPr>
          <a:xfrm>
            <a:off x="8834400" y="63230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>
            <a:hlinkClick r:id="" action="ppaction://hlinkshowjump?jump=firstslide"/>
          </p:cNvPr>
          <p:cNvSpPr/>
          <p:nvPr/>
        </p:nvSpPr>
        <p:spPr>
          <a:xfrm>
            <a:off x="8833680" y="43070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713 – HODY AHO, RAIKO Ô 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Ô ! Jereo ny zanak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Miandry foana, miandry A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(Miandry foana izao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Tsy tamana intsony, Ray ô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Avelao hody ami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8843400" y="47386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848440" y="511956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>
            <a:hlinkClick r:id="rId2" action="ppaction://hlinksldjump"/>
          </p:cNvPr>
          <p:cNvSpPr/>
          <p:nvPr/>
        </p:nvSpPr>
        <p:spPr>
          <a:xfrm>
            <a:off x="8843400" y="55008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>
            <a:hlinkClick r:id="rId3" action="ppaction://hlinksldjump"/>
          </p:cNvPr>
          <p:cNvSpPr/>
          <p:nvPr/>
        </p:nvSpPr>
        <p:spPr>
          <a:xfrm>
            <a:off x="8834400" y="63230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>
            <a:hlinkClick r:id="" action="ppaction://hlinkshowjump?jump=firstslide"/>
          </p:cNvPr>
          <p:cNvSpPr/>
          <p:nvPr/>
        </p:nvSpPr>
        <p:spPr>
          <a:xfrm>
            <a:off x="8833680" y="43070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Halako ny tabatab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Halako ny ady lav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(Ady lava izao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Mankaleo ny fahorian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Avelao hody ami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713 – HODY AHO, RAIKO Ô 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8843400" y="47386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848440" y="511956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843400" y="55008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8834400" y="588168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>
            <a:hlinkClick r:id="" action="ppaction://hlinkshowjump?jump=firstslide"/>
          </p:cNvPr>
          <p:cNvSpPr/>
          <p:nvPr/>
        </p:nvSpPr>
        <p:spPr>
          <a:xfrm>
            <a:off x="8833680" y="43070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10-02T09:37:28Z</dcterms:modified>
  <cp:revision>78</cp:revision>
  <dc:subject/>
  <dc:title>Tiona Advantista</dc:title>
</cp:coreProperties>
</file>