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0E79-FF24-401B-86EC-CB5D58477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C504-EB37-42ED-8161-7235EC672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1AD7-2583-4143-B7CB-9FA5384B1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5D02-8C7A-4DF1-A75C-9D26E3F99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26D63-EE6E-41A6-BBEA-6E694FD6F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5BC45-40BE-4BA7-886B-2B2796FFB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DA749-A602-421F-AEC8-8E414DEF7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4E994-45E2-4B62-9708-FB9B798CB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84CC1-68CB-4CE3-9C99-91F978288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EED36-AD65-4FFF-B215-651D8EC7B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707D4-617A-4275-A492-68752F735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44F8-7D62-44C3-BD4A-01F38CCF6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5B810-D1F5-40AC-A2D4-605B8427F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66B6D-FDF3-463B-8D56-3C6D0C4C8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D6B32-AFD4-4EBB-93DF-39D4FD705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E4A15-F675-4B26-9477-A98BACB31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58373-97EB-46A5-920A-7C5AF9E09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CB51-A2B6-4C48-85A8-0D25A4837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D2AA-8350-4FFF-8488-D1644C446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896B-8B95-45B2-B1B4-BE7A9067E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25E2-E6A7-4B11-8177-0C0CB0E50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47D2-C7C6-4BC4-93D2-AD8814C2C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C766-928F-46E2-BA2F-2F50F1E4F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FB22-8370-47F4-BA54-A9FF214E8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99EDD-57AA-45FF-BC71-63490C51354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645B3-4705-4C39-B78B-2776D613635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TORIANA NY FILAZANTSA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Valin’ny antso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azak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azak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361 – INDRISY OLONA MAHAN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373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62840" y="57546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61358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48800" y="6516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61 – INDRISY OLONA MAHANT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ndrisy olona mahan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 no hanafaka ity gadra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reo Jeso 'zay afa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ome ny fiadanam-p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62840" y="57546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57800" y="61358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48800" y="6516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48080" y="4941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61 – INDRISY OLONA MAHANT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:,: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Jeso re no manafaka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Raha Jeso ho afaka tokoa, tokoa iana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sambatra koa sy hiadana s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Sambatra, hiadana). </a:t>
            </a: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:,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arovy ry olona mahan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 mpanafaka ny gad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arovy re Jeso fiadan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57800" y="5373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57800" y="61358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48800" y="6516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48080" y="4941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61 – INDRISY OLONA MAHANT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sendra kivy sy toa o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ho ny vesatry ny ot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tsoy Jeso ka mitrak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y miravoa fa ho afak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57800" y="5373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62840" y="57546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48800" y="6516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48080" y="4941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61 – INDRISY OLONA MAHANT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mikasa hanao ny tsa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efa manao izay voara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hoana re, ianao Jes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miantehitra amik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Jeso re, sns</a:t>
            </a:r>
            <a:r>
              <a:rPr b="1" i="1" lang="fr-FR" sz="32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fr-FR" sz="3600" spc="-1" strike="noStrike" u="sng">
                <a:solidFill>
                  <a:srgbClr val="00ccff"/>
                </a:solidFill>
                <a:uFillTx/>
                <a:latin typeface="Times New Roman"/>
                <a:ea typeface="Arial"/>
                <a:hlinkClick r:id="rId2" action="ppaction://hlinksldjump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57800" y="5373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62840" y="57546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57800" y="61358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48080" y="4941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5T17:34:59Z</dcterms:modified>
  <cp:revision>62</cp:revision>
  <dc:subject/>
  <dc:title>Tiona Advantista</dc:title>
</cp:coreProperties>
</file>