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E8F9-F049-47A6-BD40-EAF599AC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EFF-B5AA-4D59-A965-765A5782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AF7F-A8B2-4231-8FF1-D3A32B9C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76C-1523-4491-961B-7DF69164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B45A-3D49-4C8D-830E-F2249C8B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B15C-10AC-4AFF-9B09-C1925F44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BBA4-3835-4218-8487-2120436C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921B-5A18-4EC3-987C-60FB3C4B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A82E-07E5-41A5-B074-396D0800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FB60-B785-4A49-82B1-23037A8B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0AF8-ECB8-4655-AFA8-FE28146F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6375-F08C-4D1E-B253-D1E64509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DEA2-830E-411C-B6BF-A7706957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1734-917D-409D-A5BE-148EE372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27DF-8084-4E2B-B415-D0BE9A0B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6133-F0E5-4F3D-B2FB-20AA3F7A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82BB-9FE2-44D3-9F09-BDCD8FFF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244-1AB3-4F98-822D-CE687297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CC0-DFE4-4EAE-A0C3-D78C851B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2EE-B7C1-4C03-9CA5-9449F71B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256A-B3E8-498C-A6DB-BA8298D8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51AE-A2DB-4153-B62A-01A8D147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E11-487B-4780-9A2B-011B7A95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0119-B4D5-4278-BE62-BDF373F2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CD06-9348-4F09-902A-9976EF47EC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12D0-916A-41BC-8F80-2ACB1A9679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31 – MANONJA MALEF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1 – MANONJA MALEF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onja malefaka, manala ny manj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inga ny hirak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oka mahalana, mamelona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'ny fitiav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1 – MANONJA MALEF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'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boatra ny fo mba ho 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oka mahalana, mamelona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'ny fitiav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1 – MANONJA MALEF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efa ny taratra mazava sy mad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la ny rahona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ava ny fiainako omaly sy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'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1 – MANONJA MALEF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ampio aho handia ny làl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vily tsy hanias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any ny foko mba hadova tany 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in'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8:04:28Z</dcterms:modified>
  <cp:revision>39</cp:revision>
  <dc:subject/>
  <dc:title>Tiona Advantista</dc:title>
</cp:coreProperties>
</file>