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EF10-18DE-443D-AADE-82A9391D8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59A0-4AEA-4DB5-B760-910F8074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61C6-9263-4DF7-841B-520B0BCD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478A-0CCB-4047-B802-6D443278F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A12D-47E6-4AB1-9DD1-9D9242D90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2C8E-E70F-4E14-BC2F-FE554D2F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5B6C-49F0-4A86-9EEB-5655AC6D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3EAE-5CE1-45E2-941F-CFB54AB0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21ED-C815-465A-BAFF-0E60C137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B68D-30B1-444C-BC76-508C2D45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CD1F-1147-4693-9CD6-68A212B9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C609-E916-4087-914E-C36099D2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192D-9280-4543-A8FA-F2D3043B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871D-8E54-4B5D-94DE-DEA22D59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A6B6-3CA7-4036-A784-AA9F2C3A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E7A3-EE3B-491A-A818-1DFD8623D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6385-2EC8-409A-BE7B-388F9A6F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50AB-C58E-4D75-9422-6045990A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6098-1B23-4A96-BA8A-4F1095ED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0AEC-F2F9-400F-89FE-43E426F2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67EB-A5D2-4741-9ED7-26E62CE4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3859-0E85-4803-B484-E0D207A1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CF00-1AD9-48B4-9492-5F233C7E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D580-1138-482B-84C0-326252C2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DCC3-E5C4-4136-896F-847202CF3C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5F2A-2992-44A8-801A-8A64D111C7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barij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cien Choral 170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14 – O ! HENOY RE NY F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14 – O ! HENY RE NY FE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Henoy re ny f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y ao an-dan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fatra manehoe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men'Andriamanitr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Henoy, ry vazan-t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vahoaka maro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, henoy, manek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336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14 – O ! HENY RE NY FE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jay ny feo manao hoe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&lt;&lt; Matahora Azy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fa mitsara Iz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Mpanjaka lehi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re ny sitrap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katoavina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ntosao avokoa &gt;&gt;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434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336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314 – O ! HENY RE NY FE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enao ve ? avy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y mba handray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risty, 'Lay Mpamonjy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anota ô, heno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pitra eo ny ady ma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ny fisento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falia hatr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434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36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8:38:11Z</dcterms:modified>
  <cp:revision>61</cp:revision>
  <dc:subject/>
  <dc:title>Tiona Advantista</dc:title>
</cp:coreProperties>
</file>