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BEE-081F-4233-BD90-3F91876C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08F-4FC5-4F53-B06B-C23B5B54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71B-4B99-416A-8673-3473623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A0B-0053-491B-8143-6C243A7C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5547-3380-45B0-9106-A9779F7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B9B-7839-4D7A-ADEA-3773516B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0DC-B65A-40D3-9FF7-2A8310F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96C4-3CED-4CB0-A509-E991D80C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4E3-97D6-4CD0-A627-D98E58F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C2B-1C39-4C29-883F-6329B4D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F6BB-7F40-46A7-86DA-7EEFDD10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6D3-5AD5-4ACE-A711-E6E0A46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2740-C201-4CB6-95AD-6198C60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F5F-4DA0-4665-9650-D3E85A8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1E98-0A5C-4661-89C4-BD4E9A3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56C8-E682-4A43-B945-949C5695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1482-6405-4838-B11C-095F446B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0B5-AB3B-4911-92CC-4D0713E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5E6-E5E0-410B-A8DD-24D52BC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026-38B2-466C-8E42-A28BBAAA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B3F-C36A-4739-9737-0F16796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45C-763B-4C88-A345-87253D7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6CB-7227-4B8C-9D87-825EC33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AC1-1A73-4F15-88D0-85D76A2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02D-39E8-4A99-87AD-28B6DF24BB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AFF-B460-4661-9263-D5041887E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4 – TOMPO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hery, heno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sao very, jere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nilanao, 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loz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mba 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ak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ka mba tsinj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miro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nilanao, 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to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 Ray no mba m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y ô, mba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aina o ! Mihai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taraina, rais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ho Anao 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fandao fa h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henoy re ‘zah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mba ho re ny fe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y ry Ray ô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al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gai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8:20:57Z</dcterms:modified>
  <cp:revision>47</cp:revision>
  <dc:subject/>
  <dc:title>Tiona Advantista</dc:title>
</cp:coreProperties>
</file>