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214-903A-4E3C-8457-98AACB2A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5F4-3E18-4EB9-9FB1-F20442AC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71B-0639-41A1-A221-36A7CD8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7FE-3A72-4507-B521-DD0A3B81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688-0259-4D5E-8F9E-B842F7A0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B7A-0A3E-4A2A-8DEE-4BB57A6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EB2-743E-4229-AD74-238FD63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15B-FE0C-4283-AC30-18F50D34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50F5-9330-44A1-96D6-A8B93A80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54D-EDCE-4105-A180-F9C7486B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D937-0491-46DC-A8B7-D0B15DD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664-3CF6-4EAC-B16F-F672F3CF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3F6F-9BB0-402F-87C3-821FEC5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73C-0C06-45FA-997D-34BD2163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D33E-8DF4-4DCB-B0D1-C9CB0313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B2B-17F2-40F4-9FC3-CB732C52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411C-1ADA-438B-B51A-D23906D3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0A0-4FCE-4965-84F0-DEA3FED1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DF5-168D-42F2-826F-0D5F5CF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1EB-7992-433E-8382-B077D069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2A3-4972-4DE8-85EE-0AA3288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DF8-AB90-4C24-957C-FFF1387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E83-F502-40D1-A4B7-F50AD86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37E-07B2-4ADB-BEE1-1F4663BA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8D5-E8B1-4E13-B4B7-5684C083C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72F-460F-4C4E-847D-CE147F4BDB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9 – ‘ZAY M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35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26400" y="59421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26400" y="6323040"/>
            <a:ext cx="4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9 – ‘ZAY MANDR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'Zay mandresy, 'zay m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ira ny hiran'i Mos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e sambatr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retrik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e tretri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hitomany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jakana tsy ho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iakanjo fotsy l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dera an'i Jehovah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dera an'i Jehova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n-danitra ao ambony.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26400" y="59421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26400" y="6323040"/>
            <a:ext cx="4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260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9 – ‘ZAY MANDR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$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Ka hihira hoe : Halelo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, haleloi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aleloi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halelo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hosan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ka mihob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obia sy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irà irony hira hide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sy izao ny fando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ngana ny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ontsika 'lay Kanana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35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26400" y="6323040"/>
            <a:ext cx="4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260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9 – ‘ZAY MANDR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obio de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Ô ! Mifalia, mifalia)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falia, mihob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irà sy miravoa,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rav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o ny Hosana mifan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Ka matokia, matokia),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okia, mia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osoa eo aloha, (Eo alo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andova an'ilay Ka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ndresy.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35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26400" y="59421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2604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7:45:09Z</dcterms:modified>
  <cp:revision>37</cp:revision>
  <dc:subject/>
  <dc:title>Tiona Advantista</dc:title>
</cp:coreProperties>
</file>