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3696-8032-432D-BC48-A4EF39AB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0B5B-FF65-41F5-8A41-61157CAB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5436-C7D6-488A-B085-6DA27ADF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99FA-B56A-40FD-A738-DBB204B8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4D9A-4C35-4F51-BFCE-79B9159A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5F77-C36C-427F-9524-53763C13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8131-3C6E-4447-91B5-3C174C85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BA60-2FF5-4442-947D-01D1A21B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1D69-0059-49AC-BEA0-29E6AED4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3FFF-F244-4D48-9A3A-E43F7B1C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86FC-AFF0-4951-A8C0-B7A50D97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C604-FF76-49AE-A3B8-F41FECD7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62D6-0485-45B9-B41C-D30594AE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B643-5DF5-47DC-926E-B5E0DE00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3AC9-CF6D-4136-8E0E-8122233F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A168-FADB-4B6C-853B-511B2E5A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159D-A9A3-4796-808E-12E9469E0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D438-A825-4844-AEF3-87E23FEB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A727-058F-4B61-AFA3-7C2FA00B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44A3-E978-47BF-A55E-D59E9C73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8068-1E44-4E70-938F-9B048F80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D76F-B0E3-40FB-806E-0797E945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E9CE-5543-4325-8EEA-CF18DAC0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B2F3-94AC-4CB7-B001-A74325DE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C13C-A251-4A5C-B857-F541D7F952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D0B0-76F6-40DB-B118-51B71F780A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inany sy ny fahafates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. Torvik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. C. Clephane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FFPM1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81 – MANIRY MAFY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81 – MANIRY MAF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aniry mafy aho, ry Jeso Tompo ô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ialoka eo ambany hazo fijali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sy misy toeren-kafa re 'zay tena mamiko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hazo fijaliana no fiarovak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81 – MANIRY MAF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zo fijaliana no itazan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anao Izay nijaly mba ho avotr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dia kotsan-dranomasom-piti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vako, ry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fa-kelo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081 – MANIRY MAF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-pototry ny hazo 'zay nijal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itoerako hohazavain'ny tav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aoko fatiantoka ny zava-mora l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zo fijalianao no tombon-dah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13:19:27Z</dcterms:modified>
  <cp:revision>32</cp:revision>
  <dc:subject/>
  <dc:title>Tiona Advantista</dc:title>
</cp:coreProperties>
</file>