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C70C-CAE0-4C94-A3A6-C0176D5B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DAE6-044A-4010-9E49-4BCB9BB9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B943-E472-4F19-85BC-7BB893B0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C927-7C3F-406C-A09F-C01773A2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EDF6-DE66-440F-903C-DCEDA17D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CE41-035C-4409-BA9B-3CE5FE42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828B-CE56-4F3E-A0D0-AD3FBF3C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890A-AF66-446C-92B5-5A673D17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76E0-2F5A-4A87-955D-100B4C01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ED3C-F933-4A82-B503-97938417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FF4F-FDF0-43A3-94E7-61C15C90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A92-3D53-4B1E-A2DB-90C0CCA6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5968-977D-43E4-97D9-4F21EDDC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F6CF-B2E3-405A-9433-47669201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E527-335F-4F1B-84F6-54791FE9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2F1A-FBE9-4185-BA7B-F537DB05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A0BE-3E81-4460-8077-97CB4F76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ED90-08F7-4DEB-B019-BAFAFEB2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C05A-F03D-4C2C-B9EF-BB13F903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836F-A190-4D41-91D1-52B505E6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EDA-8527-4527-A035-5D029BE6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8C5D-ECB8-4EBD-8236-15A1E7DE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92B-5093-4ADE-AA55-55A0070E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B2F-3028-42E0-8805-A49FAFE0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FB9E-2D28-4B76-9D3C-61742FD4EB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7B01-B4BD-419C-B543-059ED221F1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. Barbeza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13 – ‘NJAO MANDONA MORAM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3 – ‘NJAO MANDONA MORAM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jao mandona moram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panjakan-d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alim-be ny or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Vohay, vohay iz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3 – ‘NJAO MANDONA MORAM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ela no nand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itiavan-dehibe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raina toa mif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Vohay, voha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3 – ‘NJAO MANDONA MORAM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tsy renao, sa tsy t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vohana Izy r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rao dia lasa ka tsy re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Vohay, voha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3 – ‘NJAO MANDONA MORAM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ely sisa no ho re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donan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ela, mitsang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Vohay, ny Tom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monjiko mal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so aho hatr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andà tsy hahal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rem-p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3 – ‘NJAO MANDONA MORAM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3 – ‘NJAO MANDONA MORAM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Vohako re, r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eny mbola re ny fe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osoa ao am-p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jakà irery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8:35:14Z</dcterms:modified>
  <cp:revision>61</cp:revision>
  <dc:subject/>
  <dc:title>Tiona Advantista</dc:title>
</cp:coreProperties>
</file>