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E86-D694-4D02-818E-55C0498B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0F9-4EC6-49D6-9AA2-77CC915F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353-36F8-4572-8520-B29BE657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943-BB0E-4A3F-BBCC-5EB1FA78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8B1-B3B1-4AE6-9EEF-F04480E1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02E2-DB5C-4E47-88F7-5DEEB8E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4E7-047F-4240-8826-0AEA1AED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5FD-3E2B-4E86-B516-C378948F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EA5-AC8F-4329-9D8D-F87F846C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4141-6645-4177-8E07-6D7BCC7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AB4C-230A-4432-9D59-97D7415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083-C589-40F6-A26B-B6FB455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0530-694D-416B-86D3-63ACF56C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1F4-6B79-42CB-8A92-E042400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CD65-DECC-469F-AEE0-66797BF9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AFFE-BD2E-4A84-872C-72830E38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472-A81A-478C-BD33-626637B4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289-5283-43A1-8360-761492D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237-451B-4CC6-B075-413E41AD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5FF-2A9E-455C-918C-5E5E337B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643-A243-453B-A6B5-273BAA51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A99-A6DC-4561-8932-D359EFB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86B-5A28-423C-B18E-2EEEF50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D64-F607-4BCD-800F-E7CCFEB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31A7-00C3-4B25-A3B9-984B81076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833-5AE7-47C1-8B3B-D3E9124731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7 – HO HAIK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7 – HO HAIK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aiko ve 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l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o tontol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hiko ve, lavi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onao ti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satri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 doria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7 – HO HAIK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aiza na aiza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sy Ianao, 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f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sanat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isar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ia ka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7 – HO HAIK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eko ve 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eona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,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lav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izaho lavi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manindao Jesosy ô, Mety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7 – HO HAIK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fo 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e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oto sy 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na mifam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, eny tretrika ao, 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onina ao am-po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7:51:51Z</dcterms:modified>
  <cp:revision>36</cp:revision>
  <dc:subject/>
  <dc:title>Tiona Advantista</dc:title>
</cp:coreProperties>
</file>