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5A7-83A8-492F-B815-D9A594E8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76B-21D4-4155-997C-087BA67B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4AC-BEDB-44DA-830E-DCB42B85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1D2-ED87-46B2-9D34-FA5CF01E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CF3C-3527-45AC-9F2E-6A83B636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D70D-993B-4349-8174-6E7A2250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D857-0E17-4B17-A71A-15F9AEA9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875D-7357-4E61-96C4-AFC6644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12A3-B671-4843-80E2-8CA11DF8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A365-3971-4262-94A8-7121BBA7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A1F5-24CD-4144-969E-3740000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388-BE33-4A4D-AB09-CDEFCC50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C48A-83D7-4016-9FE0-331F0297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0EEF-CDCD-47AF-97CB-D4390851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9A66-741D-4053-BAFA-7F3192F4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1A06-42A5-48F9-A8DC-C654EDB1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8521-7F47-415C-98D7-9A687C17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0F8-E0E9-45A0-9C72-E31D73A8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8BB-A38D-4D53-BAAA-41D1B7C0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B2F-09F0-4525-AF45-59EC1CA2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6B0-7726-4CF3-BB80-F69243D8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FE4-25AC-498A-91B6-5A4521E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0F7-049B-4B78-A8CD-9FBF5A2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3CB-57E9-4281-B3B6-7B0E3D17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AB73-A10B-45EC-A104-A28350F28D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5D57-8A7E-43B4-9966-66E1782F63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pakaram-ba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ué A. Rab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h. Gabri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2 – RAY Ô ! ISAORANA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2 – RAY Ô ! ISAORANA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ô ! Isaorana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fotoana mam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tanterak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irian'n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2 – RAY Ô ! ISAORANA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ino re 'ty tokant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vao nao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asino sy tant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jakan'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2 – RAY Ô ! ISAORANA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Ianao no loha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anton'ny fiain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orinao ny tokantr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o, fanahy sy saina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2 – RAY Ô ! ISAORANA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y ny fiad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kantranon'izy i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hamirapiratr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vavaha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13:04:28Z</dcterms:modified>
  <cp:revision>77</cp:revision>
  <dc:subject/>
  <dc:title>Tiona Advantista</dc:title>
</cp:coreProperties>
</file>