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EBE9-4564-4934-BF07-CE3C6F1AD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489C-15A1-412E-8A09-876B9549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9A1B-80F7-4853-91AB-B3C930867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B2E2-663F-4D4F-8BD8-9872CF1E0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1E91-4465-43F5-8D86-E8CB28C75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6B43-DBE9-424C-919A-98BA9265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9ECE-6015-4305-8DF9-3741B079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3995-C144-42E8-8E5C-B58339F9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AF93C-D1EC-4F0E-908E-12383190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72D6-BEF0-4EEE-B2E1-A445F448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E5E2-8501-4F4B-B95E-E859C11B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02D0-A1A3-4748-A589-68F2F8D9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78B0-A242-4A55-BAAC-78898F8B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66A5-F008-49F9-8AC3-4BC71FFC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C95F-C4F6-4D77-9A6E-4C51E144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A801-6C0C-48F6-9721-52D2E2DAB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530A4-D90C-4527-AD6E-591712AE6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63C4-F322-474E-9339-A85A5587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FB8E-118D-4B77-B5E2-C117210E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66EF-76AC-4C5B-89A4-120FEC3D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A597-B9C6-49A2-9A2C-40522B68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6491-0314-4944-AE1F-855754BA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016A-8C67-403B-A65C-07D8E254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1CA5-D086-4558-A4E5-C00E45AA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67DE-BF0F-4797-B79B-CB627ED356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FA00-8457-474C-A541-BCB7A07A65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OTOANA SAMY HAF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ariv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46 – JESOSY Ô ! HARIVA NY AND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46 – JESOSY Ô ! HARIVA NY AND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ô, hariva ny andr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oera ami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fa hidify izao ny masoandr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tahotra izah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ri-tory foana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tsy Ianao No miambina 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ô, meteza hito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ty an-dasi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8848080" y="5581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46 – JESOSY Ô ! HARIVA NY AND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ô, Ianao no mazav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posaka ami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ahotray hisinda, ho rav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sambatra izah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sy finoana, esory ami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Misehoa mba ho toki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ô, Ianao no antena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no aro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8848080" y="5581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8T12:48:24Z</dcterms:modified>
  <cp:revision>76</cp:revision>
  <dc:subject/>
  <dc:title>Tiona Advantista</dc:title>
</cp:coreProperties>
</file>