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240-3C7D-4383-B42E-F026BF75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3B6F-0618-409C-B1FC-1EB2336F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E3F-DCE0-443E-9480-EE91D1D9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2FB3-0C86-425D-BF28-1D130EEF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7BB8-231D-484B-9DF7-FA44796B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D594-ACE6-4253-A7B0-9CE67709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A1E3-685E-45CD-A474-7EBD24D2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A793-4C11-4DD0-835B-E3E7A525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F00F-AE9E-4374-B3C3-F6690AAC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3DAC-4C42-4E2D-9351-98DEE0D8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C066-3B04-42ED-B05D-E2E78861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FA70-0FBE-4BED-9751-183D3EE5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8722-188C-48F4-903C-71FE0EB9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B9A0-0C0D-4F21-B79E-D6AB3695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5CC4-2106-48CF-87C8-89D8C1C0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A538-94AB-4E01-B1C1-D5676986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5800-B751-40DF-92F3-2914868E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6E8-106B-47D0-824F-8870D585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3F4-55BD-41B4-84E1-1A403D6C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F34-12FA-4669-B1C3-7DF594D9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469-63E2-4E7B-9186-EE9BC286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33F-AC78-4B4A-B1B5-404B3261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B7D-AAE0-4642-B181-2B67F133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0183-1F39-4780-840C-0F697E34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3AEB-AA9C-4748-99F0-1C36E7AC66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FF05-7D4D-48B5-9737-874A825321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joeli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joelia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15 - FANTAT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87960" y="5084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88320" y="546588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8773560" y="587700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8773920" y="625788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5 - FANTA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ntatro fa nandona hatry ny 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ato am-poko Ianao, Jesosy 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ry reko hatry ny ela k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eonao 'zay mitala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e hanolotra ho a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amonjena izay nat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an'ireo izay tia 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Sy ireo nanetry te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ba handraisana 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88320" y="546588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73560" y="587700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73920" y="625788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653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5 - FANTA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Ô, ifonako tokoa ny heloko, Jesosy ô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vohako anio ny fo hitoeranao mandrakiz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avonavona taloha, ny fahotako hatriz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Entiko eo an-tongotra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diovinao, handraisako Fanahy vaovao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87960" y="5084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73560" y="587700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73920" y="625788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653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5 - FANTA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ino aho fa ho sorona ho a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 nijalianao, Jesosy ô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ry inoako koa fa famonjena ho a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rà nalatsak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ny hetahetam-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'Zay velona ao anatiko ao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ara-maty ami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hatsanganao indray hiara-hitoetra aminao.</a:t>
            </a:r>
            <a:r>
              <a:rPr b="0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87960" y="5084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88320" y="546588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73920" y="625788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653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5 - FANTA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ihainoa ankehitrio ny vavako, Jesosy ô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atolotro Anao 'zao tenako malemy 'z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tafio ahy anio, Jeso, ny fahamarin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ankohofako Aminao, ka hitsenako Ana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aha ho avy Ianao rahatrizay.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87960" y="5084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88320" y="546588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3560" y="587700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8762400" y="4653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10:23:28Z</dcterms:modified>
  <cp:revision>78</cp:revision>
  <dc:subject/>
  <dc:title>Tiona Advantista</dc:title>
</cp:coreProperties>
</file>