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902-8FC7-4D8C-9A31-23721770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C98-6014-4708-B4A1-B69D5759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EBD-C5DD-428D-A979-AED77F85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4A0-2A0C-4C57-AE24-E6EA87FB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46C3-383C-4ABE-BFE5-AC928D77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D05D-F496-4119-9744-0B5786B6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D62C-D800-4D9C-A418-151280E5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535D-C122-45EB-BCC3-62D7C65A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FE0A-DE90-4215-827E-15492573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2D44-49C2-438F-A390-8E659AC9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FA1C-BC28-42B9-B146-C31F011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0A3-90D9-42F6-9CBB-C7ADDC88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F4DE-BF5F-45AE-BF7C-1E4F29C0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D90B-CDEA-4B2C-A1B7-C02D696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7769-F599-47B4-9BFB-FDE2A714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37C5-D0A8-480A-93FE-D2794852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5099-C5B2-4215-8BA1-B71D7340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54C-00B8-4C2B-97B2-7CC92C2E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A68-54AA-48B7-9591-081FCE21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9CF-11A0-4C21-B2A1-70BD6D93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9E4-1DAA-407A-956C-81EB79EA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C16-F766-4744-A6A8-BF613AA5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B54-8F68-439E-9584-695C5E5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775-494C-4560-83CC-5BC4A8A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49A6-BBEC-47A6-8644-0A5E376EFF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4039-3433-40FA-B2FF-4B2141CE6F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aranana - Tsodran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H. Monc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HL197, DLG20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80 – RY JESO TOMPO, NY 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288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2880" y="46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288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13880" y="536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1388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20000" y="6249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0 – RY JESO TOMPO, NY 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, Tompo ny 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tokianay mpanompo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tarika ny fiai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ilaozanao, mombà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22880" y="46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2288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13880" y="536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1388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813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820000" y="6249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0 – RY JESO TOMPO, NY 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Satana fahaval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andresy sy mandratra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, Ianao no tanjak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vinao re ka mombà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2288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2288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13880" y="536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1388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813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8820000" y="6249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0 – RY JESO TOMPO, NY 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o ny loza mampangov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ranolainay mety rov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 matahotra ny zan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vangio re, aro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2288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22880" y="46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13880" y="536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1388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813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8820000" y="6249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0 – RY JESO TOMPO, NY 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kely hery ka mivadi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olon'osa sady or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 ny afanavotana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 tia ô, aro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2288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22880" y="46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2288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1388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813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820000" y="6249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 midona aza ny man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la ho reraka, mamo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omaso koa mitrahotr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vinao re ka mba ian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0 – RY JESO TOMPO, NY 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2288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22880" y="46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2288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13880" y="536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813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8820000" y="62499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ana manoloana ko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fatesana toa hani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tia, aza ilaoz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tanjaho re hatok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80 – RY JESO TOMPO, NY 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22880" y="422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22880" y="460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22880" y="498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13880" y="5364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13880" y="5805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881316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5:00:51Z</dcterms:modified>
  <cp:revision>53</cp:revision>
  <dc:subject/>
  <dc:title>Tiona Advantista</dc:title>
</cp:coreProperties>
</file>