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AEB-5935-46E3-8066-AD011246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512-6BCE-4F7D-A1BC-73FFC871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37B-E8ED-4E2B-B606-0FCA760F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981-A4C6-48B3-BB98-5507C22E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F5A3-171D-4FD1-830B-3631A917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6989-A7EB-470F-8A39-1ABE4CE4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DE67-4DD4-40C4-BE48-09FBC373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E78F-88FD-4589-B1D9-E95BFF6F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60E1-B8B4-440B-875B-B267C8EB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6750-8DEA-46EA-9477-7E1D2812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3AEA-22A5-4FAB-BE05-7274EB30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B40-166D-44F5-AA5E-747B1BC8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5E30-BE47-4913-B5E0-7EB3B99E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BF72-64E0-4983-AC2D-27FA4C1D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9F11-E2BC-4142-A453-1D3DE698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F508-8BB3-4E10-B2B3-B2577B3B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BCC0-9098-447C-B893-547E1458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A0D-2338-4C5B-9F99-E334D613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B6D-A4C1-4993-8572-2E9CCCBC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D1F-83AB-4CBA-AF8D-A040FA1F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A66-F531-4556-BB92-393F061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CD2-9EC0-458F-8EB7-BFA36245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934-3E69-4F70-8517-AE29BA37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DAB-58C7-4EA4-9EE0-07F63003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A4AE-FFA0-428D-A171-ED318AD633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3E81-FD31-41F6-9072-68F83AADDB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aranana - Tsodran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ir Silési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90, DLG43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82 – IANAO MPANDAH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2 – IANAO MPANDAH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Mpandah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defa haf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amonjena h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Raiso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ja ent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dera, ho fisao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2 – IANAO MPANDAH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anomez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mpaherez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olotra ho anay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anjar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dana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tena loharanon-t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82 – IANAO MPANDAHA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so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hava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obakao h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mpira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saina vao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vy aminao,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04:16Z</dcterms:modified>
  <cp:revision>51</cp:revision>
  <dc:subject/>
  <dc:title>Tiona Advantista</dc:title>
</cp:coreProperties>
</file>