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603-2792-4C61-BF7C-D125007B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726-2F3F-48A3-A129-DD20301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741-6BE8-46C5-A6A9-B4E39F34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53B-2CCF-4510-B829-8A8FA2FD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B5F0-AD11-466D-BDFC-58B9020D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A430-079B-4448-91EF-B5474F5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92D0-D377-44D5-B7A1-446AD552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8AE-943F-4B03-9837-096F58D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AB90-1EC5-41B2-AE9D-FB4FF95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425-DC43-4988-B4D4-16F6995C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B641-83EA-4093-9217-FBDCACD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947-5319-4E93-B602-78CB04F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B28-6E80-4102-91F4-ED607DA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BF1-5D2C-4EA4-B428-F42A760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585-53F7-4E90-B6B5-A0FC4676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337-FE49-46A2-AFF4-795BCF81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BBDF-F1C1-4691-9B9C-BE724AB5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CB3-0238-4249-80AC-75F1246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A38-9135-48AE-BBE1-69B916FB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F54-4D45-4A4C-83CF-21CF18C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0F1-7B68-4BC4-9B84-6771AD31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63A-12F1-40B1-AC4C-5E41B32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F2E-C858-4EA1-91B9-3742BD6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0EF-A558-4F36-A11A-DB32C4A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639F-94E2-4118-BEC6-040533F8B0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E147-D97E-41F9-BC57-9ADA568BF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30 – FA FITIAVA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0 – FA FITIAVA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iav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monjiko t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tsy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Tom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iav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Tomp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riko tokoa,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0 – FA FITIAVA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 hatrizay,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natiko ao ahit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ifoha aho na ma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ifoha aho na ma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a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0 – FA FITIAVA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iav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aro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man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miand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iav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Tomp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riko tokoa,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30 – FA FITIAVA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iav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njaka, Ray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anati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napak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iav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Tompo t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riko tokoa,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7:55:24Z</dcterms:modified>
  <cp:revision>88</cp:revision>
  <dc:subject/>
  <dc:title>Tiona Advantista</dc:title>
</cp:coreProperties>
</file>