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F15-DDEE-4E54-A90D-F284C29B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27B-390A-4CA0-85A6-BA0D980F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E74-852B-42A7-8133-E39CCA41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95C-3A76-48B4-B0F2-0A67C583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3871-6817-4456-AE8B-607EF51E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A059-558B-4A88-9813-B8D9DB56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57EF-9610-4340-B2A3-D1CF60C5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24DC-829A-4A6A-B372-8CE23964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BF46-BC26-41E1-B44D-F5DD4536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C489-C2C5-4231-B730-84AB4F0D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E81-4EC5-4076-A21A-9AC2032F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6CD-856F-4014-9433-A8F0469D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75CB-0CA0-4AD4-9337-33FD9BFA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30E2-6FD7-49DE-A635-DE36A5C0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FD9-C9EB-479A-A003-E5155A6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2A68-325D-491A-BC1C-083B1B22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5272-69B8-4678-8A5A-5AA67EFE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951-9317-4398-98B7-8061D0E8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566-63DD-4054-92CE-F43BCC4B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309-9ECA-4AC5-AB1F-71E9CBA4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A35-1591-4AB9-955D-549B6F9D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05F-5DAE-4BCE-8F08-76CCB252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C05-2BFD-460E-B73F-F435EC0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CEA-528F-42D5-B16B-7B6197D8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EE48-93C1-4E93-A2A4-6DF94795B4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D35C-96EF-4214-8A77-0943E20800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9 – AMPAHIRATO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9 – AMPAHIRATO AH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hirato ah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hazavana mami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rika 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iseho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kintan'ny mara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ro làlana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9 – AMPAHIRATO AH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ladio ny sof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aino ny Mpamonji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iako indrindra izao ny h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eony mahafal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itenen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'Zay Mpanavo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itsy re ny diak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89 – AMPAHIRATO AH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kafy koa ny v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za 'Lay Jesos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ijaly tao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ovako n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ba tendreo ny mol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Kristy 'Zay Mpisol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tso ireo mpanot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27:25Z</dcterms:modified>
  <cp:revision>40</cp:revision>
  <dc:subject/>
  <dc:title>Tiona Advantista</dc:title>
</cp:coreProperties>
</file>