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B16-6CC9-435B-981B-D270967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9C0-D1CC-4098-9753-615F7F08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4FC-213B-449C-A846-8D976199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65A-F08F-4B21-A6F5-173A767B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843F-9814-426A-8EAB-AF01668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537-4A0F-47C9-BFF2-3A22C89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C06-2D54-492A-8B4D-8B745D00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84C-5E39-422A-A5D7-DA99D80C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C99B-FD29-4F03-B34F-61DB190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0449-BCB0-407C-A729-554BA34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CB27-2841-40C2-8C01-F103717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F88-802B-4BE0-9E72-955C2BD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D2F6-8A48-4E17-80A9-465A173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87C-2406-47E7-9E40-FA51736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FB4A-0737-428E-B7FC-73A4F295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1D8B-5B14-45B1-A7C1-8C1C166A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C3C-A978-478A-B732-8E404F2C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763-441A-4C72-BC81-61CF229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41B-D069-4792-BC01-D126D09F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575-C125-4996-A8EE-3876503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A93-454F-4A22-BB97-E25B2C08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3CA-00E3-4B6C-B7B3-8A79FA9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8B1-BD5A-42BF-A7C1-DFFFBB9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132-BF74-41CA-A788-C318062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327C-F583-4024-AB17-F409CA243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B22-A261-4093-811F-0EB49CAE1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uel Stennet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5 – TSY MISY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5 – TSY MISY INTS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ampitomany t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levona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no indro avy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5 – TSY MISY INTS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aho ny hand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tany vaovao natao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sy samb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 no Mpanjak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5 – TSY MISY INTS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dy 'zay mandr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dripaka ain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olo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olona sambatr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5 – TSY MISY INTS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tafaray ny m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nosarahin'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, ireo vo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fianakavia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7:32:51Z</dcterms:modified>
  <cp:revision>74</cp:revision>
  <dc:subject/>
  <dc:title>Tiona Advantista</dc:title>
</cp:coreProperties>
</file>