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43D4-41DD-4349-91A5-4FB22B0B8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F963-754C-4E16-896D-765B6092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D34A-775E-4AD8-A8E9-34DEA613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BA7B-B722-47A9-8630-EA00544BA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B014-4B0C-414F-B157-FA9200A2C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B7C7-5BE1-417A-8B4E-4CE01AEA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01D9-03C8-4D58-9067-20F4FFA1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D610-FC99-4379-8815-6B729D0C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6F94-4E72-49A7-B2A1-8744F571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57B1-B0DB-4AE5-BA92-4D1B14A5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94C7-0853-42E2-A750-E8A2523C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E2EF-0B56-4AFE-81D2-FBFC87D6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024B-10F6-48C0-9E94-93BA4B6C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A08F-D6E8-411B-B41F-E011E101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002E-3E66-4F61-8439-7E3673C3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B4B6-BCB8-4071-A1C6-FAEA2A97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E343-1BB7-47C0-9146-EBD2AC6B8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4C42-0DEF-4B7C-B9FD-DC63C1E9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9EE7-7628-4D34-A2BA-17FB8F75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6700-4AF6-4B65-9A69-7615F0DF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AF33-45C5-4524-BB96-29073A98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1246-D8A2-4AE5-AE24-FB4D0DAE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2A8A-A4C2-4696-89B2-6B472014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CBDF-5E38-4AE9-90E6-D5628B22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8F3C-6737-4586-8823-6024255E29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B11B-DAD2-4B64-A5C6-2FA3D699C6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verenany - Ny fanjak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. E. Belde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z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38 – HO AVY INDRAY ENY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38 – HO AVY INDRAY ENY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vy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 an-danitra amb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Tompo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o ela intso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Faly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ilaozana ito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vonona v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6276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384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38 – HO AVY INDRAY ENY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y indray, (avy indra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omàna hitse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y indray, (avy indra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handray famonje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ihoby hoe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, Hosan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ao Tompo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384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38 – HO AVY INDRAY ENY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jay manako, heno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ny feon'ny trompe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ory e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efa tonga ny fe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rina izao ireo mpino rehe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vonona v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6276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5772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384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38 – HO AVY INDRAY ENY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tonga anio Kris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famonj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namako ô, ianao va heken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katra 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y Jerosalem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vonona v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6276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384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1T08:28:08Z</dcterms:modified>
  <cp:revision>36</cp:revision>
  <dc:subject/>
  <dc:title>Tiona Advantista</dc:title>
</cp:coreProperties>
</file>