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75C-7971-4457-8D06-28A0AFDB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F20-5C33-45D9-83C7-21C9DC0A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261-1C46-4B0C-B4D8-58C43D24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A74-E4D9-4058-828D-3804254B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7779-C2DB-4506-A871-9338A1DD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FBC3-34B3-4797-96D0-79909FA2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C42C-BA61-4C4F-8DFF-981682F1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40C4-43B4-4B7A-9734-E59D62A2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B8D-84FE-46BF-A39D-107CEEE3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F3C3-9DEA-47C5-94B5-04FB11CE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47B0-75BA-43E5-B887-E8A3AD3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67F-34AB-4CF1-8CCE-D45D3392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0F02-13F0-4A3D-B62C-509CC1F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1BA7-5308-47DC-A8C9-27BD260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EA94-2614-4504-B0D6-879BC9D0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03F3-F856-4F9D-8C7E-23811E50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34E3-C313-440F-BE8D-81ED6A5A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0C0-ADEE-40CC-BD4F-504A747D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E62-D4FC-4DB1-93FC-63F76707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A0D-996A-47C3-B6DD-08EF1258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018-B5E1-4420-B043-151214D2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573-0080-4077-9DFC-34BDB6AD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BD1-3D40-405A-90FA-141A5C62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04F-EE9F-4801-B7B6-4C475043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76D8-5FB3-460C-908D-2CEBE7140F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728F-A15F-4077-9837-E05FD584DA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7 – EFA ANTOMOTRA NY 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7 – EFA ANTOMOTRA NY 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Efa antomotra ny 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Hoa avy faingana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tsaharo, ry nati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Ny sento fandre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faingana ny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O ! Tongava Jeso ô ! Av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O, tongava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7 – EFA ANTOMOTRA NY 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y tany dia mi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dinao teo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vy ny andro, tsy ela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itany Anao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faingana ny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foko ô, hirao ! Hir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y foko ô, hir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7 – EFA ANTOMOTRA NY 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o 'lay fanante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lokang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'zay tsy tam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na aiza ô,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faingana ny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ongava faingana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ongava faing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6:34:27Z</dcterms:modified>
  <cp:revision>36</cp:revision>
  <dc:subject/>
  <dc:title>Tiona Advantista</dc:title>
</cp:coreProperties>
</file>