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D3662-E7C6-43E1-BB85-ED5777D51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B03F2-1E05-47FE-B13D-5A5FE5B44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72C33-CF9C-4D7A-A3E0-7D3CD59B6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4433E-551A-4281-B1C7-FBB0A6C07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6470B-AA69-424D-BE7F-42EF54C7D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CA09A-5B13-44C4-ABB3-F259C4F30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082B9-F3A0-4E78-8CFD-A5B0195F7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3513B-30D3-4F88-8ACB-BE7B0BAA9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AA132-D1B2-491F-8227-81FF6C7B0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F8752-650F-4FF1-A131-6C6F69110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6CD4B-0DFA-4678-996C-418307B45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66DD9-A408-46C5-8BE0-F061C1E32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74DAF-DF70-48DA-AE4E-3FFC61F8A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060CD-240D-4D0B-B649-F0E34EB41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0BF62-F66E-43B0-845C-4DF75E6F2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6EA72-C82B-4B5E-A6E7-175A5DA8D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FC6B5-B2C4-4E4A-8405-98D86996F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6F561-DDBB-411D-BA78-15C741874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061B2-09CC-412D-ADC6-ABFF566E5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0CFCF-65FB-4C8A-929C-F35EE50F1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28EFC-A85E-4E51-9DEC-9E288AE86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12EF0-5011-4A2B-8B0B-BD19F9A98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EAFEF-5821-4965-A50B-E62959C6E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5F8DF-938D-4DDE-BA3B-93D050F64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36ADC-6585-43AE-8A19-8A7EFD2D441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450A7-2B4F-46F7-B4F6-F7113E57A6F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FANAHY MASI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A. R. Marnoël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W. H. Gladston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 HL123, DLG11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172 – Ô, RY FANAHIN’NY RAINAY 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757720" y="53244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757720" y="57056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757720" y="60865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>
            <a:hlinkClick r:id="rId5" action="ppaction://hlinksldjump"/>
          </p:cNvPr>
          <p:cNvSpPr/>
          <p:nvPr/>
        </p:nvSpPr>
        <p:spPr>
          <a:xfrm>
            <a:off x="8748720" y="64674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172 – Ô, RY FANAHIN’NY RAINA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O, ry Fanahin'ny Rain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evero ny taranak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'Zay very fa manarak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rivotra sy alok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>
            <a:hlinkClick r:id="rId2" action="ppaction://hlinksldjump"/>
          </p:cNvPr>
          <p:cNvSpPr/>
          <p:nvPr/>
        </p:nvSpPr>
        <p:spPr>
          <a:xfrm>
            <a:off x="8757720" y="57056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rId3" action="ppaction://hlinksldjump"/>
          </p:cNvPr>
          <p:cNvSpPr/>
          <p:nvPr/>
        </p:nvSpPr>
        <p:spPr>
          <a:xfrm>
            <a:off x="8757720" y="60865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>
            <a:hlinkClick r:id="rId4" action="ppaction://hlinksldjump"/>
          </p:cNvPr>
          <p:cNvSpPr/>
          <p:nvPr/>
        </p:nvSpPr>
        <p:spPr>
          <a:xfrm>
            <a:off x="8748720" y="64674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>
            <a:hlinkClick r:id="" action="ppaction://hlinkshowjump?jump=firstslide"/>
          </p:cNvPr>
          <p:cNvSpPr/>
          <p:nvPr/>
        </p:nvSpPr>
        <p:spPr>
          <a:xfrm>
            <a:off x="8763840" y="48927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172 – Ô, RY FANAHIN’NY RAINA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Omeo fiteny izah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Sy feo mazava, fo mah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iantso sy mitia toko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itory koa ny teny so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>
            <a:hlinkClick r:id="rId2" action="ppaction://hlinksldjump"/>
          </p:cNvPr>
          <p:cNvSpPr/>
          <p:nvPr/>
        </p:nvSpPr>
        <p:spPr>
          <a:xfrm>
            <a:off x="8757720" y="53244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>
            <a:hlinkClick r:id="rId3" action="ppaction://hlinksldjump"/>
          </p:cNvPr>
          <p:cNvSpPr/>
          <p:nvPr/>
        </p:nvSpPr>
        <p:spPr>
          <a:xfrm>
            <a:off x="8757720" y="60865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>
            <a:hlinkClick r:id="rId4" action="ppaction://hlinksldjump"/>
          </p:cNvPr>
          <p:cNvSpPr/>
          <p:nvPr/>
        </p:nvSpPr>
        <p:spPr>
          <a:xfrm>
            <a:off x="8748720" y="64674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>
            <a:hlinkClick r:id="" action="ppaction://hlinkshowjump?jump=firstslide"/>
          </p:cNvPr>
          <p:cNvSpPr/>
          <p:nvPr/>
        </p:nvSpPr>
        <p:spPr>
          <a:xfrm>
            <a:off x="8763840" y="48927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172 – Ô, RY FANAHIN’NY RAINA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haizim-be mba hazav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fonay koa ovay ho v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nkahalana, vono ko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Soloy fitia sy aina mo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757720" y="53244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757720" y="57056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748720" y="64674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>
            <a:hlinkClick r:id="" action="ppaction://hlinkshowjump?jump=firstslide"/>
          </p:cNvPr>
          <p:cNvSpPr/>
          <p:nvPr/>
        </p:nvSpPr>
        <p:spPr>
          <a:xfrm>
            <a:off x="8763840" y="48927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TA172 – Ô, RY FANAHIN’NY RAINA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hazo fijaliana ani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amirapiratra avob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anintona ny nosi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iankohoka eo amin'ny Ra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757720" y="53244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757720" y="57056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757720" y="60865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8763840" y="48927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13T07:30:40Z</dcterms:modified>
  <cp:revision>40</cp:revision>
  <dc:subject/>
  <dc:title>Tiona Advantista</dc:title>
</cp:coreProperties>
</file>