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0E1D-0C09-4866-B527-6DB5EDA9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D57-DE66-4D98-857B-B0A3DE4D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1C5-621E-47F1-A5B9-76A3D88A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BDD-1CCB-4B9D-8726-92D0AAE8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144A-E8FA-4448-856D-413C1AC3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0E9E-F7E0-4C3D-A648-64286675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1E24-E3D1-4F61-8DF0-1AD9E683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062F-91DE-42EC-BD84-6026BB08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9855-3A1A-479A-BE75-8D020198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C077-3B52-4F85-84E1-ADAF3650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1FA2-AE67-47E2-ACC9-CDD647A0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7BB-13F0-4AF3-A7D6-9959B449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E060-50A9-4F8C-B4F6-1DD6CD98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4C0E-5794-4C08-96A3-DA697170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B6F4-DB91-4001-AC60-2BB2DC30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67DB-5C1C-4BCE-97C0-5ABC59D9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2397-D7A3-47EA-8004-AA492A4E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2A3-2171-4C07-AFF5-62AB01E5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CD9-0823-40B4-8E79-BAC7435D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EA8-3B4D-4B66-BB06-9D03436D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806-A2C9-4D02-8EF7-8DC87096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372-6A74-4A10-BA98-9C98AFF0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1D4-AB4D-4A0A-8A29-D82F7192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4CD-9639-4B36-8FEA-8319E628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CFAC-70AA-409C-8BF9-6F41564AB6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8B41-18DE-494C-A140-88FB1A8596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52 - RAY Ô ! AN-T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2 - RAY Ô ! AN-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y ô ! An-tananao ny fi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zony mafy isan'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eo anila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fiononan'ny fo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2 - RAY Ô ! AN-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ilanao ry Raik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nilana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2 - RAY Ô ! AN-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fiadanana tante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eo anilanao r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o ampoky ny zava-t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tsapako raha e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2 - RAY Ô ! AN-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ilanao anio, ampits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ilanao tontolo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ilanao tante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ilanao eo no tiak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08:09:38Z</dcterms:modified>
  <cp:revision>90</cp:revision>
  <dc:subject/>
  <dc:title>Tiona Advantista</dc:title>
</cp:coreProperties>
</file>