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D37-0902-4FE1-A45D-BB0F70BA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676-68C7-471B-ACBA-BA057CDC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E22-79E8-461D-80C8-57040429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237-3F5D-4FBC-B3D6-D0C5EB18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E664-2AB7-4ABF-A9AC-C9DD09CD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6B3E-C00D-42D1-BD7A-704B190B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F4C1-B88B-4EA6-92F4-721EF634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D5A-6C51-4653-89A3-98875840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F99D-88BA-4A8B-9ECB-5BED6315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28DA-38D3-4044-BEFE-6B008187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EDB2-8D5A-4377-B28E-F4CDE4F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B22-A4C9-4119-A527-4E5E643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E6C9-8D85-451A-AF69-2CCCAE5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28E9-1E0B-4EF2-B7CF-73AB5CB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2EB9-B4FA-402A-9EF3-01EAC45B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6A39-864C-49CB-91DB-78C9D755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B5DB-2C2B-4FB5-8BC2-7EB8D805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B53-AA61-4347-88C9-F2B92A93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F3F-98C7-4793-A477-D1FC3FD3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68A-52F3-4C97-A4C8-67DCE58A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1D2-0DF1-497A-9FCB-19017A93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E1E-AA4A-42AD-912A-301BA5E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2AC-F400-411D-95AA-79FCCE2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E10-B2F1-4E69-90C3-9A7C203D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2565-A915-4487-BF8E-42EFEACB00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BD09-CB58-41AF-ABDA-B268B76388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7 – FALIFALY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7 – FALIFALY AV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ifaly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isika ankiz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samy hanandra-p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bata ny andro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saharana ma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naiky ny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vonjen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7 – FALIFALY AV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ia, mihi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izao Sabat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obia, miderà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Jesosy ti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sambar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o akaikin'ny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ahiana ome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Sabat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7 – FALIFALY AV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n-danitra an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e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ivory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abata to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voavonjy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hira mafy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ho 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lehib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17:51Z</dcterms:modified>
  <cp:revision>84</cp:revision>
  <dc:subject/>
  <dc:title>Tiona Advantista</dc:title>
</cp:coreProperties>
</file>