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B91-2634-4E98-96CA-844861F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B6F-B3B9-4784-9660-0B44199C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11D-DD3F-45A7-8FDC-4D0F4A32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038-B1D8-44D3-B3F8-D905E89B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55B-3195-481E-BD35-3AECAD71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CED-F141-4A58-B6D2-3E3E2A9B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4E9-03C3-4B12-914A-98C455F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EB1-2972-4EB0-AB70-74CE1673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532E-6949-4973-BF02-BEDDB80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A02-6FAE-4C52-BFEC-D874446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756-1936-4BBE-AF1F-4727BB3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6C5-2E7B-4E5E-AB8B-33FB746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385-409C-4E53-8748-5B63FD9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B94B-7BB5-4209-8EFC-949BD0F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54EA-71A3-402E-9DD3-357E34E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A507-F7C8-4B13-AD03-33460B88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F54-8665-4C10-9B92-390FEE34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A63-01ED-4F5A-B550-F47FD8B3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851-E52D-443D-A29C-14BE03E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763-04A0-466B-B2A6-5617AE4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D3F-304A-47DC-855E-6F33808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8E9-661E-4289-A597-6989643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D49-1833-40D3-9217-11A836D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C1A-4364-474E-9720-1D9D57B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30D4-B770-492A-988F-32011FEF76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9D49-FE1C-47E8-BF6B-5BEE777621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. Ahnfe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9 – TOMPO Ô !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9 – TOMPO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An-tan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o sy ho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ko na ratsy na h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matoky aho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na tahotra na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dresy ahy intson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toetra mafy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Mpamonjy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9 – TOMPO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, eny isan'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aiky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hery amin-teny 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oro lalana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aho re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orina aminao 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hanohy 'za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iaritra iza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9 – TOMPO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re ny teny fika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velomako an-ta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indrindra koa ilay K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andry ao an-koatr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mitafot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eno ny kapoaka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aiko novidiany la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 ny lov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1:35:06Z</dcterms:modified>
  <cp:revision>71</cp:revision>
  <dc:subject/>
  <dc:title>Tiona Advantista</dc:title>
</cp:coreProperties>
</file>