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C06-5D48-4283-9FF1-BDC0507D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E43-479B-4715-AE39-7B4FDBA6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EB3-0ADC-49AB-B72A-43285A64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7C1-9726-4618-876A-B1739240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B20A-9664-4D95-93B2-67E08F97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21B2-0AD8-4E95-8B3D-D8E2291F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D554-0E80-437B-8BBF-B7B5623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D5F3-CE2F-4563-B76A-AF0BA6D7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F901-6236-400F-A899-8408681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4D33-AEF7-48BD-83EE-484A3263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F9E8-AFBC-4DB7-99E6-BA397FB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60A-A0DD-44D4-9915-2858335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067-DEF3-43AF-917C-7B638288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DFE5-4339-4FD4-B4EE-9C091D1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4F2C-FCE5-4E16-A886-BBECC31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4C14-7D17-44E5-939C-78EE49EF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78F3-BC69-4AA2-959B-ADDFCE82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EB2-EE01-400E-899B-E82AC4BC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83F-8486-4B72-925D-4CF8800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C1A-C0D5-486E-A6AE-871CADA3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B60-161D-4568-A60A-4732C84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439-743F-4586-81A0-D5F04A7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83B-FC01-4EF0-B541-41F54D0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1EF-F946-407D-9430-F325090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FC95-8CBF-44D9-8113-6F62C4261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9DE-FCFF-4BEE-AE1E-BD2902997C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 zana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4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9 – 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9 –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, ry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o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oharanon-t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ntona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t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babo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9 –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, ry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-tà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kambi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atanj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 sy ny s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iki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d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9 –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, ry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ny indrindr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etahet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'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ao an-t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ol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ny te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26:21Z</dcterms:modified>
  <cp:revision>49</cp:revision>
  <dc:subject/>
  <dc:title>Tiona Advantista</dc:title>
</cp:coreProperties>
</file>