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DBF-90B7-43E7-8294-E61B06C2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B34-5716-49DA-A031-163ECDDD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F9B-5D9A-489E-9023-4C4A2F16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740-6881-42C8-8444-7E722858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BD23-A2F2-4134-9B27-8086F080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6771-9163-43F0-B8B3-4689ED9D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6FF1-8A23-4AF8-81CF-75EE2FE3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211D-0352-4D06-91BF-2AD6DD8A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3CB3-BEC4-4F57-BD1E-C6116337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BAEA-F709-46F7-B83B-006B30FA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93CB-3BEE-4E2F-B1C2-0396A287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3F8-5768-4073-A8BC-F82F382B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3435-7E71-49B2-B112-EBEDCB0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1A1D-D827-4D1E-A0B0-C2B68AAF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6A55-56FF-4BA4-AD31-48C035F7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7A45-562C-4FF6-B89A-3D19F8D8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6F93-0A4E-48D0-805D-6BB2FD03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9A6-4F99-4322-B219-6611A527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E43-4CFA-42AE-B4B0-5DB4CE5D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896-088F-4067-AC88-B1028866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235-6CDE-42B4-8C97-B901823F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6D2-C6CD-4EFD-B5DE-868710EC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1FE-585B-4E8E-B158-048FE4CE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1BB-8A3C-4E2C-94AD-910790C1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611F-F965-489C-9019-C1589D525C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645D-012D-4F22-A1C9-371DF13626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obert Low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32 – AINGAO 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2 – AINGAO NY HER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gao ny hi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olon'n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iakatra any Zio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ia mihira er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enoy hira 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p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2 – AINGAO NY HER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ho any Zi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àna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ho any Zi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àna mahasamb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2 – AINGAO NY HER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ireo mand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anandra-p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tsy mba mah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zanaka Mpanjaka i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izy 'reo han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faliany 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32 – AINGAO NY HER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iona, hav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eho hats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loha ny fot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toana hahatr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anà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lamena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ho any Ziona, sns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ra han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omas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isika hah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kany Zio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àna tsra 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oy ny hita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ho any Ziona, sns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32 – AINGAO NY HER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33:48Z</dcterms:modified>
  <cp:revision>71</cp:revision>
  <dc:subject/>
  <dc:title>Tiona Advantista</dc:title>
</cp:coreProperties>
</file>