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470-AFEA-4702-AC57-DD64CA7F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D28-73B2-421E-B978-A6CB178B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C51-4CB7-4972-B1CE-9184D48F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E5A-D3E5-4367-8E66-76B34A14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9068-92C3-4263-8C6C-25434856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ED6F-BDD1-4EE2-A1B0-967D62DB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1B84-2C6E-4DE0-97CA-031375D5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D604-E300-4C28-973D-CD7AB9DD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F8E4-6960-4400-A3E0-3F18415C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EE4F-5C5D-4244-A712-35D78514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3D42-B55B-43B8-90FF-ACE8BCF6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221-F2F2-42D2-8D01-E9C37B8A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234A-ACC1-4BDA-9339-08E9C14C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D6A8-3587-4E3F-87E0-F739DC0B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6A6A-4927-43CC-8AF8-5EC96D1F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3C3B-00D6-476A-87F7-CF4AFA60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3AAE-4B67-41B9-B5A5-2E882973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F12-CE14-4A1F-8DF8-025BA500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8A6-72D6-4776-B8CE-EB3BD412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437-298D-4E4C-A3FD-07384626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A64-5F05-4923-8B77-E5DA11FA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246-694B-44D6-BCC3-AEE27984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414-E830-4BD2-B30A-E88A621A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879-8818-4207-9854-5D96B28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705F-80A2-41D0-B935-8E4DDE5F00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7201-0CDA-40F7-9FD2-8352D6BC23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Gabri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06 – HE ! FITIAVAN-D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6 – HE ! FITIAVAN-D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itiavan-dehib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fantatr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anao sy ah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re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6 – HE ! FITIAVAN-D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iza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diovina, (ani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na mandrakizay fid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lav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6 – HE ! FITIAVAN-D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omponao sy ah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miantso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y tena ti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Eke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6 – HE ! FITIAVAN-D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iva izao ny andro a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las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diva hiseho 'lay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andras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a atol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raiso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ela dia ho fong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6 – HE ! FITIAVAN-DEH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84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4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13:12Z</dcterms:modified>
  <cp:revision>61</cp:revision>
  <dc:subject/>
  <dc:title>Tiona Advantista</dc:title>
</cp:coreProperties>
</file>