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1EE-D6B5-415D-92E4-D6FDC342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870-2138-43A5-A672-6BFFE4F6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13B-8D5A-4B89-B664-F75AC63B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3E2-D648-480C-871D-88D53A23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3515-523B-4D96-93D2-1170E4EC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CBE0-EBC3-4C8B-A2F1-1E4A2EC4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C5EC-91F9-4FA8-8648-18F848F8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279F-20EE-46C7-BA3D-D5C38EC2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9B78-E2DA-4039-9D63-A19E3632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0799-CE3B-49FA-9421-6E7937BF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9693-DC44-4675-8AD4-F5C088E0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DAC-859A-4C08-94AD-B4776C33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9ED1-E474-42AC-9418-A389D507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BC5B-E879-49A9-8B54-983CD5C0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6B73-A9FD-4C04-877A-CF212F77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788C-C0EA-4258-A590-82DDF577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3D65-DC88-433F-BEAE-BA3C2A40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4F5-442A-4A23-A5A6-DB9812FD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3D0-EAB3-4856-868E-D075F149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F3C-B7D1-49FE-B032-8BD55CEA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A05-D959-4167-8921-F26D469D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14A-D843-4769-B325-FCF33C64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297-1A23-445E-A08E-BC9B7844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FF5-204D-400C-B183-938F7718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E696-0F09-48D9-9271-E517835CC9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A6C7-9FB0-4423-AD5A-126764E24B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55 - AZOK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D. Razafinadrama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D. Razafinadrama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5 - AZOK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oko anio 'zao Ny famonje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Tompo masina ô, Mpamonj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navotana vi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fifalian'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tolotro Anao manok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enako ho fanatitra an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nefa indrisy, nofo malem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ora mirona, mora m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y herinao no andras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5 - AZOK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alehako, jereo Jeso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saro-dalana, mahaketr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loza sy ny antamb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ampy trotr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orontam-bato, fiakaram-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tsana lalina, hain'andro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rivo-doza, ny onjan-dr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dray mitrena, mianjer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y sandrinao no tanj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5 - AZOK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nantenako ny fiav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manazava ny aizin'ny f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ry ny finoako izan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manda maf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! Tsy ahoako ny eso manj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latsa sy fanenjeha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mpahoriana an-tery s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ahakivy ny ol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ny tananao no tazon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5 - AZOK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o no fivavako, Jeso, heno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ento mangina ao am-poko i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sarotra aza re ny ale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hizako ny 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ga anie ka ny sitra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ho ekeko manomboka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maro aza ireo mpankah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ho jeso ô ! hanara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omboka anio, h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e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2:12:28Z</dcterms:modified>
  <cp:revision>115</cp:revision>
  <dc:subject/>
  <dc:title>Tiona Advantista</dc:title>
</cp:coreProperties>
</file>