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062B-491B-4CBF-BCB6-5BC810CC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1C10-8256-4DB0-8155-C5376379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951F-4DB0-4E41-9BC2-9AFABE46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00D1-E976-4CD4-9027-055A2538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ECFC-D016-472A-82C0-D3C25AA2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AB25-D3F6-40DE-BEAE-F9F1AB93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1DF1-ADB4-4E56-9E31-D1757394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10B2-D46B-47A8-8506-25B295F4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435A-7DF0-41DB-A1FA-8B300C0B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B68A-D5CE-4979-A7E4-F885FBB2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C3DE-07DF-4EAD-9FD8-9851DA80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8D8E-8CE0-4E97-BF08-F18BFA43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2708-5FCF-4036-9B7F-85F669F8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DA5F-C6ED-40B7-BA88-5D3DF898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EFA0-6154-4B38-BF91-C6A8A6EA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D74F-1532-4B5C-B306-609DC60A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C051-DEF7-45B8-B2D7-42929519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485D-8AB0-4543-9DA4-98190DC8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0274-309D-4AD2-8BFF-D7BBD027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BF4F-0D7E-43D0-A845-620014EC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013E-35AD-43C7-8084-C71B3992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15E9-6435-478C-AC4D-F25D7307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BE01-0FE1-47D1-940B-5DAFE499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8CE4-EBE1-44C4-8995-9A09C7DE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88D4-D733-4308-A5A3-30058F30C1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4294-2F27-4129-9DCC-E84CC3DB5E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ankizy madini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cott Lawren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91 – NANAIKY JESO FA HO MPIANDRY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591 – NANAIKY JESO FA HO MPIANDRY A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aiky Jeso fa ho Mpiandry 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y ka tiako 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Ny ankizy antsoiny toa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tiako Iz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591 – NANAIKY JESO FA HO MPIANDRY A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ffffff"/>
                </a:solidFill>
                <a:latin typeface="Corbel"/>
                <a:ea typeface="Arial"/>
              </a:rPr>
              <a:t>He, tiako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ffffff"/>
                </a:solidFill>
                <a:latin typeface="Corbel"/>
                <a:ea typeface="Arial"/>
              </a:rPr>
              <a:t>He, tiako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ffffff"/>
                </a:solidFill>
                <a:latin typeface="Corbel"/>
                <a:ea typeface="Arial"/>
              </a:rPr>
              <a:t>Satria tia ahy talo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ffffff"/>
                </a:solidFill>
                <a:latin typeface="Corbel"/>
                <a:ea typeface="Arial"/>
              </a:rPr>
              <a:t>Raha sedraina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ffffff"/>
                </a:solidFill>
                <a:latin typeface="Corbel"/>
                <a:ea typeface="Arial"/>
              </a:rPr>
              <a:t>Hakekezina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ffffff"/>
                </a:solidFill>
                <a:latin typeface="Corbel"/>
                <a:ea typeface="Arial"/>
              </a:rPr>
              <a:t>Tiako tokoa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591 – NANAIKY JESO FA HO MPIANDRY A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ndry malemy, trotroi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Tiako re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sy iray 'zay mba hadino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tiako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591 – NANAIKY JESO FA HO MPIANDRY A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manomana toerana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y an-d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hako monina aminy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o finar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0:32:57Z</dcterms:modified>
  <cp:revision>84</cp:revision>
  <dc:subject/>
  <dc:title>Tiona Advantista</dc:title>
</cp:coreProperties>
</file>