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EDF-8043-4B82-9D4B-76A906EF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B5F-289D-47B1-BAFA-19BBB424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1B6-5415-427B-9C01-B112D4C6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5F9-E319-4459-A9AA-501CBF9D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F384-7D74-49BB-BF80-0CDB2188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FCB9-EDBB-40C3-8814-DFE35958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8BC2-2D8A-4517-B049-4B6DDED0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0027-A820-44E8-A59A-C0F04D3C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D9BD-7275-4B13-8B47-4B404D9F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B2BA-9E54-400C-B6D2-63371BD3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C937-0E3C-4A2E-AA22-0166382C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6EB-0110-40F0-AB86-C96DA719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B535-F58A-41F7-BCB6-20FDA7DC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BA21-8889-46F8-9796-77493D97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5801-8456-405F-BB83-5D48D1A8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BF3B-0FD9-4369-AE3A-58CD6B6D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50E1-9B53-4541-ABC5-9B6F1324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E0E-891E-428E-B16A-4FA227D0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6BA-A55F-4568-A0C4-2F333DB0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0B0-B483-41E0-BCDA-F4352B75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139-90B0-4C7B-BBC8-44545135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171-DDA7-45C0-B270-7AAA0E89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957-E7A8-40EF-A664-FB0D75A7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0C8-A485-4FB3-8C76-8E33B0D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E951-0F54-4713-99DB-F72B3721D5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68F6-C57B-488D-B857-48AE923E60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. Melodi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53 – HIARA-MANDEH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080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6237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3 – HIARA-MANDEH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andeha aminao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irik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raiso ny tanako atsotr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tolotro koa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4080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748720" y="6237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3 – HIARA-MANDEH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oso isan'andro na aiza hal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ora na sarotra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ala tokoa na hivadik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-pahatonga amin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n-2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4080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748720" y="6237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3 – HIARA-MANDEH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itondra aminao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zo fij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ivana izany raha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dy fif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4080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8748720" y="6237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3 – HIARA-MANDEH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iasa aminao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dy izay ver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nana fo antra toy n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ina ny efa v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4080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748720" y="6237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avy indray tsy ho el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handao ny e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amin'ny navo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ova ny lanitra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3 – HIARA-MANDEH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8748720" y="6237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mbatra indrindra, ho tretrik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trika ny t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izay hifaliak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itoetra aminao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n-2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3 – HIARA-MANDEH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4080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6:58:47Z</dcterms:modified>
  <cp:revision>62</cp:revision>
  <dc:subject/>
  <dc:title>Tiona Advantista</dc:title>
</cp:coreProperties>
</file>