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7419-2D3B-4FC8-9B44-256EB4756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E2B0-DD4D-4CCC-8A2C-A0A5D96C3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F381-D16E-4675-A7A2-85691366C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9AE0-FCB8-4653-AFCA-4E0DB5D45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188DE-67FE-463F-86C7-95A4477C3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4A759-D9AE-4B0C-8A8D-829658FA5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4DE55-37EA-44A9-BDDD-B60FC998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9B4AC-3D25-4381-871A-BFDCAB27E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34D37-A7CD-4312-9EFD-3898222BF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EF4E8-3974-40CD-B04A-F116A69EA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B330A-FA89-45A8-857C-5778EF90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7693-9E31-4C10-B09A-7C6846E3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293CC-86DB-4F58-A1C2-78CE5C4A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EA758-DBEC-4C03-91FB-511A4D89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25BB4-24DA-4C9F-9EA0-54931091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518BC-94ED-4A1D-8444-A7A311738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59191-7130-4AA7-B110-A7083D862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EA1D-0C34-43E8-99D8-44F6DCDA1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28A8-A4E6-483E-B426-64009729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DF4A-C8CD-43C9-8865-7582F7A62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67B3-140C-44EF-8331-2F6B22187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0C54-5231-4DA1-B78C-0E0FD8D4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E0FA-D27D-4531-9FC7-7507924E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B2B8-A109-4CA6-B8C3-16D849F2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8700-384A-4089-8738-B79662A7844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7CFA5-102C-47F1-B437-C4D0E021C9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tiav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oelison 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Mac Granaham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HL095, DLG29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115 – TSY TAKATRY NY SAIKO AK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1496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2000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1496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0596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820000" y="580536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>
            <a:hlinkClick r:id="rId7" action="ppaction://hlinksldjump"/>
          </p:cNvPr>
          <p:cNvSpPr/>
          <p:nvPr/>
        </p:nvSpPr>
        <p:spPr>
          <a:xfrm>
            <a:off x="8820000" y="617868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15 – TSY TAKATRY NY SAIKO AK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takatry ny saiko ak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tiav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Tompo 'zay ninia ho o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monjy ahy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882000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3" action="ppaction://hlinksldjump"/>
          </p:cNvPr>
          <p:cNvSpPr/>
          <p:nvPr/>
        </p:nvSpPr>
        <p:spPr>
          <a:xfrm>
            <a:off x="881496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4" action="ppaction://hlinksldjump"/>
          </p:cNvPr>
          <p:cNvSpPr/>
          <p:nvPr/>
        </p:nvSpPr>
        <p:spPr>
          <a:xfrm>
            <a:off x="880596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5" action="ppaction://hlinksldjump"/>
          </p:cNvPr>
          <p:cNvSpPr/>
          <p:nvPr/>
        </p:nvSpPr>
        <p:spPr>
          <a:xfrm>
            <a:off x="8820000" y="580536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>
            <a:hlinkClick r:id="" action="ppaction://hlinkshowjump?jump=firstslide"/>
          </p:cNvPr>
          <p:cNvSpPr/>
          <p:nvPr/>
        </p:nvSpPr>
        <p:spPr>
          <a:xfrm>
            <a:off x="880524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6" action="ppaction://hlinksldjump"/>
          </p:cNvPr>
          <p:cNvSpPr/>
          <p:nvPr/>
        </p:nvSpPr>
        <p:spPr>
          <a:xfrm>
            <a:off x="8820000" y="617868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15 – TSY TAKATRY NY SAIKO AK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efa inoako fa tena a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itokiako sy ifali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dra-piavin'Ilay mara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hiveren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881496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3" action="ppaction://hlinksldjump"/>
          </p:cNvPr>
          <p:cNvSpPr/>
          <p:nvPr/>
        </p:nvSpPr>
        <p:spPr>
          <a:xfrm>
            <a:off x="881496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4" action="ppaction://hlinksldjump"/>
          </p:cNvPr>
          <p:cNvSpPr/>
          <p:nvPr/>
        </p:nvSpPr>
        <p:spPr>
          <a:xfrm>
            <a:off x="880596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rId5" action="ppaction://hlinksldjump"/>
          </p:cNvPr>
          <p:cNvSpPr/>
          <p:nvPr/>
        </p:nvSpPr>
        <p:spPr>
          <a:xfrm>
            <a:off x="8820000" y="580536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880524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rId6" action="ppaction://hlinksldjump"/>
          </p:cNvPr>
          <p:cNvSpPr/>
          <p:nvPr/>
        </p:nvSpPr>
        <p:spPr>
          <a:xfrm>
            <a:off x="8820000" y="617868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15 – TSY TAKATRY NY SAIKO AK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isy lela mahalaz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tiava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enin'olo-manan-daz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latsa-danja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881496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882000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>
            <a:hlinkClick r:id="rId4" action="ppaction://hlinksldjump"/>
          </p:cNvPr>
          <p:cNvSpPr/>
          <p:nvPr/>
        </p:nvSpPr>
        <p:spPr>
          <a:xfrm>
            <a:off x="880596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5" action="ppaction://hlinksldjump"/>
          </p:cNvPr>
          <p:cNvSpPr/>
          <p:nvPr/>
        </p:nvSpPr>
        <p:spPr>
          <a:xfrm>
            <a:off x="8820000" y="580536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" action="ppaction://hlinkshowjump?jump=firstslide"/>
          </p:cNvPr>
          <p:cNvSpPr/>
          <p:nvPr/>
        </p:nvSpPr>
        <p:spPr>
          <a:xfrm>
            <a:off x="880524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rId6" action="ppaction://hlinksldjump"/>
          </p:cNvPr>
          <p:cNvSpPr/>
          <p:nvPr/>
        </p:nvSpPr>
        <p:spPr>
          <a:xfrm>
            <a:off x="8820000" y="617868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15 – TSY TAKATRY NY SAIKO AK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isy hira mahaven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tiava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feo mirindra sy miren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a feon'anjely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881496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3" action="ppaction://hlinksldjump"/>
          </p:cNvPr>
          <p:cNvSpPr/>
          <p:nvPr/>
        </p:nvSpPr>
        <p:spPr>
          <a:xfrm>
            <a:off x="882000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4" action="ppaction://hlinksldjump"/>
          </p:cNvPr>
          <p:cNvSpPr/>
          <p:nvPr/>
        </p:nvSpPr>
        <p:spPr>
          <a:xfrm>
            <a:off x="881496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5" action="ppaction://hlinksldjump"/>
          </p:cNvPr>
          <p:cNvSpPr/>
          <p:nvPr/>
        </p:nvSpPr>
        <p:spPr>
          <a:xfrm>
            <a:off x="8820000" y="580536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880524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rId6" action="ppaction://hlinksldjump"/>
          </p:cNvPr>
          <p:cNvSpPr/>
          <p:nvPr/>
        </p:nvSpPr>
        <p:spPr>
          <a:xfrm>
            <a:off x="8820000" y="617868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trizay , ry Tompo t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ry an-koatra a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takatro ilay fit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seho tao Kalva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15 – TSY TAKATRY NY SAIKO AK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81496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882000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rId3" action="ppaction://hlinksldjump"/>
          </p:cNvPr>
          <p:cNvSpPr/>
          <p:nvPr/>
        </p:nvSpPr>
        <p:spPr>
          <a:xfrm>
            <a:off x="881496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>
            <a:hlinkClick r:id="rId4" action="ppaction://hlinksldjump"/>
          </p:cNvPr>
          <p:cNvSpPr/>
          <p:nvPr/>
        </p:nvSpPr>
        <p:spPr>
          <a:xfrm>
            <a:off x="880596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880524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>
            <a:hlinkClick r:id="rId5" action="ppaction://hlinksldjump"/>
          </p:cNvPr>
          <p:cNvSpPr/>
          <p:nvPr/>
        </p:nvSpPr>
        <p:spPr>
          <a:xfrm>
            <a:off x="8820000" y="617868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FAR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efa inoako ety sahad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itokiako Sy ifaliak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ry rehefa tapitr'ad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ho fiainako a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15 – TSY TAKATRY NY SAIKO AK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81496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82000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81496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80596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820000" y="580536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>
            <a:hlinkClick r:id="" action="ppaction://hlinkshowjump?jump=firstslide"/>
          </p:cNvPr>
          <p:cNvSpPr/>
          <p:nvPr/>
        </p:nvSpPr>
        <p:spPr>
          <a:xfrm>
            <a:off x="880524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0T08:03:30Z</dcterms:modified>
  <cp:revision>35</cp:revision>
  <dc:subject/>
  <dc:title>Tiona Advantista</dc:title>
</cp:coreProperties>
</file>