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3EDB-D32E-49D4-AB12-B19D6AEB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A37F-7B0A-44AC-8120-02DEB796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E95D-ABDA-40F0-BBF7-A2473337E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8BCF-480B-4229-8F61-049AB5E1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4E6A-C9F5-426A-ACAE-3EAACA5A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644C-37C3-47E3-B5D3-BA7AF587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3091-DF5F-46C9-884E-05F50881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B6FA-1645-4843-A048-832A4E30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D544-4D84-4B0F-8D80-F30A4A27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D341-767E-42A5-BC6F-BF956510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B4EB-A0AD-4846-93C5-D366C7E8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737A-50AF-4597-A9B2-46639150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6793-C90A-422A-A062-876F1044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FAFF-1072-4C23-9924-90756CB0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0558-4DF1-4BC6-B5C9-B0C8ABA5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99B8-6024-4C2B-A0B9-BB0C2EB0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49C1-D785-47F3-A236-48F7A0D7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F49E-A229-45A7-B7A8-F6DCBB3C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1599-E6B3-47F4-9CFA-5246D8AA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832D-9404-4882-B43F-B05E5368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E408-3CCC-4271-83BB-12EDE1DD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1EFC-F33B-4D86-8874-BD3A6207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34D0-F330-4563-A16C-8C49F643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BB90-4FAA-44C9-910C-50094CDC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E2A9-D71B-4762-A43F-14469E4847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BC48-788B-456F-AD3D-186D52AED7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AHY MAS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barij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ottschalk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i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70 – RY FANAHY MASINA Ô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70 – RY FANAHY MASINA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Fanahy Masina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monena ami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fenoy ny her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 sy ny fanah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384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70 – RY FANAHY MASINA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, levony av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ta mahazatra 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o resinay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amatotra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170 – RY FANAHY MASINA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asino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fonay anj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jary tafa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ao doria, Am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6:43:30Z</dcterms:modified>
  <cp:revision>39</cp:revision>
  <dc:subject/>
  <dc:title>Tiona Advantista</dc:title>
</cp:coreProperties>
</file>