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892-0351-4CA3-9257-484A0158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517-5DFB-4811-BE6C-70615AE8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447-DFD8-406B-B0E1-391CB89D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2E1-04AB-4FF1-8D4B-EB5337C2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6C43-6064-4D45-919F-317922EB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430A-C964-4208-8C84-D676CF3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34F7-410A-4BB1-BFFA-8C3A49F4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CAC6-6B20-424A-8091-E9DA6D20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C88D-CA36-48C1-90C8-DFBB28E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7D41-808A-4EF9-B563-F0757B82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E340-5BF7-47A4-AB2F-479C82A2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2BB-2FCF-433E-8EFF-AD01819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7379-457C-4062-A872-3176F46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2C7E-5FF7-4BFB-A89A-B74F4C7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235A-66CC-4B6E-B1C0-F7E04215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4533-ADB9-497E-907F-55191510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0FC3-2D0E-4FAD-ABB4-D7004041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2A6-8758-4D45-ABA7-0C78F08B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B7F-01F2-459F-8B3C-97E5B1F0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1B7-6355-4C94-8F3C-BD5DBA2B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739-1FD6-41ED-9C5F-D843A52D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4D4-F632-4F1B-BEAA-3DB7B7F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B72-A591-47F0-B727-45A5803A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D58-1DA1-469A-AC3D-B407B91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91BC-9076-4B87-B9C5-77A3046028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67DD-CFB3-48F0-A509-0F743CFCD3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ndrian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ndrian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4 – NY FAHO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300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1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NY FAHOT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tana izay n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fasaraka ko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ao 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atonga ahy ho mahan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300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1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87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NY FAHOT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anio no andro 'zay n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haonak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omba ratsy sy f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aviriko hatramin'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1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7624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7487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NY FAHOT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araina vao mif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toandro na hariv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aho hihaino ny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seho toetra te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300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1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7624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7487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NY FAHOT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koa ny asa izay f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eny koa izay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amindran'ny tongo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anajana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300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7624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7487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zavana aseh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marinana ator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rafin'ny hafa avy 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amirapiratra, azy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4 – NY FAHOT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300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1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9:56:49Z</dcterms:modified>
  <cp:revision>67</cp:revision>
  <dc:subject/>
  <dc:title>Tiona Advantista</dc:title>
</cp:coreProperties>
</file>