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A39-C0CF-46D9-A36A-FFF8F5D3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A87-FDDE-403B-8049-A72C3728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364-953E-45AB-833D-28127757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248-28F6-4CD3-B0EA-A55C57E8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50C6-C1DA-4AC8-8880-B2A174FF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333F-0B17-4EDA-8A59-B4841B18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399E-2F0A-48FE-A5D6-1B22AEA9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9E6C-5D61-4DBF-9333-966419CD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0E74-F48B-4F9A-90D4-E2C2E5B6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0B10-6D55-44F2-8A37-002496EC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A8AF-67C3-4B9E-8356-FF2B0EA8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42C-8D57-420F-A303-8D5A3D37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7BA6-6F04-46FA-BDCE-A5F95DB1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0091-A292-4EE6-83ED-A682D0FC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3A36-5C83-4D65-BD54-E8EA85A7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F178-3676-48A3-8958-F8560612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F7A5-D522-4EAE-B638-B439BF0A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BA9-7609-4A1C-BCAA-0E11D433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EC5-E826-48A4-9AB2-D3EB72EB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2FA-FADE-47BD-8493-6512FEF1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059-5607-4D91-9052-430BCCD4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6DD-57D8-42CD-9F98-251A2229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509-2091-4CC6-A27D-D9520E4D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902-7DB5-49AD-8F05-621F7596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60C7-3A64-4AE9-B098-AD38EE5BDD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5600-C9F4-4A52-9F88-2C3FE24A89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Razakarivon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Razakarivo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83 – JESO ZOKY ‘ZAY MOD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3 – JESO ZOKY ‘ZAY MOD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Jeso Zoky 'zay modely 'ndreto ny tano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nona hanolo-tena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o kivy velively fa hanara-di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ho mafy na ho mora izay h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3 – JESO ZOKY ‘ZAY MOD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ndro raiso, fa atolotra Anao ny te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manontolo ka anjak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osa ka tazony ho Ana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ampio mba handresy toa Anao,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3 – JESO ZOKY ‘ZAY MOD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ha manjeny andro lava atodiho hahatsiaro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toroy izay rehetra hata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ny, mora lavo mantsy raha tsy tantanan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za avela hanalavitra hatriz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3 – JESO ZOKY ‘ZAY MOD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anantena ary fa horaisina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holavinao ny fangatah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Jesosy Zoky tia izay tsy manam-paha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no hianteher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578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628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578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480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3T08:33:00Z</dcterms:modified>
  <cp:revision>90</cp:revision>
  <dc:subject/>
  <dc:title>Tiona Advantista</dc:title>
</cp:coreProperties>
</file>