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ECF-EF02-4FA9-BAF0-7400E60D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F87-FD8C-4713-82AF-378E33AE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E75-F4E9-40BF-AD6F-4F3EA7FF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642-3D48-4BF2-AB62-CECFC204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FA4E-A07A-4059-86F1-79B38B64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F36F-845A-447A-9B2C-B83D9A7E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7778-CE50-4314-9848-D9184737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3558-F363-484B-A0D6-B3C56031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AE1A-EB22-434A-AA4F-6EF99BF3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0572-1F36-402E-ABC4-818042E6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1B25-D0A9-4C1D-9E91-4E951D3C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B9B-0F0A-4166-BBB4-0546D0B9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EEE4-9DBB-4C37-9686-69F96552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F2D7-8A58-41EA-A9AF-F7DC8BD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7D4A-EB50-4315-B654-33FCE981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56C2-7935-47B7-B217-DA0E3549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8170-E981-4C68-8DFD-61941DDE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3A0-2C71-4F76-8A4C-0D8F4294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3AD-D5D6-441B-ADC1-2C9E44DF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58E-639F-4310-8CBB-C17CBB45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C07-0398-4534-9E55-F9F429A0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82B-8344-4574-B4A4-B582F712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E7F-0FB8-479F-9A53-90E3B5FF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DD7-06F4-4E28-B126-B9DA6570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23F1-0661-4D85-B62C-0AB6A51AAD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2C6F-DBFB-44D9-89FD-194B4702D8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 fisoronana atao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lisha A. Hoffma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09 – HE MAHAGAGA IANAO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340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9 – HE MAHAGAGA IANAO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He mahagag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y Tomp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O ! Voavotra tokoa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Fa voaloa ny tros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40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54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9 – HE MAHAGAGA IANAO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to loatra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namonjena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gag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pamonjy m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54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9 – HE MAHAGAGA IANAO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alazaina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'lay ra ma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ampihavan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minao sy tam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340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54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9 – HE MAHAGAGA IANAO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 hiara-mamindr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ay Jeso tia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vily na h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tody soa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40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54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0T07:36:36Z</dcterms:modified>
  <cp:revision>34</cp:revision>
  <dc:subject/>
  <dc:title>Tiona Advantista</dc:title>
</cp:coreProperties>
</file>