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45E-2964-46EE-A150-8D27F759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611-8161-4286-BE4B-4234F80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694-5C72-4769-B6E1-21224318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9DB-BD21-44A7-B820-61B5782B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C403-90DF-4DCB-9635-9EE0C133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4C92-DC2B-463C-AD61-986FC2D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A80-51AD-4353-80D1-FF85E6D5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764E-18D2-4398-A934-A8A24C0B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CDA-A449-463C-AA0A-D8F9FC6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2A07-047B-49D6-853D-634908F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BB5-43B1-4AA0-AFCC-3D2AD98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DC3-37D3-493D-B52C-51795E62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F499-1C4A-433C-A2D4-714CF483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EC6-6F9B-4894-9EDC-B313E66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0949-2D70-41B2-B90A-E0AE97E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111A-6B0B-4ED7-821C-205A26FA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4CC-B4FE-48DD-909D-A4BD75B3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961-3A23-46C7-B757-A7AFF46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9FC-8243-4253-AC55-449D9E7A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872-2A12-49AB-A4CF-C82FCD5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4A5-9A43-44D8-A0A5-416D8FA6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110-2ACB-4590-94FD-B6612B4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AE0-BAFC-4B5A-A915-5A0363D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3DD-5D8C-4E03-B25F-0A5D09F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42F-EE22-4019-8472-E0F6401941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454B-E450-4B63-9298-177FBBD28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. Rasolonjatov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Lillenas Hal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2 – MAMAKY NY O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2 – MAMAKY NY O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aky ny onja toko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sambon'ny fiain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o misy harambato 'zay miaf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mety hampididoza a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2 – MAMAKY NY O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Mpamilin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Jeso Mpamily ny sambon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y tena mah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Mpamily ny sambo 'zay tena maha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sosa faingana ilay samb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Jeso Kapiteny no mitodra az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zahay faly manant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ody so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2 – MAMAKY NY O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Reo onja vaventy ‘zay mampanah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pihorohoro t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sahy izahay raha ao Jesos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tony dia tony ny fon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2 – MAMAKY NY O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 hifofofofo aza re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Lay rivo-mahery tsy t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aha mbola Jeso no ao an-tsamb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sinda ny loza mahaz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61024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4:34:16Z</dcterms:modified>
  <cp:revision>78</cp:revision>
  <dc:subject/>
  <dc:title>Tiona Advantista</dc:title>
</cp:coreProperties>
</file>