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BAF-0818-4C11-9BFC-F2E3E264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719-4F79-4FDC-B671-8DD4C275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7A4-3E32-47FF-8810-24FD4E65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8A7-C227-41C0-B96D-341C2451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BCF5-FCE3-4104-9B5A-FE781DCC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7CD9-0719-468B-BABF-3E98AF4F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AA46-0374-475F-BAEC-6A6B1053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6EFC-754D-43AF-9876-60CA4A46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116E-27FA-44B8-AE11-F3364F81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8E92-9C11-4FA3-A87C-B3604F5B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2420-3EAC-43CB-85AC-5BCAB366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421-11B8-4C44-AF25-85982BEC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89E2-3235-4552-892D-8FDDD44C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E229-75DB-4E02-886A-057C14B0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CF41-5B34-4DF2-A6A5-C8D3B581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14EF-BF5A-4EE6-9C46-1F61455B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8247-343C-49ED-A2D4-1F3D5F37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EBD-B8DE-4850-A5CC-1A528FDC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693-EB43-4437-B3A6-C3DC79CF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2FC-9AFA-43DC-B5F9-4CE2979A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C9B-FB73-417D-BC79-F0458A01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F6A-A8E6-4C74-B282-15E353C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F76-61F8-4D7D-822D-67D2CAD3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178-137E-44A2-B718-B904F42D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0F37-DE0F-4B88-92D2-0DC92C0D93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1282-A145-483E-AC58-F0565BEABC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JESOSY KRIS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Ny fitiav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Rajorotahiana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 : B. Rajorotahiana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Correspondance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"/>
              </a:rPr>
              <a:t>Diapo : Gérard RAZAFIMANANTSO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129 – ENDREY, JESO Ô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75772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iona Advantist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9 – ENDREY,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Endrey Jesosy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itiav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sy mendrika ho a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y voaozona 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Kanefa, Tompo ô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aiky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isolo ahy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875772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9 – ENDREY,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Voasatro-tsilo Ian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nokapohina 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eha-maina, daka 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retana avok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zao tontolo iz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hataka aminao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andefitra I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Ila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129 – ENDREY,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e ! fantatro toko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Reo ratra tami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Sy diam-pantsik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Tamin'ny tan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Zao ratsy rehetra iz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y fahotana b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Zakainao av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oho n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5772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48720" y="63723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A129 – ENDREY, JESO Ô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Mpamonjy tia ô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Atolotro ho Ana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'Ty foko kely iz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Niala tami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Diovy, anjakao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Anao mandrakizay 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Ho mendrika toko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Corbel"/>
                <a:ea typeface="Arial"/>
              </a:rPr>
              <a:t>Ilay fitiavana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57720" y="5229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57720" y="561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57720" y="599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762400" y="4797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4-09-11T07:58:48Z</dcterms:modified>
  <cp:revision>35</cp:revision>
  <dc:subject/>
  <dc:title>Tiona Advantista</dc:title>
</cp:coreProperties>
</file>