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DD0-B75A-4FE4-BA62-2E21F808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B40-A731-4547-93A1-216AC564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E4A-5E8E-4BB3-BE43-34C93810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64B-E4E6-41A7-9E7A-85A3025B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B631-5329-4CC1-9580-8F69D84F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EAE9-6937-4F5D-B296-35AF019D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69F6-6CF6-468D-B707-68BD829F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FD80-E570-4716-8B65-7563034F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2717-3C2D-432D-A04D-BA323302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D16F-01F0-49B1-8A07-134B4378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3EA9-DE39-4224-8FAC-7D000706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F6C-1690-4971-8A20-B351854A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EBEF-72C4-4283-B5AC-1A2864B9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571E-3585-4032-B946-F0568936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7A79-1042-4754-8948-D797BB12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E88B-7E52-4228-A6A7-F7293B84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C69A-C8D6-4FFA-9D4A-D784B09E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F40C-D7AA-42BB-942D-CF3192C8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3D0-7741-4B5F-8318-F4A14951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587A-690C-4ED3-A3D5-B9C7BF97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B65-8729-4073-874E-B1384D67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CA7-CAC2-4685-A8FE-3C9509D4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C77-1DEF-4688-B3A7-F3919FB7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4FE-C936-4C95-B00D-BB29E9D3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0D5D-916F-49F5-9B4C-A8F6304EEE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72FD-0D3D-4478-8168-07C96122E0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TA465 -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TOA MANONTANY TEN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6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Harry E. Stor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5 - TOA MANONTANY TE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a manontany tena aho, Jes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soa mba vitako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y nanetry tena ka voa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ty, nanavotra ahy to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31160" y="56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5 - TOA MANONTANY TE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oa mba mikaroka ny very ve ah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oa nanafaka ny mifat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y nanampy, namonjy sy mital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hizaka ny avotr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5 - TOA MANONTANY TE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Be ny fotoana verivery f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vitsy no nome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tiavako Anao tsy lalim-p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voasinton'izao tontol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31160" y="56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5 - TOA MANONTANY TE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hangina intsony ah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hilaza n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namako, andeha mba vent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zarao ny avotra izay n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31160" y="56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2:50:41Z</dcterms:modified>
  <cp:revision>117</cp:revision>
  <dc:subject/>
  <dc:title>Tiona Advantista</dc:title>
</cp:coreProperties>
</file>