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2173-9E03-4FC9-8098-F8CCF050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C0CD-2959-4428-9EF7-31516327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295F-6169-426B-9D1C-4C3C69A14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B432-9600-466C-BCCE-4B30F7486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0201-7BC8-4841-A4CD-ECFBA7338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AC7D-A895-4A64-A66D-C04D603E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004B-99D0-4C64-8397-F1FA78D6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2F75-445B-4960-AA63-BAFE1E2D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CA8A-FCCE-4728-9557-1D817834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D25B-629E-4804-AA6E-60024707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81DC-8025-4F96-B27E-710B9CB9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64E6-CFE5-42DE-84B4-F2E7B741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76CA-1A4B-48BB-A683-B8B2FFEF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D506-E667-42B8-8218-3D0725A3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AED1-48EE-4733-80EF-EDF32F0E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A876-DA25-4064-A642-FA2A66AA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3885-20DF-40DD-9E86-04D78157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600A-38E8-41D0-BEB2-62D3ECFA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1030-4E05-4B50-8463-33028828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8A1E-BD4F-4C18-85D9-9D2A8176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D7D5-0777-4F84-BECE-FC2F132E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10B1-0F37-4488-BA76-7A38D4B0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D4B4-76EB-41F2-9936-DB9CBE57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ED75-DBF7-490F-89EB-5D766DC3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BF9B-E132-476D-901B-7A8A54D74B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5581-A1B0-425C-BFB3-0D60468733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Ira F. Stamphill -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08 – FAHINY FONY AHO MBOLA ZA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08 – FAHINY FONY AHO MBOLA ZA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hiny fony aho mbola za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riva vao mitsaha-milal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araka ny làla-mahaz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ela dia ny antso no inj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« Modia fa hisakaf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riva ny andr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dia fa antsoin'ny reninao 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nody ihany 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08 – FAHINY FONY AHO MBOLA ZA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ay andro tan-tsisin'ny fandri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niara-nandohalika izah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toa nandre feo miantso koa i Ne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eo to miantso avy amin'ny Ra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« Modia fa hisakaf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riva ny andr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dia fa antsoin'ny reninao 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nody ihany 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08 – FAHINY FONY AHO MBOLA ZA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y sakafo voavoatra sy ts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miandry ahy s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ompo Jesosy no manamb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iara-misakafo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dia fa ora met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riva ny 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dia antsoin'ny Tomp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ny akanj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11:45:09Z</dcterms:modified>
  <cp:revision>86</cp:revision>
  <dc:subject/>
  <dc:title>Tiona Advantista</dc:title>
</cp:coreProperties>
</file>