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31E-5C06-4CF6-B084-754CCD1D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D02-AF15-482B-81A4-8BDDDD55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C91-6A4F-45AA-B076-1795B814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604-98EE-4A12-B86F-9CA339DF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C30A-B829-4335-B594-453E6811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023D-9A80-4B35-B7F3-9329FF77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D39D-54C2-4764-83D5-261EE056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83E1-5D29-476A-A714-315FB6C5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4C08-AC36-4E80-A9CE-921BFD91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4497-D97C-45D4-9238-1F77CC77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5360-6D95-48DE-B033-0B865B8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D96-D691-4028-8178-7D3638C9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6EF1-D3F7-46A3-9616-0F488616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A4F2-CD14-4495-A648-CA4CFC77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26D6-AF6B-423C-804B-F232FB54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61B0-F391-463F-B868-51DF621C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B590-F0C6-4669-91F0-90877339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4FC-5779-487C-9310-49110D88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16E-9066-4605-A4D6-AF9290B1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0FF-4507-4F03-AA57-2AC1B471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EAE-FB55-4D1A-9ED8-266B3AB3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DCC-F552-4A12-A2E7-E1E52702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D17-981F-4E58-B94E-9BAF0401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C8D-B377-4068-9F32-560E960C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FA23-7F8C-4C90-8CA0-8788DA3D88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A7B0-F08D-4CAF-83AA-5CC42058C6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D. Ack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39 – AKAIKY AHY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9 – AKAIKY AHY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y ahy, akaiky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fitia mitafota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min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laho amin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anambara fa hiha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9 – AKAIKY AHY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lavitra ahy ny fitiav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omeny ho ahy ny r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min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laho amin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efa tia ka he m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39 – AKAIKY AHY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ovako izao ny 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oiny ho ahy iz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min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laho amin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o-diadema omen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tarain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4:06:07Z</dcterms:modified>
  <cp:revision>46</cp:revision>
  <dc:subject/>
  <dc:title>Tiona Advantista</dc:title>
</cp:coreProperties>
</file>