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4AD-4E32-408D-9625-57A8F76B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5ED-023E-4342-83F9-E974CA97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AD6-92BB-4945-9941-4B5C9249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F71-EEA3-4C6C-BF17-6A07BB9D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243F-C2E0-4C56-9E69-067C8CE6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E6BF-11F7-42A1-A3D6-9B004281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D47-9E09-4E5D-B30F-1B952CBF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F7AA-BBF9-453C-977A-297F7F54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2789-AB37-446D-9F66-02D87825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1110-F201-4BF5-BB31-34924923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7D16-10B5-4AB9-9CF8-8AD9B629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125-D303-4C15-8128-65FFD79A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389A-AD95-4AD6-9A3B-E43971F2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5BEC-A362-48CF-B214-A9D121EE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3154-B55F-46EF-8903-0A8F9FAF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3A56-B7E6-40C0-A699-CDE2DC4A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9BD7-0111-496F-8520-DC284B92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DDC-049D-4686-8A71-1CD0E738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FC0-7933-4A2A-ADC2-A74CBE07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A19-DB25-4AEB-B55F-214295D2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0A9-F5B3-4A8F-B6A6-DAC2F4EA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C92-4DDB-405B-92C7-3C2190B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73F-82F7-4343-A3EB-4F8BE25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516-2760-4884-928B-AB8D8FF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1D1E-D9D5-4B35-B65A-FAF7C53FE9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6DD4-1C0B-4AB5-B22F-E59AB2F83E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80, DLG3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9 – RAY Ô! TODIH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9 – RAY Ô! TODIH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ô, todih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mitad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ia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tak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ndry maf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hamela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be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9 – RAY Ô! TODIH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manat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akat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9 – RAY Ô! TODIH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akaik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jary tsa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na ny endrikao Mamir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izay m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ketrak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reho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trot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9 – RAY Ô! TODIH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ô, marih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isan'n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fifalianao Mandraki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injovy rah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ahatong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o,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tri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8:58:38Z</dcterms:modified>
  <cp:revision>65</cp:revision>
  <dc:subject/>
  <dc:title>Tiona Advantista</dc:title>
</cp:coreProperties>
</file>