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E82-53E4-4713-B708-75E198EA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9B3-131B-47E7-9D38-3F204308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A5C-8A93-46FA-9D8B-EAE31876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95D-7754-4B4E-81F4-5DEB8EA0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0E50-B763-414E-B7C3-53F584F9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D3E4-E089-47FA-9A0A-8D5AC39B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2EA1-E94F-4BF9-AC93-49647FEF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CDAB-F8EF-47AF-9C7B-5CFB2065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E570-77F8-433D-AF32-73AF1B1C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F6FB-6C1B-45FE-9430-9133C35B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7220-1210-4F09-BA4E-F5290093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423-0A47-41DB-BF13-11809650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BE58-1BAF-4A02-AFE3-72B17849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D7BA-3930-4775-A3CF-0D829BA2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22B0-8B8F-48A4-A6E5-4534FD84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CB5F-6D58-4B2A-9114-A265B788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79FA-8E61-4152-9673-731D084B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9B7-14B7-4CF3-ACEE-463A277E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BB3-BAA2-4E28-89F6-FFB9518D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2DB-B5CF-40AA-9EB4-5C8C33F7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243-CB8C-460A-B822-D1B6811E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75F-D404-499C-9327-042567EE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936-54E2-4A4F-9E0D-A8D0C343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431-71CD-4500-A53A-6039667D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A697-AE6F-44DA-8A8D-0E79542627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1177-E0CD-46B3-9C25-9DE76A8C0D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aranana - Tsodran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W. Greatore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84 – VONINAHITR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4 – VONINAHITRA HO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inahitr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Zanaka Fanahy 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hatry ny tal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kizay Am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833680" y="596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5:06:22Z</dcterms:modified>
  <cp:revision>51</cp:revision>
  <dc:subject/>
  <dc:title>Tiona Advantista</dc:title>
</cp:coreProperties>
</file>