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A53-0A4B-49BB-A71A-04E59255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103-3BBF-4F61-8682-994A87E5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DE8-4DC8-400B-B12D-6ADAA7EF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903-9CCA-46D6-97F9-93A34F30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B299-C548-4D00-A31B-430D1597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F0C-6ACA-4180-B9BF-7B29EEA1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8E7D-DEE8-4240-A8C8-33085D3F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95F3-35F7-418D-87ED-FD44B215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204-787D-4ED1-8283-4375406D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45FA-0D47-47C9-8A1B-5B148107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CCDF-E369-46C4-A291-48B9BDE3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7C6-08C6-45B9-B106-68FDEF9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29D7-36EF-4329-8D80-309F9EA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3628-D42A-41D3-822C-F836A3E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11F0-5A37-4226-9154-9B06E95F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76B0-C871-4149-B29C-2947FA80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CF3E-68D9-40BD-BCC0-F6219DD7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1E6-6956-4D86-BF1A-08C667D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F8D-202E-4B94-8A1A-DDC80E0C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CA7-D95F-47CD-8103-71B7A65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C8E-0C71-49C9-B8E4-0914333B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491-AF17-4DFF-A4EE-FD2FDBE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EB9-A1C2-4181-BB5C-21BC70D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842-E569-4F2B-A5CB-B775A2A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F359-C172-4C75-8688-E738056F29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B49-021C-421D-B944-EABBAE11F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nahaterah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B. Vandal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z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5 – INDRO NY TOMP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6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0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4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58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5 – INDRO NY TOMP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omp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raka tao an'al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eraka tao an-tranon'om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nisy izay mba n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50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14960" y="54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05960" y="58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2900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5 – INDRO NY TOMP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Ra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efa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mbara Ilay nate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m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6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14960" y="54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05960" y="58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2900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5 – INDRO NY TOMP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niraika ny o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-tanàna fa nat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mpiandry ondry kosa dia vo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ndeha sy nandao ny ondr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6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50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05960" y="58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2900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5 – INDRO NY TOMP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ahoana kos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fihetsik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andre fa he ho avy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Jesosy izay namonjy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6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50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14960" y="54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388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2900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65 – INDRO NY TOMPO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Ra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efa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ana izay te hiaka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14960" y="4687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20000" y="50688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545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05960" y="5830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2900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8:16:32Z</dcterms:modified>
  <cp:revision>31</cp:revision>
  <dc:subject/>
  <dc:title>Tiona Advantista</dc:title>
</cp:coreProperties>
</file>