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219-53A3-496E-ADA3-E96F76A1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E63-BEDD-450C-A229-487A954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4AB-A3F9-4DAA-A3B1-AFE6493D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D10-9963-4F1D-8F07-BE82F41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75DF-4F67-4460-AC9A-D3F73BF5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CC72-935E-4C8A-A23D-FD571CB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D951-AB9C-4E5D-A6A3-5E0725B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109-5895-47A1-9270-04C74FF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D0BA-EFF2-484E-A701-0CF0711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FB9-1088-4D3C-ABB4-DD0E8A5F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7AB2-A759-4F3E-BCEF-79ECA80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611-A9AC-4B99-8A0F-BB8CCD2B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609-36D7-4673-87F9-B12CB12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7BC-4CF8-4E08-BA61-6EAA26A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68A-0AFD-4AD4-9AAE-D22FBB8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046C-9D69-403B-917D-F9633474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B6E-3BE7-411E-8C50-22C74D5E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468-242B-43CB-A119-E20C158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118-0CE1-4D2C-94CF-A47EAB5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AD2-1DB1-48B4-BDEF-08805B0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E00-D7B7-4A5D-AFE3-1ACB3D5A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8A7-108E-4503-9EFA-C23097CC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0F3-5B3F-4270-BD65-D375F94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5D1-68D3-405E-BC34-E169E3F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62E-06BB-4D6D-B42C-6963BFBEE2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BFB-BE4C-41E0-835D-D226D8DAA0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05360"/>
            <a:ext cx="91440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J. rt Gloria Gaith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Arrangement 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Mamy J. Ratsiris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2 – DERAO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45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42 – DERA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Derao n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de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avo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derà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602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29:25Z</dcterms:modified>
  <cp:revision>26</cp:revision>
  <dc:subject/>
  <dc:title>Tiona Advantista</dc:title>
</cp:coreProperties>
</file>