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A605-0ACE-45BF-AC1E-F2A803F63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D3E7-27B9-45CE-AB49-EAFC29FEB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56F2-874F-4D85-89FF-190C306CD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4C84-B2B2-4F88-A494-54924CFE3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D4F88-4FDD-4135-83D5-EC4DD30D6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5F9CB-C7B3-4782-9EE4-EBF2239F2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1BFDE-53C5-46C5-9D9A-18D8F0B45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37A01-137E-4189-8BDF-CC2409955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5D613-090F-489E-9009-27C968959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C5D6C-C2EC-4AB9-9A15-E0DCD1D81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D93D0-1B53-482F-9DF0-A40BC153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1E32-E19E-4861-84F9-5D122DAE4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37912-3CD2-4675-BC8E-0F7FF29D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66B88-ED0B-4668-8D94-13884BAA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F08D8-1C92-4302-A071-D182CD09D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3F3B4-4BBB-4345-87F3-0C6262F36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3B7D9-6580-4A2F-9FBA-A48995A2D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5D85-3314-4785-AF75-1994461F2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57DD-25C0-4670-B226-65578405E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F18F-2547-4075-BAFB-DE9ACAFA3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BADA-EB91-4CB1-BDF9-54B9BB753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321D-3614-4810-A9EF-484053F9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9378-2B68-410D-B14B-FCB2F6BE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96FA-6CCA-4825-934C-27D1D627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514C4-7FC3-4F57-843C-2F22B961877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85DB2-9046-4637-94C1-C9250B326CB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DRIAMANIT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nkohofana sy fider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. Bar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H. L. Morle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FFPM42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029 – RY ANDRIANANAHARI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4738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57800" y="5119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5500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58816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29 – RY ANDRIANANAHARIN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Andriananahari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amasin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tena lehibe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tsy hahita Anao 'zah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tsy mba masim-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857800" y="5119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857800" y="5500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848800" y="58816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848080" y="4307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29 – RY ANDRIANANAHARIN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mason'ny anjel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hita Anao to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tsy mba manjambena ire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dia mamirapira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amasin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857800" y="4738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857800" y="5500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848800" y="58816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48080" y="4307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29 – RY ANDRIANANAHARIN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tsy nanota tam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kory izy ire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meloka, tsy mena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misy hahazo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jery tsar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857800" y="4738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857800" y="5119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848800" y="58816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8848080" y="4307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29 – RY ANDRIANANAHARIN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izahay, maloto f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ta hahita 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mana-mahamendri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zanak'olombelo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hoana no hataok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857800" y="4738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857800" y="5119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857800" y="5500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8848080" y="4307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Andriananaharinay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ran'ny zanak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asan'ny Fanahy 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zava-mahamendrika a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hit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29 – RY ANDRIANANAHARIN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857800" y="4738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857800" y="5119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857800" y="5500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848800" y="58816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8848080" y="4307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RAZAFIMANANTSOA</cp:lastModifiedBy>
  <dcterms:modified xsi:type="dcterms:W3CDTF">2010-12-01T22:04:13Z</dcterms:modified>
  <cp:revision>27</cp:revision>
  <dc:subject/>
  <dc:title>Tiona Advantista</dc:title>
</cp:coreProperties>
</file>