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29A-65D4-4E0B-8817-43AC0F74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45B-7DCB-400C-B01F-5C283CDB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0A3-D802-457D-90A3-60E723A9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425-F896-459A-886C-B25CA53B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5AD3-B5EE-442E-9D33-535036F1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F86E-4EE9-40AB-8239-25D4E0A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234B-8BBB-412A-BFF2-69F35A6F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3B0A-CEC0-481F-92AC-E1BEF929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0286-35CB-47CE-A37C-32BAE5C1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89B7-3E3A-4552-B99D-C512866D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324F-13D8-47F1-A85E-A100CCE6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7B8-4019-43FB-AAF0-016F139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E20A-8F4F-4DE6-A4D6-45AF6868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BF00-D19A-4E4F-8859-188A290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23C2-C96A-470D-A725-068A13C4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8DD9-D10F-4682-BDB6-23553E88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728F-C901-41DD-A54F-EE7E05A1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D61-1200-4825-ACE5-B2ABF7C7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6F7-A7C2-4110-866A-D65A3A56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F1A-A9AF-41C1-B089-2867678A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046-22D9-449F-B84D-9E50CA2A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CEA-8369-4622-BFDF-6B23062D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7A4-2E0E-4A64-B3A7-316E2F0A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CEC-DB6A-4900-BCCC-DB90A73D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5602-3402-44E4-B0A5-BB2BBDBBAE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9770-50A4-46AA-B716-8AAA9CBC01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 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5 – MIHIRA FIHIRAM-BAOVAO HO AN’I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45 – MIHIRA FIHIRAM-BAOVAO HO AN’I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Mihirà fihiram-b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, Mihi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y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ho an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ho an'i Jehova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ora ny anaran'i Jehovah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28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, (lazao) isan'andro (isan'andr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y mahafa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à fihiram-baovao (fihiram-baov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ora ny anaran'i Jehova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! Ambarao Amin'ny jentilis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, ary Amin'ny firenen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gagana nataony.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2:33:22Z</dcterms:modified>
  <cp:revision>27</cp:revision>
  <dc:subject/>
  <dc:title>Tiona Advantista</dc:title>
</cp:coreProperties>
</file>