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395-BF59-4C28-BDDA-04B218BC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D4F-8F76-4EB7-8858-3576E01B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B81-C3A7-46F5-80C0-EA17C95B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CF6-00FB-4C5A-B0AB-A126BE04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B1BC-EB7C-4C46-B3A7-3566CD08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A180-F87A-4A0E-87CF-D470B68D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A09E-78EA-40BA-88F9-1B638097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D790-17A8-4BF2-A02A-65636E99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D104-D09F-42F9-BAAA-12F32E0A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9B11-6016-4366-921D-76740FF9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46E6-B334-406D-ABAB-A5ECE293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D20-0BA6-472A-836A-FC770208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FC0C-17AC-4AD3-B18E-99BCCCAF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1491-2A9F-4C45-BD41-6F9DEA35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D5E1-FEFE-4E98-9480-232A3A40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D156-7D38-47F2-AC19-8CB3B85E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F09C-1A01-459C-902A-B39D59A6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02AB-BDA7-4E2D-B1E3-29384551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BAB-A574-476C-95EE-2D38D28B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6F8-E40A-4B4D-BA1B-63D44CF8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B86-F480-4A5C-8ECA-2D86C112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D5FD-F60B-490F-A1E9-C7888536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5DC-C2C7-4C36-BE36-14939323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335B-DD9D-4A8A-88F5-01714A7B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57FB-F515-4079-8E93-B4BF7F6FA2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8F94-4D17-4C67-9ABD-E54FB38377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62 -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AMY MANEHO  NY LAZ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2612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Esther Ba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orbel"/>
              </a:rPr>
              <a:t>Tyrolese Caro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2 - SAMY MANEHO  NY LAZ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Samy maneho ny laz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reo mpirehare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haizana sy har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derader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'zany no asandr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antsika kosa r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tenantsika atol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Lay Mpanjaka lehi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882612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84160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2 - SAMY MANEHO  NY LAZ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o tia Anao sy misa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dera sy man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indro aterinay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fanomez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rakitra mahar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mena an-tsitra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menay, ry Tompo Tsito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voninah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35480" y="635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4160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462 - SAMY MANEHO  NY LAZ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andraikitra madin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meny dia 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ho f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mandinika ny asa 'zay 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y re no fanomez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tolotray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iso fa nikele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mpo ô mba ek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26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26120" y="59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41600" y="519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01T18:18:33Z</dcterms:modified>
  <cp:revision>115</cp:revision>
  <dc:subject/>
  <dc:title>Tiona Advantista</dc:title>
</cp:coreProperties>
</file>