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6A3-1FD4-4354-9AE3-0B81B972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D106-085F-4FD0-96AA-10D36E2F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00D5-2A7E-4E44-94F9-5FB6BC25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91B1-5463-4E36-B045-DC717764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C43D-0814-4237-B992-CD97B8FE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5C00-3AF2-4BD7-AEA8-9E4CF022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2810-BAF3-495C-8DEE-5BBC9332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E4AF-C335-4C61-9939-0A2026DC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1715-357C-4138-8162-143B2E35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9093-AAE1-4199-8372-D69A02C0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D8F2-A27A-4330-B1F8-908A69B8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D79-1FE9-4393-8D24-20F275F9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1367-716C-4D68-AC15-35AD77D2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A633-B6A8-4457-A429-03944F60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3D5C-A0DD-465D-9B47-36268A4D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6D1B-01AB-4DCC-A6B3-9FA49976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E0CD-AE3D-4C49-A4D2-518D1AC5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9D8-D529-46EF-9695-8AB70959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7AB2-5778-4111-BFD2-536E03C5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FBDA-5EEA-483E-89FA-7A98F784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9975-4935-457A-ACA8-28815741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F4FA-9DC3-4221-9756-4C72F9D3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7306-4CC6-43F4-93B9-29FA2FB2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CB35-85DE-4743-9F7D-8021FF30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59AE-8548-4A17-827C-72431778E5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EEA7-1CE4-46F5-BCDE-6FC7F5ED3F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él. TIL10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02 – INONA NO TIANAO,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2 – INONA NO TIANAO,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ona no tiana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tolotro 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itondra latsa, 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ola sy har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talenta, her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azonao eken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 tadiavinao ny f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2 – INONA NO TIANAO,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ona no tianao,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fiderana 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Ianao izay nan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Zanak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ny hira tsara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iredon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kanto sy mirindra 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 tadiavinao ny f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2 – INONA NO TIANAO,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hatanoran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ampy ho 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avotra nal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y Kalvar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ananako rehe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o sy fotoana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iko re tsy misy fe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 tadiavinao ny f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2 – INONA NO TIANAO,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dro ary, Jes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hafoiko hatr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ny foko izay man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tadiav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 ! amboary sy dio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tempoly, lapa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masino sy aro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Anao tokoa, tok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1:25:52Z</dcterms:modified>
  <cp:revision>85</cp:revision>
  <dc:subject/>
  <dc:title>Tiona Advantista</dc:title>
</cp:coreProperties>
</file>