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D92-CD4C-44EB-8861-CBE4264A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33C-5ECB-431A-8656-D943CFA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BB8-F252-40A8-BEB7-773163AE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B99-76BA-4C09-87A2-A203B02B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D99-AB59-4389-A0AD-4444222C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A66D-52BE-41AE-8679-E65ECD9F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EFCC-A64D-4DB2-8490-8B60859B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474C-AB8A-4E74-9BF0-FABFFE3D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69FD-FD69-4AD7-AE0C-7DC30749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E04A-32A2-4C58-8B8E-930C788C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3939-3CAC-4F14-A788-1AED164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241-E9E6-414A-A1D0-9477E26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E03F-6DEC-4760-A286-88FE969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8855-5A00-44F5-9D79-CBBBDB9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2C39-60A2-4C82-83C0-CD5A197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6F12-FC77-4957-83D6-E585AB07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AE0A-20A9-46C8-ADD9-2A7BAAB4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41A-BC29-4BFC-80B4-48B37C9E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C13-99A5-4344-BDC4-47F62422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643-996B-4FAF-B93A-D2A97CA4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A75-511E-4225-8069-AB27B25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6DD-900E-4DA1-91EA-182793E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996-8C77-467D-B2B2-CC3B6A4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ED8-6E62-4FC4-AB7E-036AE20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BC8-EBB0-47F6-93AC-1CB141960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7C90-DEDD-4D5E-9F2A-B451DA2916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80 – RAHA NOHOMBOANA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80 – RAHA NOHOMBOHANA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ohomboana Jesosy tao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vonoina tsy meloka 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latsaina ary koa nesoina 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Inoako tokoa fant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ekeny ny ho faty dia ny hisol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rany no hanasany ny helo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aretany koa 'reo loza t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mafy dia noh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6392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80 – RAHA NOHOMBOHANA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oriana no hita tao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oriana tsy ho z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kosa Jesosy Ilay Mes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iaritra tao noh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y tokoa ianao ho sambatr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onina aminy ao an-dapa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omeny ny ainy tao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Inoako tokoa fant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6392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08:59Z</dcterms:modified>
  <cp:revision>31</cp:revision>
  <dc:subject/>
  <dc:title>Tiona Advantista</dc:title>
</cp:coreProperties>
</file>