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C4B-9C0A-48D7-B940-5322483F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650-8F4B-46A7-A5B9-0AD50104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E76-280F-40F6-8206-7DEF1A8C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BDA-AA5D-4FFD-A53E-35B08765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0042-18AE-4D3D-8CFC-BB05D4CD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2D70-06D8-468F-B202-EC93E922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DA4F-A929-453D-9428-7671E2D7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ADA3-19D7-45DD-9E85-5C630659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5169-62D8-45D5-B580-8268DCE9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A21C-8EEB-4C59-9A89-70452D92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6FDC-9C26-463C-B934-F15F466B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169-3325-45E3-ABD6-5DFC8EF2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95F0-2F62-4099-9229-3C1D71CB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7FCF-E36C-4695-9D01-9C17BE89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A93A-03BC-4FFF-93A0-8183F4CB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3F4F-F398-4290-BDD1-9260D9B1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BD05-3E29-4B96-A464-1F306E42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74C-F7F0-48E9-AF89-912C1349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663-BBD1-45D2-8861-01383846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430-316C-4F59-8CBE-F6F4A16A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7D6-950E-42CF-896C-CDA20C0C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03C-E9BC-4ECE-B23C-95CA64F2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046-D487-43B3-9108-2C2BA6D4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CF63-FDFC-4443-8F9D-D4F759C6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038A-B24E-4770-A667-7B9DEBF11B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E85F-4B92-44B9-89D0-C6F34B0BA4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18 – RY MPANOTA MAHAN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80760" y="51912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18 – RY MPANOTA MAHAN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 mahantra manatona, av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anao Jeso, Mpamonjy tia, (O ! avia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maty ianao, nefa novelomin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ry, nefa hit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ivelatra anio ny sandr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a handray a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ina natolony  lavinao sanat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 re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80760" y="51912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8 – RY MPANOTA MAHAN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anao tokoa ny hasoav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lalany anie i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y tsy mamitaka sady tsy miav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ra sy mangor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din-tsaina, ahiahy nanapak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o eo aminy avo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anota toa anao ‘ndeha samy hila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 azy tokoa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8780760" y="51912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danana feno, azo anto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misy takalon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safononoka ary koa mah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ny ho anao an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henonao anio ny fe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ry Azy ny f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dioviny,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onena-masiny, Avia, avia 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18 – RY MPANOTA MAHAN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80760" y="519120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9:02:13Z</dcterms:modified>
  <cp:revision>61</cp:revision>
  <dc:subject/>
  <dc:title>Tiona Advantista</dc:title>
</cp:coreProperties>
</file>