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297-882A-4C58-97B7-275CEAE7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DB3-A1C6-4A5B-BBBB-B050A7A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F50-D345-45FE-BEAD-63922118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6DB-3559-4718-8DCA-55983707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BAC3-F4BA-432F-BBCB-C30D24A7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1100-0B2B-4719-B01A-D1A39FE2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FB5-413D-4750-805F-568F842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99EA-EF16-4641-8744-0CE74302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1E60-0B80-487D-8844-C095F6C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F706-03A9-45D0-B2AC-C60562F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F12-7640-4C3F-A774-1F86E77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1C3-CFBE-435E-A84E-A394244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807-0C23-45F9-AB2A-E366258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CE4B-6A1D-4991-AD25-7BFCBD2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4027-7910-4D61-BAC5-9A7DC798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FB5-54EF-4899-9628-D565CCFA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DD9-4EFD-4040-91F3-BC692746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51A-910C-40D7-8D7B-FB4E908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F93-92DD-4531-9655-9269EA66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36C-CF88-45A6-944A-EF769E3A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A90-87BF-43F2-A427-AA071CD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C24-596E-449C-A711-9DBE123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48E-B096-4FEB-A895-8B28F81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F23-4215-4351-994A-F234149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DA63-1200-4674-8303-17B155D1A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763A-4A6A-410D-80AA-66D8958B70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Y. 84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4 – MOA VE TSY HO LAZ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ve tsy ho laz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elo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elona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tena sau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maty mba hiso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tondra ny helo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izao nandre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vel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bio (hobio), hobio (hobi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aovao mahafal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, lazao, eny amb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vel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bio (hobio), hobio (hobi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aovao mahafal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velon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, fantatr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ta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velany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esany mani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sorin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dana-p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, fahalalana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ny tont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velona !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diako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any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zava-mampah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sen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kiv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re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itsihiny man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velona !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ahy irery man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namako mahan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jy efa v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Paradis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tsy misy f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elo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4 – MOA VE TSY HO LAZ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zao (lazao), lazao (la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kaiky I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, lazao, eny amb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av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zao (lazao), lazao (la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Izy h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seho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elo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2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27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290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4:04:00Z</dcterms:modified>
  <cp:revision>33</cp:revision>
  <dc:subject/>
  <dc:title>Tiona Advantista</dc:title>
</cp:coreProperties>
</file>