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AD0-7BC1-4F6F-B27C-257EB702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886-AC87-4410-8E41-58F5F50A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59B-585E-454E-98F4-F6C1B745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3F7-DFFB-4888-B533-E71157EB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76D0-D882-463D-8B4E-4F3E9E3A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477-7829-4AC3-9B78-91679F4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F5B8-A7CB-43E5-A878-6B8992E1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A9FC-5BF5-43A4-9258-B19BA7C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1B04-32D5-49AA-9A96-5708A9CC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21DB-5A4A-4F6C-BA9F-AF91E5C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A566-8DE3-49D8-93C0-4D7318D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3C5-D6BD-412A-983F-2CE182B7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2A61-0FC5-45A7-A6B6-A566A0F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2DAE-AD31-477A-8386-9723E49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F7CE-E3F8-4986-A53D-6E88F545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3FF-6300-4BB3-A7A9-9F00C617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AE60-C68A-49F8-8744-1725964D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1BE-3ECF-4A4F-85DD-5A28EAD8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846-AEE8-4399-92C9-CD51773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875-D929-446F-8D59-B12923AE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A5A-D70C-4C5F-B6AD-7E30FE1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664-CD25-4CA8-8DE4-C9E389E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AC5-EB81-4275-B8F5-EC4910A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9E4-59DD-4642-8F1C-D0EEBA5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4020-AFC2-479A-8595-DBAD307CDA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74A-9D32-4388-A344-CD87E7FE38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dresena eo amin'i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5 – RY JEHOVAH Ô, HER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5 – RY JEHOVAH Ô, HE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Jehovah ô, her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kiko, mami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sy matahotra aho na man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anao manda fiarov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5 – RY JEHOVAH Ô, HE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sarotra ny làlana 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 iantehe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inda teo izany hasas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ika mirana no az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5 – RY JEHOVAH Ô, HE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oa manonja fatratra 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solafak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omponao no banjino hatra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iny, toky azo ant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5 – RY JEHOVAH Ô, HERIK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omboka anio re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petrako eo an-t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ako raiso, eny hamas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aovy mendrika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2:10:49Z</dcterms:modified>
  <cp:revision>88</cp:revision>
  <dc:subject/>
  <dc:title>Tiona Advantista</dc:title>
</cp:coreProperties>
</file>