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C98-2D8A-4624-8BC4-F6476414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AC9-3C9B-42AA-9018-B687EE64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A1B-A9FE-4761-BEE4-C3F8C139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59D-732D-4609-9FB9-F439749A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4BA-E101-4C10-BB19-8DAFA4F1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D49E-E8C6-486F-A64F-5954199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61F8-2620-4942-B1F8-997BB4C6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B211-2660-47D5-9956-F9570AB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E271-3F59-477D-8148-EB40770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4F40-4988-4AB7-93AF-E0C1A800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A45B-B53C-488A-8BDF-0DF6873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F23-B422-42A2-B20B-BC661F5F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450-3903-4374-ACB6-0216354E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CB8-86E0-4EC8-8E3F-345F48A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636E-F47C-410C-8B8F-AA923A2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7A6-F194-4919-BB91-EB8B225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E2DE-0564-435D-8900-A4EE6364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435-97C1-4B8C-8D20-C9845DC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7F4-5973-4A51-8E8B-46F50C9E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7FC-65C4-44D1-8005-9944265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548-6194-4E25-BD84-0680EF9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AC4-74F9-4BCB-8B41-38868A2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210-2353-4A81-AC12-88C1B67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2E9-0441-403C-A6B6-44ECFD2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8F0-46EA-431F-9968-098948247C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AE6-0690-41F8-ACF8-24DF05340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ruce Ballinger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3 – TONGA ETO AN-T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3 – TONGA ETO AN-T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eto an-tranonao, Mivory izah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eto an-tranonoa, Mivory izah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eto an-tranonao, Mivory izah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 Ana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3 – TONGA ETO AN-T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omenao ho ahy Ny fahamar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fa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omenao ho ahy Ny fahamar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fa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omenao ho ahy Ny fahamar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faka ah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3 – TONGA ETO AN-T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velona ho Anao, Hias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velona ho Anao, Hias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velona ho Anao, Hias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iko iza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2:38:37Z</dcterms:modified>
  <cp:revision>28</cp:revision>
  <dc:subject/>
  <dc:title>Tiona Advantista</dc:title>
</cp:coreProperties>
</file>