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4D8-C69B-495D-8A83-5C0BE3DC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254-DD03-4584-AB85-559DB162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95B-E1EF-42F3-B3E6-8B4D7429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533-8965-4139-8FA4-62900B61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A21F-47DF-416F-AE77-8F5A3B8B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3F1-0ED0-4921-BAF7-58F01F0A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B3E0-B0E9-4FA2-BED0-2CBB5C36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F817-4427-44D7-A620-2BDF6ABE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B2C3-2EAA-4F8B-90D6-83FECD68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78D-3F57-4F56-8D68-02AC406C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7089-5A0E-428F-81C5-55FB9E61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4D8-8717-4855-9735-949C960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222A-54E7-4787-89F2-6B5E6E2C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3C9A-851D-43B4-9AEE-86E200A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D79D-5C62-413E-A6A2-53D388A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7E1-CDB9-4C3F-82DF-A4FE1E43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8CEA-C3F4-47D5-9440-4C05D2FF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BFB-8712-4372-A3B8-DF44372E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C58-CA22-43C1-8936-43D7658F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BE7-38A9-4193-83AE-CF8DFFAD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7B7-ED4C-4CBA-958B-72C4D4F1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F06-551B-4E55-882E-148372F1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8AC-0823-4D55-91D8-8EC903E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9D7-BDC2-4E28-B235-EBF0915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6BC-6030-461A-BD40-2B90408F68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B5D4-E8C7-4A19-89D5-3467169E28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Mondai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636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60 – HIANAO 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0848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0848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820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99480" y="516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99480" y="5549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99480" y="5934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81388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0 – HIANAO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ao 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ba haton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'ny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n'ny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mihainoa ka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80848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81820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799480" y="516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8799480" y="5549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99480" y="5934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881388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813160" y="367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0 – HIANAO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ampangin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o anat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re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sy re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sy fe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80848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81820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8799480" y="516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8799480" y="5549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8799480" y="5934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881388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813160" y="367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0 – HIANAO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izahay h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vao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hit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hit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e-tsa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80848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80848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799480" y="516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8799480" y="5549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8799480" y="5934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881388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813160" y="367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0 – HIANAO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fy ny ad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be ny tahot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tsy 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ank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80848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80848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81820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8799480" y="5549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8799480" y="5934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881388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813160" y="367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13000"/>
            <a:ext cx="9144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tafi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mp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ay mpian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0 – HIANAO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80848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80848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81820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8799480" y="516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8799480" y="5934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7" action="ppaction://hlinksldjump"/>
          </p:cNvPr>
          <p:cNvSpPr/>
          <p:nvPr/>
        </p:nvSpPr>
        <p:spPr>
          <a:xfrm>
            <a:off x="881388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813160" y="367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60 – HIANAO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nay haf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irehet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omenao h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80848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880848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881820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8799480" y="516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8799480" y="5549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881388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813160" y="367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260 – HIANAO RY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tanter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anja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om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nome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ra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08480" y="402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08480" y="44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818200" y="478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99480" y="516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799480" y="5549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799480" y="5934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813160" y="367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36:06Z</dcterms:modified>
  <cp:revision>28</cp:revision>
  <dc:subject/>
  <dc:title>Tiona Advantista</dc:title>
</cp:coreProperties>
</file>