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063-AFF4-42AD-A90A-D0B7F070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291-3529-4E2D-B5D6-E768F1F1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3FB-21C3-4493-B459-8D902882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67C-4968-405B-9F76-C32D445B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60FD-9F4A-40B0-AF17-8FC11653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7D22-8CD3-491E-90B1-A4F9FC6A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7CA4-CFEC-4D36-BFB5-01B0BA9F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09F4-9CB2-4C5F-A85B-C4CEDF63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CF10-B5EE-41A8-9DA8-15C818B6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B4F1-E6F5-4855-A1FF-1B50DA65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2092-9F6A-4A65-8AF6-EAD23857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54E-39F1-4F87-B08A-01E66721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15A4-28B9-4E0D-A23C-E7D16917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C890-51B6-4648-9BA0-BA66CBCE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F925-3174-4B59-BFFA-DAC84DBB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9D72-A031-4D9D-B867-41DE10FC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84F4-0475-4057-BD5E-599CD15C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C61-AFEC-44DE-B52C-41DD3D24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6CE-BCB3-4766-9156-38A8B424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B72-C6E9-4EEF-95AE-A03457F4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C909-91ED-41C3-957A-D3A7A9E2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AF6-B3C4-45C7-B24C-43DD467B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2BB-D979-421E-BE61-A74DDA20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B4C-1206-4BB6-8A0E-D41D5C05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87F8-A86F-4EC9-BB74-FA1E03F9C8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63B0-7920-4560-808A-E381029B24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Ranorohant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Kirrkpatrick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47 – ‘NJAY MANAKO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7 – ‘NJAY MANAK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y manako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 miantso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inoa ry 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ho avy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7 – ‘NJAY MANAK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Maran’ata, Maran’at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 !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ela ny o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O ! Avia, av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7 – ‘NJAY MANAK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avy i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-draho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y sy mih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iom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7 – ‘NJAY MANAK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orohoro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tsy von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vatolam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lof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, r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voav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de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7 – ‘NJAY MANAK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9:09:32Z</dcterms:modified>
  <cp:revision>37</cp:revision>
  <dc:subject/>
  <dc:title>Tiona Advantista</dc:title>
</cp:coreProperties>
</file>