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81C-28DB-4F40-8DAE-25955E90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82B-FB4A-4A83-A34D-8DD54ED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86B-8934-4E3F-BDC7-6D513BE9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690-09DF-4552-8402-54CAA22A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B0A8-BE1B-40AB-95F4-BE954017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E562-47DD-4208-9D30-0889FB6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B3F0-9588-4B4A-BFC1-834688B5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089-4D6E-4787-A34C-6163C70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E7F6-EAFC-482F-BE77-5A8F1679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0CE9-7B00-4768-A86F-419BD1EF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B65-BC84-43BE-A8E9-A2C93F7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F74-CB46-4014-B817-F82A19E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3FF3-8DF0-4CBD-BB92-35565BE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0E4F-2477-45CB-85DA-B079D5C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55E9-49B2-4E94-BD93-E1CE036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2E94-3B3F-43B4-A6FF-B80AF2FB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49DE-F8BE-4DB7-954C-ADD7A8F6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91C-846D-4356-AE48-6EB73BD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0AB-E34E-41D7-B6B4-D448BF24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9EE-754D-4654-88EC-2B281D8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14B-9A1D-4599-BFAE-A290B9F1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9FB-0F72-41BF-9E1D-AC74BD37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2B9-E3DE-4CCD-AACF-37FFF53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4B7-48D4-4E7B-B975-A7EC0DA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F84-F277-4D4D-B6A8-9FBD6E1A4B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646-9644-4A4C-863D-F65D5D165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lldor Lillena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9 – TONGA NY TOMPO HITADY NY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9 – TONGA NY TOMPO HITADY NY N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ny Tompo hitady ny nan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nolavina tsy ho Me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anefa no Ilay Zanak'O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idina tety hitondra 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9 – TONGA NY TOMPO HITADY NY N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saraina ho sol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fantsihina ny tanany r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tonga mba han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la 'zay mangej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9 – TONGA NY TOMPO HITADY NY N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anan-ts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mpo Mpanasoa tante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niaritra 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ny 'zay namonjy ny ol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osakanany fa nato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9 – TONGA NY TOMPO HITADY NY N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no nijaly teo re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isotro ny kapoaka mangid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tsy fantatrao ry mpanota ô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afaka anao no anto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ehitriny Jeso any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na ho anao re no ata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manatona Azy toko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raisiny soa fa ho avy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079 – TONGA NY TOMPO HITADY NY N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13:12Z</dcterms:modified>
  <cp:revision>31</cp:revision>
  <dc:subject/>
  <dc:title>Tiona Advantista</dc:title>
</cp:coreProperties>
</file>