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4B1-AC07-407C-B648-1C729B00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44A-1D5D-4A8A-B6B4-5954C102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E18-45EC-4933-8050-B39E0BA5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837-6C76-4DCD-951B-3B7B48E6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46D7-CC0E-4747-8A73-6410F619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36B1-AFDE-433C-9CAE-60451E6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0AA8-2984-40B1-8CE0-666A0F5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2EFB-B9B2-4F7B-A596-954B80B0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1A7-61C4-4A00-8A90-38D49E39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4B6E-4619-48F1-8157-FF398CDB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62FE-3DB2-4B00-87D2-A7BF121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8C3-6320-4D11-B3A1-6A190BF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8DF7-3163-4C16-951B-91DE9EBF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7CF1-7DDD-4C9B-932C-1D6AB0A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D7DF-525A-4D88-A689-F58BEB5D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3B8-62CC-42E5-99BB-DE499208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9212-0EB7-4015-8CB2-C72AAC84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ACB-934D-453A-83C8-B779F60E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069-29EE-42E7-A6E2-73BBCEA1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DCB-1654-42BB-9A8A-1BE29FF3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9B0-4EEF-4887-A0CE-3B756E57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0F6-70CB-45AD-BE9D-2E37B8A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A51-371E-4991-860F-0659809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364-16B9-41D5-86B7-0D992A0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950A-8A91-4404-912F-5C2B5AD9F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B5CA-92A3-4AFA-9813-1429C9F150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ololomiam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2 – HIFID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7160" y="52513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2 – HIFID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, hifid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, Toe-piain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, Toe-p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kanto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endrika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2 – HIFID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Fahendr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tsaram-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ompoana fin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, hifid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 Toe-piain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 Toe-p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kanto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7160" y="52513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2 – HIFID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joro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mahat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ovan-tsoa, fankato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, hifid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 Toe-piain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 Toe-p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kanto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7160" y="52513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2 – HIFID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hatok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rim-po v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lalana ny on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, hifid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 Toe-piain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idy aho Toe-p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kanto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7160" y="52513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0T01:59:50Z</dcterms:modified>
  <cp:revision>87</cp:revision>
  <dc:subject/>
  <dc:title>Tiona Advantista</dc:title>
</cp:coreProperties>
</file>