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E77-D72C-4014-95E1-950C28AF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212-EF91-4595-ABCF-1F48E6C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E2F-FE91-4B62-A1B3-E3D7485F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F03-3486-41F7-BF9A-554FD9F9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F1A-67EA-4F4F-8CF1-F30C3D4D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08D2-8474-4579-837B-D1957F1C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FF50-00DD-48A5-A9D8-2FDFD07C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6FE4-35DC-4137-B25C-342B4DB2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FE35-299A-49FE-B9F4-F03A0E98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6588-0F30-42BB-8F52-9A0A023B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1FB1-7EA5-4EF5-9E51-C53C3B23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C42-308A-4D1C-898C-42D9957D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E8C4-B58D-4AB3-9A15-93CD39C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778E-B885-409C-B15E-183AD19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327B-F0AD-455F-BE2E-73800425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C242-F499-4111-82F0-85D01110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DA06-DCDC-4765-B1D5-53EAB0D0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BB2-7C64-495E-814C-9F5E2C3C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B1C-35E1-474B-BC56-1196C165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E4D-B87C-4D26-AE2E-38BA1D24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987-89ED-41CD-9130-6560EB5B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D99-0206-4D99-8EB9-B44F6E5A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B2D-0B4A-4C86-9DB1-0E7A6842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18A-E503-497C-985E-9E2AEC53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27FB-AE72-472E-AF53-E83117E599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C4CC-8A30-4E5E-AD6F-7D539E4059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30 – NY TAHO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0 – NY TAHO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hotro mbol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lavitra tokoa ny al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biteby sy 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ao anati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0 – NY TAHO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 ny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omeo toky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nona tokoa ny hano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‘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y fikasana ao anati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y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30 – NY TAHO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lemeko dia fanta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miafina eo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inoako fa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nao 'zay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27:12Z</dcterms:modified>
  <cp:revision>70</cp:revision>
  <dc:subject/>
  <dc:title>Tiona Advantista</dc:title>
</cp:coreProperties>
</file>