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B76-2A02-4A6A-A5B0-C3F1E84D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31E-6EE2-4F72-82B3-9045041B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52E-5BE3-4D4E-94DB-D857A052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F1F-9BD3-484F-9508-565BBEDB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4FA7-53F1-4472-B82D-150F6898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A22C-09B2-4046-8E41-3673109D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7A6B-8294-47B0-B2EB-BF33171C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3AA5-E4F5-408C-9639-EEC02AF1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FB34-95D0-4A55-AE83-12996FE0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963E-4727-4F43-98C8-9EFE5CEE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7191-0A21-482D-A47F-45BB3ABE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CB1-3473-4BD2-9453-7224C731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5787-1D33-460C-B660-615D71EB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D993-DEE3-471D-896C-E9C59AD7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598D-F8FA-4BEE-9A6A-ED9E1D8E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B1AD-E838-47D4-85F3-112B061C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6014-F682-4E1C-A613-06B04238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179-56B9-4922-BA3C-32827C75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9559-4748-4CBF-9281-ACB075FE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CE39-DB62-4938-A472-6715E5D4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931-1D28-49C5-9F90-626DC812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517B-1624-4CAE-AE1A-AB89B023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AD7-9261-447B-8324-DD4369B1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227F-C22E-4D62-9310-8A518447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0C4B-DBE8-4C1D-8648-0AD0B5AF75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9EF1-CF8E-4B4E-B6CF-4AF891F267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 : J. Faustin S.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 : J. Faustin 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72 – HE ! NY RANO MIKOR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2 – HE ! NY RANO MIKOR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Ny ranao mikor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y hosotroiko re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tony ratrako mang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aboy ho tena voad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onjan-tsentonao mip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y am-poko ry tsy mand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vonona aho hampanj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34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2 – HE ! NY RANO MIKOR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reko Jeso ny fa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lentika any anaty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isy re ny haleme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ahatsapa izan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lefona izay mitsato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tsaroako loatr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ompo tia sy Mpanj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Mpandefitra 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2 – HE ! NY RANO MIKOR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y nasiana, noror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nofonao 'zay norat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oa tsy milaza amik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araha-mihinam-b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raisana mamy dia mam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latabatrao re ry Tom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mpianatra ahy hankamam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rais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34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3T05:23:04Z</dcterms:modified>
  <cp:revision>90</cp:revision>
  <dc:subject/>
  <dc:title>Tiona Advantista</dc:title>
</cp:coreProperties>
</file>