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95A-4CC2-487B-9B08-2F2A695A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52E-406B-4B7A-A2BB-ACC78284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7E4-AC49-4076-B7F6-2EDD906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206-9DD6-4A3C-82F8-8C9D7BC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E040-BDBC-40DF-8014-D44F0855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7491-78B1-45E6-AE52-79539C45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9FB-F757-4B8D-9155-4F6B586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DBB4-CA4C-400B-8ABD-CA503E56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0A0-260D-40BF-8DD6-26072BC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5E7B-1176-491F-823D-F9FBF3D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CCAB-E692-4C83-8632-C0C8CCE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56F-359C-4911-A516-6D6E1AF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665A-CAD2-4757-BBE0-991CE41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76C8-E3FE-4AA9-A0B8-D84F447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D13E-60C1-422F-AF3F-9C440F1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4FC-7C11-4AE4-BC3F-C68E58D9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A940-F15B-44DE-994C-9E3AFC7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0B9-7D88-4280-9D80-0348854E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F97-F0DB-48D7-8D81-7206C90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DE5-56BB-4215-B265-D1C70B5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4F1-47EF-4FA4-99FF-E7DDB23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2DD-9C7C-45E5-A852-90B89C3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63C-4BF2-4621-8A75-0408FAC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C9-94F3-4AEC-8427-E617770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589-BF69-4001-B88E-58B1F5FAB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0C9-0AB5-4DD9-B379-F5821E0D9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Wes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14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5 – TAFATSANG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5 – TAFATSANGA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tsang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Kristy Tomp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nefa v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o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38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5 – TAFATSANGA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ana ny f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Jeso vel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y tsy mamit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o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288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38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5 – TAFATSANGA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lehibe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fiob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ka ny tah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ry o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288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38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05 – TAFATSANGA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ja, laza, ater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Mpanjak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ny saotr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oa ny te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288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290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8:14:05Z</dcterms:modified>
  <cp:revision>34</cp:revision>
  <dc:subject/>
  <dc:title>Tiona Advantista</dc:title>
</cp:coreProperties>
</file>