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767-9E84-4B9F-956C-A1C5E1CB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618-ED9B-454B-98C8-5BAD7BB1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662-51A2-478B-AF0C-EB799E0A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7AB-1950-48E9-8EC3-3B63550E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6A15-5EE0-4464-8CE1-8F555811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E281-5EC1-4BE8-A682-9F86BCA0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A1AF-B279-4BD1-BFD6-DCAFC225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F6B3-5921-475C-822B-36BC92D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7B49-0D46-4BE3-B342-1D214FB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7A46-2BE0-4E28-8229-57E20C61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2847-C091-42D6-8075-5517392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CF6-9BAF-4BAB-B78E-C344572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D2E4-5AA0-45B1-92B1-56A24F7F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F977-1E92-4EF4-A087-32614F8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BC09-AF59-4866-B00E-E1FB0DAA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9D05-F65A-4075-B297-DE0EEAC6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21F2-487E-4C96-8617-3C6A1DE2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19C-44F6-4C48-AC7B-768CADF1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500-DEE8-44E9-BFD6-FADB874B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5B0-57EF-4C50-BCBA-6374D2D2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D15-008B-453F-A95B-FBD071F1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594-B48E-4D47-AA1B-F7F6972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E3B-6316-48E9-8B08-9C88CA3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208-839A-4A73-90EF-D1CEE19F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E264-63FE-4B82-97E6-60C1866C0E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D008-E0B4-4A63-BC1F-10DEDD824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ehiandr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Battman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00 – TSAROAKO ET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9660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04360" y="59421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23800" y="6323040"/>
            <a:ext cx="3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...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0 – TSAROAKO ET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aroako eto 'zao Ny otako, be (dia be)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valaka sy trotraka Ity nofo mahantra 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lina, maiz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ry tany ô, (ry tany ô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injay tsapako Misy toki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ome hery v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'ny olona izay mahatsi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o avy tokoa Ny andro famonj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ina izay ao am-pasana.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04360" y="59421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623800" y="6323040"/>
            <a:ext cx="3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...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703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0 – TSAROAKO ET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Fa Andriamanit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vy ka handr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nofo maro 'zay nihint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taolana 'zay efa momok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indro fa arafit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olona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 am-paradisa lapa so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jakan'ny fiadanana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9660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23800" y="6323040"/>
            <a:ext cx="3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...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703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00 – TSAROAKO ET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afindra ny fiainanan e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kosa tsara lav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ota vita ho had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hifankahita ao ny mpi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ran-tserafima mifam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ohenona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sana, Amen.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9660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4360" y="59421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7032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5:27:19Z</dcterms:modified>
  <cp:revision>78</cp:revision>
  <dc:subject/>
  <dc:title>Tiona Advantista</dc:title>
</cp:coreProperties>
</file>