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F90-B87E-4515-AF20-F593B8C3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ACA-B8AD-473C-AFAB-C2EEE08A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AB4-AA66-4BB0-9202-F0D059A2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BB6-9C71-4E14-8B25-B1C59C1B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3C9D-46BC-4751-B9AC-B518660C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D410-4DA6-4052-AB1C-D9ACE44A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3ACE-66AA-4BD5-BF86-D8B8B5D8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56EE-A6E7-46A6-8A41-4B53F577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BBC2-A9F4-4C36-81A4-B2E85203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5425-C18C-4AB9-94C5-A2ECA6DE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29D1-26DB-4887-A204-09B3A73D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99C-18ED-4588-A0F8-1DA2C340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216D-1DF6-43B0-8511-CCE544DE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998C-CC0C-45E8-8541-1D08F070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4936-0E10-4978-82CA-CF93215D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9364-0026-47BE-836E-4FDF8A72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7B2D-9C19-438C-9E0C-358C3275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675-4C4C-4A4D-818B-DAD848E7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849-E86A-4297-8231-B34689DA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583-65AD-4F53-A22E-CD26A019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3C5-B58A-41F1-9813-91860115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1A6-B707-4B48-8DB0-52655540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12E-0C55-45E2-9856-6C89DDA4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DB1-9F0C-45D2-84BD-68CCF24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2ECD-F2C6-49E5-BCC0-8B981BEB52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05C5-BFE8-41C1-AA70-37B78FBC52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20 – FIHINO MAFY AHO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0 – FIHINO MAFY AHO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 ..........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 ..........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hino, fih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hinio, mafy aho,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lemy, malemy mora va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tsy an-tan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0 – FIHINO MAFY AHO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hino tahaka an'i Ja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eo an-tratr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hino, fih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raha eo an-tratrana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ho t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0 – FIHINO MAFY AHO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sendra ho ki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ila hangatsiaka ny fino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fanao re, ry Z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fihino eo an-tratr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20 – FIHINO MAFY AHO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onja, mahery ny siva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, ka tohan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hino tsy ho lats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Ty zandri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2:52:10Z</dcterms:modified>
  <cp:revision>87</cp:revision>
  <dc:subject/>
  <dc:title>Tiona Advantista</dc:title>
</cp:coreProperties>
</file>