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10F-834F-496B-B36A-8F2F7EC8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DD2-07E2-4415-8208-3B3FEE5D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491-5F36-41A7-BCA5-DB4D63E4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7B7-509D-4C42-82E9-514A2165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AA3A-F85D-4547-9EDA-D6C06F94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2C66-0650-4F2D-B0F3-E35F3D4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C87-BA25-489F-9CD1-2BF99B51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7EC2-9BE6-4232-9662-EDE82837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F148-2142-4E1E-A6CB-7F5CADB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6FA1-3DE4-4DF5-96A5-28BAA1B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DC3-679F-4364-A0AF-A653917B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56A-D907-427F-888E-E3BE5B94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26DB-D26D-4C3F-9244-95D6EB0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F57D-2056-4377-B867-1257265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66B8-73E4-4EFF-81FE-BCE3BF4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0BA9-ADC2-4D53-8809-D845086C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6950-473C-47BA-94EF-F29C8FE7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2BE-F232-40DF-B7E8-AFF5D224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738-042B-4BEB-AC21-593BB2ED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101-727A-493D-BEF8-85441AEE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2D5-0203-471E-A4D3-40BE9DEB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A96-6164-49EB-8A34-4C3F5FB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CF5-0EEF-44AA-B3F6-6BB513D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CCF-9806-4E15-B1C4-1EC2F84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309F-9080-47E9-A667-A5542BF5D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554D-70B3-42DA-8D79-63FAB5C84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abarijoël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Th. Bov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9 – HALELOIA ASANDRA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9 – HALELOIA ASANDRA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leloia asandrat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dera Anao Mpanavotray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resinao izao ny fas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sokatra ny lal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diranay an-d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saoranay mandrakizay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9 – HALELOIA ASANDRA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njely masina i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iraka avy tamin-d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antso mafy ka niteny ho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Jeso Zanaka, heno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iantso Anao ny R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Ô, mitsangàna re fa velo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9 – HALELOIA ASANDRATR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Faly izahay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sy Mpanavo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sokafanao ny fasan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hay izao hiaka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onga ny Mpanavotr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Dera, laza h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en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21:11Z</dcterms:modified>
  <cp:revision>78</cp:revision>
  <dc:subject/>
  <dc:title>Tiona Advantista</dc:title>
</cp:coreProperties>
</file>