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F80-B8AF-4ED7-ACA5-08F42298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790-ED46-4B58-8D83-647FEFAC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4E4-2835-40F0-8CFF-7832B3F0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8B2-8B28-4521-8955-BBBB561E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F323-70FF-4455-BAA1-2250AD0C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94AB-1469-4C8E-B094-E930F031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FCC8-4BCF-4572-A295-8102842C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74F0-F067-48F9-98B9-2D77B6B9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9875-4288-4CD9-93EA-5A1B6ED8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523D-BAFE-46A3-91E0-8CC4620A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CFB0-171E-4FB1-8D41-64168DC7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24D-2557-4BEB-966A-AB2CB09A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A3D9-8D8D-4A42-9774-B5DCF925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0DB3-CDA4-4118-9A43-D5EE1AA9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6656-F721-4ADD-8E74-33A350D8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26A6-C57E-4260-B545-AA3DFD39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6A24-650D-495D-9748-21C592A2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C99-EE25-49DB-BC61-906D4DBD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BDF-F856-4775-885E-C3888A68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9D7-4172-421F-A7A1-58C938D9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2B3-11B3-4060-A0FB-67B7F597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57A-1AB2-484C-80BB-14C4703E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065-81E5-4172-8339-FE161091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EE3-1871-40B1-9A09-56C3534B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BE36-001E-4D91-8C4B-2E2FA2F6B7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7B9F-636F-4450-A9D6-7E5CA1F6A5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zak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zak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19 – RY TOMP O, ‘NDRETO NY TANO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19 – RY TOMP O, ‘NDRETO NY TANORAN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Ry Tompo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‘Ndreto ny tanorana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Vonona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vonona hiasa h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Kanefa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nefa kely hery ka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Ry Tomp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ô ! Tohano ny fanah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19 – RY TOMP O, ‘NDRETO NY TANORAN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ô !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Tompo ô , ampi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mpiasan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y mpias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ifali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Ô ampifali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hazo fanay maro ho An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s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19 – RY TOMP O, ‘NDRETO NY TANORAN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Ry Tomp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'dreto ny fiangonana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Vonona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Vonona hitory ny hafa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Kanefa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Nefa menatra, matah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Ry Tompo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Ka omeo ny Fanahy Mas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19 – RY TOMP O, ‘NDRETO NY TANORAN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Ry Tompo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He ! Mijoro izao ny ir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Vonona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Hanafaingana ny fiav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Kanefa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Omeo fo mazoto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Ry Tomp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Tsy ho kivy na mafy ny at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0:54:49Z</dcterms:modified>
  <cp:revision>78</cp:revision>
  <dc:subject/>
  <dc:title>Tiona Advantista</dc:title>
</cp:coreProperties>
</file>