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C191-57EF-4444-9DF6-F2751E14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EB39-974E-43DE-B1CE-0B0BC994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74F8-E335-4043-A7E7-60200CD7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A0F4-C9E9-4EE2-9B2D-9E752702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9DAE-AEDA-48E9-8946-50848D1E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71AE-A935-4588-92C5-11B265FC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1EE6-900A-454B-BF68-79C6BE82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929C-E185-4FC8-B20E-0AA35445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7BDE-2731-4B44-A559-F3DA24B8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0C97-A2A7-4950-90C6-F16A17D6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DC26-6F1D-4CD5-94CF-377AEE9C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B3CA-9722-48F6-9840-5356B816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D808-D22D-4449-AAED-458D630D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658E-E9AB-41F0-BACF-E367629E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5AFD-CA77-4671-84B8-4AD3F3DC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7B3D-17EF-475D-82BA-402A9B53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6B73-AA81-4836-9DFA-7855E2B1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DC5F-848B-4719-A7F0-E8585766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CC32-5051-4388-94FD-B52B455F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A929-16E1-4C69-8482-DE1FA3FE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1E5D-E3C5-4E4D-97E9-2D9C9594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BC1F-402C-4919-8E47-BA9B8377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E51D-7CCE-42B9-A480-69E15A1A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727F-B97E-44C5-86DB-CA283192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50C9-0F58-4FCB-8EF1-11232048AF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C53F-3808-437A-8CFB-122F0EF385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87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RAHA SENDRA FAHAKIV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943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dy sy Fandrese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Dera Ar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Dera Arson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87 - RAHA SENDRA FAHAKIV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sendra k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Voan'ny fahakiv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mila hamo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o Jesosy, Il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y manome her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ao hahar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8831160" y="5943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884160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87 - RAHA SENDRA FAHAKIV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 ! Mahareta, aza miala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indro tonga Jes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 ! Mahareta, aza mi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za mba ketrak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4160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87 - RAHA SENDRA FAHAKIV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o rehetr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maharitra ints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levona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inoak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hitombo hat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atria ho avy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31160" y="5943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4160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4:23:28Z</dcterms:modified>
  <cp:revision>117</cp:revision>
  <dc:subject/>
  <dc:title>Tiona Advantista</dc:title>
</cp:coreProperties>
</file>