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C82-F603-425E-B2C8-E99018F1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FA4-8BAC-4A85-9373-6C6D108D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B1D-8D9D-405C-BCA1-66BE62FF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C7B-2115-43D5-A655-FBFD0FBA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0E29-A064-4D0A-87E7-CEEB2807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98C0-CAD9-475C-9340-72BE0C25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3789-C937-464D-B3FF-69C789E4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DEEB-EA59-4370-AD84-8EB9A17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653A-D335-47FF-BD8C-86CA5C66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1330-9E79-4D48-A93E-9E4CF222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062-14FE-4A9B-AA13-EB8610B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3EF-A64D-4CAC-A850-66D7CA67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0A2F-B0C9-42CF-9C3A-B2F4EDE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C2E3-0C73-46E5-9D1C-FEFAAD88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710D-7D1B-4A0D-9213-C730CF00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104C-4BEB-4EFB-AF0D-47304CE9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34AD-27F1-40C9-9329-8F770741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961-5E90-4C5E-B185-7338A1C7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E75-1AB2-45D2-BAE0-E1813143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47E-899E-40ED-8C27-352E5675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237-33A3-4383-A8A6-3C90503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D84-504F-4173-A176-F0499AB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F1F-31AB-4810-9506-A273EA0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683-64C5-4579-B46F-78D5AF1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82F5-89D0-4962-930C-38F067246A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9C0D-06A6-4C07-9B7E-755DB913A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5 – MIDERA SY MIHOBI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5 – MIDERA SY MIOBI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erà sy mihobi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nam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hifarana ny a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Krist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ly sisa hanoloana Az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monjy ahy 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ny Krist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5 – MIDERA SY MIOBI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Kanana efa vo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o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liana tsy hay tonon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no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anjel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angona ny voa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oby re ny Fiango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5 – MIDERA SY MIOBI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eto dia mis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l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tsy hisy ny fits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haravo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màna 'zaho s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ao 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dova ny Tanà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Paradis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3:18:32Z</dcterms:modified>
  <cp:revision>37</cp:revision>
  <dc:subject/>
  <dc:title>Tiona Advantista</dc:title>
</cp:coreProperties>
</file>