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449-1862-4902-9DF5-9D78C606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9E0-59C1-4655-B5D5-68CD184A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73F-3234-4348-8FCA-FF760EE5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905-8290-44BD-9F00-0763079C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F75B-8BDF-4B7C-A1BE-6D3766EB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694B-BFE1-4E38-9734-DBF50A2E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F70F-141D-4D4E-BC07-1A2AD6C2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77C3-7CF8-412A-95B6-D2C44C39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984F-9C37-4912-92BE-F7404D8E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4B1C-C056-4C18-A8D1-117FBD7A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97A8-589A-4E8D-B3ED-74376504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10E-2A8B-4879-9A24-422F8FA0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3F6E-B719-4C71-8064-6D76AA00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EFA4-A3D3-46F5-9460-80DFD31D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72E0-AAB2-4314-A291-24C65768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E289-7718-42AC-8928-EB7CAE09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BBD7-F364-4007-95C5-82C439E4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FBB-D9B1-46A8-9AC2-CF8C8140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F7E-AC48-4CB4-940C-30DCE46B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210-BC5A-445A-BBED-48109E9A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D36-8704-45EE-A994-E63093AB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BE6-01DE-4ED4-A2E4-5612A6E4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7F4-A3FC-43E9-893F-241D1DA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80D-1A4F-45CD-9102-2775446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37E-24D5-433B-8957-788BD095B0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17A5-7123-4B4F-942F-B5A86F1BAB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OLON-TOKANA - OLON-DROA - RODO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A. Raoeliarijaon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726 – RERAKA NY F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14880" y="4724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15240" y="5105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04080" y="5486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690040" y="586728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6 – RERAK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raka ny f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afy loatra ny ady atao 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nofo ihany moa, mora resy fa mal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ntatrao, Jes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milofo 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 handroba ny ondrikeli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Satana izay mandrovitsi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masiaka ery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15240" y="5105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04080" y="5486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690040" y="586728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6 – RERAK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eraka ny f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efa fantatro tokoa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inona inona hanj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eo anil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14880" y="4724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04080" y="5486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690040" y="586728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6 – RERAK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ISAN’ANDIN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raha mbola misy aina 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itempo ao anatiko 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ry koa mitsotra hitantana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reo sandri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a lazaiko fa raha ho avy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vy eny an-danitra 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leloia, Jeso no hitsenako 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14880" y="4724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15240" y="5105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690040" y="586728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6 – RERAK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fisik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fisiko ani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voady 'zay natao, ‘zay nataoko t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hihemotra ah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tsy misy ataoko rehare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fa-tsy 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y rà izay nalatsak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navotana ahy.</a:t>
            </a:r>
            <a:r>
              <a:rPr b="1" i="1" lang="fr-FR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3600" spc="-1" strike="noStrike" u="sng">
                <a:solidFill>
                  <a:srgbClr val="00ccff"/>
                </a:solidFill>
                <a:uFillTx/>
                <a:latin typeface="Symbol"/>
                <a:ea typeface="Symbol"/>
                <a:hlinkClick r:id="rId2" action="ppaction://hlinksldjump"/>
              </a:rPr>
              <a:t>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14880" y="4724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15240" y="5105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8704080" y="5486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690040" y="630864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…</a:t>
            </a:r>
            <a:r>
              <a:rPr b="1" i="1" lang="fr-FR" sz="3600" spc="-1" strike="noStrike">
                <a:solidFill>
                  <a:srgbClr val="ffcc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amafisiko izay neke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ao, Jes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 tsy hanan-tahotra a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eo anilako I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A726 – RERAKA NY 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14880" y="47242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15240" y="5105520"/>
            <a:ext cx="3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4080" y="54864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690040" y="586728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868932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10-02T12:56:02Z</dcterms:modified>
  <cp:revision>83</cp:revision>
  <dc:subject/>
  <dc:title>Tiona Advantista</dc:title>
</cp:coreProperties>
</file>