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75B-6676-4F5B-9DA9-089AF066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46D-1E10-40EF-8736-3A8D9CC2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51E-48EB-4ECF-AEA4-18A84DF9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7CB-F875-430C-9B3B-908F9423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67BB-57AB-4945-8A2F-5596179F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931A-47D6-4460-B156-D057C9DD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A7ED-FAB6-496A-8D3F-AF0A18C2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D8F1-F61F-4651-8CA3-5FDDC36C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0C46-31A5-4321-9577-C03C0443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A90C-72ED-4382-9972-1859A85B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1FD2-E355-4539-A740-833F2433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2FA-B947-436B-A258-58F3A902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A425-0FC9-4593-ADA6-21C5D914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C65C-4CC6-416F-BFA5-0DA91A43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6602-146E-4DDC-B07C-352621F5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397F-B12C-410E-B93E-DD36FF8B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8675-7FA3-4E39-8D16-F9B3C5BF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B88-7818-4D53-BF33-EB1472E3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362-901B-4CB8-B196-1761F2B4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05C2-1800-4A42-BEB8-C7DE2762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3D1-C8A8-4915-A4AB-6FE0BD3D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6BC-4E03-485D-9751-5B1D4F4C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0B8-2D58-408D-B4F8-499E113C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0F7-0022-4913-ADBE-B012A5A9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2FF1-678F-4A55-A55B-E9E005904B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427F-B07E-40F9-B772-A1A47A182A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zaka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. Swene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11 – JESO MORA FO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1 – JESO MORA FO INADRINA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ora fo indr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a sady maha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ova, tsy mif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be fiti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iriko ho toa 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mety soso-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onona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avy ny m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1 – JESO MORA FO INADRINA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ia, nanetry 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andefitr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Tompo be har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panjaka foto-t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iriko ho toa 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inia ho ory 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sainy no fid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fiainan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1 – JESO MORA FO INADRINA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anolo-ten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, ry Tomp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heloko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sasanao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ga ka homenao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 madio sy vaov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haizako manef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rehetra sitrak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0T07:44:42Z</dcterms:modified>
  <cp:revision>35</cp:revision>
  <dc:subject/>
  <dc:title>Tiona Advantista</dc:title>
</cp:coreProperties>
</file>