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9D5-C133-4490-ACA6-092F19CD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E90-65B6-4010-9037-A10265EA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40F-CC32-43E7-AE61-137C3CBF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9F5-DD9D-4942-8508-7407C938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14D8-1CB3-40CC-9F00-D6884F2C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BF71-7A5E-4F6D-B5DD-E2CD5FE8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54F8-DC0D-4EAD-B40C-BFE924C3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F284-ED29-4172-90CA-B022788C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6319-CBEA-40B4-A683-B1562AB0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53D0-F001-4E24-BB50-2C2B0CA6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2A0D-7D81-4186-8DFC-E38C4914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C5B-7799-4600-9A0E-B0B40F87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237E-7455-4A4F-9393-756D3E90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DCDC-D8C6-4E34-AFCF-E24101CF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AA5F-C4B2-42BD-81B7-940E106C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4F0A-CEBF-4844-BF63-56BD1B1E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5CFF-C80A-404E-8041-35924372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9A0-6309-4738-B645-4D68FEDF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79D-365D-4D1C-B9EB-579AC596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D73-C2CA-4825-A1F3-D81B359A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EB4-DD71-41B5-98BF-A987E2D0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223-1BEF-41F9-9790-404C85F9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E72-C83B-4D31-BA22-2CF3264E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40D-06A3-4DB9-97D5-0EAE9302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6180-6FB0-4D47-8679-6CD45063B2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D1E6-7828-4BD1-B26F-FD0A7D4213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A. Hould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Zund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5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11 – HE ! MATOKY AHO,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1 – HE ! MATOKY AHO,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atoky aho,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ko ny ten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soa mahafa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avy amin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1 – HE ! MATOKY AHO,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atoky aho,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ko ny ten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soa mahafa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omenao ah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1 – HE ! MATOKY AHO,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otra aman'ahi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iriako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omenao tok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to ny te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1 – HE ! MATOKY AHO,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rehetra faho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iko hesor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mahad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ovy ah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sasa, mahad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dray sy mahato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a ho an-tran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1 – HE ! MATOKY AHO,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11 – HE ! MATOKY AHO,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 ! Av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hankalaz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nao re izay ome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la, tena, ai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7:00:22Z</dcterms:modified>
  <cp:revision>69</cp:revision>
  <dc:subject/>
  <dc:title>Tiona Advantista</dc:title>
</cp:coreProperties>
</file>