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F073-3618-4EFA-8F7A-F98F662B8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16B8-9C8D-4AF0-AA15-B83D82315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BDA6-90CF-4085-A2E0-3694FFBA9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5D2D-C216-44F5-B529-FCC75956B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4D55C-7C23-4F90-8E35-9ADDA12C6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B21FE-43B1-42FA-94E1-4E8AF386B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59873-45AA-451D-96AC-E7391B0A7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8CCDB-9E9F-4FC5-9C60-0DFCAD544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43F70-488E-4CE3-BF3B-910EEE997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2B471-EB14-41B2-A24E-F4391228A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76BB6-FAE4-4CD4-B966-48B2DEA2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D9AB-4EF4-4ED0-99F4-CB6A8796C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72DEB-53BD-45CE-8942-BB60E8D4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E4663-7E8E-4FC1-A3C6-E974FBAF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7F000-EC04-4929-A32B-E602539A0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F2EFB-F6B0-41D1-84C5-3BC80D2E0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D700C-62D7-4FE8-A2D7-67EC7FAAD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2543-2B87-4B72-92F3-E99622219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852F-AAD5-44E6-8970-433125048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5766-DD1D-4667-B1C5-D6FF30BA4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08F6-D824-49D1-9BF5-E8EF278B5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54F6-8111-4ABD-9F45-ACE34D29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133B-5D90-45CD-824B-CE7DC003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5F2B-D576-4969-8CAD-37A6E148F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37AF9-56C3-4E1A-9E2B-28B1ADF688A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176C0-FAAB-4090-8D15-FD4B3BC8A36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verenany - Ny fanjak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joelison 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P. S. Morave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HL120, DLG10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144 – OMANY NY FANIL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6276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487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44 – OMANY NY FANIL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many ny fanil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dao hiakatr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oa renao ve ry mpin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Ndry ny Mpampakatr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76276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75772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7487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76384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44 – OMANY NY FANIL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vy 'lay nantenai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hirà Hosan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! Tonga ny marai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erao , Haleloi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erao , Haleloi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75772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75772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7487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384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44 – OMANY NY FANIL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dreny ny anje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Be voninah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mory 'zay niel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dova lani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75772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76276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7487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76384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44 – OMANY NY FANIL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zano ! Iry ny Tomp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pandresy lehibe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ietry mba hanom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izao nasandratra 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75772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76276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75772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876384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ingana, Jeso t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andry Anao 'zah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antso hoe: &lt;&lt; Avia &gt;&gt;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en ! Handray a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44 – OMANY NY FANIL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75772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76276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75772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7487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76384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1T08:59:48Z</dcterms:modified>
  <cp:revision>36</cp:revision>
  <dc:subject/>
  <dc:title>Tiona Advantista</dc:title>
</cp:coreProperties>
</file>