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DD0-71CA-43C2-88E5-C9FA024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186-CDBB-48C2-ACE7-5A119CEB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162-927E-4072-860D-D8E74630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7D7-A980-4C86-B062-365A511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CBBE-02D7-4783-950A-2A5D036E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1F8-7E91-4D9C-B55E-CD12FD9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E3E8-35AE-4180-AEE8-91D5473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F5B-BE87-4902-8860-74082ACB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E29-70C8-4CE5-9F3F-4805803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95D7-78CD-4992-BB7D-921CAF50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90AB-2282-4ED0-90CB-92954F9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E8A-8A49-4389-8326-72B266C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F5E7-CC55-43AD-8595-17DC131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D48-F48F-4965-904C-B6A8275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7650-F68F-4180-A4D8-27BE168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D931-931A-4F03-9A97-B3296733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3BD-945C-4A44-9E3D-E5D9D4F9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9E8-C0D6-420E-838F-4F38515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000-5B4E-4DE4-97CC-D474159E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416-844A-406D-9E96-D102F3D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EE8-A827-49D9-9F61-F22CD22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4F3-8374-4DAD-A8AC-64122C72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491-A712-4D37-820C-C5C3F95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05B-EBA1-4905-9D4F-5F77804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361-0F9F-40BE-B34F-EA7367861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1A8A-D21F-49C2-B3FA-DEADB862B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7 – HE TSARA NY FONENANA E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670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67440" y="62499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7 – HE TSARA NY FONENANA 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He ! Tsara ny fonenana eto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Kanef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eo anilanao no tiako.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Raha lav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Lavitra Anao ny fo misento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Sento, sen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y eo anilanao no tia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Ry Tompoko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Ry Tompoko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panjakako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Mpanjaka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Mpiahy)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Mpiahy ny fanahi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ny, lavitra Anao ny fo mis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Ka ny eo anilanao no tiako. 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67440" y="624996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4188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7 – HE TSARA NY FONENANA 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Indro omeko Anao ny foko, (ry Tompok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e, ry Tompo. (Ka mba hanom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ba hanompo Anao ny fo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ota maro izay tsy fo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mboiko eo ambony vokovoko (kovok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anaranao no hantso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eonao no heno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 hafoiko To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eo anilanao no tiako.</a:t>
            </a:r>
            <a:r>
              <a:rPr b="0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1" i="1" lang="fr-FR" sz="3200" spc="-1" strike="noStrike">
                <a:solidFill>
                  <a:srgbClr val="00ffff"/>
                </a:solidFill>
                <a:latin typeface="Corbel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7080" y="58690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4188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7:58:25Z</dcterms:modified>
  <cp:revision>91</cp:revision>
  <dc:subject/>
  <dc:title>Tiona Advantista</dc:title>
</cp:coreProperties>
</file>