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DE1-7A9F-4332-8679-3B0261C2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49E-17E4-43B2-B4A0-7425E510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9CF-C4A7-4EF5-B393-BEBABB8E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B7B-355E-4AA8-A9B7-3353EF13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E3AA-7B78-49CA-91BE-25C70462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2835-5133-40AE-A851-293424D5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8B5F-D296-4FC6-9FF5-3FA74DDD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93C3-A258-4BA0-A94D-5FD2340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A096-780F-44A3-B7E8-5BF54AA1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CAC0-55DA-41FB-BD2B-9241A409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64DD-0F5E-4F3C-BC79-A0189347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C8E-1A9B-4401-8CE1-BA6AB7DD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4308-3CEF-49E9-AAF7-792B2959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FDCD-F94C-4CBA-819D-7FABA55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9836-5E36-4943-8452-D82D494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6555-DC90-4F2E-966D-D39C5726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D4D0-B17D-471E-8418-009818CB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F67-C88B-421E-9D22-02383DA5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47C-7E51-4694-A6D3-049BC1C4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46F-AA00-4915-AE0D-6279920D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6D9-7F60-45CC-A358-D0B3129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17D-A320-4E52-B385-912B6E26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47E-5B7B-4449-8982-DFBFA5D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B79-71AF-4BBB-9BA9-23551E82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BFCD-2EE7-4870-820B-DF50C5A362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66C6-E465-436A-860E-1F461C96A3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elen M. Mill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8 – ENDREY NIVEZIVEZ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8 – ENDREY NIVEZIVEZ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drey nivezivez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dia nanezak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tety izao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ita izay nahaf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8 – ENDREY NIVEZIVEZ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jo, he tampoka t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ko 'Lay tena s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Jesosy tiako no nise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faliana no mameno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8 – ENDREY NIVEZIVEZ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rom-piainak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nentiko nanar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oriana sy ny ts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tamby izay niai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0:37:04Z</dcterms:modified>
  <cp:revision>79</cp:revision>
  <dc:subject/>
  <dc:title>Tiona Advantista</dc:title>
</cp:coreProperties>
</file>