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38E-ADA5-45AB-BCD7-898DE57A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60B-BDA4-4F99-A874-EC0FBD73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D00-F4CA-42D3-BB1C-8737805D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53B-5DBD-43DD-9A86-A2BA8830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F1F0-3A26-4B13-9902-DEE61D0C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EB91-1542-47F6-BA33-829B334F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DD6D-AA39-43DA-8573-D8878B1A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BB1A-737F-402A-BDF5-06D8987B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876A-2F86-4BEA-A91B-ADEA6EFB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739A-CBBA-4161-BBE4-022B2866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7F15-C944-449B-8D83-71754A41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572-B7B5-474F-8362-019100D7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163B-9C44-4450-89D5-92013900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B88A-F32D-4770-9532-E8722BB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281A-0D90-49BC-B139-9009151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54FC-5E7D-419C-9B1A-35829B8E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185-365C-4E26-BE9B-F6067FCE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7C2-ABFC-4534-AE48-9FC6501D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2EA-9E4A-41C0-9322-9A91901D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357-A16D-4299-A213-FAA97AB3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B61-2840-40A9-95F5-02FDEC49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51F-9042-4CD8-8508-C28187DB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DC7-0E07-4BFF-8131-C2BB457E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D67-21A5-4588-AFA3-A97491F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2B4A-A48B-426E-A40A-41BA7E1821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37D-2A7B-42DF-AFC3-76C3B6A0CA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030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IDERA ANAO 'ZAHAY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768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151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W. Tans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30 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DERA ANAO 'ZAHAY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dera Anao 'zahay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be 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saoranay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6120" y="5151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90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30 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DERA ANAO 'ZAHAY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any sy 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ndratra ny he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taonao hahafin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hahasoa 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hahasoa 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768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290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30 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DERA ANAO 'ZAHAY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la maitso m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voana, lohasah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rahona sy ny 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anambara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anambara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768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6120" y="5151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30 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DERA ANAO 'ZAHAY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drey ny lahito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tolotrao hisolo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nanay anja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-danitra rahatr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-danitra rahatr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768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6120" y="5151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90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raisona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iranay mide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santatry ny ho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sandratray ambony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sandratray ambony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030 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DERA ANAO 'ZAHAY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768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6120" y="5151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90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56:26Z</dcterms:modified>
  <cp:revision>116</cp:revision>
  <dc:subject/>
  <dc:title>Tiona Advantista</dc:title>
</cp:coreProperties>
</file>