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3A8-2A0D-4762-8A92-5E2C80EE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A00-051D-4D99-800E-11AFDCE9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506-3ED6-403F-8693-3BFDC5F7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E72-F9E9-4C3D-9AC0-28F3D253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F54C-4F1F-495E-9EB9-E87AAD8E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9B71-FE6E-47C1-8270-366E1694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C5D3-81FA-4251-A88F-EE59BE00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0E4F-FC1E-4B2E-8163-B4F65B65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46DB-C2B8-44E1-9380-651F14B0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443F-A591-4282-867A-39026C37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660C-C0B7-4C68-A03B-11733343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212-BF6E-4A38-914C-1141DEEA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FBA6-4B15-48E2-BA1A-5F33A697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ED7A-2689-4C1E-AB4A-DF9DF9EA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4148-65E6-4938-B923-FE145CE3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AC71-71FB-408D-81D5-1A24F57F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38F6-EFDD-4562-9A48-9BA921E3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EF6-26E1-4464-8FFC-F711BAAB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0AF-E7F8-454E-8B7E-7DE8879C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BBE-CB61-4C96-AA36-977E5E73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383-233C-4A19-A2AD-4BBBB858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9B2-9926-4737-8860-DA74958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D6C-8F2D-447F-8186-0128DE85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1CC-8A8A-4002-BB14-C0C74A3C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8AC0-6782-407B-BB6C-877E1D289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A6E8-DCF5-4330-B411-9D1D1C42EE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. Hould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FPM0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05 - ANDRIANANAH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249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5 - ANDRIANANAH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nanh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 indrind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jel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mitoetr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maly hoe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nanah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lo '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57720" y="5249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5 - ANDRIANANAH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nanh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 indrind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tsy hita az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nanah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lo '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5 - ANDRIANANAH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va-mana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y manka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manamba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ompony iz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ire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tahy a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nanah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lo '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57720" y="5249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5 - ANDRIANANAH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nanh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hatsara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y fitah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panompo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dia tsa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menao a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nanah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lo '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57720" y="5249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nanh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 indrind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mpan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 hankalaza A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fahendren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fiant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nanah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lo 'Zay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5 - ANDRIANANAH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57720" y="5249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23:18Z</dcterms:modified>
  <cp:revision>42</cp:revision>
  <dc:subject/>
  <dc:title>Tiona Advantista</dc:title>
</cp:coreProperties>
</file>