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4C5-FFF4-465B-BAEA-6D0F01DE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5DA-FBB7-4DD6-A80D-B6622A8F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8A8-9E45-43AC-B35C-E6EAA659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35D-82C6-43BD-B45E-791ECEBD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0BCD-0058-4032-8AAC-9AE52727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C0C-FB2B-4304-A47E-140E02A7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57F9-1E07-46DB-B976-66011592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9CDB-7B6F-42F4-A107-F6820A9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D5C6-A667-4DDE-B59D-71A9AE41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86AA-E99C-4C08-8D02-2D864B9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D59E-1488-479F-B31C-45F439B8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26D-2FB9-4A9E-B5B8-37F17DFF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DD2A-118C-4B54-98D9-7D116BC8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2741-0306-47C2-ACE6-049B3F9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CED-2EED-4FF6-BB8C-26934E7A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7285-D486-4485-95D2-E5673378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4ADF-10CF-41C7-9A60-46007F06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B81-426A-44D4-BDCB-DE2A6E47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562-2B8C-4CF7-A5EF-7BB9C83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84D-E6DC-4292-BD18-6A987623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11D-347A-45FE-8EA7-BA1EFAEF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583-A6FC-41D6-B410-49A664E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CB0-0D81-48DD-9281-47705B3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840-85BC-4A86-BD41-CE666B0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69C6-AFAB-4991-A7D9-C3388BA509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6880-0A22-4CF2-8F0F-795BF476E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O. Jon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H. Earnshaw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0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38 – TSAROANAY TOK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8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anay tok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oa lehibe norais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paka avy t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Andriananahar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8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sa itodi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mpiseho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m-p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hy sady man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8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koa 'ty andronay 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diavin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voahodidin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hia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8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okinay tokoa 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bola ho aro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, ampitso, rahatr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ak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mba velom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y anatina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y misaotra anao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inay be famindra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38 – TSAROANAY TOKO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25:30Z</dcterms:modified>
  <cp:revision>30</cp:revision>
  <dc:subject/>
  <dc:title>Tiona Advantista</dc:title>
</cp:coreProperties>
</file>