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FED-55C5-4DCB-A6AC-D7083391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58B2-603F-4602-BB06-63266223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99B-9080-43B5-B3DC-1F33D79A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D9E-D197-4265-88AA-0E4B7A0C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6719-F17F-4922-B7EC-1365B284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DA95-498A-4F9C-AB4D-F08299A1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AB3C-3D4C-449E-8B9F-2699D25A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A025-A41F-4376-A4C7-B5F69EDF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15E9-6FBD-4D9B-91E9-AB214BC4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1A58-69EA-44AE-9684-E6F06FB2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6A34-EA84-49B8-81B3-0B1AAFF5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A174-9514-4B7E-B27C-EBC4ACDE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98FB-0822-4AE0-BFC4-A025C362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3484-915E-4748-BBE6-02317CF1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C1B8-BB53-49F3-839A-78454C65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E45B-44A5-4CE2-ABF7-3EF437C4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2C4D-00F0-44E6-859F-138C0A8D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1AC9-C75A-4327-B7AE-B17BF71D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6815-6330-4A73-9F35-8DA96D82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23FD-EF07-4BE2-AE26-1C5F780F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017-B762-4A38-A0AF-3557D3E1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51ED-40FF-4BA1-9EE4-60C6426D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0C6-9645-406F-994C-3ABF7058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CF26-05E3-47A8-9B18-D82990DB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A3F1-150B-4E68-BFA2-DB3D07EF0F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82EC-94AB-497D-8B45-5988E7DAEB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sué A. Rab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sué A. Rabarison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t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61 – Ô ! MIVONONA RE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6041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1 – Ô ! MIVONONA RE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ivonona re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e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-pifaliam-be (der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kala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62760" y="6041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1 – Ô ! MIVONONA RE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ingàna Ianao Jes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Mpanjaka) Mpanavo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lay Mpanjak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e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lay Mpanjak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e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ika no hihira hoe : Halelo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61 – Ô ! MIVONONA RE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ela ints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vian'ny Tompo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 -drahon-danitra (hobi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kala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62760" y="6041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2:51:27Z</dcterms:modified>
  <cp:revision>36</cp:revision>
  <dc:subject/>
  <dc:title>Tiona Advantista</dc:title>
</cp:coreProperties>
</file>