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BBC-D975-4BD1-AACF-7DC69030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BE2-3F35-475F-8CCC-3B83AD21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812-C5BE-46F4-8D38-101B4983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94A-E5A3-49A8-960C-24E045D2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461A-A281-46FD-B3C1-F55B1B9B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118D-953C-446D-91E4-158F7581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E7B5-AD7C-4802-815A-FF11BFCB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1944-0CE0-403F-964D-CC49396B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0628-3A13-4636-935D-7454289A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5164-53B8-49B9-A149-93ECDAA4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F443-035C-4A11-A35C-80ACC4E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126-EE1D-4468-B1C2-7C3467AC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B9ED-CF5D-424D-8F4F-EE307A24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7428-67D0-46A3-B833-2260F96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504F-3F53-4A1D-91DE-B13B34E5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A2FC-4F5B-4E2A-A567-17D45DDB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D5FA-3293-4EBA-A3B3-BB89BE7D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32F-4DB2-42CB-94E6-0AD4DF8B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C81-5A52-4E39-93DC-BDDE5552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D64-63A9-4F20-8380-BAADBE04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4EA-0996-4589-B31F-74C2E991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098-4FB6-4DBA-B987-EEF39A2B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2AF-6A24-4F1F-B387-DAA045B6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0B0-685C-472C-BFC7-CDC46F04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609A-BC01-4139-B0B0-619C63D9F4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3D99-05A3-4FDE-945E-95E687D7E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iran'ala Andrianavo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iran'ala Andrianavony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48 – RY JESOSINAY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8 – RY JESOSINA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sinay ô, ‘ndret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irianay ny mba hide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sasao sy diovinao re ny fon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ba) hahafahanay mide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nay ny fitiavanao (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nonanay ny anaranao h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780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8 – RY JESOSINA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sy ô, faly ny f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tolorana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 no ventesinay mba hi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a) Mpamonjy tia toko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nay ny fitiavanao (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nonanay ny anaranao h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4808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30T03:47:25Z</dcterms:modified>
  <cp:revision>29</cp:revision>
  <dc:subject/>
  <dc:title>Tiona Advantista</dc:title>
</cp:coreProperties>
</file>