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CCE8-D9C6-457D-89FB-0DA660B4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E9D9-0357-4980-84E4-6EDEC093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1AB1-09CD-47CC-A8A3-07C1E46C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0C12-5A76-4845-BFFA-FE1570F0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99E1-B269-444E-9EAC-9FE5ECC1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9159-316A-4735-9840-DE8B1A6C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3966-995B-406F-B8BF-1DF435E8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79D8-5611-4063-85FD-40F8E79F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BFC3-FB80-427A-B814-7571590E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67FC-6F74-4F3B-AC56-CBBC4D66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F627-5CD7-44A3-A31F-F4773700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108B-8984-4B1C-AA21-55F5BB61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6957-2C73-4766-97A8-5B2B177C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F3CE-E9AF-46BA-A098-15EC5F23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DC50-FBE4-4E96-979F-6770C8EA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263C-28B0-42A8-9C5D-14419919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6771-32DA-4707-9199-FF5CA198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45FA-4157-4DF6-82F1-D0D7D1A3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9A66-BC91-4A2B-B474-32561370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0C51-AA69-466A-ADAA-3BF6DA08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2AEC-B5A9-4A9D-A95E-E3028333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EB0-06BB-4A16-96DC-0E2BB053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4A5B-32AE-4999-8DCC-EE7A2166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330B-AAFC-4AAA-8F71-C7BE67B8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34AE-9847-49D4-9590-F1FD511F9E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7F02-AAB4-4EB5-9AE1-718DF7FA7B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tiav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zakari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Ira F. Stamphil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59 – JEHOVAH Ô, EO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5780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59 – JEHOVAH Ô, EO AM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Jehovah ô ! eo ami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o anandratako anio ny fanahy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ndriamanitra ô ! Ianao no toki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aoka aho tsy mba ho menat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mpahafantaro a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Jehovah ny lalanao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zay sitrakao no ampiana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 Ianao no Mpamonjik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85780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863920" y="5654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59 – JEHOVAH Ô, EO AM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Jehovah ô ! Tsarovy 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reo antra sy indrafonao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atrizay, hatrizay  no nisian'ire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mba amindrao fo Ity zanak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zay ota vita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Ô ! Aza tsarovana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 noho ilay hasoavanao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amindrà fo Jehovah ô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863920" y="5654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07:32:51Z</dcterms:modified>
  <cp:revision>29</cp:revision>
  <dc:subject/>
  <dc:title>Tiona Advantista</dc:title>
</cp:coreProperties>
</file>