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4AA-E855-4B18-B5A1-E5FE22C4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064-4872-4FB3-AA73-7D74DCB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4CC-8D33-4BB1-859E-C259DDF5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502-00AD-4237-A4D7-C8801CF1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1B4-E709-4493-AF7A-57F1145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2298-9BDF-4BB9-8D78-697719FE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713-6584-4F5F-A83F-C81B692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524-2CD0-48DE-BFE7-4161B13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285-6761-4E38-A0D7-A8D3409F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2B6F-0188-4909-B61D-8F47F8A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141-3D83-43E6-AAE7-18A9BA1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8D8-04D9-42DD-B224-82ACE672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4C1C-CD17-4697-BEA3-2EA9C78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631-052A-434E-82EC-22DC554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5F8B-F414-4A04-9D98-E938C01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0917-E2DA-4E3E-A003-BE7D10FB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D85-B511-4781-990E-8B576A17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164-CADD-47BF-BADA-5331F917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AAE-E6EA-404E-ABB0-B88CA3D5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8CE-4C46-41CD-8336-18CA8E0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E67-CBBD-4CE1-9A8B-01139E2E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867-D916-485E-A305-9C1A14F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9F9-207C-42E9-9170-CF84EE9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B0B-DF0A-4E91-B979-105868B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AA2-DEDD-4E05-8782-A217207AF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843-7B6A-404F-ADF9-EF20AB3DD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kol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7 – NY ANDRONAO RY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7 – NY ANDRONAO RY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nao , ry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za ao am-ponay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lehibe ka sitr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v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7 – NY ANDRONAO RY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nao dia lov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 hitsah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itahiana sy tombo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7 – NY ANDRONAO RY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fatrao, ny t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renay izao ka sitr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vaoz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27 – NY ANDRONAO RY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: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py anay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kato ny did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danana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23:24Z</dcterms:modified>
  <cp:revision>44</cp:revision>
  <dc:subject/>
  <dc:title>Tiona Advantista</dc:title>
</cp:coreProperties>
</file>