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12D-5B0D-4A71-B2B9-CAF8192F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FFF-E005-45CB-A3FF-C22BFC1C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3CD-DD57-4155-AC9C-F85C2FB6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A63-5D9D-44CB-B65E-1B24FFAC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1969-1974-4CF7-8B90-829D4A60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A49-4C48-435C-9B9E-E16F881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82A3-3BF5-423D-8EF8-5EFD89C1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7624-6181-4128-A031-0E007EE0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4D04-B84F-4803-8AA3-49DE06B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A759-CBD5-452F-AB9D-6782B13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1636-46E3-41C8-8F9E-0649259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0C6-7E1B-47FD-B870-4F870312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FF8F-7845-4C04-81B5-CB0762A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642-E0E9-4515-BA94-EA7DDBA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1F80-A7A6-49D7-8432-D6F003A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E653-E877-4B56-8ABF-2CB9DE62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BC9B-B897-4A5A-8A67-93EF2CC1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FCA-7628-493B-AEC5-9A75041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20C-0F34-48FD-B154-9A61E84F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C02-573E-49F7-8048-1BC0DF0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AA0-AEC1-40F0-A3EB-4B77C84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C6E-B21F-4DD7-917A-6FE25A3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E4E-8E4F-487A-92E2-51A7CA47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910-C34F-49AE-911A-961DB898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ED5-F0E1-4E64-B551-DDCB092BF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F8D9-5F1D-45FF-B7A9-29FE9B500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kotonjanah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kotonjanah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5 – RY MADAGASIKAR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5 – RY MADAGASIKAR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adagasikar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olo-Janahary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sim-boahangy man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hasoa ny raz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sarobidy tsara lo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sandàna, tsy ataka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ny fo ka toa mang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riny mivavaka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5 – RY MADAGASIKAR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iamanitr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ndrahy ny andon'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tosy ny tsiron'ny 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 Madagasika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5 – RY MADAGASIKAR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firenena malaga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eha malaky mitsangà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lao hery mandro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aha-olona ana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, asoron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xxxxxxxxxxxxxxxxxx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mandevina tal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nondroty firene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5 – RY MADAGASIKARA S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iamanitra amb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y ny fitah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ponina rehetra 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izay asa maha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nantsoinao hito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tsidiho, mba tsidi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sambatra tokoa ny N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Ianao no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4T09:32:06Z</dcterms:modified>
  <cp:revision>78</cp:revision>
  <dc:subject/>
  <dc:title>Tiona Advantista</dc:title>
</cp:coreProperties>
</file>