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D625-88CC-4DED-81F6-FD51E913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277E-8FED-4124-BE27-5AC6449D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AD8-D1B7-41AB-8AD2-8A517B1E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E07C-FDC2-44B7-A81D-DB329A4F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0CF8-FA48-4BFF-A794-BAFDEBE9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A136-7445-40A7-A135-4157D0EB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3D81-9133-4A40-9F8E-2F4B9824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200B-31E1-4416-919C-AFEED49C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AF53-24D6-491C-B80B-5C83A2DC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B266-48D1-4FD1-867C-E5D6E1E2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AEB7-CB4C-4A90-A27F-83A23720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C6E-3966-4311-9F2B-92911615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4395-4246-4E45-8651-4C90E372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8AD9-924A-4D81-87D3-0F00680D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DB9C-6E88-404C-A485-FC1F1A30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0E36-1468-4BC9-B51C-0A64555E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6ED4-A9E8-4A15-9D60-4498B116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CF02-778B-41A6-B665-35A7E373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5F9-22A4-4BC6-A4A1-84132F5E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38F-61E8-4C17-8F8B-10B6033E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DB84-95CB-45B1-BA46-AD883F2B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9525-2C8D-4F09-8110-BFA1C87C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852-AFD6-48CC-824A-88CEF626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1CCF-A2CC-477D-8051-1B7BCCB4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4495-7A83-4A01-A1B6-85FB1904B5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D669-F507-4D80-8B9C-9D35EB5D5B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TA468 -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HIANAO, RY KRIST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26120" y="59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anoloran-tena sy Fanamasi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J. Andrianaivoravelona zan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I. D. Sank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FFPM44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8 - HIANAO, RY KRIST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anao, ry Krist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hasinik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vy aho fa mpan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ankohoka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isonao ny dera, sa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ena mendrika ho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e ! Ny foko faly lo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ly mba hanaj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8826120" y="59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884160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8 - HIANAO, RY KRIST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o no tena faniriak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velona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hitoeranao ny f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tsy holalov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ny, Tompo ô ! mon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monena a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no tena famonj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no mahafatra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4160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8 - HIANAO, RY KRIST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ho orin-java-t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rehetra itoer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ena sambatr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ny fo no lap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drosoa, fa voh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anao ny foko '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ny, Tompo, fa voh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oa midir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26120" y="59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4160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3:05:14Z</dcterms:modified>
  <cp:revision>116</cp:revision>
  <dc:subject/>
  <dc:title>Tiona Advantista</dc:title>
</cp:coreProperties>
</file>