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378-46D7-4D1E-AA29-AF65845D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CF3-641D-4DED-8EFA-E42697C3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F67-227E-4CB3-896B-7EEBF494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504-129A-4984-A5ED-3B331734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E9D9-9840-4D07-B4BD-2C64D2D8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942E-DF10-442F-963E-80A1039C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7429-1592-4BF9-A329-41C602CC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93AE-1026-4863-AF22-B9F23F29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3A14-41BC-4AF1-97CC-067DA070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2800-708F-4432-B1B0-49FDB48C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743D-998F-42A7-9D6D-0EB0657D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350-ECDF-4661-9478-93C93773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1A77-A401-446C-A895-7920595C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B846-BE3A-4551-835B-9A41B93F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E474-AF1D-48B2-B749-2F08E23A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2287-D760-4320-BFFF-FB14692C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3095-7D2F-4DC2-B4D2-A09DD110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CF5-E56D-4361-8328-E10F8C1E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CD6-4FA9-4B81-B72D-1AC5F8DC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BB4-E2C1-4F3D-AC6A-32B4A13A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F14-48D3-4B64-B508-00205D43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E15-C27C-438F-B8E8-22C8C1F3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817-D2C0-4C60-8F37-8F4660CD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ECD-1ED2-4FE2-84E4-7DC3D4D1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567D-70A7-4DE9-A9CD-EB666579A7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3819-4FC7-46DD-9176-C0207B899A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nombo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E. Cousin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Sm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99 – RY JESO VOR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4832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 – RY JESO VO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! vory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dronao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avy mba hivav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ty an-tran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57720" y="4832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 – RY JESO VO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aiza na aiza n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vory to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mba aseh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o ny t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 – RY JESO VO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ra ikamban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y an-tran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ho fanandra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57720" y="4832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 – RY JESO VO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aka tonon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atreh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raiso ho fanat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sitra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57720" y="4832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y fitara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n'ny or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loy fifali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aorana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 – RY JESO VO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57720" y="4832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 – RY JESO VO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halah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bininao an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elom-p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pon'izay mand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57720" y="445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57720" y="4832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57720" y="521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8720" y="5594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8720" y="603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3840" y="4019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1-13T15:08:06Z</dcterms:modified>
  <cp:revision>40</cp:revision>
  <dc:subject/>
  <dc:title>Tiona Advantista</dc:title>
</cp:coreProperties>
</file>