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C482-1C4F-42A6-9B4F-BD6E3F62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453-2089-4B77-A9A4-30C3BCFB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66EA-2182-46C5-A909-FFDFF37F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7E4-90AE-49A6-8704-7696BE83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C11E-9C5B-446F-AFAF-2BFA7B27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4900-1EFD-434D-82B4-80F908B0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EB0A-8D42-45D6-81B4-5F920231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7739-2B1D-464E-A316-52A2D3B5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1B01-162B-4905-8FB7-5FCEF95F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6BEE-873A-478B-88B0-992F6DC7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1168-CDD9-4742-A3A8-9D7E1D10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D4DD-2DB2-47FB-A2E5-FA069F34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4FDB-7560-410A-9B06-2E852948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18E7-E9EE-4E08-8D21-95702403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1F6B-5D71-4CDD-9C7E-974C92DB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6568-7868-4A8C-8DF3-94324D92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6459-F4DC-47CE-B354-06D9198B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F085-A781-479A-988A-19DBBC08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660-2432-42E5-92C7-E4A2A2FD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158D-DAFB-456D-B61F-33B96192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086E-0757-4643-A95F-D05FD05C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EAB5-92BE-456D-99B5-72942F9E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1886-D1D0-47E5-AFC1-EC7FFD76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FA3-CACE-4588-BA7F-9C2D4F5A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CAE0-A147-4697-9360-CDF5B75D45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13F0-A265-4688-A93F-DA2137EBA3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pamor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anne Ratsi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Royal wOak – English tradition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Melody :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 Adap. By Martin Shew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Arr :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 Mamy J. Ratsi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19 – TSARA, MAHAFINAR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62840" y="48099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19 – TSARA, MAHAFINAR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'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a, mahafinar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zava-boarinao (voarinao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ey izany l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eho ny Tomponay (Tomponay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19 – TSARA, MAHAFINAR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voninkazo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fatratr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tory sy manambar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ninahi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62840" y="48099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19 – TSARA, MAHAFINAR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reo tendrombohitr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lohasaha ko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volana, ny kintan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Dia voninahitr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62840" y="48099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19 – TSARA, MAHAFINAR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ny Masoandro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amiratra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nomasim-be 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voninahi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62840" y="48099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ny ali-maizim-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fahazavana 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ry sy milaz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boninahi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19 – TSARA, MAHAFINAR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62840" y="48099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2:24:22Z</dcterms:modified>
  <cp:revision>31</cp:revision>
  <dc:subject/>
  <dc:title>Tiona Advantista</dc:title>
</cp:coreProperties>
</file>