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39-5992-4629-885E-9780993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C48-8D9D-4BB6-A15D-E0599FB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4C8-E8E9-4DBB-B80A-74DCE00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5D8-1EDA-47C3-8DEC-5E4D89CC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DE0-142D-44FD-A93D-78719030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3E29-642B-40E5-A5DD-FBDB9CD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0718-E3BD-44C8-AA13-A5BDCF67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3CC-F9EE-4211-8164-9A5F3CE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1CA6-97E3-4805-9212-437E915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14DB-370B-4457-8324-39D1F970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DE4-E951-4CBC-B92C-1F09F3A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63A-48B3-4DDE-9A9B-BE79403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FED-3205-4FEA-B794-F09BB44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C0E6-1132-4265-B359-37901DB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8C5-E834-4587-8BEE-37E1412D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952C-6ADB-4227-9540-A55B82C3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6EF0-D181-43FA-B728-6AE489B6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F25-2A59-4D85-9F96-001290FA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A36-8166-48E3-A1A2-EF6839B1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B3E-9394-4B3F-BCCD-03443ECC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B90-A170-4783-916A-C58CEB3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95D-C353-49DB-96AB-4E28E41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7D2-3A43-4536-B53D-4ABDC9E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5AE-7C70-4F8E-8C74-103FD5B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107E-68E0-463B-A1AD-868904BD6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B34-AF1E-4CB5-A0C9-FF542D86E3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E. Belde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2 – TSAR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2 – TSAR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re, tsy misy t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dry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so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foy ny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tety mba ho faty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2 – TSAR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,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voninahitra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 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'Zay maty ho 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ndrata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o hanandrat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drianana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Lehibe, ho mandrakiz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2 – TSAR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takatry n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ondrana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toky iza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ntena ny famindram-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2 – TSAR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toetra eo akaik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h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nao iza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miandry ny hiav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, An-draho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, ry Jeso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384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48:30Z</dcterms:modified>
  <cp:revision>35</cp:revision>
  <dc:subject/>
  <dc:title>Tiona Advantista</dc:title>
</cp:coreProperties>
</file>