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D1D4-C323-4EEE-999C-DF03FA9D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EFAB-886C-4EBE-A859-88667AE4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88D2-2940-4181-A410-0CEC4F42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B9DB-85C6-4C81-8F97-9606752D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3790-D3E2-48A5-831A-07F9C5F7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D90F-29D2-450B-B319-96B967B4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C5CA-531F-4C58-80F5-A196D637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F42E-9CF3-4029-85A1-457D882F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B997-4A53-469E-84EB-42B72591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24A2-47DD-4348-A157-EB5D1CA9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FB72-6115-46A6-A5C4-44795754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62DB-00A3-4212-B8E2-A2CE3D29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F543-270E-4048-8566-CE7EDF31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AA04-2536-4CA6-9B5B-6AE4814C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7708-D520-4220-AEB7-21831CFD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6923-AAB4-451B-9735-92E9FC1D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C227-FF5A-47C6-AC69-414ABB16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19D7-6059-4D14-8739-B6E2044D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9CE5-D4C1-4844-B7B9-E77E26C3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AF76-7119-4782-9AF1-9743EB1A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C879-7A69-4E23-8EFB-FFE41D10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4301-4874-4E31-AC58-E2F6CA78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483A-C41D-4E1A-B7E6-14534174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4C48-6039-4253-9293-59E2DCC5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8A39-2262-4C24-9D1A-82E4A86593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610F-0F62-49E4-93DA-02FA09EE17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tiav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barij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B. D. Ackle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32 – HAFALIAM-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4980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4980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4980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2 – HAFALIAM-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faliam-be, he, Hosana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by sy fisaorana no asandrat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navot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anak'Andriam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panay 'zao, 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zava-dehibe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anetry tena ho ol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Andriam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4980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4980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5592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2 – HAFALIAM-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anjely koa, gaga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ilaozanao, ny toer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eza fiandrian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nay 'zao, mba handeha han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Betlehema, hiankoho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oloanao, ry Mpamonjy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avotana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4980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4980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5592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132 – HAFALIAM-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 mba inona, no haterin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o fanati-tsitrapo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endrika ho Ana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Ry Mpanjakan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ena Andriamanit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oa vola sy harena ve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o ilainao hanajana Anao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sia fa ny fo sy fiainan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o Anao tokoa. Am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4980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4980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5592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1T08:06:34Z</dcterms:modified>
  <cp:revision>35</cp:revision>
  <dc:subject/>
  <dc:title>Tiona Advantista</dc:title>
</cp:coreProperties>
</file>