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30C3-4D73-47AC-B66E-24719BB6F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F995-674D-43FC-8E92-68C943B93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FC85-2833-4420-9F66-EE5C63E64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01F5-62F5-4FC3-BDD9-417F809B3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AA3D9-0755-48DE-888E-D7F8F1584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D4A71-3C72-455F-BA4D-930C881E8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F0246-DFB3-4BF0-A54C-E8F94A8EE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338B4-C053-477F-8C82-46B7BAE2B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C8689-AA01-462E-B042-692CC64A0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C7CEA-56E2-49CB-8B64-F037A73AB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83470-B56A-4E39-86D9-BA01DD9D6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4E26-1845-4388-B4A7-462A1D2A9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097AE-0104-47DF-931F-F175A6B0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A280B-1B0B-43B1-B97B-F6188F56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873C4-815B-41AB-9ED1-EFAE92DF7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EC175-0374-47D5-818B-3F82A85CC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FD3EB-6B60-43E5-8B04-F8DFC43A3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C3E3-0858-4189-B12F-17E39EE90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AE07-CE9A-42BA-8060-0728A8E50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7948-062D-467D-B333-F9F3C6517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BA0D-CEFF-40BD-A42E-4DDA69A3F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9EA1-6A1E-446A-A7D9-CDF38A251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2CC7-4032-4368-A65C-31AFB0E73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7A79-9E79-4452-B5B0-68535C108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904E3-F029-4943-8DC1-007B8F1ECF5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1F939-949F-43EF-BB9E-6C1B21AED4C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OLON-TOKANA - OLON-DROA - RODOB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Mananirin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lexande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669 – RAY MALALA ASEHO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43400" y="5106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48440" y="54878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43400" y="5869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34400" y="6249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69 – RAY MALALA ASEHO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Ray malala aseho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famindrampon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Ka ny vavakay heno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sandratra am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amelà ny helok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'Zay vita tam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amarino izah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iraisana am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48440" y="54878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43400" y="5869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34400" y="6249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33680" y="4675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69 – RAY MALALA ASEHO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ompo ô ! amp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za afoy fa mba tahi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ano tsy han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ba ho zanakao dor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43400" y="5106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43400" y="5869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34400" y="6249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33680" y="4675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69 – RAY MALALA ASEHO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Jeso ô Mpamonjy s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Vonjeo ny olon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ba ho tia sy han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didy mas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e ! malemy izah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afio ny her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Dia handroso sy hahay Hanao ny sitrak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ompo ô ! ampio, sns </a:t>
            </a:r>
            <a:r>
              <a:rPr b="0" lang="fr-FR" sz="3600" spc="-1" strike="noStrike" u="sng">
                <a:solidFill>
                  <a:srgbClr val="00ccff"/>
                </a:solidFill>
                <a:uFillTx/>
                <a:latin typeface="Times New Roman"/>
                <a:ea typeface="Arial"/>
                <a:hlinkClick r:id="rId2" action="ppaction://hlinksldjump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43400" y="5106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48440" y="54878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34400" y="6249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33680" y="4675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69 – RAY MALALA ASEHO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Ry Fanahy masina ô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ariho izah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Ka arovy hatr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fandehana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oka tsy hafoi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ohano hatre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sy hisaraka aminao Aty ka hatrer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ompo ô ! ampio, sns </a:t>
            </a:r>
            <a:r>
              <a:rPr b="0" lang="fr-FR" sz="3600" spc="-1" strike="noStrike" u="sng">
                <a:solidFill>
                  <a:srgbClr val="00ccff"/>
                </a:solidFill>
                <a:uFillTx/>
                <a:latin typeface="Times New Roman"/>
                <a:ea typeface="Arial"/>
                <a:hlinkClick r:id="rId2" action="ppaction://hlinksldjump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43400" y="5106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48440" y="54878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43400" y="5869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33680" y="4675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RAZAFIMANANTSOA</cp:lastModifiedBy>
  <dcterms:modified xsi:type="dcterms:W3CDTF">2010-12-23T10:03:22Z</dcterms:modified>
  <cp:revision>89</cp:revision>
  <dc:subject/>
  <dc:title>Tiona Advantista</dc:title>
</cp:coreProperties>
</file>