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739-0B44-4CDD-8F67-9C0A71E6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298-00D3-4976-9DC6-E172B11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42D-4564-4F38-B606-78BA2F8D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3B2-7736-49E4-98E9-95CABD43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306F-C954-4E2C-B51C-42BD02AE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0590-4900-4DE1-A54F-C9D66579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9FBE-10CA-4548-8E0D-5339F99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DE9-29F7-4237-BBCC-5D62CCA4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3B7C-2133-4CB4-A43D-92830D4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F7FB-A1CC-4756-B5DD-06CAFF0B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3E02-FE9B-409C-B793-B0A6E01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E61-19F7-46A7-BEF4-C691DB3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6CFB-A385-4FE2-A8A7-3BA6070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43F5-3F7C-4C34-ADA3-B78484F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FC4B-D390-49F0-9E35-CCA756B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E85-692B-4BBC-A9AE-66DAB02A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B0E8-264B-4081-8685-2BB2ABFA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B46-51A6-4D49-9E09-F3E27AD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349-8D2D-478A-A69F-425A1C2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BC0-C3EE-4C32-A869-007A806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7DC-5883-4D75-9AE9-08EB4862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605-BB39-417C-9CA5-E34BFA05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244-3FCA-4F92-A550-3A3E27C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5C0-02AB-4A57-BAB8-085A021E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B572-870A-4E1E-9492-6EDB0CE0DED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159F-03E8-4B6E-94A5-89FA5598C1A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5 - MAFY TOA ONJA 'ZAY MANAF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fy toa o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manaf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n'i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Mpanav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fy re, ny onja 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 mamily ny sambo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fy re, ny onja 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y no tokiko (tokik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59:13Z</dcterms:modified>
  <cp:revision>84</cp:revision>
  <dc:subject/>
  <dc:title>Tiona Advantista</dc:title>
</cp:coreProperties>
</file>