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405E-35E0-4F8E-85C6-3595613F6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2317-2DAA-4BDB-9F79-20785638D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E2C2-0399-4C1E-AF18-E1C425CC2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B5C2-DCF3-4082-9ED0-BD5869B1C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54A01-60C3-4BB1-8AB5-70C3E2A38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490C7-1991-4B66-9F0D-9D450E8A9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7AD16-5780-4383-B86B-C30FBB7A0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16206-7162-468D-9138-9FD0614DF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F6CDC-5E7D-473F-AC70-317C5F45E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C9E10-4BF1-47E9-A92C-CCAE71599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66103-36AE-470C-A89F-54F02653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7241-A46E-41C5-94A5-D7231CFCC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6A295-629D-47E0-A968-1D00887D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BCB6D-F78E-4334-B63D-D28C9273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B6255-F11E-4D39-8A5C-9A73550D0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DF4E5-A8BB-4811-A10A-998681787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8283A-74D5-4218-B785-E36D57E09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319F-6B13-4BC5-9DDE-775DE953D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BACA-6ACC-43F5-B2FF-A4576C193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433A-7E02-40B2-A5C0-6E5159F23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247B-5E43-44EA-AEAD-A74605668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F6A1-978C-4DA9-9056-E9B914C2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6184-8060-4F31-A44A-09FECE06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B5ED-5A20-4C98-9E7E-E8061D9D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87B2F-E8FC-44DA-9E82-6C20320F766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7690C-6AE7-4BD4-9F93-13C0EB8746B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verenany - Ny fanjak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. Tsimaitoarivo 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ohn Hatt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150 – HO AVY INDRAY ‘LAY MPANJAK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577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50 – HO AVY INDRAY ‘LAY MPANJAK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vy ind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Lay Mpanjak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Jesosy Zoki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faly aho miandry Az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vy ind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ova izao rehetra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577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7577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76384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50 – HO AVY INDRAY ‘LAY MPANJAK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vy ind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Lay Mpanjak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Jesosy Zoki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! Faly aho hiaraka am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ho e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tety izao tontolo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7577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7577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76384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50 – HO AVY INDRAY ‘LAY MPANJAK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vy ind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Lay Mpanjak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Jesosy Zoki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! faly aho hand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satro-diadem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tendry ny lokanga s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577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577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76384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50 – HO AVY INDRAY ‘LAY MPANJAK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vy ind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Lay Mpanjak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Jesosy Zoki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! Faly aho hisot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ny ranon'a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goka amim-pahasambar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577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577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577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76384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1T09:19:05Z</dcterms:modified>
  <cp:revision>36</cp:revision>
  <dc:subject/>
  <dc:title>Tiona Advantista</dc:title>
</cp:coreProperties>
</file>