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AD4-82EC-49D4-9517-1462DABF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FD0-246F-4C69-BD07-8444472C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B29-C448-43D4-8EF2-5B5F169E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3E-A8BA-4579-9619-2A9434FA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D66-814D-4F6F-B98D-B2269034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92F7-ADD1-4230-A848-9C020E9A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F628-A96C-4E89-81D9-9C3AC6D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5AC-5461-4A1A-BBEC-4B35684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CCD1-98E3-4980-9E6D-998097A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30F-10A0-4002-825C-4196B44E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7E0D-A7BE-4C65-B143-C194478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A4A-2389-4929-9084-6FBE56B2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277-2C8C-4E44-A14E-5085838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B1D-7950-4C95-9C8C-1D9A143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3190-1E74-4D52-BBF3-6D06A7C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A11-4FD2-46A8-91EE-C846E2A5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815-6328-492F-B6D5-31F283BF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B02-2851-4741-8285-6DB8383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B86-0757-483F-9804-4696859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27F-3F12-4E4A-82CA-F6735B7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74D-009D-45F0-A50D-A2F349E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7E5-0C7E-4419-9B8E-5ED1E680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A93-17EF-4633-BCBA-3B8D50E6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0F0-0503-4CF7-B68D-80678B75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E12-AC98-497B-976D-73885C0D1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A52-20BA-4A8D-A6A0-B49C3BB78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8 – RY TOMPO Ô, OM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8 – RY TOMPO Ô, OM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om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h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kay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r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to hav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i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mb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so-dra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8 – RY TOMPO Ô, OM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an'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piray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h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lap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kantran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tra am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8 – RY TOMPO Ô, OM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'zay Mpan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rinay hah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'izy 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hitan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a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o samp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dy hat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2:54:10Z</dcterms:modified>
  <cp:revision>77</cp:revision>
  <dc:subject/>
  <dc:title>Tiona Advantista</dc:title>
</cp:coreProperties>
</file>