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B39-CA75-4A7A-927E-E1BB6FA6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30B-8F21-4B4A-8D08-24F51BA4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D63-CC40-4D61-89A9-37E39920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89B-0FDC-4C23-81CA-0917E3BC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F418-2739-460F-A457-46C04E5B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6EB0-390F-4936-AFA4-5877D99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9996-219A-4300-BAB1-B19554F3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5AEE-5E26-481C-8132-4A7FA4EE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A8BA-36B8-46FA-90A3-D190595A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C334-A1AD-4A5E-B07B-5F139924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AE6F-3C6D-454B-BE4B-8EA272FF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6F3-629C-4C5F-805F-37BDAEAB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1F68-97DA-4285-A72D-B083D5CE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D163-49A9-4849-BC05-AD3C0DFD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CB00-56E5-4C4F-A095-FCFDF1B2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82B4-AF9C-4DFB-B21D-46ABA72D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C110-8FBE-49CD-8DF1-198CD102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30F-390D-4E0A-AD59-6C3EEF0B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FC6-3B30-4DD9-8F44-60DC6799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4A7-342A-4A60-A6AF-0312ACBB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1E4-DEE1-42A5-BA61-681A2926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C84-CA12-4CF1-88D9-601CA3DD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B65-13A6-4ED7-8875-283A59F7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816-F8F3-42C1-949C-74969022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C36B-E3A8-4EAB-A7EB-35CA95C8FE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9F8F-B75E-44AA-9872-7CABFB74CF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mily D. Wil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46 – RAHA SEMBAN-DRAHON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6 – RAHA SEMBAN-DRAHON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mban-drahon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a mahakiv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vaka no asandratr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" Jeso ô ! Tariho re ! " (tarih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6 – RAHA SEMBAN-DRAHON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mpitarik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tokin'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tsy mba hanahi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atoky Azy tokoa (eny t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6 – RAHA SEMBAN-DRAHON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maky onja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mbom-p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a ho potika, vak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y horais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6 – RAHA SEMBAN-DRAHON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dalana notendre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Mpitarika s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isy ady eny ho 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resin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tody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ratrako K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hiantso : " Avia ! 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ova ny tanà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6 – RAHA SEMBAN-DRAHON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9:27:58Z</dcterms:modified>
  <cp:revision>70</cp:revision>
  <dc:subject/>
  <dc:title>Tiona Advantista</dc:title>
</cp:coreProperties>
</file>