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1E4-EB8C-4D5E-B9BD-BA4905AD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BA5-54E7-4FC2-9C65-A603BE4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62C-B38D-4BD1-8F33-EB4E4172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163-9C5E-4820-905C-52190555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A659-901C-4B4C-B86C-D8AE67AC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DDF-E4DD-480F-957D-D556F65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200-F83F-4626-BBB9-A10CB4AF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8A4-8842-43CC-9295-1EC4EB4F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F338-130C-4BBB-A9C4-7FC57BC3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C8B5-C4B6-4EBA-B222-EF3B08F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5C7C-6EC5-4B77-88DF-E81FEFF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3E6-841E-4E4F-8C0D-55041964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888-2459-431C-820E-7D7AC36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021-6067-43FA-8C79-F487BF2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A0DE-2474-4AFE-A502-0D5D424E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AF56-3DDD-4AE2-A6FA-27815453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0483-B718-43D9-BCB0-C7A9C108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CD8-45DB-48AA-B294-4346BC8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A49-ED2D-4E15-A887-F386F8AB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21B-49E0-4EF8-9715-F782060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581-2B6B-4CEB-935D-B895A92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5A7-7A74-40C7-B62F-9110346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120-AAFA-465E-8A57-3FE77484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A4D-BB97-4CDF-AD2C-822951D5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09A-538B-4F08-A6FD-AE4BF7A1C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28F2-E605-4CED-972C-0B3C0FFCF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ira anglik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rnulphus de Lovani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09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3 – RY VOASATRO-TSI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3 – RY VOASATRO-TS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oasatro-tsi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oakapo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isy be ny lo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f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sohan'ny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iny H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natra sy lat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enti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3 – RY VOASATRO-TS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,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hito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r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enatra sy lo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jar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anao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fal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083 – RY VOASATRO-TS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aho,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ratry ny manj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aho, ne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mindrao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tranao no m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sitr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ao ahi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d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22:39Z</dcterms:modified>
  <cp:revision>31</cp:revision>
  <dc:subject/>
  <dc:title>Tiona Advantista</dc:title>
</cp:coreProperties>
</file>