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3556-128A-409F-B641-00F0DFAD0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DF7E-BB82-4E59-919F-F1108343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908D-3557-4FAA-A6B1-FD6070E7A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7659-BEE7-499D-B24F-D417F03B2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A405-0506-4915-A195-C92427660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069C-FD94-4240-923A-4417731A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0CFB-573A-4B1D-9D90-EA792D53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17B8-03FC-4C3B-AF58-0C1B6913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8643-686E-44C2-99C0-D0EA3EF3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765D-D3AB-4C80-96EE-E666E757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60CE-DC32-4818-90BA-8BC1A79E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EBDD-6EEC-45A7-A9C6-B0B4062F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292B-FB40-4F4B-852A-B32E41FB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F4DF-FDAE-43AC-A577-7C28D375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872D-6EB2-4797-8714-155F9486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2A97-A905-44BE-BEB3-45598C3FE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EB5F-4BC7-418C-A384-87366B895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ACC7-F417-48DF-9C7E-523E1FFA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D02A-8D39-4111-B871-5901F92F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9675-C70F-4D09-A348-94B88D37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B586-EAF9-4E8C-A15A-5CB18D2D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36A7-6FAA-4511-BBFC-EBD6CEAB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5427-B4AC-4F31-91B0-10ABFFCA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D7C8-CD76-4952-AD4A-EB544D73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5EE1-7C09-44E7-B2BF-C5983B584A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C4C5-38B3-406D-9D43-32102A866E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TENYN'ANDRIAMANA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. Razafindrakot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. Razafindrakot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90 – MITENENA RY JEHOVA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0 – MITENENA RY JEHOV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tenena ry Jehova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mihaino i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mbarao ny sitra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amin'ny mpanomp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oka ny Fanah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ao anatina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tenena ry Jehova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mihaino i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0-11-13T14:40:56Z</dcterms:modified>
  <cp:revision>39</cp:revision>
  <dc:subject/>
  <dc:title>Tiona Advantista</dc:title>
</cp:coreProperties>
</file>