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DD9-2238-44F8-99F1-F4EAB246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042-25E2-4279-9CE1-54277B7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C1F-EFF0-460D-8FF8-038E9A54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F17-B8CB-4301-804A-4AA32D93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0F7B-63E4-48D6-9E07-B01099B8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B7F5-99C1-4357-A15B-AFF868B2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2C5D-0D21-4789-8F47-402C0A7A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2A2E-170E-4DDE-8A71-1D9DD662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28CA-9292-4327-87B7-B8E72AA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012F-9DA5-4E32-824D-64303AD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D0C5-F9B2-4306-86C6-9C39A54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0C5-679D-4BB3-BA6E-6EE1737F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20D5-894D-4C4F-BD31-3E5D46B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D11-F40D-4480-83CE-D33D5C9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B23B-A683-4871-8961-3E4D3A71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964A-19AA-4C91-8FF2-0E7FA43A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17AA-943A-4A07-B4C6-35E07DF1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945-BC58-47AA-9FB7-159ECEE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64B-3751-4564-9C72-27A24D19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5EB-EDE0-423F-BA84-2C0291C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D26-D2F1-44D2-BBF4-81603C3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3CF-49E8-48D8-ACEA-C796441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B49-3866-4E5A-B6BA-2D1E80E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E18-8C68-481B-92D9-ED6FA80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6FB-88BC-4FB4-9452-D2BC0B1243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00F-016A-41FA-B4CC-4B3C7AE19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8 – ‘NJAO MIBITSIKA M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8 – ‘NJAO MIBITSIK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o mibitsika m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-po, toa tsy mitsah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Mbola betsaka no 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andre ny hafatra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8 – ‘NJAO MIBITSIK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noana voase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iasa ho an'ny T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-tsy voa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itiav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8 – ‘NJAO MIBITSIK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lona maro seseh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gavy tsy mba mitsa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 handray n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orio ny haf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467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8 – ‘NJAO MIBITSIKA MANG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tso maika no mib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sà ka aza mitsah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Lehibe ny valin'as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Satroboninahitra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32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7056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22:11Z</dcterms:modified>
  <cp:revision>54</cp:revision>
  <dc:subject/>
  <dc:title>Tiona Advantista</dc:title>
</cp:coreProperties>
</file>