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5A28-2935-4317-875C-20629133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2F5-686D-4A1C-B8EE-1CFD6200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CC3-C4C8-4787-AEFD-7DBFA345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CF0-B49C-4A96-9341-539D75F0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0085-FA22-4A8E-B5C6-899E070B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B25E-2580-4FB5-89F7-F9C40163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0C02-9AFF-42D2-8E6F-E46BEEAA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C994-A6C1-4D55-A988-3CA0E2DB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51C0-E631-4A00-90C1-350A9AF5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3CC8-1394-4748-BCB4-952D1A67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7AC3-D84F-40A6-9910-2E3D1299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A86-F540-4170-AB71-9A7013B0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DA8B-587E-46E2-9492-26C2138B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9409-D75C-411D-991D-69D1039B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64F2-2C90-4865-B84E-71DED683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51CF-17AD-4782-88F3-B300AFC7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81AA-1A53-4101-B200-55BAC8CD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D2E-3C64-4EB3-A432-535D73BC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EB3-587F-457E-B6E5-8E327B8E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A4D-548F-47C1-B697-18942592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FFD5-94AB-4122-88B6-D4F1C76A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831-E2C8-4969-94E6-0EB780F1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767-4202-48BE-B809-C3B773E6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776-DE08-424B-8D42-F97DE085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5186-F4B0-4DA3-A0EA-88E9B39743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5607-AD88-49F9-8440-7037FB5BBE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William J. Gaither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84 – TOMOERA AM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4 – TOMOERA AMI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oera aminay anki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Fanahy Masin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eteza re ho tanjak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, iasao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4 – TOMOERA AMI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hy Masina ô av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la Anao '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gavy Anao, tong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asao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4 – TOMOERA AMI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oera amin'izay 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onony i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itondray balisa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lo-malahel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4 – TOMOERA AMI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hy ô, ampahere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reraka am-pan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ao avel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ndra fiai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9:46:32Z</dcterms:modified>
  <cp:revision>85</cp:revision>
  <dc:subject/>
  <dc:title>Tiona Advantista</dc:title>
</cp:coreProperties>
</file>