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249-937C-4712-9092-8E5C7B88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BBA-AA3C-40D6-949A-9B2026AF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E5E-2C28-42EA-AE98-9292273B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5DB-CD88-49FF-B5E2-A3B21299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DA52-4BDD-473D-8E51-E902F1F2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6EA8-4671-427B-A472-3C7B3808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03CE-6596-46B4-A1D9-38CC2EBC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EED2-C187-4562-81B9-7E42EDEE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2E1B-A7CF-45BC-AE6F-61B8E682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C032-9683-4969-9FDB-E23878AA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B547-3781-4545-BC7A-68E84A6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A42-7A8F-4085-AA24-B4648753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531D-276E-48E3-9015-D43EDE2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34DD-8C00-4C19-A561-5AD8F87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F5F3-5876-493A-8B90-6955120F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7690-248F-416C-8C57-F0A9FCBB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F5DD-4DF0-4661-96C4-34302ED1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5CE-DC96-45D2-86AE-97CF0498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013-82F2-4B2C-ACCB-F1F1BFBB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8EB-737E-4EBB-9E56-44D03BD3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579-0A9B-40AC-90A7-3D081631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1C2-B533-417E-84E4-24586F54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A91-B664-478D-9E0D-CB72A4C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E3D-9A18-4539-B92B-83946CD4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A8F4-C761-4376-BA09-49C121C011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4797-0290-4DB1-8084-DD1AD15B59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A464 -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DISO NY LALAN'NY FI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A. R. Marn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de-DE" sz="1000" spc="-1" strike="noStrike">
                <a:solidFill>
                  <a:srgbClr val="ffffff"/>
                </a:solidFill>
                <a:latin typeface="Corbel"/>
              </a:rPr>
              <a:t>Georges S. Schuler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4 - DISO NY LALAN'NY FIAI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so ny lalan'ny fiai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ro ny ory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to ny mazava handresy ny haizin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vay ny ratsy ho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4 - DISO NY LALAN'NY FIAI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boary aho mba ho mpan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vy amiko hiseh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boary, Tompo, mba ho mpan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boary ho mpanasoa ah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4 - DISO NY LALAN'NY FIAI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ntarao ny fitiavan'i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ny famelan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no ny hafa raha lazainao 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arahi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4 - DISO NY LALAN'NY FIAI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omeza toy ny nandrais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tiava toy ny Tom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o ny ory 'zay mil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aovy an-tsitra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mpanantena aho fa hanomp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aiza hanendrenao, ho any 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hataoko ho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-dia Anao ry Mpampianat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4 - DISO NY LALAN'NY FIAIN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46:09Z</dcterms:modified>
  <cp:revision>116</cp:revision>
  <dc:subject/>
  <dc:title>Tiona Advantista</dc:title>
</cp:coreProperties>
</file>