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716-9D22-4867-B796-40298DC0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3BF-FFAA-45F8-AD89-65B625AE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D7B-5390-4C3F-B4AF-849951E4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1CB-DBDE-416A-A78F-60EDF18E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994B-AA12-4088-B963-65AA3950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40DE-B720-4005-8AAF-C29EBFF4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A2D7-6878-4D60-979E-989DA3F4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35B-DE64-4470-A8DD-F50E5E03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ECA2-7C09-4BCD-A935-E3E5922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0BD7-4E9B-4B69-97D2-180B57D3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6BD7-C5EF-494F-BCE5-DC2C381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7FE-CC31-4E4D-9542-451517AF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34E-F55A-45C7-B31C-2E6E7729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A2A3-6504-4EC4-A1CB-2C15777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8F0B-EE8D-4727-B365-16755C10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B52A-81AF-4B68-8AFB-D2260768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4BE3-1B50-42FF-8F94-7F17A739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984-0F65-4116-8F7A-06066CB9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AF3-C773-4A9A-B469-F69FCC1E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A0B-7713-4DB0-95E6-BBB0A711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1A7-5E04-45D4-83A6-2C08AD66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77B-DCE2-424B-AF44-D127C60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CF0-FEFB-44D7-81FC-028E6A67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3AB-2887-4080-B4E0-53580B20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B07-4B1C-41D8-A170-0EFB2D06B3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188-50B5-4EC0-9DE7-5FD470BC8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6 – TOMPO Ô, ANDRIAMANITRA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6440" y="56102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56 – TOMPO Ô, ANDRIAMANITRA TSIT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ndriamanitra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ompo ô, Andriamanitra Tsitoh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ndriamanitra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hibe dia lehibe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aranao (Lehib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ndriamanitra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ary izao rehetra izao.</a:t>
            </a:r>
            <a:r>
              <a:rPr b="1" i="1" lang="fr-FR" sz="3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66440" y="56102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56 – TOMPO Ô, ANDRIAMANITRA TSIT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ndriamanitra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ompo ô, Andriamanitra Tsitoh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ndriamanitra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hibe dia lehibe tokoa Ny 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(Ianao) No nahary (I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nah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hita mas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56 – TOMPO Ô, ANDRIAMANITRA TSIT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saotra, no atolotra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Dera, saotra, no atolotray ho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ry Tompo Andriamani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Tompo ô Ny haja entina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aiso Tompo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ndriamanitra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ary izao rehetra iz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6440" y="56102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056 – TOMPO Ô, ANDRIAMANITRA TSIT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saotra no atolotra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Dera, saotra no atolot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Ry Tompo Andriamani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, Tompo ô, Ny haja entina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aiso Tompo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ndriamanitra (Tompo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(Ianao) no nahary (I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o nahary Izao rehetra hita mas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6440" y="56102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6:18:14Z</dcterms:modified>
  <cp:revision>27</cp:revision>
  <dc:subject/>
  <dc:title>Tiona Advantista</dc:title>
</cp:coreProperties>
</file>