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6B0-87DB-4D9B-8222-E2322967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49B-DE68-4C72-9BB5-E78E861F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0AC-86F2-4A10-81BC-E3B92FDF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587-ACEB-4255-88D7-32C054DA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59B6-D32D-4B73-8300-54E05BD7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CD8E-50E2-4BDE-9376-1ECB60CA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CFB0-1B39-47F6-ACE3-84CB1FF1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8AFA-1044-440C-A720-E36EB1EF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512B-B795-4C96-BAA2-A1040F1C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6E89-3707-48CB-AE1A-24C75E7A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F857-00F8-4C77-926D-19492CCE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A52-860D-42F3-B354-83DC142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99FB-15C9-4BD4-97BD-9EC25E0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C685-FC43-421B-B501-F3866A8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4403-2961-4A84-9A0D-7F0E44A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CA28-BE07-4C3B-AB28-00158700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5421-CD44-41C7-9C95-E39956BB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978-7C2B-4CBE-9E8B-30D68C2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E21-C13C-4DCC-870B-850DA97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998-41B3-40E9-B87C-BFC4A48F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1D1-75AD-4155-BD59-CEF90841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719-B39D-4308-AEBE-207E427D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63F-37EF-46A2-9872-E8488D90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C5A-146A-4FAE-83BA-74A5B01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679-FCF8-4B9F-AB98-DE14A65B73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4B44-EE9A-41F3-B51E-E6F68E5FBE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72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E ! MANOLO-TE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2 - HE ! MANOLO-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Manolo-tena aho, Tomp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o Anao, ho A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andro sisa h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meko Anao, raiso,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2 - HE ! MANOLO-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ba tohano Tompo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(Tohano Tompo ô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 Ny diako, ny voad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('Zany, 'zany voadi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anomp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('Zaho ta hanompo, ta hanompo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rakizay,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</a:rPr>
              <a:t>(Ho mandrakizay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2 - HE ! MANOLO-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y izay ny fiainana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nampalahelo Anao, ry Tomp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anomboka anio,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o ah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2 - HE ! MANOLO-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ka izay ny filalaovan-dra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mpisaraka ahy t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ny ho mpandova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 izao, Jesosy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20000" y="63943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, ry Jesosiko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nifidy ahy ho ond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tantano re iza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tonga any aminao!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2 - HE ! MANOLO-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19:35Z</dcterms:modified>
  <cp:revision>116</cp:revision>
  <dc:subject/>
  <dc:title>Tiona Advantista</dc:title>
</cp:coreProperties>
</file>