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613-9F59-4F35-BA96-CB98848C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18F-9125-4CD8-9F01-56DF3402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054-828C-4C32-8545-21EB0A55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568-879D-4E13-800D-3C8AAB18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C0E5-6224-45C6-ADBE-B71632B9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A76F-2A09-4A54-9C8C-2384CF8B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058B-5ACF-49B2-A155-C21307B2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54F1-1B5F-4AAB-9088-2C8835A3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9677-9DE5-431B-B97C-330BB8D1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350F-2296-4C9C-90EE-91483708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2AC4-70FB-4732-92BA-37B2CC0D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70D-94F8-453E-A677-841E6661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8D10-155E-4AD0-9F65-7569F785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C81B-4847-44DA-B584-E13FC7E8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E77C-D91A-417F-8A83-523A9847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E344-A46E-4E11-BBB3-6139C396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79B6-1106-4796-86C1-31A16839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F72-14F2-4D38-81D9-4C5C813C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BF6-496C-4F22-8951-26A0995F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9A7-0524-4533-98AD-E4370124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65F-871A-4D6D-AABA-384E6305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199-DD9D-4762-97A0-272974E8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37A-64F7-4209-8729-CA95BA06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A43-E954-4411-BD0F-960AC9EE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FC1D-B07C-4ECA-82D8-55687C4D8C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1122-B70A-4A2B-8505-C8B2D6223D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13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ZA NO AMPY HAMPAHER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Emili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Emili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3 - IZA NO AMPY HAMPAHER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 no ampy hampa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ketrak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fa-tsy Jesosy ir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Lay </a:t>
            </a:r>
            <a:r>
              <a:rPr b="1" i="1" lang="en-GB" sz="3600" spc="-1" strike="noStrike">
                <a:solidFill>
                  <a:srgbClr val="ffffff"/>
                </a:solidFill>
                <a:latin typeface="Corbel"/>
              </a:rPr>
              <a:t>Mpamonjy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 so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3 - IZA NO AMPY HAMPAHER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o haiko ny mi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ety an-tany ety (et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nahiko hanka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Lay Jesosy Tompo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3 - IZA NO AMPY HAMPAHER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o takatry n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tiavan'i Krist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vidiana fa zarain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mpanota mifal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3 - IZA NO AMPY HAMPAHER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y no manome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rehetra ilaik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Tsy misy mamp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o antoka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raka amin'ny voav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ho koa hide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isaotra Anao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y an-tany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3 - IZA NO AMPY HAMPAHER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43:46Z</dcterms:modified>
  <cp:revision>119</cp:revision>
  <dc:subject/>
  <dc:title>Tiona Advantista</dc:title>
</cp:coreProperties>
</file>