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9A2D-E42B-4D15-BB30-168B94FC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F23C-02A4-4027-8B7E-4FBBA3DC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41E4-704E-4707-9143-405B9A5B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B62D-4F7D-4A61-942F-727DB2F2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4928-0FB1-4E6A-BA1D-871E1E3F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B23D-5352-4499-A702-EBC3DD2C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B568-EA83-4C3F-B170-98947EE2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EF1D-D4C5-4FA6-A07F-F9685EE3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4596-2600-4380-9C50-6A151B50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093F-FD4C-4A2E-9763-7257D5D6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E9AE-505F-4B16-915F-A9E8CCFF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288A-FCC7-470D-8A0C-F68DB4CD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A80E-7C44-4752-B090-A2BF1B9F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E66A-FF9F-40D3-9DBE-5AD274A3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6175-EB9F-4E72-AFE3-2C94D241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BDCB-CF71-465B-8EA7-F88621AF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6C45-C68D-4DF0-8D5F-372F1D6B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9B7C-B53B-48C4-8F43-808C63F6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B2DA-1434-4B69-AE03-79F7B55E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B221-32F4-4D06-9FD1-3396755C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BE92-779E-4E64-ABE8-859E6475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44D6-7FF9-43AE-8166-64BEAD17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707C-114C-42B4-8D34-F3E8F925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6FFE-9773-4A21-86F3-9294A6C2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D65E-D12F-4938-81E9-8F2F961FDF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2E8E-F607-42A5-B1AC-9BB9B237FA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AHY MAS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John Wesley Calvert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80 – RAISO NY FONAY FANAHY Ô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80 – RAISO NY FONAY FANAHY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ny fonay, Fanahy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boary ho lap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 sy haso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apetraho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80 – RAISO NY FONAY FANAHY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dina amin'ny her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amasino i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fiainanay hatok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ena an'n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80 – RAISO NY FONAY FANAHY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fonao hanadio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onga sor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atolotra ho Ana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o Mpamoro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80 – RAISO NY FONAY FANAHY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dina toy ny riv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elombel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ehoanay ny av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olo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7:53:42Z</dcterms:modified>
  <cp:revision>39</cp:revision>
  <dc:subject/>
  <dc:title>Tiona Advantista</dc:title>
</cp:coreProperties>
</file>