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C62-B092-46DB-99FF-CEC1C64A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E31-7F3B-48B6-ADD6-E7174DBA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802-4BD8-415B-AA5F-23616796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19A-D97E-448C-AFDB-D4574EA9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F6BB-8328-4D9B-BB2D-0E73027F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2197-F8B9-4AFE-9756-9E6C1AED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EC7E-9927-4D16-94EC-F89EF6F3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E744-CCE6-43B5-8C55-C8EC31B6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6BDA-FAF9-40BD-BD53-67558E15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6253-B5F0-42A3-960A-C8C0EE21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3C3B-4ADE-47B8-A261-0C7B6408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D0D-238B-4C25-A5D1-53C63535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C1FE-E662-4CF7-AB58-DAC6470B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1AB3-5479-4AC5-A112-4531144F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9C72-90EE-4041-B367-607354E4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BF56-196A-4CFD-A295-AD5714B7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78E5-8F34-44A9-BB4F-515F4B52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2A4-7C37-4819-B7BC-AB986418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995-EEE6-4551-AB75-EF1FC477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29D-952E-43BD-A580-23F754E3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BA4-C9D2-49F2-959D-5F95D692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B96-1F15-4814-84C5-48FE0EE3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16E-ADD9-4A5B-A11C-E44ED028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E89-8DBA-4997-BB64-32CD233C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9FF3-005C-49E1-B378-15CB9EEB94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D7A9-3870-47B0-A09C-E7CE6F0106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23 – AOKA HIRA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6800" y="5256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62760" y="5661000"/>
            <a:ext cx="32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7160" y="6018120"/>
            <a:ext cx="32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21800" y="63943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3 – AOKA HIRAY S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iray sai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ika, Isika, isik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ika rehetra ol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pianatry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ny no famant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amy mpianatra is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ika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Corbel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762760" y="5661000"/>
            <a:ext cx="32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777160" y="6018120"/>
            <a:ext cx="32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8821800" y="63943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0960" y="4896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3 – AOKA HIRAY S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ka hiray sai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ika, Isika, isik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ika rehetra ol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pianatry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ny no famant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amy mpianatra is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sika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8776800" y="5256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8777160" y="6018120"/>
            <a:ext cx="32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8821800" y="63943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0960" y="4896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3 – AOKA HIRAY S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Corbel"/>
                <a:ea typeface="Arial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Corbel"/>
                <a:ea typeface="Arial"/>
              </a:rPr>
              <a:t>Feo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Apostoly tal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ray saina tokoa ;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ray saina sy nifam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min'ny fo rehe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anome azy ny F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6800" y="5256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62760" y="5661000"/>
            <a:ext cx="32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21800" y="63943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0960" y="4896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3 – AOKA HIRAY SA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ccff"/>
                </a:solidFill>
                <a:latin typeface="Corbel"/>
                <a:ea typeface="Arial"/>
              </a:rPr>
              <a:t>ROD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ny, niray saina izy ir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Niray saina izy ire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nifankatia to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Ary dia niray saina sy nifankat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dia nitolona tamim-bav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nangata-pinoana sy natoky Ireo tenin'ny To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dia notovina ho Azy 'Reo teny fikas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ccff"/>
                </a:solidFill>
                <a:uFillTx/>
                <a:latin typeface="Corbel"/>
                <a:ea typeface="Arial"/>
                <a:hlinkClick r:id="rId2" action="ppaction://hlinksldjump"/>
              </a:rPr>
              <a:t>D.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ccff"/>
                </a:solidFill>
                <a:uFillTx/>
                <a:latin typeface="Corbel"/>
                <a:ea typeface="Arial"/>
                <a:hlinkClick r:id="rId3" action="ppaction://hlinksldjump"/>
              </a:rPr>
              <a:t>D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6800" y="5256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62760" y="5661000"/>
            <a:ext cx="32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7160" y="6018120"/>
            <a:ext cx="32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0960" y="4896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2:09:58Z</dcterms:modified>
  <cp:revision>82</cp:revision>
  <dc:subject/>
  <dc:title>Tiona Advantista</dc:title>
</cp:coreProperties>
</file>