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53D-FB2D-4B14-A129-6001F140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F56-2E53-44CF-B3F5-FF81EBE7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FBD-7D62-4946-9209-47050250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B46-3987-49CA-A178-D1AB4A5A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6314-2F3B-4266-AEA8-3E88DAEF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B858-2B78-46E3-9849-44191734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C83B-C34C-4B62-A3A0-058A984C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901E-FECC-43BE-952C-A9A6B639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5BF1-D1C4-448C-B470-8D9779C9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EA63-10D0-47FB-A3A2-DAE6D2FD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548D-7876-41E0-92CC-B5B692E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77B-057A-4960-B70E-21D303B3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CFEA-46EA-48BC-9F0F-EB2787C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98F6-C23E-4E03-83F0-B2E65A3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607D-9FF9-4633-B668-25976D5E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EC87-B260-4BF1-B31A-22DE2EAE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1D4E-1EAE-49E9-9403-F9973132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751-5AA9-4F80-97AE-0840A040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6C8-4DA0-43D0-B3F7-E56BC4CE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AD5-F31B-4AA4-A5AA-782A00B1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E14-D8C2-41DC-898F-FEAFB4FD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7B5-84BB-465C-A078-F9134AF4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7BF-7047-4C11-9E0F-40CADE7A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21D-5475-4D48-BA4F-71B539E6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A284-6876-4350-865F-1E80CC10A5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BA43-6973-4CAE-907A-5CD2A7C0C2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. U. Linnereu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3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19 – NOMEKO ANAO NY 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9 – NOMEKO ANAO NY 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ko Anao ny 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ko nalats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nitra koa nef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gadra he af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-mah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hinao ve tsy h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ko no nom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na no ome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9 – NOMEKO ANAO NY 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laozako re ny R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voninahi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nena-mamiratra 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rodo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ory tet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re Mpanjak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afoiko re ny lap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na no foi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9 – NOMEKO ANAO NY 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itra fij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omany maf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zaka zava-tsy t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solo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elana ny helo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otro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itra ny fij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na no iaret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9 – NOMEKO ANAO NY 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re ny a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ny 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lao re ny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eo ny rats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re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a Mpamonjy t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ny a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elomiko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8T08:20:35Z</dcterms:modified>
  <cp:revision>36</cp:revision>
  <dc:subject/>
  <dc:title>Tiona Advantista</dc:title>
</cp:coreProperties>
</file>