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A46-F748-4BCD-BA2B-D1D4FEC2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958-18B9-4D56-8936-5A93E683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AF3-AA58-4604-860C-4CB074E3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91D9-D3A7-471E-88C0-E2064FC0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08BF-AFF8-428F-A70E-29EE0E7F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685A-687A-43AF-8E86-FD4C7AFF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D598-2D0A-40BC-8B1B-1C08B92F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488A-15D8-4812-A43B-31A61EBC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AB67-01A8-44BB-B2D6-B1672C05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5EF6-035B-4D23-BA7E-0C3BAC76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6031-13F4-4AB9-9FFB-6F2FD9FC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8A6-AFFC-4663-B7F0-2957D97F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D5D3-84C6-4FD9-8F65-DD113582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4DB4-8F70-46E6-A8B5-BDBD3233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E42E-7C3F-454C-BAE6-DB3EB15D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B615-815A-4D5B-A3A2-3EDC7C4E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56E0-3A12-41A6-9CF9-244BC0C8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4E0-D9BC-48D1-B15B-97D1B8C5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C31-A35F-4F66-8D67-CCAABCEB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AC9-9D56-4362-A7B8-CB4D48A2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031-1492-4121-9BB8-4BF7FE85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77A-B9D8-41F2-9785-74D3669C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19C-8A6A-4E9B-BBC2-B4714344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533-EEDB-44C6-9D2A-25B5AFF5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30C0-AB3F-449B-B1F8-905727081F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4794-6F8E-4CF8-BE93-DDE93FAEA5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TA466 -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AMPANGINO NY IZAH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6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7" action="ppaction://hlinksldjump"/>
          </p:cNvPr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6 - AMPANGINO NY IZAH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pangino ny izahoko, ry Tompo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pangino hihainoako ny fe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manelingelina ny hidiranao ato 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Ampangino tanteraka Tompo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7" action="ppaction://hlinksldjump"/>
          </p:cNvPr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6 - AMPANGINO NY IZAH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anao izay neken'ny rivotra Jes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anao neken'ny ranoma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anao nibaiko ny a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Ampangino ny izah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7" action="ppaction://hlinksldjump"/>
          </p:cNvPr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6 - AMPANGINO NY IZAH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ila te ho sosotra ilay izah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teneno moramora re, ry Tompo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itandro voninahitra ho Anao irery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fihavanana no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7" action="ppaction://hlinksldjump"/>
          </p:cNvPr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6 - AMPANGINO NY IZAH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mila te hirehareha,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e hanindrahindra 'reo talenta nome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pangino, ampangino ny izaho at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tsinontsinona aho re, Tompo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tia fanakianana aho,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akianana tsy mba mamokatr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pangino, aza avelanao hiteniten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‘izaho koa tsy mahavita 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6 - AMPANGINO NY IZAH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6" action="ppaction://hlinksldjump"/>
          </p:cNvPr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6 - AMPANGINO NY IZAHO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levona tanteraka ny izah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tsy izaho intsony re no velona ato am-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ny herinao anie hanosika ahy hanka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Tanteraho 'zay sitrakao, Tompo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2:54:28Z</dcterms:modified>
  <cp:revision>114</cp:revision>
  <dc:subject/>
  <dc:title>Tiona Advantista</dc:title>
</cp:coreProperties>
</file>