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EBF-87A9-46CE-8DEA-9E4348A9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055-1833-4D14-8480-15A678FF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E5F-CE28-4857-B025-8F907529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035-26BF-42EB-97DA-09DB6B45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17C6-409D-494F-8022-B638495A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ECE1-E805-486B-A4CB-0EC8B86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C295-F909-45D4-960B-6C32C0D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03D4-7128-48C2-8B5F-399D521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FBF9-FF9F-415C-8689-FE3F215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D24F-63C8-4AD5-833C-E4EF71C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D02-6387-4F44-839E-86757DE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04F-38C4-490C-918E-CA201E2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35C-2693-4272-A599-580F38DC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A827-0A2C-4FDC-8F79-A6E77061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709C-412D-41BF-B9ED-6AECAC2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5329-9678-4A5F-AC65-A86B7E8A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DB1-3A73-49BF-AE2C-EE4E57B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E3C-A9D1-41EA-97CF-E6379C2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2F6-BAA5-4702-875B-63EA2A8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876-F95F-4264-81C5-1EEDFA6A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5E4-5C19-4E4F-A873-B43170A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B74-67BD-4E0E-AE4B-9CD0BF1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837-A51E-4D95-AC0E-4809875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258-8904-4DEC-9E56-67F6121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F65-0ECF-4F36-8798-7FDA762DA8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5F58-01A7-4810-AE04-D322D9862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aobel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es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54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7 – JESOSY NO ASANDR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asandr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no Mpanavo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y nana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ko tao an-d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fiko ho ket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afa-ke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na ny Tom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ndako sy ar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oko ô ! anka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'La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iron'ny f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nako sahad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mby an-tà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lehi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n'aina az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fon'aina han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fo mahat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ny r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no anja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ny no fana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no lov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dia hilaoz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tsy hana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dy dia ho tapa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loka ho tap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o ny tena zav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anitry ny lan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erovero fatrat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iran'ny voav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etsika ahy hiakatra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avan'ny Mpamonj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tsinjon'ny fanahiko :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avany manaf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aizina ao anati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87 – JESOSY NO ASANDR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 mibanj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aka ny mpiamb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fahaona am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hovimb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petraka eo anil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hir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nina finar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36:53Z</dcterms:modified>
  <cp:revision>33</cp:revision>
  <dc:subject/>
  <dc:title>Tiona Advantista</dc:title>
</cp:coreProperties>
</file>