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4144-129B-4B6C-9A6F-3A8758A17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FAC3-F7C5-406D-999E-E3DC66D4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0A3B-32C7-4525-94A5-FACEE8412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B185-E7AC-4A9A-BD2F-6F16B0E2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3E3D-CD67-4C70-ABC9-DF928E6CC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C275-03D5-460F-8AA5-D2BE282B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D574-BF1D-4CD0-9FCB-371BB1E1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DCCE-07B1-425A-9146-D934E9AD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EC2E-2F4A-4FB1-9ADF-2C924609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36B7-89B3-4838-B9C7-49CA5EF4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C41D-937A-48DF-A112-3D61B496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E95B-ED35-4CF1-A5B4-2BD45E73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BCE5-04A5-4A0A-8A62-0306C5C2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EC6C-863E-4893-9020-FC34DC91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0B12-54F9-4AA7-A180-12CE575E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A78A-CFBA-4054-BE4C-C9BFE632B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8D0F-CADD-47B9-BD30-3858F14BA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3173-C742-43B4-95A8-9426ACB4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6A68-53D1-46D9-BA49-B58C9B34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AE78-1B4A-42B0-82CF-C14EC36C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8A9A-1F2F-4819-94E1-B6A298C4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3388-F24F-4713-A91C-761F552A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F726-A23A-4293-9273-E7F55A93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0168-7730-48A6-8F29-86D86A59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2407-6816-468E-B085-3D870CE0E3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098E-E6BC-4959-9126-28D031C5A2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B. D. Ackle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17 – HE ! MAHAGAGA LOATRA NY FI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17 – HE ! MAHAGAGA LOATRA NY FI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Mahagaga loatra ny fi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sehonao, ry Jeso Tompo 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na mpanota sy mahantra ah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tolotra ahy ny f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84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17 – HE ! MAHAGAGA LOATRA NY FI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Mahagaga loatra ilay fi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haiko hokobonina sat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itiavana tsy manam-paharo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tolotra ahy 'Lay Paradisa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17 – HE ! MAHAGAGA LOATRA NY FI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Mahagaga loatra ny fi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he ! ‘Ty izaho mpanompo kely i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hiara-monina aminao, ry Tomp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panjaka, Andriamanitra Tsitoh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84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17 – HE ! MAHAGAGA LOATRA NY FI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mahagaga loatra ny fi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voavonjy ireo izay nan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he ! manaiky mba hiara-d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lay Mpamonjy dia Jeso Kris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mahagaga, sns</a:t>
            </a:r>
            <a:r>
              <a:rPr b="1" i="1" lang="fr-FR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Times New Roman"/>
                <a:ea typeface="Arial"/>
                <a:hlinkClick r:id="rId2" action="ppaction://hlinksldjump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84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2T10:34:31Z</dcterms:modified>
  <cp:revision>79</cp:revision>
  <dc:subject/>
  <dc:title>Tiona Advantista</dc:title>
</cp:coreProperties>
</file>