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C589-2182-4236-A110-CF1B8DDFE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861B-FA72-4297-B040-DF3CC01F8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BC5A-8244-46EA-80AC-FD064C32E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E0B8-6404-44E9-9952-CFEAE4FF6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7669E-4ABE-4FAF-BAAD-D26FFFA3C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F95EF-3AE2-46B7-83E1-792648408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F2D8C-525F-4F69-BEFA-DA0879CB7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0DF1E-66FC-42CA-8254-7AEBE1C29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366C1-8FFB-46EB-8227-F21DA6C27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2F23E-CD9D-402F-BD04-25AD81390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10D57-F702-469B-9A6D-0343CBB1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76E1-144E-461B-9824-B99FCC8C3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30CD4-4D91-4266-8C8F-F19BAB2D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40D23-7A1D-4721-B9ED-2963FEB9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9E196-8254-4CF0-92D1-B9D8D6E2D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05689-F218-41F7-BB29-0E39C185F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3799D-ED52-49B9-880F-A251CF4C8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F11C-6A97-421C-906C-BABDF9230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F788-9C63-4FC3-A227-3C8249AB5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D5B6-3546-43C5-A02D-78F60C972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CE91-D3B1-43E9-B517-560E6136C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B355-2221-4A0B-A34A-A48F36DA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B1FD-8E39-4A85-A93A-702EE8D0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BD98-FD40-4DD7-B548-320A64B7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0347F-0EAB-4DB9-9B80-C1FFC1CD458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90D9E-FFBF-44DA-B87B-FF31D9DFDA7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1.xm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475 -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SINTONY 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>
            <a:hlinkClick r:id="rId2" action="ppaction://hlinksldjump"/>
          </p:cNvPr>
          <p:cNvSpPr/>
          <p:nvPr/>
        </p:nvSpPr>
        <p:spPr>
          <a:xfrm>
            <a:off x="8826120" y="48402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3" action="ppaction://hlinksldjump"/>
          </p:cNvPr>
          <p:cNvSpPr/>
          <p:nvPr/>
        </p:nvSpPr>
        <p:spPr>
          <a:xfrm>
            <a:off x="8826120" y="5222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4" action="ppaction://hlinksldjump"/>
          </p:cNvPr>
          <p:cNvSpPr/>
          <p:nvPr/>
        </p:nvSpPr>
        <p:spPr>
          <a:xfrm>
            <a:off x="8835480" y="5634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5" action="ppaction://hlinksldjump"/>
          </p:cNvPr>
          <p:cNvSpPr/>
          <p:nvPr/>
        </p:nvSpPr>
        <p:spPr>
          <a:xfrm>
            <a:off x="8817120" y="60087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">
            <a:hlinkClick r:id="rId6" action="ppaction://hlinksldjump"/>
          </p:cNvPr>
          <p:cNvSpPr/>
          <p:nvPr/>
        </p:nvSpPr>
        <p:spPr>
          <a:xfrm>
            <a:off x="8817120" y="6354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Sous-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Ady sy Fandrese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Paroles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Rajoeli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Musiqu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C. H. Morri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Corespondance :  </a:t>
            </a: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HL284, DLG49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75 - SINTONY A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Sintony aho, anil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e, mitalaho, henoinao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Eo irery ihany no mami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eto an-tany tsy mahafa-p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eto an-tany tsy mahafa-p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826120" y="5222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835480" y="5634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817120" y="60087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817120" y="6354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6" action="ppaction://hlinksldjump"/>
          </p:cNvPr>
          <p:cNvSpPr/>
          <p:nvPr/>
        </p:nvSpPr>
        <p:spPr>
          <a:xfrm>
            <a:off x="8841600" y="4470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75 - SINTONY A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ompo malala, anil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Eo tsy hiala, iriko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ahita indray ny tav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andra-pifindra any am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andra-pifindra any am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826120" y="48402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835480" y="5634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817120" y="60087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817120" y="6354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6" action="ppaction://hlinksldjump"/>
          </p:cNvPr>
          <p:cNvSpPr/>
          <p:nvPr/>
        </p:nvSpPr>
        <p:spPr>
          <a:xfrm>
            <a:off x="8841600" y="4470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75 - SINTONY A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Eo re ny ratsy ho resi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Eo misy vatsy ho enti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Eo ny tomany ho tapi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Eo izaho izany ho samba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Eo izaho izany ho samba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826120" y="48402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826120" y="5222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817120" y="60087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817120" y="6354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6" action="ppaction://hlinksldjump"/>
          </p:cNvPr>
          <p:cNvSpPr/>
          <p:nvPr/>
        </p:nvSpPr>
        <p:spPr>
          <a:xfrm>
            <a:off x="8841600" y="4470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75 - SINTONY A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ompo sintony akaik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sy tiako intsony hiala am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Ô! Tano mafy hanara-d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lay nihafy fony te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lay nihafy fony te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826120" y="48402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826120" y="5222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835480" y="5634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817120" y="6354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4" action="ppaction://hlinksldjump"/>
          </p:cNvPr>
          <p:cNvSpPr/>
          <p:nvPr/>
        </p:nvSpPr>
        <p:spPr>
          <a:xfrm>
            <a:off x="8841600" y="4470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Eny tsy ho ela hafoy it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Sady havela fa ho ary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anatri-tava 'Lay Tompo t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o lalandava eny, dor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o lalandava eny, dor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75 - SINTONY A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826120" y="48402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826120" y="5222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835480" y="5634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817120" y="60087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841600" y="4470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13:29:23Z</dcterms:modified>
  <cp:revision>117</cp:revision>
  <dc:subject/>
  <dc:title>Tiona Advantista</dc:title>
</cp:coreProperties>
</file>