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E7F5-4131-4F91-90DC-D9DD7DA0B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9E90-F61C-4D81-9CBC-205B66E2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A039-42D2-43AF-A849-1C0A93058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2135-5295-41A0-95CA-B4A2C891C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94C1-B96C-4070-A5EB-18244ACB4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818C-19ED-4CA2-9202-B1FD6A63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9423-2B49-4F81-B523-848EA009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A193-7B9D-4DD2-92F7-62F65765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61E9-0331-4D99-8BF6-8332B5B5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48E1-AC6E-4E5C-ACDC-329892DE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73E6-FFBF-405E-8E71-5581027B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2502-37B5-4865-A2DF-E298535B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C7E1-A2F4-41FD-BA1F-D890CD6D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EC9A-DAE9-4476-AB7B-E8945A8F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6571-DA28-4F27-87BF-355E7399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EAC4-4368-473D-86C2-019793F08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7E40-38C6-4EAF-8373-603D8A20A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FEE1-6F50-40FB-A40F-5CEA6507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2580-0942-45D3-905F-2FD596E5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48F2-9D0C-4631-A74F-8D7BE54D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C7B6-9D99-45CE-8C47-6D93F74D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BADE-0BE4-46B2-8A3C-6CC3842D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883A-2889-4F2C-93A2-7D653966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CBE4-FA5B-4094-84A3-B718B9EC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64F2-5A27-43EF-BE72-57C9060CED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36B5-B56C-4333-8D56-D3527FC98C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Rabarij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Beethove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99 – TIANAO VE RY OLOM-BERY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99 – TIANAO VE RY OLOM-BERY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ianao ve, ry olom-be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mpandova lanitr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tona tsy an-t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'Andriaman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99 – TIANAO VE RY OLOM-BERY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ianao ve handray ny h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nomen'ny Tompo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a miady samy ire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tona Az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99 – TIANAO VE RY OLOM-BERY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ianao ve ho masin-toetr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hresy ny ota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ka ianao hito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nilan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299 – TIANAO VE RY OLOM-BERY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ianao ve hiara-pa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'ny Mpamonj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fak'ady tsy hijaly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tona Az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7212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721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721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7:46:57Z</dcterms:modified>
  <cp:revision>56</cp:revision>
  <dc:subject/>
  <dc:title>Tiona Advantista</dc:title>
</cp:coreProperties>
</file>