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DFB-0A08-45EB-878C-C66EF948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1BE-3962-4299-94E4-A5E94626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B85-BB0F-4B91-9F1D-E2FBBFEC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6BD-DF18-402D-AE6B-A2BC235D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C366-37B2-4896-B903-74079D0F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CF3F-B885-45E5-A507-6A4D7A2A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E76E-F78B-4482-82B7-A944D2CC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3EF0-582F-4212-8140-0A22D59A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0556-D1EC-4056-AAE9-C2B76192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5BEF-0801-4437-A1E7-BBC89164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5A51-388D-4C09-852C-1E376A14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EE1-986C-4650-9316-83ED4BA1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F950-5584-47BA-8EE8-54C577C0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3508-F466-4141-BB61-F84ACB17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FFA0-2800-4AB8-8E37-1FBBDF79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DF49-8956-4DDD-BEB4-E2F92DA4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9FB8-B278-43D4-AF74-F4D154F8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C0E-1AE0-4360-AC86-F622195A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DCA-A861-41B7-9A01-58FFB23A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3F0-8029-409F-8708-8B710AC4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027-8198-4511-8BD1-55A181F6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B1A-EE75-47D7-A2BA-8C928CCC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BA9-C94A-434F-ADB5-E8C81552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FF0-5C26-448A-8AC9-5779247C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F546-0BEA-4887-A603-5B413946E2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B9F6-0326-4C9F-A906-6CE26CDAD6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obert Hark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56 – NA DIA MAIZINA 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6 – NA DIA MAIZINA NY 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dia maizina 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tatao ny rah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sy toky tena azo anto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Ilay Mpamonjy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no haso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y ny maso no mifanto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6 – NA DIA MAIZINA NY 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o ambany elatrao no fiere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mamely ny tafiotra maf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atahotra ah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eo anilak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azava na ny ali-maizi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6 – NA DIA MAIZINA NY 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dia mila hanafotra 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onjan'ny famoizam-p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sy tanjona azo amaha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atolampy tsy ho rav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risty 'zay Mpamonj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y tsy misy ataho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6 – NA DIA MAIZINA NY 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ba misy izay ah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eo anil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y re no manda ikiriz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androso 'zao ny di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san'andro arov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dra-pahatonga am-pitsahar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09:33:04Z</dcterms:modified>
  <cp:revision>90</cp:revision>
  <dc:subject/>
  <dc:title>Tiona Advantista</dc:title>
</cp:coreProperties>
</file>