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02D-696C-45BE-AD79-CF8ACB8B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327-9EA4-4F8E-979E-50865455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476-DA04-4585-8355-0B322D53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6A3-1461-4B79-9152-7EF4180B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F6E2-C4E8-4DC1-8562-C923D8EA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8185-C8A1-48D9-A11D-58CC8608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0857-B17B-42F4-9CFD-7BFE6EAA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A2D8-4C3B-4264-9009-710E4112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0CFF-8980-4EDC-BD7B-B57D9479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EB4B-3E0A-4722-AAE6-2E7BAC5D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648B-B640-4813-A468-6C87F758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6C8-7C42-401C-8673-786CA0F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DB2C-7007-4625-90C1-EDDF2B31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A9C0-51F3-4324-801D-F21F9350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E382-300F-4A86-A761-11663F9C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7E05-3618-4C84-9402-7CC2D29F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EA95-6158-44BE-8E96-5E97E571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D30-777D-40A9-9407-8A4AA6AF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946-1EDA-402A-B3AC-0F62FEE4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487-D2FD-4C8B-A141-5E739E5C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3F4-F9DC-4B9F-BA20-46839662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A27-7752-4D56-9E3C-EF13E42C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B5D-7301-4021-87D9-A34C790A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3BA-A050-4616-B6A9-EC82269F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CBE1-DE12-46F3-B2DD-54A3FFCB93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519F-5EAA-43E5-91E9-26E24C29F3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ovoarimin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ovoarimin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62 – HE FITIAVAN-TSY MBA MANAM-P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62 – HE FITIAVAN-TSY MBA MANAM-PE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fitiavan-tsy manam-p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 tsy mba miova fa mitoet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, ry Jeso Tompon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fitia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o na inona re mety hitran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ho mainty re ny lanitra, na man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hazoniko i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izao ho mandrakizay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6392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62 – HE FITIAVAN-TSY MBA MANAM-PE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fitiavan-tsy mba mila tamb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 tena feno, manana am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, ry Jeso Zokinay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itia 'zay te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na aiza na aiza no no hito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ndritra ny andro iainanay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tiako Ianao, ry jes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izao ho mandrakizay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6392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062 – HE FITIAVAN-TSY MBA MANAM-PE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fitia tsy mba haiko tant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itia nihatra tama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 ry Ilay Mpanjakan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y tena m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ory aho, Jeso, na f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entesiko ho hira mifam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 tia Anao, ry Jeso ti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izao ho mandrakizay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86392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7:46:57Z</dcterms:modified>
  <cp:revision>28</cp:revision>
  <dc:subject/>
  <dc:title>Tiona Advantista</dc:title>
</cp:coreProperties>
</file>