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740-E9EF-4D36-A75F-DADEE0FF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B40-F23B-42E1-AA32-8FBF3ED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D17-B03A-4812-B806-F4F42D95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35C-2CF2-4262-9D29-442B5F44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4F1-BEF0-4207-A8CE-8D73C375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EA9-CCFB-4CF9-A84F-0A52EB5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D60-5798-4C70-8930-0E37566B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91A7-8C13-4999-952A-6FF81FF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4E0-7539-4CFF-9B6A-3A331AAE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D5CD-9D94-49E1-A8F0-A53AAA2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472E-4001-4C22-BE79-4741D67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65D-0D71-469D-B933-6D74E42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315-DAF0-40F0-8176-66C11BA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F9B5-5CF8-4CD4-9310-5D6F311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AF3-6813-4F8A-AF94-CEE6663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09CA-E1E2-4543-9007-969C9C76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DC40-055D-424A-8842-709FCEB8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03C-0D54-40F9-A1AF-047AA82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D2D-47A9-4F00-BA53-8B03CC6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125-60F9-4CCF-8576-AE052877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EF8-43EB-451D-A3F3-BC0BFE29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48F-9189-4B29-A694-451F57E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EB8-DECA-43FB-896F-D2015A0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AC5-596F-46D0-9A31-19C16E8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A0BE-C552-4455-9412-925EC2BF6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DC68-3B3C-4207-AD81-1064801D7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owlands sy Peak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Perrone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16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7 – MIDERA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7 – MIDERA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a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hay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hay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 no vente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7 – MIDERA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voahomb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 h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 h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endrika hanao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7 – MIDERA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!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!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a-pamonjen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7 – MIDERA NY ANAR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nga ao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pan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pan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hy re ny hi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haj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24:51Z</dcterms:modified>
  <cp:revision>29</cp:revision>
  <dc:subject/>
  <dc:title>Tiona Advantista</dc:title>
</cp:coreProperties>
</file>