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7FA-9561-4175-BFB0-1A34354C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DD1-6242-4C91-9557-28469D31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31F-43B9-4E8F-90E4-EF952FDA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E6C-528E-4C6D-9D1E-DA49F4CB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619C-E7EC-41F3-9C40-7ACBE3EE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4674-CDA5-4704-B7F2-03434F1F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0D19-E905-42A9-9D5F-DAC6D436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DD86-C064-4CA6-8CFA-59F9F8B2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A2BA-7C67-4062-8E94-517FF1D7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6E77-668A-41F2-B483-F241F532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EBBD-78E3-4F62-AEB4-DB495A93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765-2BE0-4AD4-A8FB-4D73021E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9180-D1F2-4DE7-B6A8-1D7E2993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FDC7-502F-48EE-B556-26990F7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ED17-6694-4E24-AF16-90AA7513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8DC6-1363-4DBF-9716-81EF0F6D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D550-1845-4EBE-9D71-C87C79D8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2BB-19B3-4A17-807F-756976C3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994-ADC4-46B5-B338-4CA02D17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D95-6CC6-4F0D-B15A-CC29F1BA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97E-9E58-409A-A6BB-E160143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D46-AEF0-43A4-8290-3A4BFB2A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351-1800-4771-9B23-5BCE21CB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396-1994-4E47-A8D1-FF5E13FD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35E-8EE4-4575-AC21-052793B5DFB8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585C-7011-488F-A11B-B537C50C9FD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velo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M. Zaka Rajao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7 – ENDRE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7 – ENDRE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ndrey ! Jeso ny lanjan'ny fitiava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amindrampo nasehonao tamiko re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efa indro fa nohamaivaniko sat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fidiko ny haniasia. Ô ! Mamelà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Be ny halemeko ary koa ny sitrap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Ô ! Ekeo fa ifona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y andro sy fiainako, Ô ! Mba jer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tsy mendrika, ry Ray, vonj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7 – ENDRE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takatro, Jesosy ô, ny her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y ilay fitia nanafaka ny otak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lalina ka ambarao raha sitrak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velomako ao anatiko ao (anatiko 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ny sombiny aza re lazao, lazao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iriko re, ry Tompok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iako mba hambara izay rehetra raisiko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efa he tsy voatanisa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7 – ENDREY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izany aza, Tompo ô, atolo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tenako sy saina ary ny f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Omeko Anao mba ho fanati-tsitra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asa ho Anao sy hanas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y fikasana izay nambaranao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Ô ! Ampahitao ny maso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amin'ny heriko fa amin'ny fanahi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y sitrakao no aoka ho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08:25:15Z</dcterms:modified>
  <cp:revision>78</cp:revision>
  <dc:subject/>
  <dc:title>Tiona Advantista</dc:title>
</cp:coreProperties>
</file>