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749-772D-42B7-8E30-82A9DD01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845-E824-4382-AC01-79B894A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3A3-600E-4605-8A33-4145910F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9E7-B6E7-4F43-B0FE-53D040D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3686-4AD6-4FF6-B774-7271483B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4A4-09AF-4E71-8D99-D1D47319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23BE-9796-4EE0-AA59-D7B967DD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DB9C-0384-48FD-9552-A6C89EF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2588-AC2F-4851-A791-6441B3CF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B62-214F-4947-8BC0-3FCEA19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915-27EA-4AD5-AA1A-21148EA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C54-84DB-45C0-8CF2-2D616B8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49B0-5470-4469-A3EE-7C404B2B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18F5-1725-4A70-AB35-22340B0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E26F-2931-41E4-B2C6-3F77251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702F-A5A1-4686-A143-EEF8A301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D6CC-997F-48B2-AC0B-314FB36A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351-3609-445F-A90E-D4CB1BB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DCE-CF38-4298-A9CE-3CB41DF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9AF-2629-4177-B124-6D46610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F30-9D9E-471D-AAC7-91B65BE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2E1-0195-4595-AF35-7D51A4F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7C3-C834-4CF0-BA54-F17C789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149-3281-4C00-A23C-5D57F15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7CA-CE91-4224-8AA0-8762FEB28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8C7-CFFC-4677-B962-AADF56DCFE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ra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5 – Ô ! RY TANORA IZAY FENO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5 – Ô ! RY TANORA IZAY FENO 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tanora izay feno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ny Tompo, 'Lay mampah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Izy anio, ka tsy man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variana na be 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5 – Ô ! RY TANORA IZAY FENO 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malala 'ndret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sakambino, sao lav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kasana ho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na ho tanter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5 – Ô ! RY TANORA IZAY FENO 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no fotoana mendrik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olorana ny t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ra-dia, 'Lay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hivily na hania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5 – Ô ! RY TANORA IZAY FENO 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talenta an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asao, mba hamonj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namanao, ô ! Mba toh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very 'zao na hahita ang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29:11Z</dcterms:modified>
  <cp:revision>87</cp:revision>
  <dc:subject/>
  <dc:title>Tiona Advantista</dc:title>
</cp:coreProperties>
</file>