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198-D4ED-488F-BFB9-1FCA1BE5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B39-DB49-444A-BBDB-D7E2490A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B9C-B4E2-4D98-8C88-56846C4F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4A1-5AD1-4190-965A-6851E3C3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486-2BDB-4A35-A07C-DDEC60D3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3F6-0068-4D48-92EC-15330587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9E8-F394-40AB-ADFC-4002F45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1AF-131E-4B05-A7F3-BC381AF7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B32-6667-4EF7-8BE1-44307218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585-32C2-4FBE-B783-16D601B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27B-AB9E-4B9F-A756-7DA09689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E3F-378F-4A6E-B9AF-33B5775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C808-647D-4743-A55F-43857AD54AFF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7.png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slide" Target="slide13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. Emiliariso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12 – Ô! MAMINDRA FO AM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10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Text Box 42">
            <a:hlinkClick r:id="rId5" action="ppaction://hlinksldjump"/>
          </p:cNvPr>
          <p:cNvSpPr/>
          <p:nvPr/>
        </p:nvSpPr>
        <p:spPr>
          <a:xfrm>
            <a:off x="8153280" y="6531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9">
            <a:hlinkClick r:id="rId4" action="ppaction://hlinksldjump"/>
          </p:cNvPr>
          <p:cNvSpPr/>
          <p:nvPr/>
        </p:nvSpPr>
        <p:spPr>
          <a:xfrm>
            <a:off x="4572000" y="6583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29">
            <a:hlinkClick r:id="rId5" action="ppaction://hlinksldjump"/>
          </p:cNvPr>
          <p:cNvSpPr/>
          <p:nvPr/>
        </p:nvSpPr>
        <p:spPr>
          <a:xfrm rot="10800000">
            <a:off x="4030200" y="6582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9">
            <a:hlinkClick r:id="rId4" action="ppaction://hlinksldjump"/>
          </p:cNvPr>
          <p:cNvSpPr/>
          <p:nvPr/>
        </p:nvSpPr>
        <p:spPr>
          <a:xfrm>
            <a:off x="4572000" y="6583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9">
            <a:hlinkClick r:id="rId5" action="ppaction://hlinksldjump"/>
          </p:cNvPr>
          <p:cNvSpPr/>
          <p:nvPr/>
        </p:nvSpPr>
        <p:spPr>
          <a:xfrm rot="10800000">
            <a:off x="4030200" y="6582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4572000" y="65786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 rot="10800000">
            <a:off x="4030200" y="65782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4572000" y="6583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9"/>
          <p:cNvSpPr/>
          <p:nvPr/>
        </p:nvSpPr>
        <p:spPr>
          <a:xfrm rot="10800000">
            <a:off x="4030200" y="6573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! Mamindrà, fo am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mamindrà fo Ray ô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no fialofan'ny fanah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Ray ô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39">
            <a:hlinkClick r:id="rId1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40">
            <a:hlinkClick r:id="rId2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1">
            <a:hlinkClick r:id="rId3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42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'ANDINI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'ny elatrao Ray ô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ialofa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ra-pahalasan'ny loza 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Andriamanitra ô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30">
            <a:hlinkClick r:id="rId1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32">
            <a:hlinkClick r:id="rId2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33">
            <a:hlinkClick r:id="rId3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4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hitarai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'ny Avo indrindra ah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amin'Andriamani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hatanteraka ah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8">
            <a:hlinkClick r:id="rId1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9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1">
            <a:hlinkClick r:id="rId3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22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jely no hirahinao Jes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monjy ah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toa ka misafo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eo manenjika ah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5">
            <a:hlinkClick r:id="rId1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6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27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29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9">
            <a:hlinkClick r:id="rId4" action="ppaction://hlinksldjump"/>
          </p:cNvPr>
          <p:cNvSpPr/>
          <p:nvPr/>
        </p:nvSpPr>
        <p:spPr>
          <a:xfrm>
            <a:off x="4572000" y="65721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29">
            <a:hlinkClick r:id="rId5" action="ppaction://hlinksldjump"/>
          </p:cNvPr>
          <p:cNvSpPr/>
          <p:nvPr/>
        </p:nvSpPr>
        <p:spPr>
          <a:xfrm>
            <a:off x="5335560" y="65721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9">
            <a:hlinkClick r:id="rId4" action="ppaction://hlinksldjump"/>
          </p:cNvPr>
          <p:cNvSpPr/>
          <p:nvPr/>
        </p:nvSpPr>
        <p:spPr>
          <a:xfrm>
            <a:off x="4572000" y="65721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9">
            <a:hlinkClick r:id="rId5" action="ppaction://hlinksldjump"/>
          </p:cNvPr>
          <p:cNvSpPr/>
          <p:nvPr/>
        </p:nvSpPr>
        <p:spPr>
          <a:xfrm>
            <a:off x="5335560" y="65721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0">
            <a:hlinkClick r:id="rId2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9">
            <a:hlinkClick r:id="rId3" action="ppaction://hlinksldjump"/>
          </p:cNvPr>
          <p:cNvSpPr/>
          <p:nvPr/>
        </p:nvSpPr>
        <p:spPr>
          <a:xfrm>
            <a:off x="4572000" y="65739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29">
            <a:hlinkClick r:id="rId4" action="ppaction://hlinksldjump"/>
          </p:cNvPr>
          <p:cNvSpPr/>
          <p:nvPr/>
        </p:nvSpPr>
        <p:spPr>
          <a:xfrm>
            <a:off x="5335560" y="65739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2 – Ô! MAMINDRA FO 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9">
            <a:hlinkClick r:id="rId4" action="ppaction://hlinksldjump"/>
          </p:cNvPr>
          <p:cNvSpPr/>
          <p:nvPr/>
        </p:nvSpPr>
        <p:spPr>
          <a:xfrm>
            <a:off x="4572000" y="65721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9">
            <a:hlinkClick r:id="rId5" action="ppaction://hlinksldjump"/>
          </p:cNvPr>
          <p:cNvSpPr/>
          <p:nvPr/>
        </p:nvSpPr>
        <p:spPr>
          <a:xfrm>
            <a:off x="5335560" y="65721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5T04:18:53Z</dcterms:modified>
  <cp:revision>36</cp:revision>
  <dc:subject/>
  <dc:title>Tiona Advantista</dc:title>
</cp:coreProperties>
</file>