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1F7-C9C3-4A83-BE41-605EFC14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BE9-BEF4-4465-8510-B00264E0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572F-16B5-4384-8F6D-0633283E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087-9BD3-494C-9DD0-364E526E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DAD2-5264-4ECB-884A-E3A3561E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B502-402F-45D4-8650-E6B73440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B9CB-1DDB-4E82-866B-64CBEC80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6F3C-2037-4B59-9571-DC1484B6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E9BB-8BCA-4237-8827-F1EE8A37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DB58-324E-4791-ACBD-163F4446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DCC9-FD7E-438C-A0EF-DB1968FB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CA94-873F-41E2-A729-FA36781A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8E18-EF57-41AD-ACFD-927B1145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8563-65F5-488D-B0FF-CF6D0E95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1FEF-7D6C-43ED-9AE8-C0FC2793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28D2-78B8-4EBC-8DF1-FE17BB0A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D4A3-FB40-428D-A8FE-6DAC1348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ECA-082E-47BD-8E5D-B9FE80DF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3820-DFA8-4F9D-B4DA-A6C1DB61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949-80D8-42EC-8B1C-A0A7108B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B5E-1634-4DBF-B8A3-A91B647E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F9A-9767-4BA5-B173-EDCB24B8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7001-D7A3-459E-B9A5-A9123B0B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7882-2068-4C4C-A431-75FD0583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475B-BADD-46C2-9FF2-17A2A799E9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23B0-E8A6-45F8-A197-2FF76B1531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kohofana sy fide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. Rowland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FPM016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27 – AVIA, RY VAZAN-TANY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7 – AVIA, RY VAZAN-TAN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, ry vazan-tan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ponina ao an-d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raisa feo ka mihir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avaozan-d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amonjena mar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vita re, ka miderà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amonjena mar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vita re, ka miderà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7 – AVIA, RY VAZAN-TAN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, ry fiangonan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asandrato re ny f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ny Mpanavo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ty an'efitra az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o am-pandeha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ira soan'i zi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o am-pandeha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ira soan'i zi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7 – AVIA, RY VAZAN-TAN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, ry voavonj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falia av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fa-doza ianare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raisa feo ka mihirà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o, derao fa mendr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nanavotra ana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o, derao fa mendr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nanavotra ana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7 – AVIA, RY VAZAN-TAN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, ry olom-ber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andre ny ten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e : &lt;&lt; Manatona Ahy izao &gt;&gt;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 ny Tompo mba fidi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y vali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derany koa hi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y vali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derany koa hi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25T08:52:36Z</dcterms:modified>
  <cp:revision>28</cp:revision>
  <dc:subject/>
  <dc:title>Tiona Advantista</dc:title>
</cp:coreProperties>
</file>