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353-BCDE-4690-AD8A-81E2137A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7F2-4ACE-49D7-8CBC-F5FA9A6A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0DA-7AC5-4674-8E7E-4E9CFEB6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F33-30C2-4C62-8F48-EDCB82A2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B3C4-24D2-46AD-8A05-2785101B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C91A-9F6D-4D60-9B65-FFBFAC9B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7732-A83A-4A36-82A5-ECDEAB2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7280-430A-4BE5-B1ED-05AC4F4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22A4-67ED-44E0-881B-A88A9066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E521-6587-4EE6-BDE2-1DC6FBF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1E90-EB6B-4DA8-A6BB-6BD6AF1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D53-B34C-44AF-9FC3-B5941500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700-3453-42B0-A415-EA9E9C82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DDC-7C54-490B-B993-5112D972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D73A-43EA-4D17-A214-51CB345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6405-F853-45A5-8D23-D2692271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4C51-0E94-43B9-AB30-EDD69D59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37D-0485-43DE-B4F3-4E2D38D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579-3201-4807-8D5D-ACDE3CA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0A4-0142-4C37-8AD7-134C7BAF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151-03D8-4163-945B-9EA0389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B05-BCBD-4445-8125-2833A95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7F2-4E40-446E-8ABF-DBBA536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A63-85D7-45D4-9277-BF76C80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BA6-2B8C-4445-9C9E-FA3A76C9B4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B8C2-36B6-4B34-8605-2BCDA4C8CE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B. Coa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3 – TE HIARAK IRER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3 – TE HIARAKA IRER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iaraka irery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esaka amina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oa mahafaly om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paka am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inao ny tah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mah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ivanina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ntana ent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3 – TE HIARAKA IRER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iako loatra Jeso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y aho tsy mba 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3 – TE HIARAKA IRER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hiaraka irery 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ba hare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aho mandre ny tenni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sy hamela anao '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sy hand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hahafoy anao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mba ana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ianao mande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3 – TE HIARAKA IRER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rery no ha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Izy tsy mit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ilia an-dohasah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i ntana fitarik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lofana, tilikamb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vatolamp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oharanom-pit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40:06Z</dcterms:modified>
  <cp:revision>70</cp:revision>
  <dc:subject/>
  <dc:title>Tiona Advantista</dc:title>
</cp:coreProperties>
</file>