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F4E-E469-4645-8CFC-14F8207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E85-BBA8-4385-A9FE-7E544B3E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75B-938F-402B-879F-31A17769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728-69DC-443B-B5DD-4AC6CFB2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550E-DF53-4C1C-9329-BB0144D5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F85E-D9C6-440E-9DAF-000E71F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F967-0F68-46F6-AC20-BA0B5E5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3B68-C2C1-42DB-B95A-B038669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B603-4A24-4F53-990D-7C0CE6D0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9072-ECD8-4F1C-ACC5-8C2EE47E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D6EF-0DE3-4ABC-A2D0-F831F3F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7BA-7A30-4F7E-ABC1-C7129E4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1851-BD86-4EDA-B02C-7DCC1DC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69E8-B6D5-4AAE-A32A-6D00619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FF1A-86B1-47C9-A9E6-170E8D6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871-6A1E-4189-8688-FD220A45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0B7C-5630-4105-A1DF-05E93A4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506-9D19-4A3A-9D19-3E37EDF7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93F-5F4E-40AF-92FA-422620D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C1B-A24B-4755-8365-ED45AA20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F1B-ED7A-4877-A2B7-776DB0A7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652-DDE3-47CC-9C61-CEB91BB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67C-8369-4346-A90C-436A4E4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27B-4E7B-4551-A51E-29F41ED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BFE8-E2E7-4F4E-99DE-8ED226746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1D11-E78B-4F32-B812-A520AF1452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Vulpi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8 – TOMOERA AMINAY,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8 – TOMOERA AMINAY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oera aminay,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y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lay fahaval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aka, mifo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8 – TOMOERA AMINAY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hazavana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ratrao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mbo ho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silo so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8 – TOMOERA AMINAY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keto aty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y mas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mpian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o fiai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78 – TOMOERA AMINAY,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ela-pamonj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omb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nga anie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d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51:21Z</dcterms:modified>
  <cp:revision>51</cp:revision>
  <dc:subject/>
  <dc:title>Tiona Advantista</dc:title>
</cp:coreProperties>
</file>