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894-9D49-4E2F-A5C5-DDDC52E9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2D6-8461-4CDB-A005-ED2E802F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596-E5F7-4D96-8D34-6136EE89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0EB-7028-440A-BB8F-85CE44B4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725F-1B8C-42E6-B93E-4113F154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BDE6-96B7-4B29-A318-FFF6BC5C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0906-DCB7-4B87-A1C0-AC293A95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8323-EDA2-46F2-BDE9-CDDC8EF8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589D-470F-4B01-9018-2DBC6EFD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A705-2313-414A-A72E-911E14D4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3E93-797D-4197-8906-8891C306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9F27-6F1A-4957-A511-01C1DD23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7D99-E081-422E-99E0-1E1CE6EE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C232-DE56-435E-98CA-704D25AB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CB39-351A-4CF6-BBB3-865BE1CB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5973-F37B-4E7A-88F2-3D5EC3EF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BBF7-8175-4EED-A125-FF121588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CF3-7374-40B6-B1A2-56671B20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378-897E-4CC3-A5DA-F3D73E2D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BE2-AAE3-4989-BAA0-7B065166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664-286E-4FE8-A6EC-3B2DF43F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3D39-059C-453B-9355-AC8CBC4B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C8E-10D8-4284-B000-CE425E72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6CB-739C-435D-92E7-B8CB7D3B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0335-6D47-4992-99B3-EF6C891E70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C0CB-041A-4686-8952-3310228E84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maranana - Tsodran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kari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Allan Andreson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83 – NY FITIAVANAO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3224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83 – NY FITIAVANAO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o ami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aso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koa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Fanah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sina Ia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raisan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erah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822880" y="5962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5:05:18Z</dcterms:modified>
  <cp:revision>51</cp:revision>
  <dc:subject/>
  <dc:title>Tiona Advantista</dc:title>
</cp:coreProperties>
</file>