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5F86-F6DA-4332-BC78-F0BF2D035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202A-A60D-46E0-A2D3-AF3BEA7A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6B21-FBDE-449B-BAC8-228BB9F24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61CA-5588-4E6B-AAAD-6329C5893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4343-D3BC-4B1B-AAF3-BE63AFA2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E448-D6E4-4895-B7D5-C15FE8CB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8084-355B-403F-B4E1-1FB70E74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68D3-CFA0-4F5A-9C12-9C32ADFF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BB44-1E5C-4CB6-848B-A5C89713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7A78-8D6D-4D7E-AB85-70A07AE4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5CEE-97F1-461C-948D-9CCB5517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0B66-8104-43EC-BFCD-30B9BE6A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55D9-DB34-4125-A259-AFC842DC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3D81-F30A-4C3D-ADA0-4285C11E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27F4-1FF0-442A-9A58-5B530DD5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3868-C1D5-49D1-A5A1-2AB0E19D6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A86E-2D2B-4C5C-B2D1-2BF761B0C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8B8D-A02F-4982-AAE2-B8D3FBF3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C6DB-7AFE-4DA6-808F-D97FCFBE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0E38-AF56-46FD-9323-F30DBBDF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F07E-4820-4794-98F0-4F38BA37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FE9D-F77D-4383-A7EF-B93178A1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4873-1EF1-40CF-A691-28AC211D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2A8D-56FD-403B-8FA2-1DEFC88E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73B1-6222-4333-A61A-443D3AFA54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F0DB-729B-43C5-ABDC-D87CAAA730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inany sy ny fahafates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. Sanders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69 – Ô, IZA RE ‘TY TAM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69 - Ô, IZA RE ‘TY TA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, iza re 'ty tam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y any Edom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reva-pitafi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iza moa I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ho no Mpamonj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tena tia,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69 - Ô, IZA RE ‘TY TA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 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ory fahamarin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vonjy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onjy anao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(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in-3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o no nihaviak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onj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69 - Ô, IZA RE ‘TY TA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hoana no dia m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afi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osy famiaz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ery va I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, manirery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ory fo ;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69 - Ô, IZA RE ‘TY TA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 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jaly mafy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o Kalv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onjy anao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(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in-3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o no nihaviak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onj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Zana'ondry mo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drey 'ty vitana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takatry ny saiko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i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&lt;&lt;Indro efa maty Ah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velona.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3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rId4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rId5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6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69 - Ô, IZA RE ‘TY TA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ahoma"/>
              </a:rPr>
              <a:t>TA069 - Ô, IZA RE ‘TY TA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3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>
            <a:hlinkClick r:id="rId4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>
            <a:hlinkClick r:id="rId5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 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dresy ho anao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, raisonao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(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in-3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anota, raisonao an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onjy 'zao&gt;&gt;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09:25:32Z</dcterms:modified>
  <cp:revision>31</cp:revision>
  <dc:subject/>
  <dc:title>Tiona Advantista</dc:title>
</cp:coreProperties>
</file>