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245-5AEB-4D18-93DA-1BAF8624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C04-1CE9-4A3A-95D0-304CF292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83E-CD8B-41C5-B2D3-137EC7EA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DA8-7969-4704-86F4-BC7A3CE6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6865-C1E4-4E25-B947-E1452C2E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E4E3-6085-4EB6-8701-B0569495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75B5-3F44-4E71-B6AA-3406091A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EB15-1529-4A28-BEAF-5F986B3D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E6E4-62C5-48C6-B27A-604F3343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A049-83B0-4A55-BF0B-1AA73420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AB01-6F9C-46A0-8F23-CDA422DA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9D3-116C-4374-BDBC-56313B92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9274-E390-49D5-9517-E9B33BA5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450C-57BD-4583-BF4C-63E24891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BD13-9D75-4ADA-902C-4BA398EE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B5CC-AD23-4175-894D-9E09F5A8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7AEA-8DFD-49EB-9126-C64D430D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688-957F-4157-9E16-92805BFD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2E9-7ED8-4102-95B2-4C9E8ACC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864-E72A-4903-A0D8-40A3AFD2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24F-2233-4774-8618-28685DBE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37F-77A5-40D1-826F-8D98CF96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742-F65C-4EEE-8D6F-8F957BA3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E41-136D-4AC5-A804-2E6A2BCB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4116-975F-4C1E-98AE-F7B65BFF2A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DF2E-A225-4EF7-BDB3-655E5C9B4B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A473 - RAHA AZOKO IZAO TAN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826120" y="5972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2612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Fahononan-te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Swedish Hymn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473 - RAHA AZOKO IZAO TANY IZ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azoko izao tan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efa tsy azoko Jeso Mpam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ho aiza re no his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ho rava izao tontolo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azoko izao tan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efa tsy azoko Jeso Mpam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oa ny fifalian'izao tan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tovy amin'ny an'i Jes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2612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1600" y="5602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473 - RAHA AZOKO IZAO TANY IZ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hafaly ahy amin'i Jes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oko ny zavatra reh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eo otako voavel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lehako zakain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tsy manana aho afa-tsy 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sy ilaiko intsony e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ahy ny zavatr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 amin'i Jeso Tomp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26120" y="5972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41600" y="5602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1T19:41:43Z</dcterms:modified>
  <cp:revision>117</cp:revision>
  <dc:subject/>
  <dc:title>Tiona Advantista</dc:title>
</cp:coreProperties>
</file>