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4E1-FC99-40EC-B707-E7E3CDCF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FD6-CA4C-4C0B-A86C-2B10C3E8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D88-20F2-47E9-A5B3-95AA777A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C54-6E30-41F5-83CB-C0762616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7BC-BB4B-473C-955B-7DDC1A64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08BD-B250-4C60-9422-2691E39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29E6-4B57-4928-8D98-883C8063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59DF-2C01-4858-8069-D5B408BD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B06F-5B38-46BE-89DC-C2F4E3BA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4492-77EB-4D2C-BEE3-C0C2640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6854-729D-40E8-877E-441FB70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EB0-CA14-4D2D-B819-8CE6725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BF7D-7F0C-4CE4-98C4-FC7A86B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C577-536D-41ED-9C4B-92475865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193A-B40F-4078-B563-2B90AD9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C8CE-0C16-47B3-B4BD-67F628DB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4300-D955-431D-9540-5FD819BF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5DA-09A3-4E52-96C4-57C93E3B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6D5-FFAF-403C-ABE7-75AD354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AB6-6BC3-43BD-A84E-9D53254B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C23-CF9B-4D3A-AE3B-22122E60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4AF-CF30-4E02-AF2F-2054ACB1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FA3-5555-4103-9B24-E15DFF9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3AA-7937-4EB7-BD75-016C8CD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15DE-8B7F-45C5-9E44-AC7097B1A1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B4AE-2E1A-4867-B6CA-B722CE42FB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ndriamiandrir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S. Ba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2 – NANDAO NY LANITR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434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434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8336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2 – NANDAO NY LANITR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ao ny lanitr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dina teto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hafoy ny 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otra Je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632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8336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72 – NANDAO NY LANITRA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, miantrà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endrik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ranao teo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adio ny ot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43400" y="5948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37:36Z</dcterms:modified>
  <cp:revision>50</cp:revision>
  <dc:subject/>
  <dc:title>Tiona Advantista</dc:title>
</cp:coreProperties>
</file>