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3C2-CAD9-4219-905E-B2632C31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87D-BAE8-4AC3-ACF2-5ED41365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6DB-15F0-43B5-9A56-61A41515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BE1-DDB8-4FF2-B56D-FD22A515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A71F-CD10-4664-8E50-B4088358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F577-27DD-49A4-9DB5-BF40DCE3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5327-AD83-4ECB-B5BB-334451F3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9D14-9329-4544-A8B7-5F378E97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ACF7-44CF-40A9-87CD-23BDF044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F430-ED9A-41EB-A8E4-8D913DFD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EEE2-FAE1-47DF-A3D4-98CAB20D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ADB-F7B0-47D4-8155-8AC4731E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945B-4FE5-44D4-85E1-9B9B9009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D460-35A7-4999-AE50-9514B200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DD9D-3F39-4300-BB13-AEC9250A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BE8F-A2CB-4EDE-8FB3-5D6F84A8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80C7-E750-4DB3-A1A1-E7709D6F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F1E-ACD9-4043-BD08-EEA444FF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BD3-24A0-4849-AAEE-491630B8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B884-2DE6-4D5D-8B25-7ED1E7C8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E93-43A7-416C-8132-AE937332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117A-977B-4FB9-B15F-FE4EAE61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68B-F4F3-4F03-B98F-9C371321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510-F401-4477-B177-7E62AC2A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E678-8B9D-42EA-8DD4-B7572D719F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39CD-7614-4E87-BCBD-12FB5AB0B3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m-pivava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Randriamiara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Randriamia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11 – AOKA HOMBAN’NY ELA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A211 – AOKA HOMBAN’NY ELATR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omban'ny elatr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fankatiav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ahy Mas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itarik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211 – AOKA HOMBAN’NY ELATR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na any 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feno fiti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rinay hiain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eny ety ka hatr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Andininy 1 sy 2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itiavan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Andininy 3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teza hiaraka am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211 – AOKA HOMBAN’NY ELATR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endrena mba hi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o tsar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rizao ny fiain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oninahitry 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11 – AOKA HOMBAN’NY ELATR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rinay hiain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eny ety ka hatr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teza hiaraka am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9:42:57Z</dcterms:modified>
  <cp:revision>43</cp:revision>
  <dc:subject/>
  <dc:title>Tiona Advantista</dc:title>
</cp:coreProperties>
</file>