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0C9-C23B-4D11-9A5B-9CB0ACC6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AEE-9C81-4FB8-B87D-70C17E61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AD8-C802-425F-8383-1A54D75F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039-471A-4D60-93EA-37D0DD64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42A7-DE5B-4F4E-B731-09CC2094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C49C-48A7-45B6-BB88-8BE32657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0AD2-85CC-449B-A033-F0A463FF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9BBC-0B4A-4BEE-86BD-21B68141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74C1-5FF8-4AC8-A496-6A634158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F3C0-AF09-4FC4-B96D-B7590F8E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2888-E62B-474E-BFC3-E480BEB6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C80-45A9-46F3-AE3F-E7671D07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9CE7-A184-440C-84C6-CB3CD115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BAA1-12F6-46C3-9F08-2F3C2373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6881-EB34-413E-A1AA-663BE694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F964-33FE-4E30-AF74-16EF1B84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3FEC-4C22-46F7-8907-C74A549E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A6D-2C82-4EC7-AB3A-377F9F1C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E11-F2D5-4B5E-9EC6-04FB9565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16C-CADA-41A7-B6CF-C372FC9D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6C3-08D4-4522-9369-955B4E69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EBA-AF65-42A2-BF76-9EC55C92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3F9-B7BD-4915-B13E-4840574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514-275A-4D9C-8F91-7159B7C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2F5F-D14B-4AB9-A467-116583EB9E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0A39-C855-4DF2-9558-E385AEF248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S. Hak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65 – ATAOKO AN-K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4188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4692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41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3288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0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5 – ATAOKO AN-KI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aoko an-kira ny fitiavan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tiavana tsy nety sas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oko izao dia tsy manahi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lovako tokoa ny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4692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41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3288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0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73216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5 – ATAOKO AN-KI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Sambatra ny fok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anana Mpamonjy l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4188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41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3288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0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3216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5 – ATAOKO AN-KI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namako, avia hiara-p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sarotra ny làlantsik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misy aza re ny mampij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zaho mafy koa ny hir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4188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4692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3288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0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73216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5 – ATAOKO AN-KI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pamonjy ô, ekeo ho fide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o ny hira izay ventes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a mandreraka sy maha 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alana izay izor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4188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4692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41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0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73216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5 – ATAOKO AN-KI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sandratray, ny hir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dera ny fitiavanao ry 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41880" y="47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46920" y="5178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41880" y="555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32880" y="5940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732160" y="4365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15:40:16Z</dcterms:modified>
  <cp:revision>91</cp:revision>
  <dc:subject/>
  <dc:title>Tiona Advantista</dc:title>
</cp:coreProperties>
</file>