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F0E-5115-45B8-BA33-416C4F65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41E-E22E-46D6-8F66-9F478331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671-7DD2-44A5-95CD-2C69B59E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BE5-767C-4E37-99C6-D080AA0F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46B-1E55-4CDA-84D1-5845A047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834-8C9C-4036-9ECC-B13FF38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1106-8173-4827-9392-5C019B6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628D-9F19-4129-9285-AA5C4B9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3D6-FB20-46BF-A3AA-74F22EEE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F619-A345-4EAE-8533-5D95911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895C-9380-4491-86BD-148BD31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067-95D6-48F6-A487-D34B4EE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832A-6D0F-40E1-8968-E84AEF9B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EB98-0728-4BA9-A04F-A68500B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838E-E8AD-420C-A45C-EB91FC0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2F0-B70D-4249-9E10-97139619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AA1B-BDB3-498B-B51F-F091B5F5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247-53C2-4F59-B964-2EC98B1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F44-EF71-475D-B8B5-39CFA4D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E59-6D47-4B46-8B9D-A8C7FFD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3CE-4976-47DE-95D2-1570CDAE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E9C-0E1E-43FB-8EF3-8C50B57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D53-39FB-4C81-9E92-FD9984B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896-61E5-491A-8427-BF56AEB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D494-56CF-4437-BE0F-657289C79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5BE-DADC-41A6-B75C-0EB400FB17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nah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na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4 – MOA RENAO VE R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4 – MOA RENAO VE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renao ve ? Ry mpanot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'i Jeso miants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ny no n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diho anio, ô ! Mam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4 – MOA RENAO VE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o Jeso anio, (mba val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ny antso (ka raiso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kanto, fiainana ka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omanin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4 – MOA RENAO VE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re f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dinany an-ta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ly ireo nankato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lokao dia ho n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4 – MOA RENAO VE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zao dia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avotra ahy s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fa 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anao, ô ! Mam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22:52Z</dcterms:modified>
  <cp:revision>61</cp:revision>
  <dc:subject/>
  <dc:title>Tiona Advantista</dc:title>
</cp:coreProperties>
</file>