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1E9-DF05-4424-8F5E-711FE2FD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041-62A4-42CD-A6E0-655AA8AF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8AA-CAF0-4EDF-9E7B-0B01636E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CCB-8450-41C0-AEA0-B027D1F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779D-B60F-4BED-850D-70FC245C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0D4-5787-4F54-A174-0377598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BBB-19F7-4350-8600-0470B0B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9880-A486-4995-87EC-19595301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E69-FF27-43C5-AC83-D3C25E2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61B-03B1-44F0-883D-4DBAA91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B0CF-18FA-4535-9E9F-E862EFD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0B3-4311-454D-B997-BC6C134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05CE-BD57-41A3-8A82-E585C95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E61B-D99B-4125-B96A-625AAC4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D7A6-7EAF-4FA1-B68F-DFB6995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054-EA4C-4532-9350-806626E1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9DC-B9EB-4B1D-B037-1BEA2F42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C12-03E1-48E9-B328-C220ED82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AB7-F82D-471C-969C-85F20A3C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0C6-D8F4-4814-8883-DD258CBA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3E6-8A2B-46F4-8FD1-168238C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87A-4E07-412E-9BE8-9AD2327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EE5-8285-4030-8012-52F5CA9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57C-55FB-45AB-8A87-6791541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6E3-5580-4A83-93D3-D1EFD6608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1CF9-B716-48E1-B901-51C781A74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1 – ILAY AVIAVY TSY MA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5872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3964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1 – ILAY AVIAVY TSY MAM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:,: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Ilay aviavy tsy mamona, Jere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atona azy ny Tom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 variana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ijery, nijer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nantena mba hahita voa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tsy nahit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« Kapao io, kapao io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nahoana no avela ho 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nimba tan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5872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63964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498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1 – ILAY AVIAVY TSY MAM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tohi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ia, Ray ô, avelao ihany alo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ho karakaraiko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raha tsy ma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in'ity taona ity 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sy mampanin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a mbola hokapainao ihany »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9640" y="635148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498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1 – ILAY AVIAVY TSY MAMO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(fara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aviavy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Kristiana tsy mam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amavoinao 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famindrampon'Andriamanit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Mamoaza, mamoaza ny voan'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Fibebahanaq.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720" y="55897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58720" y="5970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4980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RAZAFIMANANTSOA</cp:lastModifiedBy>
  <dcterms:modified xsi:type="dcterms:W3CDTF">2010-12-23T15:47:10Z</dcterms:modified>
  <cp:revision>77</cp:revision>
  <dc:subject/>
  <dc:title>Tiona Advantista</dc:title>
</cp:coreProperties>
</file>