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88B-F4FB-4F1D-A1AE-F802E29E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CDA-AAA0-496D-92F9-A7CBB704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0B3-CE5D-46BE-9FC7-FC455414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A76-23B8-42AC-BEE1-66A6F588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449F-86CA-4275-9BE6-293A01E6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FEA9-BC6C-48B2-AABC-712DA6D2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D22A-57F7-4CCA-A0B8-4B45CD65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565A-E688-4D67-B783-6D9A5E2D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AC46-7516-4109-8227-E5B9F5E9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A545-D0AF-423B-818C-DDD5C82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C203-60DD-4907-BC0D-D06202F6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1B8-347C-407F-A895-E0A555DD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B0D7-F44D-486C-B434-31D73350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D142-96A6-417C-869D-E268C16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599A-863A-458A-8882-69F4FB97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3BDE-3D13-455E-92C9-718BF362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A059-276A-472C-91A4-63A7BE90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E5F-2F62-4BF6-8319-EEF9EDA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F90-9DD8-4D26-B94A-E2B6238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BE0-0F76-421B-A2D3-8BCA4809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49F-2D0D-4A92-B151-280BDF4F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611-55D5-4412-8C72-0520C78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E38-92CA-4892-9A2E-9AACC6DF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967-4CE8-424B-B9D1-21361D02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88CB-5F6B-4FBE-8594-401145F9C1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5AC1-A155-426D-AB61-9287258845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Johnny Lange, My Heath sy Sonny Bur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Arr :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Mamy J. Ratsiris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4 – IZA NO NANAO NY LANI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47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848080" y="566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4 – IZA NO NANAO NY LANITRA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nanao ny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erinao sy lohasa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tany aman-danitra hita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ahery noho 'zaho 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voninkazo tsara tare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ronkely izay manga fe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fantatrao ny nanao ire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ahery noho 'zaho sy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47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848080" y="566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4 – IZA NO NANAO NY LANITRA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maky ny haizi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sy ia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ntana Izy, miambina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mba fa tsy m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rera-tsaina na kiv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aleha raha misy m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e finoana sy hery v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Mahery noho 'zaho 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5780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566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41:33Z</dcterms:modified>
  <cp:revision>27</cp:revision>
  <dc:subject/>
  <dc:title>Tiona Advantista</dc:title>
</cp:coreProperties>
</file>