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F1A-3B33-4204-ABA8-B3CAA56B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AD8-D5F4-4096-A9C8-09267BB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CD5-40C1-4730-A97F-855289BC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69C-3C3D-4DF9-8A48-8F5DEC53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D19-CF04-4146-876E-FDB62AF4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80F1-7C79-49C8-8A82-4C0F705A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17F-7198-402A-8D3C-8195AFB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F00-D2A3-49DB-A96F-82DC0F7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486D-A727-4CBA-B002-85C5257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0D9-28C9-4E65-B8D4-FD10A46C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5803-75B2-444D-A76B-682ACC3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5D0-EDE4-45E7-A53E-9CE12F6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2A5-74F2-4F3D-B658-3B4110F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DE34-3886-4806-B883-F6D52B1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5339-0A88-4A64-B9CE-61A28CDC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C24-316E-45A9-9686-41E041F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0DCD-AF0C-42CD-82F2-179649A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3A7-64ED-4072-998A-5FE1AAF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492-68C7-4F30-B240-56807CF8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BD9-395E-4672-813B-790BB3F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919-3C98-403A-AAFE-B7D7F8BA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40C-66A2-4822-9303-6944CB36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D28-CC59-4E65-AE06-783C533E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84A-0D3A-4963-87AC-5570AF9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992-6849-439C-A358-C17F8F5E90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C815-7B78-4688-934C-5A4C59FF82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H. Ac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60 – TOY NY 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rano ao an'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ina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koriana sady 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aso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ah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Sambatra aho,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tia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Tompo tia 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tahian-tsy ho l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iko 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hantona ny and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nahy ah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igaina ny hainandr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y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na dia karank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efitra vakiko '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loharano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ny haso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iriko dia ho 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nim-piti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pahery, hampit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mangetahet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60 – TOY NY 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ny ho fara-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ho tapitra ny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'Lay rano niavi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, Mpamonjy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844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15:23:03Z</dcterms:modified>
  <cp:revision>90</cp:revision>
  <dc:subject/>
  <dc:title>Tiona Advantista</dc:title>
</cp:coreProperties>
</file>