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EE5A-B688-4BFD-9893-C692B3DA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D718-5F90-4F12-92AB-1188235C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581D-3170-4053-9877-0088EAA3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31A9-CEF7-4662-8ED9-7ADE61A0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CAE5-1FBC-4FE3-905F-5F0E72C1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5FD5-6762-4DCA-BE8B-62CA4CC9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D341-70DF-45F8-BE71-BEA7DD31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8C84-724C-4608-9FA0-8B6F1010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9272-0C87-49FD-9BA3-44BDA821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3F17-90F9-49CA-AE40-40D57788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D739-4494-4666-8B0F-FA3284C3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D448-FC48-4A84-BAE3-2439A966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7551-CE20-4C17-9E57-D8B388AE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31BD-6362-4559-809E-3C66AAA9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3530-EF87-42B4-B6AC-A119C23A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21BB-E957-4E72-9D77-A9F589C2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4883-96FD-4800-9218-E1ADCB3D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8BE1-A6C6-4997-B04E-98DB827B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09B1-D600-4208-B5C8-AEE052A5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4C9-6BB8-445A-9AC5-A298272C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F5CE-C966-449A-A03D-CC5C3762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E780-E024-4691-8599-661F7735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A7A0-F63B-4FE4-8480-FB80EB94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4977-3726-4E6D-98C9-13796D80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15CB-40B8-49AC-B188-EC6DBEF656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5EBC-169E-47FA-8A63-72C9609EC6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H. Ackle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56 – TSY HO ELA DIA HISAVA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6 – TSY HO ELA DIA HISAVA AVOK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sy ho ela dia hisava avoko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fahoriana ety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Vetivety dia hiposaka toko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'Lay masoandro dia Kris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efa hatrizao sahady dia mitoetra (ao am-p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to am-poko ny hazavana Tsy voafetra (toko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ndro ao Jesosy tia 'Zay Mpamonjiko, Mesi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hy Izy, 'zaho Azy ho do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6 – TSY HO ELA DIA HISAVA AVOK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sy ho ela dia ho afaka avoko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mavesatra et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 hiseho ho eo an-danitra toko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'Lay Mpisolo dia Kris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efa hatrizao sahady dia mitoetra (ao am-p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to am-po ny fitsaharan-tsy Voafetra (toko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ndro ao Jesosy tia 'Zay Mpamonjiko, Mesi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hy Izy, 'zaho Azy ho do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6 – TSY HO ELA DIA HISAVA AVOK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sy ho ela dia ho resy avoko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ota mamely ety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ny gadra dia ho tapaka toko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Raha avy indray kris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efa hatrizao sahady dia mitoetra (ao am-p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to am-po ny fitsaharan-tsy Voafetra (toko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ndro ao Jesosy tia 'Zay Mpamonjiko, Mesi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hy Izy, 'zaho Azy ho do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6 – TSY HO ELA DIA HISAVA AVOK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sy ho ela dia ho tony avoko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rivotra mafy ety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'reo onja dia hitsahatra toko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otenenin'i Kris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efa hatrizao sahady dia mitoetra (ao am-p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to am-po ny fiadanan-tsy Voafetra (toko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ndro ao Jesosy tia 'Zay Mpamonjiko, Mesi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hy Izy, 'zaho Azy ho do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1T10:27:31Z</dcterms:modified>
  <cp:revision>37</cp:revision>
  <dc:subject/>
  <dc:title>Tiona Advantista</dc:title>
</cp:coreProperties>
</file>