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340A-A082-470B-930B-BA9F30C1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655E-0180-4820-9CE2-0C63F718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8301-2A70-43F3-ABFB-424A054F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BF4E-418D-4DAA-880C-9DABD433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1A15-E002-48F7-A77B-1470B6E2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ACB5-DD09-44CA-B89C-E348F135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61BF-532D-45AC-B82C-7B2AF61D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1E56-EF03-48E4-90BD-A8779D56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606A-C019-4CA6-B62C-E0EFDA8B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19D5-D23D-4B14-9FFB-1BAA80F6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38AA-3784-428B-AFDC-19174DE6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6FEF-02C2-4920-874E-3F009506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59A2-4DA0-42E9-9903-05D00C46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0414-FF52-4F1E-B8CD-7EE6865A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3594-3C6C-4AC5-BFF0-2D2C3305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0AE1-1451-470D-88C8-D37C8BA0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AABF-213D-49EA-832E-405C4538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238B-FC15-4F85-B36B-E0B19D6E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D763-0DD0-4CB9-BC9E-5FBBFA33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CE00-8750-417E-B37D-1BE0878C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D5CE-8F90-451C-AA01-86AC8B55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E065-22A8-400D-AFAB-CFB7D8D7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30F1-198E-4041-B338-426A5024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E45A-6AB3-4840-B717-397CD989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9027-370C-428A-AF79-C73892BB4C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A37C-7104-4302-80DE-6589435E78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iavana sy Fino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03 – ATAON’NY FO AHO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03 – ATAON’NY FO AHO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aon'ny fo ahoana no tsy hisaotra 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pa sy tsaroana mibaribar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oa sesehena natolotrao 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</a:t>
            </a: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Feo 1,2,3: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Natolotrao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</a:t>
            </a:r>
            <a:r>
              <a:rPr b="1" i="1" lang="fr-FR" sz="3200" spc="-1" strike="noStrike">
                <a:solidFill>
                  <a:srgbClr val="00ffff"/>
                </a:solidFill>
                <a:latin typeface="Corbel"/>
                <a:ea typeface="Arial"/>
              </a:rPr>
              <a:t>Feo 4: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Natolotrao anay, Ny antra, famonjena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aminao, r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03 – ATAON’NY FO AHO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aisa anio ny saotra atolot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tray Anao, Anao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tray Anao ny voninah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03 – ATAON’NY FO AHO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ento re mazàna, mifaly indraind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o ny fitsapana, 'zay toa nivaiv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ny rehetra izany no tonga tam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</a:t>
            </a: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Feo 1,2,3: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Dia nanamboatra hatran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</a:t>
            </a: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Feo 4: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No tonga taminay dia nanamboatra hatra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noana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03 – ATAON’NY FO AHO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lory saina mino hahatsiaro tsar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sy hanadino fa tia anay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ona nifanolo, milaza ny as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</a:t>
            </a: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Feo 1,2,3: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'Ty mety bobongol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</a:t>
            </a:r>
            <a:r>
              <a:rPr b="1" i="1" lang="fr-FR" sz="3200" spc="-1" strike="noStrike">
                <a:solidFill>
                  <a:srgbClr val="00ffff"/>
                </a:solidFill>
                <a:latin typeface="Corbel"/>
                <a:ea typeface="Arial"/>
              </a:rPr>
              <a:t>Feo 4: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Milaza ny asanao ‘ty mety bobongolo,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oloinao vao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5:25:34Z</dcterms:modified>
  <cp:revision>68</cp:revision>
  <dc:subject/>
  <dc:title>Tiona Advantista</dc:title>
</cp:coreProperties>
</file>