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77F-9B26-4163-BE02-8EA4766C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A0B-138F-4419-9DFB-6BD2EC99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457-F2F8-4F81-8510-946E5FF1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849-A858-4C3F-B91D-FA51E93A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8D7-7555-47FB-BBD1-BC49DA88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3AA-3D66-4887-B838-470DC71C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80B5-DC57-4CCC-AAC8-F8075CF0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2A73-06F7-4684-B3CE-6093B2C6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E398-1851-443A-974F-C284F5A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0ED7-0672-4DC6-852E-6698D22B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8F1-29FD-4E05-ADCD-D26FC68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9F7-6DAB-4FFE-A31A-261AC377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2920-C0BC-44E4-A129-5CC1CFA7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CC65-DFBD-4750-A391-DFDF298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5C8-0296-4D2B-AE0F-60D50FF7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107-2094-4CFD-B06A-F8ABD06E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D95-9730-4EC2-8292-505BACE3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2EC-1294-475C-8EA0-8A2ACEA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FC3-AF2B-4AD1-B3EE-420F11B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84D-ED03-49C6-BDFB-7064C86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2CB-B76D-4D57-9774-33EA7E52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608-2EA1-4C7A-9548-0ED9B1D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4C8-13C8-4CBD-B902-6381CAF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9D7-2D5D-4EDE-92B8-641C35D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7AC3-82D4-4270-94B0-8BD35DB7E9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7518-B3AF-41A2-B3B7-866E528FFF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nombo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E. Cousin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23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7 - Ô ! RAY MALALA ASEH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7 – Ô !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y malala aseh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soa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sao ho afa-kel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ho zanak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7 – Ô !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fy ny fiez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ia ny làl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hijan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an-tran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7 – Ô !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y malala, mba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ay zanak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ao an-dà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ny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7 – Ô !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y malala, hi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sambar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votr'ain'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tokian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51:28Z</dcterms:modified>
  <cp:revision>42</cp:revision>
  <dc:subject/>
  <dc:title>Tiona Advantista</dc:title>
</cp:coreProperties>
</file>