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6245-FCEA-462F-9DF5-081A2A93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6F5-DA88-4FBB-94F3-4916B683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7F0-12BC-4028-976D-A1D3EB7E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7F6-2693-4FFF-A70C-A2678437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6408-BB3E-437C-A9F6-220AFCE6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F5E0-A61C-45DD-91B5-686770FC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DE74-6FD5-4AF7-8B97-E602B664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16CF-6016-4DEA-91B8-088B48CC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BCFC-F4EC-4E6C-BCE5-5F6CB750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9126-BA3A-4D06-94D5-D8672FEA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9B1A-C658-4B2C-AEF3-819FDA4C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A7D-D8E3-4B2A-BC8A-147FDA51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1E5D-5D19-42F1-BE6E-AD49EA64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E398-0845-4B14-A746-F44A17C6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0AFE-5EDF-414D-A931-B8876419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64E6-C98F-46DD-959F-A55C49A8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92BC-4A1C-46AD-A813-09CAF546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0B3-3451-4AFE-AC61-D9A2906C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68D-5A6C-477A-8D6F-B43574B8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590-1B49-415A-A89D-430F744F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AF3-6825-4863-A3F9-5C6D161C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D7E-5A4D-4207-BAF1-F8143D6B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7B5-0A5C-40CB-8A66-B2B05EA7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2D2-E7B1-4F3F-9C30-AD0ECF99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237D-F620-4683-A9C0-D9B62B2255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CDCD-9B60-4B7B-B95F-B9C5524F15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kre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31 – ANTSO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1 – ANTSO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y Jeso, raha tonga ny mar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mpivelatra ny raoz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y Jeso fa Izy anton'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ona ny fo sy sain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1 – ANTSO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y Jeso mba ho mpiara-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dàlana izay diav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y Jeso, Sakaiza tena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ro, toky sady tanj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1 – ANTSO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y Jeso, raha sendra ka tom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indrin'ny ota be izay nat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 Jeso, Ilay nitondra iz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ty mba hanavot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1 – ANTSO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y Jeso, ny vavakao ho re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entonao tsy miafina amin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y Jeso, inoy re ny Ten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va-tsarotra halam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y Jeso, raha mila ho va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izao fiainana eto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y Jeso fa Izy fifal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ena soa sy tena lo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1 – ANTSO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31 – ANTSO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y Jeso, raha tonga ny hari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loka ny haizim-pas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oandronao koa efa i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y Jeso,  'zay Fitsang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3:41:04Z</dcterms:modified>
  <cp:revision>46</cp:revision>
  <dc:subject/>
  <dc:title>Tiona Advantista</dc:title>
</cp:coreProperties>
</file>