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96E-C848-4D0E-8F2D-1F2F6E7E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2B1-CE04-43BB-AF90-AF746A8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58E-B12A-4739-812E-076656AF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E3C-7EB8-42A6-AE22-7C7FEABF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F44C-21CF-46AC-AE60-EE9D15BD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91AF-1D84-4D49-82D1-D4272F6F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3328-C263-4221-9049-3482B1CE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0DE2-F85F-4BB3-9B1B-AF1EFF10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3B9C-DF25-4427-B2D8-2082E1AF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4FD3-788C-4EDC-872E-C412A8DF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1EFD-22F8-4E0F-A636-FA366C8B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6AB-4BD4-4C9A-B1D9-F5D4C12D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A3B9-6B88-4992-B290-EFDD3339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7CF5-B73C-43BE-A903-E3351698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9E30-803D-4403-99E5-39983D7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2999-1599-4901-972A-6A22EE94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369A-31B4-41EF-BD09-FCEB607B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1A3-3DD4-4F8E-B566-A304D25D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51B-7CE2-4D1C-9D5E-65C0103C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28E-3F2C-4813-BB67-CF404B8F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4FB-4629-454D-916C-DDAC862D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C58-1454-410A-86CF-6B3379A6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A2B-E1D9-4381-B98F-98DA82A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500-7D49-44DF-87BA-167B78C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4392-6F6E-43A8-82A4-D8CACB7B8A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4403-6873-440B-9447-B54B3FFFED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eorge F. Roo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0 – MOA MISY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2 – MOA MISY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isy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mpanot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misy, fa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nome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2 – MOA MISY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o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Andriamani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Ho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ny Mpam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2 – MOA MISY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Moa misy f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mahan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Eny, misy, fa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No Tompo mian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2 – MOA MISY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isy anten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la ho kiv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'Lay nanolotra 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ahery I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tany mis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adi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no tsy mba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Izy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2 – MOA MISY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90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40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290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5952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54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9:17:12Z</dcterms:modified>
  <cp:revision>61</cp:revision>
  <dc:subject/>
  <dc:title>Tiona Advantista</dc:title>
</cp:coreProperties>
</file>