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581-00D1-41BD-B258-01585815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882-8B00-4C68-96E2-C73DC44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7AD-53D5-4944-A0A0-0D9368BB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621-913E-454A-B303-5BB60DDA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71F-5D62-432A-82DD-CECCAC8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5F8C-E5D1-4E1C-A9CF-7E20AFC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8083-7C40-4F4E-9DEB-415E1BC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8D2D-126D-4715-9545-FA7B2AC0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D5C3-5C0B-4E2F-96A1-7062FEDA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377C-CF3E-41EC-9633-C54819C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0FBC-A04D-4EA5-B17E-2B58509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5D3-3738-435B-B746-DCB2D4EA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9EFC-52E7-471E-B2AE-8C831C7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7375-8358-487F-98CE-4FAD497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7A1-A22B-46A6-B127-19C06EB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15F-FF22-4CB6-B1FA-1EE9090F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16E8-3045-4AD2-91C9-DF347F98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618-89F0-43CD-896B-08E852AD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796-067C-4B2B-BFFF-C50BDBB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58C-D1C3-4982-9C54-FE609969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FAB-20A2-4EEE-A059-1AD6699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FB9-151A-4F37-8186-359F979F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16B-B52F-4107-B1FF-A10C7C6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A1F-32D3-4271-9765-7991404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53F6-3086-4202-9E00-3C310C791C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B350-2DC4-44BB-B8D0-BB0D1C0AD6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9 – TSAROAKO RA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9 – TSAROAKO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roako Ray ô, tsaro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saroako Ray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disoako natao t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hadisoako izay nat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lahoako ny famind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ataoko tam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malala ô, avia mihain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Raiko ô, avia mihaino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9 – TSAROAKO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Kalvary no ahitako anio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koa ny famindra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lahoako ny famindra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ahy ny famindra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malala ô, avia mihain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9 – TSAROAKO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Ray malala ô, raha toa ha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aha toa hal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ah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fitiavanao ry 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gatahiko koa mba heso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Esory koa tsy h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ny aina nomenao ho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aina 'zay nomenao ho an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46:01Z</dcterms:modified>
  <cp:revision>87</cp:revision>
  <dc:subject/>
  <dc:title>Tiona Advantista</dc:title>
</cp:coreProperties>
</file>