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D57-7DB7-48E7-BE68-3D4B401D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81A-C892-42A7-9BCC-5A4B833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781-3409-43A0-A329-47B8EC9B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01E-FB2B-4FD1-813F-DCFBB639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E72B-F233-449C-BADA-E41B1293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C680-5A29-4669-9733-A4BF1AA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3EBE-C2A3-4F70-9DD6-B211CD5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07CA-7FCC-4086-B313-60A4087D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D3F-4F54-4F1A-AD3F-B8DCF36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C595-7256-4655-9886-FED7E69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B37-EB4B-4881-AFB0-0AA2B0B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0C6-8621-4DB5-A635-21B0E802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71C-BFC1-452B-983F-097E64B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A587-0831-4992-B6C1-66D5F88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2F1-77A5-44E8-8E21-1975EEA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09E-12C7-4AE2-840D-1CF79DA8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27DA-F98A-4606-A8E8-25FD85AB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EB0-AA10-43DC-A2CB-4589272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A47-696F-4C92-B302-D9A67AF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929-B467-499E-B8F3-5CD0D75B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6E8-41E4-484E-9357-220250D8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59F-A0D1-47DA-8441-546570D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E8C-40A5-4640-9DB7-C16E20B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712-5C03-44C9-8AD1-6778EC2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1E72-B060-4E06-9146-C09E943B4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E5A-251F-474E-807F-86EC837253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joeli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40 – FITIAVANA 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3224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3224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3224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0 – FITIAV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re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Fitiavana, fitiavana ahy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sy takatra tokoa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vo, lalina 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He ! Avo lalina, ô, lalim-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nam-paharoa !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tsy r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efa inoako iza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a efa nasehonao,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Efa nasehon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Ray teny Kalvary, raha maty Krist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3224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3224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228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0 – FITIAV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re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Fitiavana, fitiavana ahy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nintona ny fo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ny 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ba hanaiky 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Eny, mba hanaiky, hanaiky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 babony tokoa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tok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dro, apetrako iza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oiko re ho Anao.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Anao re hatriz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Ray mba hanompo ety ka ho hat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3224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32240" y="635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228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40 – FITIAVANA 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tiavana r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Fitiavana, fitiavana ahy 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zao tontolo izao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iza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oasarony 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He ! voasarony e, voasarony 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drindra koa ianao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ianao)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Ô ! Ry namako, eke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nao anio 'lay feo : </a:t>
            </a:r>
            <a:r>
              <a:rPr b="0" i="1" lang="fr-FR" sz="3200" spc="-1" strike="noStrike">
                <a:solidFill>
                  <a:srgbClr val="2b5481"/>
                </a:solidFill>
                <a:latin typeface="Times New Roman"/>
                <a:ea typeface="Arial"/>
              </a:rPr>
              <a:t>(Renao anio 'lay f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ty anie, tany Kalvary, ho anao Kri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32240" y="558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2240" y="5970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2288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30:27Z</dcterms:modified>
  <cp:revision>78</cp:revision>
  <dc:subject/>
  <dc:title>Tiona Advantista</dc:title>
</cp:coreProperties>
</file>