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4ECB-95F0-4FA8-964B-9DD1F955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3EAB-F4F2-4111-8BB0-2E4A7F0E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489D-856E-461D-8D4C-AE255D1A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D63F-1354-47D2-B491-9FEF7605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8E9C-1FB6-46A7-B436-947EA258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AA66-91CF-41E5-8154-89B63B89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B9A8-B4B2-42E7-9C1B-C08042B7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25C0-640A-4CE7-BE29-E6C1708C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DD09-C763-45C9-A377-268D1D8F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176A-0672-4096-A862-3336AB77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5649-55BF-4B1D-B021-C9AB3B33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5FC4-96FA-4447-BD14-400A5A11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2FDF-DCCD-488C-BD72-F408B53E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EB24-91DF-4717-8CEA-846E8FB9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516E-7D80-4DCF-A8C3-4593A6BF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D30B-C388-42E1-97A4-99FC6BD3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42EE-820A-42E4-A500-A210D62C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93D8-7A37-428D-BA13-3E801812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7307-F0EC-49A9-8542-1068EE72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814F-C8C5-4A84-B599-81F8063F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30A9-65DE-4BE8-9297-324387EA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688A-359B-45E5-93E9-D9CE1499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0DA8-A830-44F5-9876-5A7A3657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FDD8-9EF8-4283-A0DD-15F165BF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4119-FA45-4FE2-9608-EFC4AE3219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AC26-9A86-4034-B011-C0A4A5369B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Arial"/>
                <a:ea typeface="Arial"/>
              </a:rPr>
              <a:t>TA501 - </a:t>
            </a:r>
            <a:r>
              <a:rPr b="1" i="1" lang="it-IT" sz="3600" spc="-1" strike="noStrike">
                <a:solidFill>
                  <a:srgbClr val="ffffff"/>
                </a:solidFill>
                <a:latin typeface="Arial"/>
              </a:rPr>
              <a:t>FANTATRO FA MISY ANARANA TS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Vonjy sy Fampion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. R. Marnoë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Haldor Lilin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ahoma"/>
              </a:rPr>
              <a:t>TA501 - </a:t>
            </a:r>
            <a:r>
              <a:rPr b="1" i="1" lang="it-IT" sz="2800" spc="-1" strike="noStrike">
                <a:solidFill>
                  <a:srgbClr val="ffffff"/>
                </a:solidFill>
                <a:latin typeface="Tahoma"/>
              </a:rPr>
              <a:t>FANTATRO FA MISY ANARANA TSA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ntatro fa misy anarana ts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y mampifalifaly ny f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raha sendra tsy zaka izay anj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y no mahay mampionona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ahoma"/>
              </a:rPr>
              <a:t>TA501 - </a:t>
            </a:r>
            <a:r>
              <a:rPr b="1" i="1" lang="it-IT" sz="2800" spc="-1" strike="noStrike">
                <a:solidFill>
                  <a:srgbClr val="ffffff"/>
                </a:solidFill>
                <a:latin typeface="Tahoma"/>
              </a:rPr>
              <a:t>FANTATRO FA MISY ANARANA TSA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ffffff"/>
                </a:solidFill>
                <a:latin typeface="Corbel"/>
              </a:rPr>
              <a:t>Anarana tsy manam-pahar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ffffff"/>
                </a:solidFill>
                <a:latin typeface="Corbel"/>
              </a:rPr>
              <a:t>Anarana soan'i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6" action="ppaction://hlinksldjump"/>
          </p:cNvPr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ahoma"/>
              </a:rPr>
              <a:t>TA501 - </a:t>
            </a:r>
            <a:r>
              <a:rPr b="1" i="1" lang="it-IT" sz="2800" spc="-1" strike="noStrike">
                <a:solidFill>
                  <a:srgbClr val="ffffff"/>
                </a:solidFill>
                <a:latin typeface="Tahoma"/>
              </a:rPr>
              <a:t>FANTATRO FA MISY ANARANA TSA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ntatro fa misy anarana ts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y mampitony ny tafio-driv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ry koa ny onja misamboaravo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onga tony ka tsy mampangov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6" action="ppaction://hlinksldjump"/>
          </p:cNvPr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ahoma"/>
              </a:rPr>
              <a:t>TA501 - </a:t>
            </a:r>
            <a:r>
              <a:rPr b="1" i="1" lang="it-IT" sz="2800" spc="-1" strike="noStrike">
                <a:solidFill>
                  <a:srgbClr val="ffffff"/>
                </a:solidFill>
                <a:latin typeface="Tahoma"/>
              </a:rPr>
              <a:t>FANTATRO FA MISY ANARANA TSA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ntatro fa misy anarana ts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y atahoran'ny devoly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arana mandrindra koa ny tanta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ahy ary manao 'zay maha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4" action="ppaction://hlinksldjump"/>
          </p:cNvPr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arana iankohofan'ny anje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y mamoha ny lanitra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o no anarana tena mampah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aran'i Jeso 'zay Mpamonj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ahoma"/>
              </a:rPr>
              <a:t>TA501 - </a:t>
            </a:r>
            <a:r>
              <a:rPr b="1" i="1" lang="it-IT" sz="2800" spc="-1" strike="noStrike">
                <a:solidFill>
                  <a:srgbClr val="ffffff"/>
                </a:solidFill>
                <a:latin typeface="Tahoma"/>
              </a:rPr>
              <a:t>FANTATRO FA MISY ANARANA TSA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7:00:57Z</dcterms:modified>
  <cp:revision>118</cp:revision>
  <dc:subject/>
  <dc:title>Tiona Advantista</dc:title>
</cp:coreProperties>
</file>