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FD4-41FD-4F6E-97E1-D378C4D1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B45-96AD-42C6-B5FF-CE397E3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E43-A69C-44B7-B76A-3275D2CB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FCD-927C-4244-A684-ADEA665F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6E14-BA37-45EA-AE71-0134C6AD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2BDE-1651-4BC2-88D5-6FE8468F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EBAE-5CA0-4400-B716-360BCE31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65E7-A76F-4415-B815-077F3AA7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BAE5-FE13-45D2-8B1B-45F19B73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3E77-1919-4108-BDD7-9842627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C4D7-4F1B-4EEB-8F57-F0CFD4D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BE6-B42E-42BA-A48B-6D3DDE9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490A-E353-4E94-8CB2-142F73D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9930-CB84-452D-9C62-26EAF2A0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BB50-D7FC-451C-87A3-1E3E661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7D26-4B0E-4271-9315-6209C2AA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5195-3695-48C6-95DE-63734332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E2F-71D3-48C3-B587-BABFFEFF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FF0-7DFD-446A-BBBC-9F13F44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CEE-1A03-405A-A50A-FB10A67C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D93-C153-4788-8F29-3C0774AA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183-51CC-4055-86E7-021EF15A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6CD-423E-451D-8B90-EC98C46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FE9-C486-4CE9-90AF-4F8282E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CC91-1E2D-435F-A461-58A20026B3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D95E-4B82-403A-83E4-701B100F6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 zana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78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2 – IZAY MAHAKOLOK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2 – IZAY MAHAKOLOKO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hakolok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nana 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o ny tanimbo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atr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e 'reo vonink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rover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nofy 'zay handaz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mba je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2 – IZAY MAHAKOLOKO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'zay mahav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ny voka-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ena tsy hahan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reraka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'reo taninket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anantena v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oa tsy manam-p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im-be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2 – IZAY MAHAKOLOKO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, ry ray sy r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voninkaz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rover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okantrano 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zao mba hiha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fo-manit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rahin-ts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etra ana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2 – IZAY MAHAKOLOKO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no toy ny ket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ano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a tsy misy f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tena haha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ngon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ita val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vavah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oso her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5:44:13Z</dcterms:modified>
  <cp:revision>78</cp:revision>
  <dc:subject/>
  <dc:title>Tiona Advantista</dc:title>
</cp:coreProperties>
</file>