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08F-3107-4373-B92E-E143CD4D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37C-497F-4F2B-9111-0857FECC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7BB-D67E-4225-A82C-34FD7AF5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D0A-5060-40A9-BC01-F96E79D3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210A-11EC-4442-91B7-EA843340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D44-5C83-4442-A66E-FE74AA29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C5D9-ABE8-41F6-BF61-DA64ED72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4FFE-EB1F-42E7-8CD2-44739EB1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C1F0-4A67-4A63-934C-73433700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7D28-7D8C-446A-9CB8-C0DCC01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135D-CB6D-438A-AE39-50E18C6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5E9-4C0A-4D0E-8373-ED342F37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2D33-347A-4720-BF75-AF90A058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F00E-9C21-4DDF-9691-37C5017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1082-DC1D-4DAD-8ED7-A7F3C34D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80A-B1AD-4E76-A30D-D5468307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453B-10D4-472F-A9F6-0A7C7356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8A9-CD73-476C-8C73-B6A80AD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B4B-6EC9-4B4E-83D0-956E45A5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7D0-B604-4420-AA18-893A0AFB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FF9-1BED-4935-80EE-93AA6F2C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A76-165E-4161-9482-F56F8C3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AD2-B3F5-4BB6-BB0A-F64D915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7CB-05DA-4E4C-8AEC-3F271D4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1F01-1C1D-4723-9100-82B8E1EE09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ADEA-4233-4975-9977-FAA52E6FF6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6 – MANINDRY AT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6 – MANINDRY ATO AM-P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ndry at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ota n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ntin'ny saina ad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hafoy ny did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6 – MANINDRY ATO AM-P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Impiry aho no n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andao ny t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ko malala ô, met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oha indray ny tran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6 – MANINDRY ATO AM-P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 fa hadis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vita tal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tsarak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nosimbak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6 – MANINDRY ATO AM-P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ranon'ny Raiko no e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adanak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otak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hadin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6 – MANINDRY ATO AM-P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iako tokoa, Ray malal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iako ny hisao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ranon'ny Raiko no e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adanak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1496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2000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1496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0596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0524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34:45Z</dcterms:modified>
  <cp:revision>87</cp:revision>
  <dc:subject/>
  <dc:title>Tiona Advantista</dc:title>
</cp:coreProperties>
</file>