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94B-414B-4E1C-B8AA-13ED1EEF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40B-75BF-49B4-A4C5-6BF1BA6C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1C4-2731-495A-9A9E-CAB7F098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A23-A327-4E90-BBB2-6AD521B6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A19B-1540-497E-ABC9-7D10E8BA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537F-FB0C-421A-A5A2-C24D830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2414-D038-4F72-8299-04D3D2C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17A9-B4F3-49A2-A18C-BC001910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4DC8-FD0E-4BA7-84BC-CDECBEB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C162-AB77-4B45-AF5D-97D2A8C2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B8CE-7420-4D65-98AE-A7D274C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DFF-9D9F-411B-87CE-13C6B1B5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E014-E1F9-4F52-95E3-4E0BF07D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A78B-4DDD-41A4-B0B0-0D157B4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36EA-B728-43D1-B827-977B815C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EB6C-7C0E-4C5E-94EC-77F686A5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CCB4-EFEB-456A-B24D-CCA81EE6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FC4-DAE7-4A49-BBF1-900E9B76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0E1-CA4D-45EB-BBB3-7F701AB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B4C-CD8B-4F57-AA33-C22EC0D0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73D-9FDE-4769-9B3F-3E336AD0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1CB-EB6D-4BA9-AA01-331A1B51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283-6ECA-4648-A6B0-4AE1864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3A5-7FF9-49D9-A0A2-B4FCE54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C707-6113-4B92-BB73-FBE222D3D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819B-4F9F-44F8-B75C-636F569BB5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ué A. Rab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ué A. Rab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20 – ANDRIAMANITRA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0 – ANDRIAMANITRA FITIA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fiti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pamorona maher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me anao ireo, ireo zava-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sakafo ampy 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639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0 – ANDRIAMANITRA FITIA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panoro ny lalan-komb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me toky, sady tsy mamit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ikambana ny mino hifanka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639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20 – ANDRIAMANITRA FITIA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asitrana ny aret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aisotra ireo ot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olotra ny famonjen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639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27:55Z</dcterms:modified>
  <cp:revision>29</cp:revision>
  <dc:subject/>
  <dc:title>Tiona Advantista</dc:title>
</cp:coreProperties>
</file>