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6CB-CADC-44E8-8FFC-5EDCA2A8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8DD-4415-44B3-AA4A-7734421A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2B7-6BA7-4E30-91FE-E00A1C82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DCC-D332-46FC-9EBA-3318C58D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1D68-F1A6-4D53-80BB-63B7CA99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602C-4F5D-4445-BEF8-D6625054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F8CB-27EA-401A-B111-80D0818E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CF0B-D4BA-4ECD-A14D-F9480380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8231-476C-4E4D-ABA9-AAA98AF4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F8EA-2A5F-4A72-BD8A-D14134C7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220A-EBAA-492B-9DBC-B48FC06D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819-DF27-4EE9-B0AF-4577DACF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A8E2-58D7-472E-9DA0-32570EDE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F5E5-32C2-43EB-8E18-9CF90A02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8468-BEA3-44B7-BBD4-F8D7AEC6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EF72-61C6-4FB6-B821-705B8867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02A1-4817-47AF-ADB6-BFA7845F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9F4-AE3A-46AA-98F6-3FF0AEB1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E7D-AA83-4ADC-AE09-78610F01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82D-B9B5-47D3-866E-6AC43001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634-2F52-4F3D-97B9-2554F679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BB8-2427-48E5-B575-B7D30BC8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8B0-E5E6-4290-A124-EF537DE5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C3C-CEB1-430B-8959-84C16975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CDB3-B582-4C20-B91E-E61B259948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F4DE-5F8F-4775-AC54-06D7D3180C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37 – JESOSY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988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492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988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7 – JESOSY FITSAH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dy anao mpanota ver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nao mpanota izay n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, miangavy hoe :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aly, anio, mandrakizay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492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988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016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7 – JESOSY FITSAH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kanesa aty amiko iana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iasa fatratra, mavesatra en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ho no hanome anareo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'Lay be fitia miants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'Lay be fitia miants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988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988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016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7 – JESOSY FITSAH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ia anao ho tonga zana-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ry anao haterak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fitsaha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ritra eso, latsa maham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fitsaha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itsaharanao rahatr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988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492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016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46:14Z</dcterms:modified>
  <cp:revision>64</cp:revision>
  <dc:subject/>
  <dc:title>Tiona Advantista</dc:title>
</cp:coreProperties>
</file>