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CD0-6073-4DC9-80A8-40B5755D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CC3-3AC7-49ED-BF14-D4ADD02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FC0-87D2-4C3E-8A19-6AC199CA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51F-E3FE-40EA-AAF4-DE8C7FBE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0368-BBB5-464B-A81F-7E22863D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5387-AA7A-4CC3-BFEE-BFD99FC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D67-C7FB-409B-8572-99E0B9D4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A6E-0388-45EE-9EAD-2552D17C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54F8-F31F-4E64-A8EF-37E56EC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E2D-6171-44AA-A621-691906A3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7105-04E5-4D45-8871-DBEDAC1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A93-FDDB-4BD3-9A10-7D943E99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CA21-39D0-484F-B03A-2E48A78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A9B7-DBD6-490C-8372-282BABC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0EC0-0181-4B79-9B7A-5F0834D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B3B-BD13-489B-9A9D-AAB38830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B8C-B60D-4B11-9B9D-300CD0A9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C02-5725-404C-97E5-E5E90BD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311-9104-4087-9F51-C5C8064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6BB-2FDC-4F5B-8836-090FC63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4D3-3203-470B-A73E-4B85F1B5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BC2-ECB3-4AD3-B586-D453CCB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766-435A-4458-8E1F-F4E8BBD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CC3-91CB-41F1-BC39-0CC4D00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85C-3BEC-487C-944F-033ECBE88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CAE-DCC2-4B28-9A6D-FDA7D6ABA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Hon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6 – AHY IZAO NY FAHEF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6 – AHY IZAO NY FAHEF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y izao ny fahef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y an-danitra, et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orio ny fanja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lazantsa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y ny tenin'i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Zanak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min'ny mpian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6 – AHY IZAO NY FAHEF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y koa ny fahef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maly re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y koa ny fitsar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'ireo tsy mank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ihany no mif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amela hel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monjy ny mel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6 – AHY IZAO NY FAHEF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dia hane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rompetra 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Raiko no hame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efan-j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fohaziny ny m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tsangan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Mpanjaka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08:23:36Z</dcterms:modified>
  <cp:revision>88</cp:revision>
  <dc:subject/>
  <dc:title>Tiona Advantista</dc:title>
</cp:coreProperties>
</file>