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603B-9B46-411D-9A78-C8F25CCA7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D125-1C35-440D-99CB-955CAB32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4ABB-8A11-44B3-BC45-3305D4A40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2FB1-717C-44E3-B485-2EF8A111D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31C0-846B-4BDD-9719-B046653B9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74A8-FCBC-475C-99D4-B425EB05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477B-B365-4379-BAE6-B31CD958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B672-5CDD-4EA5-885C-33599BF3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B10B-71EE-4559-9694-D823AE2C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3D8B-09A3-4CDA-A0A5-50A84233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5896-7F2B-4DF5-894F-01BDA8A5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90AD-61AE-46F0-97EC-EF78B8EF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566E-E770-442E-BADC-707760D8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7860-71E4-4830-9F20-05AEC1C5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40A4-E2EA-44E4-9436-65B88D1F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F3B9-EF7E-4B87-B861-1BE7C09BB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458B-9BEF-444F-9417-1579F2EC3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69A3-5EAD-44C0-9874-C5CA495B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184C-5202-4CFC-887B-7F8E725A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DC90-1A86-4FD6-AE15-BFA804EC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E97A-95B6-4149-AC52-81A8AF5A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5E78-8C36-4E9A-ACB2-3A5FC003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5967-B8EA-45A7-8F88-CDCAA726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85E9-F3A1-4EC1-A12F-AE29CC63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CA0F-401F-4409-9EED-312D6CE631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025A-25D6-48AC-9687-19A94BC5AC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faliana sy Fahatok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P. Berggree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43 – ‘ZAY TIANAO, RY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43 – ‘ZAY TIANAO, R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tianao, ry Tompo no mba tiak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eninao harahik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sarotra, na mora re ny diak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tianao, Jeso, 'zay t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43 – ‘ZAY TIANAO, R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sahiko hitoky 'zahy saik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eriko dia zava-poana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y Anao no tena andrandraik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tianao, Jeso, 'zay t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43 – ‘ZAY TIANAO, R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fantatro : ho tsiky sa tol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njara izay miandry aloha 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nefa izao no vavaky ny fok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tianao, Jeso, 'zay t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43 – ‘ZAY TIANAO, R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o, Jeso, no hany faniriak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zony aho eo an-tanana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sisa re : ‘Zay tianao no ti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sitrakao efao, 'zay sitr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09:17:05Z</dcterms:modified>
  <cp:revision>70</cp:revision>
  <dc:subject/>
  <dc:title>Tiona Advantista</dc:title>
</cp:coreProperties>
</file>