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3D0-6DC5-4CFD-8EC8-84929CA7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ED0-91A1-47EE-A3E9-4A8CBE23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EF0-DDF8-4FD7-87B3-52F3261C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D1A-7D55-4BD7-ADC9-E86CEF41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81CF-4DF2-4DD5-BB76-EFC772B3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47E2-1F3E-40E5-B268-0912DFB6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338D-ED0D-4296-8446-7BB89457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7FB5-2D7E-4435-A902-B9837105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7464-6936-4FD3-9292-E1CE7BFF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29E3-4C5B-4FB3-88EA-441F3D81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A2E9-7DD9-4FD8-9DED-3E63AAD1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C0D-3AC2-4E17-A7A6-A4BB6CD9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CD1C-F2BF-4ED8-8481-D152DF24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C7D6-E993-4B00-B032-2DDE415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D353-FF52-4503-AE83-058B6A6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AFA1-BA48-4E82-B1FF-6A78B5A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C64F-89C1-48EB-A0F1-E6A1B309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A3B-FA46-47DF-8DBE-2E9C2DED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EEC-205D-478C-BE7F-B1941B3C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E15-2965-4B70-AAD6-3E826C30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796-D4C9-408E-864B-557FE25F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60F-DF0F-4C59-9B9D-4B0F085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CCB-8B88-4D3D-AF9B-7E05687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E6B-0045-48C9-9302-2B62B98F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87FF-8919-4E4C-B7A7-880E70824A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3E8D-DAE3-402D-8332-30128717C4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Mac Lillen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6 – Ô ! JEHOVAH Ô, IANAO NO HIAND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716 – Ô ! JEHOVAH Ô, IANAO NO HIANDRY 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Jehovah ô ! Ianao no hiand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amakivaky irony lohasa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mandia ny làlan-tsarotra aza ah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o antoka fa hiandry ah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716 – Ô ! JEHOVAH Ô, IANAO NO HIANDRY 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Jehovah, he ! Jehovah hiandry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misy izay hatah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misy zava-mahory 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no Mpiandry Tsara, her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716 – Ô ! JEHOVAH Ô, IANAO NO HIANDRY 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iovaova izao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! Ianao, Jehovah, no mah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, Jehovah Tompo, tsy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tarika ahy hatrany ny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716 – Ô ! JEHOVAH Ô, IANAO NO HIANDRY 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lafotsy, volamena, haj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inahitra, harena, dia hi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lay Mpiandry tsara, tok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atolampy tsy mivena, her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0:29:02Z</dcterms:modified>
  <cp:revision>78</cp:revision>
  <dc:subject/>
  <dc:title>Tiona Advantista</dc:title>
</cp:coreProperties>
</file>