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D3F-1BE5-4EAB-8A0E-6D2FE4D4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FE0-D6DC-49F8-BBA1-6FDD225B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530-85D2-4E80-8991-DC52D1DA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2E5-937A-4710-B269-13922F9B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2612-5609-414D-B8C4-EB906135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E861-0C37-48F6-AEBB-8240B8A0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6ABA-28FB-41AA-BD3C-9C96E451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C853-9D34-4C44-84E2-FAD41BC0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A3E9-8D88-423E-9C80-1D6DA186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1718-C7C4-438D-8075-1342DC49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0070-CB10-41BE-A496-0A95E403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C77-5FDF-419F-A0BF-398801D7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B8ED-9D6E-419F-8DAA-2AB1E13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1A4A-98FB-47BA-A184-F9462166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A767-0F95-4AB1-8774-46108921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2239-DBC1-423C-BC2F-F8B0F98A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29FD-B1F7-431E-B3D0-CA3091A0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A06-CA8E-432C-B1F1-A494283F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0BA-7F6D-4EA8-A2E9-C0BA78BF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7B0-3311-42CF-8341-EBA4BE56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1CE-75D8-4F37-9EE1-A2CB0062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497-D8F7-4455-BCA0-2D4A61A1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58D-F3A7-4613-88F6-87E8760D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8BD-0E1F-4B7D-B453-116CCFF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24EC-51CB-4801-BE6B-41D6819625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858E-964A-4635-914B-E44001BCB5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simaitoar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Tsimaitoar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90 - FAHATOK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61760" y="52293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0 - FAHATOK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ANAZ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araka daholo ny ankizy rehe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minin'ny voalohany izay miverina in-dr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hefa avy eo kosa dia misy iray miven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andininy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araka indray ny rehetra, manao toy izay nat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amin'ny voalohany. Misy iray hafa koa miven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andininy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araka daholo ny rehetra amin'ny famaranana 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0 - FAHATOK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:,: Fahatokiana, fahatok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tokiana : No toetra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naranay ank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antatra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tokiana An'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tokiantsika Azy. 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61760" y="52293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0 - FAHATOK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OLON-TOK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rovana avy amin'n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 Azy koa sy tia man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sa tsara, eny tia ny haf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afy voa tsara tariget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61760" y="52293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90 - FAHATOK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OLON-TOK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vaka mafana, fanaj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a heloka, matok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rihin'Andriamanitra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iky ihany koa izay mah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61760" y="52293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0:29:32Z</dcterms:modified>
  <cp:revision>84</cp:revision>
  <dc:subject/>
  <dc:title>Tiona Advantista</dc:title>
</cp:coreProperties>
</file>