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055-8739-44FB-8F7D-FC7F1DFB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511-7CEF-4913-AA06-86F84837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2C7-D6D6-4B89-B5C2-007B210C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503-8245-4487-A5F0-F6168F28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425B-C6FE-4211-B869-6D0D82E1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0C6E-014F-4DF9-9F2A-E820628A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2389-96E2-49B2-9146-CFCAB170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8E6F-BF5C-4739-A56E-4EC736FB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D8F0-5AD3-4CBD-A17B-FEB2EE5C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AD74-43B3-4F1D-930B-C227CFDD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31BD-01AF-4A23-B8E5-F6D6D099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804-CBEB-42EA-8EF9-380C04F2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CB8F-04D0-4908-9EAD-D1CE7F4D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AA71-E795-4979-B4DC-D0A68490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163A-3C2A-4620-83B1-55A870D6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0325-CF81-4EEE-A876-4DB15E41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FF60-967F-4841-B41B-FE67C6FD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94F-A9E2-4BA8-9D8E-2CBB34D5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46B-966E-4406-A5CA-68DF673F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2BE-AF73-487B-9923-6940026F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7B3-74B9-4ED4-B5D3-18830BE5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9E5-0993-481E-ADED-5D6A52D2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AA9-02FF-4AC5-87D0-196E1888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E41-930A-41A2-8434-CCF25AC0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9B95-B710-43A9-ACAC-EE316485B8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E338-0211-49D4-BB7D-ECEB21FF84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82 – EFA IVELOM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2 – EFA IVELOM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ivelomako tokoa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 am-pok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tiako koa raha i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ndray ny fahaso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38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2 – EFA IVELOM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fantatrao ny halem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hery ananak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dino eto ny FAna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ahery ny olona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7638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2 – EFA IVELOM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lalako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famonjena atolo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meloka ahy raha i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lazak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7638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5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2 – EFA IVELOM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hen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vaka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Iraho ny Fanahinao hanafak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koa hitari-dal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7638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2 – EFA IVELOM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Reseo anio ny haleme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inoa ny vavak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dino eto ny Fana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ahery ny olona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577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6276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487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7638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08:19Z</dcterms:modified>
  <cp:revision>39</cp:revision>
  <dc:subject/>
  <dc:title>Tiona Advantista</dc:title>
</cp:coreProperties>
</file>