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D769-BED7-456A-87EF-F2A54F66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9AEE-4C50-4332-8FCB-79177E6B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513-D89E-489A-87F9-5CD21CDF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9A73-B306-4B30-8EEC-37872406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2DD9-8065-4F19-B696-C86BD60C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A78D-1E4A-4DE1-90AA-17FFFED0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287A-610A-4E87-BF94-DAFE2051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A278-237E-4CA4-9CC8-A831F151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A3BE-D3A9-4CB6-B870-AE9B429A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C331-6137-40DD-9A0A-491AE3F7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F3D8-9EF2-4E38-A420-500B0F2C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1551-8E45-445C-BF41-BDBD2C3B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4BFE-360F-4178-B3ED-FC9C6A9D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C0B1-EC17-4AA4-87DA-83B32C87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C7B3-42D3-441F-8BF4-A34385E5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7398-E51A-4CA9-8043-15F1BC16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1E0C-9288-43B1-8546-43E02EB9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1F1-22C6-4473-BCBA-0E229A9F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FDA-FE34-46BD-8771-C739B428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3548-819E-4D62-85C4-67F12F39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FD5-1132-41FB-8993-15FE07B3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7EA5-970C-42ED-B2BF-A33D77CF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BB5B-CC09-4CCA-A87A-706EB3E9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8E4-3DC2-4E5E-9BD1-DCE4C3FE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02BF-ABF1-4FF8-88A9-6945E35CD3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AA51-5F46-4A32-9764-9A9C572556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 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57 – RAHA HANENO NY TRÔMP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9000" y="422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34040" y="4602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9000" y="498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20000" y="53640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20000" y="5805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20000" y="61786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7 – RAHA HANENO NY TRÔMP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haneno ny trômp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 an-drahon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o tapitra hatreo ny andro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ho vonona hits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panjaka ve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andova ilay tanàna soa ar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34040" y="4602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29000" y="498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20000" y="53640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20000" y="5805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883548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6" action="ppaction://hlinksldjump"/>
          </p:cNvPr>
          <p:cNvSpPr/>
          <p:nvPr/>
        </p:nvSpPr>
        <p:spPr>
          <a:xfrm>
            <a:off x="8820000" y="61786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7 – RAHA HANENO NY TRÔMP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ho re (izao) ny fiants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o avy (re mba) hanol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avotra rehe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a ho re ny anaranao i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29000" y="422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29000" y="498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20000" y="53640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20000" y="5805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883548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6" action="ppaction://hlinksldjump"/>
          </p:cNvPr>
          <p:cNvSpPr/>
          <p:nvPr/>
        </p:nvSpPr>
        <p:spPr>
          <a:xfrm>
            <a:off x="8820000" y="61786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7 – RAHA HANENO NY TRÔMP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hatsangana amin-k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nodimandry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itafy voninahitra 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indreny miara-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avonjy maro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a mba ho anisany i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29000" y="422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34040" y="4602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20000" y="53640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20000" y="5805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883548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6" action="ppaction://hlinksldjump"/>
          </p:cNvPr>
          <p:cNvSpPr/>
          <p:nvPr/>
        </p:nvSpPr>
        <p:spPr>
          <a:xfrm>
            <a:off x="8820000" y="61786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7 – RAHA HANENO NY TRÔMP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ho avy mba hijin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Tompom-bok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mory ‘reo amboara tsara v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ampiditra azy ir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any an-tsop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a ianao ho isany toko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29000" y="422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34040" y="4602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29000" y="498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20000" y="5805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83548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8820000" y="61786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y namako var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ety ho ani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o avy Kristy, 'Lay Mpanjaka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anio, anio 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anaton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araka amin'ireo marob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7 – RAHA HANENO NY TRÔMP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29000" y="422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34040" y="4602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29000" y="498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820000" y="53640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83548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5" action="ppaction://hlinksldjump"/>
          </p:cNvPr>
          <p:cNvSpPr/>
          <p:nvPr/>
        </p:nvSpPr>
        <p:spPr>
          <a:xfrm>
            <a:off x="8820000" y="61786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7 – RAHA HANENO NY TRÔMP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ho re ny fiants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o avy hanolo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avotra rehe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alia fa ho re ny anara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29000" y="422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34040" y="4602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29000" y="498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20000" y="53640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20000" y="5805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83548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3T02:25:01Z</dcterms:modified>
  <cp:revision>36</cp:revision>
  <dc:subject/>
  <dc:title>Tiona Advantista</dc:title>
</cp:coreProperties>
</file>