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E295-C831-4FB0-B57C-69F25424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87AC-D776-4E38-8108-8E3B0E66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D319-982F-4114-A37A-E6AD099A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C20-8A9D-4139-8869-B2DF1BDE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5810-C8B6-49D0-8598-275304E5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3F07-519E-4954-A023-ECB6BC62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03F2-2CFA-4E21-8D64-3DDB3ABB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53D9-1018-4EED-B3F7-F07ABB12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7037-1852-4AB5-BFD6-60D2119B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717C-1FE9-4A4B-882C-8DB018C9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DA28-124E-4DD3-905D-DBFCA57E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53E9-09AA-40D3-81E6-BA642A2A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D865-DB92-4C4A-99D5-BAB0564C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9A1E-CF04-4085-A796-1DB14372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0797-14D8-440D-AA27-01331191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8493-6ABE-4860-A416-686E3EA9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90F9-E330-4289-929B-9367E96D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E6F1-1D99-481C-AF13-0D0925D2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0CA7-DF51-4993-A535-4EC4FEF5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051E-A9CA-48C9-909A-25BD3DF8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DCAE-E8F9-4F2B-A244-79AEF1C7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88E3-BEA7-4ECC-84E6-3F025429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FD9E-C3EB-4ACE-9C76-E349D05F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1BC2-0BD9-4A42-B383-1B184F4B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36DD-57BA-49BE-BDCC-F50F945A62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4819-AA03-4B4E-9FCE-723224E060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raha-mit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. Tolar Seat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39 – RY MPITORY AN-TSITRA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39 – RY MPITORY AN-TSITRA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mpitory an-tsitra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tsangàn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rio eran-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ilazantsar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39 – RY MPITORY AN-TSITRA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toria, mitoria 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y mito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toria, mitori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 no tor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àna re fino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dia mito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y, finoana, mito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rio ny te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39 – RY MPITORY AN-TSITRA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antritra na tan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mias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masoandro efa madi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la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39 – RY MPITORY AN-TSITRA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fa akaiky n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dia mias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gony avokoa 'zay si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ola eny an-tsa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1T07:25:35Z</dcterms:modified>
  <cp:revision>89</cp:revision>
  <dc:subject/>
  <dc:title>Tiona Advantista</dc:title>
</cp:coreProperties>
</file>