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B64-226E-41F5-94C8-AE05DDF1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8C59-F6A2-4A66-8D1D-0FE2412B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0C80-1476-46BF-89A9-7C527C54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D5A-3A0E-4D11-9E7A-43C75CB6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008E-F467-4158-BB7D-3123EB6C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EF12-F8A7-4AB5-9E85-BF0FE555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EBEF-D317-458E-A3D3-01E6CEBC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8FE5-FB01-4517-BB74-AA45858A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46EC-59BD-4124-9324-982A25C6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F1C2-5853-4C72-A448-9D11363B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1802-63D3-4639-806D-C9217921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03E-9EBE-4128-8361-6A59CF59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73D4-DCDB-419F-B978-7A7EE465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FC97-C826-4AD0-B549-53119991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00C7-5149-4053-91BE-3C4BC3B5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AB1B-C45B-45A0-A5A8-677833F5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9825-0B8A-4DBB-9FD9-33C4259C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B9A3-C4C0-45C4-961C-A38CE722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298B-7E19-4A8D-8D10-27400A51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DC0C-1289-491B-8F83-8D8EFD04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7189-49B6-45B5-B1F5-F33D8F1B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193-0F89-45F6-8EE0-099B1AEC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3A1-256D-4A99-AFC2-DCC83326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EADD-50F9-4483-BFE5-A7DC8F19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7D83-C0E0-4D08-8436-3311B4AE59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2899-0CAE-429B-96AF-87B6C76CB8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16 – RAHA RE NY FEON ’I JES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6 – RAHA RE NY FEON’I JES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re ny feon'i Jes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hoe : O ! Aiza moa i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nota very, mamali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drao dia hangina Izy '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6 – RAHA RE NY FEON’I JES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o, misy famonj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voatra ka atolo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o, nefa tsy terena,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dionao ka Kristy eke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6 – RAHA RE NY FEON’I JES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re fa Izy 'njao mand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m-po, maniry hiditra 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nota, Izy anie mif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dry mafy hampidir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6 – RAHA RE NY FEON’I JES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ola re, kanefa vetiv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angina, lasan-davitr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nota, anio no andro m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mpitso dia tsy fantatr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8:46:00Z</dcterms:modified>
  <cp:revision>61</cp:revision>
  <dc:subject/>
  <dc:title>Tiona Advantista</dc:title>
</cp:coreProperties>
</file>