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D91-0692-4A0F-B5E8-022C13CD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614-8349-40B1-91C7-DF085C1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3C2-E2C9-4974-9B70-E6BC9ACA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093-7EA7-4EAD-92A2-C99F58B1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9F6-0CAE-4130-827E-A0D56672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BCB-FB8A-43EC-91BB-15F89104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2B74-E7C5-4339-9D1A-2DD24857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944C-EC83-4BA3-A3BA-E609344D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A3FF-026D-4D4C-A8CF-41100ADD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A4AD-7FE3-4B1B-8C4B-3D0B6DEE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EAF-23C2-4FCB-8E27-31FFB25F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DF3-B4A8-411B-83AA-4A355006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E66-B39E-44FC-AC56-5E23ACD9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5DC5-7B3D-4A12-BEA8-73A7B358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0879-9984-4A2E-9CB3-E1EC5792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5CFB-8A45-46CE-A750-8577D45B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4F87-4DE9-4FB2-BC3C-96A7E209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609-7E56-4C47-AECE-F9F61C3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093-E5DD-4D1C-BE7D-BF942024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514-3334-48FE-9C85-C94E35DD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347-07E2-4663-95D1-9C910ACD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2A0-9841-48E1-B296-AE6DD74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47E-9B82-4D1C-85F5-28EA5B5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5DF-7FA8-4871-B323-68D46CEA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FA4E-AD3A-453B-94A1-F8F1557897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C6BD-59FA-4E3B-A43E-A0D744DB11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7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IZOTRA IZAO NY D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Mendelsoh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7 - MIZOTRA IZAO NY DI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zotra izao ny d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y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rosalema ti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nàna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atoato iz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iezaka hank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ozanay izao ny trano 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ne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7 - MIZOTRA IZAO NY DI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andrinay hahit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rosalem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tsaran'ny endri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into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ety efa ho rav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ela dia hif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nay kosa efa lasa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ITRE DU CAN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ngava haingana, r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hasamb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ovanay hir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leloia,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tsy ho ela intso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iakatra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-monina amin'i Kris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oria,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2T10:53:01Z</dcterms:modified>
  <cp:revision>119</cp:revision>
  <dc:subject/>
  <dc:title>Tiona Advantista</dc:title>
</cp:coreProperties>
</file>