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BBB-D868-4E48-8687-D0F09EA4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FB3-2250-414B-BA48-F5B8CFD0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1D1-AF73-4E17-BB87-144109DD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593-AD15-403F-A553-EFDC8008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4D4-F753-4ECF-AAC6-519FF670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EE0-CE7B-4C27-BE4B-1023E1F6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6D6B-CCF0-4D3F-8CBC-FECE8F75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3138-6837-4246-80EE-84C612B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861C-A87E-4A20-BB77-ED7E28C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2BF0-FD7D-4729-A817-EB3E13D4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824E-527C-4CEE-839F-1F1A9C1B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C9A-F34F-428C-BBAF-908167F9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EE1C-ACA7-4B78-A0F6-0743917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2CE-9496-403C-AE9A-E00EA9E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61E0-8085-4A70-BB2E-72067F1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9B05-9D3B-41C2-9B60-193D2725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8BA8-8417-42C9-9CB5-76C57560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CCE-28F0-43AB-A420-65F18545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062-BB3F-4289-8883-D8F0911B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DA1-E45C-497F-941C-B0C6294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55F-6CE2-4216-9A6B-5F469681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548-3386-4D6A-B7AC-151304A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93E-6C85-4260-81E8-3C09B1A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941-DA63-40A7-B2A5-F8EAF3B4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6259-8AFC-4D54-86B8-4D3245D42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463-CFDD-4F2A-B4FD-4A6F837A1C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row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5 – ANDRO MALAZA SY MENDRIK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6360" y="48322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5 – ANDRO MALAZA SY MENDRIK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malaza sy mendrik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dro izay nitsahar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boary he mifal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fa hiala sasatr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hary, Tompo tia ô !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66360" y="48322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5 – ANDRO MALAZA SY MENDRIK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falio izao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ary ny fomb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adino ilay 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bata natao h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sangambato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5 – ANDRO MALAZA SY MENDRIK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tsy tontan'ny ela hatr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natopan'ny onja az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natao hamantarana 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vahoaka m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hary, Tompo tia ô !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766360" y="48322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5 – ANDRO MALAZA SY MENDRIK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falio izao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ary ny fomb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adino ilay 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bata amantaran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amantaran'ny Ra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6360" y="48322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ndro masina, kant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rapiratry ny endri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isanay fitahiana s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dro masina izay man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hary, Tompo tia ô !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5 – ANDRO MALAZA SY MENDRIK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766360" y="48322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25 – ANDRO MALAZA SY MENDRIK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falio izao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ary ny fomb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adino ilay 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bata anamasinan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avao ny f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6360" y="48322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4T03:18:10Z</dcterms:modified>
  <cp:revision>43</cp:revision>
  <dc:subject/>
  <dc:title>Tiona Advantista</dc:title>
</cp:coreProperties>
</file>