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A2C-4232-43A6-9102-7890DB0B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002-E0A8-4F12-99B1-CA82C32C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181-5E65-4AE6-BAB3-58BB15D4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686-825E-4B08-8643-2BAA466A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15B3-C513-4969-908A-B82D8BD8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12C6-2F10-49D9-A926-97422455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82C0-2FEF-4147-BCF1-BD9C5DCB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4F82-407B-4CDD-9354-A13AFF0F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E52E-9C60-406A-ABA8-41ECC894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23B2-B356-4E6D-97A8-8170AC8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F4F6-90CC-425A-9B00-493D6725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C6E-5044-4019-8920-3FC34C13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ABCF-CD63-4246-9B45-521369E0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00CA-25D6-444B-BEAE-EFE673B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552C-5345-49D4-92DE-F162FC2B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0A1D-3E10-45F3-96DA-8E23DD6A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55A7-4577-4A04-9782-35739673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099-9C23-4270-AB59-942287D7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F1D-B013-4780-8C25-169A6287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623-8541-4F82-8902-357B0295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4CF-5DEC-47CB-8B34-0B97BDAA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11D-3533-4205-A407-4E600353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218-0D29-45D6-A6E7-8AB127D6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76B-B2CF-4879-AE86-CDEAE39A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A97-CB7A-49BD-B821-189542F281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8DA2-8F14-462E-9E45-5D29E4B98A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E. Cousin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Butch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5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30 – TSARA LOVA, RY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0 – TSARA LOVA, RY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 lova ry Jesos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nota voavo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fonena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boarinao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efana ny t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0 – TSARA LOVA, RY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min'io tany i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zoran'ny di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ompo no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efa m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rano soa ipetrah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0 – TSARA LOVA, RY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 lalana,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hiny tarih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sy manj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kivy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hanan'ny heri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30 – TSARA LOVA, RY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 vatsy, ry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ndeha faha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tenina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fon'ai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veloman'ny olo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7:59:02Z</dcterms:modified>
  <cp:revision>74</cp:revision>
  <dc:subject/>
  <dc:title>Tiona Advantista</dc:title>
</cp:coreProperties>
</file>