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43E-79E7-4E36-9A6B-8DBC283C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69E-8CC9-468D-B5BC-0D56A3E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FAF-F2DB-4FE9-867B-E0A6C219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854-D11C-4989-87F1-24E4E285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FA6A-E62B-47DA-A66F-16183DC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9FA-BD7C-43F9-9689-3DD52E8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505-B850-4343-8668-9652ECA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663-26FD-41BA-88A8-D78D4181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769-7674-4EC0-971C-31ADEE3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04D8-19B2-4A5F-97A7-6BE0DF9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1FC6-A884-4CF3-BBB3-7185F5E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2D1-8AFF-4720-AD3B-17B88BC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CF67-B89E-4A01-940F-DA67FA5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F155-91E2-4926-81D3-ED52A2C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281C-3B42-43BB-BABF-1F256902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30FB-2114-4E12-A471-B1810F07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D5D-4C8A-4BA1-B3C2-108685C9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218-262D-4501-90B2-F7FA16A6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07E-F699-4464-8D36-2E812F1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B76-D226-4EBA-80D5-C319D04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32B-4B64-408E-9671-6001580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F3C-3D04-4B14-96ED-1525F00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D09-49D8-4374-B84D-8402685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2A0-7836-4D4E-A924-BECFC4A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354-95D9-4193-A25C-20E20EC60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55C-6706-4207-B5E4-E001E5E52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. Rasoa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ichard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3 – MANATONA, R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3 – MANATONA,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, r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ry, jamba, very 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simban'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ao ny Tompo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sy mendrika ho v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'zay miantr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m-be hom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elana helo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3 – MANATONA,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enoy ny ten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lazain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very ny anj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a tadiav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antra, mana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itao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mino tsy ho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3 – MANATONA,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to tsy mb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ainanao ar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helohin'ny Mpi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re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andry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faing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e ho vo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17:50Z</dcterms:modified>
  <cp:revision>61</cp:revision>
  <dc:subject/>
  <dc:title>Tiona Advantista</dc:title>
</cp:coreProperties>
</file>