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02A-731A-4B05-BAB9-B25D012E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E2B-4C86-4CE7-8DA9-3DEE2BA6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876-964F-4808-A20C-189ECCD0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750-0E76-41EE-99F0-77841CB7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ECCC-44E1-454C-ABBC-9D3F6458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4168-7C4D-47D8-8D09-AB519443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2B92-13A9-44E2-93AC-A5E57D18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0727-1080-4B64-A6B3-62A8CEFB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5798-2713-46BF-A13C-A5AAA438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A46B-DFF0-499B-83A0-FFA63666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D980-B6FE-479D-8A7D-0E06F4CF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448-99C8-42AC-AF86-601AB57A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3E49-DB72-4810-A724-4571789F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44F1-A009-4583-951C-7A5BFFD1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3D21-C209-44A8-B5AF-20AA0338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E12B-60D3-43B9-A1F4-6D93B15B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11EE-C4BF-4AB6-92FE-85B7983C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4D0-D82C-4AA1-A2F4-1F2E8CBA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E897-C3A4-420B-9159-A7C13705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753-635C-4344-8216-B5A84C74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B37-0C4C-49B5-9242-33441155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689-7A2D-4431-9361-F1F09226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E5B-6170-41E8-8FBB-CD85D129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3CB-2E82-4632-8209-D2596951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68E2-3B88-49AF-A219-5B70DB5E43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6B97-9954-4B76-A815-758D82C248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. Marn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.U. Linnere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23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55 – ANAO NOMEKO NY 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5 – ANAO NOMEKO NY 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ao nomeko ny a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rako nalats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n'ny babon-tSat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gadra he ! Af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tiava-maha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hinao ve tsy handra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ko no nomen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ona no ome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5 – ANAO NOMEKO NY 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ilaozako ny Ra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ny voninahit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onena-mamiratra 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leloia rodo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nga ory tety Ah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efa re Mpanjak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Nafoiko ny lap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ona no foi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5 – ANAO NOMEKO NY 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iaritra fijal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itomany mafy 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izaka zava-tsy t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o solo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melana ny helo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votra an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nao niari-ja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ona no iareta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5 – ANAO NOMEKO NY AI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olory re ny a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olory ny f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lao re ny o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eseo ny rats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mbatra re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ana Mpamonjy t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olory ny a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velomiko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4T07:54:47Z</dcterms:modified>
  <cp:revision>78</cp:revision>
  <dc:subject/>
  <dc:title>Tiona Advantista</dc:title>
</cp:coreProperties>
</file>