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037-636B-4E29-B130-9DF72EEE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3DA-39E3-4EA3-A2BE-21623217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736-6F5B-45E9-9336-79606CE6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E0C-0A8C-4F4D-9874-12A3DB1A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011A-3EE7-4078-AD85-EEF8CBAA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4244-9981-4C32-A0C7-2116369B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7033-9BC9-4FA9-AD39-EB8B8723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AB84-87AE-493A-BD05-ABF55340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1D21-6D9D-4AA1-AC87-E9BB3F78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7C7A-3CF9-490A-94CF-267BAC27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BDE5-1E10-411D-9059-4D58181B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4E7-A0A4-4276-88D5-95AB85C1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B946-2C2E-441D-BE2E-F85355A4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E9E2-FA3B-4DFB-B756-1892B65F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3A84-5218-4404-B66B-5EE89AAE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D662-83FD-42CF-9F6F-4926C88D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BADA-8DB8-4317-8DC7-8FF28668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48E-08BC-4A5C-A971-1CA27371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0B7-B1EA-4524-A7A5-F5A18C41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974-367E-4615-940A-708D1FCC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558-07DE-4034-A3D4-F59DE49A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B15-5123-4BF5-B74A-2BEC7C9E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F5B-B65F-4B1E-B698-CD3C910B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D6E-AB21-4F1B-A432-ABFE789F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B535-96A5-46F5-92A2-7C64570F97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E383-2485-48A5-8F62-835E0036FC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W. L. Thomp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67 – ENTO MORAM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7 – ENTO MORAM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to moram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ody aho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o isan'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andrao mania ind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satry ny 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ina ny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nisolo tao golg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to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7 – ENTO MORAM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Ô, vohay ny val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vohay ny v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raiso ny ondr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Mpiandry mah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alemek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7 – ENTO MORAM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to moramo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ody aho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o fa tano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rao dia resy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Be ny fahaval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asiaka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Mpandresy tsy mimal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to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7 – ENTO MORAM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to moramo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o an-dapa 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Be ny panak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andrao dia kivy e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o ny fino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andà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'Lay itokian'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tona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15:47:05Z</dcterms:modified>
  <cp:revision>91</cp:revision>
  <dc:subject/>
  <dc:title>Tiona Advantista</dc:title>
</cp:coreProperties>
</file>