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375-85C5-43FD-854B-00458327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607-3F05-4419-B47A-7FCE5CC4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1C5-78E0-4CCE-A0C2-1D451E6D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6D7-9B2E-425C-931E-67AAD9DB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BEE7-17CC-46D1-A082-D6042239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B78D-4A76-4F09-87ED-7E902431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EBBD-18A3-45B5-A84C-1CA01AE0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DEFD-04A5-4322-A287-21EE188C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271D-7CA8-4A48-A0AD-DC971325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9B7E-2E60-474B-BDDF-F92DF5BF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046D-3209-4B7E-AE60-C1101BCC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C2B-27BE-4D79-835D-AC96B27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BF25-6391-4B40-A6B1-3C0BB777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2B65-8AB9-461E-A613-B34511D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78DE-D3BC-43FA-90ED-800AF23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FB3C-5154-49AA-A86D-90781FD5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4EEA-BD21-49BB-AA11-453BA296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1D2-24F5-4854-97DF-1BF4E9B5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25E-B3F0-451C-9A3A-559BC22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B59-365D-4D9D-9CEB-B3FE0DDD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7B8-5CCF-4118-BB7F-45A6F6F2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5A9-2AE3-4C57-8BBA-FF9E94DF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6A3-265A-406D-8B05-49ABF5A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F66-884E-46AE-B4FC-EBBD90E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97B-9220-4B35-9165-6CD9A70F07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044-7A2C-430C-8443-F95E685CB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9 – MBA MIVE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9 – MBA MIVE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miver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iodina ao Jo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Jesosy mamindra fo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itahiry helok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hanjombon-tava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9 – MBA MIVE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bebaha, mibebaha iana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iverena eto amiko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mibebaha mba hamon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monoako ny heloka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ny no antso, antsom-pi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9 – MBA MIVE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mibeba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ekeo ny helokao 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Jesosy hikosoka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ota tsy have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tena miaiky aminy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9 – MBA MIVE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mian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antaran'i Pet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'Zay nanana ny haleme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aiky izy ka nibeb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velan'ny Tompo ny hel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3:53:22Z</dcterms:modified>
  <cp:revision>77</cp:revision>
  <dc:subject/>
  <dc:title>Tiona Advantista</dc:title>
</cp:coreProperties>
</file>