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A7A-F008-4D12-97D3-831F54EC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B06-C53A-4935-819E-82A10404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510-FC7E-4F57-873E-45432697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383-1858-45B0-B74E-DA456F0B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B78B-1321-4FD3-AD7A-596F5E71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96F8-40D0-47EC-8466-E417F0F6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8B80-3C6B-413C-B660-76DFDC9F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F0E8-770C-4EB5-B024-FB3854AA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FB0B-00A5-455C-AE6F-ABA876EF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4D0F-EF88-4B3D-9E3A-94DF0313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AE2B-8E1D-4E79-B5D4-4F4DF107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2CE-0ADD-4071-946C-948D4120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E881-01C1-4B8D-9166-C40293D6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1C1E-9024-4101-80B0-123ACF45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0E8D-B002-443B-B536-8695D6F6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ABEF-0D3F-4F27-B09F-09879F87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303D-28C6-4C9D-A59C-6B69CBDB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A3D-3C5A-46DD-9C67-FD0AC6DA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CD7-EE3D-421F-844A-99972947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48D-93D4-404F-9A46-4A483B5B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478-445B-49B9-AADE-92E574BA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29A-C352-44C5-9B9B-6596A0E2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EC4-42D7-4FE0-9A90-6C60E733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14B-29B4-4485-B181-162A2321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3440-EC92-4D97-B388-5D47CF2C1B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40DF-D569-4ABA-98A6-D54B069DA8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h. Bove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300 – RY OLOM-B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0 – RY OLOM-B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olom-b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nan-k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toram-pahota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isy v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ho famonje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0 – RY OLOM-B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 ne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Indro mbola miv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nitra, hidi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0 – RY OLOM-B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efa 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esis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kivy ny fanahinao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isy vonj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ny Mpam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olo-pandrese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0 – RY OLOM-B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a Sa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 hi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ho babon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isy v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ho babon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ela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o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mpidiran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falia, Ny Raina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fa ranomas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0 – RY OLOM-B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87487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fa ranomas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mbatra, hahar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y intsony ny 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velany ny helo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300 – RY OLOM-B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7:54:27Z</dcterms:modified>
  <cp:revision>57</cp:revision>
  <dc:subject/>
  <dc:title>Tiona Advantista</dc:title>
</cp:coreProperties>
</file>