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79E2-3F77-48AD-8C9D-FFE5CC15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A9C-2F8E-44BF-B682-D22479E5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980-4FD3-4CFA-AAF9-87BBFFE8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0C1-E71D-407C-96D5-00E27D5B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6C68-63BA-4E35-8CA2-5BF63B44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87EA-94EE-4927-95D4-BF289103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E3E3-6C93-4F02-A994-C713FDFD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41F5-72F0-4106-8B9C-55DA33BC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7CE0-6E11-4E12-8EA7-CA250835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6934-558A-403E-A16C-2C69C0C9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2D07-7E2F-4F47-B179-B34C3464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9D9-A5B5-49E7-B515-224DC744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07CA-4E1A-4191-B904-5A27B34E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5A97-7256-4AF0-87FC-C27F9542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4FA7-BBF0-4D01-A9A0-DCA02FD6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F6C4-29F7-4DD0-B389-F7E3F77D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CD5C-F064-4E51-836E-7EF6EBAA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B7E-3527-41CE-8AC3-437DBC74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A2DB-6A7A-4F5F-B945-184D9561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2E6-7A78-4E8F-8364-24FD7F9D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4E9-C86E-4C47-990E-AAE749C6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692-A0CF-405F-97C7-3CD6352F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F9F-A910-4B47-A3AC-589A8270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C6F-5731-4F1B-95DD-6B53C3B7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C361-11D5-4AB2-94AC-6E28A87ABB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A947-12E3-4F55-A00E-F58EDBB815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Kle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75 – NY TOKIKO DI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5 – NY TOKIKO DIA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okiko dia aminao,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-tànanao ny fiainako Re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ba misy atahorak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herinao no aroko. (Fa ny herinao no ar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aminao (dia eo aminao), Eo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misy toky tsara (he tsa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nako anjara fiaro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o anto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5 – NY TOKIKO DIA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soko mibanjin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oy ny mijery Ray be fitiav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anao no Raiko Ao 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na tia ka mahafinaritra, (He ! Tena tsa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asoko mibanj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vanao ry Raiko (ry Raik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y tena tia ahy, Fitiavan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ahar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5 – NY TOKIKO DIA AM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vavahako sy faniri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ny ho eo alinanao mandrak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o no ahitako fiada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tena fifal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tokiko, ry her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Vatolampy mafy, (he maf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vonivatoko, Tompo malal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no ah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3T07:30:57Z</dcterms:modified>
  <cp:revision>90</cp:revision>
  <dc:subject/>
  <dc:title>Tiona Advantista</dc:title>
</cp:coreProperties>
</file>