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7F9-0AB9-4AD2-8881-0147F6AE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BC2-0D36-4C44-B4BD-68A290C4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76D-E1D6-4D42-9BF6-BB9A2422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7F8-78D0-473E-9BA0-87AE555A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C1C6-C87F-46FC-A14E-50B6881F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DC78-4757-4C9E-B5F8-B562627E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AF1-06DC-4FEE-ACF2-7E10240E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084C-0798-46E4-96E1-C1B9C891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CB7E-3352-40DA-B5B4-A9E6E94E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8D32-A168-4FD3-9AF8-A0D5A828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B02-42CD-4A04-B0B5-8061C56D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9FD-1E46-4A23-B5ED-9E5434F3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3F5F-6546-405A-BF0A-0417044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A628-79BE-49F9-8171-B01ED046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3737-A4CE-45C0-B7D2-6DF0AF84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9930-6873-4FD2-8309-3FA01F5E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FC56-B9E8-4616-890B-27459F47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DEC-6823-48C3-8B07-BECC9A10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39D-8954-4865-9732-5A5D2B70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40D-FBA9-4EC9-8DA8-F467555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DF4-8269-45D1-BF7B-CFE1BED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1DA-E7FF-4030-ADC3-59537D1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FD4-66A7-4044-8DBB-80A7B77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F26-6793-41E4-ACFE-6D93757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2512-CE0A-4E8D-B544-D196EA9098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C0D6-12D9-43B3-A7D8-EE4E527658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hant Evangeliqu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53 – RY TOMPO MANATR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3 – RY TOMPO MANATR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manatr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to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vonona hand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iko vel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indra irer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ho dia kel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tantanana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3 – RY TOMPO MANATR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mely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rian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, indro, fa mif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onor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zony, Tompo,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da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) Ampio mba ho t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kambana amina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3 – RY TOMPO MANATR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 ny hito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, ny ziog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oa toa diamo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sahar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haka 'lay 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lemy sy m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e) Hanakatra ny f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ampi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53 – RY TOMPO MANATR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y hafal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sarotra ny d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fy ny 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naritra ny 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njina hatr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Dia) 'Lay lova andrandr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ahy ary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04:47Z</dcterms:modified>
  <cp:revision>46</cp:revision>
  <dc:subject/>
  <dc:title>Tiona Advantista</dc:title>
</cp:coreProperties>
</file>