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339-01E8-44AC-9FE6-8B62127B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56E-7447-488A-97B0-E5719D1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9A4-9A33-4FAF-8337-FBA93290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96F-6273-4F15-89F2-E4B80C9F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369C-B48F-4E99-AD76-996FF9E3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223-2EDD-48D7-A175-8473675A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498C-F70C-471C-A519-0DC1EDE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D1E7-11F7-41F9-B221-907D760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9F78-782A-4675-AB34-2E63BBD1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10B4-1FC7-497F-85BB-4905C36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C9BD-F175-40CD-9ABF-579E540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F2C-8B85-4A6E-BB81-773BCA2D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18A-DDBB-4D2A-AEB4-F2E7683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CDC-9209-4C65-A9C2-FED0775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8F20-3F5D-4050-BA62-29FA88F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9182-40FF-41A8-BEFF-8BA77B95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5DD7-513E-416D-8294-710F6BF5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875-85C0-4751-8E58-009839EC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AE2-8F24-4F3B-9A4C-8FD1459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220-8667-4002-B094-2C1A29E2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CAD-7990-47A2-80E1-A2E6E007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ECE-C294-4EC0-A82D-A6BE247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42B-46EA-46BD-8886-F7E13C4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CC9-E436-4774-9CB7-58CF69B2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9A1-78C7-49EB-A5DB-201FD8F0B2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2D1-5C2A-433B-8CAC-833A5DEB7C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omposite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mpositeur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50 – ANKASITRAHANAO RE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87960" y="52293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8320" y="56102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87960" y="5991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723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0 – ANKASITRAHANAO RE,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sitrahanao re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kambanan'ny olon-d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indro manolo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m-pikas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mipe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kambana ho tena i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88320" y="56102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87960" y="5991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723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0 – ANKASITRAHANAO RE,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nampy ka tsy mba hisa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fankatia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manorin-tokantrano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anao no tiany mba hia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rina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ety ka hat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87960" y="52293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87960" y="5991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723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0 – ANKASITRAHANAO RE,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ekeo re, ry Tomp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ba hitahianao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tahi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mba hiala t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amasino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anao, ry Tompo, no hanjak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87960" y="52293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8320" y="56102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723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50 – ANKASITRAHANAO RE,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-tokantranon'izy ror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itahy sady han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za mial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ti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mba ire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87960" y="52293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88320" y="56102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87960" y="5991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2:59:13Z</dcterms:modified>
  <cp:revision>77</cp:revision>
  <dc:subject/>
  <dc:title>Tiona Advantista</dc:title>
</cp:coreProperties>
</file>