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384-A7B3-40D5-A733-74BE3B57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31E-56AA-4363-88F9-BCA96725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D82A-CF00-4500-9DA1-3B0344F0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BA35-E805-466B-A943-07DA2724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2141-F0D9-476F-8D08-D4731651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BA76-80DD-4A33-9B8D-328A1EBB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54AC-7273-41C9-B393-17DB9425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B3E1-4DFD-4655-B3C5-A2A024CF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019E-1210-4895-AC31-9BF6CE04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F58A-0F63-4758-B95F-7BBB6763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FD4B-2B51-4D79-A4B1-20A76D56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1A7F-3C33-4F1F-B7E6-83C61631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C6F5-645B-4CE6-B4DB-F656390B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79FB-2895-4E77-8C11-6B8317C2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0525-AB84-4337-BB60-B0F531DF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0BE9-8391-45A7-AC1C-35D60416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47E2-9AB7-48E9-BD79-C8EE0DFA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DDB9-9CCC-4489-864E-82198709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CAF-AEFB-4D40-B095-4A52DEB6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C2D-78B7-43E6-B600-E8C1F1B5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0D2F-484D-4C5D-A77C-96E2584E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087-AC34-485F-8CC1-7FFFC3F8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C2B1-4213-47C0-B361-D9A10D85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BB5A-61D3-40E5-94C6-B09A29E5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50CA-C649-4FFE-A42E-F66160AC3C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C32B-A903-4C27-AD98-F04B9F63D3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ankizy madini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75 – DIENY MBOLA Z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575 – DIENY MBOLA ZA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eny mbola zaza ah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bola kely '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anolo-t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, ry Jeso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iko toko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nkat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tafio hery ah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o ‘zay sitr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5 – DIENY MBOLA ZA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ko, ry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iarak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y ireo anj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fanirakir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itrako toko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o ny as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foko k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fone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5 – DIENY MBOLA ZA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Edena amb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ira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nta-karav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, ry 'Lay Mes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dia ke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Fa mihir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o, Zanak'ond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y tany Kalv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9:10:59Z</dcterms:modified>
  <cp:revision>85</cp:revision>
  <dc:subject/>
  <dc:title>Tiona Advantista</dc:title>
</cp:coreProperties>
</file>