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E9C-ECA6-405A-BBAE-26C538D4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432-77F3-4670-99D4-49EC0291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CAB-595C-4ADD-8AC1-2E7D565B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580-3066-4F55-8DAC-C21C8610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6042-CBDE-48D4-B6C1-760104E9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EC58-B049-4D0B-B4B0-D07DF995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B3A3-CC07-4D28-8B85-122F96FA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5657-9E0B-4AEB-BADD-6658F8A1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102D-3EEB-478A-8E35-420D394E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609F-6F95-4ACC-BEF6-036807CB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A9C9-7D5D-4040-98B2-2DD7A9DF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1CF-EF42-42E0-A13C-99E4D0C0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36D2-6A94-42D9-8A3A-8AB20D8E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A244-143A-4324-9924-0D25C5DC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0EF1-95FE-432B-A5C7-32FBCA1A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3B5C-5BF6-4A19-A584-61E06707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5292-FB43-4302-974C-0EF08F26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0F9-B756-41DD-86CC-05485B7C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DD7-79EA-4271-AF11-00A5E315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6EE-DE6B-4050-AF92-6DB4E066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57D-1319-4ABB-880F-81649060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F59-5A55-4B0A-9ECE-F4230C1D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C54-483A-4083-BC01-F14A51BA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861-DB96-47C0-8711-B05659EB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6EDE-202A-4271-9941-87EE55A912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95BA-6AFD-430F-A3D7-A9CABC0ABC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Hark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510, DLG47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99 – RAISO JESO HO LAP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9 – RAISO JESO HO LAP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Jeso ho lapanao ny f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ko re ny fiad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ntiko 'lay tanambokov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hafako 'lay endri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9 – RAISO JESO HO LAP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, Jeso ny androko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iko avokoa mba hanaja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mpoky ny soa tsy misy f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itahiana ny ol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9 – RAISO JESO HO LAP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, Jeso, ny tanako malem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hino mafy eo an-tan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afoy raha sehatry ny mem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drao ho kivy ka handà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9 – RAISO JESO HO LAP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, Jeso ny fahatanor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Hamasino ho Anao an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evony avokoa ny faho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raisonao ny fo ankehitr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11:35Z</dcterms:modified>
  <cp:revision>85</cp:revision>
  <dc:subject/>
  <dc:title>Tiona Advantista</dc:title>
</cp:coreProperties>
</file>