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0DE-CEE8-47CE-81D9-5F78A9DB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D53-AC73-4B92-87DB-1A5C82EB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648-BCF4-438B-8C10-2A075E55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271-CE1E-41D1-A55D-777C53AF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1815-5296-40F0-BFCD-384BDF29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FFD7-3B1E-43A1-ABA3-3E6C741A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657E-5796-4ED2-878E-D1274359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15EE-4D08-4AF7-B33B-6A57A56B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5425-8B26-436D-8AB9-1D65F6FA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C947-4BA1-43E1-8CD9-B89F5A19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DB44-83C0-4852-B337-2AC260CF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795-9A26-4C8D-B715-2CF18164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E6CF-5324-4601-A51D-52B68D0D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AC17-249B-48FF-A619-0FC6556F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129A-5FEF-4B9B-A24A-220CCC08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6963-07EC-4648-8293-FF263D73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ECD5-1432-419E-ADD8-5E5B16D4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CFC-55B7-4563-BAC8-D613102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138-4E52-431D-BC41-C18922DC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089-312B-4CBE-8C0F-23DD1C12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2D2-F1F8-4A76-874B-244158A8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563-F961-459A-99B5-3CB584DA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4DE-FB1E-4C38-8F51-A48938C7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742-A65E-4248-9C0D-C17A1E3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8B66-A7FB-4703-82B1-61F8C824C6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40B7-33B2-4785-9245-D632867808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ec. de Vienn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32, DLG163, AF034, JEM06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34 – ZANAHARY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4 – ZANAHARY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nahary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kalaza Anao 'zaha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o anjely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minay manandra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Sy mitsaoka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jaka foto-tsoa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4 – ZANAHARY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Masina s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Jehovah Tompo, Ra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ety lef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tia mandrakiz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Fa, he, hita ta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voavotra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4 – ZANAHARY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vonjeo ny ol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ahio fa lovanao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v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say aminay 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Dieny 'zao Ray be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ndrakizay doria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0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4 – ZANAHARY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dana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velan'i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ga ka ho ent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erana ny N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Haneken'ny maro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i Jeso lehibe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0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voninah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ja, dera, saotra,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monjy olom-b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Azy 'zao atolo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y ho mandrakizay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4 – ZANAHARY L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9T05:03:01Z</dcterms:modified>
  <cp:revision>32</cp:revision>
  <dc:subject/>
  <dc:title>Tiona Advantista</dc:title>
</cp:coreProperties>
</file>