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861-DDD7-4E35-B39F-DF8A16EF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40F-1788-45AC-BFEF-366CA84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37E-D572-4C81-A2C8-6C44F093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020-0208-4A7F-8063-E8B7BBA8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49F1-F9F0-4755-87AE-FBA5A68A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930-9554-4738-AB75-56F1199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3645-4368-48D4-87A1-602CCF7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802B-5DEC-41E0-AAFF-06F83A18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CA27-1F79-4613-BFA6-CD2E4AA7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3E65-ACAA-47E5-A3D9-50E9205A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9B4-7D9E-4C61-BD2F-F6FC20C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E29-A287-4735-85C7-AF440A48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1931-6FCB-49FF-A9C0-CFD94E4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B4A-695D-4E2F-A298-0ECB78C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5A3-381B-4C60-8945-D677F293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42F5-CDB0-4635-8DE3-3AE9F32C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A473-B7D6-4F2E-B621-93242A09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7EF-DB2D-4555-9A03-CE6DD893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62B-19DE-4A71-8889-CEB24FC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B1-E9F2-475E-89CB-D6FD5B68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505-DFE9-4368-BC0C-05546F9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280-320E-4590-9174-3494C4C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182-053F-4028-A695-3BC06E1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90A-9445-4796-9BCB-942A89C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7DD-44BC-49E1-994A-55947828E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69D-F54E-44A6-8D50-D34D3D7C0E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Purd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5 – HAREKO SADY 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5 – HAREKO SAD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eko sady 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ifaliak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no sy m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jin'i Js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feno 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at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no sy ma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Mpanav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5 – HAREKO SAD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mahas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hadi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sy irony 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et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sarob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nadio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po ovà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y ny 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5 – HAREKO SADY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y ô, r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man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nto ho sas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ony halot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 ny lanitra IzyNafoiny koa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ome va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mandrakiz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07:34Z</dcterms:modified>
  <cp:revision>32</cp:revision>
  <dc:subject/>
  <dc:title>Tiona Advantista</dc:title>
</cp:coreProperties>
</file>