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2CDF-A0C0-40CE-8313-283119D77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C5EC-84EB-40B5-9CCA-72EFA54F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4C0F-3029-4756-85D6-330532D9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5562-8F5F-433E-8AD6-437E2D7B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0974-9F5C-43DA-BFBC-70C0FD3E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3459-C314-4BC6-851E-E8F43A68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4C0F-DE3A-4D68-9FBE-185D629F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3417-8191-4A74-B585-61B33C6B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9EAE-3A98-4240-9798-EBB4199C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6C10-C440-42C0-9A63-58E4E822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85D3-CFCA-4DDD-B246-63C94B96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F857-7780-47A4-BAD5-8E4B6733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0A52-6579-4474-BBFC-0EC0F0CE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83C1-EE09-49BE-88AA-0764C85B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4711-DF2C-4FCF-B362-A0049895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CDE8-0BE5-4AFF-A17C-6F9DF763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691B-B7D4-4811-B423-008866EF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5067-31EB-4BA3-8AA2-C47E299A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2014-9C5A-4E8C-A7ED-D1D0088E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4AD6-E16C-4B6A-8349-0B18246F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1FC1-F991-4927-A3DF-65B413D0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2549-D3C3-4004-8DF3-B09D627E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9DAA-7EAC-45EE-9D23-0DF0CBCA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0A63-70C9-4624-BEA4-89C30E23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EE29-F4AA-4DFF-B632-FCDBCB4AC1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C84B-99E1-4768-BC72-33697F6D5A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eremô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Bar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I. D. Sanke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44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50 – RY RAIKO FENO HAN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50 – RY RAIKO FENO HAN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Raiko feno an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ty ny zanak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ko dia mahan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lavitra ami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any karank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o tontolo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reraka ny 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atak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6392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50 – RY RAIKO FENO HAN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vezivezy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karo-java-t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rehetra hi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dramana avoko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dany taona ma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aran-tsitrap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nefa tsy nahaz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mahafa-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6392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50 – RY RAIKO FENO HAN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itaka mihit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o tontolo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amy dia mangid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tena soa tsy 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oa aza mba adala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tsony re, ry f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eha mba ho hend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tramin'ny an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578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6392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50 – RY RAIKO FENO HAN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Jeso mofon'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ranon'aina ko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no mahat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filan'ny f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no mahavok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no man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irin'ny fo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asambaram-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578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6392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2:56:01Z</dcterms:modified>
  <cp:revision>47</cp:revision>
  <dc:subject/>
  <dc:title>Tiona Advantista</dc:title>
</cp:coreProperties>
</file>