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BF9-85F6-481C-8B07-7FBFA08C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FA2-5B81-404E-A3D8-9D40F2D4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0B9-247F-481A-A512-5F660ED0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BD3-61E0-401D-A281-B5527E16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D6C2-681F-469D-89CE-D291159B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D1EB-97A3-45DB-8876-C2D2E43E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7662-7FE6-4752-B43D-6DDBFDFA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20B9-E862-43E1-8947-4F15F99B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1179-2785-4844-9DA9-873030C8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83E0-1884-46E7-A508-0E7B494A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E8C5-4B59-4641-9BE8-02D43D7C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094-4BE6-4625-830D-F4582E7E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0952-B13E-4C57-B051-AE85A992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C3B2-3AD7-441D-9161-C5D3520F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22E5-78E3-4413-BAA9-47A031C7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C6C3-A056-4A71-87C5-3279C50C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E79E-97D3-4D40-848C-A32CA6BF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34F-14E9-41CF-B280-F5B3A230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6E9-26BA-495D-A62C-8F6A55DD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DB7-2432-44FB-B25C-C0D622CC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4CB-F7BE-42EE-9D87-E063F8EF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4BD-AEA5-4B7D-9BF3-23263746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A9C-84F3-402F-9757-3BC55EBA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CEB-73DD-4884-AAF6-0C2E7FE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407D-600E-4C31-8B36-861A626584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FEFB-7EE3-431E-BDB7-22F1776497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P. P. Bilhor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92 – VOAVIDY TAMIN-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20000" y="6249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2 – VOAVIDY TAMIN-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vidy tamin-dran'iKr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e) ra sarobidy e, (t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latsaka tany Kalv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nesoran-kel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4844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4340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3440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83368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820000" y="6249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2 – VOAVIDY TAMIN-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sambatra ah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(he sambat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oavonjy re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ndro 'lay ra nalats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aisako fahaso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4340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4340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3440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83368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8820000" y="6249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2 – VOAVIDY TAMIN-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sa 'reo ota 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ra soan'i Krist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(Krist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isotra koa ny entam-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ndra fahafahana 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4340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4844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3440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83368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8820000" y="6249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2 – VOAVIDY TAMIN-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va sy manava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 soan'i Krist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(Krist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lotra ny her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dreseko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4340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4844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4340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83368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820000" y="6249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dy vetivety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danitra iz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(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vonjy noho ny ran'i Kris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izao no h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2 – VOAVIDY TAMIN-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4340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4844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4340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3440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3368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8820000" y="6249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sambatr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 sambatra aho ao, ho sambatra ah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oavonjy re iz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ndro 'lay ra nalats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isako fiadana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2 – VOAVIDY TAMIN-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4340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4844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4340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3440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883368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53:41Z</dcterms:modified>
  <cp:revision>32</cp:revision>
  <dc:subject/>
  <dc:title>Tiona Advantista</dc:title>
</cp:coreProperties>
</file>