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03F6-CEA7-4E62-B15D-AE5FDCC7D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383B-5E50-4212-8133-6AC3B445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596E-EDC1-49EA-97FD-1997B8F03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6BB6-B6FB-4CD4-BB49-11D658261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165E-8EE2-419C-BAFB-19F388782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0649-054F-42D8-8459-EEA8E049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E89B-8006-4620-98A0-2C00D3E4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D0D15-2393-4DBA-AC3E-524F2E33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4B0E-3F6B-408C-A937-B0A79E90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6E28-E12D-4FB9-BB1A-38AF7BCD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29FF-A753-456C-8F90-6CB12F51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A176-2470-4AE6-BF2D-44B3AB01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6A93-8549-427C-B3D1-58A36108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0FBB-2F26-4476-B9D2-6EDECE23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4B48-E6EE-49AE-A59E-6AA7A5C3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550F-355D-43DE-BA40-4998ED19E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3E59-F1FE-428F-8CF9-6B8B5306E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2C74-F1BC-46B1-A87F-17FF11DD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3F47-CFC3-4F8E-A3DC-67E78D01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78DA-F8ED-467F-8FFB-9653C5E0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96DF-6246-4CDC-8D02-7534C303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2C3B-ED83-4C75-B377-86441B48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8A92-BB53-4CA7-AEF8-AB2EA56F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7831-5ED3-47D0-8442-FE506614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17A4-6A3A-48DB-9221-F7853149FD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5ADA-71E7-4AE5-BCDC-8D67D57990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nkohofana sy fider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. Tovoarimin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. Tovoarimino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50 – JESOSY Ô, ANIL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6041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42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50 – JESOSY Ô, ANIL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Jesosy ô, anilanao ny tol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Lavitra ahy, fa Ianao ao am-p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sambatra ny fo sy fanah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Zay onen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misy izay mampanah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anahinao anatiko 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nery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62840" y="6041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642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63920" y="522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50 – JESOSY Ô, ANIL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hira hoe : (Haleloi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Dera sy lasa, hery sy haj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Jesosy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nifidy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ao amin'ny maro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dera, Haleloia, hatr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Jeso ô, h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780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57800" y="642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63920" y="522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50 – JESOSY Ô, ANIL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Jesosy ô ! tazony aho ka tanta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min'ny loza mba afaho sy saka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, tretrika aho, ry Jeso Raha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 hitantana izao diako izao ho tafi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araka aminao hatr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hatreny am-pi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780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62840" y="6041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63920" y="522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08T12:51:51Z</dcterms:modified>
  <cp:revision>30</cp:revision>
  <dc:subject/>
  <dc:title>Tiona Advantista</dc:title>
</cp:coreProperties>
</file>