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B9A-4F53-416C-8CCE-134CAC0B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528-A59B-45D8-9337-3E06460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D53-0155-4132-8539-4FF4955D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1C4-E10B-498B-9DEB-D5FA0C3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AA8B-42A7-479E-B3A4-6F7FA13D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24AC-F5F9-44B9-BD23-DD169C8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367F-4FDB-45D9-9A22-F2428F7A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D63-E449-4F23-969A-5729708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14CD-61E7-46B3-AFDC-71FB79F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858F-B34A-4EC7-AB51-4A19355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369-5BA9-47DF-9E21-A951653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2ED-CE38-448A-8831-77BCE9F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5F5C-AB9D-4E0E-951A-F6CF4B3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6F0E-E65A-40B6-99B5-F3B8786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D71-DB73-4143-B45A-3579F767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B00C-0BFF-4CD8-8440-B2FF7182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FB4A-7B05-4A42-861D-A1725C2B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406-4C3A-41F9-9653-B7B72833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2CA-CD35-439A-8DC4-0E79F927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3F3-DB3D-43BD-9FD4-3EE4E370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A2D-0812-461D-8752-4F7C2FB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1E6-A171-46F9-91B7-9C1B57C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D6E-3BE2-421A-A6E4-AC19034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216-F22E-48E7-8215-82A0C45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052C-A1AE-4D97-9329-F7E73E6936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2A0A-23AF-49F6-A081-4A5BE5BBE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Sab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ndriavoavonj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S. Wes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5 – IZ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5 – IZ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anio iza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masina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tsaro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anendry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sah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amasini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sin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5 – IZ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ankehit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ory et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aka ny f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aon'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'zaha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ny vavaka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Saba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5 – IZAO ANI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triza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n-tran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Samba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tav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ho fanaj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ndrik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f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bata to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57:03Z</dcterms:modified>
  <cp:revision>43</cp:revision>
  <dc:subject/>
  <dc:title>Tiona Advantista</dc:title>
</cp:coreProperties>
</file>