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049-5934-451A-9A6F-47ED1617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C07-C73D-4277-B8CC-362A0CE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7B9-8883-426E-B9E9-20F9D725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1B6-493E-4AAD-AFCC-46D68C6B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C62E-671E-4323-95FD-10968E41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F37F-2FA9-4D41-9189-4B6E90DA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A54C-1300-4FB4-BFCA-291DED87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502E-9505-4142-BCBE-DA90589C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F600-7D56-41EB-B3E5-C6CE69FE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B02C-47B1-4CE2-90ED-69A256DD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3232-D3D8-40F5-B144-6082586E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FE8-6C30-4304-867B-94C6188C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96EF-C746-4D2B-A6DF-5D0886E5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7CE9-CF03-42FC-AC06-B6EC6A19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E47D-B43E-4C27-BC4E-6F27CDC9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8AD8-68BF-4E40-86CF-B19A02D2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16EA-4307-4243-8B68-24D933FF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810-92DC-4D8B-AACC-C335F729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8C3-FE70-4078-A70E-7CF86B51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A52-8D42-42DF-9697-FF42EDF0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A1C-391E-4BE8-9122-495FDFAE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83E-FC34-4641-B41D-B792DE4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3A5-8845-45B6-B1F6-499079A5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729-3E3C-4C72-96F7-04B8C7B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804D-B8D4-4581-A403-FFDD4B1C9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4F31-75D7-4CC1-BD65-89BB830D22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o amin'ny fia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E. Cousin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P. Holbroo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74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8 – JEHOVAH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8 – JEHOVAH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sy hatsa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i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ny nam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ia ny te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ampahaz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o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8 – JEHOVAH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vay ny fomb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oin'ny tan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mpi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o 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mba hian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o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8 – JEHOVAH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nak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ho z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ho mar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ho ta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o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8 – JEHOVAH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pitondr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ho ti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sai-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o ny sitr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mpanompo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no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8:40:11Z</dcterms:modified>
  <cp:revision>81</cp:revision>
  <dc:subject/>
  <dc:title>Tiona Advantista</dc:title>
</cp:coreProperties>
</file>