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9C6-85B3-422C-A880-D1FFCD21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0BE-F91B-40E2-98B1-919C0C2B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595-2297-470F-8C64-5D8996A2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F03-B73B-4005-B9AD-ADB3D87F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D951-0795-4009-8BBF-B1BFBA79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7C4C-A0F2-4EF8-B6A9-734974E5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4527-3D41-4BE0-9E34-FD0697DC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979F-74AE-475B-8328-58C0BC8E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50FB-DCDA-4867-AAD8-1C3C96D7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719-866B-46FE-AC19-BA0194DD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D5B6-B8B9-4099-82BF-487755A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11C-D2AF-4C0F-8D2E-54E378DD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1697-340E-43D6-AF9C-6891A0C6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6644-972D-4BD3-9A46-BF70D3D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0946-E9F3-40C6-9896-2B0ACA8F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4634-3F4A-4604-8E60-B2C76515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B352-9C76-4018-8DE3-E232E4EA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068-5477-4B09-A12E-2315F6F7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5C0-1E9D-433D-BDAB-9E37118F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58E-8AB8-4E99-B82A-171EE63A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14A-199E-4A74-9578-C2F52E55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185-1519-4E69-8926-F3103DF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82D-7079-448E-8302-2C9C4A7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54C-4E8A-41E9-AE65-4C029D1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52A8-C314-4B96-94EB-B9CF1F08A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C8BB-AEF4-43C4-8018-A8D3C3388C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enadimb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enadimb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1 – INDRO NY FAHARETAN’NY OLO-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TA201 – INDRO NY FAHARETAN’NY OLO-MAS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faharetan'ny olo-masin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izay mitandrina ny didi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inoana an'i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ena, Amena, Amena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9:01:38Z</dcterms:modified>
  <cp:revision>42</cp:revision>
  <dc:subject/>
  <dc:title>Tiona Advantista</dc:title>
</cp:coreProperties>
</file>