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8D7-1334-4E20-91D1-A42EA6DB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904-0A1B-47C8-BA2F-FE56674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251-B353-4956-ABA4-10C279CA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359-C1DF-4012-A368-BFAA6CFF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2CA8-D800-4268-9B36-951B1970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A28F-8191-4E09-9E2C-A576EDA0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4F2D-0338-406A-B6C1-3B7882EC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65FA-7637-4211-8C6F-21EBC2D6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7856-6599-4977-AC23-5AB622E8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F939-729A-46CE-A422-FC3D7915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2BEF-EFDC-41EC-964B-9641AE0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A64-7063-47E9-B60D-E698259C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F01B-379B-4B4C-B6BA-7C329D91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4799-978D-48FD-951C-90741E1A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388E-6D2B-4004-B284-95E872A4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7E7A-A871-4EDC-9C32-25F5E11A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B732-D2DE-4132-A9D1-AB761883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F79-07BA-410D-8199-06EB3A5D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09C-1C8F-4D80-A230-A92A14A5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18D-7C16-45C4-B8F9-D1D46716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5E0-023D-4BA5-8607-C75EE434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4CE-E831-4B25-903E-436B166D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631-7FD5-4CA5-BFE5-B45EF91A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34D-A1FE-4E54-A6D8-4ED83DF1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3EA-F083-40A8-92C4-72C105C81C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38E-646E-4838-9B8A-2F4735B2A5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barij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6 – RY RAINAY Ô, MON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6 – RY RAINAY Ô, MO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inao ô, mon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y anat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trakao ek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sitrak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nay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mba rats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hito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iana avokoa. (avoko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63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6 – RY RAINAY Ô, MO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omotr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aona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ry mas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oa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izim-be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azav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a hatrary. (hatrar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46 – RY RAINAY Ô, MO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rin'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ka hanava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faka ahi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faly ny f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afara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ny fonao,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zanaka mam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o mandrakizay. (ho dori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2:41:44Z</dcterms:modified>
  <cp:revision>45</cp:revision>
  <dc:subject/>
  <dc:title>Tiona Advantista</dc:title>
</cp:coreProperties>
</file>