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2E7B-5BC7-4F74-A151-F02607769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84D4-150D-42FD-9CD0-7E7496EC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D58F-F26E-4A49-A4A0-CDEEB7947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794A-AAA5-4A78-91DE-0AD1F9BCC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451D-9C7E-4581-A946-E995C653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73EB-8415-41D2-BB40-75BEFC51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0157-4AEA-41F6-B8B8-6E6388A9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D088-9D1A-415D-B209-07ED0027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727A-0D4C-488F-845C-DD98D576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F9C9-DF50-4E54-B424-5AA5E43D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83EF-AC5C-42B4-93B5-09A5C454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65E7-C862-44E8-B2A8-383A2405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A620-6EEE-485B-B9B5-0F5C0780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6BB1-A395-49B0-81BB-4503AAB5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C898-D962-4343-B894-FD1C76D3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A3B6-FB28-4DFA-A066-F07ED8727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6C7B-9A6C-4A50-9603-92B2D08D1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4168-EE41-47EE-973E-EE1A390F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91C2-66E5-40B7-9CE2-CF331C05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82F9-17C8-4490-9749-F590E3A3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3D64-4EDB-477D-AA84-711D42FD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3669-477F-4137-8906-C13BA072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DAE1-8178-4197-A5B2-D9A6148F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603D-8363-402C-94CB-0CC01215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B174-A988-4CD5-8CC3-0BAB2B7771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7A69-31B8-4211-A717-8D13A701D6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TENYN'ANDRIAMANA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. Ramanantsialoni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Borthiansk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87 – JESO NY FITI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300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5681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062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443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A187 – JESO NY FITIAVANA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ny fitiav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ondra ao am-poko 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navaozana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fitahiana maha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kinay ny didi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otray ny ten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5681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6062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443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384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A187 – JESO NY FITIAV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nompoanay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jary fifali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zioga koa ny didi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tondra fitahi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o, sy hery, tanjak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arovana ho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300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6062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443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384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A187 – JESO NY FITIAV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sapana, raha tong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a ao Satana mizahozah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ny fanavotan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didinao no fiarov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esy koa ny halem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ry vaovao atafy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300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57720" y="5681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443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384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Arial"/>
              </a:rPr>
              <a:t>TA187 – JESO NY FITIAV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Fanahy Mas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pahatsiaro anay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efa zanakao '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mpanompo tsara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andova famonjen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Kanana sy Ede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300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57720" y="5681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6062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384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8:22:23Z</dcterms:modified>
  <cp:revision>40</cp:revision>
  <dc:subject/>
  <dc:title>Tiona Advantista</dc:title>
</cp:coreProperties>
</file>