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A6A1-E8CD-4065-8671-2BC2435DA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6AA6-5E13-44D6-94AF-7BDEFBE2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A5B6-AEF7-4370-BCBB-E93E2A19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55C7-C8FC-4028-B9A9-05FB34D77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ECFE-6C43-4B9F-A61F-FB7699BEC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3C9F-1F80-4FB2-934D-2646EB86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2F61-62FC-48EA-86FB-F0DDBFBC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AF38-9369-4F92-8D49-AACE2126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6A6B-D3FD-4F38-ACEC-049B397D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8CB4-424A-40BC-8420-F8A20C4C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9104-0F6A-44D2-9D65-2ADAA2D4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21F9-EFCA-4988-BE65-7F4A36F6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7D08-FE7A-4138-BC2D-42627AAD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3A18-D45E-46E7-A4FA-9C247912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C4B4-74C6-4DD9-B436-0950DB14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C8EB-A2CC-46C3-A0CD-4FC786F4F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A9D9-4CFD-4CF1-8FEE-954232407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1D9D-6824-49DD-91A8-7FE49230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2CB3-2747-457E-B92A-9BBDEF14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B239-49A7-49D1-A86B-601A7CF3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2652-702E-45BB-9C68-B91ECE04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F08F-E6DE-4DA5-B219-BC42AAD5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1DE8-4EB2-4178-AA23-1B0B5CD9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2463-41F1-48F0-82A4-BA4FBE90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86CE-76CF-4044-993D-EC497A9759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FB61-2F37-49FC-AFFE-2E80834FF7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faliana sy Fahatok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24 – NY FIAINAN’NY LANITRA AMB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24 – NY FIAINAN’NY LANITRA AMBO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ainan'ny lanitra amb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andramako sahady et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fiainana kanto sy to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sambarana fatratra e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Jesosy no ato am-pok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zaho no tempolin'ny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adanana tsy hosoloik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sambarana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24 – NY FIAINAN’NY LANITRA AMBO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jao ny foko fa mamolivo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 hidera aho satria nand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ntema hirain'ny tempol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falia any an-danitra 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sorana ataony any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'Ilay Zanak'ondrin'ny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manainga ny saiko hifoh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kalaza azy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424 – NY FIAINAN’NY LANITRA AMBO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erobima mihira ao amb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zaho mihira eto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, tsy hitsahatra ints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asandratro ho Anao, ry Tsitoh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eo anjelin'ny lanitra a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ahafiko eto ind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nahiko faly sy rav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sambarana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08:09:02Z</dcterms:modified>
  <cp:revision>70</cp:revision>
  <dc:subject/>
  <dc:title>Tiona Advantista</dc:title>
</cp:coreProperties>
</file>