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3C9-E8AE-43D9-8540-A7AAC714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3D3-626C-44D7-B336-88ED95D3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197-3D49-490F-877A-8B9C363A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C88-85D8-42E8-9B4A-AAA19245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A3C5-5846-483D-B99A-2C257916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D820-4E51-4D7E-9F75-A5DD9DDF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03C8-C076-4EE2-B544-E1B6AB7D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D0EC-9E11-401C-BF75-3E84E5A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E396-6B52-4840-B9AD-06AB2942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EAB-072A-4966-B9B7-483C1AB2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CFCA-46E0-4205-82D5-24DD6513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1CE-A7C0-4129-9CFD-9BDF8A88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42F3-DE64-43A7-88C4-122C761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1586-5DD5-4E85-8826-29B32E4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7EA-AE88-4ECE-B124-4418E7E6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F829-2B90-4595-A64A-13C1F565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E657-86E1-42C9-8590-8195EA3C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74A-F3BE-4C82-9237-ABD7516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4DE-E007-4511-A9B4-2F708945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77B-4369-40BD-9087-D3259843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455-1588-4875-B498-79DDB7A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98F-02CA-4AF9-8C50-A806AD0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1D2-A2F6-4653-B12A-7E9818D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1CB-2734-4639-98AB-25BDF07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5A45-3116-41F3-B2C9-A647E7B056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74CB-5E5B-49B3-B1C9-8F8F5EA7B7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boavonjiarinai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ndriamboavonjiarina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6 – MOA VE MBA TAZ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85000" y="4738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56944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56944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521560" y="588168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532720" y="632304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6 – MOA VE MBA TAZAN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e mba tazanao il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lay Jerosal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oa ve mba tazana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'Lay tany vaov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tronin'ny anjely maro b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mpientana izany 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mahita anao, ry Jerosalem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nika voninah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hazavan-dehibe !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56944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56944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521560" y="588168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8532720" y="632304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6529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6 – MOA VE MBA TAZAN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y olombelona 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bebaha 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io ny ot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reo ny Tompo 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azàno 'Lay tanàna lehib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mpientana izany 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mahita anao, ry Jerosalem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nika voninah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ry hazavan-dehibe !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685000" y="4738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56944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8521560" y="588168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8532720" y="632304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529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6 – MOA VE MBA TAZAN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y ô ! Heno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enoy ny ota ao am-poko an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Sentosento) Sentosento akari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eo an-tongotr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azony mafy 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reto zanakao (Tsy ho v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ivily, tsy h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ho mpanomponao.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685000" y="4738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856944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8521560" y="588168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8532720" y="632304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6529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6 – MOA VE MBA TAZAN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rinay koa Ray ô ! Ny fitiav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Mamindrà fo) Mamindrà fo amin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Diovy izah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o isan'ny voafid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drakizay (Ka hanom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mpanompo mahatok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ia Anao tokoa.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85000" y="4738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6944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56944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532720" y="632304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529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Ô ! Mandrosoa ry voavonj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fao ny maso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gadranao tapah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Jereo ny Tompona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Izy no Mpanj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drakizay, Mandrakiz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ndrakizay, Amen, Amen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6 – MOA VE MBA TAZANAO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85000" y="4738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6944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56944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21560" y="588168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6529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8:16:49Z</dcterms:modified>
  <cp:revision>80</cp:revision>
  <dc:subject/>
  <dc:title>Tiona Advantista</dc:title>
</cp:coreProperties>
</file>