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556-1882-411F-BA8A-4D287658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533-5C31-48FC-8241-C0A6CC35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DF5-448E-4678-BBD3-DD0D9C57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ED2-44FF-43D1-B86E-CC045661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1B0D-76A4-417F-BBAB-11E86A7E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28BB-D087-4657-8872-637C093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261D-8651-4BB4-9795-478B6836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B7E-F2E5-46B7-BDC5-EF2CA8D7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E280-1003-448C-A0B1-7EDC82E2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4F79-C00A-4C23-9169-40374558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B174-9287-4953-BCD6-4375154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A9D-2354-4A1D-93C1-F88B2086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A1A1-E6DA-4997-8D1A-CE2167E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00DD-3E52-4F5A-9D2A-98925C0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6680-1725-4BEA-8421-5D80A218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36AA-4D11-4ADA-B4C9-D1B1A530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EC76-16D4-4F78-8CAF-D2C44962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449-AB4D-4CB8-A541-D7C20F01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33C-1371-4157-BA85-130B5017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5F4-5413-4963-A106-73B88A89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062-A766-409C-BF78-690984E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610-6EAB-4B7D-939F-02E61B4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34F-C1C0-4721-850E-E6BB78EA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360-6FE7-4CFA-9496-BFB92F4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46A5-78F7-4BCD-80C7-867FFD014D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1EC-CA06-43E4-8945-9DBDCBD1C2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Work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6 – HE AMPY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9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9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9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6 – HE AMPY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mpy ahy 'zao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my indrindra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y tokoa ka tokin'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tr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nania ity ond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, ry Mpiandry, nokatsahi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lehibe, tsy takatr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saor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9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49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5592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6 – HE AMPY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mpy tokoa ny famindra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iko lazaina 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asaronao sy nave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izay ela 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ahasoavana be di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nao, ry Mpiandry, hatahotra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tokoa ny famindra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saor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49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49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5592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16 – HE AMPY AH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 ampy, ry Ray,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 ao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vokatra be, mahasambatr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et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ny fetra dia tsy mba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, ry Mpiandry, ho tong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dy indray am-bala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otra Anao.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49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49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5592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8:08:42Z</dcterms:modified>
  <cp:revision>35</cp:revision>
  <dc:subject/>
  <dc:title>Tiona Advantista</dc:title>
</cp:coreProperties>
</file>