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0E9-8F6E-4CE3-915D-92E9FEDA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101-BD35-4931-910A-E8907FD8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D7D-9AA4-4FB1-B08D-731C1A9E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959-2122-4F28-8C0D-6339B036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8F73-21CA-4A7A-AEBB-96F167D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CB26-4879-48DB-9D1C-9C2C0978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367F-FD9F-4A0B-AC0E-7D727EC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2FB2-DADE-409A-A9A4-55FDA7D4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264B-7DAC-4C44-8283-57A9F877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BF88-C131-4766-97B9-AF8908A2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7C03-3FE5-4F34-9ED8-29D59937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E1D-902E-4394-92E2-BC0050F3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DAD4-C6EB-4550-B704-24280B4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EBFC-DE67-45C8-B26B-FBFFC5DA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DBE4-9AF7-4B1D-B2BE-117EA630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EB4-DF19-422F-BD3F-45D4DAB3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77DE-DF5F-47B7-8C4A-E65392E5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F1D-83FF-42EF-9301-5087185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60B-A9B3-476F-ADFE-0BE3CB85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074-AA55-4684-BE9F-A984B157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473-4EC2-409D-837C-4CE241A6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C45-38A7-4FA2-85E0-B89A4162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43F-DDFE-4FA4-A512-36A380F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857-5575-4D13-8023-C8CF8EC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BF48-ACE9-4FA4-8676-C45E9FFAB0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E6BC-7D0B-4D3F-852F-4FF5454997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ndrira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ndrira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6 – DERA, LAZ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87960" y="55897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645400" y="597060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88320" y="63514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6 – DERA, LAZA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Dera, laza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Tsitoh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y koa, haj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tolotray Anao.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rais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re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ja ent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45400" y="597060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788320" y="63514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saorana Anao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, raiso re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ja ent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saora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bia, mif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iobia, mifal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mihi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bia, mif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iobia, mifalia)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87960" y="55897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88320" y="63514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 ho an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bia, mif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 ho an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bia, mif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bia, mif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mihi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bia, mif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 ho an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87960" y="55897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45400" y="597060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2:40:03Z</dcterms:modified>
  <cp:revision>28</cp:revision>
  <dc:subject/>
  <dc:title>Tiona Advantista</dc:title>
</cp:coreProperties>
</file>