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FE0-E4CF-41CD-ABB9-B8C52DE6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165-C588-4356-8F97-1A720586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746-6B8C-4DFC-A596-EAD1AA94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CE6-3427-4A85-BB6A-ED74D0DA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B0A3-1D86-4753-93BB-CC4885B2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4ED0-7C73-456E-A2D5-FCBBE170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7706-5C7D-4FEB-84CD-52635D91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0D93-5047-4ACB-91F0-E3B111AF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1D82-D4E1-4194-A3C6-D69CC0D7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8F99-269E-4E5C-8A40-D8017787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4F61-E1FD-4EB1-824C-DA0E77A1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52C-755A-4DC6-9CAF-79292828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B4CF-987E-4FD3-9F44-6A2C4EB1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6E23-D1CC-46CD-A6FC-F22D68CD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5580-B7CC-4F0A-91AD-C6A86A6E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0764-D923-46D7-A54E-117A8EF7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D166-8FEF-4E00-A4B2-5780C855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74C-2D08-4F12-8098-CFB884DE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572-46E2-4144-8604-218612D2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B78-2E09-456C-AA2A-9D4F01C7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3237-69B6-4A5D-B160-CB0E9760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7A6-9DBC-4BD3-918A-8EFAB5FD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785-6DE5-4061-9ED5-1CFF3FE7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003-0658-4DFB-AAEF-B5077BE8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CF8A-802E-45EE-B454-3349375624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3F32-04D7-4F55-85AD-4D41D00A2A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Bati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68 – EKEK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66360" y="55720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8 – EKEK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ko anio fa tsy mendrik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ota vit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pako izao fa Jesos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y noho ny hel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66360" y="55720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8 – EKEK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re, Tompo ô 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Ny tenako atolotr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sasaonao ary anj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nenan'ny Fanahi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ovy re, Jeso ô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Ny foko koa atolotr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ranao 'zay manav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Ô ! Mba vonoy ny ota manjaka ao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8766360" y="55720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5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6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8 – EKEK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keko anio fa tsy mendrika ah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ota vitak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y re Jeso ny ota vitak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y fa ifonak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3" action="ppaction://hlinksldjump"/>
              </a:rPr>
              <a:t>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 inty ny foko ho Ana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ka anjakao. Amen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8 – EKEK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y re, Jeso, ny ota vi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y fa ifo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batisa izay ekek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fanoloran-te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66360" y="55720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8 – EKEK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marL="51120" indent="-5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120" indent="-5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batisa no aneke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120" indent="-5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ty Jeso hanad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120" indent="-5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onjiko, raiso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120" indent="-5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ko ka di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5772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76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66360" y="557208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4:13:47Z</dcterms:modified>
  <cp:revision>50</cp:revision>
  <dc:subject/>
  <dc:title>Tiona Advantista</dc:title>
</cp:coreProperties>
</file>