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9595-27DA-48BA-9E05-C00433853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9331-C452-427D-A8D4-2CA2F357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ED4B-2853-472A-A7E9-048D21A4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A2DA-6A19-4097-9C92-A26E79D88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8A42-1B01-4575-B065-31ABA1BA5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1835-6D32-40A9-A380-185A6328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0C46-27CA-4FB4-8367-418FEE06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31B4-A919-4D29-B61B-45F6EFEE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06D6-A82D-4C3F-A682-A9EBC284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A6A3-2B0B-45E2-94E1-6C00875F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7246-ECA1-4B4B-8E67-2478B08D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6707-1904-4EE9-865F-09EE2085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72E6-6D5C-49FA-8FA7-04DEC1F6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804D-C413-4FAC-941B-5359D005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3FBA-E782-49FF-816E-954FA231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9EFA-74BE-464D-ABDF-77908A95E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11EF-D528-468D-B2CC-EA227074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AC27-03A6-470B-BD15-1718A6D1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346E-7E8E-4A60-A8E6-3C198A4D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7111-76C8-4DDB-9A8B-E1FF97BE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1024-84D0-44CE-B31C-C041AE7C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C3A7-2636-446F-A83F-728CDA2E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1D96-A18D-4E21-84DB-EF1970A2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FFC9-5A79-4BF4-9D40-81914CD7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3286-297D-4F17-82E0-C732E62C5E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4D99-4FFA-4209-AD18-2E0BCAF078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era Arson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Dera Ars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30 – HAMAKIVAKY HABAKAB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75720" y="5560920"/>
            <a:ext cx="3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658720" y="594216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639640" y="6323040"/>
            <a:ext cx="3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30 – HAMAKIVAKY HABAKABA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Corbel"/>
                <a:ea typeface="Arial"/>
              </a:rPr>
              <a:t>:,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akivaky habakaba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raka aminao, ry Jeso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antenako iz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ifikirako mafy Ireo teny fikasanao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Corbel"/>
                <a:ea typeface="Arial"/>
              </a:rPr>
              <a:t>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658720" y="594216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8639640" y="6323040"/>
            <a:ext cx="3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4980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30 – HAMAKIVAKY HABAKABA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ara di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y miaraka amina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akivaky lanitra tsy manam-petra 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isy fiara nataon-tanan'olombel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75720" y="5560920"/>
            <a:ext cx="3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639640" y="6323040"/>
            <a:ext cx="3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4980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30 – HAMAKIVAKY HABAKABA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ccff"/>
                </a:solidFill>
                <a:latin typeface="Corbel"/>
                <a:ea typeface="Arial"/>
              </a:rPr>
              <a:t>:,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y herinao, ry Tompo, no hiantehera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rimorimo 'lay fiara a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akivaky habakaba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tety kintana tsy hita isa ho an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y Amin'ny fonenen'ny Mpamonjik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akivaky habakaba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akivaky habakabaka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ccff"/>
                </a:solidFill>
                <a:latin typeface="Tahoma"/>
                <a:ea typeface="Arial"/>
              </a:rPr>
              <a:t>:,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75720" y="5560920"/>
            <a:ext cx="3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v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658720" y="594216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4980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2T14:23:50Z</dcterms:modified>
  <cp:revision>78</cp:revision>
  <dc:subject/>
  <dc:title>Tiona Advantista</dc:title>
</cp:coreProperties>
</file>