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62A-3D48-4CF7-AB88-F6594EE9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09C-F87B-4586-AD34-4AAAA6D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8A7-E475-42E5-A5AE-7202855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C22-654D-47FD-BB1D-E1410D06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443-821E-460D-9BC6-2446C71A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595-568E-4653-9DF6-D3F2E9D1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5D6-8C12-47C9-9D92-FA6FE11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A35-9BC6-4E64-A8D9-F724A46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9296-91BF-4F49-9774-0B302B4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2A7D-EA1D-4330-8BE4-7DBC315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324-5C6D-4CA6-A61F-FBA1CDE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FA8-BE07-437F-8226-C5A7B6F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EEF4-7142-4CB9-BA06-2108927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E218-A362-477B-92CF-B9EE6A4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81A-0DEF-4F21-A4D9-B607F67B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9845-6BAD-4005-999B-9EA336A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B41-93DA-4A62-BF5A-977E2DCE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FED-F00C-49EA-8758-FC55E1A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030-7A0A-44CD-A06F-AB4BDA2E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3EE-4550-4E8B-AD81-B57FC4D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9B6-B749-4DF1-9887-2BCB920D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DF7-F88B-48A6-8C8A-27A19A3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B7C-9400-4FD2-8E7F-5A9F193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EF4-B5D9-4FAC-92A1-ADB089B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ABF-BB9B-423A-87BB-5B52E0383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FC0D-AA46-4F54-9BC9-A8C585C8CB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Sank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7 – IRIKO MBA H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7 – IRIKO MBA HAMB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mba h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vente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ny tantaran'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vo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sy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v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iky mba hiz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tsa sy hen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7 – IRIKO MBA HAMB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iako ho laz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v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de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7 – IRIKO MBA HAMB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oriana tsy hita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ozakainy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meno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mar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poka ary 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mavoana 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aon'ny Ray ni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y av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97 – IRIKO MBA HAMB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raiso ho fani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zav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voasatro-tsi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me aim-b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efa nandr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ny rany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o nis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vahany av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12:34Z</dcterms:modified>
  <cp:revision>31</cp:revision>
  <dc:subject/>
  <dc:title>Tiona Advantista</dc:title>
</cp:coreProperties>
</file>