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AA36-A36E-428F-B690-0E9D2D63A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8478-C3DD-43CA-92E7-02557673D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C461-ED98-43EA-86B0-B58AC1AFD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E23F-6061-483F-BFB7-7C54189AD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CB563-4ADC-455A-84AF-528E98F53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B4298-A8A2-47AC-AD4A-BA7189BC9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BB2C1-50F2-440C-982E-4A423D1B2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C6D60-F9C5-420B-B80E-05272E825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537FD-1A58-4D21-8EDF-F50C349B2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DF761-4C64-4E63-9B17-775BD900F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A22F3-A0BE-46F3-9E71-2DDA1A8C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0E5C-5031-4AAA-B673-D1D82E154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48131-DF44-4238-9F37-E50AB250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27EDF-BF85-4B22-A044-A35DFF897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4D1AB-5A1E-469F-B4AA-6D67874FC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6102A-F2DE-4836-83BB-CF5AC5414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90950-54B0-4B7B-997D-CB1B60F03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BF9D-8074-4A43-8865-0DE562AA2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00BF-6908-4ADE-821C-C2C84DAA6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1395-F6C3-479E-A787-D2CEC6340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48D8-9AB0-4DE2-A6D1-15F112D34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A47C-CE24-4001-9F4D-64173B344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79EA-EDC8-4752-8951-9E53191D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1AA7-AA25-4F3B-8D91-81DA8838F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CBFC5-5B04-4615-A24A-1085507337B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6FF8E-0B68-4856-920B-990D92072A7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ANGO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anasan'ny Tomp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ohanes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ohanes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FFPM254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276 – AVIA, RY MANGETAHETA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72120" y="5661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72120" y="6041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72120" y="6423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76 – AVIA, RY MANGETAHETA Ô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via, ry mangetaheta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aza dia mba mamoy f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indro misy rano velo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y omena mba hamelo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ao mahantra sy vari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zanak'ondry very lal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772120" y="6041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72120" y="6423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762400" y="5229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76 – AVIA, RY MANGETAHETA Ô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mofon'aina no atolo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ao manaiky mba ho olony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enany no ho fihin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ahazoana fiainana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nefa tsy mba novidiana ani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tena fanomezan-dehib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772120" y="5661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772120" y="6423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762400" y="5229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TA276 – AVIA, RY MANGETAHETA Ô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sy Tompo no nanolo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rany masina ho avotra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ny raiso mba ho tanja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toky ho anao, ry reraka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mpivahiny sasatra ao am-p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via re, ka manaràna fo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772120" y="5661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772120" y="6041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762400" y="5229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5T04:48:01Z</dcterms:modified>
  <cp:revision>50</cp:revision>
  <dc:subject/>
  <dc:title>Tiona Advantista</dc:title>
</cp:coreProperties>
</file>