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31B-C520-4E35-BB94-13C03C2C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402-5673-4F43-BB9D-BA0E4FF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F4D-EFE8-458C-BE7E-366DB109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9EB-7421-4B6D-9406-A723FBC2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4B6D-D9DF-40D2-89FA-45FE2497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026-9EC2-49BD-8018-1DCAD5C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FFCA-1EEC-464A-813C-926A83C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DCFB-008B-4E0C-B332-9318201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E01D-93D5-4DA6-940F-6BF3F3D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DD0-98DC-4983-BD01-269CFA7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D5B-8BE0-4DDB-8DCD-6DB64EE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FDB-B447-45EE-AB7E-61D26C90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4137-5D22-4350-A531-C721316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0B37-B0BD-47AB-B15C-BA9CD33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DCCA-E34F-4D49-ACDC-623CA6D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0F97-2D3F-4676-B0AD-15FDAED7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1E8-40D1-4A21-A94A-FAEFF67E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2AF-13F0-45B5-8B53-D4B3608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CEF-7F27-414D-BF67-6BAC427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A65-7322-4DE9-ABC4-592BD2A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8E9-E262-4907-A04C-D69932D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195-5C14-46B1-AD74-5C57C20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450-1F33-4480-A7AE-5CB1465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9C0-6B26-4118-8484-46E386D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DDF-E128-43B8-AB6A-AEDE9A35A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DED7-C525-4C40-8FC4-53F0566EC6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8 – ANDRO MARO E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8 – ANDRO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o maro efa las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iza izao '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ariana mika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'isy vit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8 – ANDRO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lala atafi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hery sy h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omenao ain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8 – ANDRO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oviana Ilay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o tonga indr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haizina his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y feh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8 – ANDRO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ndalo, he ! Mim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fiain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andresy fahav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omb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ona maro efa l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h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ntaran'it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o tap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8 – ANDRO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2:41:25Z</dcterms:modified>
  <cp:revision>88</cp:revision>
  <dc:subject/>
  <dc:title>Tiona Advantista</dc:title>
</cp:coreProperties>
</file>