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C020-4968-4F90-A9E4-0A73553F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617-CECB-49A6-9612-C79D4F5A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3456-4105-48A8-ADCA-5E2961DB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CB2-2961-4665-A2A9-A3773F6A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67B-736C-4B13-A0E0-8253F927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C74F-1833-4A4B-80B4-B1007D08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98A7-39EB-45C4-AB2A-8BFDB0A0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4FBC-73E1-47AA-8F73-5C310F6B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507-03CC-4B4C-848F-6E51D3F7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84E-3C1E-4851-8EAF-8F748463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5FF-349D-4990-85F6-38F0D1E1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40BB-19DB-4134-9193-6B9D7FB2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4D7D-64BE-4526-A143-9AC92FE62DE4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em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SALAMO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e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Jeanne Ratsi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Jessie Seymour Irvine - Mamy J. Ratsiriso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TA010 – JEHOVAH NO MPIANDRY AH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7">
            <a:hlinkClick r:id="rId1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8">
            <a:hlinkClick r:id="rId2" action="ppaction://hlinksldjump"/>
          </p:cNvPr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9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10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Text Box 17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17">
            <a:hlinkClick r:id="rId6" action="ppaction://hlinksldjump"/>
          </p:cNvPr>
          <p:cNvSpPr/>
          <p:nvPr/>
        </p:nvSpPr>
        <p:spPr>
          <a:xfrm>
            <a:off x="8271000" y="65818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OLF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0 – JEHOVAH NO MPIANDRY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8">
            <a:hlinkClick r:id="" action="ppaction://hlinkshowjump?jump=firstslide"/>
          </p:cNvPr>
          <p:cNvSpPr/>
          <p:nvPr/>
        </p:nvSpPr>
        <p:spPr>
          <a:xfrm>
            <a:off x="8863920" y="6581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0" y="8431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0 – JEHOVAH NO MPIANDRY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hovah no mpiandry ahy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piahy ny fanah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isy atahorak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izy arok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8">
            <a:hlinkClick r:id="rId1" action="ppaction://hlinksldjump"/>
          </p:cNvPr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9">
            <a:hlinkClick r:id="rId2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10">
            <a:hlinkClick r:id="rId3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17">
            <a:hlinkClick r:id="rId4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43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0 – JEHOVAH NO MPIANDRY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hovah no Mpitarika ah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ady mpitondra ah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oron-dranon'aina re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ala sasatra 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7">
            <a:hlinkClick r:id="rId1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9">
            <a:hlinkClick r:id="rId2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10">
            <a:hlinkClick r:id="rId3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17">
            <a:hlinkClick r:id="rId4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43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0 – JEHOVAH NO MPIANDRY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hovah no Mpitantana ah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isy mampanah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dia mamaky ny alo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ahafatesana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7">
            <a:hlinkClick r:id="rId1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8">
            <a:hlinkClick r:id="rId2" action="ppaction://hlinksldjump"/>
          </p:cNvPr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10">
            <a:hlinkClick r:id="rId3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17">
            <a:hlinkClick r:id="rId4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43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0 – JEHOVAH NO MPIANDRY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hovah no Mpiaro ah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melatra ho ah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Latabatra eo imason'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ahavalok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7">
            <a:hlinkClick r:id="rId1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8">
            <a:hlinkClick r:id="rId2" action="ppaction://hlinksldjump"/>
          </p:cNvPr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9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17">
            <a:hlinkClick r:id="rId4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43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hovah no Mpanjakak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ady be indraf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toetra an-kianjanao dor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faniriako et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0 – JEHOVAH NO MPIANDRY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7">
            <a:hlinkClick r:id="rId1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8">
            <a:hlinkClick r:id="rId2" action="ppaction://hlinksldjump"/>
          </p:cNvPr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9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10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43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0 – JEHOVAH NO MPIANDRY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21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28">
            <a:hlinkClick r:id="" action="ppaction://hlinkshowjump?jump=firstslide"/>
          </p:cNvPr>
          <p:cNvSpPr/>
          <p:nvPr/>
        </p:nvSpPr>
        <p:spPr>
          <a:xfrm>
            <a:off x="8863920" y="6581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28">
            <a:hlinkClick r:id="rId3" action="ppaction://hlinksldjump"/>
          </p:cNvPr>
          <p:cNvSpPr/>
          <p:nvPr/>
        </p:nvSpPr>
        <p:spPr>
          <a:xfrm>
            <a:off x="0" y="8431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0 – JEHOVAH NO MPIANDRY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28">
            <a:hlinkClick r:id="" action="ppaction://hlinkshowjump?jump=firstslide"/>
          </p:cNvPr>
          <p:cNvSpPr/>
          <p:nvPr/>
        </p:nvSpPr>
        <p:spPr>
          <a:xfrm>
            <a:off x="8863920" y="6581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0" y="8431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10 – JEHOVAH NO MPIANDRY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28">
            <a:hlinkClick r:id="" action="ppaction://hlinkshowjump?jump=firstslide"/>
          </p:cNvPr>
          <p:cNvSpPr/>
          <p:nvPr/>
        </p:nvSpPr>
        <p:spPr>
          <a:xfrm>
            <a:off x="8863920" y="6581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28"/>
          <p:cNvSpPr/>
          <p:nvPr/>
        </p:nvSpPr>
        <p:spPr>
          <a:xfrm>
            <a:off x="0" y="8431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5-05-04T10:03:42Z</dcterms:modified>
  <cp:revision>33</cp:revision>
  <dc:subject/>
  <dc:title>Tiona Advantista</dc:title>
</cp:coreProperties>
</file>