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ED6-BE6A-47A3-A7EA-695C291D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826-0AA4-4A49-B8F0-3E2E0440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815-3825-4A0A-9FED-16889E81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5C2-C442-4965-8013-9DC7ED33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3AB4-924E-45E7-B829-7A464818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ABB1-2B2F-4987-B732-D7FCA9AF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ADD0-C52F-49F3-8914-1EA1CF0D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3A1D-BA55-4BF1-81A2-16A9083B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27EC-FB4D-4061-B014-4A6300C3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B978-2533-4BCF-BEBF-423784AF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07A1-37CA-4958-8ECF-74ABA983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49CD-6A75-4DBA-AA31-A12744DF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0F3A-D48D-41BA-9812-D4927939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C66E-EC40-4376-9675-DC2EAF63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38D7-3175-47F8-BE62-1943065E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298F-74D3-408C-B82C-ECB5D819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D428-254F-4CF3-A36C-A0059F85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210-65E8-42DF-A4F5-207E1ABF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908-F500-40EE-AC30-A635A1DC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BFC-FA37-4A15-8256-CD1292D1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A2B-314F-4A0C-97F4-2C0CA7DF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1539-78D0-453F-A17E-B2E8A43D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758-1E38-485F-A290-040D2E23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62E-AFE0-492E-AC69-DC3462DF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6B84-8EAE-4863-8E3C-7C21C3C9FC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50E7-B01A-4B41-9BF8-6672F163AD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80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O ! RY NAMAKO AV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dy sy Fandres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F. Ramanantsialon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W. Bradbu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0 - O ! RY NAMAKO AV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Ry namako av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Ndeha isika hiara-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hereza miom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trakao ny loh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na sarotra ny 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joroa ho ki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 ! Manàna fikas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 Kanana lo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84160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0 - O ! RY NAMAKO AV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 ny Tompo mampa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lombery ti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y tena tsy mand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Vonona handra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a lavinao 'lay f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ny antso mba ek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Jesosy no je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handres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4160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80 - O ! RY NAMAKO AV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dia sarotra ny d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a ketrak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Jesosy zoky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mpiantok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 ny lovanao ry mpi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y lanitra banji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y, kely sis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hiadan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4160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3:55:37Z</dcterms:modified>
  <cp:revision>117</cp:revision>
  <dc:subject/>
  <dc:title>Tiona Advantista</dc:title>
</cp:coreProperties>
</file>