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E99-3B05-4282-A4A2-0847122A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C9C-A873-4714-A3A4-E0EE4426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C35-3EE6-4E36-A009-C18977C7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B38E-44A5-4DDA-9B86-24DC5D5C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DFEB-B738-44CD-A930-B9CE069C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27BC-FDC2-4001-A65F-3F1C834F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DCBF-3D76-42A2-8078-DE7EA51F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E1EC-C827-4118-A145-D79256E6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D03C-81A4-49F2-B460-D7C694A3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40F3-2299-491A-8D7C-D73D159F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7A15-CE18-4871-975E-6793773E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6043-A008-4CC1-B5F3-A7A71AF8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AB42-25E2-4C6C-BA9E-E469620F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6937-4CEE-4A6D-B724-48B7871D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FEC2-9CE2-452B-A3B4-7D761F27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8520-2CCF-48B8-8837-4932C1CD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F79F-E8C7-423D-A040-6984B797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047F-C8F0-479E-8C79-E036D1FC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323-42D1-4C51-805F-673A5411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1040-AE32-46F7-9DAD-F0FB1100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FAC-C687-4970-9704-0F424D83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1B9-FE8A-4C31-9213-DE980B68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45F8-FDD8-4037-A9B8-38EA40BA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B92-5737-42D3-96EF-E635481E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4E98-BEC0-4182-91C8-B96B13B0DB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DDEA-11F0-45D9-8325-113966E37A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bebahana - Fiovam-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. Razana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A. Pea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023, DLG22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95 – TSY MIAFIN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5 – TSY MIAFINA AM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afina aminao, r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rehetra ao 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'ny fije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fantatray fa amp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ampy hana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5 – TSY MIAFINA AM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niho ny saina sy fan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reo 'zay mampiahi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oka, nohon'ny her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lao 'reo toetra ratsy 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lao toko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5 – TSY MIAFINA AM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ovy ho tonga lap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o naloto hatr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aho koa ny F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masina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masina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395 – TSY MIAFINA AM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izay dia mba hazo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mpo tsara an-tsitra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o 'zahay, ry Topo ti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vonona hanara-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o, doria, doria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10:56:34Z</dcterms:modified>
  <cp:revision>67</cp:revision>
  <dc:subject/>
  <dc:title>Tiona Advantista</dc:title>
</cp:coreProperties>
</file>