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3549-C839-49D2-B027-DAD75F1D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88B4-1499-44C4-B441-C02F5F51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61D9-9AA7-483A-AE03-0DB734CA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3A08-A9A0-4837-B8F9-DF0653CA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3913-D83C-4B64-B297-7CB577E2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518E-866E-4392-8B91-83B1C305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AA16-63BC-4EAC-9B10-6F85A607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997F-5840-4544-BDD1-30C056E2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5D05-6905-4299-8E2D-A37AB362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FD79-FEF9-4F62-8303-23A0AD32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A3EF-8C96-4A22-8D9C-79806717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016D-B85F-4D6E-99B8-4DA019C1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64BF-5097-4C41-95AF-3A2B489A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0EBC-2E4E-41DE-89F8-1B0092B3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4B91-EF4D-4B38-B5E0-DB82C12E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29BC-FBCD-4175-9D87-A4FD686F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4C34-8C32-4FF3-8A52-40AF4634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E2B0-6608-424E-970B-BFFB0055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FD0C-77F5-4075-8E42-F62A967D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9634-FD63-4A5B-8E2C-5368E729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4AC9-CEE4-4D81-93CA-ABF394D8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EA19-5527-4849-8DCD-FB30E313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4227-8AE0-4EDE-BB97-73779207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474-4BE8-424F-BEBF-30B7F184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3207-5FDD-4A08-9DF7-1DCBC12F73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EEDC-A483-46D0-AD6A-F058CE4AC7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barij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. D. Exc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97 - MIHOB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5720" y="548784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663760" y="586260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658720" y="6249960"/>
            <a:ext cx="3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7 - MIHOB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hobia, mihob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, ry mponina eto an-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Eny) mihob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ompoa, manomp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'i Jehovah am-pifaliam-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kanesa ho eo (eny ho e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obia (ka hobi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o an-kianjany (Eo an-kianja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hobio, ka hobio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2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663760" y="586260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8658720" y="6249960"/>
            <a:ext cx="3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49800" y="5056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7 - MIHOB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Izy no mpiandry so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Isika dia ondry 'Zay andrasany iz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Mpiandry ary isika dia ondry izay andrasany en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Izy koa) Eny Izy (no ana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No anao sy nahary ants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o Azy re, ho Azy 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Haleloia) Haleloia (in-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aleloia asandratray Ho an'Andriamanitra. </a:t>
            </a:r>
            <a:r>
              <a:rPr b="0" lang="fr-FR" sz="3200" spc="-1" strike="noStrike" u="sng">
                <a:solidFill>
                  <a:srgbClr val="00cc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:,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3" action="ppaction://hlinksldjump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5720" y="548784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58720" y="6249960"/>
            <a:ext cx="3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49800" y="5056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7 - MIHOB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(fara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iderà ny anaran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iderà ny heri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iderà ny famindramp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o mandrakiz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aleloia, Haleloi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aleloia, A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aleloia, Haleloia, Haleloi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Am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5720" y="548784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63760" y="586260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49800" y="5056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23T15:28:43Z</dcterms:modified>
  <cp:revision>78</cp:revision>
  <dc:subject/>
  <dc:title>Tiona Advantista</dc:title>
</cp:coreProperties>
</file>