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83C8-3C7E-4028-9767-1F86E8E8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1E2D-3B97-419C-845F-FE919370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0FAD-8862-4FD8-96AF-C829205E0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797D-5462-4254-BAF7-FB862B25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5C68-C1D6-44B9-93D8-44779775E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560F-03B5-41BA-AEC5-8AD81D41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E89D-0A3C-4A8E-9A6D-2DF83403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6C58-AD6B-4C38-8FC5-F2CF9640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0F5E-F8F1-47CB-8B7E-0D7F9CCB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5398-C8FD-41D4-A8E4-421A86D8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D8FC-94D1-4555-93E6-152C445C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0DCE-3A90-46EB-A2C8-023A7269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0D0C-86C7-497B-A36E-98C0BE2A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3656-5DB4-417E-BD3F-019402DB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956F-A960-4028-844C-63E8B883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3B5E-FD5A-4354-861F-82DCAB2F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3DC9-7B7E-4CFF-B6FC-367AE084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C16D-392B-4856-89D5-34B80D76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62A8-CA5A-4134-A51F-D5723D1A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1E55-FBBC-438D-8584-AC49A978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8F63-F0C8-4018-ADE2-541657A1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85D3-FA41-4111-A7C4-9589E7BC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0821-A774-4787-AEFA-FDA2CB18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F8C3-BA1D-43B2-9F42-B6F9DC48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127C-3F62-451F-81B7-DEF652A1A9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16F1-1DDC-4C8D-A9C9-3CE69AEDBF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o an'ny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. Rakotonirain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. Lew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97 – TANORA Ô, AV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97 – TANORA Ô, AV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ora ô, avia mete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rotsaka hanafi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sandrato ny fanev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mia re marisik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97 – TANORA Ô, AV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vonjena tamin'o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ompo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oa ampio ireo mpano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jeo, ndrao dia very izao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97 – TANORA Ô, AV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Miverena ry mpa&amp;no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no hafatra ent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'Lay nivesatra ot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anekeo 'reo nam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97 – TANORA Ô, AV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alisoa dia miand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piasa mahatoky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tsy mba tafandrimand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bola misy very 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11:06:29Z</dcterms:modified>
  <cp:revision>86</cp:revision>
  <dc:subject/>
  <dc:title>Tiona Advantista</dc:title>
</cp:coreProperties>
</file>