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68A-D039-40CD-B7D3-1153003E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AE0-3105-4EDF-B10F-E279A1DD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789-9E8D-49F1-A70A-AE606780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CC6-7F13-4D56-AD37-8B131F9B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3923-FC2B-4E2C-B594-5F99B032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E1FA-4E2D-4B3C-894E-293F2FF2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55C5-0681-4B33-8F65-A135088D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1D72-FF71-45DD-BE7D-D3D8E603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354A-D70B-46FC-8D23-C91F1146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0840-CCB4-4B75-B47F-55C64455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D067-F27F-4FC9-A068-20D07EC8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A8A-EE3B-40E4-84E0-D40D2A0A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EF66-D17B-459C-9D08-0E5FC3F0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8B1E-6168-4EBC-9830-7767C76F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11D6-2A51-4DB6-879D-D6F7DF4C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7F27-CE9E-4967-836A-DBCD84C4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E07D-1FDE-4BA1-8BE8-2950BC0A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592-7D4E-4C3D-9A99-878425EF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014-2B2F-49F0-B382-CDADB3BC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BA3-A275-45D2-9249-424AAF1A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50FD-5B83-46C6-9C22-07031755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D47-2D3E-47AB-A878-8718AFA0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742B-39F6-48F4-B7AB-C7B39EB0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85D-C046-4189-B465-AA4ACED0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59F7-2A8D-4DD6-8092-8B70590991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2DA1-CD51-40CF-87F3-164C29141A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fatra farany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sué A. Rab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sué A. Rab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91 – AINGAO NY HE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1 – AINGAO NY HER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ingao ny he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iangonana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mpo no mibai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Efao ny adid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sory ny ahi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io ny taho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aiso ny ampingan'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mpo Tsitoha.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336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91 – AINGAO NY HER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miants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iangonana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eha re hafaing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andro l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isalas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raiso ny anja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rio ny fiavian'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anjaka Tsit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336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5:44:29Z</dcterms:modified>
  <cp:revision>54</cp:revision>
  <dc:subject/>
  <dc:title>Tiona Advantista</dc:title>
</cp:coreProperties>
</file>