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999-B1D3-4A03-9111-C70F8A5C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F5E-B8E8-4383-9B20-F165FB7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04A-BF0E-4137-A47B-E743E15C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1A4-70A1-455D-91A2-0EC5D0FB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9472-FBC1-4C3D-B0C1-5CAF548D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F89-8DF1-4765-A25B-B652F1CB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0919-19D5-4A00-901E-96C1099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149C-5718-4434-878A-D925077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8A2-E564-47AF-ADB7-1609DA7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1ECF-814A-40E2-A559-7BE189A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F15-8821-480F-9821-47A4620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1C9-EA82-4457-A8A9-8F96AC1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70E3-6793-444A-81BB-B4C4C51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651-AA65-406C-8E2C-ABA4E52B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3AC-459E-41D9-B420-AB35BBB8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35D2-E3F3-4927-9C67-77705E7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AC08-2208-46FD-A3AB-74CE3CB5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417-5328-406C-9619-558C9EBE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87C-85D0-4E98-A87D-DBFB2B97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B99-77D4-4152-8AFC-AB02575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A53-9467-4C1E-B3BD-10A5CEA1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B32-3E15-4A26-8654-ED960B5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B86-5F56-406C-90C0-65B77ED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9AF-3E57-4B79-BDA4-0E021DC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E92-7427-4B4F-95F9-A174C82F8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94F5-103E-452E-895E-1C75D2BC60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iavana sy Fino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Lincoln H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6 – MOA VE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6 – MOA V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, dia mihe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mba ny fiai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jereny ve isan'andr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lalan-kiz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6 – MOA V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fantatro, he, fant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kaiky I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tena tia anio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I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6 – MOA V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, dia mandr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 fitarai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enoiny ve ka valiany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antso sy sentom-p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6 – MOA V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 dia mana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fy ny ady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ampiany ve ka vonjeny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'ty olo-mahantra i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 mahaf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ora far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akaiky ve, hamikirana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sandrim-pitiav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6 – MOA V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59:12Z</dcterms:modified>
  <cp:revision>68</cp:revision>
  <dc:subject/>
  <dc:title>Tiona Advantista</dc:title>
</cp:coreProperties>
</file>