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9054-C12A-40CA-95F1-1555D1E1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01AC-1082-40F4-B547-049A49D3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59CE-C80C-48E0-9066-A0D2CB0D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28CC-9D96-40B2-ACFF-A62299D1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33C1-13CD-47F4-B4AE-C65A6366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BD1E-454F-4A20-8B9F-7D1A2461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1DF8-7784-44FE-B7BF-A9EED8DA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002B-2024-46DF-B7AC-58DE34B1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B67E-152D-4C3B-81B8-E95D40B6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24E5-0D46-4EBD-88FE-845F6D03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6136-8F25-4EC0-B7DF-6880FC29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19FC-A729-4DC9-9C8E-05FF480F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F949-724F-48EA-92BA-0CF5C896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D7D9-84C2-453D-B069-100A4CEA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4923-E9FA-463A-B6EB-DD78A6C8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209E-205C-455E-B93E-50C609B1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2009-F9B1-4D94-B0B4-240DD307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652D-F2D8-4C19-AF48-C94EE787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E6F9-4AB4-4955-816F-39EDF72A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AC4C-142C-4205-AF71-A5C3E2B2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B0BB-593A-460F-90DA-CF61BC75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45EC-0EF1-463B-AA8B-51CA495D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FCB1-37AA-4694-A90E-1D7AAC67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6B2B-FAA4-49BD-ABEF-B8359677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8893-B953-4442-B882-185D0F8632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2B78-7D2F-47C5-804F-CF845563E9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faliana sy Fahatok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zakari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William J. Gaither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35 – EFA NOMEKO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5 – EFA NOMEKO HO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nomeko ho An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ko, ry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fantatrao ny fiain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afina eo imas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627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5 – EFA NOMEKO HO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drey ny fifaliako manan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antana sy momba ahy,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nompo Anao no tarigetr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voninahitrao ny ataoko an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5 – EFA NOMEKO HO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ilaiko dia ome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ly aho, afa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oky ny fahaso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inako, misaotra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627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8:46:26Z</dcterms:modified>
  <cp:revision>70</cp:revision>
  <dc:subject/>
  <dc:title>Tiona Advantista</dc:title>
</cp:coreProperties>
</file>