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02C-7B05-4E47-9374-024E190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719-0A7F-44DF-B489-4C50A098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EBF-0C51-4574-AA47-710A2D67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372-43CC-44B7-8D53-80F1DD76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0A1-0B31-411F-9A41-8E293265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B14-8C14-496F-BE7F-ADB72A9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F79D-AE28-4922-9E64-E0193180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E685-5AD8-469C-B013-5C074D2A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9530-29A3-4FB3-8DAF-608AA4E2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8C75-9086-470C-BC0D-8FE8FC60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660-7FC7-4425-958A-82524CF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C3-730C-4AE8-8C4D-3D530F4E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B58-264A-4CE2-9D48-D5E32AC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CEFC-3EB1-4124-B55D-46B79C9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973-A7EC-4C0D-9942-AA751DF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066C-9F40-4B05-8028-8DB986AE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407-103E-4516-999E-C71DE3D4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56A-552D-44C1-B0E9-9B1B89D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570-145B-4B69-8319-F982E59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D7C-2212-414A-89DD-04B597A9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A93-619B-44C2-9FDE-1B4AB30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88C-5AC0-471F-87A3-FC02191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A49-A09B-459E-AF78-7EA321A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0CF-A50B-4BE1-BFA5-6AF6E54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0F1E-EFFC-4C64-B8E0-6DE6D5B15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26CC-9603-4BA0-AC6F-8251747461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Ma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1 – ANIO DIA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1 – ANIO DIA MAND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dia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baravarana Ah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ry hidi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na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dr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na, mitalah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re, vo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1 – ANIO DIA MAND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, o, voh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amoha ny tr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ditra Ah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amoha ny tr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iditra Ah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1 – ANIO DIA MAND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fa mand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vao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indro mam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ndro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fa mitara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re, voh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isy s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1 – ANIO DIA MAND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riva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izina n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i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eo izay renao 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mandona iha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y re, voh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toana met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tiana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ankehitr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mboka ani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olotra fah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ho 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 re, fi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301 – ANIO DIA MAND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59:09Z</dcterms:modified>
  <cp:revision>61</cp:revision>
  <dc:subject/>
  <dc:title>Tiona Advantista</dc:title>
</cp:coreProperties>
</file>