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596-E790-45AC-B556-9B031C25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85D-59C5-4E3F-86FE-CADC33B2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077-6A40-4267-BA74-00C6217E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C83-D84B-41BC-B644-0C55A102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A863-25BF-41E7-ABF7-76DD0A55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9C34-B134-410E-8CCE-679E6E22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764D-3F2F-4F33-9E62-E6381DF1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7E73-797E-4060-B224-31ADCB98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3759-1079-456A-B230-B1569FF3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64AD-F6B5-4CA5-85C7-0F4E9432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3EDD-828A-4A1A-830B-7B3E6196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066-9095-46CB-9AA5-D3FC55D9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8E63-9A2A-4D7E-B258-15BF9963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6A27-5ED4-43BE-9974-828B6E6E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0A44-687D-4B93-ACC9-D64D4B07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8E3C-C944-47DA-961D-1C217EE2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CD20-A909-4EC7-9395-A7BF40A5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DF7-5390-4EF6-8364-624D0EC8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F488-BFAB-41A0-AD5B-6747E523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385-F22B-45B1-9832-F421A3C3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5F3-AF38-4D53-82F2-2DEDA235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84C-2705-4EC6-908F-6C0B2D5B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E78-4619-48E6-9FE9-06102923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DEF-2682-4F13-BE83-40106E2B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B669-DA16-4C30-9F87-4B1B779183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7692-16C4-48D6-B9F6-761D867772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NO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o an'ny ankizy madini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V. Rasamoel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F. Roo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76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72 – RY JESO ZOKY BE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2 – RY JESO ZOKY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, Zoky be fit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, mitantà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drao 'zahay manias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lin'i Sat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2 – RY JESO ZOKY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 ô ! tahio '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bola kely 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Tsy mba hendry, tsy m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ora ambaka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2 – RY JESO ZOKY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iry izahay, Jes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zandry 'zay man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a ampaherez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ia A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2 – RY JESO ZOKY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eto izahay, Jes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riho hahal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raka ny sitr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Zokinay malal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8:55:32Z</dcterms:modified>
  <cp:revision>84</cp:revision>
  <dc:subject/>
  <dc:title>Tiona Advantista</dc:title>
</cp:coreProperties>
</file>