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EB8-AFAA-4395-8610-78692865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1A9-C53A-40B7-8B45-437A8EE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691-A425-4A1D-B159-2BA08E62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C46-BF4D-4E95-80D2-E6466872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E6F9-CDCC-4D59-8397-BD4B317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F87-AC57-4D02-AC5A-7BCFCA9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EDBF-4118-4899-BC71-9CB5D29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81A9-41A8-4442-8AD6-C0EF5AC8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D06-9768-48BB-843D-06D47A20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1C78-1397-4EDE-83CD-E28355B5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B294-96A1-4129-9E81-C6065E30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62F-3BE2-467E-AC63-C0A71299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C799-73B1-46BC-9BAC-739D004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8BD-CF7C-48FC-B80F-FFC9FA3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D680-5E34-495F-BE5F-071147C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350-7270-4900-AC4E-DF64DAE5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757-87DB-48A3-8F49-3953965F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F4E-2A3C-46DC-A983-6833B7A7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0F7-6FE6-48A1-AE5F-4619612D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6AB-CDCA-467F-B4F3-4034977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055-8AD3-4E4D-B684-3B122AA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E9B-488F-4F5C-8849-C4B805D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E3F-F91A-48C0-A141-1D64EA6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872-3266-4F40-9439-1980448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3BE9-3F08-4137-BEC9-D00292EEE3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FCAF-A68B-45FC-B5DE-E385CB98BB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5 – REKO ANDRO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5 – REKO ANDRO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ko androany,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lehibe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avo sy ho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 ahy rats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, Tompo 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mendrika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ko anio 'lay fanek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trizao di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5 – REKO ANDRO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ko androany, Jesosy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 izaho irery az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y very ka nila 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nafoinao ny ainao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sintona aho hanolo-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elona sy ho fat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Jeso 'zay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iso ho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5 – REKO ANDRO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ko androanay fa m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lo-tena mb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, Jesosy, ka toa m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diso aoriana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rahampitso, ani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ho fanat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tontolo, ho tia h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ory, na 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5 – REKO ANDRO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ko androany, fa vetiv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sy, ho avy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ody izay rehetra n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lo-tena ho amin-dR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tsarovy, Mpamonj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fa efa nav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tontolo sy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alala, ent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04:38Z</dcterms:modified>
  <cp:revision>62</cp:revision>
  <dc:subject/>
  <dc:title>Tiona Advantista</dc:title>
</cp:coreProperties>
</file>