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1BA5-0A25-41E9-A760-F16219BB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8D56-DC6A-4692-9A46-C6103D93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743D-2863-4478-B810-096912C6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BB2E-F390-4EEA-A897-5381AD38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57B7-2448-4485-83ED-BF9C97D1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B681-BC3F-4A24-A933-172DE15C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7A53-D927-4E40-8C00-B84C22E2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118E-086A-472D-8FE4-95B3FF81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C367-5F4C-4839-9E2D-4C9EC9E1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9E8F-D39B-46FA-AD71-A4744005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10F7-10E4-4DB9-A3E8-AABA7050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F751-E71E-438B-8F1E-119AC5D9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4D19-D41A-454F-9F18-DFC5797D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5EF7-8C27-460D-B72E-3A11D624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CBFD-E9DF-4FD3-B35B-2A51071B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F472-33D0-44E9-820A-6966D4E4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17AA-6850-43A9-8AA5-01A4D7B8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E63-4955-47F1-961E-E731E163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11ED-7EBC-4E67-934E-1D93F89C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1E30-5DB0-4680-B248-FD75F38B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5A3-4FD9-4129-A49B-224669A9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671D-5F2A-46C3-B9AF-29CDC043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49AF-6B6D-413D-B661-2F367A47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F1A9-2361-4F34-97FA-760E0EE7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9FD6-4141-4C8D-A6B3-59B3528DD7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224E-788F-4ED3-89A1-3791AF9BAA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C. Savag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60 – ENDREY, TSY TAKATRY NY S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60 – ENDREY, TSY TAKATRY NY SA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ey, tsy takatry ny s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ao, r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e mamelombelon'a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 sty mendrika ho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60 – ENDREY, TSY TAKATRY NY SA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era, haleloia, hoz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, ry Telo 'Zay i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raiso ny fide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ani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60 – ENDREY, TSY TAKATRY NY SA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ey, tsy takatry ny s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soavana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soa tsy tambonay is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azonay avy t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era, haleloia, sns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60 – ENDREY, TSY TAKATRY NY SA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ey, tsy takatry ny s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ao Fanah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a antoandro na mar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manadio, mana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era, haleloia, sns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1-08T19:23:27Z</dcterms:modified>
  <cp:revision>28</cp:revision>
  <dc:subject/>
  <dc:title>Tiona Advantista</dc:title>
</cp:coreProperties>
</file>