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323-4865-4084-B263-5247512F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990-6EF4-472D-8CE5-14FD1BAF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508-F0DA-47CE-A876-668D52CE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3E9-329D-46E2-91B0-E78647E6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34A-093D-4D6D-9BCF-5633899F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1AD-ABF8-4A8C-91CC-2FBBFE6C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7A1-419F-4456-8F20-BA78659E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8FF-6897-4734-89A7-89DA5C49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BD0-BF69-45BB-8117-6B9EEBD3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2A2-B781-4272-9019-0538E8AA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6DC-D70F-4347-9835-D40FFB86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496-13DE-4A36-BBF5-799CEFC8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2E20-FF53-4F84-B912-2477DD643C15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SALAM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A. Raoeliarijaona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TA014 – RY TOMPO 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>
            <a:hlinkClick r:id="rId1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Text Box 40">
            <a:hlinkClick r:id="rId3" action="ppaction://hlinksldjump"/>
          </p:cNvPr>
          <p:cNvSpPr/>
          <p:nvPr/>
        </p:nvSpPr>
        <p:spPr>
          <a:xfrm>
            <a:off x="8271000" y="65469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LF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4 – RY TOMPO 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Tompo ô, Andriamanitro Ia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mindrà fo ami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itrano aho, Hatanjaho ny ao anatiko 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govitra aho, Mihozohozo ko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ila ny vonjy avy ami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Tompo ô, Andriamanitro Ia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mindrà fo amink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39">
            <a:hlinkClick r:id="rId1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40">
            <a:hlinkClick r:id="" action="ppaction://hlinkshowjump?jump=firstslide"/>
          </p:cNvPr>
          <p:cNvSpPr/>
          <p:nvPr/>
        </p:nvSpPr>
        <p:spPr>
          <a:xfrm>
            <a:off x="88480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4 – RY TOMPO 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! miverena Ianao ka afah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mpo ny fanahik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Vonjeo aho, Tompo ô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ho ny fitiavan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maty tsy hahatsiaro A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eo tsy afaka hidera An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Tompo ô, Andriamanitro Ia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mindrà fo ami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30">
            <a:hlinkClick r:id="rId1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32">
            <a:hlinkClick r:id="" action="ppaction://hlinkshowjump?jump=firstslide"/>
          </p:cNvPr>
          <p:cNvSpPr/>
          <p:nvPr/>
        </p:nvSpPr>
        <p:spPr>
          <a:xfrm>
            <a:off x="88480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40">
            <a:hlinkClick r:id="" action="ppaction://hlinkshowjump?jump=firstslide"/>
          </p:cNvPr>
          <p:cNvSpPr/>
          <p:nvPr/>
        </p:nvSpPr>
        <p:spPr>
          <a:xfrm>
            <a:off x="8848080" y="655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0"/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40">
            <a:hlinkClick r:id="" action="ppaction://hlinkshowjump?jump=firstslide"/>
          </p:cNvPr>
          <p:cNvSpPr/>
          <p:nvPr/>
        </p:nvSpPr>
        <p:spPr>
          <a:xfrm>
            <a:off x="8848080" y="655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0"/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40">
            <a:hlinkClick r:id="" action="ppaction://hlinkshowjump?jump=firstslide"/>
          </p:cNvPr>
          <p:cNvSpPr/>
          <p:nvPr/>
        </p:nvSpPr>
        <p:spPr>
          <a:xfrm>
            <a:off x="8848080" y="655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0"/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40">
            <a:hlinkClick r:id="" action="ppaction://hlinkshowjump?jump=firstslide"/>
          </p:cNvPr>
          <p:cNvSpPr/>
          <p:nvPr/>
        </p:nvSpPr>
        <p:spPr>
          <a:xfrm>
            <a:off x="8848080" y="655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5-05-05T05:40:20Z</dcterms:modified>
  <cp:revision>32</cp:revision>
  <dc:subject/>
  <dc:title>Tiona Advantista</dc:title>
</cp:coreProperties>
</file>