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D2BF-660C-4587-A3A7-F847246A4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9F33-4356-478F-9A8E-C68DEB2B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67F3-2706-4614-92A0-636EA026E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1329-5390-48BF-B988-BC5E04344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6CD8-66AE-4EA1-B9D6-2392644F7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8528-2861-47F3-A12D-413BED70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9432-995A-472D-8484-9D19EB9C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8638-C2FC-4493-AFCC-A8C3BE10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23A1-4A42-4CAA-BC4B-3BDB0CE7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6619-9850-4083-9D53-D0E105CA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0147-1D94-4FE1-AB85-A1D00C85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3207-33EF-4BAF-9550-3D0FD9BE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0A75-B9B3-4D0D-80B5-55A6D996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1B1F-D6A8-4F7F-BC23-F2059946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E231-3640-4A9E-AF9B-585DB02E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E3AA-41D1-468D-B488-6C54B8BB8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AD1E-CEB1-48E9-8188-98C77A76F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231A-1632-4447-9C1D-48F74769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3C86-1258-461C-8B43-6D657AC3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FA2A-2609-4FC8-B65D-E66DBA40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E6F9-EA9A-4073-8A2E-9EAB5C0A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3AE3-D889-4FEA-903C-F419F0D6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D3BC-59C2-4EEC-B1EA-BE6E507D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E69C-B0F7-49EB-9F10-BF093F20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B2A2-A624-402F-8BD0-F62D250187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4199-8DA2-4555-AE58-B29B73662E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raha-mito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44 – IZAHO VE JES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14880" y="510696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15240" y="548784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14880" y="58690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690040" y="6249960"/>
            <a:ext cx="48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44 – IZAHO VE JESO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zaho ve Jeso no antso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deha ho irakao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hitet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deha hitety izao tontolo iz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In)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'Nty aho Jeso iraho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Jesos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&amp;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Ô ! Tsy misy tsy mba atolotr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ao ny irakao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na 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 ny tanako na ny tongotr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In)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'Nty aho Jeso iraho. </a:t>
            </a:r>
            <a:r>
              <a:rPr b="1" i="1" lang="fr-FR" sz="3600" spc="-1" strike="noStrike">
                <a:solidFill>
                  <a:srgbClr val="009999"/>
                </a:solidFill>
                <a:latin typeface="Times New Roman"/>
                <a:ea typeface="Arial"/>
              </a:rPr>
              <a:t>Fa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15240" y="548784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14880" y="58690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690040" y="6249960"/>
            <a:ext cx="48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689320" y="4675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44 – IZAHO VE JESO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…</a:t>
            </a: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lainao ve Jesosy ny tanak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lainao ve Jesosy ny androk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lainao ve Jeso ny fananak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lainao ve ny f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Indro omeko Anao) Indro omek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Omeko avokoa)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Av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tolotro Anao tontol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ao ny irakao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Jesosy).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009999"/>
                </a:solidFill>
                <a:latin typeface="Times New Roman"/>
                <a:ea typeface="Arial"/>
              </a:rPr>
              <a:t>D.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14880" y="510696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14880" y="58690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690040" y="6249960"/>
            <a:ext cx="48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689320" y="4675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44 – IZAHO VE JESO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zaho ve Jeso no voatendr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tondra ny hafatrao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Hite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deha hiteny koa Ny vonjy ent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Nty aho Jeso iraho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Jesos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&amp;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Ô ! tsy misy tsy mba atolotr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tondra ny hafatr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 ny vavako na ny molot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Nty aho Jeso iraho </a:t>
            </a: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Fa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8714880" y="510696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8715240" y="548784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4" action="ppaction://hlinksldjump"/>
          </p:cNvPr>
          <p:cNvSpPr/>
          <p:nvPr/>
        </p:nvSpPr>
        <p:spPr>
          <a:xfrm>
            <a:off x="8690040" y="6249960"/>
            <a:ext cx="48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689320" y="4675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44 – IZAHO VE JESO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…</a:t>
            </a: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lainao ve Jesosy ny tanak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lainao ve Jesosy ny androk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lainao ve Jesosy ny fananak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lainao ve ny f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Indro omeko Anao)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Indro omek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Omeko avokoa)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Av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tolotro Anao tontol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tondra ny hafatrao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Jesosy).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D.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14880" y="510696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15240" y="548784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14880" y="58690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689320" y="4675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1T08:18:06Z</dcterms:modified>
  <cp:revision>91</cp:revision>
  <dc:subject/>
  <dc:title>Tiona Advantista</dc:title>
</cp:coreProperties>
</file>