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1F2-20AF-440E-AB7D-16477F5D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B70-77EA-4B94-8E77-9F22BFE5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C66-5386-4057-96EC-1D951289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B55-F7A9-46D3-B543-8A423283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F5DA-6E4E-4F63-9C95-03B1E991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C7ED-C8B3-4CA9-B6C9-319CDC5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930D-6A33-4A77-8B08-AA53649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7767-6CE6-49D3-9377-7D9711A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10A-149D-4AC7-BD36-DFA10BC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F0E-28FC-461C-A4E6-7CCD9972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802D-FC02-4082-948E-70FFB71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69B-F9DB-4C7B-BA5C-24AF87A1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FF1-2096-4521-B42A-2C658D4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0A8-720B-4908-B933-F170DCC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D9E-522A-4777-B6DE-316875F0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3D9A-93AF-469E-9D78-2BC8FFF5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010A-B545-4722-8818-90C04E94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492-8F9C-4526-8A92-42CDB33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F23-6919-49CC-8705-1F9D02AD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5B1-077C-4D70-AFF8-73BACFC7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4C9-C5C2-4937-B0AA-DAC9BF1D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429-32DB-49D8-B259-5E5D7D5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6A6-0B59-4A7A-8C41-99CE2FB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86E-8812-45ED-A13E-8AA155F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E8A1-25BB-4E32-8BDF-9A2EE4558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37E1-542B-49AE-8FBD-0DFEEF19E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Rabenandras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6 – MIAINGA, MI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6 – MIAINGA, MI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ingà, miasà, Mandroso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Eo alo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robe ireo vokatra ao an-ts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anao, ka mias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onjehitra iz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vokat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400" spc="-1" strike="noStrike">
                <a:solidFill>
                  <a:srgbClr val="ffffff"/>
                </a:solidFill>
                <a:latin typeface="Times New Roman"/>
                <a:ea typeface="Arial"/>
              </a:rPr>
              <a:t>Misehoa mba ho sahy, Momba anao </a:t>
            </a:r>
            <a:r>
              <a:rPr b="0" i="1" lang="fr-FR" sz="3400" spc="-1" strike="noStrike">
                <a:solidFill>
                  <a:srgbClr val="ffffff"/>
                </a:solidFill>
                <a:latin typeface="Times New Roman"/>
                <a:ea typeface="Arial"/>
              </a:rPr>
              <a:t>(ny Fanahy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ka-tsoa sesehena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kivy mias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6 – MIAINGA, MI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via mitoria, matoki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fal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mba anao Ilay Tompo t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tahotra ia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esehena toko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rerak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ke, mamonje 'reo fanahy (Maro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dema no miandry anao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kivy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6 – MIAINGA, MI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rehetra mandre, maneke (Mba hande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raha na ny vavy na ny l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famonje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raha-mahi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fitori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zotoa ho tafita, ny Ray (Momba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falian-dehibe doria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dry anao ka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45:37Z</dcterms:modified>
  <cp:revision>89</cp:revision>
  <dc:subject/>
  <dc:title>Tiona Advantista</dc:title>
</cp:coreProperties>
</file>