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302-6F23-4C8E-BD46-B6E713B2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23C-A942-48FA-B467-62AD7814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4F5-9F1B-49B7-9F52-EE0A7383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B07-B312-462A-81C5-3ED644A8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4450-0418-484C-9071-93CA0917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E5B1-5BFB-45A6-A478-9EEAF49E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EF13-7F8F-40D9-BA13-3514B95C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A8EC-9418-4B9D-B090-428A282A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FEF7-CF7C-4505-9F33-AE074AE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642F-F79B-4F56-A160-8DD1E91A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C707-2909-4A28-9ACF-8581591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D68-6ACD-4F52-9D57-E16D96F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CE26-AF3A-4763-86B6-FD10E2B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8CE6-B8DE-45BD-957D-E83532E0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9BF5-96AC-458F-A092-D5564391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A292-3092-4D92-AE1F-104F71BA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D660-54B3-4149-ACB9-9CB0FC68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5EB-E10E-47D9-ADF3-0E2E39F8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2DA-BC51-4A78-B4F4-219D1D7B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44B-711B-4E96-86A9-B0633C2A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B6E-AB34-4488-84EE-1AA43299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68C-3E07-4934-B44D-68F32674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602-8F6B-4FD8-9B5C-C5B7A136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17D-CBB7-4E05-B8F2-E5B4500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A96E-B230-4A2E-A493-AF501BDE5B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A30F-D186-4A53-977E-D71A3050ED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bef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r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4 – ENY, HO SAT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4 – ENY, HO SATR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ho satriko, ho mamiko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ipetraka eo anilanao, ho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a lavitra, na sarotra, iza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! Anilanao no ti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4 – ENY, HO SATR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nilanao, ry Jeso ô,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nilanao tsy mety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a lavitra, na sarotra, iza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! Anilanao no ti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4 – ENY, HO SATR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ho sambatra raha eo anilanao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ho sambatra, ho tretrika, ry Ray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ento sy lonjony dia tsy hisy intso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! Raha Ianao no hanjak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4 – ENY, HO SATR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ho ory ! Ho ory loatra n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ho ory aho raha ianao no lavitr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a dia mivily aza izao ‘ty z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 ! Aoka Ianao mba tsy h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24:34Z</dcterms:modified>
  <cp:revision>87</cp:revision>
  <dc:subject/>
  <dc:title>Tiona Advantista</dc:title>
</cp:coreProperties>
</file>