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F60-7B9F-4D5F-B13A-732F815E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782-237F-4AA3-A485-B19EFDDA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09A-B16E-498A-B2B8-B6DDA550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A54-F345-4A99-A56A-BD53DF68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F69D-0CA7-436D-8C40-6E29731B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289B-EF2A-41E7-AC71-BBF6B638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374D-70D1-4DFC-A052-D3A80D25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34E-30BF-468A-8B66-CEC5FF3B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EFD6-0367-435C-A7FD-53486910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6D25-BF16-4E27-9AFC-22E8C9A8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7095-30F9-4E98-8613-5F3B48C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87B-1EE5-4EC2-8E2A-6783FB6F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E38C-4C39-4E99-AE57-10957DDF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EE3C-D48D-4A34-98BD-DA3E8DA8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14D6-978E-49AF-845A-037C5C6F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8B2A-F739-4AE3-B734-51116948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2FBD-361C-4E56-89E6-7E3A490E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7D3-357C-497E-AA01-29ADFD2B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0C8-747A-4EEE-95DE-BC55AEF7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9E8-4D35-4A0E-B065-D6D7891A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C33-4D8D-4277-804D-4B4AD1CF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521-15FA-4725-BF5F-35F0C1C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358-4D86-499B-9A78-0059481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CC7-721A-419E-8994-56B1F9F9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2086-225B-40B9-AB2F-F661BDA614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E1C1-D486-44F3-8368-C47832FC40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va Stamphi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8 – TSY MAHALALA NY AMPITS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8 – TSY MAHALALA NY AMPITSO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halala ny ampits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andronay ihany n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ivelomak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itari-dàla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fantatro ny ho av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kosa ino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iahy sy m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ety aleh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8 – TSY MAHALALA NY AMPITSO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itranga rahampi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hay fantar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n'ny ho 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hitan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8 – TSY MAHALALA NY AMPITSO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o-mainty mit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am-be maves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mbaby an-tsoro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-dray manding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ao Jesosy t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anao ny he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sava ny aizina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toka ny ho av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6:50:04Z</dcterms:modified>
  <cp:revision>68</cp:revision>
  <dc:subject/>
  <dc:title>Tiona Advantista</dc:title>
</cp:coreProperties>
</file>