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F16-20CF-45ED-AE19-759DE27F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378-3094-4B71-86B9-BEBA1548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E98-05B5-43C8-8A7A-A0F3384E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B30-62FF-412C-8829-16EE2F46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F893-0900-47BE-93A1-0FC289A2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E54-4FD4-4C05-83CE-1B2FA046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437D-A850-4BFE-AD91-CC765DE8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D008-8A66-4FAC-9151-65A8B64F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DACC-52DE-44AD-A8BE-E20FC81B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EE16-8883-4187-A728-4173747E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F1C8-7F42-4E4E-A01A-DB0D8E99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AD6-E326-4E65-877F-799B7B2F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E3F9-F4A0-4DED-97A8-8E85C44D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EEC-D0CF-4D8F-81F7-B3DE09C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C6CC-52B6-475A-B504-0FF4F4EB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8004-1411-4EDA-96F3-79E8303E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407C-B3B7-4EA0-B26B-382457F9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702-082B-46D9-A890-ED47FA0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768-C5A9-40A2-80E8-102228BB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EDD-A580-4B89-9B9C-52410C75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9A0-6427-48F1-8B38-99A1BC09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D53-CF47-477E-A0C7-3C6B865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F67-64D2-4124-AF4C-7225B8A6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962-2226-4152-A3E0-543FD84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1453-0BCD-4255-9AD6-59ACA26D83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B0E1-4EFB-48A8-8428-613EBA45B6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99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OA MAFY IZANY ALAHE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E. L. Lorenz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9 - MOA MAFY IZANY ALAH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mafy 'zany alahel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zao Jeso,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renao ilay feo mamelovel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deha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9 - MOA MAFY IZANY ALAH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mba la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efe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tonao eo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, mba sah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y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Lazao azt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9 - MOA MAFY IZANY ALAH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ebiteby ve sa fifali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zao Jeso,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otana koa, ady fahorian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deha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9 - MOA MAFY IZANY ALAH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maro ve ny ahiah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zao Jeso,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tokinao, andrin'ny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deha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raha mamely izany r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zao Jeso,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tiavany dia manda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deha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9 - MOA MAFY IZANY ALAH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6:58:13Z</dcterms:modified>
  <cp:revision>118</cp:revision>
  <dc:subject/>
  <dc:title>Tiona Advantista</dc:title>
</cp:coreProperties>
</file>