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62D4-0A13-4A63-A601-94F7FDEB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A090-8A33-4A27-A13E-DCE991D6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04A4-B7B1-4897-B91B-81B7D9A0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77CB-B7DB-4C4E-B5A2-A70167A6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BF62-B614-4E27-B232-D0E29A5E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92CF-CCD8-43AC-AB9E-F7C0B19F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0AAE-4E5F-4668-97FF-02A8531F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4DB3-5FFE-40E7-8E38-BFA50D17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001D-85CD-44C5-897A-957974C5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4DA0-CDBF-4FFA-978E-C9085D93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6802-57B4-48A1-9DCF-C9BE38AC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F363-83E8-46C0-9BAA-2176E33E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C8AF-26F4-451C-9595-3777A339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7C23-34D9-4713-9E50-CB105207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F56B-8F25-4E3A-AF20-F1E8CB80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7D7E-3D82-4A9D-A366-F1369A96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3B51-3DEC-4FC6-80C5-2CDB9A50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B335-D829-4AD1-97DD-E1DEEBD3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94A1-3B63-4E91-B49A-17E3F319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F4F1-A6B4-4F6D-AC00-B10B7FBA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7D29-E6D5-4DF3-B6FB-4859EFE1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0C4B-C492-4B3E-A09B-BC209B80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639D-3B38-44F3-A34E-70460A90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03EA-72A0-45C8-8540-F50CA4FB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A323-924A-46B3-BAA9-399FF5DFAF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02CB-4B7C-4B02-BD8F-D11352E7C8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kohof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raditional Welsh Melody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49 – MIHIRA FIHIRAM-BAO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644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49 – MIHIRA FIHIRAM-BAOV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irà fihiram-bao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'Ilay 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rehetra izao, rehetr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Tompo tena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iaro ny man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nitarika ny diafa tena 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hazavany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alim-be.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6644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7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49 – MIHIRA FIHIRAM-BAOV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indro fa nanome fiainana 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irà, hira vao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'Ilay 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rehetra izao, rehetr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49 – MIHIRA FIHIRAM-BAOV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jao ny fitsipiny sy ny did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zay no sitrapony, ka sit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andrao ny lo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ba jere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kintana maro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soandro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tendromboh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voana lavitra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86644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7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49 – MIHIRA FIHIRAM-BAOV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samy manolotra fisao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irà, hira vao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'Ilay 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rehetra izao, rehetr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886644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o ny fitiavany sy ny laz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eo ny laza sy haj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no lalina, ny ranomas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e manamar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mas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eha venteso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leloia hobio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49 – MIHIRA FIHIRAM-BAOV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86644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6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TA049 – MIHIRA FIHIRAM-BAOV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Hosana mad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bio, Hob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'Ilay 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rehetra izao, rehetr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6644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01T22:52:38Z</dcterms:modified>
  <cp:revision>32</cp:revision>
  <dc:subject/>
  <dc:title>Tiona Advantista</dc:title>
</cp:coreProperties>
</file>