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56B-9E67-4051-971B-260DDF5F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271-59AD-47AA-8450-7A4FF21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FC1-B273-45FD-93F6-3F7D34C0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36F-164B-4211-BF13-27424F95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AC5-A93E-4ABE-923C-C36D987D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9F54-EAAB-4BFC-B761-0D0D32D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F3F0-1C1B-42BD-AFC0-F5C762CC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B7A4-BC18-4941-9FF3-B8CD5F98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1B95-90D1-4EE1-A134-D00E0B2D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A08B-01F5-4837-A4F5-C75DB79A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D843-20AA-4FD8-9DC7-7F365FC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B9A-8F6B-419D-A736-B7E141E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CF5-DCC7-4DF9-A5A5-4D1ECC7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7826-F9B6-44FA-9BA8-B181661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3B85-D741-4EF5-90AE-3A011F8F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651-43F1-4BB4-9B52-6B19DBCD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DF5-1759-4843-BDA6-0FF04060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25E-F0E4-4468-BC87-720FA1B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905-122B-4FFF-895B-ACA065F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51B-A093-424B-A553-AC57BCCC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A64-C818-408F-BFB3-F0E81E6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6F3-137D-4316-A2CC-E55B144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D8A-E579-408E-A316-EE9F165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DAB-196F-4BA2-8057-CC59067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1FF-6661-4430-94AE-E0FF47681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324-7AFD-4473-8287-10F43868F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a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tin Shaw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6 – IZAY REHETRA TSARA SAD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6 – IZAY REHETRA TSARA SAD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tsar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na lehibe (na lehi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kanto sy ny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nanome (az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y vao nivel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voronkely misi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ny tsy mbola ary el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aon'ny Tompon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6 – IZAY REHETRA TSARA SAD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tsar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n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kanto sy ny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nan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6 – IZAY REHETRA TSARA SAD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tsar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na lehibe (na lehi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kanto sy ny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nanome (az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o havoana av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enirano mand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 izay mazav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zava ny al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6 – IZAY REHETRA TSARA SAD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tsar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na lehibe (na lehi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kanto sy ny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nanome (az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ivotra mits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fanana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nkazo 'zay tena mas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'i Jes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tsara sad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kely na lehibe (na lehi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va-kanto sy ny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nanome (azy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anome m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jerena azy ir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Lehibe ny Tomp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anao ir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6 – IZAY REHETRA TSARA SADY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32:08Z</dcterms:modified>
  <cp:revision>32</cp:revision>
  <dc:subject/>
  <dc:title>Tiona Advantista</dc:title>
</cp:coreProperties>
</file>