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505B-5644-4B58-9D02-FF10C576F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8F90-B48E-4A50-A24D-27CB682AA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5337-23E4-43F0-B3BD-1D61B46BD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CF56-582E-492F-9458-71FB8B3DE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9B215-2D66-47C3-B32D-C3D6FD176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CDD4B-D8C2-4B08-A193-B4CB1B39D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3E3DB-AFA7-4D23-AF56-71F6260B6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F5B79-D5F2-4C55-BF1F-BE921A0AB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5E962-5872-4BC8-8B21-A2E4DD220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C150C-9DBC-4AF9-89AB-95F0EF07C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ACDA4-7A61-4814-9529-2C4767B37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6328-EEFF-4389-B03A-FDD42F089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7BFF6-70EB-4E11-9A50-B8B80B663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7051A-3D12-4575-B50A-064CE78CF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31CC5-410B-435B-81BA-4FBE93A6F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2C814-458A-4858-8BA3-23CE70C2F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50B1B-B3D9-4443-AEC1-9E425B262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5B3D-B274-482F-91E1-731AAA6C1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097F-CEB8-4ABE-8F83-84B0D01B1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A281-17C1-40A7-8501-14EE2A7D3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05CE-A30D-44D4-8F09-C6CEDEBFF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243E-6083-4CF7-B6FE-2E73CAE26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7545-9E32-4B3D-A242-F0DB2581F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C1E2-28EE-4F16-A4D6-9B4EBB4C4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671B4-5FCF-402B-9CCD-1F195048F7F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69E2A-C9CE-45E2-80DB-91A43A125C1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TORIANA NY FILAZANTSA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Valin’ny antso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. Ramanantsialonina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HL27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347 – NY ANDROM-PAHASAMBAR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1496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20000" y="5632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1496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80596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47 – NY ANDROM-PAHASAMBARA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androm-pahasambar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tondra fihavan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Jeso Andriamani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o iraky ny lani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820000" y="5632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81496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880596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880524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47 – NY ANDROM-PAHASAMBARA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Jeso no toki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y famonjena mahas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Izy no fiaina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itondra fanarena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votra, tombots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Jeso no Mpamonjik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81496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81496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80596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880524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47 – NY ANDROM-PAHASAMBARA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monjy sy hanavo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ondry 'zay naniasi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Lay Zanaka no avotr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piandry tena be fiti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81496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820000" y="5632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80596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880524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47 – NY ANDROM-PAHASAMBARA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odony izao ny hira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leloia ! Hosana ko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tonga ny Mpanavo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tondra fahasambara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81496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820000" y="5632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81496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880524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5T15:33:29Z</dcterms:modified>
  <cp:revision>63</cp:revision>
  <dc:subject/>
  <dc:title>Tiona Advantista</dc:title>
</cp:coreProperties>
</file>