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49C-3903-4B54-892C-D3305B61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2B0-5EDF-40EB-8AC5-2DB44CB2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511-4685-4865-9035-F02DA8B3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A85-2CB1-4B0B-9F88-6CBEC12B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6BA0-34B5-488D-9BA5-BCBC515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DE2C-8F76-4FB5-9DC7-2FF7B4B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80DC-E33E-460C-A996-118C8E7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C51-C736-419D-9A9D-710DCE0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EA38-0F88-4158-A7BE-B68D311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2B6-2903-4C21-81EA-E988BB0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5B79-A940-47EA-8313-6F9CD6C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26E-A445-4F29-A589-D59675B6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582A-F23F-4B53-A9CF-ECB92EF9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ADBC-2A7D-45AD-84F5-C0E1C96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0741-7D9F-450C-91EE-06834F97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DF4-4588-4C32-BE7E-B0872E7A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431-C26C-4E65-8371-CC079BEB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3D8-EA30-4EE1-A1A7-FC772E5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6D0-B9A9-42EF-AE88-D4E3EF9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258-249A-4E90-9414-EFF0A837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BD1-9CF7-4EBA-B632-972E941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DA4-6A63-4490-87FD-F20530C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A3A-2FD6-498D-9086-023D788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7BB-0383-47B6-BBA8-6175871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C48-5E7B-4478-8FFF-7C2FFCEF5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BB0-63FF-433F-89A6-3227BFFFB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1 – ZANAKA AD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1 – ZANAKA AD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a adala, Tomp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aho ho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emena aza jer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verina aho ka amindrao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vay ho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1 – ZANAKA AD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fandr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toetra tsy tafand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dr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a efa ela no niand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ndr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anantena ilay sandr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ahy, ô ! avi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antso aho hoe : Avia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ti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alakia Mpamonjy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o aho,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1 – ZANAKA AD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ntena 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omeo hery ho sahy hij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lanitra sy tany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ndri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42:21Z</dcterms:modified>
  <cp:revision>70</cp:revision>
  <dc:subject/>
  <dc:title>Tiona Advantista</dc:title>
</cp:coreProperties>
</file>