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5BA-34C1-4245-A1C7-D2CA5EB8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E0C-C912-4E00-B2F5-C1CF574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FE5-7D82-4356-9EAA-32AC973C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3C0-CD3F-4E26-BCC6-60F961C2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3AED-915A-4FD4-B3B3-5956511A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081B-014E-46A9-9BF8-66840A74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116D-5A23-4E2D-BA1A-3E268C52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EAEA-8E22-4760-BB99-D5F9464E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71A9-C48E-494E-8C6B-E46945C7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B4E9-D632-4666-90C0-9AC84385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299E-5D52-452D-B9B2-65B0197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A63-2C61-49A9-9BF6-E44284B8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D2EB-F0D3-46CB-96AD-24BACD9B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4334-07F8-4D31-AB2A-CE3611C9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1C3B-4F37-4B32-88DF-CD0B4283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F070-BE80-4951-AF2A-3D69F824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537E-CA17-4B12-8CFD-12E33A46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060-A1C7-4591-9E3B-AC69D9AD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810-D64E-4AE0-99AC-DFC43FBF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FB5-33B2-48FC-8060-1B248349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E59-8F1B-407D-9137-49799668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9C8-1890-42DB-96E7-01912FF0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9D5-8764-4D21-AFEE-F9FE974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FCE-2E4C-49A0-A5BD-3E1EEE5C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C868-0F3F-48F7-A20C-E282BC9C25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98C5-0EB0-477E-89C5-1DBB810CF3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Audrey Miei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2 – RAHA MIVAVAK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na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2 – RAHA MIVAVAK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vavak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tsaroanao ve 'lay anar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fanampia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angav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tsarov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2 – RAHA MIVAVAK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 ô, tsy hadin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aroako toko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 ô, matoki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entiko am-b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2 – RAHA MIVAVAK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vavak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onony izany ana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an'i Jeso ho mpiah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gataka h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42 – RAHA MIVAVAK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dino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vavak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herez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nao 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okio izay, ario ny ahi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 ô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4:17:43Z</dcterms:modified>
  <cp:revision>45</cp:revision>
  <dc:subject/>
  <dc:title>Tiona Advantista</dc:title>
</cp:coreProperties>
</file>