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3A2-F736-45E8-96EF-A510098D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25E-D240-4330-BD44-6D02F469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D84-6432-4C28-97C5-C297C409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E9B-5A35-446C-A84F-CA2698E6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784E-0E4A-4298-B8DD-FA46245F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023A-C9D6-4A0E-ABEC-61D80C7B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F5ED-170E-4ED7-8573-5300502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47A-DB48-4B71-AF15-A0EC62BD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5BAC-0970-4ABB-89AC-208ACC9C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C670-24B1-47AA-9E6A-6C110A9C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E67F-B95A-410B-A48C-62E5913B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E13-84CD-4E38-89D4-4E8DCFA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455B-0621-4EC5-BEC6-3F82B8E2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4B71-0221-44B3-AA6C-D836DB8C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DEB0-B60D-4C4F-96D1-87961EF1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0FFF-0A72-4AD3-BA5E-DE2F665D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A250-8F47-4CC7-B8F5-F80B87D4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94A-5E96-45CF-B23C-9809470A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CB6-72AA-40B9-8A26-19CAF0C3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BDC-1D8C-4764-8663-DE015F9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D55-E3D6-491B-89E6-6406E03B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721-6440-4545-A260-6BBBB03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AD5-55A3-4A1B-927F-B1A4F63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039-7E1A-4640-A431-2C43DDA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367C-0483-49E6-9360-6DD2B2AEAA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85E3-2F8A-4011-9457-18A0F8C18A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Robert Harkness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4 – HO AKAIKI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4 – HO AKAIKI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kaiki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nina eo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ia, tokiki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ro eo 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4 – HO AKAIKI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kaiki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, e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araotiko ny 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hak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4 – HO AKAIKI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kaiki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ho tsara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anao no haton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itrano re ny iz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4 – HO AKAIKI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kaiki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iriko,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hano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41:58Z</dcterms:modified>
  <cp:revision>70</cp:revision>
  <dc:subject/>
  <dc:title>Tiona Advantista</dc:title>
</cp:coreProperties>
</file>