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206-2E91-4184-8C6E-EEC96713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E00-AA76-4802-9A82-6D497B51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A63-0407-4FCA-A164-21CEECF8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E52-35E7-4B34-9B0E-71FED6BC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1E1-36E9-48D5-A58F-87073A7F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3EE3-A4D9-49EE-A2AB-02906413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C6A4-4BA3-4EF2-A927-1E8A63D2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FD6C-7F8A-464A-9785-D15D245E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BB3-9066-4B0B-BED9-C44FFEC3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F1DC-93F6-46A7-A54D-352728F7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F013-2E70-44CB-A6D9-96B0CA6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730-D77B-4A93-B497-27CD208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1069-A5C1-4BC2-BBDB-9870D21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57A1-2D37-4003-98E0-0F40FCB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F90A-DFCD-43CF-B3C7-7B7098C0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B311-EB9C-4B75-B863-466507ED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3F66-D1C5-40F8-B2B4-DFD7C933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16F-B1B9-4D79-A96B-F7C3C552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EA4-97E1-43F9-AE95-141849BB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080-2CF0-4367-BE84-E01ED462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C86-554A-4FB9-9D8A-2AF91176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C92-2247-4DD0-88A0-EF4E20E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1F3-3B4E-46F5-B64D-5E30E29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A44-A362-4E3C-B4D4-467446E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0EE6-E5D9-4E41-93F3-95A58F433A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4F86-99DE-4C86-9232-D2F013156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M. 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8 – NIVEZIVEZ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8 – NIVEZIVEZ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vezivazy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o anaty ali-maizim-b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a jamba fa tsy nah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hamarin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8 – NIVEZIVEZ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mpoka anefa indro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y tonga teo namonjy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vo ny foko, faly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apako teo fa tia ahy Je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8 – NIVEZIVEZ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o tontolo ratsy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inton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bobongolo sady l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nahitana s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8 – NIVEZIVEZY A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vavahako Jeso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Dia noheve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otantananao ny 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akaiz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7:18:31Z</dcterms:modified>
  <cp:revision>78</cp:revision>
  <dc:subject/>
  <dc:title>Tiona Advantista</dc:title>
</cp:coreProperties>
</file>