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C21-BFB7-4859-B07D-7E1BE273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59F-5D6A-4DDB-9FEC-8F8A269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8A9-C066-493D-9103-96A4CC67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FE2-3A05-4D99-BDDB-317B46F4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40D0-A501-4286-911F-6F6C0526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E2EF-A8FB-4221-8634-B22BB6C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DAD0-7740-4483-932C-E95B3A5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0AF-B898-4FA8-9A4D-B0741C7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2814-371E-47B4-B592-78B25F9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2975-45A5-4629-B5EE-6702D6C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810-6374-4A6F-954C-9B549CA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BDC-B73C-41E6-8F7D-9FCF0BB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0C19-3153-44B7-A334-EA4D7596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789-B11C-4034-805D-D58518F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55CB-D2D6-4170-929D-C0AFFA22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39BB-2EF2-4B64-8496-BC7257AA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0FC7-4FFD-4FEB-861B-2CCC9A20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6FC-2055-45DE-AB3A-952600C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024-1064-4291-AB60-6504778C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BAD-714F-4543-962D-2EEA35C5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13F-F4DE-472B-B104-EBDB1C4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260-32BB-4AA8-85EC-4418CED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80C-AFDF-459F-A3FA-8C4534D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DDC-1C8F-4F93-A5D2-CE6B61D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32DA-F9FD-464F-8920-AC359C45DB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438E-BED6-46BF-B961-CB2E6CA4DE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B. Herr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5 – JESO TOMPO NO MI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5 – JESO TOMPO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no mi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 tsira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onga hisaka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rano soan'ny 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5 – JESO TOMPO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izao ny nah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via hih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 ants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n'ny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Jeso no miandr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hampandro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5 – JESO TOMPO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sao koa ny mpand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moron-dàl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na ny fahava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o toy ny nam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5 – JESO TOMPO NO MIANT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ndringa, kilem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jamba, o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oa halan'ny mi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hanan-tombo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37:51Z</dcterms:modified>
  <cp:revision>61</cp:revision>
  <dc:subject/>
  <dc:title>Tiona Advantista</dc:title>
</cp:coreProperties>
</file>