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EED-12FA-4BC9-92AA-5EB9F696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67D-4DC4-40BC-A472-EB283831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3F0-80BE-4F87-ABB6-4839291C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539-9600-46A7-A59A-1E9113CE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F319-1A6A-4113-BC51-36644893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3D57-C84E-4566-9B86-671CE8BF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84BC-E8B7-49B1-A6B6-968164B4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7220-E3ED-42A4-8159-95E5120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B87C-F7A4-45A7-BC34-B7F59991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9BFF-7FCC-4E0B-8254-C92D05BA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B94F-E9A0-4590-8387-D3F9CA4F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0B9-2C3B-4812-9E53-B56D03E4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5773-F160-4936-86CC-F3109F5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A273-1B6A-4E22-AD58-3182C6D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2C97-0F10-4C8F-9341-2D00FA14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29F9-177F-48CA-9213-B0B078F3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0C61-0179-4C66-9F53-C0922C76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D1F-C76C-4B9B-8DB7-14234D39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1E6-B546-4134-B82F-51DC82BD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27B-B8C2-4B06-A592-AB0BC883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0DA-915C-4888-BEAC-710A8E10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D87-E049-4ECE-95D8-B86889AF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9FC-A887-41A7-9ED6-53BC753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A4D-A90F-415B-B3AE-D4C0BBF5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066-A690-4D30-9A7E-4C099E145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864C-7997-42B0-9FE0-6DC0CC815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Delabord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30, DLG16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32 – TSARA TOMP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2 – TSARA TOMPO NY AS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, Tompo, ny asanao ka hohi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to ny herinao, soa koa ny laz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'ny masinao no hi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 amin'ny fo ho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 amin'ny f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2 – TSARA TOMPO NY AS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y mamelona ny teni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hariana izao tontolo iz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niteny dia indro fa nio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voatra re 'zao ta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voatra re 'zao ta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2 – TSARA TOMPO NY AS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ay andro any handalo ka ho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hita izao ho rav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drombohitra soa, lohasaha sy a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hitoe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hitoet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2 – TSARA TOMPO NY AS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teninao, ry Tompo i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rona ho ahy toetra sy fo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sitrakao ihany no hifal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erak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erak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9T04:49:30Z</dcterms:modified>
  <cp:revision>30</cp:revision>
  <dc:subject/>
  <dc:title>Tiona Advantista</dc:title>
</cp:coreProperties>
</file>