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D91-3508-4599-BDAC-1909B214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F1F-DE85-42C3-930F-ABE0C16A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A97-0DD9-41E6-9E06-C9A73ABA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A34-7D51-4DE7-92AF-AA80DFF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2096-B5CB-4B5B-9B13-6741A984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6791-15A1-4B04-A680-5E2CD15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734-1056-41F3-848C-66C105A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C44-FD75-41FA-8541-9BE5C61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7720-9357-4BB0-8B8E-4546856E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3D72-0A79-4291-B4E3-40A2B2F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DD5D-E27C-449D-98CE-877D633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457-49FF-4A7A-BFB3-63CC16D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DF96-6033-4FD6-BAB7-645966A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020-FDFE-44E9-831D-D05D213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950-34BB-45EB-B9EE-CEFBDE28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160F-CAA4-4A7E-AAA6-80C7E527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56B1-9244-4EAC-84E4-6D61B1BD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0A3-4CE4-4788-87B0-861E493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5AE-5C39-490D-9DD9-198AFC7D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786-7AD1-43A0-8C62-85ACAA7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13B-0254-46E4-8EA7-6D08A0A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AA4-414F-4D00-BEE8-478CFE3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2BB-A19D-4AFC-9B40-4B632F1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E24-B587-43A1-9E9C-6325E49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35B3-6414-43E2-85FE-EAEAA06284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27C-DAC8-4A06-A797-A7EF76F956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516 -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SY ANTENAIKO INTSONY VE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16 -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MISY ANTENAIKO INTSONY VE ETY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y antenaiko intsony ve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y hametrahako n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iko midina k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, jereo 'ty maty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16 -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MISY ANTENAIKO INTSONY VE ETY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drandraiko anio ny 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ntena Anao Tsi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falia-mihelina no hita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iko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16 -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MISY ANTENAIKO INTSONY VE ETY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faniriako dia fant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afina aminao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fanantenako dia h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iko,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16 -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MISY ANTENAIKO INTSONY VE ETY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oriana foan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oko ny ho velona et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adisoako izany, ave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iko,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52:22Z</dcterms:modified>
  <cp:revision>121</cp:revision>
  <dc:subject/>
  <dc:title>Tiona Advantista</dc:title>
</cp:coreProperties>
</file>