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239F-4460-435D-A90E-7D063381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25FE-4EFD-4E35-A210-37D549F1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996C-B112-415D-A2F6-3ABF5900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F6B-F78A-45BE-BBD6-41E8CEE1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D07D-13CC-41DE-9559-80CDA302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7CA4-2A5F-425D-95E7-BF2EB525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A42C-6A74-4200-8800-CF9450C7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5FC4-8AC0-40FB-96D8-A2DBF0E8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1141-0D0F-4439-860D-0567D360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2CC0-884B-4480-89C0-EB0CC8FD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FFF9-5CCF-4018-9644-0384438A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4EB-3C6B-4006-B42C-1473AF18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A114-3B02-44BC-A830-321C2D28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1DEF-93E6-419E-8F3E-79A6929F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EA85-E600-4CE8-B882-95DA8F4A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E38D-D367-4BCE-BB0B-401DA0DA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D104-B8CA-4E3F-850C-ED08CBFE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24C-FD03-4FF2-94E8-A320CCCB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17E1-26E2-450E-A16E-A471659C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802-797B-4636-922D-CA102320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33F-77A4-411A-9397-B77B84E1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B5FF-D0AD-47EC-AF16-9C0EEB1E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4D8D-3884-4976-9942-C16DDAC0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355-1DCB-4234-AF0D-D9B33355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B17C-818C-4543-9E20-B4F93C4906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613E-2576-4926-B93E-55890CB62D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05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NY TOMPO ANIE NO HAN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2520" y="5972040"/>
            <a:ext cx="2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29720" y="635472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Vonjy sy Fampion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. Marn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Johnny Lang et Johnny Duncan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5 - NY TOMPO ANIE NO HAN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Tompo anie no han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ala-olana ila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y nampananten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anampi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y anie hiaraka am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maizina ny lal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a matahotra hoy Iz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ho momb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arena no ilaiko,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Corbel"/>
              </a:rPr>
              <a:t>=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29720" y="635472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33680" y="5602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5 - NY TOMPO ANIE NO HAN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nome be Iz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reo zavaboari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fifaliana ho 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saorako ny Tompo i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fahasoavan-dehi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ingana no amaliany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mivavaka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y vonona hamaly anao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mangatak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22520" y="5972040"/>
            <a:ext cx="2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33680" y="5602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7:15:43Z</dcterms:modified>
  <cp:revision>123</cp:revision>
  <dc:subject/>
  <dc:title>Tiona Advantista</dc:title>
</cp:coreProperties>
</file>