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2CF-E1CC-4E88-9D03-91DF8B2A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C18-DDE8-469D-BE64-955E00F1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40A-EC73-4276-8CC7-85750B69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3F7-A027-4A22-890E-5CD37964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E3F6-9D31-4390-B7C8-F672C613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EF9D-1002-4F1E-BE75-5210AE38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0E10-E093-4DCE-AF64-1E499F24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296D-2B6A-4551-97EE-DF8F2B7C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9258-1469-48BB-94B9-096F324C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DC10-8A40-408B-A7F9-0227A292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D437-FB00-4787-932A-F14BB2DC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995-772A-456A-A21C-0B6FC252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E09C-D24A-4FA0-B53C-4EEB6A5D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C8C8-DD9F-41AE-97BE-439A5A77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CC62-A510-455A-97B3-A7DE1705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7BE3-35F5-442F-83F1-32DA1A36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E3F1-95E2-41E5-B8EB-D0ABA76D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8D4-D5DF-4B17-AB4D-AAE8282E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414-6C33-4942-8822-49EE327E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607-398E-4C66-B66D-FC5531B9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4F8-C426-4993-AFBA-19B9B793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F28-033A-4181-84CA-1929102E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ED6-2738-4149-A362-271F9401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068-94B7-4637-A041-4145CBE0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19A8-738C-4FE7-B0BC-110EFD6D4F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D054-CCFC-4E5D-A051-5C386D29DA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42 – RY MPITILIN’I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2 – RY MPITILIN’I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pitilin'i Jesosy ezaho ny ant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amantonalina anie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pitilin'i Jesosy ezaho ny ant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ifarana izao tontol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2 – RY MPITILIN’I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y inona alina izao,ry mpiambina ô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mangina fa ezaho ny ants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pitilin'i Jesosy ezaho ny ant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ifarana izao tontol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2 – RY MPITILIN’I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dehana ka torio ny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napetraky ny Tomp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dehana ka torio ny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ifarana izao tontol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1T07:33:54Z</dcterms:modified>
  <cp:revision>90</cp:revision>
  <dc:subject/>
  <dc:title>Tiona Advantista</dc:title>
</cp:coreProperties>
</file>