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1B0-8009-408E-8BEB-3C78565E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197-42C8-4519-AF52-66FA9397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0E5-CBA6-44A9-9C5A-EF9E0576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4EA-A371-4F5E-97B0-34D45C77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7F9A-4258-4CE9-9145-0ED151D5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B3A0-73D0-44B1-97EA-334103FC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12EA-F272-472B-A02C-9F34B06C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79E-A79B-4376-B7E4-7AC96C69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6F0A-7D97-4A6A-B52B-A837AB3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C0EA-698B-4602-8A60-513EC09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BF69-90F5-48F1-818D-9CDC976D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EE4-B5D5-4DA7-8D4C-D5171B16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F1C9-EE89-482B-B5D3-0BBF996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71C6-275D-4637-936F-22E3AA92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2611-CA90-4C8D-A12B-C3A69E9B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64C0-C099-4417-8402-6F7D1FEB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BF02-AED4-4D3B-BFF1-89619FC4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9EE-F933-409D-B409-4A798193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17A-CF62-4303-9B4F-A4EC9DA9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060-32F3-4F36-87C0-1CF8BBE5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862-2421-4E62-8E6A-3F896137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BEA-8BEA-4E3D-8025-3C793E20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385-6A09-41BC-8263-9642A4C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9AD-20C1-46AE-82F7-1DC22D8E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C51-37DA-4F9F-8929-429AEED2F9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C1C5-3F81-42F5-8B5F-E9570CFCC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kotova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E. Hast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FFPM09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2 – INDRO NY TOMPO JESOSY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2 – INDRO NY TOMPO JESOSY JER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Tompo Jesosy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nihafy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 nivesatra eso, je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2 – INDRO NY TOMPO JESOSY JER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, Jeso, jereo, (Je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, Jeso, jereo, (Je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izao dia nihevit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, Jeso, je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2 – INDRO NY TOMPO JESOSY JER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Tompo Jesosy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voahombo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 nijaly tsy meloka t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2 – INDRO NY TOMPO JESOSY JER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lefo-mandoza, jer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nti-namely ny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 ny rany nirotsaka t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e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9:41:12Z</dcterms:modified>
  <cp:revision>27</cp:revision>
  <dc:subject/>
  <dc:title>Tiona Advantista</dc:title>
</cp:coreProperties>
</file>