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218-DAB2-46D7-B14B-B45C074E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405-0985-4E05-A8FB-8F35A2F1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28A-4F96-4532-891D-1A081A64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A0A-8F58-4871-9798-6252A54C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8C80-C697-484B-A0C4-8106FAD8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5E11-0AF3-4C17-B33E-A2602682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A78D-871A-4ABD-AE7C-CDCBDFE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3B7-6F82-4D11-BB12-5E61BAD3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D9E-A9C4-4190-82CC-EC26B866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1EF0-94EA-4B4D-97E0-1AB663C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779-1EB4-4155-879D-AF30055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9B2-56D9-4923-8B9C-2F8CB0D9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8149-5B71-4045-A8E5-EB0815A1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E8B-D8EA-406E-AE03-55D8733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2E61-65CB-4B3A-964D-0FEF04F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F997-5CC0-4E6C-B698-46CC0F8D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DEAE-97ED-4B08-BD30-526A8B6F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888-ABA0-432B-BAE2-2F842A73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4AD-DA0C-4736-A003-B402D15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38B-ACD2-4B12-BEA8-879AE1AE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9AE-0FB0-4928-8BC9-87690EB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96B-A0C1-4A2D-876E-D8C959B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2E7-C300-45DD-93E0-FE8E129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CA9-A03E-4B23-967C-4FBB1241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951-56F6-4601-AE2B-2B7A8E7295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9DE1-1AA3-495D-98A7-7A6D4B8854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joe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. Hu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1 – NANDAO ANAO ELA AHO RAIK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o Anao ela aho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hiankina an-trat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7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ty tamy aho, Rai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ta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ty tamy aho, Rai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ta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ambesaran'ny ota n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y anefa fa horai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tsy mendrika ho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vy isan'ny mpan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hanana fiadan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ba hivesatra ny ziog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7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Indro tsinjoko ny sand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otra mba hisakambin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dia te h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7" action="ppaction://hlinksldjump"/>
          </p:cNvPr>
          <p:cNvSpPr/>
          <p:nvPr/>
        </p:nvSpPr>
        <p:spPr>
          <a:xfrm>
            <a:off x="867564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ty tamy aho, Rai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ta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ty tamy aho, Rai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99040" y="37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704080" y="41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99040" y="454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90040" y="49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90040" y="580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90040" y="537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689320" y="33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1 – NANDAO ANAO ELA AHO RAIK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6:50:23Z</dcterms:modified>
  <cp:revision>63</cp:revision>
  <dc:subject/>
  <dc:title>Tiona Advantista</dc:title>
</cp:coreProperties>
</file>