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93E7-35B3-4DB9-B872-06A79B1A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725F-B949-46BC-B0A4-72C6B64E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38D8-241F-4542-8E78-BE2AB939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FBE9-1E81-41DF-BA82-7D0F945A4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EFDB-E370-4C11-BBF9-0600BBBC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7489-C862-4EB1-90DB-E373B39E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5435-787D-426F-A30A-87D6467F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AABD-D561-48B5-9D89-767DC87F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7ADB-4C76-49FF-B491-98E62940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4A57-9A64-4B25-A97C-0E742EDC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1399-EEF8-4448-B23C-7D6FEC5F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A074-A88A-4271-B5F3-67739E21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E49B-6880-44A0-B9D2-3A8C9CA9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7D1C-8020-4AEA-A6A8-DED21DF7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14A6-4898-4A14-A2E1-313FF76E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6C58-F42E-4EDC-AA0F-F863377C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94A7-8D50-490E-936B-68CD46AD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7568-7A13-47F5-BC14-1FAC23D4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6DCB-797F-44F0-B77A-F2ED4DC1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0D8B-36B5-48CB-86DA-D26F2F18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2A6C-1FD7-402C-8E6B-747D8A2E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D0B7-8BA2-4F53-9908-DC50AFE5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BED3-1EFE-4D6D-9BD5-80B1CBFA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AFD-0E7F-4235-9D8B-445A1159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66A6-5AB4-47A4-9EC3-BEC2C03C70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1A06-8F7B-46F5-9DB4-1945F0FEED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04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ENA TOERAM-PIADA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943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Vonjy sy Fampion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. R. Marnoë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C. B. Mac Afee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04 - TENA TOERAM-PIADAN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ena toeram-piada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o amin'i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azon'ota somp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kaikin'i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8831160" y="5943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883368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04 - TENA TOERAM-PIADAN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Jeso, Mpanavotr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y tao amin'n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azony akaiky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kaikin'ny f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3368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ITRE DU CANT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sy toeran-kant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o amin'ni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o ny Mpamonjy hit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kaiky ao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31160" y="5943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3368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7:06:43Z</dcterms:modified>
  <cp:revision>119</cp:revision>
  <dc:subject/>
  <dc:title>Tiona Advantista</dc:title>
</cp:coreProperties>
</file>