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5A5-4333-4AD5-8AB1-94440A2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B2A-4E00-4824-A1DA-EEF53073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098-E4E7-4455-B1A0-44EED9DD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572-D893-4ED4-B832-FFB6B4FB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4FF-2494-418F-BB0D-8B44576E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30E0-CA0F-4889-90FA-E452E0AD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8BC0-B187-465C-A77B-28BEEB8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AEAC-63B4-4248-92C6-D42FF48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355-DFB2-42D2-A3B3-E2EB414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C11-ECE1-4E5E-807E-ADC0A46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831C-8B77-4A89-8BBF-0597EE3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F10-F926-4A7C-9B9C-17C4C735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9F34-7BDF-41CE-92A7-BA601AFB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C68-FA06-45BC-8E7C-8D9C4B0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D651-85EE-490F-BF39-5CFE8061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10D-6C5B-4325-A5FD-E894F442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3F50-3A61-47C1-A590-82408CF4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829-7EE5-44CB-A00B-183052DA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786-F5F8-4C02-92A7-E1D9FB2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D66-B7C5-4351-8745-2611DD00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A57-3F34-43DF-BECD-B8BB6109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9A1-4C6D-432A-87EC-44E9288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1F5-D8C0-4057-8401-A06A6146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E05-A5FC-41C3-A030-2E39746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4F82-7B72-4BD8-8226-FA7C227534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852-05B8-4AEA-86A5-49E04F78D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sorana mpitandr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6 – DIOVY,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6 – DIOVY,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ny ota izay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s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sory nyota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sory, o ! Es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diovy 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mmm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6 – DIOVY,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, Jehovah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ahio, o ! Tah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ahio, o ! Tah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, ry Ray ô, 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mmm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6 – DIOVY,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hitondra ny an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, hamas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, hamas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amasino, ity havanay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mmm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7:15:16Z</dcterms:modified>
  <cp:revision>80</cp:revision>
  <dc:subject/>
  <dc:title>Tiona Advantista</dc:title>
</cp:coreProperties>
</file>