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A96-11E9-496A-A4FC-A046E2F7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4BA-DED5-454D-ADE4-D6EBC083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9CE-BD01-4771-98DC-B8D9A878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6E1-4371-4DCE-A16A-79084E27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E253-7552-4595-8725-7C40506A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D96D-E107-4B6C-BF0C-2628DEBF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2450-E22A-4BA9-922B-FFC4AE62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552C-68FB-4BAB-BAB6-CC19E206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C06B-8CA6-4836-A03C-9AA87E50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C666-8D70-40FC-A1C3-98F3BE34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27A3-54C3-40A7-87C2-05C1C518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1E9-60CF-4259-8DCF-FBECC784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C721-2C60-4846-B1F9-A1F0A998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22D1-CF3B-4C07-BD9A-F682BDDC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56AF-C9AF-4384-83FC-36BB5F08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A0C1-1F42-4731-9458-43135EC8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8CCD-E704-486D-85F6-3E0B2B93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BC6-9FDB-4478-928C-E3612251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4D2-50D6-4744-8DDF-72B304CD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D99-8966-40AE-8ECE-AE2C4AFF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E4D-C84F-4658-9BDB-5E451F4D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C03-F086-44A2-A2DF-278BCFAE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362-A9F0-4779-B36F-D2A3AA0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C4A-6AB4-411D-BE64-11D1E41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41DB-A721-4A7D-BE63-7A34C092ED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8007-F2CC-4787-8E3C-1B73229B22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eatrice Bush Bixler - Mamy J.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78 – TSY MENDRIKA NY FITIAVAN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78 – TSY MENDRIKA NY FITIAVANY A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ndrika ny fitiavan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onga ho ahy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onga nofo ka maty hamonjy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irery tao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78 – TSY MENDRIKA NY FITIAVANY A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ndrika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sy mendr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ndrika r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faly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isolo ahy mpan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-dehibe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78 – TSY MENDRIKA NY FITIAVANY A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ndrika ny fitiavan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matoky fa ti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nga mpiray lova amin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hy izay anan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078 – TSY MENDRIKA NY FITIAVANY A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ndrika ny fitiavan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amboarana to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ara-mon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ly sy ho mi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06:46Z</dcterms:modified>
  <cp:revision>31</cp:revision>
  <dc:subject/>
  <dc:title>Tiona Advantista</dc:title>
</cp:coreProperties>
</file>