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24B-562D-482F-9C6C-A1543AE9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717-3453-4FCB-AC1F-6426B98B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E32-7CD2-4D96-AA18-88829134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65E-81D2-49E5-AC4B-9D707E79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0793-7D01-4114-B283-1C52A2C8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B755-B6A5-4224-9BC8-393556B6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5152-7452-4A50-9387-EB867AE3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3845-B887-4894-979C-5F1E7665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14D6-CFD9-46A5-982F-405E9F45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8620-05B2-47FD-ABA0-18A11831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3AFE-6CCB-4F0F-BCCA-558B0A9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544-537E-46DE-8CD5-C0FB9F53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E5EE-19EF-4A44-93AF-02D8D1DB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2B89-12D1-400D-A1FF-8645C0A2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C101-11DD-42EF-B497-AA414E33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A3D9-364B-4399-9547-FB5C6482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EF1E-31D4-455B-903E-FCEA2150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7E6-C4A2-4332-A1C2-E5415EE2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DA2-8A45-4A15-B6B7-34EDFE88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3A3-A60E-423D-B6F2-75CE625C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3D0-A572-4EF0-A4C9-A968ECCE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A6F-59D3-4DD9-A812-AA8CDABE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0E9-4EB4-4A03-8D1C-B801014B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9CC-3E68-4998-B218-ACDCCE2B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30C9-B4CA-424C-8401-B826DFA777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3374-D703-4881-BF36-745B9FB8B2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TORIANA NY FILAZANTSA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t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FPM375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FPM37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96 – RAHA MAGORAKA NY F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6 – RAHA MANGORAKA NY F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ngoraka ny f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ny Ray be indraf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antsoiny hi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tsy hody va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6 – RAHA MANGORAKA NY F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odia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 ! Modia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odia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 ! Modia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andry Krist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odia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 ! Modia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odia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 ! Modia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andry Krist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6 – RAHA MANGORAKA NY F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erena ankehitr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ampitso fa ani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ba manar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odia anio, dori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6 – RAHA MANGORAKA NY F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rehetra m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hafa-p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anjar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dan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tona, matoki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osoa, mifali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no fia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6 – RAHA MANGORAKA NY FO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7:34:56Z</dcterms:modified>
  <cp:revision>56</cp:revision>
  <dc:subject/>
  <dc:title>Tiona Advantista</dc:title>
</cp:coreProperties>
</file>