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C32-3EA6-4CA9-89B3-F5A30E4D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BE2-4253-4D0A-86A2-022FB339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EFD-C5F6-41C6-92F7-75C006A0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AEE-0185-4454-98CD-6B85EAFE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5163-B3F6-462E-A417-D7DF524F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8E85-14A7-444B-B661-8BF3A08A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F10-2614-4BD7-BC99-C6F69F78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0ABD-4688-4F53-ACFA-6BC323AC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E701-52DA-4B83-8452-6F185C56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B037-A8F2-4F38-BE34-4094F8D4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5743-3670-445A-AB53-B843F8BF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FAD-EBC8-42BB-A2D4-C07A6A8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A06E-D541-41CB-B689-6B41E8C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938-7B31-4678-9947-B3B08C8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4592-A539-4805-865E-8620542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A6C-43AD-482F-AAC2-7A676CCD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1DF4-1317-4D31-878E-FE6D58AB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BFA-FD1D-403E-9F9D-E6151E72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C5F-4A4A-4F09-A44A-ED1FF6A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592-6353-485A-83ED-2B721E2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690-1B6C-40AF-856A-6E225842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44B-B798-4A92-B5D2-76F9465D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D57-D4A0-474A-98D1-E04A33D6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EC7-B96D-4742-A21D-E6F956C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B271-9C1C-4DE7-B8D2-1286892357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C0F0-3C3C-4A81-A6D9-56A2FF0253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horo Har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4 – JESO MAMPAHER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4 – JESO MAMPAHERY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mampaher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ena ao I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itsy, manadio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ly ny manana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4 – JESO MAMPAHERY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no ambon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aina an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kanto sy mi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y no rai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4 – JESO MAMPAHERY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y ome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hasoavan-d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ambony di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koa dia lali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4 – JESO MAMPAHERY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oron-drano ka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sy ny voav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hihira tsy hi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ny Mpamonj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07:02Z</dcterms:modified>
  <cp:revision>72</cp:revision>
  <dc:subject/>
  <dc:title>Tiona Advantista</dc:title>
</cp:coreProperties>
</file>