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C0CD-8B47-48AE-AC39-61DABF62D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B0D9-F321-4F9B-82B7-48ABDDB6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846A-68ED-43BD-8E16-346EDABA7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76BF-EC52-41E6-B3B9-368CAA9DC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5BAB-6E67-422B-89BB-08D2CB74A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8367-563F-4807-A1F0-90CA7A95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4DA4-1ADA-4EC8-829F-989C7F50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1F1A-8AA6-41CF-A188-9AFF023B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BF16-7C25-449F-AF1B-7C259EC3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1A12-BE4C-43F0-9441-8739C111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F4EC-D187-4369-A996-2A5CFC7A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2ADF-7FEE-4084-8005-8B255FFC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369A-C561-4667-B7F0-6214E16D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A61B-5BA2-47DB-98C8-4E238145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57E3-0BB1-4DAA-A6F2-2614D138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338F3-5949-46FF-A497-B0594B12F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322D-3553-4887-A95E-A0E5AA019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8226-0EFC-41BD-B8FD-9CA9FF7B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631D-4AC7-4273-BB31-AE302FC5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0585-6EEE-44A8-BD13-AA8BE22F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3980-0CC9-45C5-8FF3-E5166CBE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0031-8D64-4D2F-8E37-B62FA7BE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AC13-4573-4CD1-A3CB-C58AC228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1BF6-E3A2-470F-91E0-B06D49A7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6051-1E6A-4222-9B95-3299E8339B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FAC2-3DE0-4A58-83DC-D6A652FD3E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Arial"/>
                <a:ea typeface="Arial"/>
              </a:rPr>
              <a:t>TA502 - </a:t>
            </a:r>
            <a:r>
              <a:rPr b="1" i="1" lang="pl-PL" sz="3600" spc="-1" strike="noStrike">
                <a:solidFill>
                  <a:srgbClr val="ffffff"/>
                </a:solidFill>
                <a:latin typeface="Arial"/>
              </a:rPr>
              <a:t>TOY NY ZAZA MITADY NY RE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31160" y="5943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35480" y="6354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Vonjy sy Fampion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A. R. Marnoë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Mosie Lister - Mamy J. Ratsi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ahoma"/>
              </a:rPr>
              <a:t>TA502 - </a:t>
            </a:r>
            <a:r>
              <a:rPr b="1" i="1" lang="pl-PL" sz="3200" spc="-1" strike="noStrike">
                <a:solidFill>
                  <a:srgbClr val="ffffff"/>
                </a:solidFill>
                <a:latin typeface="Tahoma"/>
              </a:rPr>
              <a:t>TOY NY ZAZA MITADY NY RE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oy ny zaza mitady re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Zay tsy misy mpikaraka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zaho no hit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Dia noraisiny tsa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8831160" y="5943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3" action="ppaction://hlinksldjump"/>
          </p:cNvPr>
          <p:cNvSpPr/>
          <p:nvPr/>
        </p:nvSpPr>
        <p:spPr>
          <a:xfrm>
            <a:off x="8835480" y="6354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8833680" y="519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ahoma"/>
              </a:rPr>
              <a:t>TA502 - </a:t>
            </a:r>
            <a:r>
              <a:rPr b="1" i="1" lang="pl-PL" sz="3200" spc="-1" strike="noStrike">
                <a:solidFill>
                  <a:srgbClr val="ffffff"/>
                </a:solidFill>
                <a:latin typeface="Tahoma"/>
              </a:rPr>
              <a:t>TOY NY ZAZA MITADY NY RE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Tompo no nandray 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ampihiratra ny fiain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misy mampan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Jeso aro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26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35480" y="6354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833680" y="519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ahoma"/>
              </a:rPr>
              <a:t>TA502 - </a:t>
            </a:r>
            <a:r>
              <a:rPr b="1" i="1" lang="pl-PL" sz="3200" spc="-1" strike="noStrike">
                <a:solidFill>
                  <a:srgbClr val="ffffff"/>
                </a:solidFill>
                <a:latin typeface="Tahoma"/>
              </a:rPr>
              <a:t>TOY NY ZAZA MITADY NY RE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oy ny jamba mandeha tsy mahi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 haniriako ny hazav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eo aho no hi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nomeny fahafah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26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31160" y="5943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833680" y="519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7:02:38Z</dcterms:modified>
  <cp:revision>119</cp:revision>
  <dc:subject/>
  <dc:title>Tiona Advantista</dc:title>
</cp:coreProperties>
</file>