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B2E-7071-4A5D-9C42-F55A93A4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E9E-4FE9-4AFF-A93E-3B353ADB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099-6853-4C4F-97E0-3550858A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965-771A-4290-ADDA-74186ED4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5104-EC16-4521-9217-050CD457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0F34-79F9-49EB-A932-8DD21006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30A3-60F7-49C0-84B1-C40CC3D2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2E1C-9695-4908-86EE-FEE79286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C00D-DE73-43F2-8E9A-21866EB1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76B3-0ABC-4B39-8D93-EFFC98F3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F1D0-5251-4EAC-9CA2-C129A1C1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4CD-46C4-4051-9C4A-2BF67E09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E057-AD06-4814-9BE1-2AF3C55B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BA5B-B254-453D-83CD-958BCD51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BD52-F275-4BCA-A457-CBB8F316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EE79-9C90-4569-AACC-E88761B1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CD0B-5699-41B9-AFE3-C04B2F57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83A-3918-4B8C-BA98-2F69FF3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4BC-99B3-420E-B69C-9C9B9CA4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F82-6BEE-45F5-A60C-604D7BDD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E2D-E8EF-4D8B-A606-28DC7C7B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41E-84FD-47BF-B758-9D575325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E6A-8766-42AB-AAFF-FD444482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AA2-7B39-4BDE-A7DD-F52D8DB2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9605-8EF5-44F6-98E6-64C5E5FE2B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4224-6B9E-4023-AC0C-DCB1EBF2F3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S. Wesl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HL073, DLG05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70 – MPANJAKA MENDRI-KA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0 – MPANJAKA MENDRI-K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jaka mendri-ka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ndro maty 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ratsy manan-d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 ô,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noho ny heloka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jali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A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hafi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0 – MPANJAKA MENDRI-K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foin'ny Rainy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o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tro ny mangi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helo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latsany ny 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avo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iky ny hij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tao Golog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70 – MPANJAKA MENDRI-K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&lt;&lt;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Ny rako niko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tro-tsil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zo fij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hanto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, mba tsar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kony ho 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, ô, tsar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Solonao !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70 – MPANJAKA MENDRI-K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ô,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intona ahy ad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ti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mba rai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etrin'ny a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ho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ko anjakao.</a:t>
            </a:r>
            <a:r>
              <a:rPr b="0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9:30:49Z</dcterms:modified>
  <cp:revision>32</cp:revision>
  <dc:subject/>
  <dc:title>Tiona Advantista</dc:title>
</cp:coreProperties>
</file>