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B78-FD07-4E29-9A28-A7E5229A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4B-E732-4105-AC5F-F66478E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809-719C-401F-82F8-921C8F5C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8F3-1250-49C1-9F23-8681448E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2A8-A002-4A09-9421-9346E402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6307-5E17-49A3-9944-47FBCF7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9E4F-DB8B-4710-BE12-6CF4B5F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B0B9-3CCE-4349-A45B-1B4A34D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271-4456-406B-A092-542B3C5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80F-28EB-4464-B031-93377B28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F8C3-0C34-4AEE-92E8-CACB13F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1CE-E67A-4009-B56E-5F5E54D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C32-8786-4EF0-AF8A-C481F4B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6CDD-5A20-4958-BBB2-23600FA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F52-3B1C-44BF-BB94-D7D76335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047A-2362-449A-ABF7-69B65521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A5C-837F-4D37-9F29-802B17AF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ACC-5615-41BF-A11F-3812DDB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63E-DB0C-45DA-8CED-6180FCF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F10-FDFB-46EC-B104-8F7FA9BF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814-8286-4936-9AA4-E1C39CDF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CEC-0003-4C61-AD3B-D360AEB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7FD-DD5F-48B4-8278-6C35727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D94-A9C0-4A46-91F6-D683861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7C7-CA72-46EB-ADF6-0AF9EC528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94F-83AC-4D4D-AE5D-3F642320C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Stebbi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18, DLG4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2 – Ô!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2 – Ô! 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Hitako ka fant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adanan-t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Mpanav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rav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ko mar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no manas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ko 'zay sis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sara noho ny las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2 – Ô! 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Tsapako , ry Raik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votrao, ry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faka ah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tsy izay nandoza, h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ring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2 – Ô! 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'zay nani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tadiav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o hery mba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akao mano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Rahal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'ny fihav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afah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6:52:35Z</dcterms:modified>
  <cp:revision>62</cp:revision>
  <dc:subject/>
  <dc:title>Tiona Advantista</dc:title>
</cp:coreProperties>
</file>