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F49-5032-4C47-8D29-93889EB3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46C-BFE4-4455-A3B2-8A3CFF5A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036-BF06-4FB3-AB0F-06B098E7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CEE-E7DB-4847-B56B-33D400AA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9970-E35E-4DFE-970E-3158DC31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D69B-F2B1-48CA-A9EB-4712B31B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ED97-2AF4-4B0F-B8FB-5D37703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0544-AFCB-4F7E-A02A-42969D47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7805-E489-4A8F-94F7-0633992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F044-860E-45CD-B66D-AF7C5F15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BCDA-D55B-4319-9898-0BC7593D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A12-0E24-4C86-B9C5-9FFC9127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287C-7596-4A9E-AAF0-77FD662C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8EEB-1AA6-43ED-A69F-B4AEC3A9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F249-AE9B-462C-B07D-56555997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F3A1-6D75-49E2-BE35-D55CC455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256B-E196-4BAF-AD9D-5D12C009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523-3AAE-411B-9CAB-5FC461EF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E19-1318-4292-ADD2-81712FCB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C46-1E99-4146-9868-D55D447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FFA-4977-4847-AA29-92CB7F9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026-FAFE-46C2-8CEE-DE62ADC3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5C4-0000-4C73-927A-8555E2D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4EA-BBE2-4FFB-AD5F-A1ECB4F2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335-9B68-4137-A650-B169331710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E11-9E30-4A48-83DE-74E578AAAD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1 – ONENA 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07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1 – ONENA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nena ny Mpamonj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nena ny mpan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sotrany ny tan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anao mpan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ndriny m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tantara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votra ny v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ireo m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807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1 – ONENA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eo 1 sy 4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iza ianao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2 sy 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iza moa ianao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eo 1 sy 4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iza ianao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2 sy 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iza moa ia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via meteza, Na tsy mendrika 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indrindra no tadiav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nao tokoa, tia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anatsotra anio ny tan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1 – ONENA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nena anao ny T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nena anao mpan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anio ny helo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Jeso tsy mi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m-pitiav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ndona mora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o no tadiav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fa izao no o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807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1 – ONENA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eo 1 sy 4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iza ianao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2 sy 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iza moa ianao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eo 1 sy 4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iza ianao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2 sy 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iza moa ia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via meteza, na tsy mendrika a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indrindra no tadiav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vohay ny fonao, Mba vohay 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 hiditra ao Jeso Mpam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807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Jeso Mpamonj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fitiavana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hoa : &lt;&lt;Avia,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Ahy.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vay ny fok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ia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 'zay rehatra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sa sy ham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1 – ONENA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807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1 – ONENA N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eo 1 sy 4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y ah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2 sy 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y ah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eo 1 sy 4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y ah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eo 2 sy 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ty ah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 'zay ratsy indrindra Nefa te hifind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nilanao Diovy anj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ko tokoa, mami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Jeso monina ao am-pok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80760" y="4673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9:14:34Z</dcterms:modified>
  <cp:revision>61</cp:revision>
  <dc:subject/>
  <dc:title>Tiona Advantista</dc:title>
</cp:coreProperties>
</file>