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AD7-4D83-429A-813F-B64AC961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826-EA11-4C1E-9797-3FD4C81D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871-5113-44D4-B0F6-AD02C027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FDB-FA44-4660-9377-B9205075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DF94-8169-4F6A-8394-2035C67C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1384-EA8D-4D51-8964-95BED73F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FC3C-2563-4DC5-90B3-83C260AC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0EA-4181-493B-9971-C31519B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40D1-F2F0-4CCA-A1CF-26294F6F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9A98-D17F-44E6-B5CF-A16F95C8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E885-89BF-41DA-954E-3087844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FB1-CB4E-4D05-AAE0-CE63F977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EDB1-46C6-41D1-9345-E497CEA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0D81-89B7-4D4F-9BCA-8E8C347F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E9EE-753F-471F-B713-E4267214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D96-6E53-43A1-AC11-A3A1A76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8B0A-070F-48DF-ACF3-835ADC87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2BD-E8A4-47ED-A4EE-B0B8094C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EB2-6AAB-4455-A47A-45EFC713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7A9-43DF-44AB-BDE7-963D61C8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56E-6076-45DF-92A8-D7F759E5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7BD-2BFF-42CC-97CC-69BB68B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7BF-372F-4A48-8CE4-5F59E1E4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CE0-388F-4886-8F24-A17BBDE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388C-D48E-4376-A90A-F13EC95DF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27C4-74A2-4945-8EE2-204304E7E7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boavonjiarina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boavonjiarina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10 – RY TANORA, VONINK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14880" y="46656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15240" y="5046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04080" y="5427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90040" y="5808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690040" y="62499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0 – RY TANORA,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ora vonink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vitrika sy s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na ahi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ba fantatrao fa zava-poana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rehetra ary iz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anora ô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15240" y="5046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04080" y="5427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690040" y="5808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690040" y="62499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68932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0 – RY TANORA,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haritra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y ny vonink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imba sy halaz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ndrao ny tanjona ambony die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Kanana tsara e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Kanana er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14880" y="46656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04080" y="5427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690040" y="5808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690040" y="62499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8932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0 – RY TANORA,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avao ny ta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azavao tan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torio ny te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'Ndeha torio teny 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otom-po sy her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Zotom-po hery 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endrika an'i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n'i Jeso tia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14880" y="46656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15240" y="5046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690040" y="5808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690040" y="62499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68932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0 – RY TANORA,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ora vonink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vitrika sy s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na ahi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hanatona ‘zay nomena ana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valy soa ar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anora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14880" y="46656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15240" y="5046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704080" y="5427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690040" y="62499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8932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haritra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y ny vonink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imba sy halaz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avo ny fanev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hita tsara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hita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10 – RY TANORA,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14880" y="46656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15240" y="50468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4080" y="5427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90040" y="5808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68932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59:18Z</dcterms:modified>
  <cp:revision>86</cp:revision>
  <dc:subject/>
  <dc:title>Tiona Advantista</dc:title>
</cp:coreProperties>
</file>