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CDB-B259-411A-BCDF-269F87EC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3EE-FD80-4C0A-BBA8-330F9F9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B4E-3A1A-453E-B743-D8951B58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58B-0D93-41E7-BE25-2EDA92F5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1B35-A3AF-49BC-BED3-E1554768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0E6-0661-4C46-BA97-320EB208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3501-7F57-408D-A6E1-E952487E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82B7-867B-476B-BF55-C087141A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7ADF-E0DC-4BEE-9E51-0199EB3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5BF-9F3D-4569-8A5C-B3A2278B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2E08-6D4D-4757-B462-8EFF638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373-A6AF-47D2-9B8E-C3E46CE7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A51-C733-4AEF-8758-D4DC3FD9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4882-2DD6-4946-8269-9B18EF9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7042-0551-419C-BC4E-7B5A366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2823-AA35-4E20-8945-C18D705F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E0DB-6665-4DC3-865C-BB686708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113-FD31-4354-801C-1597D67D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E0C-C509-443F-9326-D376439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D67-D8B0-48C2-AE31-8E8BCAE6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3DA-12B0-465C-9C2B-1351DCB8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273-81B7-425B-A594-F3CE4F4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F98-1AA5-44E6-A83C-E448E10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1E6-BD28-47E9-B182-B07B351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B607-4001-4005-BC10-64949A71D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5C28-9AFE-4D40-A48F-BEF328BD4A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 fisoronana ata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10 – HE REKO FA MANAK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110 – HE REKO FA MANAK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reko fa manak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'ny tromp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intsy havotana la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heloka izay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boka ny fits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reo manan'ai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isam-poko sy tan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valin'ny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0 – HE REKO FA MANAK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saonana sy 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hany sisa azo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Indrisy fa efa nis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m-pahasoava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Indrisy fa efa nis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m-pahasoava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10 – HE REKO FA MANAK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ny ireo mpanefoe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mahantra mar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sempotra misefose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loana Ilay Tompo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ny fa tazako 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trema sy ngeza t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ndrika sy mito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ika Ilay Me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0 – HE REKO FA MANAKO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tazako 'reo man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nafina ota ao am-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ireo izay namono ny T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nakambana toerana 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nisy izay nampiavaka 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mitovy ny ota nat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raisana koa re ny s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tokana ho azy ir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isaonana sy toloko, sns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41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22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0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17:59Z</dcterms:modified>
  <cp:revision>35</cp:revision>
  <dc:subject/>
  <dc:title>Tiona Advantista</dc:title>
</cp:coreProperties>
</file>