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5B6-2A91-41AD-B03C-B22D5540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DBE-15C5-4D1F-9DFD-7B7C628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BAD-10CA-497B-974A-AE4B27CC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366-0307-4885-B61F-C5B66469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45E-42C3-4186-82D4-311FEDF8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1C7B-43C0-4954-8D5F-0B77182C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BAB6-914A-4335-ACB8-615E9EB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F171-3CE5-4382-ACE9-CE61E037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F71E-28C9-4189-91FA-58EFAA4E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D84B-0EA2-4326-9F0E-7C6073B0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F818-3E15-4DC2-83F3-3A3384C3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BBA-F9B6-4CA0-8AAB-F9E1BB01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7D36-DBBF-4E39-A21D-81C354F8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8DD-B8D9-4DA7-9E1A-291900C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EA44-0D19-477A-B67A-AB72696B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1C4-9AFC-4697-89DB-DA570D46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8F68-131D-4914-BF99-4DE57386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19A-7532-43FE-BF3E-48C5872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FB6-7CB2-47C8-B14E-B215642F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F38-F29A-4ECF-BCC8-FB06E595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E6A-67A1-4E0A-A1ED-C008301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030-F954-46A5-BA1D-1A3B980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252-5930-4C23-BECB-F92CE6F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C1D-EF14-4219-A7F3-637C53B6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684B-CFDD-4C94-83D0-179126CDF2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78F-F207-49A0-9A77-C5BB0436E5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6 – JESO NO SAKAI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6 – JESO N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Sakai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 madin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ka amin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e ! Faly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6 – JESO N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ampi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ez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dio fo sy s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6 – JESO N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tariho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ind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kaik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potrak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6 – JESO N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Ianao no t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kaiz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toetra an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toet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10:10:01Z</dcterms:modified>
  <cp:revision>84</cp:revision>
  <dc:subject/>
  <dc:title>Tiona Advantista</dc:title>
</cp:coreProperties>
</file>