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C6B-5E80-4FE5-B726-731EC91B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B5D-3669-41A7-9418-5CF7F34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552-111E-4408-8CB3-6997CB8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D8F-B21C-405F-8E3C-F4CB5B90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D0E-78E4-4ED4-9047-0B22DFE7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8014-A791-40CA-926D-260CF05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8422-A9CA-4E38-AFAE-276FAFC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7C49-A6CD-485A-8FE8-7905B27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1BE3-60AC-42ED-A144-1E27BC0B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A3F-AAAA-4EBF-AFBF-107EE69E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FD8-69FE-4A1C-B1B9-1A16A4D8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3CC-A058-4EEB-998C-311AD97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3DE9-C62A-42FC-B275-4A78E20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68D-31DA-400F-B442-BEC3B4C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C051-B524-4ECA-82A4-1FC6BD53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5063-1BE9-4FF6-A15C-0761CCF3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2200-E735-4BF0-AC52-711F1582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C48-00A6-405B-90FC-01EF1173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E37-2349-4085-A37D-34E02EE7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ED3-1CC1-40C3-9D49-F93F611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342-417D-41F6-8E1E-0BA913E0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F58-4DEC-4DBF-B1ED-33D3AC3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FF5-0201-47D6-B75B-7953872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0C3-C187-4869-8909-2A4C94BA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970-AF72-46B3-9FA8-373C52D3AC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F0C-DD1C-49A2-8E95-2E97E7C625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4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5 – HE ! MARAINA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5 – HE ! MARAINA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! Maraina, Ray ‘zao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riko ny t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ratra toa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zava ny d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ratra toa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zava ny diak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5 – HE ! MARAINA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Ray, mba tsilovy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ilay lalàna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ovy ny fanir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iky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ovy ny fanir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iky sy mba han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5 – HE ! MARAINA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! Tahio Ray , ny saiko ke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eny sy ny as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enenako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ara-andr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anenenako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ara-andr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23:34Z</dcterms:modified>
  <cp:revision>76</cp:revision>
  <dc:subject/>
  <dc:title>Tiona Advantista</dc:title>
</cp:coreProperties>
</file>