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3E1-1523-4619-8CCD-18C37C18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217-DEF6-48AC-9950-CF6CC407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457-C818-46DC-9243-1181E509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3BE-189B-4464-A96B-4A9128A4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1F6-1AE6-4324-839B-CEE97B4F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274C-75DE-4846-9CE7-C7ACCC00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86C1-7D19-4035-B79B-3369523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3B1B-4365-4249-9E01-55F2067A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D09B-D508-4FFA-A2ED-6A6A35A8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4A98-2D0D-4244-8AF5-4ECED66B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3E56-EC79-4F34-91EF-CDDF770A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B6D-425B-4C9A-B8EB-8D4629C3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5D9F-B74B-4082-AAA4-551928E6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4BB2-014F-4AA9-8CCE-7A6D3AB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8A21-B7E8-485A-A65B-2272BAD7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4EF8-1DB9-4178-BF5C-80A44873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9899-B39D-4873-97F6-5F4B8DC6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A5D-EA06-4363-AF13-592090FB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365-E61E-46AE-8EB1-F41B8CBB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317-D0A8-4E6B-A999-84CC3199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F1E-74BA-4071-99CC-55F9517C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493-AFB2-48B4-ABBA-1221F2B0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4DD-2707-417A-828B-8438D922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B34-B5A7-4097-8A77-D5E1B8CB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279A-FD7E-4808-BFEA-DB8276B626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DEDA-064E-4D0E-A52F-F1155E0829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 J. F. Saïd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 J. F. Saï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4 – TSY MBA MISY REHAREH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4 – TSY MBA MISY REHAREH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mba misy ataoko reharehako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fa-tsy ny hazo fijalianao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ho levona aza koa ny foko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hy Jeso na ho mangidy na ho soa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a mahantra koa,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nao na ho sambatra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mpy ahy Ianao, ampy ahy I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matahotra aho fa ny lova ary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hy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578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578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480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4 – TSY MBA MISY REHAREH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ahoako intsony izao tontolo izao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 nataoko fatiantoka avokoa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ola sy harena, zava-mora lo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oiko av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anantenako, tokiko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y fahoriana ety, tsy hahasaraka ahy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Lovako Ianao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Ravoravo izao ny foko anilanao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oky I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78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578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480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4 – TSY MBA MISY REHAREH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etivety foana dia hahita Anao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ifanatri-maso aminao, ry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Sambatra sy tretrika ny olonao, Jes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Ho ami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sy hisy ranomaso, ratra koa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oaovanao, Jeso, ny etrin-tenako,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Voninahitrao J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Lamba soa hatafinao ny tenako, J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Fotsy ma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78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578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7:12:53Z</dcterms:modified>
  <cp:revision>90</cp:revision>
  <dc:subject/>
  <dc:title>Tiona Advantista</dc:title>
</cp:coreProperties>
</file>