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EBD-9A45-46AF-9E41-642B0BD4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217-0A06-4F86-9243-5ADEF0E0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B24-A2E9-462C-A454-ED6217F0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844-5327-4134-A585-CD7AEAE8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19FD-2531-4429-87A1-4BE871E6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9323-DF49-42FE-B0BC-85973F16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2E3A-469E-41F6-9321-C9FF1908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F611-8186-4497-A421-70E544B7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53A1-1301-4839-BFFE-DFA78F19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4FF8-E7DF-4F6B-B8B7-BFE2F49F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CE15-005D-4996-98A0-1AF9EB7B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2DF-2E6C-4EC2-9285-A852B5AB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2C3C-623E-48B8-9336-B7A65FF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3010-9014-4693-9F90-C61AD32E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7674-28FA-4845-B0CA-B7987D6A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01D9-85EB-4003-B640-E22EE734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C982-8CEC-4388-B492-4B624629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077-EBFC-4C05-B886-506FAAB1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1A0-B8A1-40E2-B68F-F9A71D25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2AB-89BD-4EA7-A786-18DB323C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953-9E92-4B84-A6A7-4C360AFA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E4A-1D3D-4304-835A-B2E13743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B48-6609-4B96-812E-FC8BBFB8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1ED-D6C4-4C9A-A120-DBF78C2C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10AE-4039-4AE6-B86C-D5E36AAF2A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4F70-FBE3-46D5-823C-A19B924AD1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14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NIR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anante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Mrs J. H. Peak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. Montgome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</a:t>
            </a:r>
            <a:r>
              <a:rPr b="1" lang="fr-FR" sz="1000" spc="-1" strike="noStrike">
                <a:solidFill>
                  <a:srgbClr val="ffffff"/>
                </a:solidFill>
                <a:latin typeface="Corbel"/>
              </a:rPr>
              <a:t>FFPM686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4 - MANI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ir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n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rosalema tanan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nàna masi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rano lay 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aintsy rov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nefa tazanay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Lay tsara lavitr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zanay, taz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any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4 - MANI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tanterah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Tompo tia an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kasan'n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taony tamina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&lt;&lt;Ho any am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nomenao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tiako ho hi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voninahitro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zanay, taz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any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4 - MANIRY IZAH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kan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o ny di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sarotra ny la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ira izah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asasar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intson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tazanay sahad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any masi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zanay, taz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any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47:45Z</dcterms:modified>
  <cp:revision>121</cp:revision>
  <dc:subject/>
  <dc:title>Tiona Advantista</dc:title>
</cp:coreProperties>
</file>