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5ED-12A3-4086-A714-BB92594C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9D8-1549-4588-B7F4-48B68F10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839-F44C-4F03-8300-E77AD984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E6A-9C0F-45FF-811E-7D7A9F2B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573F-AA66-4275-8153-5C37B8E0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B1A3-3A27-470B-97DD-F4814B0C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2506-847A-4852-B880-B867FE3D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8182-5706-4ED5-9ED9-A956500D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877F-01A6-494A-8326-272BCDF6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0139-E4E3-43C9-815A-E061D01A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4BFF-7B04-4576-809A-7F4F741C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318-F605-4F6E-9B3A-6EEA0D85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AAC2-53B1-460F-ADCB-9AAB08DE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7C9D-C229-419D-92AC-BC7D9BAD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4B11-F80A-4668-A261-BC3683C4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67A9-B105-440D-B10E-EEEA68C5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D07D-C4BC-4368-8785-3F2C3020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7E4-07D5-442B-AED5-6396071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399-F6A1-4271-AAFF-A015AA5C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780-1DF5-4642-AB52-1F653C28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762-A764-4C5B-9892-BF64E3D9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412-CBCC-47D8-B569-BB32504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B3C-7F3F-4FEF-A16C-D1F13D7C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692-0A55-4493-BDA5-031AACF2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27D9-04F2-44A6-B4D6-24C6825F3F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FABB-D5C1-406A-8479-DA12E211E3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M. Wel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83 – RY FANAHY MASIN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3 – RY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anahy Masi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pitari-dal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ehoy anay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y lala-mar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ntena Anao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antana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tso hoe : &lt;&lt;Avia aty !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azano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3 – RY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eranao an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onena-ma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y fonay meloka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hefa nodio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eseo ny taho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sahy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ak'i Jesos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teny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3 – RY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anaro mba han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didi-ma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arak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rehetra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Arovy tsy handà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diso, mamelà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ho mpan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i Jeso be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83 – RY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akaiky Iz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mba handray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inka hakekez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oera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iandrandr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toky, ravo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o, ry Fanah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pandova ny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11:32Z</dcterms:modified>
  <cp:revision>40</cp:revision>
  <dc:subject/>
  <dc:title>Tiona Advantista</dc:title>
</cp:coreProperties>
</file>