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84D-27BD-4968-A29B-68DB590F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44B-9F25-4BA5-8A14-A5B2238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A11-55DA-44AE-B298-C5202CC6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C6A-83DC-4E61-9EBD-252CB79B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144-77F2-472A-88E4-8EF1DA01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892-B90E-450F-A780-3C308DD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836B-D9A8-4D69-8123-A3142257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B010-11FF-42D4-9B8F-E376E39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6F9-B1A9-4F52-8E52-83C709FD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E7E0-1F61-40A9-94E5-6B145F58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1E3-72A3-4C87-817B-94FDBD3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E5A-F452-4CC4-9C89-AF56DF6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BB5-1DF5-440E-B92B-4E8A8E2E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608C-350A-47C8-95FE-9949FA5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8B4-80F7-4DD3-A396-E49D54E3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62CE-036C-4AB4-AA69-9CC2A1BA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630-6C0A-4F7E-A529-AF3F363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CD8-771A-430D-87BD-E13AD4D2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C01-0FE2-4C43-B768-D2AAFD0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12F-FFF0-45B7-8128-13F6284B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9F2-B3BF-4CB9-A6FC-DF80DA7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39B-FF13-4457-A42D-9518B7FE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127-E2BF-4FB0-91CC-4542FAE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0CE-B055-4D0F-96AA-4894922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626E-9348-4404-B027-44E9B6C7A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713-5567-4BC6-94DF-C4156FAAEF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E. Wh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6 – NALATSA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6 – NALATSA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tsako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avo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ko sarob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ti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nona no f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tsaka ny ra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monjen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6 – NALATSA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paso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dri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laozako hank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y maiz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laozako ny zava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laozak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ona no f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re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6 – NALATSAKO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jalian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so, lats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etak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nona no zak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ami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fandavan-t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dras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41:51Z</dcterms:modified>
  <cp:revision>61</cp:revision>
  <dc:subject/>
  <dc:title>Tiona Advantista</dc:title>
</cp:coreProperties>
</file>