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D11-8B8B-43B3-ACB5-8A0C797D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30D-D4FB-43DB-BDD7-32911591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A3C-187D-42D7-A8A5-EAFADBBA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990-A153-439A-B96B-65B11EE3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1D71-8255-4E93-AD5D-96ED01C4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8332-7C40-4DBB-BCA2-070F8B21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BB36-F87E-427D-BD48-B7124F7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9ACD-4536-4367-8784-35EB7FA1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63E2-2122-40BD-94F6-EF1B7CAE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F24C-FE79-4A80-99D5-C963E0B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9629-734E-49D0-8630-DFD063D5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D78-7D2F-495D-9BF3-4BE48190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9796-2F9F-4AE4-9ED9-AE90AE4A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AA42-3C7D-4CFE-914A-D92492F3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6FC5-5F63-45F2-BE13-017A02A2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293A-F698-4B3B-8A0E-97DF0631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3109-FCE4-49CB-BB8A-33DDFBF0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7B1-09EC-4109-A4D0-7C3E852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311-7C99-4855-B896-966DF5EC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8F6-09D6-4009-B935-74218814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8B6-405D-4A8E-ADF5-EDDB53B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F48-D1E6-4994-943B-68DC7DE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738-C3F6-4E5D-A4DA-A73FBF9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683-3173-4EC8-A9F1-495482A5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9B80-889C-47F5-A6A1-EBEA4E1924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5321-8A04-42D2-897D-4310E4FE49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R. Rabenasolo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30 – RY MPANOTA 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0 – RY MPANOTA M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mania ô ! Banjino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itiavana feno ho anao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ony Izy tety dia nijay er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Fa nigoka ny tena mangidy Iz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niaritra Izy raha teo Kalv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otanao dia maty Kris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0 – RY MPANOTA M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maniasia tena very s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gejan'ny ratsy tsy hizotra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oa ve 'zaho ity mbola tian'i Kris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 dia efa niodina nivily di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anao ve Kristy mbola tia, tena 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mpanota toa ahy 'zay efa nania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57720" y="639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30 – RY MPANOTA M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Ry mpanota mania, manatona, avia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Lay fitiavako feno tsy miova do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ho Tompo efa tia, eny, mbola ho t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bola tia anao Aho, avia a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za ela, avia fa 'lay Ray be fit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fa miandry anao ho tody a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57720" y="563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57720" y="6013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763840" y="520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8:01:46Z</dcterms:modified>
  <cp:revision>35</cp:revision>
  <dc:subject/>
  <dc:title>Tiona Advantista</dc:title>
</cp:coreProperties>
</file>