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46D-4BA4-4913-B379-D4DD8D11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938-F571-41A1-B0D5-716E642B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DF8-4AE3-4CBB-8F98-17910D24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FEC-35C7-4EFB-BFE4-64A2CE73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9410-8533-4A49-9AB3-4411DD94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435F-65FA-4871-85D9-C8DCA347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C061-571C-41D8-A049-14E24867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3947-A32D-4F8D-BBD7-29750B71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F1CB-9295-4256-A86D-CB7BF535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82C2-7A21-49A0-BCE9-929E8CE0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C858-369F-4896-A44A-213A2419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BB7-8E08-48CD-B64B-5953EACB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4E04-37C0-4C9F-8E1B-92781B6F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BB2-92BC-4663-B39D-8BE88AC8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30A4-4716-4DAF-8E4C-3686847B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9C8B-AC0E-40C6-A994-E39FE405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3ABE-7465-499B-BC5D-448E22B7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1D7-6205-4D99-B8E9-83D5C5B8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C07-905F-4B0D-9505-D2A31DFB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CE3-00C1-4B84-AC39-9BCA6580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43E-A4C5-4E72-B10E-D892832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A23-1FA3-4A18-A58C-220465F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B93-A16C-489C-AB1D-2C2F3B76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08F-0D34-4423-9805-F632889E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D447-01C8-4163-B995-AF92DDF5EE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59BC-5A7F-44D9-9FDA-9B50F7054B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ndrira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illiam J. Gaith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88 – FALY AHO, TRETRIK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5000" y="5300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5000" y="56815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775000" y="60930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8 – FALY AHO, TRETRIK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aho, tretrika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kohonan'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dio sy voasasan'ny ra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ara-mandova amin'i Jes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isan'ny ankohonan'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5000" y="56815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74980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775000" y="60930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8 – FALY AHO, TRETRIK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mpiantso rahala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vav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nakaviana iray izah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matotra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malahelo ir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aherez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ny fandresena ir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na h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775000" y="5300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4980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5000" y="60930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8 – FALY AHO, TRETRIK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enan'ny kambot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njak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akambana avoko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raiko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ntra sy mpan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ely sy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saorako Iana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kohonanao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775000" y="5300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5000" y="56815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4980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32:02Z</dcterms:modified>
  <cp:revision>67</cp:revision>
  <dc:subject/>
  <dc:title>Tiona Advantista</dc:title>
</cp:coreProperties>
</file>