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6908-6059-4F0E-9462-B9654E07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2F65-52AC-43EE-941D-DB148951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F0FC-8418-40DE-9424-27DE7066D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B601-9699-48B6-9404-D7C78405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1FCF-55AD-4479-A7A6-219360D5E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411D-E6DB-4FD5-B97E-3CC006A7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E87E-BA3B-477D-93BB-E9C9A700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2703-C103-4F85-8056-2053160B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D482-D0D0-449E-AC26-0065EF66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8A5C-8333-4476-BDA2-01FE95BA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59C1-C048-46DF-85AB-DB93D79F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9E1F-D4B2-41C8-8634-790986CE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C907-6484-4226-AFC5-006FA98F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2FDC-1C8A-4C5B-8F8A-DDB063E1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E200-BA96-4CE2-B96D-0D108056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A642-738D-4C89-8DFF-A6B73540C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470B-956B-4CC0-A4C0-BCBF4A97F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F731-0983-41E5-AD7E-2C30ED9B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B49E-9128-41F2-B64D-DDA5573D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64FF-1796-47BB-AC9B-AFAF8FAB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2C20-C60E-489C-92E7-0DC35F1C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C768-5102-4481-B3C3-7A469F4A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4D29-A93F-41CB-B8C6-C9B2C1C6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70F2-9A27-4FDE-B2B1-E0F08080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EF8F-6D58-4BBD-9FA0-3D5A5852FF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9D8F-3036-4D58-9551-F4DB5ECAD6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nkohof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nl-NL" sz="1000" spc="-1" strike="noStrike">
                <a:solidFill>
                  <a:srgbClr val="ffffff"/>
                </a:solidFill>
                <a:latin typeface="Tahoma"/>
                <a:ea typeface="Arial"/>
              </a:rPr>
              <a:t>L. Stueland sy M. J. Meeg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. Rinkart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FFPM00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55 – ISAORANA ANIE ANDRIAMANINTS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429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Raha ny marina dia tsy misy ny TA055 fa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ny  55 ao @ Fihirana fanao am-paosy 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no nafindra ho TA757 ao @ Tion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055 – ISAORANA ANIE ANDRIAMANINTSI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saorana an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iamanintsi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fitahiam-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meny ho ants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treo am-boho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andraka ant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sika hen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soan'ny l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5780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884808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055 – ISAORANA ANIE ANDRIAMANINTSI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ety tap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lany ny haren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ita far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sisa izay homen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ahy samb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fo miad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efa sant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anan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85780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884808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055 – ISAORANA ANIE ANDRIAMANINTSI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Ray sy Zan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ny Fanahy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in'ny mas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ompo iray ko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iamanit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Be fahasoav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anater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fisaor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884808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06:12:06Z</dcterms:modified>
  <cp:revision>29</cp:revision>
  <dc:subject/>
  <dc:title>Tiona Advantista</dc:title>
</cp:coreProperties>
</file>