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A80-E1A3-432C-9C33-453B10F7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D18-78E9-4D25-8D2B-19479607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0CB-4604-41DF-B343-8C09F5E5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26F-6C32-49FD-8B7A-EF6699CB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9CA-1E23-4188-A27B-780BF3CD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88A4-9EFA-43FB-93C1-0962B7D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603F-3B39-4210-86AA-641E988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0FBC-835D-4916-9BD4-5271FA30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0B2E-D19C-476A-941A-D1D3FB27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AEC9-F38D-4E27-8576-AE0D3E8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EE76-5DC2-4137-A50F-A1571ED5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865-B2E9-48E1-8DDF-034A89DC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7E8C-78F6-4C2B-90CD-02D3793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520B-C525-4CD7-9143-E269E1D6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1664-C7BE-45CB-855F-BF1B298F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EA3-2603-4DDC-B0D8-DAE3B659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41DD-3831-4359-8527-4F9430E6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3E8-FC58-40CC-8869-0FD07450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B32-2B5D-44E4-8ACB-78110443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78D-3A79-42F9-8438-BDC280D1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EC6-E8C5-418A-9624-6D81EE74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2B4-7958-4210-9E84-593733C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3E1-96CE-4F55-8475-508B49E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671-2271-4210-9AB1-D56BC71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008F-1A16-474A-9301-C6AA493C26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929B-A341-479C-9706-4B39E0D49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H. Morri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1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00 – HE TAZAKO ILA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0 – HE TAZAKO ILA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tazako Ilay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, ny Ray, Mpitsar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eho mpanalala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5772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77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0 – HE TAZAKO ILA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tazako Ilay voahomb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olam-pantsika sy tsi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ny toa mitomb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nt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577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77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87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00 – HE TAZAKO ILA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mifona toa man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talaho toa mita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Ray tsy mahaj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ro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77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5772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87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 – HE TAZAKO ILA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oraka ny Ray miha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nany 'zay mitar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ota teo, fanahy, sa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sor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5772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77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ko Ia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'zao famindramponao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Anao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 – HE TAZAKO ILA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5772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772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24:06Z</dcterms:modified>
  <cp:revision>33</cp:revision>
  <dc:subject/>
  <dc:title>Tiona Advantista</dc:title>
</cp:coreProperties>
</file>