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C8C-C4C0-4FA6-BFB8-63A88046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C6F-AF54-4B2C-A673-784E9D5A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508-CBDA-4CA9-8236-3CC7996C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1B9-E080-466C-9B63-6C175EDF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F72D-2CBA-47F3-85B0-7423B9C0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0A52-7EC5-47AA-979F-AAB1FAD0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888F-C2CD-4DC0-8CED-9C66430B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349B-6A80-4EA4-BB50-016B56C1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4D11-EDB8-478D-9757-A0886D67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AA10-82F5-43C2-A320-65E6CFD9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4F30-17FE-4889-A6C3-72C70A1B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BB7-C761-4B55-96CC-C4E47350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F64C-7352-458E-B7F5-7E06380E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E22B-9FE8-4A6E-834A-C09B5C47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E152-9C69-49AE-BB98-2D4518C5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8062-C96A-4C42-9304-5C78FAD9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10DD-93A7-4707-BFF3-EBBD2E37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51D-D16A-4216-9D41-0026598B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55E-E251-46E1-BEED-3D2A7D06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E91-CD67-48A4-9DE2-EF76E3BD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120-78DA-4C0A-967A-84C7BBF7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0D2B-B25D-43E3-ADB7-7C69A8D5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471-CA2B-409B-83CE-CE13185D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D03-94D5-4FBB-9F86-F767FBD9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3D54-EFE5-470A-B5DA-198060EE09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8772-30EA-458D-AE30-60B7F02A0B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48 – RAHA TONGA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8 – RAHA TONGA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ha tonga a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vy ao anaty rahona ao Je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ba hanao ahoana r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oa efa vita tsara ve ny fioman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ndray ny Tompo lehib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Hosana ve no hoventesi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mpiseho ny fahavonon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a ny vatolampy kosa no antsoi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avy hanarona ana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8 – RAHA TONGA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ha tonga ani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vy ao anaty rahona ao Je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tsena ve iana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tampoka aminao sa efa nandrasana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zao fiaviany iz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oa ny fifaliana sy ny avo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 antenainao ho entina ho 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a ny horohora ary ny taho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 hameno ny ao anatina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8 – RAHA TONGA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ha tonga ani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vy ao anaty rahona ao Je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oa ve fantatra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hiavaka eo ireo ho 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ry ireo ho ao Salema vaov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sasàny ve ireo helok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ry hakariny ianao ho ar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a ho fiampangana hanameloka 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rà nalatsany taty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9:12:53Z</dcterms:modified>
  <cp:revision>37</cp:revision>
  <dc:subject/>
  <dc:title>Tiona Advantista</dc:title>
</cp:coreProperties>
</file>