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B2A-0BA0-42D4-819E-1BFA2E4C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CBB-E2F0-491D-AED6-9C5FA61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759-E5C0-477F-80B4-1B543C5A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132-98B0-4474-BB21-24834407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034-7BCA-49D0-B420-5EFC00B7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F425-6738-43F0-89ED-AEB82533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EFB1-EF2C-4F52-BDA3-AAABEAC1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C7E4-A10E-4EF1-9551-F89D803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7A1-FDFD-416F-BF7F-CFEE515E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A326-ECBB-43D7-BFF8-A0D736CA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71B2-EBBC-4B17-8032-3265023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9AE-DEDE-4108-B8E2-2082E180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66E-F76A-4650-B3DD-C8DA539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C4A-492C-47AB-BC9C-A4247A3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6F0D-5C6F-4364-B536-24E5C02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2C5D-0AC8-4D38-8117-953768EE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67A-C07E-4888-90EB-09C3B0F3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239-B63A-4FC3-8316-AD279AF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4B1-19F3-437B-9572-0254D7C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468-C173-471B-8910-8D5CDB4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195-7ABA-4F84-821C-7DE05E2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F56-8662-4161-8F00-FEEEDD7B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F31-5A71-4115-AC68-93DC587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04A-8C62-4C98-BBA9-5B8FB4E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EC69-93D5-481F-BED1-EC42AFFA3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A07D-A81C-4DB2-8AC7-6A10685FD4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Kirkpatri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o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1 – INONA NO METY HATA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1 – INONA NO METY H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mety hata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isako ny s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ana ny 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ena ahy ko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1 – INONA NO METY H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int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no sy matok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int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ia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1 – INONA NO METY H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ampianar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y ny hank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sory ny iz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vaozy re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1 – INONA NO METY H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 ho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hy ny 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8:39:53Z</dcterms:modified>
  <cp:revision>71</cp:revision>
  <dc:subject/>
  <dc:title>Tiona Advantista</dc:title>
</cp:coreProperties>
</file>