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843-92EF-4A19-A562-00E6EC0A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45D-51D0-42F8-B182-270E04A6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9F3-0DD4-430B-80CF-F4C4632B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9DA-B219-4D34-9727-002A75AD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3AAC-28D6-40CB-9E46-EB934D54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65B7-57D0-4EB5-846D-677E14B6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B63B-B704-42C5-A9AD-31B23E2D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4D50-09A8-4C1C-9088-3F6A51D9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BB12-67F7-4AAC-B3BC-33AD8E25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576F-4282-40B0-BC28-42307D88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8E6-B461-42D7-A76C-C93DE74C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EA8-EC64-46D1-8C6E-E6B89A75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CB87-4348-445B-B1DF-61670C0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E1AF-7324-44AA-A7FC-81719F0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E25E-1735-4690-B0A6-2ACA6E4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3058-2F3D-43DE-9F45-6CDF54B1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CE99-F9C2-4E10-B044-810940AB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BB7-F254-40EF-B7FD-3A8E5294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7F4-D59B-4C22-BB17-52743FB4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6E5-6AD1-4209-8C8C-E7D5D3DF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803-57D4-4244-8D2A-557DF74E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43B-2040-4AE2-BA08-05325A44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546-10D8-4DB9-9B43-15253CC8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CE1-3A17-4290-8956-DFCD2FA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9719-707A-45E4-8FC5-A6E909A990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5E37-1723-4210-B14A-8E200E148E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éritage Sing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2 – EFA ELA NO NIK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2 – EFA ELA NO NIK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ela no nikasa mba h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adino ireo lasa izay f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jo indrisy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aty tratra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faka ao, mbola ao anatik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2 – EFA ELA NO NIK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vonjeo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mahantra kely 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sanao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fikitra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omboka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asasanao m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dio, ma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2 – EFA ELA NO NIK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ela no nizotra tao an-jo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tsy afaka nipoitra, toa naf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izim-pito tsy mba 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ndrakotr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endrey fa nirepirepy 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38:47Z</dcterms:modified>
  <cp:revision>62</cp:revision>
  <dc:subject/>
  <dc:title>Tiona Advantista</dc:title>
</cp:coreProperties>
</file>