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4C9-CEA1-49D0-BFE5-413F8F3F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AF4-7F0F-4605-9DF6-7E99E11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DCA-A1B5-4C22-A214-63CDF8CE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6CA-FDEC-4360-A17D-6F7EA324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3193-4EE5-4DFD-A8CF-AEE3640B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8C26-AF59-4A3E-9565-45D9BDA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640-A9BF-4970-B193-C9ED0F5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3B0-E92E-4546-A9A8-DFEA76E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C09-0318-419D-BB72-272A6DB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8BC-CED6-4782-933D-1EBA8EC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468-DEF9-4FE8-A90C-D8DC337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A89-C984-4F37-A429-443D0C8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F57-C997-4A39-9624-7E743CD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B5E1-182F-4C74-BF20-6D03F1F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44F1-8C60-4A26-ABBA-5A8C7BB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238-9DA9-47EF-9F0E-74E71238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B82C-2BFA-42FE-8D91-C475798B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5B8-1672-49DE-AED6-1604158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2AB-D564-4240-9D90-FA29B893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FA7-1CAC-45BD-865B-634137C8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499-9CEB-4BE1-8570-F99B845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D9B-D801-4D79-96CD-7BFE8F9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0FE-30B4-4004-9454-87209EB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CBB-3C47-4026-ADD0-AA23532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FA5-D525-4C33-99D2-00CFC831DF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E93-77AC-4BAD-840E-0FEBF00FD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Fillmor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3 – TOA MANJOMB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3 – TOA MANJOMB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manjombona, toa man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han'i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 Jesosy, 'Lay Tompo ma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araina nivavak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3 – TOA MANJOMB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Mba esory amiko, re raha azo 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kapoaka mangidy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oka, ry Ray, izay sitra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ny ahy re no atao.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3 – TOA MANJOMB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angina tsy misy mi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sahan'i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any mba re feo male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mivavak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3 – TOA MANJOMB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andeha ho 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tsahan'i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vavaka ataonao ho 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vavaka masin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3:00:11Z</dcterms:modified>
  <cp:revision>31</cp:revision>
  <dc:subject/>
  <dc:title>Tiona Advantista</dc:title>
</cp:coreProperties>
</file>