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F06-2482-4483-BF2E-9DF7FD9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1D8-088F-4673-8198-AFB6569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93E-E006-48D6-A5DA-DF9207D5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9F4-A927-42FB-A5DC-8BE0CD01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491-21D9-42BC-A5B4-1DE8ED49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B06B-19A3-4664-A7FF-D5E83B74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4B5A-0A3E-48B1-B3A8-64C668C2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83BC-1DD0-41F9-9E43-49DD05BF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E88C-986B-4C78-9935-E113A1F7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196D-0C8C-4E93-AF92-C1FED4C3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CEB-7789-4C09-8A50-6253C55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AB1-6105-4E62-9E62-F59437B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A6EB-5BCE-484D-BCE2-61A9C65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D4B4-2327-4921-8612-1CD6C2C4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5132-22CE-437C-ADFB-C0DDB72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B50B-709F-4DCE-B65E-43441DCF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1E2E-4AA5-4DE8-8E10-D6B2DF9A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AC6-41AE-460B-8379-BBE6354D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0F9-D029-41B5-A886-6082651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68B-E5EF-46CC-AC28-9A69EE2E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B37-496D-4751-9236-C5D9BE92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891-7DDB-485F-8516-E9E0ED37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9E8-040F-491E-BA9B-F796FB91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C2A-79E1-4DA3-941C-3B81C936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E031-E273-4FCA-87A7-0BFEE6151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709-2278-4DF6-98B1-B67598A23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S. Loren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3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6 – JIRO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6 – JI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iro mazava eo an-dalan-t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, ry Ray an-dani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rika ny dian'ny olom-b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o an-tany maha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6 – JI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itrako indrindra ny hamaky 'z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torohev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ely koa ny fahaz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ambara izao ny her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6 – JI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ika maro no mivelatra 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lana izay diavi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matoky fa indro re ny T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tsilo ny fino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6 – JI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mely re ny fah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kivy sady ketrak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mitory fi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fionon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 isan'andro izao ny d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tsy 'lay kanana ambony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zavana hany hitok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, dia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6 – JI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19:59Z</dcterms:modified>
  <cp:revision>40</cp:revision>
  <dc:subject/>
  <dc:title>Tiona Advantista</dc:title>
</cp:coreProperties>
</file>