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86C-A02A-47E6-B747-7B54156F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9E9-1151-4BB7-8474-B6F39BD2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ED2-794C-4171-B280-DEFB988C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353-5C20-484B-BED7-2266DD1D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CA21-1D0D-4934-AF8D-13B7F2F1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3D50-9553-4658-B43E-3743C71F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C927-CDE9-437A-8B9B-C02F5AF6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87BF-3610-492E-A222-E9BCCC14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8709-D15C-434D-BF93-EC54C866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96D8-4BFD-4C56-9CFA-434F37DB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B0F8-092A-4CAA-BAE2-3A724AA8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542-C175-4048-92D3-FF7E15DF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E139-5F67-4826-AC60-33A980EA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4D3E-93BB-443D-AE6A-C284BDB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B07D-7581-4E51-AE8F-62ECD542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9146-CD28-42CF-90E9-3448BB77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855D-9C24-41BB-A1CB-19F24197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3FD-1BD0-4949-BC71-82AA54DD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4DA-ACB8-452A-97DA-7DA907B3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4A3-58CC-4481-93BD-6B8E6DF0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6F8-79E1-4B67-8C24-121EDADB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A70-7740-4570-899F-4BED9D41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B60-3653-435E-AEAF-462238A8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3FA-417F-485B-A6F7-00BD62F5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61F8-D4AE-4AA5-AA72-51994B5143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AD47-027B-4B14-82D9-ACD9CFFC34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sv-SE" sz="1000" spc="-1" strike="noStrike">
                <a:solidFill>
                  <a:srgbClr val="ffffff"/>
                </a:solidFill>
                <a:latin typeface="Tahoma"/>
                <a:ea typeface="Arial"/>
              </a:rPr>
              <a:t>Tryggare Kan YngenVara L. 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3 – TOMPO Ô ! IR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3 – TOMPO Ô ! IR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Ir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fehy ny sitrap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Baboy ny fo hit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oana ny tol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3 – TOMPO Ô ! IR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Ny ainao no he nom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sorona h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 ome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isy mamp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43 – TOMPO Ô ! IR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re ny sitra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malala, no hatao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y fo, fanahy sy s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hisy ny tar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4:19:52Z</dcterms:modified>
  <cp:revision>46</cp:revision>
  <dc:subject/>
  <dc:title>Tiona Advantista</dc:title>
</cp:coreProperties>
</file>