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E40-ACA0-48EA-B5BE-DA339D4E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EE7-2D43-4F47-A124-4DFE6C14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C83-02EB-4B6F-92A9-77C5ABE0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9BD-C062-4C01-A9C0-9C67F61E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98CD-5908-4412-881F-B2A5ABB5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F7D4-44CD-49C5-85BB-AA878706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B9E8-2164-4AB2-A17C-95D99015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D1FE-AABD-4DC9-973C-D1936D5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0F35-7DDA-40C1-8443-14F56D7E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6459-6E3B-4CBE-BCCD-28584F99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E031-1B74-4784-88CB-143551C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AAA-B843-4BD7-B80A-FF6EA169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13CA-819F-4920-ABC7-E7EF14AF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E35A-EA2C-43CD-A272-66817822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D1D5-3EE9-4537-9564-8D05FF66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6464-FB25-4CD4-A959-0283D883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C287-498B-4894-B379-0C0427FA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EE5-DE5B-4136-BDF1-603EE12D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599-3C24-41B3-82E3-C06B083D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381-8C53-4D0A-B20A-3D2D75A2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6F9-D352-4714-A0A3-B787BCD4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356-8C0C-4135-8DFD-980FCF84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BDF-BFE5-4569-9A87-E5B41C37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DFF-A8EB-4397-9E93-6E5895D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6570-CE03-4461-994A-5461A297A7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57B2-BE59-401D-B90C-669D6CCFB6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y Lala Jam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ottie Ramb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5 – NY FA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5 – NY FA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soavanao no tononki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vy aminao ny fahafah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akatro, nahoana aho no m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adinoinao koa ny ot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fantoka teo Kalvary ny mas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banjina an'i Jesosy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talanjona ny fahasoav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anova ahy ho zan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748720" y="6048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10:42Z</dcterms:modified>
  <cp:revision>70</cp:revision>
  <dc:subject/>
  <dc:title>Tiona Advantista</dc:title>
</cp:coreProperties>
</file>