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6A5-0E67-4B77-958F-EB9E9791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019-B935-4702-B15A-BB1CE699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2BD-FC6F-4C6E-BBEC-DEEEFFDB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4EA-168C-4C36-AAC1-758930E0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84B6-B896-4379-95EC-E5E85B6E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8D30-5AEE-4A14-B9FB-2A66D702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8FBC-6777-485D-A7A0-C9E0CF2D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0E35-C439-47F9-B357-43D17C37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DD46-20EF-4A7F-97A2-3094BE23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CB1E-21CF-49B7-85C4-64A5F12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7496-E859-472D-ACAD-A8D867A1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087-F0F3-426D-8A58-4CDC807C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27DC-0058-4BD7-9D1F-0FBA5BC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7554-C881-4567-8446-22DA4711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6A6F-C7E2-41C3-8446-2F4D6F1B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104A-C01A-409D-B283-DE834E11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973E-8CBD-481B-ADFD-34827FAB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FE4-725D-4812-9684-409F61DA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569-D657-473C-AF98-9236AB6E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B47-0C8E-4B93-A47D-53AA6A15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FC1-0957-4400-8457-055D4C4C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F19-FF2C-400F-8D12-C0F81EE0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B92-7D53-4BB7-BDFE-69DEF40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7F5-4D54-416E-8AEE-F85DF2CF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E752-E8D9-4CEC-A103-C4ED230DD6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A87B-4CAC-4E8D-ACEB-D63E0CA175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barijoë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70 – EO AN-TSAND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0 – EO AN-TSAND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n-tsandrina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oraka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y tsy misalas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lavitra ny v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nitoerana hatr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0 – EO AN-TSAND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tsy mendrika az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diovina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amirapir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a masoandro mi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0 – EO AN-TSAND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mantsy re no 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kana ahitana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ireo tsela-mahajamb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odidina ny 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my rava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tsy mendrika, sns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70 – EO AN-TSANDRI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anio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inak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m-pela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apetra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Tompo, anj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tsy mendrika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4-12T11:36:48Z</dcterms:modified>
  <cp:revision>90</cp:revision>
  <dc:subject/>
  <dc:title>Tiona Advantista</dc:title>
</cp:coreProperties>
</file>