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D10-C0CE-44E6-BA6F-148D1109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9AA-1B8A-43B8-A6B4-98C59C47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DAF-FDE1-4D17-BEDE-F4CF611D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642-0AF5-4057-8D62-468E6A16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8066-B1B4-48CC-85EF-E662C712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9A05-4724-4A50-A589-907E31FD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90A7-6781-4CF8-AC25-8FF7AA3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276-E0AB-4911-8E09-B2C2B43F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FE8E-C092-4AAB-ACD4-4EDE34A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9302-4A51-468E-8FF0-1F715058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71FE-51C8-4925-9C5A-0F64D803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771-1CB6-4568-8830-9E308FBA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8D10-6490-4500-8BD1-2E78EA70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A905-B6CE-47B3-818E-7390CE2E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A369-85C6-46D2-93DC-5F0E601B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BAAB-E8BF-48B5-82D8-941AB93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DE64-5297-44ED-92A0-E42D95CA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0A4-B81D-4A75-A687-22FFD40D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F1D-03EC-4326-AA7F-4A2B112A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AB0-0473-4EBF-8E53-F52A9578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890-5E90-439E-9F8E-CC5FC249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729-939C-48CC-BCF2-0F9F3F2F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1FF-8CC8-445E-997B-90052C32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E9D-8E4A-4097-AF85-757D7CE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2B39-8E5D-4626-B722-00CB37CF09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2D81-595D-4053-9FAA-248FECA97D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97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MPIDINO ET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7 - AMPIDINO ET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dino eto anio, Ny herinao Ray 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noy ny vavakay avy ao am-p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rotroinay Aminao Ka mba jere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’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eto zanak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7 - AMPIDINO ET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1e)  Henoy ny vavakay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3e, 4è ) Hinoanay fa hitarik’azy I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2e, 3e, 4è ) N’aiza n’aiza aleha hiambin’azy I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1e)  Ka vali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2e, 3e, 4è ) Satria fantatray fa tia az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All) Ka ambany elatrao, no hialofa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 1e, 3e, 4è) Raha sendra ny m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( 2è) Raha sendra ny ady sarotra 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7 - AMPIDINO ET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anay koa ny hasoavanao Ray 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isaraka’aminay n’aiza aleh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mirapiratrao ho tazan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ia az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7 - AMPIDINO ET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avela ho resy ireo Ray 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ilaozanao f’ efa 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sa ataony anie mba homba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Hidera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2T09:39:00Z</dcterms:modified>
  <cp:revision>118</cp:revision>
  <dc:subject/>
  <dc:title>Tiona Advantista</dc:title>
</cp:coreProperties>
</file>