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4507-1D00-47AB-91AF-99DBAED22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A265-5AB8-4F16-9EE0-234C5DE90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3A89-9711-4DCE-A174-C912993D5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005D-E240-48D0-9E33-D425240B6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69543-E918-455E-9860-21C38CCA0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26C2C-F9D1-4B87-8291-7657559D2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9D449-7925-4549-A049-7C3E86D04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A2EFC-1066-4833-B6F2-F0F216DD2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BB34C-B58E-4AFA-B320-8E7779F6B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89461-C51D-4A2C-99F2-162DBF15D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B8735-C48F-47B3-A547-944E2006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AF37-0D06-45AE-8B97-F62DA83BE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C7CFE-0205-4B08-A6E8-8C39BD31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40CBA-A671-4977-A88B-3B54A10F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E3F68-D1DE-448D-A403-16AF39ED6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28D4E-62B8-4A36-9C1F-2CDEC9E2A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21708-0D3F-49DF-AE6A-94996A10E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2754-19EA-4F02-8B50-8312B1C44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229A-1953-411B-966F-5E75D2C5B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29DF-F92E-4456-87E2-7F5933B0E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62F9-1CB6-43C5-AB0F-465D47772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BECD-E9BD-455B-8D5B-C5E0D7AF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2885-BB8D-4D8E-B28B-DCBF96E1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CD65-24CB-4E2B-BC4C-7D386E45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7A3BB-369D-46C3-A4D7-F654D5F96EC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4BD53-0E61-4987-A91D-E482BECCC40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TORIANA NY FILAZANTSA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tso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joel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G. R. Roo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HL47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320 – MADIVA HO LASA NY AND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4797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77160" y="5178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5559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63120" y="5940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763120" y="6381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20 – MADIVA HO LASA NY AND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diva ho lasa ny andr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droso ny aloka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oa Jeso, Ilay masoandr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fanazavanao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777160" y="5178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772120" y="5559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763120" y="5940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763120" y="6381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762400" y="4365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20 – MADIVA HO LASA NY AND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io, ani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Mba vohay re ny f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io, an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anjakany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772120" y="4797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772120" y="5559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763120" y="5940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763120" y="6381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2400" y="4365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20 – MADIVA HO LASA NY AND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diva ho tapitra 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otoana mety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ingana sao diso ny 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oaomana re ho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772120" y="4797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777160" y="5178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763120" y="5940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763120" y="6381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762400" y="4365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20 – MADIVA HO LASA NY AND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diva hangina ny f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renao hatramin'iz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io hararaoty, ek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risty 'zay nisolo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772120" y="4797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777160" y="5178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772120" y="5559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763120" y="6381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8762400" y="4365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diva hiseho 'Lay Mpanjak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-drahon'ny lanitra iz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riny tokoa ny ha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azy ary koa 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20 – MADIVA HO LASA NY AND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772120" y="4797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777160" y="5178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772120" y="5559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763120" y="5940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762400" y="4365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09:08:04Z</dcterms:modified>
  <cp:revision>61</cp:revision>
  <dc:subject/>
  <dc:title>Tiona Advantista</dc:title>
</cp:coreProperties>
</file>