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D3B3-8569-4DDA-9430-E0F1A6CBC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1F0E-A4D6-47F7-AF8E-AF4313C8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882A-93F1-4C3A-9345-5511CC4BE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5EA6-4EBA-4650-BCB8-C8780AF31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DB7B-0267-4B70-BDF6-45C285694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4BE1-8B8C-4DA7-B794-DA55F090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36A5-1D3B-4C8F-A64C-92DEEB51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A27C-617F-42AE-8F08-A7C1D2E4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205F-8458-412C-8B55-262D8A92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ECB2-CC57-4E3C-9F80-16EBB52F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093E-025F-45BA-AC91-BE454936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B46B-FEA4-4058-8A27-589F7DAE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E5FD-1DEC-4504-988F-33A74DB3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5B50-D824-4659-97B8-4F612939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8EE6-1789-442A-B53F-3ADFEA1E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3A55-E8A4-42C6-87F2-E9481DA19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1C70-631D-40D8-B8FD-12C6E6E90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6E7D-A3AD-4678-B1DD-62018813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5B30-52FD-4CAC-A4DC-80888FFE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4231-CB10-4F39-841C-BC36E10A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C17D-0360-497B-AE85-188EAD68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734B-E93C-4858-A84A-17EC2F8F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40DC-7FFD-402D-8ACF-E6D953C2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5FEB-8980-449D-8DF3-835E52D6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AC55-0C1C-437C-A55C-CD1555F597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1833-3F5C-4A2C-896E-60C44D47F0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anante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P. E. Hartman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21 – HE ! FALY NY FO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21 – HE ! FALY NY FO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  <a:ea typeface="Arial"/>
              </a:rPr>
              <a:t>He ! Faly ny fonay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  <a:ea typeface="Arial"/>
              </a:rPr>
              <a:t>Miara-mider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  <a:ea typeface="Arial"/>
              </a:rPr>
              <a:t>Izay niaritra 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  <a:ea typeface="Arial"/>
              </a:rPr>
              <a:t>Noho ny fiti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21 – HE ! FALY NY FO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lanitra izay mazav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, indro nilaoz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ahitanay 'lay t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driky ny Ra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21 – HE ! FALY NY FO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tetika nitom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noho ny helok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jaly tety an-t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fifali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21 – HE ! FALY NY FO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tady ny olom-b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atin'ny alim-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tondra toky sy h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'ilay kivy 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Izao Ianao mif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Ho anay ao an-koatra 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Ka indro koa mand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  <a:ea typeface="Arial"/>
              </a:rPr>
              <a:t>Ao amin'ny f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21 – HE ! FALY NY FO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5" action="ppaction://hlinksldjump"/>
          </p:cNvPr>
          <p:cNvSpPr/>
          <p:nvPr/>
        </p:nvSpPr>
        <p:spPr>
          <a:xfrm>
            <a:off x="88488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21 – HE ! FALY NY FO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vy eny an-danitra av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ondra any ho am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inay re ny ho ra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m-pitsenan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578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8578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578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8488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8488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8848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8T05:43:46Z</dcterms:modified>
  <cp:revision>76</cp:revision>
  <dc:subject/>
  <dc:title>Tiona Advantista</dc:title>
</cp:coreProperties>
</file>