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9451-60E4-4A26-AFBC-B293CA6DE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E246-9FB2-41CB-9510-592A988D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2081-F931-4D38-9D3D-FA136B056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E9FC-07D8-46BA-91A2-D1E85FF67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1285-D67B-4919-A0E8-93C203BB5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595E-F034-4F24-B903-891F1E12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4AF2-474C-46C1-AF36-E7C1A214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28E1-D24F-4402-BD85-FA3405EE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EF7F-B865-426D-B657-8A28C07C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46F8-5152-4464-BBC3-17490DBE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90A9-0DA6-4F6E-9C17-AE450E72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7F7E-B97B-446E-881C-419D2686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AA33-7681-4754-8442-D7CBE68F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E1EC-940F-4EEA-9D5F-B19924CB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B4CF-91C0-4D67-9E4E-07D8E10F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6DC6-3C3F-4306-9A01-6F33D38B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E0FA-3468-477E-B8A9-80C95BED7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15BA-5F07-45EF-A2ED-E9D9A472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EAB7-A4F6-469F-B69D-9E6238F3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4589-AA54-48A4-B767-18983089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79EE-390A-4397-992E-D9566784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3E6D-3945-44E2-8BD1-1E3CEAE6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0F94-3B5B-4BBA-9682-4DDF6094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29E6-68DD-4EA5-9410-2BFF950B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19E4-7F5F-4209-AF34-E14FB15459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D134-FAFB-4ED5-BA29-2C5D7931F7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nitsanganany – ny niakar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Lowr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080, DLG02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03 – JESO NATSANG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290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340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290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20000" y="63943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03 – JESO NAYSANG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natsang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obio r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esy ny fas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faka 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340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290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20000" y="63943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54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03 – JESO NAYSANG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aza sy haja ho Anao (ho A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amonjy sy Mpanavotra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foana re ny fas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anjaka Tompon'aina 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re (Raiso r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era ho mandrak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290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290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20000" y="63943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54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03 – JESO NAYSANG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natsang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ky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anovoz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ry vao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290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340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20000" y="63943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54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103 – JESO NAYSANG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hanjak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rak'amin-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 hampanjak'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290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340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290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354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9T07:29:53Z</dcterms:modified>
  <cp:revision>33</cp:revision>
  <dc:subject/>
  <dc:title>Tiona Advantista</dc:title>
</cp:coreProperties>
</file>