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07E-17CE-4C67-96AF-DDAF3EDC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EDD-9454-4DB5-A672-98FA027E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12F-67C9-4160-817F-D7C8FC07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65B-73FB-4F38-8E12-2D4B26C5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C9B5-019A-4892-B0D3-A5A0CD67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B475-777B-433A-99E4-64DD1905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BF31-E109-496C-BE36-EA4945AB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A7F4-D866-42EC-BD10-B5EF67DB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E1AE-7FB0-46DD-AB95-7DC813FF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0975-2879-4EDA-87DB-48794604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4481-4326-41C7-B1F3-8F8FC9AB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8EF-E9A7-4E4D-9EF8-52A20DEA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D08F-C627-4B2A-BFC1-B23475F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F88B-EBBC-4195-B93D-A63B5EA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DC21-CADC-4B55-8C2B-404FF5F1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7047-13A8-42A9-A201-A264AB34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E276-E8C4-4DF6-BBB3-83F83DAA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F25-A395-49B4-8EF8-5D0D08A0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9D5-FB31-4A48-B614-65C9D0B7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83B-1B74-4C12-84F2-2C75B194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7F8-7620-475C-B9F8-2CEEE31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EBE-2C76-4A7D-9C0E-E1816009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AFD-DB26-46E9-9DB2-C3501F17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096-104E-4AAC-A0BB-98DFED63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385-0F6A-4143-BEC3-266E67A7E2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16E8-1BE0-4BC5-902C-17A6A7DB4F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2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PIVAHINY NANJENJE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. Razakar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lfred B. Smi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JEM07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2 - MPIVAHINY NANJENJ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ivahiny nanjenjen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nahita ny lalan-kal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reraka ka nital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oa ihany Jesoi fa nand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ITRE DU CAN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asoavana, famindr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nara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'ny andro rehetra iainak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asoavana, famindr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nara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'ny andro 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2 - MPIVAHINY NANJENJ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fenoiny ny herim-p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vokisahy hafali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ainako ka tsy m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atoky ny 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2 - MPIVAHINY NANJENJ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amaky ny lohasa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loky ny fahafatesan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atahotra ny loz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Jesosy eo anil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onga 'lay andro ma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sehoan'i Jeso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o faly ny foko hi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anteraka soa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2 - MPIVAHINY NANJENJ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6T18:44:58Z</dcterms:modified>
  <cp:revision>117</cp:revision>
  <dc:subject/>
  <dc:title>Tiona Advantista</dc:title>
</cp:coreProperties>
</file>