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654-F49D-4F6C-BFF3-37255717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721-276E-4952-82E1-72FF1CA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D9B-2C13-4740-B47F-6B6CA903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42C-95CA-4929-BD0F-2BA4E25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79A8-D78F-421F-8D86-DA44B6C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615-6E11-42DA-8FDD-D17D7779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5FE2-0219-4F80-8845-C3744BF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2FE8-0303-4884-AA00-F8BAFD1F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F3A-5D09-4315-BCF5-3FE57C98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9ED7-A439-4162-A1D8-3282F3A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382C-05FD-45BD-B2F7-C6F7346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94D-0F6F-49E4-9B97-23C8751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420-5F12-4068-A7D0-2FA5CD3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F7A9-CFFB-49A5-BC2E-1BDC48E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D50-16B0-4287-A04B-E82E915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F0F4-9569-42FA-9469-91B4D3D1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466-A0BA-4A60-8FC9-DC841110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6B8-D624-4AFD-8C53-704C6BA8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D75-EA9D-40E5-BFD9-3A77971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4DF-97CA-495D-8EC9-93273F3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FC8-728F-47B1-AA7B-E6C3100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F9F-4FE5-404E-8B7F-AE6F85B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374-DE4B-41EC-B642-65FFA0A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6D4-592C-457A-91B3-3F4F98B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31A4-02B2-4EA5-95E4-350B3F09F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6E4-9647-4D1A-9C64-7742D89B1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500, DLG3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1 – HANARAKA NY D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05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1 – HANARAKA NY D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d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ba irik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min'ny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be ny ak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d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05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1 – HANARAKA NY D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haka ny toet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o mba iri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m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ho sah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haka ny toetr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1 – HANARAKA NY D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as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o mba irik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ny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hy ny fe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asa ami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05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1 – HANARAKA NY D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aritr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o mba iri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dia h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hay mifal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ari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05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oni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o mba irik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tra eo amb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ota intso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on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1 – HANARAKA NY D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05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486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1:41:44Z</dcterms:modified>
  <cp:revision>72</cp:revision>
  <dc:subject/>
  <dc:title>Tiona Advantista</dc:title>
</cp:coreProperties>
</file>