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1A8E-0AE6-4346-9648-7678CD22A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B86B-388C-43B8-B395-A45DC1EC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3602-F0E1-4617-9C01-25761C1B4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9F74-A27B-4A63-B7F6-C45463AEF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0AD7-E38E-45F5-9D4D-49D29E789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90F9-5115-4740-89A3-86FAEB64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2A2D-97F5-49C3-BD42-8178BB79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F48C-E72E-4495-AFFE-5D8D28EA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530F-04C4-4C9D-98AC-CEF0EEE3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0AA7-887D-4486-80FC-ABDCF376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8E8A-81C8-4B8A-A833-D1483B9C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E81B-C65B-47EC-94D8-41E0A3E3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F95C-9686-48C2-B114-CF221D91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916F-5C87-4347-966A-45398376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49BF-E50D-4441-83A8-8AF2FCAE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2B60-8A68-4C20-80E1-6FE3A08A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5BF1-9575-4F44-89E3-55209425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D576-79D8-4A46-92C5-99261D7F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A132-4715-49AE-9404-1B5F092B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34E9-BFD7-4D64-889B-207F6849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616E-A66A-4D10-BE62-3E71A117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7B0B-B22A-4D49-B1FE-C1AA1AB4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804D-2F69-4A37-B5A7-0CEA85C9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25D3-9615-4617-BC20-E74E3621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65CA-F715-4308-A141-2515DAD0D1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AD52-E525-4054-A6E4-B7758D8AF7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ante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ZAKARI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obert Harn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32 – ‘NDRAY ANDRO 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532 – ‘NDRAY ANDRO 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'Ndray andro any ho reko ny antso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iditra any an-tany vaova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iakatra ho anay an-danit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Jeso, Jeso, tena sambatra aho, Je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ifarana hatreo ny haizina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alahelo koa ary ny manj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Sy ny ranomasoko te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Jeso, Jeso, tena sambatra aho, Je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532 – ‘NDRAY ANDRO 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vy ilay maraina vaov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mazava soa mandrak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oerako any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, Jeso, tena sambatra aho,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farana hatreo ny haiz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o ota koa foana av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asolo fiainam-bao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, Jeso, tena sambatra aho,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532 – ‘NDRAY ANDRO 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fanatrika amiko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amonjy izay nanavotra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fihiniko ny tan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, Jeso, tena sambatra aho,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deraiko ny f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otra eram-po, no atolotr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nkohoka aho hihira ho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, Jeso, tena sambatra aho,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8T08:10:05Z</dcterms:modified>
  <cp:revision>74</cp:revision>
  <dc:subject/>
  <dc:title>Tiona Advantista</dc:title>
</cp:coreProperties>
</file>