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AEE-A3C6-47C0-A332-827B051E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0E1-B287-437B-8F09-16E80F03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D5A-0715-43B0-9E16-E5B38F47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05B-3E19-4982-A1E2-5C3778B8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538-BE86-4034-A2AC-4E1ADA2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C56-1AA7-41F5-9713-FB6BB74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2D7-2B84-4EB3-B08A-E175007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2CC8-7B6F-4243-9A18-F8409EA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9272-AD60-44CD-9AAC-484FA2D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1AF-625D-4604-8D33-9200FB7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9CD5-E4ED-4E27-A9E8-E437550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B70-514A-470A-B898-41D3927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4C2-23C6-486E-85DD-425A41C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A3E5-C919-40EC-B319-F24EA8DA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5694-6B91-4609-8E56-3EA3FA7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6EC-273E-481A-B249-4BCD4BAC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075-0DB1-4702-B447-7A4BEAB0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4C0-910B-4B24-87DC-047D4AF7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D9A-4C2A-4B61-961F-FCA43A6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3B5-9EC2-4C99-AED0-6291F91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4A3-7441-4F1D-892D-D780B48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1C2-605F-4C94-9BFB-58C06DC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317-B726-4126-922E-4EE2EB3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EBD-4B2B-4B81-9F2B-AA7D39F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FF9-8928-4ABE-B5A8-C3904D2DA8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6E23-7ABA-44C6-97C8-AAA9E2615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ymond B. Rakotondrainibe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L3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380, DLG4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4 – IANAO R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170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4 – IANAO RY TOMPO MPAM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r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, nanav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itra sy nil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resy ny sar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6276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4 – IANAO RY TOMPO MPAM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ko, mamiko l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votra v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tafah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menao ho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170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4 – IANAO RY TOMPO MPAM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tah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mpanis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itak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170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4 – IANAO RY TOMPO MPAM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aizina ny al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ita izay h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dia tsy mba m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170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58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50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809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42:48Z</dcterms:modified>
  <cp:revision>50</cp:revision>
  <dc:subject/>
  <dc:title>Tiona Advantista</dc:title>
</cp:coreProperties>
</file>