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151-CBB6-4BC4-AF00-3178B159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390-9DCF-4506-9ED2-E721F583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18E-8793-4FB1-869A-710A5469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AF67-F7BC-42AD-835F-C5195327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AC53-1215-45B4-B7E9-285356AF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23F6-7746-41AE-A2FE-1263C33C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EBBE-1893-44B3-8925-A9CC4EE0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DA07-7644-4A09-BA1F-86DF6C82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D591-B021-48CE-AE4E-07BD88F5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C57F-0867-4A71-94B5-1D29451F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7895-E531-4227-B4ED-03606764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F6B-E7CE-41EB-9F4D-41EE5A1A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0182-227F-409E-B7FF-4DA32782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82BF-2D2B-4EA2-8844-01420054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F904-B85D-4194-8341-AFF4F434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0FDE-B44F-4C85-B4E9-BEE9E556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E7AB-973A-41BC-8707-D60F8B22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C2E-E06C-4F08-9B40-0BB51F11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8FB-DCAF-42FF-9DD8-1AD570C1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8A5-5D66-4251-AF76-BE8E8740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B0B-95F9-4877-A371-8A714E9C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F05-E66B-4F3B-9E9F-07100044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F8E-8287-47F2-978C-C58AC59D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196-2D17-4F84-B52D-E4A960E9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4DE2-5E3D-4D91-BEEE-EA6B886F0B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2F65-47DF-4FEA-B394-EA675C7518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58 – Ô! FANTATRAO, R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9 – Ô! FANTATRAO,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Fantatrao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iria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y hanomp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rany am-pa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pampianatr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kaizako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sy hanah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pitar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9 – Ô! FANTATRAO,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o tsapak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kaikik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 dia maro 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fahaval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resiko mihint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tontol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kaikezo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eseko i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9 – Ô! FANTATRAO,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pananten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anomp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iza anendrena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rehetra ata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ra-dia Ana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pianat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9 – Ô! FANTATRAO,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pananten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 Tomp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manarak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minao do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ombom-boninah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ao Tomp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, ry be fian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eo izaho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7:23:58Z</dcterms:modified>
  <cp:revision>62</cp:revision>
  <dc:subject/>
  <dc:title>Tiona Advantista</dc:title>
</cp:coreProperties>
</file>