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90D6-1E28-4458-9071-D864F8C6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D9C9-409D-424B-BACF-9E53E964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1F5A-421E-4117-98E2-9DF6804A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48E-9674-49C1-8711-8F8E0448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173D-69DB-4348-A7FE-2AFEE9E0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AA8B-8613-4983-A591-57BB5B6E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161D-75D2-4298-8584-C05F3E1D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A97A-6B64-414F-8D35-C4D27BEB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2BBC-FA64-4C12-8594-36E1F83F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B40E-84B9-482E-A4B3-2E57F821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251A-A501-481F-BCDF-D18425EF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DBDD-4F97-4F80-B5B9-E326441E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9678-F425-4DE1-9408-A85FF5C9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693E-8591-45F1-B2ED-4F91A500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5D41-9B48-4921-B92F-C81B069B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FA2C-2E8C-4831-885D-A1974D79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11B3-A6AB-4496-9FA2-FC9245E4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7F43-D381-4AD9-9909-4F596C54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C380-4036-49A3-95E7-A998F537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4CB4-69CA-4DA3-A959-562D6CD3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FC4F-08E9-4F9E-BDD8-7BF73AA9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23FD-B464-4AE7-97A6-ACAEBD9D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5A86-E2D2-4CA3-AF4B-527F9A47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2077-EF06-445F-B9C6-C80A836D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57A9-EDBE-48B1-A307-79130B3DC9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D47A-5903-40EA-A48D-07AF30AF21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m-pivavah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J. Raharijaona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J. Raharijaona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86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02 – JESOSY Ô ! TARIH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3068640"/>
            <a:ext cx="82296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5ffff"/>
                </a:solidFill>
                <a:latin typeface="Tahoma"/>
                <a:ea typeface="Arial"/>
              </a:rPr>
              <a:t>(202 – NY FIAGONANAY : Fihirana edisiona vaovao fanao am-pao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02 – JESOSY Ô ! TARIHO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ô ! Tarih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ba tsinjovy ny Fiangon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tano ny Fanah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endrika ny Anaran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02 – JESOSY Ô ! TARIHO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ô ! Vimbin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fankatia ny fiangonan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okafinao ny molot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ndratra ny Anaran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02 – JESOSY Ô ! TARIHO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ô ! Raket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ao amin'ny Fiangon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y 'zay nambar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ari-dàlana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9:09:20Z</dcterms:modified>
  <cp:revision>42</cp:revision>
  <dc:subject/>
  <dc:title>Tiona Advantista</dc:title>
</cp:coreProperties>
</file>