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6D4-A9F5-4D0F-AD65-7B5219BC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C54-CC7D-4284-A449-50F002C1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3A0-5FBB-40DA-B5C1-4405D08E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AD3-7F5E-4DD9-9C1A-67E1DC8E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A37D-2BD3-43A8-AA29-61B6BB81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A995-C955-49F0-895A-837B015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875F-C60A-43E9-BDD1-3B5CBF9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1DA4-6B06-4F12-8DC7-7D0FAEC2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E0A5-8F81-4156-8175-98262B89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EB18-6EC1-4A3E-BA65-5307E835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E4E-BD3F-419C-98BD-38C3F03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5B6-3CCF-4861-A05D-243A65A6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BF4E-C4F5-4920-AC98-99EE8EF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BE3C-AD02-4492-8605-0CDFDCE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89DF-218E-43F8-9463-7C67CCEA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3E85-2109-497C-852E-72DAB258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371-9437-4E21-A2BE-9D738554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3BC-8593-4AB1-843E-238FD1D8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802-AD71-4B71-B6D3-B7083476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6F9-2DE7-4B61-8E06-C1C7F942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3DD-E91C-489A-961D-F7AEEF4D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BCB-5AF9-41E0-86A2-064FDA57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A7A-CEE9-4E8C-A725-B38EB32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3F1-6861-484A-ABA5-2AD9C9B3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15C7-9762-441B-9D3D-699B960E06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9FE0-BD0B-4909-AB62-E071807C6A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06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ESOSY TOMP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eanne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000" spc="-1" strike="noStrike">
                <a:solidFill>
                  <a:srgbClr val="ffffff"/>
                </a:solidFill>
                <a:latin typeface="Corbel"/>
              </a:rPr>
              <a:t>William J. Gaith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6 - JESOSY TOMP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s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Tompon'ny ho av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lasa sy ny ani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alah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ahaso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6 - JESOSY TOMP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ô,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ao izao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ka re ho tsapako 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n'ny Tomp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6 - JESOSY TOMP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hevitro fanta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afin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zava-d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sos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roy anaro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6 - JESOSY TOMPO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iriako tsap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, tantano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sy fahaiz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tiko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o hivoatr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19:49Z</dcterms:modified>
  <cp:revision>119</cp:revision>
  <dc:subject/>
  <dc:title>Tiona Advantista</dc:title>
</cp:coreProperties>
</file>