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D3C-F9B3-498F-A50A-8C3F78C5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FA9-A35A-4140-ACB5-93692B1F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026-8035-4D19-9A43-06E9C888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8F2-535D-41F7-A4C7-1AD2CBDF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205A-B301-4D4D-80D8-6120844B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839F-9E05-4323-B70E-B40CD9CC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BC84-7E25-4087-A57D-13565E90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A7A5-ACBE-415D-A30B-EAEDB758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A818-E5DE-4B65-9C62-0D5487DF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498E-7007-47BA-863B-88CF602E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F6EE-C9A6-4612-803D-EB5D5594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7B9-8847-473F-BCE9-5ED376D7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A585-A7D5-439D-9D97-D057E316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2172-A7A8-478D-AFB2-510ADC7D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D639-D51D-4CAF-A9BE-B964A618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1954-758D-4DB2-8BF5-4117E25A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B594-BD42-448C-A4AF-B6D2E436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EAF-6506-4B96-9006-E3BAE8ED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B6A-4E91-4551-8BB7-546DEA7E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297E-F392-4342-B267-D006EA55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4FF-0E30-4709-9C2D-19599170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666-B574-4156-9CB5-4BA0C306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F06-EF7E-498E-B060-AA7EBA2A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CB0-F054-4EB5-B048-C34DC629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CD76-F5BC-420B-8FE1-17A0BA316C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D6FD-138E-4C28-B4AA-DA0FFA5E2F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57 – ASANDRATO NY HÔ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7 – ASANDRATO NY HÔS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ny Hos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rao ny fide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nao ny famonj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erao, hob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, laza, no hir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7 – ASANDRATO NY HÔS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alelo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nao ny f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bi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, laza no hi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7 – ASANDRATO NY HÔS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monjena ao mai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non'aina, hazon'ai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omena ho ants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erao, hob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, laza, no hir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7 – ASANDRATO NY HÔS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avela mba hang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lelo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monjena tsy vidia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ntsika no nar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erao, hob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, laza, no hir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6:29:08Z</dcterms:modified>
  <cp:revision>27</cp:revision>
  <dc:subject/>
  <dc:title>Tiona Advantista</dc:title>
</cp:coreProperties>
</file>