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0116-814E-43DC-8429-150A2EDE2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78A7-F60B-43C8-9F8D-C06508623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7E8D-CD36-4402-98E8-8414A5F2C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BD84-8E9A-4B26-A2D5-EEBC28820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267D1-97E6-4899-9B3C-6A57609D5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A4C70-0784-4BA6-9189-5785E1E58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2DE27-60BD-4A54-BB2C-119BDA0A2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BCBA9-9022-4446-802A-5B8B5A8A7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58E14-B7C6-4033-8527-774DADA49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3D2F6-3532-4801-86A0-5326D3780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9ADC7-980C-4526-A546-748DBBAF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731C-CEEC-466F-AFE1-2998D9C22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6DED8-0D4B-4301-B1DD-BB166A4C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58D1B-2D65-4244-AD67-37AE02A0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0126D-CAB7-4D5D-B96A-21A882192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0F9BE-1435-4C1E-9C47-38B270F94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3AFF9-E022-47F8-BD17-E69F165A6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54EB-F5C1-45C5-AE49-6742659EF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43A1-6C04-4C6A-89F8-FC8029EB0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0210-A853-4E3B-B76C-AF4D4E245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E892-8362-4B66-A42E-BBCCBBD49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3601-009C-462D-9656-66FB7FCA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3D19-0713-498A-B81A-E6639A2B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986E-09E9-46BF-BCC3-185828B0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C05E4-F529-410C-B0DE-884A889354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0956D-BB46-4191-8991-3A4B096498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6.xml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NG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Seremôn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Andrianaivoravelona zanan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</a:t>
            </a: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FFPM298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263 – AINA NO FE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1496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2000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1496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0596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>
            <a:hlinkClick r:id="rId6" action="ppaction://hlinksldjump"/>
          </p:cNvPr>
          <p:cNvSpPr/>
          <p:nvPr/>
        </p:nvSpPr>
        <p:spPr>
          <a:xfrm>
            <a:off x="880596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">
            <a:hlinkClick r:id="rId7" action="ppaction://hlinksldjump"/>
          </p:cNvPr>
          <p:cNvSpPr/>
          <p:nvPr/>
        </p:nvSpPr>
        <p:spPr>
          <a:xfrm>
            <a:off x="880596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63 – AINA NO FE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ina no fetra, ry Tompo Mpanjak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ina no fetra hanarahana 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ny faneva tsy maintsy ho zak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anompoana tsy maintsy hat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2" action="ppaction://hlinksldjump"/>
          </p:cNvPr>
          <p:cNvSpPr/>
          <p:nvPr/>
        </p:nvSpPr>
        <p:spPr>
          <a:xfrm>
            <a:off x="882000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3" action="ppaction://hlinksldjump"/>
          </p:cNvPr>
          <p:cNvSpPr/>
          <p:nvPr/>
        </p:nvSpPr>
        <p:spPr>
          <a:xfrm>
            <a:off x="881496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4" action="ppaction://hlinksldjump"/>
          </p:cNvPr>
          <p:cNvSpPr/>
          <p:nvPr/>
        </p:nvSpPr>
        <p:spPr>
          <a:xfrm>
            <a:off x="880596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5" action="ppaction://hlinksldjump"/>
          </p:cNvPr>
          <p:cNvSpPr/>
          <p:nvPr/>
        </p:nvSpPr>
        <p:spPr>
          <a:xfrm>
            <a:off x="880596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>
            <a:hlinkClick r:id="rId6" action="ppaction://hlinksldjump"/>
          </p:cNvPr>
          <p:cNvSpPr/>
          <p:nvPr/>
        </p:nvSpPr>
        <p:spPr>
          <a:xfrm>
            <a:off x="880596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0524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63 – AINA NO FE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Corbel"/>
                <a:ea typeface="Arial"/>
              </a:rPr>
              <a:t>Indreto izahay hilanja faneva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Corbel"/>
                <a:ea typeface="Arial"/>
              </a:rPr>
              <a:t>Ilay hazo iz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Corbel"/>
                <a:ea typeface="Arial"/>
              </a:rPr>
              <a:t>Nanavotana 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Corbel"/>
                <a:ea typeface="Arial"/>
              </a:rPr>
              <a:t>An-tsitrapo no anoloranay te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Corbel"/>
                <a:ea typeface="Arial"/>
              </a:rPr>
              <a:t>Ka tano mba ho Anao izah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881496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3" action="ppaction://hlinksldjump"/>
          </p:cNvPr>
          <p:cNvSpPr/>
          <p:nvPr/>
        </p:nvSpPr>
        <p:spPr>
          <a:xfrm>
            <a:off x="881496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4" action="ppaction://hlinksldjump"/>
          </p:cNvPr>
          <p:cNvSpPr/>
          <p:nvPr/>
        </p:nvSpPr>
        <p:spPr>
          <a:xfrm>
            <a:off x="880596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rId5" action="ppaction://hlinksldjump"/>
          </p:cNvPr>
          <p:cNvSpPr/>
          <p:nvPr/>
        </p:nvSpPr>
        <p:spPr>
          <a:xfrm>
            <a:off x="880596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rId6" action="ppaction://hlinksldjump"/>
          </p:cNvPr>
          <p:cNvSpPr/>
          <p:nvPr/>
        </p:nvSpPr>
        <p:spPr>
          <a:xfrm>
            <a:off x="880596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firstslide"/>
          </p:cNvPr>
          <p:cNvSpPr/>
          <p:nvPr/>
        </p:nvSpPr>
        <p:spPr>
          <a:xfrm>
            <a:off x="880524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63 – AINA NO FE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ina no fetra ho enti-man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lay Zanak'ondry nisolo anay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ndavan-tena sy fanaovan-t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fianarana atolotra 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881496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3" action="ppaction://hlinksldjump"/>
          </p:cNvPr>
          <p:cNvSpPr/>
          <p:nvPr/>
        </p:nvSpPr>
        <p:spPr>
          <a:xfrm>
            <a:off x="882000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>
            <a:hlinkClick r:id="rId4" action="ppaction://hlinksldjump"/>
          </p:cNvPr>
          <p:cNvSpPr/>
          <p:nvPr/>
        </p:nvSpPr>
        <p:spPr>
          <a:xfrm>
            <a:off x="880596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5" action="ppaction://hlinksldjump"/>
          </p:cNvPr>
          <p:cNvSpPr/>
          <p:nvPr/>
        </p:nvSpPr>
        <p:spPr>
          <a:xfrm>
            <a:off x="880596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rId6" action="ppaction://hlinksldjump"/>
          </p:cNvPr>
          <p:cNvSpPr/>
          <p:nvPr/>
        </p:nvSpPr>
        <p:spPr>
          <a:xfrm>
            <a:off x="880596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firstslide"/>
          </p:cNvPr>
          <p:cNvSpPr/>
          <p:nvPr/>
        </p:nvSpPr>
        <p:spPr>
          <a:xfrm>
            <a:off x="880524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63 – AINA NO FE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ina no fetra, ry Tompo malal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ina no fetran'ny fitiavanay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sanatria izay handao na hial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drakizay ho Anao izah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2" action="ppaction://hlinksldjump"/>
          </p:cNvPr>
          <p:cNvSpPr/>
          <p:nvPr/>
        </p:nvSpPr>
        <p:spPr>
          <a:xfrm>
            <a:off x="881496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rId3" action="ppaction://hlinksldjump"/>
          </p:cNvPr>
          <p:cNvSpPr/>
          <p:nvPr/>
        </p:nvSpPr>
        <p:spPr>
          <a:xfrm>
            <a:off x="882000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4" action="ppaction://hlinksldjump"/>
          </p:cNvPr>
          <p:cNvSpPr/>
          <p:nvPr/>
        </p:nvSpPr>
        <p:spPr>
          <a:xfrm>
            <a:off x="881496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>
            <a:hlinkClick r:id="rId5" action="ppaction://hlinksldjump"/>
          </p:cNvPr>
          <p:cNvSpPr/>
          <p:nvPr/>
        </p:nvSpPr>
        <p:spPr>
          <a:xfrm>
            <a:off x="880596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rId6" action="ppaction://hlinksldjump"/>
          </p:cNvPr>
          <p:cNvSpPr/>
          <p:nvPr/>
        </p:nvSpPr>
        <p:spPr>
          <a:xfrm>
            <a:off x="880596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firstslide"/>
          </p:cNvPr>
          <p:cNvSpPr/>
          <p:nvPr/>
        </p:nvSpPr>
        <p:spPr>
          <a:xfrm>
            <a:off x="880524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ina no fetra, ny nofo anef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ora mirona ka lavo indr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anampia, ry Mpandresy mahef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Mba tantano, hazony izah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63 – AINA NO FE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81496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882000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>
            <a:hlinkClick r:id="rId3" action="ppaction://hlinksldjump"/>
          </p:cNvPr>
          <p:cNvSpPr/>
          <p:nvPr/>
        </p:nvSpPr>
        <p:spPr>
          <a:xfrm>
            <a:off x="881496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>
            <a:hlinkClick r:id="rId4" action="ppaction://hlinksldjump"/>
          </p:cNvPr>
          <p:cNvSpPr/>
          <p:nvPr/>
        </p:nvSpPr>
        <p:spPr>
          <a:xfrm>
            <a:off x="880596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rId5" action="ppaction://hlinksldjump"/>
          </p:cNvPr>
          <p:cNvSpPr/>
          <p:nvPr/>
        </p:nvSpPr>
        <p:spPr>
          <a:xfrm>
            <a:off x="880596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>
            <a:hlinkClick r:id="" action="ppaction://hlinkshowjump?jump=firstslide"/>
          </p:cNvPr>
          <p:cNvSpPr/>
          <p:nvPr/>
        </p:nvSpPr>
        <p:spPr>
          <a:xfrm>
            <a:off x="880524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63 – AINA NO FE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765000"/>
            <a:ext cx="9144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ina no fetra, ka ampio ry Fanahy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ina no fetra, Vonjeo e, ry Ray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ina no fetra, izahay re no sahy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ina no fetra, hadresy izah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81496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82000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81496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80596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80596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>
            <a:hlinkClick r:id="" action="ppaction://hlinkshowjump?jump=firstslide"/>
          </p:cNvPr>
          <p:cNvSpPr/>
          <p:nvPr/>
        </p:nvSpPr>
        <p:spPr>
          <a:xfrm>
            <a:off x="880524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03:48:15Z</dcterms:modified>
  <cp:revision>48</cp:revision>
  <dc:subject/>
  <dc:title>Tiona Advantista</dc:title>
</cp:coreProperties>
</file>