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7A9CC-B18F-48E1-B246-74133F39E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92D7C-65B2-4943-8A4E-CB4C48FA8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D6064-7B8F-4D64-9232-E1A1AA344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80F0E-2483-42EA-AF89-F897403E9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5DB45-309C-4403-AE3E-3C521532E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EAEAC-63C2-4C92-A3B4-A7741608E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F6E3B-4A09-4000-8C12-DD970363B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A3ABC-13C6-4C00-A8C9-3FE0AE0C6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933AA-1D4B-41B6-A9EE-0081D198A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0FF64-6002-49E3-A595-4715267F1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940FE-E582-47AA-8419-29F6F6128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5DF56-9C98-4A28-BB02-53DBD7020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C9427-466B-4D0E-8D9C-27D658CE7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A85B1-2927-4F5D-A699-77D900E04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1EA07-EB22-4C39-9AF7-8832F97A7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D59CE-DE87-4B63-8C42-D699AA22D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F6B02-5AE1-4E7A-AF8D-AE791D080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1497B-1CC4-48BC-9B7A-C3FAFAB03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6A377-AA47-45B8-82EC-3C81609DB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A7197-63A1-48E7-BF4D-FE54C6261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54509-62B5-447E-B81D-8E4A2D641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4122B-66C8-41A2-B4B5-9FEE2BE2F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E18E7-1C22-4835-85B9-CC7E982D4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3E115-1FD4-4AE6-962A-B6C4591A2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BF438-CA70-4F81-B0E6-E5E14079E22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A3C24-5A19-46CE-8DE0-8A8974E060D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ANDRIAMANITR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Fiankohofana sy fidera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R. Tovoarimino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R. Tovoarimino 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051 – INONA JESO 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857800" y="53244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862840" y="570564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857800" y="60865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>
            <a:hlinkClick r:id="rId5" action="ppaction://hlinksldjump"/>
          </p:cNvPr>
          <p:cNvSpPr/>
          <p:nvPr/>
        </p:nvSpPr>
        <p:spPr>
          <a:xfrm>
            <a:off x="8848800" y="64674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051 – INONA JESO 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nona, Jes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o hoentiko ho Anao 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oa ny foko v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endrika ho Anao Jeso 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Lazao (omeko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 omeko Anao Izao anio iz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idera sy hankalaza A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y foko ô ! Hir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>
            <a:hlinkClick r:id="rId2" action="ppaction://hlinksldjump"/>
          </p:cNvPr>
          <p:cNvSpPr/>
          <p:nvPr/>
        </p:nvSpPr>
        <p:spPr>
          <a:xfrm>
            <a:off x="8862840" y="570564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rId3" action="ppaction://hlinksldjump"/>
          </p:cNvPr>
          <p:cNvSpPr/>
          <p:nvPr/>
        </p:nvSpPr>
        <p:spPr>
          <a:xfrm>
            <a:off x="8857800" y="60865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>
            <a:hlinkClick r:id="rId4" action="ppaction://hlinksldjump"/>
          </p:cNvPr>
          <p:cNvSpPr/>
          <p:nvPr/>
        </p:nvSpPr>
        <p:spPr>
          <a:xfrm>
            <a:off x="8848800" y="64674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>
            <a:hlinkClick r:id="" action="ppaction://hlinkshowjump?jump=firstslide"/>
          </p:cNvPr>
          <p:cNvSpPr/>
          <p:nvPr/>
        </p:nvSpPr>
        <p:spPr>
          <a:xfrm>
            <a:off x="8848080" y="48927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051 – INONA JESO 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00ffff"/>
                </a:solidFill>
                <a:latin typeface="Times New Roman"/>
                <a:ea typeface="Arial"/>
              </a:rPr>
              <a:t>ISAN’ANDININ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00ffff"/>
                </a:solidFill>
                <a:latin typeface="Times New Roman"/>
                <a:ea typeface="Arial"/>
              </a:rPr>
              <a:t>Feo 1 :</a:t>
            </a:r>
            <a:r>
              <a:rPr b="1" i="1" lang="fr-FR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O ! hira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00"/>
                </a:solidFill>
                <a:latin typeface="Times New Roman"/>
                <a:ea typeface="Arial"/>
              </a:rPr>
              <a:t>Feo 2,3,4 :</a:t>
            </a:r>
            <a:r>
              <a:rPr b="1" i="1" lang="fr-FR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Haleloia sy Hosan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00ffff"/>
                </a:solidFill>
                <a:latin typeface="Times New Roman"/>
                <a:ea typeface="Arial"/>
              </a:rPr>
              <a:t>Feo 1 :</a:t>
            </a:r>
            <a:r>
              <a:rPr b="1" i="1" lang="fr-FR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Haleloia sy Hosana No hirao, ry fok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00"/>
                </a:solidFill>
                <a:latin typeface="Times New Roman"/>
                <a:ea typeface="Arial"/>
              </a:rPr>
              <a:t>Feo 2,3,4 :</a:t>
            </a:r>
            <a:r>
              <a:rPr b="1" i="1" lang="fr-FR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O ! ry foko mihirà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00ffff"/>
                </a:solidFill>
                <a:latin typeface="Times New Roman"/>
                <a:ea typeface="Arial"/>
              </a:rPr>
              <a:t>Feo 1 :</a:t>
            </a:r>
            <a:r>
              <a:rPr b="1" i="1" lang="fr-FR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Mihirà, ô ! Hirao Hosan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00"/>
                </a:solidFill>
                <a:latin typeface="Times New Roman"/>
                <a:ea typeface="Arial"/>
              </a:rPr>
              <a:t>Feo 2,3,4 :</a:t>
            </a:r>
            <a:r>
              <a:rPr b="1" i="1" lang="fr-FR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Haleloia sy Hosan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Ka derao ny Tomp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Mihirà, ry fok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Ankalazao, Jes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>
            <a:hlinkClick r:id="rId2" action="ppaction://hlinksldjump"/>
          </p:cNvPr>
          <p:cNvSpPr/>
          <p:nvPr/>
        </p:nvSpPr>
        <p:spPr>
          <a:xfrm>
            <a:off x="8857800" y="53244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>
            <a:hlinkClick r:id="rId3" action="ppaction://hlinksldjump"/>
          </p:cNvPr>
          <p:cNvSpPr/>
          <p:nvPr/>
        </p:nvSpPr>
        <p:spPr>
          <a:xfrm>
            <a:off x="8857800" y="60865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>
            <a:hlinkClick r:id="rId4" action="ppaction://hlinksldjump"/>
          </p:cNvPr>
          <p:cNvSpPr/>
          <p:nvPr/>
        </p:nvSpPr>
        <p:spPr>
          <a:xfrm>
            <a:off x="8848800" y="64674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>
            <a:hlinkClick r:id="" action="ppaction://hlinkshowjump?jump=firstslide"/>
          </p:cNvPr>
          <p:cNvSpPr/>
          <p:nvPr/>
        </p:nvSpPr>
        <p:spPr>
          <a:xfrm>
            <a:off x="8848080" y="48927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051 – INONA JESO 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nona, Jes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o mba hataoko aty 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oa ve hisent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Sy hitomany koa, Jeso 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Lazao (iriko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niriako ve ny hihira ho A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idera sy hankalaza A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y foko ô, hirao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857800" y="53244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862840" y="570564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848800" y="64674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>
            <a:hlinkClick r:id="" action="ppaction://hlinkshowjump?jump=firstslide"/>
          </p:cNvPr>
          <p:cNvSpPr/>
          <p:nvPr/>
        </p:nvSpPr>
        <p:spPr>
          <a:xfrm>
            <a:off x="8848080" y="48927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051 – INONA JESO 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nona, Jes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o foiko ho Anao 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ba ho takalon'iz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atolotrao, Jeso 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Lazao (hafoiko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oa hafoiko ve izao rehetra iz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idera sy hankalaza A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y foko ô, hirao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857800" y="53244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862840" y="570564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857800" y="60865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8848080" y="48927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08T05:35:53Z</dcterms:modified>
  <cp:revision>28</cp:revision>
  <dc:subject/>
  <dc:title>Tiona Advantista</dc:title>
</cp:coreProperties>
</file>