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63B-9F08-4FB7-93B3-1FAE5097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668-312C-43C2-8698-150336F8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631-E32F-44A7-A75F-1188F4AA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48B-8FB8-4C97-B9F8-25F473B8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993D-B59C-4374-8985-CDBBD647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E908-91A6-45DC-A86E-1B87283E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71A-C6CF-499A-9B5A-5513F499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77B6-C2F6-407C-9D94-5E942AB1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3FE4-6546-4B02-991C-70E4B148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E661-DF33-489B-9DBC-679E8A45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BCA6-FA7F-41CE-973A-3ABF649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192-539F-4170-9C03-7A54247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BF38-6854-4921-924D-B7493B3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73F2-410D-49B7-AE09-E213926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F7F1-AC8F-43E8-9779-BBECEB6B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F64D-6DE3-4C65-A27B-9A8230DD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1F7C-D2CC-4643-A7E8-1AF33E0A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A06-A40B-4635-BB16-A3B6CE49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6FB-3E48-4565-B2CE-87477DE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B85-2B03-4190-A3D0-745D34A4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3F7-D67C-4277-9CFD-392E7C9E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609-B193-4BA8-B1EE-3CD8CC08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2AB-2B4E-40D9-A059-ABEC5F7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186-AF9F-461A-AE55-F04B0F4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4AFB-7860-4E09-983D-B2A2FA2D00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DF5E-322D-4ED7-9445-6BE4F40357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4 – JESOSY Ô ! MBA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tokana) Jesosy 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Jesosy ô, Jesosy 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Jesosy ô, Jesosy 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ba heno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ba hen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Ô ! mba hen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Ô ! mba heno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Ô ! mba hen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tokana) Ô ! mba heno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aza afoy ny ondr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Ka aza afo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aza afoy ny ondr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tokana) He ! mital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He ! mital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ital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He ! mital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italaho aminao, 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tokana)  Eo 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Eo aminao, eo am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Eo aminao ka af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ba af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tokana) Ka mba afa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ondr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Ka mba afah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mba afaho, ny ondr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Ka mba afah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ba afaho, ny ondri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ondr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7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1" i="1" lang="fr-FR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7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6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7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4</a:t>
            </a:r>
            <a:r>
              <a:rPr b="1" i="1" lang="fr-FR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7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13000"/>
            <a:ext cx="9144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6</a:t>
            </a:r>
            <a:r>
              <a:rPr b="1" i="1" lang="fr-FR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8" action="ppaction://hlinksldjump"/>
          </p:cNvPr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7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8848800" y="64231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94 – JESOSY Ô ! MBA HEN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49360"/>
            <a:ext cx="9144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 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8</a:t>
            </a:r>
            <a:r>
              <a:rPr b="1" i="1" lang="fr-FR" sz="36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ème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Coup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48080" y="37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48080" y="415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57800" y="4535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4916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39080" y="53006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857800" y="339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39080" y="568476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53480" y="6073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2:11:04Z</dcterms:modified>
  <cp:revision>35</cp:revision>
  <dc:subject/>
  <dc:title>Tiona Advantista</dc:title>
</cp:coreProperties>
</file>