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CEF-A1E9-4094-B811-E5AFC7D8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640-3830-469D-AEEA-EEDF1A94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B10-BBE1-4881-9A5E-D5C2D70C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C47-1C63-4370-9A6C-E2E222FB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A4EB-283C-4ECD-B4FD-538B5BCD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000-AB93-44B3-9B46-4403ACF9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7D03-228D-4302-B441-F1B22795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90AF-2C51-4873-AA56-1C522A2F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5947-ABF9-4CCB-9289-EBAE858C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8826-30A2-47F1-A55A-1CD69C05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1ED6-42EF-4770-BA07-A87D01D8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A5A-F3F4-4039-BA36-0E09080A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9F32-220D-413E-A51B-15794DBD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6036-B985-46BD-BC2C-889889A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7EA7-DDC6-43B6-9B1C-627FBA29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1095-49FB-41C9-AD0B-57F25360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0DF6-EA05-4630-9B0C-BDC97E31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2F5-58AA-40AF-BFB2-C5E29336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C23-5483-48F8-9705-F98061C0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76F-35CF-414E-A82A-AAD06C8A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1DE-0ABD-4BB3-B594-82455AD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8D5-8BB3-459C-8ED8-F550E877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DA3-49CF-42F6-B1A8-70B3F4E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41E-B691-41CB-B83C-44AE276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C0A9-E00A-4541-A26B-0969E62E95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B282-0A65-45AB-8D10-BB85F1C15A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8 – MAHANT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8 – MAHANTR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ntra aho ka mba ai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hita izany f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mbola tia Ilay Sa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Fitiav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vesatra ny faho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napaka ah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ery koa ny faho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malala mije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8 – MAHANTR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natra aho fa mpanot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mba manam-pika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ao ny ratsy sy 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hazo famel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mba ampio fa kely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io fahamari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koa mba tsy ho 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78 – MAHANTR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o ny andro nilib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aozako lavi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sitrapo sy had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ndà 'za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zàna aho no mi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y hahazo indra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everiko ho very m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itiavanao s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78 – MAHANTR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anio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dy atolotr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aho tsy h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Anao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dy mafy miants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ahoako intso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herinao 'zay 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arika ah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8:55:45Z</dcterms:modified>
  <cp:revision>65</cp:revision>
  <dc:subject/>
  <dc:title>Tiona Advantista</dc:title>
</cp:coreProperties>
</file>