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6E7-CB33-4EC8-B1AC-6D3273AF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898C-DEF7-4498-9B52-A7D122A2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E46-024A-4243-9348-5763588A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215-33FD-45B4-B31C-96BC7B97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1FB6-E11C-4F59-91F4-9528FEDE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9641-790C-4C12-83D1-CE62A598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F143-150A-49E6-B700-E7BE80B8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9E45-A315-4591-951E-469934D9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B70A-8042-462E-8FE6-17C87982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B7FA-41F1-4396-B9DF-833A5EC3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986D-0BFC-42D7-8810-ECED1D1F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925-29A4-40AF-A4AB-7F28EB7B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4A65-45E7-41BF-B2C2-1775EA47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6142-2B54-482D-BBDC-444C4045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6E32-8D14-4EB9-948B-1FB3E62E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3FBC-1A7F-4576-B7C4-ACAF02AC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6265-A917-44D5-981A-3A474475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D98E-6F96-4393-B291-4AFF0052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610-CBC6-4B19-99E6-92FC0A86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F08-2B67-44F8-8498-ADD4E044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02C-37BA-4D68-84E6-8E17BB67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4D7-7FE4-4A1A-980C-74AF01D4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FA2-A949-45B3-B59A-6CD86F95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9B5-7A9D-4B70-BDFF-9ED5A76C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DC2A-D8C5-4566-A4FD-8D914BAE18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B67E-1925-499B-8010-F6ED0A69B2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Ogd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53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48 – JESO NO MIANTSO KA EK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8 – JESO NO MIANTSO KA EK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no miantso, ka eke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! Mba vorio ny ondr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no Mpiandry ka vonj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ody ao am-bal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8 – JESO NO MIANTSO KA EK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tsaho, tadia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very sao ho fa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eno fa lav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hanampy a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8 – JESO NO MIANTSO KA EK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jao re fa mitar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dy efa osa fa noratra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ady 'la ranon'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jeo aza mba mal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8 – JESO NO MIANTSO KA EK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a efa vonon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o mpanompo tsa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ady sy hamor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katsaka, hamindra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o ela dia ho av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Mpiandry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deha hiara-miasa hana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monjy izao tontol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8 – JESO NO MIANTSO KA EK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1T08:53:32Z</dcterms:modified>
  <cp:revision>90</cp:revision>
  <dc:subject/>
  <dc:title>Tiona Advantista</dc:title>
</cp:coreProperties>
</file>