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77F2-547C-42B9-A73E-34ABFF5EA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EE55-23EA-47D8-9B9A-FDACEA25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84F8-DDD1-4B35-93F4-D1062485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5D34-40EF-4571-B541-8AFDEA18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A3CB-5C25-4DA1-92A5-1B982802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F288-2DD0-4AA2-8A3B-62540961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A314-F245-4B8F-9BDD-7A3A12DA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DA1A-78CF-44A7-801C-B63DB1D2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7BDB-8CA6-4E78-B664-FEAA41FA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9DBD-5027-4C60-B3F4-DF2B0D2F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3130-6055-4A54-BA7F-F61F498F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CEB7-B584-4C30-B266-E626E44B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5583-3D0D-41B0-B6DF-BB9010A7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DC2D-8CEE-49A5-AB0C-818D4AC8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A7CE-9A0A-4D65-812B-AB7CCC6A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C717-7EA1-4C7E-8067-96FC02AC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BBF5-C7DB-4AC0-A320-97B310FE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D865-E96C-4F31-A799-A694C0C8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85FB-F441-4E19-853F-5636834D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6BC1-3C47-4B03-8B6B-66231D8D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1A45-04DA-4900-ABA3-3200EC21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D454-D949-4775-BC08-F9C17BA7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1A5B-B7C0-4A31-8365-94CB3CC4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854A-75E1-4DCF-94FD-DCD50476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9698-245B-49DD-8206-C8AEB7CF3E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1936-502A-4086-8367-B3D6745A99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. S. Stebbin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08 – RY MPANOTA MIJAN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681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8 – RY MPANOTA MIJAN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nota mijanon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izim-be aleh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verena, manat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'ilay Mpamonj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irenireny o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rotraka sy kiv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laviny ak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o raisiny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5681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8 – RY MPANOTA MIJAN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nota mahon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tra anao ny Tompo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n-tsy fef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itepo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irenireny, o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itebiteby f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laviny ako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Horaisiny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8 – RY MPANOTA MIJAN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nota mitom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ny vesa-kelok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verena fa ny 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y hahadi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irenireny, o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anahy ao am-p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laviny ako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avelany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3400" y="5681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443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8 – RY MPANOTA MIJAN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nota, aza e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Faingana i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ona tokoa ham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nanavotr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irenireny, o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isalasala am-p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laviny ako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ona ani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300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3400" y="5681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6062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8:19:22Z</dcterms:modified>
  <cp:revision>61</cp:revision>
  <dc:subject/>
  <dc:title>Tiona Advantista</dc:title>
</cp:coreProperties>
</file>