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A90-F8F2-4DAD-ABD9-E998BD71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60A-4568-45AB-8F6A-978A4461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48D-ED46-4239-A9F4-644AEE6F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1B5-9202-4376-920F-5D46E9F9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E5BE-EFE6-458B-AA60-F5C0961E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6459-8254-4855-99FA-744A8942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2B38-3E8F-4E14-AFBE-296DA31F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DDE4-1E8B-4F9D-823A-9AC27530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BE7-A9C2-4983-8667-5844C630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597B-D463-4A53-9F3D-CD75752F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0197-BA56-4A14-8C57-BE95AD9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EB8-0999-4E4B-A88D-AF4A13D5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4C25-1EDA-4683-A6B0-4CD5EAB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A140-CADB-4A29-9797-6A205F38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1A5B-CC24-4077-ABBF-5A18D716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6D24-4817-4601-B35D-A33C695D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CCDB-0303-4920-8DB2-ABDE3D8E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28D-F35F-463D-86A7-C6DAFA11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1D6-5B81-424F-87DF-DB78611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490-3120-46AD-AE94-F32EDC0D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39B-3B2D-41DC-A6D5-688C9618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352-F969-4DCC-BD07-6B2A1625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A4A-AAD3-46B8-A091-D1BBA1E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092-0CD2-49A9-A1FF-7E69D1F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C0EB-EA62-4762-BE1B-4EDB56E846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12C6-B4B7-48C9-AF86-B3832088D6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a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93 – Ô ! SAMBATR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3 – Ô ! SAMBATR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, sambatra ny f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eri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y n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ng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3 – Ô ! SAMBATR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fefiky ny ran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sy fefika izahay Jeso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fotra hatr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azo hery fa na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andre ny feo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ao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, sambatra ny f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eri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3 – Ô ! SAMBATR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Tretrika tokoa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ikitr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goka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ng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3 – Ô ! SAMBATR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ony mafy ah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al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elon'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39:19Z</dcterms:modified>
  <cp:revision>40</cp:revision>
  <dc:subject/>
  <dc:title>Tiona Advantista</dc:title>
</cp:coreProperties>
</file>