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DD1-9BEA-4F77-B4AC-F8D12AA8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635-D95B-4461-A7D1-25B30E8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D34-1D4A-4270-AE8D-C8D7073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00C-A01F-4FE4-BC5C-9ABB1F49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DA76-C66D-48F6-A954-9C978507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299-C0E5-4815-9242-5BADB6D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29EF-6A67-4144-9E27-1948FA6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C4AF-F093-48AB-8C1E-642ECC2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8507-8AA2-4B56-8E04-1ED16F6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3258-DBAB-4E53-AE39-0EB9D26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976C-994C-4EE7-9E7F-AEA71C4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415-5B7E-46DB-B631-D067783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D529-27D3-45A8-8DE8-224C33FC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72D-0AAE-4603-B1D1-D75FCB6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8D3-48EC-458F-8431-933B159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ACCF-3D79-4CC0-BBDA-12FABCDA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7B82-6049-4476-8FF7-C6DC5140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744-2876-4779-97AE-2F7EB28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AED-9F9E-4DBB-BAB5-1E66B3DB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978-1DA4-439F-B47A-F8752CD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FC4-2793-4E56-B0A1-FD87129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7B3-A5FB-460E-B5FF-DDA216D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A75-BE4F-4540-A6BF-DA9C5FF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946-16EA-4CBB-9701-C099229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C36-C791-4DE6-9E1F-A854BB80A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077-F5BE-4230-97A2-55698F0EED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5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E TAZAKO JEROSA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P. Berggr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5 - HE TAZAKO JEROSAL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tazako Jerosalem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tanàna tsa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eno vatosoa seseh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paza sy berila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aspy sy sardoniks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5 - HE TAZAKO JEROSAL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, tazako ny vola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miratr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nto indrindra izay jere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malok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azavain'ny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5 - HE TAZAKO JEROSAL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ozona ints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ota dia lev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fiainana tena 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o anjara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miandry ahy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5 - HE TAZAKO JEROSAL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ô, tantan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o tody so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asino sy hatanj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esy ny ota to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-mon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21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2-25T09:52:23Z</dcterms:modified>
  <cp:revision>120</cp:revision>
  <dc:subject/>
  <dc:title>Tiona Advantista</dc:title>
</cp:coreProperties>
</file>