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0D58-F5D9-4161-952B-691096DC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4025-87CD-44F4-A24E-ECD21D98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72B0-C9E7-4AF1-AE1C-64837C39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28CC-5E41-49FB-A04A-13BA95C9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53E4-0866-4794-B7FE-F73B58A6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43FC-E4CA-4ECD-A048-8E799C96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3D16-8554-4227-BB88-4CCF02C3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C333-855D-47F5-BF7C-AFD89ECC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958A-E023-492B-8B6B-C82ADF37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0E5D-DD62-41A1-AADE-72D7E0EF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7DAA-ACFC-4C6E-9DD3-61909DC6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4E04-EE38-43D0-BDB9-A618F03D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3F4A-CFBE-45BB-BCAA-ACF4FCA7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A54B-D78E-4A14-857B-33E3EE9D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4721-43AA-4642-83E3-8583D7F6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368C-673E-463C-9E43-4211F7AC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E40A-974D-4F77-A8BB-C7955642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112B-52FF-4164-A6D1-19472BD7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7285-4E90-4301-8C41-A001ACD1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3F1D-5065-48F7-864A-F01D6F5E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8022-F0E3-4130-9195-C56BE727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1D4D-7DA9-45D3-A3AB-1208DBF2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C8AE-7701-43DA-BF5D-542FEBC7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AA18-A491-4607-9A58-8F369AE7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643A-FF17-4DD3-8F8D-8E848BF03D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19E3-3CE0-49A2-B107-53550CE05E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as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F. Flemming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ff"/>
                </a:solidFill>
                <a:latin typeface="Arial"/>
                <a:ea typeface="Arial"/>
              </a:rPr>
              <a:t>TA098 – MOA TSY NY R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5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8 – MOA TSY NY R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oa tsy ny r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y ny hatsar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oa tsy 'lay a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Latsaka an-t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Tomp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hany antena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y famonjek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8 – MOA TSY NY R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sarotra 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adim-p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'lay mpih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e hamotraka 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oa tsy ny r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 ô, Mpamonj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mahavonj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8 – MOA TSY NY R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hise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otako voalanj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y ô, kose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mavesa-dan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Jeso Zanak'ond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fa ma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rany afaf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8 – MOA TSY NY R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aotra sy ha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atolotro '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era sy laz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Mpamonjy,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azo toky iz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andresen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 mifon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14:20:44Z</dcterms:modified>
  <cp:revision>30</cp:revision>
  <dc:subject/>
  <dc:title>Tiona Advantista</dc:title>
</cp:coreProperties>
</file>