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846-7E2E-45F1-A88C-6656F98B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0BA-B684-4258-A895-0460E33B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AE3-D125-4146-9CA3-45C2D245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F77-7DD8-45E4-AE7E-B7594273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BDEB-93CA-4347-9CC4-5F2AD208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5EA-AF23-4776-BE75-B7B16DE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E966-5A8A-4E0E-919A-02E42AD1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F63-E9D7-4AE4-B0AB-77CD351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7100-8E72-462D-B859-59D4B1CF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544A-53C1-44A1-BE68-D345600E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0BAA-1835-4DB4-8A61-60A91080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BDC-F2A5-4FBE-8EA5-396A0AE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CFD5-0034-4A38-8531-6537BCD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BEB-E9B7-491C-8908-A2CAE10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998-145C-4BDC-BE90-2A85970A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106E-08DD-400A-8224-B4B5D11C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F50F-7D87-433B-9C65-1FBD0C9D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F69-085E-42B2-8991-BF0E418B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D8B-234B-43D0-AA8E-0974176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AB4-E54C-46E8-895C-EF84B7F2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B6F-4724-4D77-9FCF-9A9F092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D6D-9E0F-4651-A198-CDC8EA6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4D8-0C56-4C56-B46C-5E16E84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F31-6FD7-459A-BC04-7FC6AEE5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E9C1-5398-432F-ABC6-5A46C9A53A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BD1-738A-4980-8A49-7B14FE781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uzette Ratsimb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uzette Ratsimb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4 – HO AVY INDRAY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4 – HO AVY INDRAY NY TOMP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ny Tomp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ve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ba misalas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4 – HO AVY INDRAY NY TOMP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Haleloia, ka hob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s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re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erà, mihirà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4 – HO AVY INDRAY NY TOMP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faly manan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amonj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3:15:34Z</dcterms:modified>
  <cp:revision>36</cp:revision>
  <dc:subject/>
  <dc:title>Tiona Advantista</dc:title>
</cp:coreProperties>
</file>