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A99-7CB5-40BC-9858-B8D18F43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D47-2D01-4D66-872C-C557288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453-3A80-47AD-9202-7029F02D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5B7-8183-4D12-A9D3-E237EFFC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37B-C7EE-4DBA-BA23-D41C1175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A01F-A123-45EB-A6A8-0C6C50D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54D1-BE9A-4E37-8402-76B34226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605B-FD27-4779-8439-C11D674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0ECE-ECCE-4B68-BA86-7391FAF1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6D3A-3933-4A75-8055-938BA631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51ED-2531-4060-B6CD-54343B0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CF9-AED1-42E6-B6AF-857312F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778-4999-4733-B2BD-9B1BB95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B234-C618-4E27-A9C7-B0D7D14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DB8-61E1-4A80-B921-CBBA733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C657-19B9-4E26-859C-82E1DC3E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8F32-59EE-4D0E-93E5-8B142D1A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E22-D2E8-4632-A2B6-F6EB8AD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28C-DC5C-46B6-8F01-D536CEA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DDB-5FE3-4136-BC21-D5007861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06B-C9FB-40C8-8293-BD00F7C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77F-AFD2-4E34-9AE0-5E1FE86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6BD-BEAF-45FD-B220-1F4FCD7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599-53BD-4FEA-B1CB-6C48639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F2E3-61BB-43CB-B36E-4CB94E5834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1A3-A96D-4BBC-8A29-9822BB9F13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ilmo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6 – Ô ! HENOY NY ANTSON’NY MPAMONJ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206 – Ô ! HENOY NY ANTSON’NY MPAMONJY S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enoy ny antson'ny Mpamonjy 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Ny ampahafolony re en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'ny fanatitra an-t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o an-tempolin'i Jeso.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206 – Ô ! HENOY NY ANTSON’NY MPAMONJY S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Ka tsapao amin'iza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hitanare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otsa-pitahia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vanona sy tsara ny voa.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206 – Ô ! HENOY NY ANTSON’NY MPAMONJY S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indray ny Tompo amintsika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titra izay 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amonjena ireo nam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ny firen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206 – Ô ! HENOY NY ANTSON’NY MPAMONJY S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ny talenta s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atitra tsara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sy ny vola ary he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'ny Avo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26:48Z</dcterms:modified>
  <cp:revision>43</cp:revision>
  <dc:subject/>
  <dc:title>Tiona Advantista</dc:title>
</cp:coreProperties>
</file>