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98FC-598F-45A1-AA5A-A9238905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320F-AB25-4934-BE3A-D50A25D1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5C12-4BE6-4263-A4F2-C3E78596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44EB-759F-43DB-9EF0-79555840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D473-1A2C-49F9-9F66-31331FB9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5981-6674-4C17-B662-4D4EBC84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7DEB-7142-4FC0-A462-2AC2B6B5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0096-ABCF-4695-B913-3ADF700C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A05F-C202-4FC4-A0D8-FB532B7C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5DDE-ADD9-4D9C-B284-BF69593D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6016-9A28-4301-8A2D-F68F743F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184-DBFF-4D65-8BEA-5ECF2CBE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43A3-2950-4784-B1AC-DBB30EB8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D204-EF13-40F6-A72C-AA9EA9FD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AFBF-034D-41AE-9B2B-69849BBE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F277-2595-4AF1-A7BF-A9BBF92D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1149-DE15-456A-8234-56AE74C4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0E0-0853-4217-A460-6FF8CBAD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7EE-2A78-41A4-A7C8-D445A1AA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800D-F452-4F2C-8A58-051A006B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5FDC-3461-4DCF-A703-B84746BB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E9A-480A-4ED0-B19D-347AFA4D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9808-EBB8-4D23-B364-3EF905B2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835F-41B1-49BC-8251-77D3E9B7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BC05-3756-4DEB-A9B1-136F9041C1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E023-485B-4E98-AEA9-83034C0CD3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K. Grunholz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78 – NY TANY SY NY L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14880" y="4292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15240" y="4673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14880" y="50547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690040" y="5435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69004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690040" y="587700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8 – NY TANY SY NY L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tany sy ny l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zavabo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taon'Andria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tory Ilay Mpah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eno fahendrena be sy 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y tsy takatry ny sa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Reo kintana mamir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emitra ny habakab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715240" y="4673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714880" y="50547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690040" y="5435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69004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690040" y="587700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68932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8 – NY TANY SY NY L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laza fa Andria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ery ihany no mpanap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ara-midera ny fitiavanao izah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hovah Masin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panao izao rehetr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714880" y="4292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714880" y="50547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690040" y="5435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69004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690040" y="587700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68932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8 – NY TANY SY NY L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lohasaha mav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tendrombohitra av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ny tanety ngaz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samy ravorav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midera maf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hendry Ilay namorona ny t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Reo voronkely tsara f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dray miredona mihira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714880" y="4292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715240" y="4673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690040" y="5435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69004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690040" y="587700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68932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8 – NY TANY SY NY L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isy 'zay mitoreo ire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biby kely sy leh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ara-midera ny fitia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hay Jehovah Masin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panao izao rehetr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714880" y="4292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15240" y="4673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14880" y="50547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69004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690040" y="587700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68932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inay koa izao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araka hit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tiavanao 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tsy hatorit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anao namor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ay hitovy endrika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dia midera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da ny didy masinao,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8 – NY TANY SY NY L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14880" y="4292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715240" y="4673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714880" y="50547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690040" y="5435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69004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68932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8 – NY TANY SY NY L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votanao mba ho zan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sotra, dera no atolot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onay tontolo sy herina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tinay hanompo sy h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ao mandrakizay 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14880" y="4292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15240" y="4673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14880" y="50547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690040" y="5435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690040" y="587700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68932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1-03-31T07:49:14Z</dcterms:modified>
  <cp:revision>90</cp:revision>
  <dc:subject/>
  <dc:title>Tiona Advantista</dc:title>
</cp:coreProperties>
</file>