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F2E-082D-49EE-A19A-9D695D26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298-E70D-4E31-9DA2-6CCAD551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EFF-981C-4400-8DB8-43E22A42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203-2552-4A92-B8D8-3849E233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10E-C98B-4E89-BE69-CFD1CC49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B8B2-132F-4324-BD12-A223B4A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426-1884-4B4D-91AE-986F2D61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3C6D-2E16-42AC-A683-DA46A1A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AB23-93E4-4661-9465-DCC3DE15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241-A99B-454D-9665-6CDA5BF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9D6-89FF-4B85-9C8E-EA75353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8B9-229E-48D2-A67B-999302C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BD13-4CD4-4DD7-BAC0-4C8EE16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5878-F9A4-4412-A606-A8BF1EB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E8D2-EE93-4276-A236-0F4446F4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988B-22B4-4CC8-86B7-DAB7DCAF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F965-69BE-4E6E-AB56-686C6C53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489-F997-4894-BD1E-8AD6ED4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9E4-A200-4E88-8DDA-E591E11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233-B8F0-4E88-B2C5-8917F1B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023-410F-4272-B5EF-C7D5689D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789-3DD6-4215-9327-FF6E8B7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257-FD15-483A-A21F-903FFBA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023-C1A7-4123-BEA3-9485382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369-0529-43E5-9B5E-D90BB81D6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993-4708-4389-9B4E-0567C0D7E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W. Peters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1 – RERAKA TAO AN’EFITR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1 – RERAKA TAO AN’EFITRY NY 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raka tao an'efitry ny ot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nahita fahafah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eo amin'i Kristy indra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y ranon'aina niboika so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1 – RERAKA TAO AN’EFITRY NY 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isotroana io rano 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aho re, Tena afa-p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Misotro ilay ranon'ai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rbel"/>
                <a:ea typeface="Arial"/>
              </a:rPr>
              <a:t>O ! Mahagaga io ranon'aina 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1 – RERAKA TAO AN’EFITRY NY 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ny rano ome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amonjena avy ao Zi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itam-pitahiana,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toky, fiono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1 – RERAKA TAO AN’EFITRY NY 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ô, hatony ani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misy rano 'zay m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ry ny Mpamonjy 'zay maty t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ena anao an-kitsi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17:19Z</dcterms:modified>
  <cp:revision>61</cp:revision>
  <dc:subject/>
  <dc:title>Tiona Advantista</dc:title>
</cp:coreProperties>
</file>