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41D2-9824-4909-B9E0-98E09F4A1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2DE0-66C4-4999-8C22-7A88170C6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C30B-CFFF-4B50-AA9B-D7958C8E0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C51E-2621-4D39-8711-1F7785A67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26000-7004-4697-9FD8-BCB223DF3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0800F-51D9-4770-8E87-C894A408A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3C944-D10A-4C88-8CED-73948B4DA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42771-DBC0-4661-AE9F-18070B11F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EBDFF-62E1-4695-AAAE-77F61A780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D4EF6-B6D5-47E5-ADB2-BE11634E8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16524-85BD-4366-AC58-687AA899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885C-C139-499E-953C-8A83EC7F7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2D1DA-568A-479E-BA31-6DF81DA9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26980-D63A-4013-8785-5492C99D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35AA2-3481-4844-9727-9A811DA69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F1F78-43EB-4826-B6A2-1D81E9980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8BFC1-187C-4E96-8C05-632F5EF91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8510-7D81-45A8-AE1C-4720BF019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68D8-E03B-4E61-956C-2947EE0AE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B98C-63BB-45C0-9C35-EFFBFDDBA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469A-2723-4EFF-94CC-37CBE39D8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8985-2F49-40AB-A54C-F22AF403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BC4D-72D6-46F7-98DB-158D117B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B770-8C1F-401C-8526-6189B99F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D5E72-9272-49E1-AE0B-8F8475FB4A5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B1786-5BD6-47FB-A08D-B95BD0D74B5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1.xm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481 -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RAHA MAFY IZAO NY MAH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>
            <a:hlinkClick r:id="rId2" action="ppaction://hlinksldjump"/>
          </p:cNvPr>
          <p:cNvSpPr/>
          <p:nvPr/>
        </p:nvSpPr>
        <p:spPr>
          <a:xfrm>
            <a:off x="8826120" y="48402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3" action="ppaction://hlinksldjump"/>
          </p:cNvPr>
          <p:cNvSpPr/>
          <p:nvPr/>
        </p:nvSpPr>
        <p:spPr>
          <a:xfrm>
            <a:off x="8831160" y="52228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4" action="ppaction://hlinksldjump"/>
          </p:cNvPr>
          <p:cNvSpPr/>
          <p:nvPr/>
        </p:nvSpPr>
        <p:spPr>
          <a:xfrm>
            <a:off x="8835480" y="5634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5" action="ppaction://hlinksldjump"/>
          </p:cNvPr>
          <p:cNvSpPr/>
          <p:nvPr/>
        </p:nvSpPr>
        <p:spPr>
          <a:xfrm>
            <a:off x="8817120" y="60087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">
            <a:hlinkClick r:id="rId6" action="ppaction://hlinksldjump"/>
          </p:cNvPr>
          <p:cNvSpPr/>
          <p:nvPr/>
        </p:nvSpPr>
        <p:spPr>
          <a:xfrm>
            <a:off x="8817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Sous-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Ady sy Fandrese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Paroles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Rajoeli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Musiqu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H. H. Lemme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Corespondance :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81 - RAHA MAFY IZAO NY MAH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aha mafy izao ny mah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a mila ho kivy ny f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sarovy, tsy lavitra ak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risty fa akaiky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831160" y="52228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835480" y="5634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817120" y="60087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817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6" action="ppaction://hlinksldjump"/>
          </p:cNvPr>
          <p:cNvSpPr/>
          <p:nvPr/>
        </p:nvSpPr>
        <p:spPr>
          <a:xfrm>
            <a:off x="8841600" y="4470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81 - RAHA MAFY IZAO NY MAH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O ! andrandrao re ny ma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Jereo 'lay nanavotra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Dia inoy na be ny anka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 Izy tia ka mihevitr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826120" y="48402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835480" y="5634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817120" y="60087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817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6" action="ppaction://hlinksldjump"/>
          </p:cNvPr>
          <p:cNvSpPr/>
          <p:nvPr/>
        </p:nvSpPr>
        <p:spPr>
          <a:xfrm>
            <a:off x="8841600" y="4470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81 - RAHA MAFY IZAO NY MAH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aha sendra tsy tazana intso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tany 'zay nilaoz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 onja 'zay toa tsy hito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o vonon-kitelina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O ! andrandrao, sns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826120" y="48402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831160" y="52228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817120" y="60087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817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6" action="ppaction://hlinksldjump"/>
          </p:cNvPr>
          <p:cNvSpPr/>
          <p:nvPr/>
        </p:nvSpPr>
        <p:spPr>
          <a:xfrm>
            <a:off x="8841600" y="4470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81 - RAHA MAFY IZAO NY MAH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aha indro mikiky ny a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ota izay vit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a na dia ao ny mara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oa alina re am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O ! andrandrao, sns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826120" y="48402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831160" y="52228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835480" y="5634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881712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4" action="ppaction://hlinksldjump"/>
          </p:cNvPr>
          <p:cNvSpPr/>
          <p:nvPr/>
        </p:nvSpPr>
        <p:spPr>
          <a:xfrm>
            <a:off x="8841600" y="4470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e ! vitany tomboka vats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n-tanany ny anara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a eso, na kapoka, lats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iaretany noho i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O ! andrandrao, sns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81 - RAHA MAFY IZAO NY MAH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826120" y="48402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831160" y="52228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835480" y="5634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817120" y="60087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841600" y="4470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RAZAFIMANANTSOA</cp:lastModifiedBy>
  <dcterms:modified xsi:type="dcterms:W3CDTF">2010-12-02T07:24:53Z</dcterms:modified>
  <cp:revision>115</cp:revision>
  <dc:subject/>
  <dc:title>Tiona Advantista</dc:title>
</cp:coreProperties>
</file>