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A74-A642-4166-8F6F-46F78F0F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6817-A266-4574-8DC6-B947E8B9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063-429F-4704-B22F-4DB2AD22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1239-0C80-42A5-8BA8-E4AB6256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B9EF-8B45-4C4D-90A2-A1514948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7FCE-B096-4D14-A83E-70CA4835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D27C-2F2E-4852-81DD-8DADCED9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F05D-0D63-46A5-904C-BF4B1AE2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688E-6776-4F59-BE27-C9869034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5DF9-4BDF-4F88-8CD7-3C2D1FC2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158A-6165-41E0-AA34-D5E78D03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E14-9378-44C3-8101-36932ED4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4FB7-619C-4160-9AAE-ED9506CC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ED44-0F38-45E2-AA23-761C9DE2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CF90-7123-464C-B50A-7E4B22BF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A6CC-BEF1-442E-820F-E60DDBAC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46AE-7B7E-4FEC-818A-C1143024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855C-02D6-4E19-AD57-C899ED00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517-7D4B-41E5-9EDC-94CA785F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F41-FB45-4C49-B2FF-F7548A02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4EE-AF4F-4533-A941-2C7C9DC1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C9C-1DCF-4482-A33E-735201F8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CE7-78D6-429E-A669-5A589A34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4D1A-51F3-4058-866A-2562323E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FDD1-776F-4927-88B3-EEE64EB217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728A-FD39-4AA8-809B-5A982746A4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Andrianaivoravel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H. Do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35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25 – RY NAMAKO MAHAN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5 – RY NAMAKO MAHAN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namako mahan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ram-po iz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 no mandr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simba i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anao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lasa av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sy mba misy f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levona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5 – RY NAMAKO MAHAN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mpo be fian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ora-p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ita anao mahan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sy mahita so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tolony ny a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idin'ny a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latsany ny 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di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5 – RY NAMAKO MAHAN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mpo malahel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foin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eo mamelove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bitsika ami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nena anao ny f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taraina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 ajan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ajanony 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9:30:53Z</dcterms:modified>
  <cp:revision>61</cp:revision>
  <dc:subject/>
  <dc:title>Tiona Advantista</dc:title>
</cp:coreProperties>
</file>