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CC2-3541-42C3-A02A-523E92AB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B4C-5DB3-4FC2-A646-F76CEF40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BE4-65EC-480B-80EE-08D30D38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0A9-271E-41AD-954F-F0A11853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6CC2-E754-4C50-A991-CF45EF3B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62B6-EE0F-4B61-B3C2-939BE079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DBD6-0F66-48BF-9114-5D09F425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BDBD-BD49-462E-93E0-70F226A6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7A85-5772-49B9-93C9-99E6339E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53E0-E098-49F7-9B49-A7558EA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DF32-03EE-47FA-ABAC-4264E7F5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F88-9262-48E0-A944-207E6E6F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4EBC-F6D1-40A4-8E8F-50DD2B7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8312-9F05-401D-A0FD-E6055D9D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1FED-ED8C-44D1-8164-C8D3A425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07D7-11D8-4CAF-9225-21662421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FD5F-B2EF-42ED-9A63-FDA0BB3B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204-6167-4EF8-9F91-2E1F79D3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61C-5C54-4FAA-A5C8-96FAFA3F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B59-E13D-48EE-BCC6-5CB84C6C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D62-D1AE-46F1-9BB3-973395E1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DFC-409A-48E4-B1C9-F26A0B72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0BF-ABC7-443D-AA0E-E7F5B7E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DEA-E096-420F-B769-4E040C70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757B-4D99-4A1E-A92D-66855D7A14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08B5-53A6-4823-8C4A-0B8F8C19C7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6 – JESOSY VE MIHAIN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56 – JESOSY VE MIHAINO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ve miha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ve mandre, ka mety hamal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entompon'ireo ‘zay toa 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iady irery a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 ve Jeso, (Mamaly koa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ny ve 'zao vavako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fa mam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ka izay at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56 – JESOSY VE MIHAINO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ve mahi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mijery koa ny fahoriana et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ny ve 'zao 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ila ahakivy eto '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ita ve Jeso, mijery k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any ve 'reo olony '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fa tsy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te hiaraka Aminy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56 – JESOSY VE MIHAINO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ve akaik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o av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trotraka sy Ana ka mety ho 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ondriny vitsy sisa ire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iky ve Jeso ho av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faka 'reo ondriny '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noa fa tsy ho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hanampy 'reo tokoa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9T03:56:48Z</dcterms:modified>
  <cp:revision>80</cp:revision>
  <dc:subject/>
  <dc:title>Tiona Advantista</dc:title>
</cp:coreProperties>
</file>