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C6F-C71B-46C9-84EA-38BA702A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760-49C7-4A8C-9270-CD1D85BA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304-F121-4C2C-A66F-2ADF19F3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DC1-21F2-4336-A48A-E93A21DB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DFDE-7AB3-468A-A6B0-389B82A1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EA7F-852A-444C-9822-4848621B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EE2C-F4D2-4205-B170-91D89120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6DE5-8F55-4477-A61A-4F6D69B5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41F0-9915-434D-973C-E3377F08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B580-4420-4AD8-9E71-ABF76258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2519-3891-4D18-A26A-054FDE97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A56-C1FD-43B4-92EF-D3C5223A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AE5C-9423-4F44-99F1-309C3D4E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975D-2A35-40BD-9874-184A2CAE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6F9C-CD99-41EC-A6C0-A74F7D5F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28F8-EC23-48FF-B5D5-9491C850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A825-A935-4922-BBDD-2C98CEAC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E1F-EE49-4423-A232-3CF1201A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E28-C4FC-4B85-BF1E-F8B76DE1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EA2-856F-4105-9051-590FDE41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83B-4001-444B-B292-A01756B6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C10-6EB2-4A2A-8974-B4107B19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6AE-A1C6-4465-B5BA-F0749976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CC0-6AD2-4D2A-A991-F34FB334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0EA8-B884-4AD3-A8BB-A3CFBD255F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7782-9F0A-44B3-95B5-8BDCF1A9F6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G. Fish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80 – AVY AHO MANAT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0 – AVY AHO MANAT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aho manat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, eo an-tongotr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tsy ho lav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fa navo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0 – AVY AHO MANAT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anao no tokik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Zanak'Ondry Masina 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ty noho ny helo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oa dia isaora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0 – AVY AHO MANAT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tatrao ny ot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afina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ibebaha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Diovy aho iz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0 – AVY AHO MANAT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fiadan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re handram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ny fiai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ba hivelom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fa ater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natitra do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 sy saina, her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nao, Mpamonjy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80 – AVY AHO MANAT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9:01:24Z</dcterms:modified>
  <cp:revision>66</cp:revision>
  <dc:subject/>
  <dc:title>Tiona Advantista</dc:title>
</cp:coreProperties>
</file>