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CF5-02E5-4805-9912-D768FFCC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E81-C8FB-413E-8643-057EEBA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2A8-761C-490E-9FC8-17A19CE6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859-295E-48D6-B54E-F6B10035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9AE6-60A0-4EF3-B896-8FC4580A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A13C-7C5F-4F71-850D-0794FF3F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0272-0B98-4AA1-9CC2-F491511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0A4-748B-42EC-8652-CD1A00AF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5715-760A-4191-B1BC-A1FB829C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6A3-D707-4F98-9BFC-3ABE83B6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EAB9-09B7-44E2-BDE7-6FF35B9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698-D325-49A3-8469-D23BE7E6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403-0496-4E10-B3F9-22D1209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C7D-FF5D-4516-B4E7-0DB725F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17F6-9765-481D-B876-3D4A2628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7092-9C0E-4D8B-9C5D-4A1B3870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851F-32F9-4636-9478-9E91E741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81E-AD0B-4D14-B9DF-9B3595DF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1A8-A8A0-4D9E-9E46-CAC337B9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3DC-5D30-4384-97FD-CFFFF24A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656-FB1B-4A35-82A6-B85A762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58E-BE7A-4838-B021-88C8D3D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D19-D306-44F7-9FA3-8D5E6ED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74C-25F4-4235-B491-C394942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9DD2-1756-4CFF-B1E9-9415C5EC58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92E9-853E-4466-AFE1-1A37D339A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?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uel S. Wes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3 – TOMPO Ô,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9000" y="567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9000" y="60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90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3 – TOMPO Ô,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antano t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tonga eo ami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o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29000" y="60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290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22880" y="5286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3 – TOMPO Ô,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alan-tsar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vin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anay fa tsy ho 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lavi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na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nka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9000" y="567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8290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22880" y="5286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93 – TOMPO Ô,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faingan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o ny 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mory ny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ba ila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ome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9000" y="567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9000" y="60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22880" y="5286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7:24:55Z</dcterms:modified>
  <cp:revision>55</cp:revision>
  <dc:subject/>
  <dc:title>Tiona Advantista</dc:title>
</cp:coreProperties>
</file>