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2D03-B494-4B81-91B0-71CB9EDF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6E9B-5EA0-40CF-AC97-E90EAD15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6961-FA12-45D3-92F3-C2B7A6B9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C928-E769-40EA-A80E-BAF3DE7D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2547-E5B8-4C2A-B564-E44A346B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A772-ACB3-4460-A64C-C0CA5E18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5F8A-218E-498D-8E00-32FB0B20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2A70-CFD6-4BB2-BEBF-44E8DB8C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0252-C118-4821-B8F2-1DB4626A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1D58-218C-4146-ACA6-A101B989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4DC7-82C8-4FF9-8542-531D7071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EF25-D67A-4706-AE1F-D3190281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EFF3-D120-4F91-8DFA-0DAF56C8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9A2B-02EC-44D1-B5FD-24F0DB97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6A0D-DC9C-459E-B308-CD407E7B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0E5E-5375-4CAA-84D7-1CFAAC1F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4C98-3B03-4D83-8DA1-A97ED1EB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8576-8ACA-44B2-807F-178CC444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2055-6324-4278-AF8E-86F4BCDA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6C23-17A5-4826-8AC4-FA936428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B2A8-E155-4D35-88AD-045689C1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23D7-EA10-472A-82B8-AAB434DC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AFC2-B9F5-42EA-A9C4-BC279551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4466-1A10-4B9A-AE3F-775E768F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DF67-6DC0-4781-A195-36E481B743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DE38-D713-4D62-A843-426B8D432B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Sabat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19 – TSAROANAY MAI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19 – TSAROANAY MAIV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roanay maivana ny adin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sasaranay tsy heno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fitsaharana atolo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fifalianay ny Sabat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19 – TSAROANAY MAIV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re, Tomp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aotra vokatry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aratra avy ao Ede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danan'ny Sabat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19 – TSAROANAY MAIV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ainay reraka, mahery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ina velona no azon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nay reraka, tohan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ery noho ny Sabat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19 – TSAROANAY MAIV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dananao hiain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ahianao no tanjak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itanay tokoa ny her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ao anatin'ny Sabat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iry izahay hanomp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ba hitandrina ny did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hamasino re ho zanak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hay manaja ny Sabat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19 – TSAROANAY MAIV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10:06:59Z</dcterms:modified>
  <cp:revision>43</cp:revision>
  <dc:subject/>
  <dc:title>Tiona Advantista</dc:title>
</cp:coreProperties>
</file>