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AFE-45E0-40C1-888A-9E1CF054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939-1D92-4134-B373-5925BF76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A0A-31B9-4CD4-988B-D43211B7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E22-7D11-470D-BA63-EACEEA87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AA0B-30BC-4E2F-A7DE-EC8309D4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1ADD-58D8-4E81-A54E-FF558053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63C7-A37C-4028-81C1-D752B97D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0E0E-A7EE-4720-BF4C-21BF295D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56C2-5F5C-48A6-A9F9-E60AFECB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F652-9B3B-4131-9ADD-DF8B78AE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B818-C673-44E4-A134-ABE520E5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9A1-9A5B-4297-AC23-2B3EF670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D08B-45FD-4DF4-9232-65AC7875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4EB4-1E57-4C9E-9B76-72C6A1BF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0F9C-0EE2-4CF7-9E3B-4F79B5B3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3106-E35D-4A6D-A7D5-481CA492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62DA-A8E6-4DE6-9A50-F25394C1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517-740D-46D7-A485-B38D6B63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16E-97C1-4917-AFBB-EFC50456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5D1-1C53-4A4F-AD9F-5838843F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D0F-B183-431C-B4B6-C7C097CC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B65-C3EB-4ADC-B46D-E65F238D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81F-AE9C-49C1-A29B-017CC470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4DD5-52BB-403C-96AC-456BC607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6CD2-B1F6-4157-88EC-CAA1604B04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903F-DC3A-47BD-AF0E-29CB2EF24C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hannes Bec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48 – ‘ZAHO TE HO TIA A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8 – ‘ZAHO TE HO TIA ANAO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te ho tia A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 ho tia 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ny no ilain'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ia An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misy ety 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hafa-ô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iriko 'zao iha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ho ti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8 – ‘ZAHO TE HO TIA ANAO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te hanoa A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 hanoa 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re no fifalian'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a 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 dia mampitom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ioga mampahor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ny tiako izao iha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hano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48 – ‘ZAHO TE HO TIA ANAO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dia maniry ho fat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raka amina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itsangana indra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y indrindra re iz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fakambana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iriko 'zao ihan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ho te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48 – ‘ZAHO TE HO TIA ANAO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te hiara-di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ka aminao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-dala-mora maf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ndao 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ndroso hatrany hat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ekeko hatr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-pahatongako 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ani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5:36:14Z</dcterms:modified>
  <cp:revision>62</cp:revision>
  <dc:subject/>
  <dc:title>Tiona Advantista</dc:title>
</cp:coreProperties>
</file>