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8EA-EBE3-4189-9296-6DDA1328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19A-0562-4E6A-9F0A-DC37CF20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BE3-95A4-4364-859F-D20C924E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B4D-D78E-44C2-BD11-61211F65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6CDA-F441-4D80-B63D-8D1C2072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0312-DAB4-499B-970B-DB1B347C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B99E-07CC-482C-BFFF-43874877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94F3-7B50-46BD-BA53-255B77E7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F316-F078-4F45-8EBC-6316AE96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2D58-1917-482A-B4C9-81222486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34AB-65D9-427D-BE2B-DEC7C542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524-9A34-420A-9947-FFD25A82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42D8-5062-4E96-A6A9-DA06B8DF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E299-C57A-48B4-A7FD-5E9A0E38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D3A9-8296-4D69-BB27-1355F883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8ACC-03E0-4542-BD4D-00584DF9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1B9D-46CA-44D4-BA27-7466AD10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29F-A698-4DBD-89E1-38EB1C0C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722E-FEC5-4106-B530-BAD8F541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A3E1-113C-46C4-B29E-07F97CA0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3FA-BC1B-4439-AF95-E82512E0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855B-2C3D-40F0-9238-CCF21348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612-C2C9-4079-A04D-B7E34276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73A-EE70-4148-B114-FF34BCA2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C9C7-4CBA-4BF6-9B17-B40DE81DCB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7771-E665-43C9-BD26-4D2ED92AC3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28 – RAHA MISE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8 – RAHA MISE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seho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ty rahona ery, Ianao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anjely maro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 indray, hihira ho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hanelatrelatra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ninahitr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izao rehetra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ankohoka am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8 – RAHA MISE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haiko tantaraina m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hafaliako ao am-p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draisak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iderak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jakako Tsitoh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8 – RAHA MISE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aha miseho 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naty rahona ery, Ianao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havaozinao ind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Ty mety lo it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maty ao 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tsangana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ampidininao e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Tany vaov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4400" y="6323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8 – RAHA MISE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Ndray hihoby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voavonjinao ire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hiara hanandra-p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fiderana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atolotray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njaka lehi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era sy ny ha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a ho hasina ho 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43400" y="51800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48440" y="55609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43400" y="5942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833680" y="4748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3:19:02Z</dcterms:modified>
  <cp:revision>79</cp:revision>
  <dc:subject/>
  <dc:title>Tiona Advantista</dc:title>
</cp:coreProperties>
</file>