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CF0-304A-46C6-A05E-AAB93741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C23-E1E5-40A1-992F-31D4AFF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841-E9CB-4FA5-9224-912C8FCA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C3C-003E-42CA-9693-E28C2EBD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95C7-517F-4190-AE39-FE86F7F1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7B9-6B17-4CBF-B9B2-8511F493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B69C-FE68-416A-A80A-7ABA51E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252A-8CB0-4BF6-94A5-AC3D643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AE0C-03D3-4A92-926D-137F8866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F9E-57A5-4FEF-AD49-8564349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4C9D-9E64-4293-A833-7C07B81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23A-BD8B-4A2B-8F6B-6A07237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3CFF-A2B4-4BAF-BF3F-E893155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1BE8-45FC-4B00-952D-8B4ABDB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3B6-19F2-4D02-98D4-FF9A102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694-6E72-455B-B3B4-D1052760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4D3C-A541-456F-A9C3-35EEAC2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B5C-8776-4ADA-9E48-1E40791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D50-09E4-443B-85F1-A64F608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6A8-28AA-4752-97BC-E54DBEC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76E-16E6-4023-93C6-7476FA9F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B41-FE4F-4A88-9AD0-19CE4D7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98D-F6E8-4DD6-B61D-72BBF11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D6E-A30A-43FA-98B0-DB0F8A2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B3C-559A-4F04-BAD4-2BDA09042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3FD-609B-49BA-9770-8A17891E3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Austin Mil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ô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4 – ENDREY MAHAGAGA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4 – ENDREY MAHAGAGA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mahagaga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mandrakiza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o indrindra ko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zaha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sinj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4 – ENDREY MAHAGAGA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vonjena tamin'ot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(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dera (dera) sy sa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tolotr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fen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ain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velomana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herinao (re hatr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4 – ENDREY MAHAGAGA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mahagaga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ndrana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avelan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vi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taominao ‘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ats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Tariho hahit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4 – ENDREY MAHAGAGA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mahagaga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iantsoanao n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manavao ny 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am-pan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mendrika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8:02:23Z</dcterms:modified>
  <cp:revision>30</cp:revision>
  <dc:subject/>
  <dc:title>Tiona Advantista</dc:title>
</cp:coreProperties>
</file>