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095-35CF-4583-9D8D-601A55ED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BD0-F493-4320-977F-0F64EA63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287-0F75-4659-B5E3-69BC98C8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E68-FA03-4EB9-BDBC-C202D099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C974-B81E-42D7-85FF-F785E29D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7A97-B96F-4D29-9F09-9A485258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F0B0-25EB-45CE-B47D-B6A4FB5B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9663-9669-4509-A746-26B305D8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3F6B-A311-4F83-9BAC-402C3F24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7FC2-B3E6-4EAF-BB08-14CCA426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8789-16B0-445B-946C-E0E68190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8F8-3C51-4381-989B-FFD6D1E6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0D1C-CC1F-4995-874D-239426EC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39F9-3617-4915-B214-C0DE60A8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60F8-EE12-49D1-9AB7-95CFA915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0015-3D66-4C5B-BFF8-5D2A0F5E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B80E-AD1E-49E0-BE12-4308F79F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E35-7067-41A1-83B5-A926AF85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D07-7049-40CF-8F01-A45AA7AD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011-3AD2-4066-B895-E1B839E3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AA6-7628-4092-A18A-453E24F8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EAC-D07F-4AA7-87A5-853DE198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5D5-CB2F-40E0-B31B-4EC58236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B5D-6C04-408F-9EA8-B4D5FFDF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912D-70AF-435F-BDA8-7EF3ECC459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A433-7302-4C19-BD72-4695F19666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D. Ackl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71 – ANDRASO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41880" y="4363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46920" y="47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41880" y="512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32880" y="5506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1 – ANDRAS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aso Jeso hamonj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aso Izy fa tsy mahafo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, mahatoky ny teniny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raiso ka ino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41880" y="4363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46920" y="47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41880" y="512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32880" y="5506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32160" y="393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7" action="ppaction://hlinksldjump"/>
          </p:cNvPr>
          <p:cNvSpPr/>
          <p:nvPr/>
        </p:nvSpPr>
        <p:spPr>
          <a:xfrm>
            <a:off x="874872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1 – ANDRAS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ba ho men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Tsy mba ho menat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ny miandr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Tompo ny miandry 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indro famindrampo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afinao az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8741880" y="4363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741880" y="512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8732880" y="5506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32160" y="393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874872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1 – ANDRAS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aso Jeso raha sar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àlana izay diav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hàna sady mahatah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aizin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8741880" y="4363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8746920" y="47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8732880" y="5506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32160" y="393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874872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1 – ANDRAS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aso Jeso, na ela az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monjeny toa tsy hi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sa mangina ny fitiavany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monje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741880" y="4363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746920" y="47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8741880" y="512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32160" y="393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6" action="ppaction://hlinksldjump"/>
          </p:cNvPr>
          <p:cNvSpPr/>
          <p:nvPr/>
        </p:nvSpPr>
        <p:spPr>
          <a:xfrm>
            <a:off x="874872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aso Jeso, fa Izy her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antenana sy tokin'ny f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ela intsony hasehony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tondra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1 – ANDRAS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41880" y="4363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746920" y="47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8741880" y="512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4" action="ppaction://hlinksldjump"/>
          </p:cNvPr>
          <p:cNvSpPr/>
          <p:nvPr/>
        </p:nvSpPr>
        <p:spPr>
          <a:xfrm>
            <a:off x="8732880" y="5506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32160" y="393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874872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Fahafah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amana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fiderana sy saotr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eno ny v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1 – ANDRASO J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1880" y="4363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46920" y="474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41880" y="512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32880" y="5506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8732160" y="393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3T05:20:26Z</dcterms:modified>
  <cp:revision>91</cp:revision>
  <dc:subject/>
  <dc:title>Tiona Advantista</dc:title>
</cp:coreProperties>
</file>