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90B-98E2-4ED2-8DDE-7DF8823B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892-5943-4ADB-A6ED-279CECE6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436-8DFC-45F2-8473-04C76CE4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51E-C044-43FC-93FC-C6672FC5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70D5-C6CD-410D-8C28-1A2DA6D7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BDA-2F74-4C7E-B470-E84467D3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F817-A5FC-4666-8292-B244BAC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0B1-5464-401A-B763-E2FF186E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B2B1-7DF1-4569-B3C3-20E49CC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6D66-F82C-4D6C-9086-AA3DB011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992-40D9-4F47-AA26-ED558E7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CFD-ABAD-4982-9CF3-0C4B13B3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C77-599C-451F-9CEC-1B34C57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D92E-D4CE-40AE-8892-858129E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C083-D8FA-46D2-A10B-50E3856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CA5-CA44-4768-9FC0-C2318929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6A34-F9E1-45D5-BCFB-50ED503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EA2-02BE-457E-90CE-1F6A7F38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02D-B775-41EA-80BC-7B1FD55D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DE4-A11E-4AAD-B5ED-8F3E5476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BA5-CBB6-4997-8176-49D6ABD7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0DD-058D-4312-B9F4-6FD451C4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0A4-83A2-4D49-BEE1-893C53F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546-EE55-48C5-91C0-6BDDFEF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84D3-70B2-4225-9E40-C78ABA078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A852-A9B2-4E19-800D-24D8D9F87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8 – IZA TOMPO HAHAROMB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62760" y="49546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335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71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9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8 – IZA TOMPO HAHAROM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, Tompo, haharombaka ny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za no haharo, haharomba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, Jeso, haharombaka ny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eo an-tananao Tomp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, iza, inona hataho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nona hatahor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an-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7720" y="5335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71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9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5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8 – IZA TOMPO HAHAROM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haval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hanakiv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hona hampiemotra ‘reo i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matoky A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62760" y="49546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71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9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5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8 – IZA TOMPO HAHAROM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 hatrany ny i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ro ny sak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 tena miaro ny as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mpahery anay, 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62760" y="49546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57720" y="5335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9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5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8 – IZA TOMPO HAHAROM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sasasa toa ran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tso avonao, ry Tsitoh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olona tsy maintsy mandre ny haf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 no mandeha eo al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62760" y="49546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57720" y="5335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71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5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hery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dresy a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tafatambatra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manina A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8 – IZA TOMPO HAHAROM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760" y="49546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57720" y="5335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71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97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52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36:30Z</dcterms:modified>
  <cp:revision>70</cp:revision>
  <dc:subject/>
  <dc:title>Tiona Advantista</dc:title>
</cp:coreProperties>
</file>