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AA5-AABC-43DB-9C58-57827CF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9ED-1A6E-40C1-9C59-0402A36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154-1A85-4CD0-ADBD-EEADF111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211-BD2E-4111-9151-2894EEB1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937-66D7-41E9-AF79-29A864C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7D9-6619-4C0B-B20F-52619F25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AEB-D725-47A0-90B3-D7653CF4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F337-1EC8-4580-B1A4-FF6E0DF5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FAAB-5C8E-4FB4-A7D7-97C0D40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889-012D-4FB7-8FC2-A2553EF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B5B-C351-42B2-9E88-CC75884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C05-C22C-424B-A82E-32C5F77E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7A77-91A4-4F85-A23D-0093BB8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8C9-C9E7-43D2-9FC7-F5E485A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6FA-3A28-47A5-AC67-68273116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3F4-69B9-4BCD-BBDB-3067D6E3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5C3C-1422-43AA-9567-6160317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848-20E2-4EE5-9261-843A294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3A3-679E-443F-AC3A-EBE98E1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BB7-8E53-4310-ACCF-8C29D51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DB1-894A-4ED6-8A43-7480BCE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60B-4DDF-4DAC-BCDC-6D70D6B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C80-568D-48AC-BF89-24C627F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45A-CFB1-4406-B160-8999A9A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67A-24E1-494C-AC24-91FD090B9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9C2-D69F-40B7-A190-3F59C31052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. Anderse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eon-kira alimà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FFPM089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2 – HE, MIJALY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2 – HE, MIJAL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mijaly ny Mpamonj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o Getsemane izao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Ry te ho voavonj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araha Azy ao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dro ny Mpanavotr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miady ho 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2 – HE, MIJAL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ry ao ny Tomp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fy re ny ad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sento, mi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ra ny did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mije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evera ka hend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2 – HE, MIJAL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tonga ny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pahat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so , Izay m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m-panaint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y ti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drà fo ami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19:02Z</dcterms:modified>
  <cp:revision>31</cp:revision>
  <dc:subject/>
  <dc:title>Tiona Advantista</dc:title>
</cp:coreProperties>
</file>