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1CB-3E8D-4B20-8F47-433F8A96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AFB-2DA8-4053-879B-AD791BFE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316-F398-4E3F-B2C4-E8B3C042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94B-158A-47C0-9956-4ED68680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2EEF-9D6C-4E5B-8B8F-7A7334DF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C9E3-75BF-4EBD-9E91-854EACA8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710F-3A3B-44DB-A49F-C9F9C85A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6BF7-F26D-4BC2-A562-FCF0CE86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5D64-638F-4527-9723-00CC99A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AC66-6538-43EC-88E9-676C5945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B2D8-142D-469B-ADAB-1695616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707-EFE8-4A68-ACCF-3A12BA2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CDB3-543A-46C2-B945-8069957D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5F32-AA20-4EC6-A3BE-04618B57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EA09-A146-43BD-85E7-8EE607C4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D6BE-5295-4B8A-A29F-16A2B221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81E5-30F3-49E0-9E96-C5D7F74F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EE3-B11B-4E1A-9AD6-CC3A043E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A12-A398-432D-BE46-A3CDD176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B2E-4590-4B9E-8F8B-90CC0B32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F8A-C229-4F49-9E98-42DC45D8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65D-9C90-4E80-8C38-B98FFF8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39F-D712-4717-9C7C-9CE76186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FC7-DDA7-4C72-B2EA-2D99470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125E-D8AD-4BC0-9EE1-1A74164B61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66B6-71EA-46A8-AEBD-718B683CC8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7 – MITEHAFA T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7 – MITAHAFA 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rankizy kel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ho a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panjaka lehibe sady Zoky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nkizy marobe (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re rank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7 – MITAHAFA 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rankizy kel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ho a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pamonjy tena soa sady mahafin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nkizy marobe (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re rank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7 – MITAHAFA 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rankizy kel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ho a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kaiza tia tokoa sady be famindr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nkizy marobe (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hafa tanana re rank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30:56Z</dcterms:modified>
  <cp:revision>70</cp:revision>
  <dc:subject/>
  <dc:title>Tiona Advantista</dc:title>
</cp:coreProperties>
</file>