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6A1F-F573-4A96-8348-ABE2E467B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37C6-AEE4-4560-B4D0-2AA747BE8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631C-7FD4-4EC3-B8E1-0A737F9BE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FAAA-31DB-458F-B87B-1A407B8E6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41536-AFF3-4FB2-B09E-89C49E5F6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27210-E88D-4BCA-AE4F-87F9833E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CA0EA-E216-4F3D-A5F3-CB34CAB28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D64DE-92D0-4513-886C-ECEB56878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34A39-D663-4A1B-B762-BEE013EEB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7A1FD-2355-4268-93AF-FFA9CF301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E7C10-A462-450A-BCE0-3B9A9650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C4DE-4D77-406A-8937-31B3EDB1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3F07E-6C84-40D0-9275-E7360A8F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12716-AE51-4993-9EB4-280DBB72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BCCA5-8F10-4D8E-BD50-62279DC17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DB210-2006-4790-893D-257116779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30BF4-0F9F-4740-B35B-98B5D4443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7298-3105-4185-933C-710D14E47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45C5-37EE-4173-8C8A-EF1E6B007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2E74-5845-4DD5-AACD-79B91EF1E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6DFE-9E09-4336-9336-B944BDC0F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27A6-0847-494C-8708-1AF262F6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0DC6-A0CD-43AF-A62C-83FC1518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F7F9-3187-4F26-8001-D548E73D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0919-6EF5-47F5-8313-DCA7C6C0F7F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169A4-5A2C-42F7-B14D-E92CF9A1E40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Vavak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zafindramana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zafindrama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35 – MBA MAMINDRA F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661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6041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423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35 – MBA MAMINDRA F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Mba mamindrà fo aminay Tompo ô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Fa mila ho reraka ny fon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He ! Indro miankohok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Eo amin'ny tongotrao 'zahay, Mitady fiaina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y fitianao no hianteheranay iza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Mpanota izahay ka mibeba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Dia mangataka aminao ny hery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Mba mihainoa, Tompo ô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57800" y="6041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57800" y="6423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48080" y="522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35 – MBA MAMINDRA F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Raha sendra ka diso ny alehanay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Tariho sy tantano ny dian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Tsy mba misy izay itokianay 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Afa-tsy izay lazainao fa mendrik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y fitiavanao no hianteheranay iza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Mpanota izahay, ka tsy mendri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y hiantso ny Anaranao, Ray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Ekeo ny fivavak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57800" y="5661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57800" y="6423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48080" y="522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235 – MBA MAMINDRA F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Raha solafaka ety ny fiainan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Areno fa kely ny herin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Eo aminao no miantoraka 'zahay, ry Jeso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Mifona fa melok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y fitiavanao no hianteheranay iza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Raha avy Ianao, Ianao Jeso ô 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Aoka ho isan'ny voaomana toko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y mpanompokelina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57800" y="5661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57800" y="6041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48080" y="522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4T03:54:10Z</dcterms:modified>
  <cp:revision>45</cp:revision>
  <dc:subject/>
  <dc:title>Tiona Advantista</dc:title>
</cp:coreProperties>
</file>