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4E11-DA07-4E1C-87FE-6DD42545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32F3-2285-4BED-B22B-C6BF4161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10F6-85C0-4791-9FE4-519B7795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FC39-542E-4001-AFD6-A52EBF13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F33E-2F20-41F6-93CE-95626990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E574-8416-48D0-917D-D6785A9E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343E-00D3-42A9-BD8A-9E09027D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318D-9ABA-4F69-9521-1CAAD39E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C8D3-5A7E-4E14-A91E-75C08565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C916-2DDE-45AD-9823-CF04BD2E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1634-139F-42D7-AD7B-96A20184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8FD7-0A53-470D-9171-48A0D478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402E-B31F-467D-B2BB-85A65F4C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B204-5645-4B9A-86CA-723C9E6C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C23E-95F2-4F00-BD13-DCBD9DA8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C57F-34EF-40C7-92F8-61AE2317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F49A-EB44-4735-9C47-0409031A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7E50-DD3C-4CB5-9777-71B0580C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7D20-9B57-4A51-9039-84EEE8A0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32C0-A6B5-41D7-99B0-6C1B5B20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A258-D0F2-4E69-A242-3E0B6B76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70EA-191A-4A52-94AE-81D5CCCF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8C2E-8365-458A-B374-16E72456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AAD8-15C7-4E59-8F0D-E3EC6539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4CCC-25E9-4B7B-9347-5EF60C505C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0E6B-4840-4131-93DC-8F04241F69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ante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Emilia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Emilia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27 – SADY MANANTENA NO MAMPAHAFAING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62840" y="63230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TA527 – SADY MANANTENA NO MAMPAHAFAING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dy manant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ampahafaing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vian'ny Tompots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Ho av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mitsang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monjy nam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o avy 'Lay andrasantsi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862840" y="63230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84808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TA527 – SADY MANANTENA NO MAMPAHAFAING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fohaza, mias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afaing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vian'ny Tompots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Ho av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fohaza, mias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nafaing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avian'Ilay Jesosintsika.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84808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8T07:38:15Z</dcterms:modified>
  <cp:revision>74</cp:revision>
  <dc:subject/>
  <dc:title>Tiona Advantista</dc:title>
</cp:coreProperties>
</file>