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CDF-F357-42F9-9FCE-9B22A3A5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016-08F1-4F55-8988-04DBE1C1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2B0-6157-437D-9FC5-86707B61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A54-2C2E-4692-8BFF-8F04D23F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B287-6569-4D43-8B88-55EAB721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B2DD-92CF-4382-829D-CE9F34D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1E3C-ABB6-4EE1-A0CD-A02ECABC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3109-2C9F-4D32-A00F-86AC03F4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F096-AE99-4BD8-A945-4EB38538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01BF-D05A-408C-B932-60B670A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1E37-1B01-4726-9AFD-5BB7342D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AF4-F078-4A13-A474-A782C6D7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C9E7-0B50-46AE-A0FD-9E170FF5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29AB-DC05-469D-9E2D-7FC06D3E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5A72-0B65-444A-BBFA-B0B7E659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077C-750B-423F-9B6C-56B3CE46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5B68-859B-4FBA-9B4D-CA800FEB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82D-DA87-4FAA-AACD-5955AE81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08B-07D7-4B7C-8E11-B66432C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68C-FA7D-42F5-9983-879E88E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330-62B7-49B3-AF0C-A3B85B7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009-FF13-4A81-8FE1-33D6BCDF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D22-6613-4586-879D-193D98E4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868-8241-450E-A0ED-0D4B63F1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E4A6-FBF8-4E18-B241-AD67CF2CA0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923C-ECA3-4319-B0F8-8088EC407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98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AHA MANDIA LALAN-TSAR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W. S. Mart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8 - RAHA MANDIA LALAN-TSAR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andia lalan-tsar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oa aza dia resin-tah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y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8 - RAHA MANDIA LALAN-TSAR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momb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atokia fa Iz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ahafo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! Izy momb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Momba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8 - RAHA MANDIA LALAN-TSAR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anjombona ny andro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aza kivy fa tadi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y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8 - RAHA MANDIA LALAN-TSAR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tany izay manj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any ny ranomas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aherez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to aminy izao ny en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hovah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raiso n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atolo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8 - RAHA MANDIA LALAN-TSAR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5:25:49Z</dcterms:modified>
  <cp:revision>119</cp:revision>
  <dc:subject/>
  <dc:title>Tiona Advantista</dc:title>
</cp:coreProperties>
</file>