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B889-E169-4EF2-A168-B0FE42B3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619B-F3B0-4D4F-9298-54F82202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7586-6DCE-4BAA-918B-2DD7AB74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7974-4093-4A2C-B329-9E49F715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B2D0-0E97-43EA-983C-42B9D075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8C4B-87D2-4986-9F1B-18524E05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87C6-BF92-42FE-A459-AD79A03A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4CE6-FBAB-4886-BB60-DEFAD338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D4E8-35F0-4FFF-B3B7-5E48201A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4BAF-BCA1-4A9E-991B-9AEFA435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5044-02AD-45DC-8E33-91ECA780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D5B6-122D-4C5B-9539-7FB851E4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E0C1-5FE3-4123-AD01-3A7AAE7C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CDE3-8793-4700-B766-F47F1D9F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8D35-418B-41A7-ADED-4734F1CA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304E-14FB-4E67-BAD9-28BEC17B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E48B-1053-495A-A7AC-EF98A552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7E00-B2A7-4D52-8808-A9D6E91C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34B1-DA34-4A32-BE7C-CD3DBA1E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6B4C-348D-4C36-B9DD-F178D088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1995-4CEE-4881-97BF-CFE66322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DFFE-3245-416F-B06E-F05A43EB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A40A-81E8-42BC-96E4-A8A9B2EB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2E96-28BD-4CB1-91B1-4E3A38D6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9BF0-52A5-4EBA-99D9-33562743F4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7CA4-A3C0-4BFC-B977-D7B8227C87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inany sy ny fahafates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Byrron Carmon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75 – Ô ! MBA TSAROVINAO JESO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14960" y="486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20000" y="5249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14960" y="5630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20000" y="601200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20000" y="63943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75 – Ô ! MBA TSAROVINAO JESO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ba tsarovinao re Jesosy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ty hamonj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olotra ny ainy tao Kalv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'ny ond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20000" y="5249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14960" y="5630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20000" y="601200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8290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20000" y="63943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75 – Ô ! MBA TSAROVINAO JESO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n'ny anjely sy l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Mpanjakan'ny voninah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nietry ho olon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nga nahantra hamonj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14960" y="486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14960" y="5630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20000" y="601200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88290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5" action="ppaction://hlinksldjump"/>
          </p:cNvPr>
          <p:cNvSpPr/>
          <p:nvPr/>
        </p:nvSpPr>
        <p:spPr>
          <a:xfrm>
            <a:off x="8820000" y="63943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75 – Ô ! MBA TSAROVINAO JESO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voaisotra avokoa ny tol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 ny her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voasintona tokoa re ny f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nga olo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14960" y="486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20000" y="5249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20000" y="601200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88290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5" action="ppaction://hlinksldjump"/>
          </p:cNvPr>
          <p:cNvSpPr/>
          <p:nvPr/>
        </p:nvSpPr>
        <p:spPr>
          <a:xfrm>
            <a:off x="8820000" y="63943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75 – Ô ! MBA TSAROVINAO JESO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saorako Ianao, ry Jesosy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amonjy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ba omeo ahy koa ny fo mi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onjy fan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14960" y="486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20000" y="5249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14960" y="5630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88290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8820000" y="63943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75 – Ô ! MBA TSAROVINAO JESO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FA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o mahay mietry toy ny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monjy izao tontol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o malemy sy mandefitra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on-kanompo, omeo, Tompo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814960" y="486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20000" y="5249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14960" y="5630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20000" y="601200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8290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8T08:07:19Z</dcterms:modified>
  <cp:revision>32</cp:revision>
  <dc:subject/>
  <dc:title>Tiona Advantista</dc:title>
</cp:coreProperties>
</file>