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2AE-59B9-4967-AA9A-73C726B4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000-3531-4FC4-8A04-0BEEE338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D7C-01F3-4624-9EA4-2C9ED2A1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470-7B83-4A60-891B-83FBFA57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CD7-A696-40A4-B7A9-E59859E8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362-5A13-40BE-B09B-E00BB8D9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61E-EAAD-4D9B-823A-B1FC1920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80F-01C9-41A9-863C-87700699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C45-7F2E-4B43-93AD-B59013BC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F1F-C24B-4EEA-9424-1CC84F96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00F-D2FB-45D5-A2D9-E9261E25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9E6-1A0F-41EF-BA0C-99117038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5D4A-F58F-4435-82F4-4AD067E963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Fanantenan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J. Ramahaisah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J. Ramahaisahy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A531 – AZA MANGI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>
            <a:hlinkClick r:id="rId2" action="ppaction://hlinksldjump"/>
          </p:cNvPr>
          <p:cNvSpPr/>
          <p:nvPr/>
        </p:nvSpPr>
        <p:spPr>
          <a:xfrm>
            <a:off x="8773560" y="56325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>
            <a:hlinkClick r:id="rId3" action="ppaction://hlinksldjump"/>
          </p:cNvPr>
          <p:cNvSpPr/>
          <p:nvPr/>
        </p:nvSpPr>
        <p:spPr>
          <a:xfrm>
            <a:off x="8645400" y="6013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9">
            <a:hlinkClick r:id="rId4" action="ppaction://hlinksldjump"/>
          </p:cNvPr>
          <p:cNvSpPr/>
          <p:nvPr/>
        </p:nvSpPr>
        <p:spPr>
          <a:xfrm>
            <a:off x="8629560" y="63943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Text Box 20">
            <a:hlinkClick r:id="rId5" action="ppaction://hlinksldjump"/>
          </p:cNvPr>
          <p:cNvSpPr/>
          <p:nvPr/>
        </p:nvSpPr>
        <p:spPr>
          <a:xfrm>
            <a:off x="8773560" y="56325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21">
            <a:hlinkClick r:id="rId6" action="ppaction://hlinksldjump"/>
          </p:cNvPr>
          <p:cNvSpPr/>
          <p:nvPr/>
        </p:nvSpPr>
        <p:spPr>
          <a:xfrm>
            <a:off x="8645400" y="6013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22">
            <a:hlinkClick r:id="rId7" action="ppaction://hlinksldjump"/>
          </p:cNvPr>
          <p:cNvSpPr/>
          <p:nvPr/>
        </p:nvSpPr>
        <p:spPr>
          <a:xfrm>
            <a:off x="8629560" y="63943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1 – AZA MANG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 Aza mangina, ô ! mifohaz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fa akaiky re Je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raisa hina hifampilaz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efa akaiky re Je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a sondriana, mahimahi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efa akaiky re Jeso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39">
            <a:hlinkClick r:id="rId2" action="ppaction://hlinksldjump"/>
          </p:cNvPr>
          <p:cNvSpPr/>
          <p:nvPr/>
        </p:nvSpPr>
        <p:spPr>
          <a:xfrm>
            <a:off x="8645400" y="6013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0">
            <a:hlinkClick r:id="rId3" action="ppaction://hlinksldjump"/>
          </p:cNvPr>
          <p:cNvSpPr/>
          <p:nvPr/>
        </p:nvSpPr>
        <p:spPr>
          <a:xfrm>
            <a:off x="8629560" y="63943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41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1 – AZA MANG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</a:rPr>
              <a:t>(tohin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 O ! miomana iana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tsena Azy iz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asandrato re ny ma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indro ny Mpanjakan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asandrato avo ny ma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ndro ny Mpanjakanao.(Fa ho av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Miomana ianao,(hitsen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tsena Azy izao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8773560" y="56325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32"/>
          <p:cNvSpPr/>
          <p:nvPr/>
        </p:nvSpPr>
        <p:spPr>
          <a:xfrm>
            <a:off x="8629560" y="63943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33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1 – AZA MANG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</a:rPr>
              <a:t>(faran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Mba faigana re ry Tomp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andry ny olonao (Olona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Zavaboary miara-mis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ara-misento hoe : Av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ingana re ian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8773560" y="56325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8645400" y="6013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1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8:01:25Z</dcterms:modified>
  <cp:revision>80</cp:revision>
  <dc:subject/>
  <dc:title>Tiona Advantista</dc:title>
</cp:coreProperties>
</file>