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053C-073F-4795-9A53-8353E7D5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96EF-54BE-45B3-8B58-2CBAE9AE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1F4F-E0A3-4E96-BD3A-D9DC6F1B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7B20-C8BF-400C-AF37-9F87964C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1E18-D9F0-4E1E-ADC2-FC4E529C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25AE-B0D8-4E65-9F2A-E1DA353D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D5A6-A664-49A3-9023-09541471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E223-77F4-4E49-A153-4132CC8A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2AD0-36B4-41AB-AF92-08397632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0805-7B2F-48AD-979A-BB161309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E4A5-9B65-4E4A-9E62-B648E22E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2895-722F-446A-8378-F8946ED4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4676-5109-41E8-B9C8-0FE965FD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EEAC-621E-4376-AB22-2E5DA395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E577-DCFA-40D3-B250-9F5AEEC7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320B-DDA6-4955-9132-2F818858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CEA7-1CBC-4193-8228-D39BA79D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ECD8-D50C-4DE7-94C0-E8C45E21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504-0B9E-44FF-A779-A4AF891B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FF8D-F4C0-4472-9D9C-3E08CB39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884-9EA4-424C-928D-AFC13CF4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2BBA-0A1A-48FD-A28C-C19F7AD2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2EA-DA87-468C-923A-7EBE8B98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2FF-D6C4-40C1-BA51-44FE05E5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AFC6-BF01-478D-B9E0-B18C43CAC3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E4A5-5BEC-40E8-A171-E5E5CBEEC3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. Randriamiandriray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. Randriamiandrira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28 – MIANTSO ANAO JESO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67160" y="6093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66440" y="647388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8 – MIANTSO ANAO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anao Jesos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Njao miantso anao Jesosy iz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lo-tena ho Azy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gavy koa, (ô !) mital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-pitiavana re ka mba val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anao Jesosy (re)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hoana no (dia) variana ianao </a:t>
            </a:r>
            <a:r>
              <a:rPr b="1" i="1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866440" y="647388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848080" y="566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8 – MIANTSO ANAO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eha mba la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Nahoana re, lazao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anie ka von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ndray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tolory Azy ny f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à nalatsany dia ampy hanadi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y hanadio ny f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57800" y="6093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848080" y="566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4:01:58Z</dcterms:modified>
  <cp:revision>64</cp:revision>
  <dc:subject/>
  <dc:title>Tiona Advantista</dc:title>
</cp:coreProperties>
</file>