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36B-3514-4CDB-909A-C9012A0F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0FB-5EE9-486F-831F-44E5EA7E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56C-8AC3-48AE-91CA-0912BE1F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98E-F304-4538-AFDF-D7341216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DD3-E521-43C3-839B-535EF82A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87D-1237-4881-92C2-81A98D3E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BA4-61BA-4801-BD44-4DDD813B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4F4-13C2-4FD0-97BF-36CCCCA5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DAF-BAF1-429D-80A1-A1E5A040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098-3C49-4C65-A656-97B2319D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58A-43A7-47A2-AEC4-E7635AA4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899-2D30-42DB-B714-C4CD5313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4738-3E33-4196-B5EE-68A5F8D716B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H. Morri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HL1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349 – ENDREY NY FANIRIA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10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349 – ENDREY NY FANIRI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drey ny faniria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adanam-po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ety ny fifalia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serana avoko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minao ire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Tompo tsy mand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navotra ny ver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tsara indrindra iz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39">
            <a:hlinkClick r:id="rId1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40">
            <a:hlinkClick r:id="rId2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41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2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349 – ENDREY NY FANIRI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idiro ato am-po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o ny fitiav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iorim-p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 koa hanj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hafako 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30">
            <a:hlinkClick r:id="rId1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32">
            <a:hlinkClick r:id="rId2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33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34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349 – ENDREY NY FANIRI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haren'ny t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tsy mahafa-po 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 irery ih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tena foto-tso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feno ilay kapo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eo anilanao 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ratsy dia voaro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resy sady l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8">
            <a:hlinkClick r:id="rId1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2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349 – ENDREY NY FANIRI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zava-tsoa indrind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 hatri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raka mamind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ami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jiro hanaza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dian'ny maro r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tsinjo lalanda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aty alim-b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29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10T17:58:54Z</dcterms:modified>
  <cp:revision>63</cp:revision>
  <dc:subject/>
  <dc:title>Tiona Advantista</dc:title>
</cp:coreProperties>
</file>