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2F7-8BDB-4EB1-88EB-7EB5F646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888-E6EC-4A4D-BD87-0B1D5C97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169-7AD4-48E9-A432-278599B0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E85-520A-49CC-8BB5-198AE6C0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A6E5-4947-47BD-9F29-A56A2F85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3EF-0D4C-4A8B-BC5F-A359C79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02C7-3B2F-445C-B375-0285125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2E29-1D44-4C2B-B4D5-1D5F635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8666-E4BC-4369-991C-AD68ED2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891-7C72-4DEB-9CFF-3B73C68A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EC25-1088-4A29-BC91-4422BF5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05B-6952-431B-9C8C-BABFBDCB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B1C-67AF-4EEA-BBC2-64D9FE7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3DCF-6DDD-4109-A076-0B787ED7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C69-86A5-4F81-A8B5-D2CE6DC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441D-9DB4-4774-BCC1-2A80CFFD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A556-0EBD-4DBE-BC61-90137E2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18E-E89C-410D-BF67-8520715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B2F-D044-4D80-B07E-0B87D9E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B80-BC77-4BED-AAC6-C3FEBE11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AF7-367B-4E7D-B21F-E4846770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6C1-260B-4594-95C2-9E31E41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9AF-6B8A-41C5-8C68-4FCA66A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DAA-F367-49C5-BA2F-82346DB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DA8-60E3-4C01-9B4F-245829882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362-1D13-47E1-A54D-1B9A6ACE0A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E. Bel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3 – ALI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3 – ALI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lina ny andro 'iay sambok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opatopan'ny onja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ivo-doza koa dia nam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Fahoriana, Jesosy tsy 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anefa, fa nis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elatrelatra tampok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endrika izay nampis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orohoron'ila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3 – ALI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o reny tsara, na mafy ny onj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nampitony ny fon'izy ir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be akory, indraim-bava monj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ihany, todiho, jere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Tompo malala asaivo manke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y mpianatrao » hoy ny anank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Avia hoy ny valin'ny t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oraha eo an-tsandrin'ny Ray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3 – ALI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niahotra fa mafy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safaoky ny ranob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Tompo vonjeo fa tsy afa-man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ndrinao, ô, ahinjiro re !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hatrany, tsy nijery f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Mpamonjy nandray azy '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Nahoana re no dia kely fin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hanahana re ianao ?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3 – ALIN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tsy miova, ny fiainak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a dia mahery manonja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Loza maro indray maha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hanafotra 'lay t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aherezo fa kely fino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zony mafy an-tan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kivy, ô, aza hadino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rao ny onja, savao 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8:35:16Z</dcterms:modified>
  <cp:revision>90</cp:revision>
  <dc:subject/>
  <dc:title>Tiona Advantista</dc:title>
</cp:coreProperties>
</file>