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A5D2-201D-43EA-AF44-EE6099FF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E926-6BDE-4530-808A-7D26C3D7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667-5459-4D9B-9E77-F125E455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0F7F-E776-47F9-B252-997CD270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2D90-CB91-4054-820A-2939F0C8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CB69-338F-4D96-B8EB-148B5122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DE50-7C8A-4665-87A6-99ECB8A9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1867-3FCB-42DC-93D2-61984E25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8315-6EFD-4931-8C5D-6660F2C0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3076-DF03-45BF-9E85-F34DB9C5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C049-80E4-4465-A796-2048656B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A53B-2BFF-4650-87CB-23429243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8FA7-C201-4F22-BF45-D1A910FA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0B10-832F-4108-B532-A644E24F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5766-2995-49EB-A975-29666FE6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78A6-2F2C-445C-BE5F-142C10C5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721C-51E6-4306-B5A0-466F8049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6E6B-6E48-4270-A7A9-D0B7DC26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172-FF42-4527-B26F-40785288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609-0AC9-49FA-8B4F-1A95549E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140-0A13-4DE9-A155-A149239D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763A-92E5-45BF-8874-076C825B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A90F-8E4D-45C1-B42E-7ECFBF9E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E5D5-4512-445E-9779-E200978F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8996-6A64-4FCA-BBBC-4A79BCF159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780E-4C9C-4904-9BCD-93210E3F3E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aom-baova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amoely Lala Jame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eorge Berverly Sh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63 – TSY HANGINA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3 – TSY HANGINA NY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ngina ny fo fa hid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ia feno ny haso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ahiana lehibe tokoa, Ray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afita ny taona v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3 – TSY HANGINA NY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faliana, Jes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ameno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ga anie, ho am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mindraponao, Tomp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o sy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3 – TSY HANGINA NY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ngina ny fo, hankal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ao, Tompo ti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lon'aina tokoa sy tafit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famindraponao,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3 – TSY HANGINA NY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ngina ny fo, fa voav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min-dranao soa, Jes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mindranao fo na dia mpanot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ova hanahak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5:47:16Z</dcterms:modified>
  <cp:revision>80</cp:revision>
  <dc:subject/>
  <dc:title>Tiona Advantista</dc:title>
</cp:coreProperties>
</file>