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937B-4A1C-4D61-A05C-20BF64D49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9210-A7A7-4924-ABAE-7BFE81D2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0850-AA1B-4B55-B310-213E7BEC3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41E8-3034-4D0F-9AFC-BC139FD60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EA77-B875-47BD-A297-14342657E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AED0-8DF8-4425-A564-83A8A8FE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B321-024D-42FF-8A82-E32F87EA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02A1-004E-479D-B03F-019C69A6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73B7-682E-416B-ACF9-B44AEA04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BF6A-6D08-4D6F-98FD-BD1108C0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D1CE-9A3E-447F-A864-4AE9A9D4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F243-FC68-492D-ACF6-CAD9844D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D728-DA55-4920-A67F-9077731B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EA1C-114F-4CD7-952E-2EAA2756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880B-AC41-45FD-B49E-8E3D5F11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76ED-FA3C-4066-9EF0-BB7148D32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C898-0D4A-43B7-B881-18879CC0C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37AA-8036-44C9-BDE3-2128242E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6251-B417-417E-9AE9-3951B6D5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85F3-581F-412A-8986-39DA8F4F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1D0F-2AD7-4C75-89BB-3589CE15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8674-343C-49D2-8671-37FA15FB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5548-7654-4E2A-ADC4-D48629C4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0D09-3E63-41E5-879F-8AFEEF0A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CAF8-F7EC-4C16-9C16-0F2854F11C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C41A-7B8E-459B-B552-4C45AB2D19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era Ar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era Ar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712 – DERA, DERA, LA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764200" y="594216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761680" y="632304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12 – DERA, DERA, LA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Dera, (dera), laza, (laz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Voninahitra ho Anao ry To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vo indrindra, sady masina (Tompona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ndriamanitray, (Tompona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ndriamanitray, (Tompona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ndriamanitra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ndriamanitr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Tompo (sy) Andriamanitr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Izay toloranay ny dera sy laza 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9999"/>
                </a:solidFill>
                <a:latin typeface="Corbel"/>
                <a:ea typeface="Arial"/>
              </a:rPr>
              <a:t>D.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761680" y="632304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8762400" y="551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12 – DERA, DERA, LA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00"/>
                </a:solidFill>
                <a:latin typeface="Corbel"/>
                <a:ea typeface="Arial"/>
              </a:rPr>
              <a:t>:,: </a:t>
            </a: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ofidinao izahay </a:t>
            </a:r>
            <a:r>
              <a:rPr b="0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(Nofidinao izaha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Ka nomenao adraikitra izahay ire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ba hanompo Ana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ba omeo hery izahay Tompo ô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Ka tafio ny hasoavanao 'zah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ba ha </a:t>
            </a:r>
            <a:r>
              <a:rPr b="0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(hafahanay)</a:t>
            </a: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 fahanay  </a:t>
            </a:r>
            <a:r>
              <a:rPr b="0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(hahafahanay)</a:t>
            </a: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anome </a:t>
            </a:r>
            <a:r>
              <a:rPr b="0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(Hanome Anao)</a:t>
            </a: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Voninahitra Anao </a:t>
            </a:r>
            <a:r>
              <a:rPr b="0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(Voninahitr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min'izao andraiki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Sy talenta nomenao izao. </a:t>
            </a:r>
            <a:r>
              <a:rPr b="1" i="1" lang="fr-FR" sz="3200" spc="-1" strike="noStrike">
                <a:solidFill>
                  <a:srgbClr val="ffff00"/>
                </a:solidFill>
                <a:latin typeface="Corbel"/>
                <a:ea typeface="Arial"/>
              </a:rPr>
              <a:t>:,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64200" y="594216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8762400" y="551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2T09:33:53Z</dcterms:modified>
  <cp:revision>78</cp:revision>
  <dc:subject/>
  <dc:title>Tiona Advantista</dc:title>
</cp:coreProperties>
</file>