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4A76-81F7-4493-82A4-D19AE96A2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8A7E-6E62-4D05-95C1-221F8F64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2E64-409B-489D-BA0B-8E9E20401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E592-B14A-4317-8B9D-DC01D17D1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7C80-3216-45BB-97D4-EBD352FB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7540-C6C6-4CEC-B4B4-3A0E564B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1C82-E50B-487E-B6F0-5E2787D4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E189-21CA-4892-B370-A30C03A9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992C-00DD-4B89-AA0B-CFE5F97D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4307-AD35-48E9-A055-D2002A49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1A59-3949-4B36-A048-09E8C335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C700-6120-44B7-AA61-85DDE67E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25C2-1CFB-4DE2-A9FD-879625AF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A732-B972-43D2-B77F-DEC0C6CB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D6A1-7DA8-4802-BC44-EDD30B73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AB7C-23B2-4521-9FB2-6FA1B1E61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3C98-9F4A-4AA1-A02E-CAE05D72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33F5-2F43-4CC2-B08E-D876DDA3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B541-94F3-409D-A2D9-2A8B8239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B39B-9706-4F89-B2A4-943712ED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4694-149E-48DF-9BC4-E457036C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3A7B-6D93-4A56-84C9-8B6A64F5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A275-A15C-40C3-90B7-ADAA691F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3D37-9B63-4439-854C-35504C1D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BE47-6345-4196-8649-740A4ADDCB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5DD2-CAFC-4AA4-92A7-6C12925454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eremôn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E. Brockwa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B. Dyk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FFPM44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61 – RAISO AHO TOMP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22880" y="4233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2288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2288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1388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81388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81388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61 – RAISO AHO TOMP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Corbel"/>
                <a:ea typeface="Arial"/>
              </a:rPr>
              <a:t>Raiso aho, Tompo ô 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Corbel"/>
                <a:ea typeface="Arial"/>
              </a:rPr>
              <a:t>Fa te ho mpanomponao 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Corbel"/>
                <a:ea typeface="Arial"/>
              </a:rPr>
              <a:t>Raiso koa ny androko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Corbel"/>
                <a:ea typeface="Arial"/>
              </a:rPr>
              <a:t>Ka hanarano fo izao</a:t>
            </a:r>
            <a:r>
              <a:rPr b="1" i="1" lang="fr-FR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82288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82288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81388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81388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6" action="ppaction://hlinksldjump"/>
          </p:cNvPr>
          <p:cNvSpPr/>
          <p:nvPr/>
        </p:nvSpPr>
        <p:spPr>
          <a:xfrm>
            <a:off x="881388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33680" y="378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61 – RAISO AHO TOMP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re ny tan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nao ny as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koa ny andr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fanirakir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822880" y="4233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82288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81388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81388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6" action="ppaction://hlinksldjump"/>
          </p:cNvPr>
          <p:cNvSpPr/>
          <p:nvPr/>
        </p:nvSpPr>
        <p:spPr>
          <a:xfrm>
            <a:off x="881388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833680" y="378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61 – RAISO AHO TOMP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ny fahaiz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to mba hanaja 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koa ny vol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ao toko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822880" y="4233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82288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81388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81388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6" action="ppaction://hlinksldjump"/>
          </p:cNvPr>
          <p:cNvSpPr/>
          <p:nvPr/>
        </p:nvSpPr>
        <p:spPr>
          <a:xfrm>
            <a:off x="881388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833680" y="378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61 – RAISO AHO TOMP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re ny vav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piseho ny hafatr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koa ny fe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mpanandratr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822880" y="4233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82288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82288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81388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881388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833680" y="378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ny fanah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ovy ho tempoli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aho Tomp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ao mihintsy '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61 – RAISO AHO TOMP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822880" y="4233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82288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82288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881388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5" action="ppaction://hlinksldjump"/>
          </p:cNvPr>
          <p:cNvSpPr/>
          <p:nvPr/>
        </p:nvSpPr>
        <p:spPr>
          <a:xfrm>
            <a:off x="881388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8833680" y="378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261 – RAISO AHO TOMP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ao manok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amonjy, Tompo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ao dia Anao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ao 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822880" y="4233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82288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2288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81388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81388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8833680" y="378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3:40:43Z</dcterms:modified>
  <cp:revision>48</cp:revision>
  <dc:subject/>
  <dc:title>Tiona Advantista</dc:title>
</cp:coreProperties>
</file>