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734-C4C4-42BA-AB46-FE4BD2CA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0F6-B713-4C41-8E6D-5C275BA4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0C3-A5AD-4B1A-B7D6-86DBDCCA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4A0-0940-478D-B8E2-510E36A8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AD92-C02E-4D4F-AC5C-25616E74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C848-F9B6-49AD-B92E-6E5D0399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3C8E-5239-4096-BFD6-C71E4EA5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DDB6-0471-419B-8217-5B5CB09D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9F4B-7B3F-4CF9-AB37-68F930FE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EEC0-DF9A-4EEE-BAA9-EF942050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3925-9C14-45E6-A84A-6DB807FA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428-F4F2-4410-B172-291C1789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F893-DD74-40E9-AD4A-71193E3A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CFD1-0496-49A8-8D4B-4F7854E0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FE78-8AD5-4060-A6DB-7363CFA4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A0CC-AE81-4848-9910-E692EE20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D6C9-6799-4E7F-B067-4185CB48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537-ABF5-4C8E-BE0E-E52CD9F0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1FF-CD49-4195-9B44-9D914155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484-6030-4025-B044-C09BCC4C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006-9D73-43FE-B05D-9D449802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EEB-0C9F-4876-B25D-D44C5D65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FEE-58A8-4113-BF3F-05EA160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AC3-4135-4C7D-A90E-E0375F0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4B40-1575-48FF-A3EC-CD78ECCE34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E78D-861F-4A12-8825-D875C75BB4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6 – INJANY TRÔMP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63120" y="5950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6 – INJA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ny trompetra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koako maf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ha ny maty fa na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'i Jeso miantso ho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7716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7212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6312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63120" y="5950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6 – INJA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Mifohaza, mifoh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dy anao ny Ra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ninahitr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na anao, atafy ana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7212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7212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6312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63120" y="5950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6 – INJA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jely koa mah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sana nandri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izy koa no mamp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antsom-p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7212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7716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6312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63120" y="5950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6 – INJA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nodimandry e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, reny sy haf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hisy ho tave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 ny fe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mpif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7212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7716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7212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63120" y="5950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24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ony an-drahona 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ra-boina, ny nand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dema no hom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natoky sady ni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6 – INJA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7212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7716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7212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6312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24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6 – INJANY TRÔMP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foha androtr'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anao ny sitrap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tahiry ho m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ento eto ints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7212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7716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7212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5950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24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9:05:24Z</dcterms:modified>
  <cp:revision>36</cp:revision>
  <dc:subject/>
  <dc:title>Tiona Advantista</dc:title>
</cp:coreProperties>
</file>