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290-6866-41A4-8A36-2FAB7685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3E1-AA31-4909-80CF-F277450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236-D761-480A-8429-0F39F4AC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2E3-180F-4098-B7C5-88AB35BE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29CC-5254-4D00-849C-6CC3CE01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CD2-CEF9-41EF-BF74-76C1EAC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1AE9-9CFE-4FF7-B4CA-01BEEE0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D3F-D514-4035-A496-1EDEB9DE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53A4-C1D6-43EA-B22D-95AFBFE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2ADD-6A34-4DDF-AD61-AA82DB50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BD8-92B5-40B8-ABCF-DC65EC3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DC0-131E-4C7A-B7CC-CCB8969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416-1EF8-4981-A873-6F1A360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AF5F-1378-4BE7-A803-9E7AC7D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5F9-C962-4B20-A3EA-D0421980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405F-2D67-433E-872B-66E59299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65A0-120B-4E88-8AF2-0C0AF43A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E7D-08BE-4C60-94C6-7C1B7919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5E8-C56A-4E9F-8C2C-2310101E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B4C-A5FA-4785-A166-1035852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5E0-E7CA-4300-82D6-44EE832F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45C-AEC9-42BC-8D84-43776394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A58-B492-4F23-91D9-654A022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548-97FD-4FA6-8B84-06708F84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F7CF-4D58-436B-A51C-F862DC9ADB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838-EDDE-42B9-BC9B-68AECDAF8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C. Will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9 – TIAKO HO RE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124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9 – TIAKO HO RE LALAND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iako ho re laland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ô, 'Lay fe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zy mahay mapis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lahe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anome famel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hamarina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drindra ny fanante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mpitraka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5124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9 – TIAKO HO RE LALAND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iako ho re (tiako ho 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ny feonao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'Zany feonao ô ! ry Je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ena soa (tena 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to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5124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9 – TIAKO HO RE LALAND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iako ho hit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ô, ny tav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hampisav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izin'ny ot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van'ny Tompo mal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nambara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iova na mi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hy hatrety sy sy dor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9 – TIAKO HO RE LALAND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misehoa Ianao, r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ba misehoa, mba miseh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Ianao, ô, ry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ena soa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av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a tena soa, tena s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soa indrindra ny t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5124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iako hiara-mite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ny Anao re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hisava ny s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ho lao ny manj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iara-mam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ao, ka tsy han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rehefa hif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o aminao,Tompo 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9 – TIAKO HO RE LALAND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5124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72640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9 – TIAKO HO RE LALAND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izay Ianao, ry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min'izay, amin'iz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Ianao ô, ry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o anjarak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ahy tokoa, hoa hy tok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hy tokoa, eny mandrakiz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51240" y="42926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51600" y="4673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51240" y="50547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26400" y="5435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26400" y="5877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7400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09:33:32Z</dcterms:modified>
  <cp:revision>89</cp:revision>
  <dc:subject/>
  <dc:title>Tiona Advantista</dc:title>
</cp:coreProperties>
</file>