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40F-9F01-4985-ADDE-53D15635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A2E-9767-4B18-AE89-088E862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A83-B58D-4276-967E-F2F8AE46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F38-ADE7-470B-B33F-BE3CAC74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11CD-1156-4DC6-B50B-FDB12F76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A827-4B1F-437B-9682-080DAE2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653-3988-4009-852B-EEBF2A8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0986-D285-4577-9EA1-42847456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BEB-B8C7-435E-8B35-00F33A4F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7FAD-69A5-4116-9B1A-F40BA3A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D6FB-B032-4B42-BCE8-E1208FD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50E-77BE-489F-B239-5B683D46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03C0-EB89-47E7-9D8A-8CC83E4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DC69-8206-40FA-8639-1927327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9115-6486-4F90-90B5-54AF574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642E-D72F-471F-A310-E649980E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BFAA-CD31-4A77-8B4D-9E2C839D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A16-2D2A-49B5-A811-3D69E3A0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A4D-083A-4DAD-AE4D-B164168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42D-4C76-4FB1-8540-8AC27BA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C8C-7392-4B5B-83B4-7D929FC4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B65-38F8-4441-BA63-4566327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DEA-51A9-4C03-8A74-AE02D0F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841-B7D8-4EA5-9FEB-1606306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60D-3D95-4224-942E-650F394F31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DA1-4481-4880-A72C-DA26A7D4CB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Bati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7 – NY VOADY AT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7 – NY VOADY ATA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dy ata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batis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! tah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hamasin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ekena iz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n'ireo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ritra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7 – NY VOADY ATA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faly, ravo re ny f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teraka ny faniri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ekena izay ataon'ireo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haritra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7 – NY VOADY ATA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ndresy azy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noana av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mba om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inany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ompo tia, Ny fo sy sai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hatr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7 – NY VOADY ATA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haren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ô ! Vonj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var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sendra ola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meo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hana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hemo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21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716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4:04:18Z</dcterms:modified>
  <cp:revision>49</cp:revision>
  <dc:subject/>
  <dc:title>Tiona Advantista</dc:title>
</cp:coreProperties>
</file>