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82F-69F7-40C4-82F5-99460846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654-F919-4026-9E26-F38B06C5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39C-73FF-480C-BB7C-07B25A87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919-C142-4C3D-B86B-B6B7E3BE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2FA7-6D36-4B59-8AFE-B6B0E0BC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EEB4-D236-4CB3-A604-988D7A8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21B1-EB92-4152-A098-2D74EBFB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B3B2-1B02-465A-9D37-BAD17F93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6954-B281-4E5D-B41A-D87858A9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379B-6DA5-4BF0-9CBB-20D512C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01F7-7DBC-4CBF-A72C-7F4AD83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C77-7AFA-422E-9ECA-EC75857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B0B9-0AD4-4916-AF7B-C5D5BC3D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780A-86A7-4491-A41F-433D50C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934C-59BA-48D2-A00F-253F7F2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4250-1FFB-4F4E-A405-CE23D870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6EB2-6ED1-4B4C-9752-DF9B96F6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263-41F6-4885-AC86-82D01917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EE3-93FE-4396-B92A-55657EC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6C8-E2D6-480F-B97D-DA516821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38D-425B-4895-A997-0D126DBC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F0B-FD0C-4EEF-ACD7-D475C47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F76-17C0-49BB-A038-A5AE494A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F73-532F-425C-B9F7-B193B010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80E2-16B5-4EA7-95E9-79107ABC66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DD70-DAE0-49B3-91BA-0B30E11141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P. Bilhor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2 – JESO HANY FIER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1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692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1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32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32880" y="573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2 – JESO HANY FIE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any fier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fiono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rery no jer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'Izy no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pamonji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4692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41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32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32880" y="573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732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487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2 – JESO HANY FIE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fe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tia, ô afe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o ambany ela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no tsy m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(Tsy mand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41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41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32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32880" y="573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732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7487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2 – JESO HANY FIE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indro man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tsiaro toa naf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andraiko ny fijer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tsy mahaf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sy mahafo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41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4692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32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32880" y="573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32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7487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2 – JESO HANY FIE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-pototr'ilay h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ihombo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y foko no hah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ad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iadan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41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4692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41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32880" y="573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732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7487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, kely s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av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vahadim-parad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dirako iz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sy ho ela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2 – JESO HANY FIE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41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4692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41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32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732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7487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fen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tia, ô afe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bany ela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tody aminao. (Am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2 – JESO HANY FIE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1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692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1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32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32880" y="573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732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48:10Z</dcterms:modified>
  <cp:revision>67</cp:revision>
  <dc:subject/>
  <dc:title>Tiona Advantista</dc:title>
</cp:coreProperties>
</file>