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5A4C-1151-4991-B25E-E4DE28AD3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9F46-1B84-47FF-84D0-12F4D239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8BB8-4522-4585-AC6A-63D4DF509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67F9-92DB-4F48-8177-D6E26F65B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062D-2D96-4479-995A-1A8C5C54F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9F5E-9DDB-4FB3-AAA3-0210D37E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80F5-87D0-40BE-9660-1F09D419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37BF-A9D0-407C-AEAD-673463D8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2F84-030C-42CF-B34D-CB53F8DD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C25D-6359-4935-BE65-55B6F3EF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031F-5163-464D-9D9B-66B4DB5B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5E9C-1D2A-4EA1-A98B-C84B1E2F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3E0A-9F23-46EA-A6EF-5F24BA63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3DBE-B24B-42C8-B19A-0C6A13AF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C6F0-8558-4965-963C-0B3CA728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F3B7-109E-48E1-92C9-792865C80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7003-F6E5-46E4-A252-FE90F9CCE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51DC-3D71-4C1A-909B-6E22A860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95E9-FAD9-48C1-901B-B1EFBB17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8F79-3047-4682-94E4-E68D8E0A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8C60-758C-4197-99FA-F963C2FA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0215-FD17-4208-878C-EEDCB50A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348C-249D-4D44-AEAB-7EB6F0F4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1D27-F2FC-452F-8102-18F23C19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438D-2E48-4F27-A7AC-5D4E0F0026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5C58-A68C-45BC-A541-40F18E7761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o an'ny ankizy madinik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Lanny Wolf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92 – TIAKO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92 – TIAKO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iako Jeso, tiako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Tomp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no hany teniko re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iako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tiako raha ny fiain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laza izany ko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laza hoe : tiako Iz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a tiako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92 – TIAKO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iko Izy, eny ila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T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no hany teniko re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iko Iz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tiako raha ny fiain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laza izany ko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iko Izy, ilai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a ilaiko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92 – TIAKO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erao Iz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erao re Jeso Tomp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o no hany teniko re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erao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tiako raha ny fiain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dera an'i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deraiko, derai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deraiko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92 – TIAKO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saorako, isaor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Tomp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o no hany iriko re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saotra Az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tiako raha ny fiain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fisaorana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saotra Azy, hisao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saotra an'i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10:36:03Z</dcterms:modified>
  <cp:revision>84</cp:revision>
  <dc:subject/>
  <dc:title>Tiona Advantista</dc:title>
</cp:coreProperties>
</file>