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A21-5845-42E9-BF1E-93074BEA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9F4-F27D-4359-87C8-FE182F5F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015-9BEF-4DCF-987A-DA3E340F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3D7-839A-4AC8-877B-FCF1AABA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2E67-DC0B-4183-9515-22486DCB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02C5-905E-4F46-A8A5-E3D183E8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4361-5C90-4E0E-AA90-F7B4DA6C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5AB3-73FB-43D1-B404-217FB866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5FDC-F5B3-492F-A491-E7AE834F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5B48-72E4-4958-AA15-BD21F7A1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BAE6-5640-4B60-8A57-441DEC9F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96F5-DCB5-4625-AA91-53F8CC05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3A20-0168-43E9-A391-27E6D0CD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07CB-B74B-43AC-BF77-FA677C04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D81A-100A-4733-9305-ADBD60CC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AAF9-20CF-4260-9EF9-1AECE043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A63F-5037-421B-9E4E-46171B95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DCF5-E916-4732-893B-7803727B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722-FDA9-439A-B107-D12D3A4B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1A6-662F-44E3-967E-A13FF290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848-871C-41EA-B4F8-542D8638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2F2-F3D9-4629-8A8A-AC7906AB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A23-B729-4524-9FD7-1B260C01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ABAF-41DE-48BA-A308-A5EB6CA0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7ECA-C4F0-4090-80F5-55AF0F4530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DCDE-52AA-434F-9B85-9EB106D929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40 – O! HEN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0 – O!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! Henoy. O! Hen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njao miants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T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alia fa Izy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ants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alia dien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0 – O!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sangàna, mitsangà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ela miants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Tomp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sangàna, mitsangà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ela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eny matok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0 – O!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! Jereo. O! Je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ndro 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maty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enena, manen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omeo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soloiny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40 – O!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! Diniho. O! Dini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rio ny ota ma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n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rio dieny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ri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sy mahaso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4:55:56Z</dcterms:modified>
  <cp:revision>62</cp:revision>
  <dc:subject/>
  <dc:title>Tiona Advantista</dc:title>
</cp:coreProperties>
</file>