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CF4-0F02-4142-9700-34014630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0C1-F0FA-440D-94B6-3AD5388C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A71-BF28-44FA-8E26-8FC58303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91E-38F0-40A5-BC7E-042AE96C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52E1-16B9-4694-9F2C-EFE71462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47BC-FB56-413D-9267-7436BD9E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B18-4642-413F-BCE4-D6FD85F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6B4F-0BFD-4E0D-9739-80DEE67E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74B9-9CFB-4FF7-9B6C-4EA4D2A3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758A-8057-4D9E-99B3-0033908C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2B65-7AA1-4036-B7E7-C78354E3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901-3946-460B-8053-49C09659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D34-8B2C-4839-92A3-C27C1442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4034-6D92-4335-A184-E20B9D8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006-29C1-4B19-A1FC-5768A2A9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C3B1-D1B3-4E4F-A433-34686071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F937-8951-4F85-A895-18DFF521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649-1863-4BED-8CAE-D6485D16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810-140C-4335-A0DC-604B015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039-ACC1-4343-B2C1-05E4985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699-CEB4-4253-903E-D9947DA1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2ED-26DE-4505-892F-6B6AE6E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53F-8338-4B3C-98C7-A4274F3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3AF-61DF-4C3E-9DAC-5D81925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5D49-F962-44C6-BF05-8694DF29B2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0BE-F9FB-4766-9287-01CF44E11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ende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81, JEM0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2 – ANAO NY 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2 – ANAO N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ny laz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Natsanga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esy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raf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pihi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nako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vaton'ny ts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21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2 – ANAO N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ny l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Natsanga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esy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raf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21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2 – ANAO N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fa Je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sang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 'zao ny 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a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bia, r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ry olo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ndres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21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2 – ANAO N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zo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santa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no ma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tory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as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amoh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m-p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21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7:26:34Z</dcterms:modified>
  <cp:revision>33</cp:revision>
  <dc:subject/>
  <dc:title>Tiona Advantista</dc:title>
</cp:coreProperties>
</file>