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CCF-5E34-4B5D-9F6D-80798551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D8C-EDD4-467C-812F-A7FDF16B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9AC-E2CC-4477-A152-0FA7642A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5AA-49A0-4C9B-BFB7-3766A7E8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D6B5-C5CB-4EF4-AE78-BD46D20F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FF21-143E-4A81-A84D-7D4A1FC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19DC-1D16-4742-8BDA-21A486C3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F864-9938-4522-8E0A-50157A9D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5071-B4F5-4B0C-81D4-5C58DF4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60DD-CC79-43FC-85F0-4F3CE86D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9C37-C973-4F7B-90B0-664551C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AB0-8B9A-40F2-8DF3-EA556523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03C8-AFCC-48EA-A442-8892CE3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4D79-9944-41D0-8281-0178F84A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B8D4-3475-463A-B2AB-B72A4E3D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0DA9-9165-4805-8140-B499E534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920B-A904-4D17-898B-354E02EC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59B-198C-4D4A-A401-2E7B7262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99B-047D-4E04-BC5D-C3CA9BB6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1E0-0E95-45ED-8A6A-59096758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599-C67D-4A73-8BE5-5380051D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7D4-37D3-44B1-B9F5-9EF1A1C4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23B-67CA-4BFE-9C67-C02EEE13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F97-F384-4555-8776-ECD13312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BDB8-B2BF-41AD-A221-2E34F7EF81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BE5E-1A7A-4A20-9DC4-7DF4DABF7D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3 - NITADY 'LAY MPI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: FIAINANA KRISTIAN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: (Tsy fantatra)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29000" y="5099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829000" y="5459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829000" y="5891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829000" y="630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453 - NITADY 'LAY MPI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tady 'Lay Mpi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tady ahy, r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sy tafandry m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dia alina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jery tao am-b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indro fa tsy 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Ty ondry 'zay mala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ainga Iz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368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5459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29000" y="5891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29000" y="630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453 - NITADY 'LAY MPI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inga fa tsy 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iandr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lalana mahà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odiaviny 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nika hav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aky al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eha an-tany fo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katsa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883368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8829000" y="5099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8829000" y="5891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8829000" y="630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453 - NITADY 'LAY MPI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anambokov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ihanton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babony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otiav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Hitany ity 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saika mat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itraniny ny fer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ifali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368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29000" y="5099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9000" y="5459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8829000" y="630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453 - NITADY 'LAY MPI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andrik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dao ny v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eo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ani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bol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dy any ambo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am-bal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3368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29000" y="5099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829000" y="5459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29000" y="5891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02:56Z</dcterms:modified>
  <cp:revision>118</cp:revision>
  <dc:subject/>
  <dc:title>Tiona Advantista</dc:title>
</cp:coreProperties>
</file>