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466-AFE5-4C2D-A88E-BDA3F899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4E4-4C8B-45C3-A342-90F7F572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AFC-BBFD-409E-AA07-4CF16B9D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393-D8E4-4DF3-9FED-9EDD6EDF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0F6E-64F4-45FC-AC44-185BB67C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7D4E-DE9C-409B-B492-D6B22565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0D60-19B8-434C-910F-7087AC62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BE0E-FF39-4112-8444-6271DD16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CE8D-F7E7-4D5B-931A-F23BA43C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B934-DB47-451B-8E42-889C8CCE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8972-A080-4596-BEFC-E8580341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9BD-5AF8-4403-A86B-DA9916D9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1EC3-C0EB-435C-8F74-4D1D9120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8EDE-1250-47B2-A2CF-3C627CD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D866-17F2-4607-9E85-001FB9F3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0308-390B-4404-982F-2AD3B0CC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F190-6474-42FD-BEB4-45DD1106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3F6-0D20-471D-BE28-29FB0F58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12B-6A1F-4A9A-94F3-D0801B54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97B-091D-4876-A2D4-CF0373FD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EA1-0EAA-44FF-8155-E35E74CC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BA4-79AF-4971-983F-BBF93BA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B34-8BDC-4A02-9C8E-A6838154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4EC-B916-4C42-9E46-FA70B613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32D6-1FC3-4499-8407-9483026018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85D8-157F-43BB-A559-81436FD735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Gloes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29B – TAZON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9B – TAZON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ony aho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o anilan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aka ny d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 mandrakiz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mora kivy 'za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tohano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kiro tsy hi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drao misalasal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9B – TAZON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a ka variana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ankafy 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adino ny 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ony mafy ih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fa tsara lav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oeram-boninah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ao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ota ints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9B – TAZON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injovinao ny dia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ovy sy tant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sehoy ny h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ndraka ny r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ony re ny ta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ndrandrao ny mas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banjina hat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Kanana 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3:30:10Z</dcterms:modified>
  <cp:revision>46</cp:revision>
  <dc:subject/>
  <dc:title>Tiona Advantista</dc:title>
</cp:coreProperties>
</file>