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6D7-E4B5-48DA-9C55-19F5AD0D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437-A08D-4462-AF88-C8C69484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A9A-96A5-413B-BDAA-C502E722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AEA-3318-40DA-B8CD-2098CCD3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43E8-F8F0-44E8-A891-A4068042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7561-0CD8-4C84-B29B-D502B807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F49D-CA11-460F-B1ED-B74614ED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89C3-C635-4784-91AF-988403BC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BF96-AC51-4E00-B5D5-6D10BC3E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6769-40F8-4AEA-A70C-84639A2B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16C4-54D6-4A39-BE2F-23F0417A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934-7FDE-4C8E-8421-E140C9D6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3EA8-5572-46BA-ADF6-B5F23F7C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B41E-0E45-450C-BC1F-D794E87C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ED70-1242-4AEA-B54A-B8E055CC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977D-CA3A-437A-B635-1C61B7ED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8D5F-3302-4189-A743-345BA914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730-7BBE-43DB-AC94-BD19552E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1F0-CAA3-4771-B9AA-01FFF3A6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F1F-CC39-4939-834A-EFBF7465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FBC-09B7-403F-AF5E-ACA27228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0C3-1CB6-40D3-9BCE-A5567C8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C85-391D-4C36-ADD0-38386E12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215-D66E-4EDA-962D-1F19303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8A57-4630-4EDB-A00D-1EB5654288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2BFB-AC32-4F35-81A2-5574815B1C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o amin'ny fiangonana, fandev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B. Ack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9 – ‘ZAY IRIKO, TOMPO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9 – ‘ZAY IRIKO, TOMPO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iriko, Tompo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toa Anao (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han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9 – ‘ZAY IRIKO, TOMPO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ra re ny ziog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sahar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ivana ny en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n'ny f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9 – ‘ZAY IRIKO, TOMPO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iriko, Tompo m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oa Anao (An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n'andro, isan'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9 – ‘ZAY IRIKO, TOMPO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iriko, ry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nilanao (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aisako ny vonj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et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iriko mafy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y aminao (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vy Ianao ham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hoak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9 – ‘ZAY IRIKO, TOMPO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8:44:16Z</dcterms:modified>
  <cp:revision>83</cp:revision>
  <dc:subject/>
  <dc:title>Tiona Advantista</dc:title>
</cp:coreProperties>
</file>