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018-2784-4483-9ABB-C2432434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682-2217-4045-9B40-EF379414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6BE-4754-48B5-BE57-E43142BF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F35-C93A-4962-9D98-390DC5CC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6A26-48ED-41A3-B5C1-1D919D35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6586-7669-450C-AA87-C3F606D5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5415-8F8E-436F-9264-7DFCD7A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E4F3-69D2-4628-A0B6-57EF95BA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A0C8-E7C0-4A25-A49B-4B62F81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D06D-6DB2-4DE9-8D7E-0C6D8581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8A8-2413-42F4-A84A-5046984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DA3-52F8-4181-90D8-7C31010A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4540-AC2B-48F5-AE06-AF718F8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4757-6286-40CA-A408-48E19F43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EB92-5AC0-4657-A86F-825D3B3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84B0-C66F-45C5-9364-A20596C3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0D66-6888-46B2-9BCF-229534C5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4B9-48D3-4D01-9D8D-9D271509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49C-0F30-4158-9977-C388D937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E10-F658-4602-AA98-3C8446B6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023-1415-4574-B6F3-1B72E0EB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1F5-4D7E-4C60-9AC2-D4E8E98C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E04-5BF1-44DA-802B-B6CB9FE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579-A8AE-40C6-A862-78285172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00DC-A14A-4D9E-955F-6A935DF680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44C-DD97-4C72-ADBC-54CFC0BE16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K. Hin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4 – RY TOMPONA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4 – RY TOMPONA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nay ô ! Mahagaga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-bitan'ilay 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katry ny saiko Sy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ilay Teny a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4 – RY TOMPONA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fanahiko derao, hob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, Ray Mpahar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fanahiko andeha to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ny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4 – RY TOMPONA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jereko ireto zavabo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samy manana ny toe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kintana, ny raozy, ny hazandr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, noho ireo fone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4 – RY TOMPONA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na 'zay sangan'as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iasia nefa notia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y izay mihasimba sy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vaozinao ho Tan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30T03:16:44Z</dcterms:modified>
  <cp:revision>28</cp:revision>
  <dc:subject/>
  <dc:title>Tiona Advantista</dc:title>
</cp:coreProperties>
</file>