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9AAB-B7D2-47BC-B725-B142E35B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7D64-7A1B-4505-8604-8E90BBB4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D63D-02B1-457B-B9EA-FEAF96CB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8123-59E9-4122-ACA7-2A7622D8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908D-A0E2-4FBA-8D54-934F327E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07FF-E76B-4EF0-A746-8F44E4D9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C06E-8973-414B-B712-3ED3EB2D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2BA3-6A9F-4EFE-A3B1-EEFB3290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3FCD-923C-419C-9365-64A78F56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B901-00C5-4066-892B-2E26FC17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F863-01E6-41A6-A6CB-A6B7CD41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8548-CF3A-48C0-B6F7-CEF845B8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F9AE-7CDC-4F4D-9534-122AC40E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EBAA-91F4-4B52-86D9-CCCBCB1F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5867-E4E4-48B8-8342-E106BA22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DB1C-8A9C-47E7-8767-D8D7C061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A493-69A6-4B17-AD7A-A91488AD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4EC8-2EEA-4889-92CD-67CA6D4C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D916-0F6F-4B02-A4E6-8D9EEABB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D899-3AC0-4322-BFAA-21606CF1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8BC7-C2DB-43E2-8AB5-CABDA92C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86F2-BF8B-4F1A-82B8-660BB275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A57-8F78-4406-93EE-41FA0D3D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2FA3-81A9-4591-B6FB-0C9D11BC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384A-4CED-429B-BD6A-0FB19766CC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99B1-301E-45FE-B270-BF96A2528F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  <a:ea typeface="Arial"/>
              </a:rPr>
              <a:t>TA463 -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ATAOVY AO AM-BAV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anoloran-tena sy Fanamasi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Esther Ba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Harold A. Mill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3 - ATAOVY AO AM-BAV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taovy ao am-bav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y hotenen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hira sy vav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ba ho toy n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3 - ATAOVY AO AM-BAV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ho te hitov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inao Jesos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mpio aho, Tomp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tombo isan'andr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6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3 - ATAOVY AO AM-BAV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omba fihevit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asa sy fiain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ntiko eo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tarih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6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3 - ATAOVY AO AM-BAV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mihelin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y mandalo ny e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o aminao Tompo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hatsara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4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</a:rPr>
              <a:t>Ampianaro mba h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</a:rPr>
              <a:t>Hampijoro ho i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</a:rPr>
              <a:t>Ny fo, saina sy f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rbel"/>
              </a:rPr>
              <a:t>Ry Tompo mpi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3 - ATAOVY AO AM-BAV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2:40:50Z</dcterms:modified>
  <cp:revision>116</cp:revision>
  <dc:subject/>
  <dc:title>Tiona Advantista</dc:title>
</cp:coreProperties>
</file>