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C7A-2EAA-4952-81F2-A4688E99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5E4-F5C5-480C-A254-21C37DFF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964-D22E-41A7-AAA2-221F10BD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6CB-517D-479B-B66F-B3DF2768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6466-4EC1-44B0-AD95-96983548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E63-6F2B-460C-9C8F-5EF4478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953-1A62-466D-8738-621D67EC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B54-324B-42B6-923C-4AE3D69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F34-C7BF-47E0-984A-C7BEE630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FB0B-4D84-47DF-B130-066920D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460-9152-4BEB-85EA-C0A855A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120-D59D-4A5E-BDB4-D7BC814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1CA5-3457-4190-9F99-EC45849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16C4-2B4D-4A34-9A49-7FC704E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CDD9-5E9C-488D-9193-D2D8A502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420D-E117-46C9-AE51-FFAD64A1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4C0-CF4C-4AD3-827B-F54ABE4E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70E-DB85-43B7-BC80-29B1BCC0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7AE-BB8C-4928-BA23-18F88C7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837-C8CC-4545-8C91-0FEA12B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F52-8D29-4A95-B7BE-6811A0B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5B7-BF53-4BC3-B09E-FA536544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AB3-7FD5-4CEE-8EBC-4209B53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941-BB04-469E-8216-4207116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3601-B0DC-4B02-B07A-B62F72CC7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6AAC-EDE6-4004-975F-5F86473C4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. P. Hamil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8 – NANANAN-TROS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8 – NANANAN-TROS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nan-trosa aho 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nahaonitra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Trosa ohatrinona moa re ?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Tsy fantatrao, mavesatra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8 – NANANAN-TROS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atrinona,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onintry ny 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avanao ny tros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Mpanota ô ! Fitiavana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8 – NANANAN-TROS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iady mba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tao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tra hanafak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atrinona ? mavesatr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8 – NANANAN-TROS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hazo f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latsahan'ny 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azoko oner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atrinona, Tompo, la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Fitiav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oavanao ny tros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 aho hana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Ho tiako koa Jesosiko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8 – NANANAN-TROS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28:44Z</dcterms:modified>
  <cp:revision>69</cp:revision>
  <dc:subject/>
  <dc:title>Tiona Advantista</dc:title>
</cp:coreProperties>
</file>