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D68-9453-42A5-A707-73C6A5C6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9EE-729F-45DA-8ECF-87A1FB5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380-AF7C-4266-A8BC-5729E406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DB2-333A-4542-906D-A041EFF8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C652-DD43-4636-8A0B-91475F4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5769-DC70-42DB-BA3F-89EEA5EA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293-8F68-41F4-86B2-081FBC0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34F5-5F9A-4CCF-BD98-EAB130F3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901-7C0A-404A-88C9-5AECC3E6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499-F193-4415-A2C7-09F34881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AA06-63A1-4CD3-BB4A-E01D1A4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3E1-25C6-493B-82F4-D95E3D6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5FF-2F8A-44F4-B573-5649E56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3D6C-970C-42E9-ABCA-F892CD1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14A2-3755-4E8D-BE75-B7D85EC6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342-3CEE-49AF-9662-695A614D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F79-E056-4D9F-9F18-ED84C9C3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F6B-4E09-4896-B93C-9E9D93B3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3B4-215A-402B-AC5D-43C1E3C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CE0-E3B3-4107-953B-3906B6F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CCB-518D-4E19-B5B8-46113AE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1E3-7AFF-4EB5-ACFC-43844A3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DF1-F25E-4FF7-BD01-934D644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7F0-1E29-4E5D-8278-47CF352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6C3-D498-47A7-828D-C7E6E1B03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496-7B22-41C9-99E9-F8910A4FC1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TENYN'ANDRIAMANA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Andrianjafitrim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avid Ramanambint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185 – Ny TENINA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5 – NY TENINAO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ia a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sy mba manam-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evo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ri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teni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5 – NY TENINAO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'ny Baib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sabatr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y ny dev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havalo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amp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s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ao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jary tanj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5 – NY TENINAO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y mam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mpank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loharan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oika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omezan-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zon'ny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i-mahav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85 – NY TENINAO REH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y mampis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izim-be 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lo man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 ho a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lo-pahend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atr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za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lova tsy ho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16:35Z</dcterms:modified>
  <cp:revision>39</cp:revision>
  <dc:subject/>
  <dc:title>Tiona Advantista</dc:title>
</cp:coreProperties>
</file>