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1155-9D6C-4D5A-B14B-317DC062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76E0-DBBE-4543-AC6A-E9A12DB0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F9D3-9F7E-4BBE-BFC3-366BEC1E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A183-9457-4302-8C2D-08CB0C2D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E3BF-921E-4238-B5C6-22992BDB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BF46-986B-493A-9094-2472BFA6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5548-103C-4616-B5A6-ED323A25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FFFE-8EA0-4203-B62A-31877F20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905F-8857-483F-B3BA-8E1D3D43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068B-0F43-4302-91C2-61539AEC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81AF-9318-4FEE-B7DD-8CAAC185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8B0C-1C24-40AC-8839-AE3257DA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EE72-0ECC-4948-ABF2-1380F2C7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FBAA-56C8-41D5-84DA-D0348DC6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71E8-1ACF-4C1D-9E6B-893C6C6E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7BF5-52CA-421B-AB41-F6D5EB52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AB09-6098-4D3B-B280-F4230A40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51D2-B375-4113-A10A-C2025FD4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20CD-C29A-4E2F-9401-81A345FE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B21E-0491-400A-8DC8-6F02401F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645D-E49F-4A5C-9F15-1E4573AC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D2CD-6247-4211-9B35-D6BB1BD6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BBA9-CF71-4A42-B1F2-D8D715A4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23B8-C643-4FB0-845D-9453AA32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4788-6499-4DAB-83E0-37E46ADBA9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47B0-EA2B-4A6C-AC6B-EC41EF9BD0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. Rakotonir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. Rakotonir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09 - Ô ! RY MPI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9 - Ô ! RY MPI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Ry mpino izay nandray ny te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tso anao anio ny Tomp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ingà re izao hilaza ire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amonjena ireo namanao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Heno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9 - Ô ! RY MPI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tso anao izao Krist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valinao ve, mamal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ek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oa mpanompo von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ova fiainana ary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ar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omen'i Jeso tia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Jeso tia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9 - Ô ! RY MPI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Ry mpino, moa hen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antso feno fitiavan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faingàna mitory dien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ty tany anie horavà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9 - Ô ! RY MPI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Ry mpino, mitsangàn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y ny feon'Ilay Jeso Mpamonjy 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ereza aingao ilay fanil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pisinda ny haizina e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1:49:05Z</dcterms:modified>
  <cp:revision>86</cp:revision>
  <dc:subject/>
  <dc:title>Tiona Advantista</dc:title>
</cp:coreProperties>
</file>