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D56-399F-4413-AB3F-854323A0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8B6-C6BF-49F0-B400-85545312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B47-0ABE-4E7C-B4CD-7D7B6863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006-7A4E-4AEB-9FC9-EC2814D4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B9B8-9ED2-4584-80A6-C8441E07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3521-6CBF-404A-9DA1-94EFAAD4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EF79-5116-4327-AA1F-8A6124F4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2033-CC31-49A4-9662-B91A615F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A207-FB4D-48C8-8D58-B34E69F2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4CD3-8B6D-4CE2-87E7-E75BA94F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759F-A736-43FF-A8CF-0A5BEFCB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9B7E-97C9-43E3-89D1-A5709B33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DA6C-C7B1-48FE-86D0-B4B00FCD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2E5B-4CB3-4E70-B1DC-CE797D51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013B-8257-4DA4-9C15-80D767C9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A30F-5268-42C8-AC55-3A6C0143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778C-7D22-457C-82CF-B358262E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BD7E-E562-4729-AF97-3C89ADFC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E22-8812-4AE6-A98A-51E68BCE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A54D-0992-4D29-BF7A-266DF904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475-1C54-4D47-90CB-3E6A9A46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8F1C-5A4A-43A6-9072-EBFAFFC2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6FBB-4C3D-4C5F-B784-DA4F21F9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4E13-1AC5-4701-AF96-9BA7AC09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C04D-3317-4EBE-996D-872F5F4149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1189-934A-483C-8930-D46806CDF9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Ogd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596, DLG45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03 – ONJA VAVEN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3 – ONJA VAVE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nja vaventy, onja ma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la hanafotra ahy 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nefa aho tsy mba ir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eo anilako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3 – ONJA VAVE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An-tananao) 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-tanana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-tananao tsy mamp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Ny familian'ny sambok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milian-tsamboko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Na tahotra na ahiah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tahohtra eny koa na ahia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Jesosy ô, eo ami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, ô apetrako eo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3 – ONJA VAVE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rivo-doza 'zay mampah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mahaketraka 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hampimalo ahy ak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eo anilako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3 – ONJA VAVE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isan'andro no mam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ranonoram-bar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toky aho, na dia kel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eo anilako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sosa hatrany tsimoram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sambokelik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Manakaiky isan'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Lay fitodian-tsoa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3 – ONJA VAVE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1T07:19:34Z</dcterms:modified>
  <cp:revision>79</cp:revision>
  <dc:subject/>
  <dc:title>Tiona Advantista</dc:title>
</cp:coreProperties>
</file>