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A74-AF15-4A7F-A477-564A25E5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9F1-4170-46FE-9801-EC07D55A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14E-D448-4BF8-90FC-8737DD5C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319-454E-4C3E-A888-FFC5538D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4083-9D4C-4BCB-9818-6E59324C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5055-66F5-4CBB-AF87-4DB84658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36F2-6B8A-40EB-AB6D-7BA7A4F3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63FA-8284-40CA-B9E3-F2501370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2670-4C4E-4F8B-968F-540C7210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24E4-8D6A-4059-9C95-DAA67700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CAB3-0ABF-4D78-B176-27E6C509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BC7-13B2-430D-9AE1-99E63B63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75A3-F394-422B-A67F-D2F7320A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7662-6919-4C18-8A10-6103A2DA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F12A-9185-4647-89CA-E987B024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C54F-396A-4E50-B46B-A6E885FA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9E1D-900B-4B5B-8CD1-181730F1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86E-8B3E-45E5-9018-4ED59335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5E0-3581-4D20-85D4-47CCEC42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459-FCD9-41B5-BE11-D2A300ED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AE21-4552-4237-AC54-FABA8DB2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01C-F231-41AA-8EA1-9FDB3111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2A7-DE05-409D-827A-1709505B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D76-6239-4DD9-8ED5-E46CFD08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507E-8870-471C-8372-31C63A37B4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9F79-8BD6-4FBE-8EFA-4A34C75824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. H. Purda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90 – MISAOTRA ANAO ‘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288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288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288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0 – MISAOTRA ANAO ‘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otra Anao 'zahy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Ten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ampiseho tam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, (ry Ray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betsaka ny helok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o anatrehanao, (ry Ray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Kristy 'Lay Mpisol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fona t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2288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288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290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90 – MISAOTRA ANAO ‘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biteby fat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kivy maf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nana halah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eloka tokoa (izahay)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injao ny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taraina hoe (ho anay)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Ry Ray malala, avel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lony anie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288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2288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290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090 – MISAOTRA ANAO ‘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ay an-tsitra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-pitiav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ay sy ny sain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za lavina (tokoa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itrapo sy did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nkatoavinay ; (indr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'ny Fanah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aovy am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2288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2288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290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3:43:52Z</dcterms:modified>
  <cp:revision>31</cp:revision>
  <dc:subject/>
  <dc:title>Tiona Advantista</dc:title>
</cp:coreProperties>
</file>