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462-F4D6-4B7D-88C4-6A347F86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D13-44CA-470A-8B16-CB1F4BB7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97F-9312-4FB2-8308-B1173B90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1D7-31AD-46B7-85BC-5BE7060A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AD6-3CDA-4DE4-B3A5-E7E45784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1312-91EC-489B-BFD0-509089E0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39CD-FBD6-4D0A-97CE-5481104D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714E-5CBA-4E81-819B-9E6A2EE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6FBB-516E-4267-9359-5093D5B0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C20C-7BFF-41EF-9F4C-1759C63A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638E-8F44-4977-B7DB-7BAF897A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563-FA2B-4514-8C04-94E7D9D6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B251-B7AF-442B-B8E7-6AB6FD4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7943-2732-49CF-91AB-9EBDCC5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BFBC-8D98-436C-AAFD-8E4A7EAE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9222-C4A1-4DAA-A4A1-78F30EE0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182F-17C3-4BC4-921C-3EECE0A0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C49-B4EB-42E8-8079-F6CF144C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EE9-22D5-4A56-9655-22900BE5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55E-EF8A-4C7D-A336-7C284876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73D-C45C-45A8-B51D-E3673BCA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EA1-4913-46EE-99AF-D6B64CD9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CCE-B397-4201-BD0B-08FE6537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9C5-EF98-4593-BADF-F946185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ECFD-8EC5-435B-9497-F6F0E541C1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A26C-352B-42DD-BEB0-23D2C6C20A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Elton M. Roth - Mamy J.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2 – ‘NJAO RE MANAKO ATO AM-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2 – ‘NJAO RE MANAKO ATO AM-P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o re manako ato am-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n-kiran'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tena kanto, mirind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 mahafin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6276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2 – ‘NJAO RE MANAKO ATO AM-P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mirindran'ny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fitiavako Ila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 izay Mpampih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naiky ho sol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2 – ‘NJAO RE MANAKO ATO AM-P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tokoa Ianao,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ty ho sol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sianao hira ao am-po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sy maintsy kalo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76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8:58:31Z</dcterms:modified>
  <cp:revision>36</cp:revision>
  <dc:subject/>
  <dc:title>Tiona Advantista</dc:title>
</cp:coreProperties>
</file>