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1CF-AF6D-4E08-A237-926635DA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025-0147-4402-915A-0DC187BC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E77-FC2E-43A7-AEE2-D7765C9B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DA5-65B8-4BDB-8DD4-A325A648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9B42-CB4F-44D7-BB06-09BE6910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3F49-ACB4-4EA1-9872-52677F4A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BC65-01DA-4CB4-AB78-C4E1FB06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D879-0F35-485D-B10F-598A475C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A0DC-5D0E-4866-8227-B9F2716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005A-935E-4C7D-BB95-09C2ED77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9215-4B95-45FC-A284-D8545C1D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8D3-5906-4E3C-A015-0AB8F24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EC4-7959-4D78-B007-17015C5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AE03-73B6-4CEE-9316-4862BEC8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8F36-A3FD-4685-8225-4F768D3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9B31-BC96-4EE7-B95A-2F16099C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9699-DBAB-4F31-AC63-93C5B26B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ED6-CEEF-485F-87ED-EC2BF6B3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22C-2183-48B6-9BC5-90B743B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F13-91A3-4150-8E08-A301B783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437-3E43-42D0-8C1E-66C85E79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9A1-7C23-4CFA-862C-ECBC5E4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C9F-17BC-4182-89A7-D60B616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1CB-5721-4D92-BB6D-89C85796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2B50-CF96-4373-A9C8-0FD6C82BEE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0C3A-8324-4DBD-92A4-30AE803765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C. Cas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04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3 – SAOTRA 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3 – SAOTRA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tra atolotra Anao re ry 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amonjy ny a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anazava tokoa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nova ahy ho mpandov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3 – SAOTRA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min-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indram-p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fatra toria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ndr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3 – SAOTRA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sy takatry ny saiko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 nampidi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nina aty anatiko mp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sy mendrika hitoe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3 – SAOTRA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Anao ity fo kel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aiko, Ray, ka mba sas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sy mendrika anefa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ihany ka diov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3 – SAOTRA ATOLOTR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hazony fandrao dia ho la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very aho raha lavitr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mbola ato ny fo 'zay mik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mitepo te hahit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9T04:56:51Z</dcterms:modified>
  <cp:revision>29</cp:revision>
  <dc:subject/>
  <dc:title>Tiona Advantista</dc:title>
</cp:coreProperties>
</file>