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3EDE-464E-49CF-A615-A584ACB48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F6D1-63CB-42A9-A872-4A3F972C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CDAA-AF72-4E14-B6A9-507376537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AC17-D136-49D6-8E8F-50EB1C6F1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C614-43FE-4280-A7DF-39C3BBEB6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B6A5-FB10-4302-8AB6-9B0D3697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A61E-C0D5-4DB4-8010-A5EDDB85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6C93-CEB5-4E58-8400-4A0D6A90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E944-6FD8-4F92-8281-36D470D5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F0D2-9F48-487B-9351-5D410E59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4873-E87A-4050-9FFE-C628AF69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52CD-CC67-466D-804F-2087A31F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A1D1-F4A1-47AB-AF4A-6D795A20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8C9F-32C8-4BF3-8844-9D61A4E6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8AD6-9D31-4AF9-B63D-312CDC51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737EE-D747-4521-93E7-6B9DD9F8C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8F44-A8ED-4427-BBCE-B4997BF6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AD6D-EF97-4B44-B6DD-93E54E2F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806A-9B97-44E4-961C-794B8FBF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F26D-EFB8-4EFD-A52D-EDA9C859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B80B-6348-450A-85D1-D7CF21A8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3D14-53D6-460F-9194-7DF9214A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F919-2068-47E3-A477-E48A4609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59C5-0CAE-4D0D-BDC7-2DE02944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7D7B-4B13-4AB7-BE6E-7A3F520E1B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F7C2-C720-46C6-A155-DD19123744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TOANA SAMY HAF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ariv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L. D. Randriamampandr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L. D. Randriamampand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44 – MISOKA VE NY MASO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44 – MISOKA VE NY MASOAND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soka ve 'zany maso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saharan'ny voary iz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rotsaka kosa ny ando 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ondraka re ny as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44 – MISOKA VE NY MASOAND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hovah Tompo Ianao Mpiar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saoranay ny anar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Reo soa be ary ny antra mar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fanomezana lehi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44 – MISOKA VE NY MASOAND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latska ny alina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asandrato ny loh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alaho amin'ny Mpamonji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meny fiadan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44 – MISOKA VE NY MASOAND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kitroka re ny haizim-pi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isy 'zay hatahorana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y Mpiandry eto anil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Tompo, no toki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8T08:56:43Z</dcterms:modified>
  <cp:revision>76</cp:revision>
  <dc:subject/>
  <dc:title>Tiona Advantista</dc:title>
</cp:coreProperties>
</file>