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6454-EB00-4FF5-943F-98E7B6E7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BDCA-5629-4AEB-B093-23884D40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7F60-A62B-4608-B115-18D47493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7F33-CF8F-4788-AE68-B640047E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C013-86FF-478A-A5CD-3A49E897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7B2F-F4B2-4C9C-A14F-750C0E71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253A-D5AF-4C84-9EBD-1B0B6DFE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BC80-F498-463E-A1EC-24C7A0ED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6BE8-460B-492E-BD79-493023DF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10B9-B80F-48FD-B905-73DD7871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5715-8F78-4F08-9E3B-7D633E5B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3F4-6DD2-4BDB-9673-7317F070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9650-C6FC-44A6-8459-BCD25937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8D1C-A03F-47BA-AD22-B0338EAC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576E-ABA2-49DC-A01E-175C30B6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E550-ABF6-473E-8446-D0083CD8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867A-7D8D-464B-86F5-7E7EC860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B78E-2348-470D-B6C6-295B340B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71C6-1B66-4EBE-8E9F-D3357694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6C1F-E915-4961-B8AF-105D77B4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0529-A71A-4939-931D-F0CC084C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305-A2A0-4310-912C-CD52B5CC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802-4212-4E04-9550-3E10D86C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839E-4B8A-4894-BCBB-08777EB0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C638-EDFA-4543-8D91-599AFDBBA7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71F2-B277-453E-B673-1D1FA92D55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John W. Peterson - Mamy J. Ratsi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98 – TOY NY DIERA MANIRY NY RA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970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8 – TOY NY DIERA MANIRY NY R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y ny diera maniry ny ra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o an'ony Tompo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nirian'ny fanahik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ô ! Aiza I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iry Anao Tompo ô ! Ny f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etaheta afa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Aza ela, ry Tompo, faingà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za ela faingàn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8440" y="5970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8 – TOY NY DIERA MANIRY NY R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oviana re, tongava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Ela be no miandry ny ol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meo ny herinao tsy ho resy iz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oviana re, tongava,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8 – TOY NY DIERA MANIRY NY R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iry Anao, Tompo ô, ny f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iry hihaona am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ro ny zavatra izay mampan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ô ! Aiza I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fa ela no niandrasak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ô ! Mba ian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via, faingàna, iantrao ity zan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ô, tongav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8440" y="5970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6T13:13:29Z</dcterms:modified>
  <cp:revision>78</cp:revision>
  <dc:subject/>
  <dc:title>Tiona Advantista</dc:title>
</cp:coreProperties>
</file>