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21E-9C14-49C8-ABB2-7AF58209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433-D04E-4D29-98E4-07CFFD9A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45F-FBCF-48BB-B166-70758A26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D53-C6D4-4C09-954D-098C66B5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0552-A50B-48F1-B73D-80531A32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6242-71DA-46DC-B86D-655BE43F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215E-EA22-42C5-9AE1-63E3B6B7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A888-6231-4A88-B4F9-27EF890F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9C41-7A8F-4599-B37B-AD7905F7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3A3E-3230-4BC9-BB0F-B705A2D0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D55A-FAC1-423A-B31B-21C4E1C5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884-FEEC-4A8F-A3B8-4461DBC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4934-84A5-4F77-8E5E-7C46358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CEDC-0B5A-4C71-BF30-AB98D93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135E-3845-46D8-BA13-6D9DE0C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363-4580-4B6F-81A9-AEF5DB3B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273A-A600-4A10-BE4B-762BBA51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17D-09EF-46BE-8246-1813125C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380-C9AE-432F-AF56-D14BD637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40A-08C1-4949-9CF9-D237205F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5B8-D126-4E1E-A3D8-5B45B2D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1C2-4061-4370-8BE0-2113136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16A-BC50-40FA-825F-2D89E3F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A41-7B6F-42FD-B621-86550BDA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BD18-6D70-4A20-95FB-A54C37C76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FF9-C16F-47A2-B361-981FA2C883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L 1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4 – EO AMIN’I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4 – EO AMI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eto 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y re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avonj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'ny h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jalian'ny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h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tretrik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4 – EO AMI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misy ny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raisan'ny mp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joro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ty had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o mita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hazava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jiron-danitr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lazantsar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4 – EO AMI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koa 'lay l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njy na 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hafa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ratsy 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hita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te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be famindra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14 – EO AMI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koa 'lay laniv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trabaran'ny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koa 're tanan-d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dray ny mp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y iantr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ovidinao 'zah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hino an-trat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ho tena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51:24Z</dcterms:modified>
  <cp:revision>42</cp:revision>
  <dc:subject/>
  <dc:title>Tiona Advantista</dc:title>
</cp:coreProperties>
</file>