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A56-6FC1-4035-85E8-5B683FC6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6F1-760E-4F4B-866E-D6550420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9C6-4F3A-4268-8ECD-553241CD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96E-2D72-40FF-81CF-9D86A818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EC81-BFC3-4EDC-9BA4-68DDFF94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0210-74A0-4284-9637-B118471A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4ABE-0A4D-4C2C-8EB9-FB38FFF7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EEE8-A582-4714-9F0E-12C301A0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6A11-C795-45C4-AB8E-D387FAB0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4481-C3BA-47BC-9525-CE16D440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CDFF-6D90-4758-B1C2-98A97708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3CF-5CA5-4F58-AE97-B6727593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359E-F78E-4254-9199-B15AA9E6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A521-367C-434D-85B9-A81ACEE2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02D0-20C6-4D80-A11E-D0DA5C0E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655B-41A3-45F5-A528-A1A2F252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AB54-B73C-41FC-A0CF-82978E0A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488-54CD-47F1-8A96-03287C01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06A-46F1-4BFD-A8BB-7FC332C2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592-D58C-4D17-84D4-04E1B499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544-4D60-4EA4-B16F-E37AD6AC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BFA-986C-4BE7-A14B-6C7B7DF5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03A-7D6C-437D-807F-DA3CB17E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28C-5C08-473F-825E-D07D021B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63D5-87EB-4BA5-AC34-C14F392DCF5D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E721-4D42-4433-8619-0EBA53E7F2B1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av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32 - NY FITIAVAN'I KRISTY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632 - NY FITIAVAN'I KRISTY 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'i Kristy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ery manentan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raka ny di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iely koa ny fitiav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632 - NY FITIAVAN'I KRISTY 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anaran'i Jeso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ankatiava isika e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ifanohona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samy tsy ho diso anja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632 - NY FITIAVAN'I KRISTY 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intsika an-danitra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jery antsika zan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-kanampy ny 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monjen'indray ny v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632 - NY FITIAVAN'I KRISTY 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hisaraka et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ilaozana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mbano fo sy 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fanao mba tsy hala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0T08:42:53Z</dcterms:modified>
  <cp:revision>48</cp:revision>
  <dc:subject/>
  <dc:title>Tiona Advantista</dc:title>
</cp:coreProperties>
</file>