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7668-B3BE-4441-96BE-9C634546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C971-B1CF-4142-89C2-DE101586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ACA-0792-405F-B6F2-C9F9123F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6923-8DA5-4971-B57A-D5E2FB77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0E6A-A05C-4BBE-99B4-B55BA647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EB59-A58D-460B-AD02-96BDA2F7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F09D-D095-4E7D-8748-7294B678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5C79-14EA-4BFF-B786-87749455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BEEC-0D49-4939-8735-A2D505E6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99D1-495F-4D64-965E-530CA6FF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0721-A344-48DA-8353-085B3159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E5C-B01F-441E-86ED-EE7B095C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1051-262A-49D9-BD86-39E9D6A8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809A-619D-4817-9EF3-6177CC32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6A70-0D09-4281-9287-E1DE0D51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EFAE-EDFF-4D24-9DC1-7FF1971C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3433-60BA-46F3-BB55-B1670E0A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9AAE-F446-4EDC-AB56-16D447E9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D4C3-6FB3-463E-92C8-7E4211C5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2FF-7C2A-42A7-99EE-A3DDE38E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461D-C959-43B6-A8CB-26A8B355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FD6-81F0-42DC-9240-6A46AC60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777-FE4B-4716-A297-C815832F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850-3BED-43B0-8B2A-15E7423E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D355-71ED-4ACA-803C-CA8F31F3F5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2B46-0CAE-415F-9C47-A137F38342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TA492 - </a:t>
            </a:r>
            <a:r>
              <a:rPr b="1" i="1" lang="pl-PL" sz="3600" spc="-1" strike="noStrike">
                <a:solidFill>
                  <a:srgbClr val="ffffff"/>
                </a:solidFill>
                <a:latin typeface="Arial"/>
              </a:rPr>
              <a:t>NA DIA MAFY NY ADY ATA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dy sy Fandres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D. Razakar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John R. Swen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492 - </a:t>
            </a:r>
            <a:r>
              <a:rPr b="1" i="1" lang="pl-PL" sz="3200" spc="-1" strike="noStrike">
                <a:solidFill>
                  <a:srgbClr val="ffffff"/>
                </a:solidFill>
                <a:latin typeface="Tahoma"/>
              </a:rPr>
              <a:t>NA DIA MAFY NY ADY ATA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dia mafy ny ady ata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dia sarotra tokoa ny di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dia takona ny eo anolo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jereko ny Mpamonjy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492 - </a:t>
            </a:r>
            <a:r>
              <a:rPr b="1" i="1" lang="pl-PL" sz="3200" spc="-1" strike="noStrike">
                <a:solidFill>
                  <a:srgbClr val="ffffff"/>
                </a:solidFill>
                <a:latin typeface="Tahoma"/>
              </a:rPr>
              <a:t>NA DIA MAFY NY ADY ATA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jereko ny tavan'ny Mpamonji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lay tava feno fi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ho lasa tokoa ny haizim-pi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hazava ny lalako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492 - </a:t>
            </a:r>
            <a:r>
              <a:rPr b="1" i="1" lang="pl-PL" sz="3200" spc="-1" strike="noStrike">
                <a:solidFill>
                  <a:srgbClr val="ffffff"/>
                </a:solidFill>
                <a:latin typeface="Tahoma"/>
              </a:rPr>
              <a:t>NA DIA MAFY NY ADY ATA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banjiniko hatray n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in'ny fihazakazaha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a hisy ny ratsy his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o voafingana ny tongot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492 - </a:t>
            </a:r>
            <a:r>
              <a:rPr b="1" i="1" lang="pl-PL" sz="3200" spc="-1" strike="noStrike">
                <a:solidFill>
                  <a:srgbClr val="ffffff"/>
                </a:solidFill>
                <a:latin typeface="Tahoma"/>
              </a:rPr>
              <a:t>NA DIA MAFY NY ADY ATA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mitatao ny raho-main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misy rivo-doza be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milatsaka ny oram-baven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y aho hoe : &lt;&lt;Tompo ô ! mamonje !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17120" y="636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ely sisa aho dia hanol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'ilay tsy manam-pahar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y maso fa tsy ny fin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hijereko ny Tomp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ho faly ny f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kalaza toko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Andriamanitr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492 - </a:t>
            </a:r>
            <a:r>
              <a:rPr b="1" i="1" lang="pl-PL" sz="3200" spc="-1" strike="noStrike">
                <a:solidFill>
                  <a:srgbClr val="ffffff"/>
                </a:solidFill>
                <a:latin typeface="Tahoma"/>
              </a:rPr>
              <a:t>NA DIA MAFY NY ADY ATA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6120" y="4807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1160" y="5189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35480" y="5600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17120" y="5975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160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4:55:56Z</dcterms:modified>
  <cp:revision>116</cp:revision>
  <dc:subject/>
  <dc:title>Tiona Advantista</dc:title>
</cp:coreProperties>
</file>