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4E14-E670-4FE9-ACE4-D58F849A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C242-B078-4CE2-9D92-0BFFD6B6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E2B1-5C25-416F-BA59-90577B42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78B7-04C4-476B-880E-B66C5E0A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92F5-5CEB-4E76-8D29-32C5A1C3F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B096-28AB-40E6-82BE-FB7BD2D4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DF30-A746-4B5C-BDAF-FF1AC375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D77A-BB55-4919-A991-D8036D18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6A89-49F8-4EE6-8034-08D6B7FD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CDC9-D123-473D-A9DF-1BC442B4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2FEE-7E99-436A-8950-7824FA98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21A8-90FA-40A2-939C-A7796BBE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5987-8EE3-4707-A304-7A270708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BFE2-C990-4099-8D23-9DAA5EB0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0093-5582-41CD-AC24-5B8DC91A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386B-77D6-419F-9D05-C032A1E8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4B3F-5505-4061-8D3D-DB9776AB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8E1A-0782-4027-953C-F77E4C18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5E63-D4C8-410F-9469-0EAD3CD2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08C3-74C9-4E06-8049-E56B568D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EB46-A353-4877-870D-106A5DC7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E37D-5188-4DC9-AED4-901AD0D8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0B4E-FE6B-43D2-8D54-4BA3B0AA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5CA-2BC8-479E-B377-A7903201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C840-3E59-41F4-A3EF-992F71B157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DF7E-CA08-4088-A0AD-1A49D79B2C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iavana sy Fino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anne Ratsi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fi-FI" sz="1000" spc="-1" strike="noStrike">
                <a:solidFill>
                  <a:srgbClr val="ffffff"/>
                </a:solidFill>
                <a:latin typeface="Tahoma"/>
                <a:ea typeface="Arial"/>
              </a:rPr>
              <a:t>I. B. Sergei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06 – NY MIARAKA AMINAO R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6 – NY MIARAKA AMINAO R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iaraka aminao, ry Tompo tsa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tena hasambarak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sy ianao mamaky ny tant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voarakitry ny ten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 hany namana itoki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aino ny tsiambaratelo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6 – NY MIARAKA AMINAO R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ireo fotoana mamy indrind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jay reko any mikarants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eonao kanto sy mirind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lovelo ao an-tsofi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ngana ahy handray Anao Sakai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ety hiara-dàlana am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6 – NY MIARAKA AMINAO R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tara hotsarovako hat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drafitra nataon'ny l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olo-pamonjena tena ma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hy 'zay nania lav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ahy samy irery nefa iz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koa ny fitiav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6:45:46Z</dcterms:modified>
  <cp:revision>68</cp:revision>
  <dc:subject/>
  <dc:title>Tiona Advantista</dc:title>
</cp:coreProperties>
</file>