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7AA-18BB-4F53-B2F9-D3FA077A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918-B826-49A7-981A-2360D87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FE1-AAA8-4B5A-8B21-D731D884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7EA-D92E-437B-8D73-33AB885B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04DF-4DB6-4FAC-B09F-91E8C0A3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4013-3AA7-4F9C-B294-354DA369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30B8-4FD7-46DE-BCF0-A41EDBE6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6E80-D524-442A-859D-FC242E90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D870-1F13-4D96-9DD2-78A18CE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9EA2-B717-44E8-8640-062903FE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CFB6-81A0-4DFA-BC06-A4601352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EA1-EFEB-4D22-A7FD-A421CFC7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F0CE-2A82-4461-83BF-C4363503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0D95-022C-4C1F-A25D-66BAF8F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A2A2-A05C-49E1-B76A-ED73C776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11EC-7BBF-4D84-923B-1D12D3F6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30B-4D30-417D-8540-B053E222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16B-79F9-4B62-9707-BA0E8463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130-F947-4C4F-95B2-A8F2CBDE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284-7CA8-4CFA-9EC9-7FAA739C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0E2-6367-418A-88AE-25E04645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A1A-B8A0-4854-9A7E-3213C2A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5A7-192F-4481-A79D-E1F16A1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A48-F253-4E85-BA67-AC8F473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7C4-3E2B-492E-84A0-AD15ABC506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7E90-EC54-418B-ADA1-EB7183F691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hil Kerr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7 – RY ZIONA Ô, HI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76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43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20000" y="6308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20000" y="5877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7 – RY ZIONA Ô, HI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vezivezy 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at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76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290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20000" y="543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20000" y="6308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7" action="ppaction://hlinksldjump"/>
          </p:cNvPr>
          <p:cNvSpPr/>
          <p:nvPr/>
        </p:nvSpPr>
        <p:spPr>
          <a:xfrm>
            <a:off x="8820000" y="5877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7 – RY ZIONA Ô, HI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nahazatra a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afaka iz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etra masina sy v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taf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an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90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290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20000" y="543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20000" y="6308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20000" y="5877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7 – RY ZIONA Ô, HI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der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a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Afaka i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ng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8290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8376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820000" y="543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820000" y="6308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820000" y="5877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7 – RY ZIONA Ô, HI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92280"/>
            <a:ext cx="91440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ho anao, ry Zio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tanàna 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ny vaovao ome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der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na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90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76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290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8820000" y="6308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8820000" y="5877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7 – RY ZIONA Ô, HI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sy hanapaka 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fakam-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andresena so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fal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290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88376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88290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8820000" y="543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8820000" y="6308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7 – RY ZIONA Ô, HIR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Velona ny Tompok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-d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eraka ny nofik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onjy ah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sy hanapaka 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fakam-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iona ô,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8290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3764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290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20000" y="5435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20000" y="58770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30T03:43:11Z</dcterms:modified>
  <cp:revision>29</cp:revision>
  <dc:subject/>
  <dc:title>Tiona Advantista</dc:title>
</cp:coreProperties>
</file>