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C10-6898-4038-AAE3-BCAA5336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C80-8A3E-49F3-93EF-37BE2E8E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E93-B134-46EC-A869-90330D64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B3E-F563-41A8-94D9-50DC3987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4C76-6E32-4151-8171-8FAE4A1B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EB80-0425-4630-82DC-CAE52497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775D-2B2F-4537-857C-E1E591A7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9722-9987-410E-BBC8-F747F816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1698-BE95-480D-9944-1D73A54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AFC8-86F8-45FA-AB06-64C04344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9053-01FA-4428-9A07-DBC7416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C58-2311-4D86-A3D2-6D69966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8E60-41F9-46AE-B51E-416946D9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DAB8-4417-4FE8-8417-19E0F24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924-B9E6-4C36-8C30-0670BBDB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D4F-9E27-4ED3-A464-30B5E89D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71FD-BFB3-4C12-83EF-C09C3E6D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A15-0058-4720-AD9F-6FB4401C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DD4-3A2D-4B8A-B1B7-96B34F1A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4B4-3274-4641-9C0D-62F3C7F6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6A8-4484-4AE5-801C-D326CC62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107-DDE4-408A-AB48-98B7EBB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DA5-B1E2-48C9-A701-0AD167B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E1E-8F9A-4D56-B0DF-1E341F23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B13-F1DA-4451-B568-94587B2560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AB76-F4AD-44ED-9AC6-0A00796B90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485 - </a:t>
            </a: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TSY HO ELA DIA HIFAL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eanne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i-FI" sz="1000" spc="-1" strike="noStrike">
                <a:solidFill>
                  <a:srgbClr val="ffffff"/>
                </a:solidFill>
                <a:latin typeface="Corbel"/>
              </a:rPr>
              <a:t>W. S. Marti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85 - </a:t>
            </a:r>
            <a:r>
              <a:rPr b="1" i="1" lang="pt-BR" sz="3200" spc="-1" strike="noStrike">
                <a:solidFill>
                  <a:srgbClr val="ffffff"/>
                </a:solidFill>
                <a:latin typeface="Tahoma"/>
              </a:rPr>
              <a:t>TSY HO ELA DIA HIFALY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ela dia ho fal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ditra ao an-trano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hifarana re 'zany d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no hanjakana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85 - </a:t>
            </a:r>
            <a:r>
              <a:rPr b="1" i="1" lang="pt-BR" sz="3200" spc="-1" strike="noStrike">
                <a:solidFill>
                  <a:srgbClr val="ffffff"/>
                </a:solidFill>
                <a:latin typeface="Tahoma"/>
              </a:rPr>
              <a:t>TSY HO ELA DIA HIFALY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an-tan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faty intson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zavana no lamb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hira rod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TA485 - </a:t>
            </a:r>
            <a:r>
              <a:rPr b="1" i="1" lang="pt-BR" sz="3200" spc="-1" strike="noStrike">
                <a:solidFill>
                  <a:srgbClr val="ffffff"/>
                </a:solidFill>
                <a:latin typeface="Tahoma"/>
              </a:rPr>
              <a:t>TSY HO ELA DIA HIFALY I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ela dia hifal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tsy hisy alina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faliana tsy ho tapitra n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itony ny sentom-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1160" y="5943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08:52Z</dcterms:modified>
  <cp:revision>117</cp:revision>
  <dc:subject/>
  <dc:title>Tiona Advantista</dc:title>
</cp:coreProperties>
</file>