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C08-B4EB-4D5D-939F-12BAF12B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40A-3BFE-4659-9579-5DDF843F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328-6804-40BD-94D9-0FD865C1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2F1-631E-476E-B239-9F4B528D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5FCB-FD96-4374-B759-C08053BB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984E-2D76-45E9-871F-4B901F6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B105-104D-446E-A681-0244C8D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6B6-AF52-4E08-B868-716BAF2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9930-9EE9-42F0-BC52-9954BEC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CC6-76D0-445A-BC5A-4A06DF29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8CB1-65E0-446B-859D-3F887CB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6E9-1B6C-4B3E-B1CE-E66ED72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B8D-D95C-42F6-B545-05B25EA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CC5-3CD0-40E3-B5AF-BC022C3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7622-1406-42D4-84B6-4531C77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8266-7F8B-4220-9F33-0E5F6A76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305C-C848-400C-9168-2BF19FF7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0F2-78C5-46F4-9FBC-DEF324D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979-3A30-4339-98CE-C5794A9B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D11-AC0C-4DA2-9CD6-9DA20986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685-C757-48E5-B287-358F122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005-4753-4A17-8B73-D21EA38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E98-9A22-4E3F-BEDF-CD956C0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322-F06A-485C-B46C-02CAE72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3390-8F22-4685-B244-6C3275FF8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4385-C63E-43FD-8C9C-D48C4A5F8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4 – HITAD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4 – HITAD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dy Anao Jehovah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petraka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oviana re hahita A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lokaloka eo an-trat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4 – HITAD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Ô fi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zanakao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Ho mad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re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Raiso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re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Raiso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a tsy mend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a ho Anao ny 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mba ho Anao doria t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tady Anao Jehovah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onona raha tsy eo anil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4 – HITAD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lavitra Anao ny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 Ray mba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sao madio ny fo ka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 avia ka manamp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4 – HITADY 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 Mpamonjy n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tariha ny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tanjaho ho tena lehil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vonona hiad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35:55Z</dcterms:modified>
  <cp:revision>90</cp:revision>
  <dc:subject/>
  <dc:title>Tiona Advantista</dc:title>
</cp:coreProperties>
</file>