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20A5-D6B0-4FF1-AF26-5FEAEB21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323-9B1B-49D6-9A89-FBAD6AB3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3B4-BC4B-4C78-81AE-C0B4E0D6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DA1-CDF2-45B7-9D5B-76B32215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6E89-9F95-4A89-ACA5-A2ED2D6C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598F-0CEC-4015-9E40-AA347365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CF7A-E413-421B-8580-F6969434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6777-84D5-4DE4-8E13-A038E330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A6BC-1F0E-496A-B617-9853E391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584E-6D9C-478A-B7CC-A5F5FBA5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C566-FD9B-40AE-95A4-0A99DC80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6CE-346F-4230-A961-236FE2FD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E18A-3E23-40CF-84DC-F5508071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4B3D-38D4-4D8F-8E8E-45A17662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8B86-6479-44BA-A711-6D95518E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C459-5B23-4675-9D45-096141EA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DEC3-AFD2-4DD3-9722-9A764B7D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96C-0E99-4952-BAC2-7C86369F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1E8-D0F5-40FD-954C-07CB9162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348-A9EF-4D03-92DD-40010F78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658-637C-4068-9D11-127017C4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3B7-5F6E-4BAF-A43C-2D062626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0F2-3B93-4D25-ABC4-D2DEEE39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058-1A77-42AB-B439-46AFB772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1FEF-528D-49B5-AA9E-197D13DC2D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E66D-7547-47E8-837A-5708326D83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58 – ENTINA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8 – ENTINAY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inay aminao, Tompona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Entinay ho eo aminao, Tomponay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saor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o Anao ny fisaoran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endrena tsy tratry ny 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Fahendrena 'zay tsy ho tratry ny sai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ondranao. (Izany fitondr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8 – ENTINAY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no izahay fa mihain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h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iarovanao, hitah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kantran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8 – ENTINAY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Ianao, ompona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Jeso ô, fitiavana Ianao, Tompon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reo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Avia jereo izah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irery no t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Ianao irery ihany no tok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kinanay.(Hery 'zay hiankinan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8 – ENTINAY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era aminay, Tompona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itoera ety aminay, Tomponay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hio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Ka mba tahio izah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sino ho fone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ompo hamasino ho fonena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hiraisanay (Ho Anao 'zay hiraisan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4:04:37Z</dcterms:modified>
  <cp:revision>78</cp:revision>
  <dc:subject/>
  <dc:title>Tiona Advantista</dc:title>
</cp:coreProperties>
</file>