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AD0-F5F0-4950-9809-82CDECF5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405-1CC0-4E86-A001-726117A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E9B-FB9E-439A-9F15-6340A743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60F-94B9-449D-95F3-35CC298E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B243-F7C4-466B-A127-6C823206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0C81-49CB-4E14-BDE5-E5291176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6EC-A11D-4FB5-A0A3-7E5B40FA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D06D-36D8-43A9-94CE-9D90DFE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B9A-77D9-4BAB-B058-EEE7B2B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DC7-1D37-4C2C-8310-7A21381D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AB0D-173B-4A4B-9490-4FEFA2C1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1F8-2CC6-4349-84B3-1D1E9DB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98C1-F0D9-46E8-9C37-F8C740D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F20-E3BE-4F80-AA1D-305BCF7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E7B-9BA3-491C-B51A-9913120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FAE-A270-4590-B6BD-F42A9C7E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64F7-F357-4E17-8FFE-2B350BB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2C9-6204-4D73-889C-37FDFAB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970-8BA8-4475-8DCC-AEABA39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870-7A9A-4543-873D-0F44BB3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E1E-D757-4F77-BB8F-D7E25ED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D42-993C-4B00-BF0B-FFF1E2B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8A5-5D78-49E7-9237-30D7A49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C46-3514-4626-921D-40A3F04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A338-5EF4-47D0-BB79-0ABC1A4FA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F59-493E-4062-875D-BE309217AE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5 – RY TOMPO ANDRIAMANI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5 – RY TOMPO ANDRIAMANI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Andriamanit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ireo mitad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ny fiango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ngatahanay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y ô, Mpihaino vav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sim-pahotana 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niala tami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dao ny fitiavanao,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717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5 – RY TOMPO ANDRIAMANI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Mpanjaka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ntenanay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ainoa ny vav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a ny Mesia 'zay famonje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Andriamanit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omena 'zao tontolo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Mesia nomenao ny o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aina sy ho fandresena)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717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5 – RY TOMPO ANDRIAMANI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hery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izay mitad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Tomp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(Tompo),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jakan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 ka mihainoa ny vavak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y areh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onga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7176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5:13:23Z</dcterms:modified>
  <cp:revision>77</cp:revision>
  <dc:subject/>
  <dc:title>Tiona Advantista</dc:title>
</cp:coreProperties>
</file>