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7E5-903B-4293-B40D-E7D854E9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07A-0951-451C-B348-D7B223F0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0EA-4C78-4EA7-B2E0-B6A4FD6A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243-DEEB-4C4D-84A5-8A646DD9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EB5D-4743-49EF-AB19-86C9F968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07D3-2F94-442C-BF04-5D0099B0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5336-1CCD-4C94-95BA-9DE7FF7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EFAF-A958-4866-93D2-6B7B9A9D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C1A5-7C44-46AB-B390-746358E1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E6E1-8C5E-460C-B356-721BC5C2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8879-4A47-4AAA-8EAA-F3FB9C93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113-3AB5-4CEA-ADC0-A652B716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CC7C-F0A0-4D28-9B07-DD79DCAC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17AC-953F-454D-9273-24967CF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5911-AC40-4243-B2CF-D64A6130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3688-82AC-4828-99BB-9209FBAD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F50A-CE92-4218-9BC1-02835778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D3A-4DAA-403E-AD24-1062C76D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BF1-4C3F-401B-8FFD-82F13B60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F8E-5453-4772-8CB3-3E54666D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6DA-4150-4F04-A85D-E2C2937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8E4-9ED0-4B8B-9584-05BBC610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217-1CC2-4E62-9126-8C51F9D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6AD-711F-4EDC-A2CA-F04FD9B5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9E6D-9F56-4CAF-938F-C9E3B99570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9403-6F9D-4014-86BF-0C77D941D2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aonim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R. Palm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171, FFPM766, HL37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5 – JESO MPANJAKA M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5 – JESO MPANJAKA MA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panjaka mal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ompo Mpanjak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ery sy tsara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zy no ar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ndrika hankalaz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herin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ran-tany sy lanit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o aman-daz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5 – JESO MPANJAKA MA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4124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'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, Mpanjaka maher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a (mihaino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manaiky tokoa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mpon'ny hery rehetr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mihintsy ny to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ratry ny saina 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derana 'zay entinay, Raiso re! raiso r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ja atolotra Anao ety, Raiso iza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5 – JESO MPANJAKA MA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pandahatra hend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ao izao reh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ra sy tendry ata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sara sy mahaso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ndrika ho deraina ny fandaharan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ho azy ny sa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tandrifin'i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5 – JESO MPANJAKA MA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, Mpanjaka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be indra-f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na eram-po eran-ts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ina mandrakiz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Ny mpanompo voa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mihoby hoe: &lt;&lt; Haleloia ho amin'ny Avo, Fa Jeso no Tomponay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44:57Z</dcterms:modified>
  <cp:revision>28</cp:revision>
  <dc:subject/>
  <dc:title>Tiona Advantista</dc:title>
</cp:coreProperties>
</file>