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7A3-77C9-482F-98A5-AF1416EF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798-BD29-48BC-89C1-E09F93D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9C0-9A98-4B7D-AD6A-71D7A5E7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297-632F-492A-A51D-05727F4A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C993-E20F-49FC-96DC-01A199CF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0236-AFC6-45C8-8D69-77E6101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458-456C-4B10-9E85-AA824773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FB2E-5E57-4562-BB14-22A05F88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8703-A3B9-4CC2-A0A4-FB18261F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93B9-3AE2-46BB-8300-C8AB3CF2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FD41-5A06-4853-88CD-60202314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3BA-DA84-4F28-952D-C461C70B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BA57-5AB8-466B-A6EB-0799655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64AB-9AE0-4097-A0EA-9C70627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1105-2E89-4182-972E-8C5ED0E4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8981-AE24-4E50-BC18-9ABE05C6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0E54-D39A-48D1-9919-1E1B3D45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BF7-F386-4F17-8CAF-815E388B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246-6D1A-4D6A-80D2-6124C3C6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D6D-1524-4AC6-8C52-FBD33AA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252-5BF1-45C0-91F2-CE2E2488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CEF-9EC2-4285-85B1-3840457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113-E13E-4A2F-86EE-4EE9412D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AA4-9415-49F6-938F-EDA3BCA2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379-9B1D-4AF9-A8EE-394D10776F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8738-D8E6-4073-ACF0-12D28FAAEA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31, DLG1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5 – Ô, BABOY ‘ZAHAY HO A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5 – Ô, BABOY ‘ZAHAY HO ANA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baboy 'zahay ho Ana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Masina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fonao hirehatr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fana an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5 – Ô, BABOY ‘ZAHAY HO ANA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Fanah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re fa et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fio anay n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ovi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io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i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5 – Ô, BABOY ‘ZAHAY HO ANA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in'ny fanante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iho ny handr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koa fahal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ova miandr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5 – Ô, BABOY ‘ZAHAY HO ANA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nao 'zahay h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lay namonjy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ome an'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ntolo ny f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Fanahy, aina, laz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hitsio ny fiaina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andresy laland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ho tonga vao ind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5 – Ô, BABOY ‘ZAHAY HO ANAO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41:20Z</dcterms:modified>
  <cp:revision>39</cp:revision>
  <dc:subject/>
  <dc:title>Tiona Advantista</dc:title>
</cp:coreProperties>
</file>