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CC8-0B52-400F-978C-0E18D009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A93-88B3-4192-80E7-3B0CF2D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5BE-A611-4303-883E-D12DEE9C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11E-72EB-4FCE-91FA-0B82E2EF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2B2B-2705-4AEB-878C-DF2F7A2A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C31-76C2-4169-8158-B2E1164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F9A-6672-4B13-A323-CDA03F3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66E-13DF-483C-AC33-8FC3AA7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C166-65F6-4CD2-879F-32E41BE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8661-E246-4302-8F9C-1DB50B58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3C6F-460F-479F-A235-419BAE5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7D5-FEB8-4E7F-8394-33E444C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ACC2-EFBD-48A5-8253-CE6B930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E007-0614-4166-AE0F-1DDB0C6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C4C8-04BF-461F-AD00-C1DE981E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6E21-2625-4893-9409-4DD4247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712-4EE1-4202-91B4-552E2FCB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B61-4F8A-464B-B29F-0B27F4A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AF7-2A33-48FF-8343-8C611A1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FA6-673B-4AF5-B66D-520768C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C71-7578-4658-863B-23E398B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264-5DB6-4B9E-9F94-756FA26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4CF-8A7F-4F94-8556-56FDB30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F44-3DEA-43CC-BED3-100E649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03F-EA14-4631-9C21-ECA6656B4B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63C3-96C3-43BA-B7BB-FB098A42E6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3 – RAHA HO AVY INDRA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3 – RAHA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ndra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o faly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efa kely s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vonon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3 – RAHA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o androm-p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ho hakivi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ndray Jesos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vonon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3 – RAHA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o maro no ha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ndr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anjely alin-k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hiaraka am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3 – RAHA HO AVY INDRA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sara fanahy m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indr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tsangana al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isany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3:13:30Z</dcterms:modified>
  <cp:revision>36</cp:revision>
  <dc:subject/>
  <dc:title>Tiona Advantista</dc:title>
</cp:coreProperties>
</file>