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171-E683-446F-8432-862F29DF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B18-0CA9-400D-B741-48AE306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ED0-B356-4327-AE08-D0498C1E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6A0-72C1-4CD4-8FC4-C0DE18EE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01D4-FACA-476A-994C-E7EC233C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3649-B6F2-4CD9-997E-A0E2B793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0983-0642-4EE8-929B-B7BC573E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50ED-E600-472B-AB69-16C55FEA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1BF5-6C59-4042-ADDD-4D797F1B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55A4-636C-4C04-A0D1-B5F85AE2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A235-3C13-44E5-A891-8D5CF51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187-B23A-46F9-AF26-2DF323BD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94B8-E671-4DF1-92AD-D1F5534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53A0-8873-4F06-8B46-A90A7439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5FDF-9CCF-4629-80BD-4893664C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8889-9A5B-48AD-8306-65A6F747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03C7-7842-4965-9BB0-B6C78C09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737-8079-4BF6-AA76-49441E9E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8A6-858D-45E8-9EEF-93669AAE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19A-0CD0-4C7E-95A5-EEFF5253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BCD-F539-4F8C-BF11-69DCBB71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409-6C2D-41D6-83D4-024F8223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664-1D90-459A-98E1-1616191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65E-1CAD-4A79-A97F-8DE8948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38BA-9E2F-414C-89EE-E715F9D21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2A0-65E0-4C13-A5D1-CD71E8F441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lph Carmicha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7 – NY MPAMONJY TE HIDITRA AM-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7 – NY MPAMONJY TE HIDITRA AM-P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monjy te hiditra am-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vohay 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y misakana anao tsy ham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eo re, raiso Jes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716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7 – NY MPAMONJY TE HIDITRA AM-P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ela no niandrasany t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dia mbola miant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sakana anao tsy handre ny f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eo ka rais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7 – NY MPAMONJY TE HIDITRA AM-PO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y tokoa re ny hamo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ravaran'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y ny hanjaka sy honin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re, rais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716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14:00:04Z</dcterms:modified>
  <cp:revision>61</cp:revision>
  <dc:subject/>
  <dc:title>Tiona Advantista</dc:title>
</cp:coreProperties>
</file>