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D19F-A4A4-4058-B954-5E9221E2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DCE1-2B4F-496F-AD21-A0712264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DC2-A54D-474C-9142-81BD200C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9E89-E6BB-4700-94C3-0D899D17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11A4-39BC-4202-AF35-732BD944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482C-2232-451B-A23D-A45D9EB7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11D6-A035-46E1-A7D0-C60F83F8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FA26-F996-4FAD-9FD5-81B341FF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6786-D48E-47D4-A412-9DA0A861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9938-1C77-487F-B43F-EF6CD609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549D-2BF1-4486-8A87-8E04F89E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A39-022A-4AA5-9870-000F2878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72B3-1409-416E-A29A-9CDA8E22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530F-B5ED-41CF-A396-FA35CBA7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8602-EB43-4F4F-9BF3-7C126D0B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E299-86D8-4A10-AE5F-436B4C37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1E4A-5B9F-43C4-BBED-F2F5A54D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B2C7-8A79-475C-BC89-F82EC0F1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CAE8-C9C8-4962-ACA2-6B23EC93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6EB1-F38D-478F-9548-AC6B15D6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C844-7F4E-4767-AD0E-2B534B98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8E1-41DB-4A03-86C4-B3A268D0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762-1212-48E3-BD6C-D215A454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9214-59F0-4310-8C65-79D350C3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D28E-2ACA-48FF-B365-7E7D75974C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D3F4-0C11-448B-945A-0E60635167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mahaisah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mahaisahy 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41 – ISAORANAY IANAO ANDRIAMANITRA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041 – ISAORANAY IANAO ANDRIAMANITRA Ô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Isaoranay, Isaoranay,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manitra ô !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Eny isaoranay Ianao. 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aoranay,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aoranay, Ianao Andriamanitr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Fa akaiky ny Anar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kaiky ny Anar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ry ny fahagag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aonao ny olona. 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848080" y="5962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8-30T03:07:37Z</dcterms:modified>
  <cp:revision>27</cp:revision>
  <dc:subject/>
  <dc:title>Tiona Advantista</dc:title>
</cp:coreProperties>
</file>