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B69-F149-4C4F-95C1-D6299D10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841-3768-4760-AA1F-1F7CE93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4A3-AAF0-418A-B2D5-DE2BC8F6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4FE-9FB2-4A38-A96E-C11F0AC9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7B99-42CD-48F4-B773-6A037DA1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2CB-F884-49AD-8640-9C6A3595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023A-D3F6-4499-A95B-4AB67FB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8697-7F99-4F89-8065-A5844873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332-4AD6-4E9E-A45F-94CF814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7FB-6870-4EB0-AEFF-9BC9DE3F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B9F4-B17C-4321-A094-D0A1C444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6F7-9FA9-4FFA-AA07-7849644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E987-D8ED-4A91-B721-825D959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359-18B9-42DF-85F5-5027BB8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BC16-7C41-4455-9157-970C51A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B637-403E-45F0-8F7C-9758A87F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3616-669B-494A-8093-8706BB44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BE1-2D8A-4CB1-B847-22A11C1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DE4-C8A1-4134-99D5-5629218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CDA-B335-4CB7-A1C7-1FF4A89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2DD-086F-430D-96C7-BF51469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014-7299-468A-BF0B-1B7C6F1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154-9B90-4737-A101-38CFE85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158-7692-4CD4-8FF0-89ADFF0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8DF9-BABA-431F-B3D1-F23372111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D07-E2F1-433C-9D9C-9F8AEC768C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Rakotondra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Rakotondra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1 – Ô ! RANKIZY MITSA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1 – Ô ! RANKIZY MIT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nkizy mitsang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eo miants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 fa faing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onjeo 'reo na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bola marobe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diso làl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dindomin-doz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ahafate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1 – Ô ! RANKIZY MIT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:,: Andao hanao di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dao, anda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ka m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andeha, handeh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ka man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ona namana.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1 – Ô ! RANKIZY MITSAN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 haizina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ny fani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oroa hatrany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kiviana ia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sy maherez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y ten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ian-tsy hita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38:55Z</dcterms:modified>
  <cp:revision>84</cp:revision>
  <dc:subject/>
  <dc:title>Tiona Advantista</dc:title>
</cp:coreProperties>
</file>