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B7D-2D45-4CD3-BBC3-A2902055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7D1-F2CC-4B3F-8701-26EFB44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26D-7462-43F1-8856-826A356F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6D9-8E4A-4112-B81C-C97610E4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823C-6F9C-4994-AF56-A6F103BD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1A8-230C-40B3-AC92-5AF8882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CC44-0771-4E3B-8CA4-289CF9F8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FF25-B3D7-4EB3-9DF9-B714C51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5B21-F79E-4888-BB0D-8BC0B0A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713-3681-4957-9E9C-25345F57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A209-F16E-4DC3-B3FB-6274B458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B27-059C-47EC-B939-483CB82F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CAD-C6C0-480C-8736-E9029783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764-C0E0-44AA-ACB5-01E53F6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760-9027-4FE4-81D3-6D2E111D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A1A-33CB-4D82-B181-B7E95966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63E4-925A-4AA0-9502-15DFA342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137-ADF2-4512-B86F-4C3A3993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80C-6B8F-40E7-A77B-CE5069F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4BE-0CC2-4BEF-977A-95E44694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37F-DA05-4F91-A8B2-87F69FB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761-A7BC-4362-9266-B9FFCBD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45F-8035-4F22-8F8C-8D811D34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9A4-F1E8-4B4D-9790-FEE2F88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9066-CCF6-4248-B0E8-13A2C77B7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BA4-A985-418F-B00E-A50D0CA5C2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H. Gabri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0 – JESO Ô !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0 – JESO Ô !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via, diovi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lapanao, ny foko re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tsy mendrika fa he nandà ny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, Jeso, ny ranao dia mah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(Jeso tia), eny, Jeso : (Eny, Jeso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'zao ny fanadiov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0 – JESO Ô !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via, manjakà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ko re, izay voh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adananao, mandresy ny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ameno ny kapaokan-j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(Jeso tia), eny, Jeso : (Jes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'zao ny fiadan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50 – JESO Ô !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via, ento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 am-poko re, hanjary toet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masinanao 'zay tena endri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vao ny saina s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(Jeso tia), eny, Jeso : (Jes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'zao ny hamasin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0 – JESO Ô !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via, rais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y fiainako ho voninahi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ilo re, hitari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namako ho tonga eo an-tongo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(Jes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Jeso : (Jes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'zao ny voninahitr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1:38:36Z</dcterms:modified>
  <cp:revision>72</cp:revision>
  <dc:subject/>
  <dc:title>Tiona Advantista</dc:title>
</cp:coreProperties>
</file>