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1B9-ABBA-4208-AF92-68BB541F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5DD-06C3-4AAD-B790-E1EFF192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17F-22CE-4003-9C4E-9C89F2B7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A95-1C5B-4C25-8C55-7FB1B987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6768-2447-4E00-A84A-4F8E9677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10ED-B5C3-4D0F-8286-E3AA3D0D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A78B-7747-4B4F-8EFB-E01DF68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7768-8EA1-4E37-9538-BE520C19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5816-75F4-4ECB-803E-71010134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F70F-1488-4E7D-B99E-F79C340F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FA33-2B07-4289-90D9-4153CB3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665-CE39-4CCF-8272-CA301B5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0F94-5CB3-45F8-BC96-E5B17557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BA27-CC0E-4FD3-AB13-F8C0E35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817-63E4-4D86-9758-A0B0D09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5C84-E11D-4A1D-9AF9-11BEBD3D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E80-431F-4C06-93E5-6329BA6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DE1-8467-48A5-AEF2-FBB3704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5E2-3A96-40AB-83CE-00C16C0F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2C5-36FA-45BB-A753-94AFFDE7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8E0-CEEF-43B5-AEA9-EC60595B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035-818E-4EBC-85F2-4135D12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723-E6F6-4A58-98F1-1DA29C6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67D-5B5A-4E8C-94CF-4F5D7A6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6F6-BA8C-4851-BC1D-8616C6B38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A4A-1F9F-48EF-B7D5-67F2870628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ompositeu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4 – RANOMASOKO OM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4 – RANOMASOKO OM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nomasoko oma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 hafalia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itsangana tokoa 'z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esena tsy hita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pihorina h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noako saika rava t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54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4 – RANOMASOKO OM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 'zao ny fahafate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o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ana koa ny ranom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lasa izao ny zavatra tal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rotoro teo S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sana efa nor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fiain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290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54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4 – RANOMASOKO OM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otor'ain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ohalika rehetr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efitra ho fanaj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izay rehetra an-dan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Jesosy, fiain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54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7:47:49Z</dcterms:modified>
  <cp:revision>33</cp:revision>
  <dc:subject/>
  <dc:title>Tiona Advantista</dc:title>
</cp:coreProperties>
</file>