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05A4-81C9-4AAD-8352-8EFB613E4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001C-F6CB-4A59-8CE7-6FFCD052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E391-2AD2-4465-9DE0-B0E3D6BC3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042F-C41B-4D84-BC18-AA5AE4317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C3C6-2DCD-41F1-9A5B-729A5B67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1CF2-BF68-4D78-B0BA-94229D86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290E-94D8-4032-923D-DCAB28DE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9CA8-EA59-4782-80B9-FE19D27C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8707-9E65-46F0-9045-1204F5C8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3F82-3A43-49CA-8A78-579414FE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624F-0C9A-4DB9-9987-1087BDA1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05B9-9A68-4A96-8CB3-AE4DE293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5AD3-2E7D-4E3D-9D79-4445507C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C0ED-B58D-4EBB-B399-4AD8BF4E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F753-486A-43EE-8511-A11C56D4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188B-AF8E-4DAB-BAA7-AE46BA829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252D-A02F-42A4-B309-FCC21EF9A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3DFA-27A1-4144-B1FC-F0B3E6E9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8D7B-C17E-485E-87E7-B320FE97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AF6B-F3FB-4100-8448-4961D9F5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570E-5515-4509-AFF2-D84533F5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29D2-0027-417B-A24F-8E3B35F3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3CDF-47D9-4DF0-88F1-B0886590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7DB4-DE8D-4D59-AAA2-2C7A1759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8F07-419A-4180-9057-093BF15FBD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AF6A-DF4B-43DD-9B36-95D2FCFCF7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oloran-tena sy fanir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. Marc Rava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. Marc Raval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13 – ENDREY, TSY TAKATRY NY SA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13 – ENDREY, TSY TAKATRY NY SA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ndrey, tsy takatry ny saiko lo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itiavanao, ry Jeso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foinao ny a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avotra ahy nohony helo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13 – ENDREY, TSY TAKATRY NY SA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ndrey, tsy haiko hadinoina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ijalianao tao Kalv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iaritra ny mafy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 dia zanak'Andriamana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13 – ENDREY, TSY TAKATRY NY SA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ngorohoro irery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isento irery tao Getsema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latsa, eso, ny satro-tsil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Dia maneho fa tia ahy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13 – ENDREY, TSY TAKATRY NY SA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oa indro raiso re, ry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tenako izao mba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 dia mpanota ô ! Raisonao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voavidin'ny r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12:15:47Z</dcterms:modified>
  <cp:revision>89</cp:revision>
  <dc:subject/>
  <dc:title>Tiona Advantista</dc:title>
</cp:coreProperties>
</file>