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8DB-A1AA-4BBB-8351-3C819F26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2B3-4D83-4230-AB7D-3920F161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1B9-4B7A-45CD-8513-44A93095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2BC-28E3-441E-964C-67C267A8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E141-CF14-4E34-BC70-3A56FCA9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3337-65EA-4865-A2CC-7948A79A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EC7D-3F7C-45E5-BD69-80382A0F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69D8-278A-4960-97CF-8861F190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9E47-BA06-4852-9513-6657BE05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D133-4787-473B-8494-A84093E7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279B-05EF-4D8E-95DC-9ECA20C2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64A-9B51-4A0F-AF5C-21CBC891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D723-FAC4-4F89-8696-FE243E32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28E2-4706-464A-A986-DEED9952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D136-5190-4509-8025-A51E06B8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34D7-F705-4C88-9F9D-CAF50E20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5713-0BD0-4270-B529-CEF6DFA3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79D-2744-452F-96D2-03BF78C6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881-2F53-4188-9C23-0C9EA59E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C50-07F6-4459-AE35-42062232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0BF-372A-4164-86F5-83EC586A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297-C2AC-4627-9584-F153BB91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16C-63E5-409B-84F3-B70CBC5C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2CD-4B7C-44FE-8717-93D86982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2867-1F12-4A9F-BC28-9CB58DB152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24BC-EF58-4273-B2A0-FDA81F408A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AH37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41 – O! MANDROSO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1 – O! MANDROSO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Mandroso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miants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 am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o tantan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y tokoa sy mam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iandany am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1 – O! MANDROSO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Mandroso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lao ny hev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ho mpand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'ady mis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y no hiar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hy hampaher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1 – O! MANDROSO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Mandroso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diovin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ra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fahana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aka ny lal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ho tonga zan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5:06:34Z</dcterms:modified>
  <cp:revision>61</cp:revision>
  <dc:subject/>
  <dc:title>Tiona Advantista</dc:title>
</cp:coreProperties>
</file>