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8C9-31F5-4866-A68E-343CDDB8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3D0-97A6-40A2-A2F3-B5FC67B3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A30-A144-4EFA-9841-E66755CA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8FC-2983-496B-ADFA-4F279331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ABD-B855-4D9A-A614-385CEEDD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454-1AAD-4C00-9DBB-5AA7B94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D54-0975-4B83-B525-9CDA581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233-831D-43C6-91D8-360A1859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E8D-B13A-4BC3-B45F-F1B542A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672-62E6-4B59-814A-57AA899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AD7-6307-4A9B-A792-688ED3E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D0A-18C3-45C3-B576-2405F2F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80F1-EE16-4E33-9EBA-2F3C47841E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W. Pete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124 – MANAN-TSAKA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8748360" y="595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8749080" y="6338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4 – MANAN-T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Manan-tsakaiza avy any an-danitra a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Mpiara-dia sy tena toki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'Zay nampifaly ka namaly ny tala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Corbel"/>
              </a:rPr>
              <a:t>Izy no Jeso nandray ny f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Tsy ahiako 'zay loza hanjo an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Mamaky ny lohasaha maiz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Ampy ahy ny mahita ny fiarahan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Mamonjy ny làlam-bolame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749080" y="6338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43">
            <a:hlinkClick r:id="" action="ppaction://hlinkshowjump?jump=firstslide"/>
          </p:cNvPr>
          <p:cNvSpPr/>
          <p:nvPr/>
        </p:nvSpPr>
        <p:spPr>
          <a:xfrm>
            <a:off x="8754480" y="552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4 – MANAN-T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Corbel"/>
              </a:rPr>
              <a:t>'Zay ela izay tsy fantatro fa tiany a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ffff"/>
                </a:solidFill>
                <a:latin typeface="Corbel"/>
              </a:rPr>
              <a:t>Mandra-pandre fa Izy maty ho 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Nanatona aho ka dia noraisiny to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Izy izao no mitantana 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Tsy ahiako 'zay loza hanjo an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Namaky ny lohasaha maiz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Ampy ahy ny mahita ny fiarahan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Mamonjy ny làlam-bolame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748360" y="595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3">
            <a:hlinkClick r:id="" action="ppaction://hlinkshowjump?jump=firstslide"/>
          </p:cNvPr>
          <p:cNvSpPr/>
          <p:nvPr/>
        </p:nvSpPr>
        <p:spPr>
          <a:xfrm>
            <a:off x="8754480" y="552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23:09Z</dcterms:modified>
  <cp:revision>36</cp:revision>
  <dc:subject/>
  <dc:title>Tiona Advantista</dc:title>
</cp:coreProperties>
</file>