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221-7B8E-4F4F-9F99-34ADB7C9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985-DDEF-4AD3-AD1B-DD5B32CB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568-D909-4CDB-B6E4-4604AF9C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310-9AF9-4902-BC53-1CB7FA49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916E-01C6-4E5C-8994-CFECD994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2ACB-9B87-4287-A436-0E727D63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E508-F922-45AC-94D6-A7592E38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C653-DE8F-4499-907B-85697C9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1FD3-77EC-4AE1-A929-9CC8D17E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79E3-B725-4CB0-B2F1-12223EDB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5FA4-F65B-4F8B-8C12-0AA1103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617-E5A0-4E14-BF9F-61B379D2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56C9-1536-4E05-8900-C0F2AFD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940D-9DD0-4282-B658-D9082A18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4A3C-70C1-40EB-96D3-BC8596E8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E760-9D06-476D-9B93-055AF9EC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99DB-63FD-440D-84CF-467D5107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93C-9935-45AC-ABE6-5FD797B9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F3B-D030-4CD9-ADCA-2A02B679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00D-FCF5-4854-9D05-AB3FCD27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FCB-8ADC-4268-85CB-F817D54F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B3C-72F3-4082-BB7A-1E189FD0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2B5-C622-47D9-866E-ABD4C1CA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60E-1557-4A7C-9EF2-E14683AA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59E-2B0E-451E-8A57-126E5664D7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99AE-C2E9-4C9B-9DBD-781FA959BA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zakarivon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E. Razakarivo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61 – JESO MPIANDRY TS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1 – JESO MPIANDRY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, Mpiandry tsara, no miantso '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niry ny hiantok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te hiandry, hiaro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koa ho andry, mand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avia izao, ry ondry 'zay n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:,: Ô, avia izao, ry ondry 'zay nania :,: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ho no hiandry sy hiar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:,: 'Zaho no hiandry sy hiaro anao :,: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1 – JESO MPIANDRY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'Lay Mpamonjy no miants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niry famonjen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ta hanavotra ny fiai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 kanto, sarobidy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ry olombery, mba henoy ny f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:;: Ô, ry olombery, mba henoy ny feo :,: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« Manatona Ahy 'zao anio izao 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:,: « Manatona Ahy 'zao anio izao » 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1 – JESO MPIANDRY TS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tena tia no miants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dy miangavy koa anao an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'Lay nijaly avotra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tena tia Izy no fid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Tompo tia raiso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:,: Jeso Tompo tia raiso ho anao :,: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ho doria ny androm-piain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:,: Raiso ho doria ny androm-piainako :,: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15:25:39Z</dcterms:modified>
  <cp:revision>90</cp:revision>
  <dc:subject/>
  <dc:title>Tiona Advantista</dc:title>
</cp:coreProperties>
</file>