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18A6-3027-492E-BFF0-AF24549F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644C-57D7-4242-B0DF-32362E12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0E6B-998F-41E7-A60B-06AE4DF22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B8BA-7272-4AF3-9CD0-4EC961FD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1CE9-751F-464D-8900-8CF914BB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2B68-A5D2-4134-82DB-D8FD10E3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176C-D41B-4101-AB8B-63924CFC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E27E-C0CE-4EF3-9A17-58121F3A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374E-E78C-4762-83E2-1992D3D0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E328-853A-4DC3-A4C4-2A4A158B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60D6-549B-4F4A-BE55-EF24B66A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888E-6582-4FF6-A8E8-F9D988B3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4524-E72C-462A-9EF1-87A62D13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E812-ED8A-4917-B77A-5803574F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D11C-5A22-4385-B3F3-9DEF1293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9A81-3E6A-4DF1-A335-FFF89AD9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A1E7-67BF-43DA-AB7C-B16C951C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0B92-BA4F-445F-8630-231947CB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DAC0-386F-4491-8F94-7336C2B5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82C1-117E-4310-B05D-B28AA225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B53F-7E8B-4820-987C-88B750A5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F09C-AE5A-445F-9D37-40B29263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020A-9702-4C0C-9B3F-C36CAB45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C84E-F269-4290-A931-6B2B0F0A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A959-E09A-40D1-8409-CD0B07401D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FC7F-A2FE-41AA-BF44-AA0A7D997C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21 – JEHOVAH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80760" y="518004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2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1 – JEHOVAH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Jehovah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Ia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hovah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Ia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anao nandinika 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fantatrao ny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to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e-piainako. 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72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1 – JEHOVAH Ô !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olo) 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o sy saina mbamin'ny f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Jehovah ô ! Jehovah ô !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Fantatro ny fiainako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Jehovah ô !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olo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Tsy miafina aminao ry Tompoko 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Jehovah ô ! Jehovah ô !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fantatrao ny fiainako, Jehovah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hovah ô, Ianao nandinika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fantatrao ny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toe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Toe-piain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80760" y="518004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1 – JEHOVAH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00"/>
                </a:solidFill>
                <a:latin typeface="Tahoma"/>
                <a:ea typeface="Arial"/>
              </a:rPr>
              <a:t>(solo) 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toerana aiza lalana mankai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Jehovah ô ! Jehovah ô !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Fantatro ny fiainako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Jehovah ô !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olo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Tsy miafina aminao ry Tompoko 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Jehovah ô ! Jehovah ô !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fantatrao ny fiainako, Jehovah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hovah ô, Ianao nandinika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fantatrao ny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toe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Toe-piain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80760" y="518004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72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1 – JEHOVAH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00"/>
                </a:solidFill>
                <a:latin typeface="Tahoma"/>
                <a:ea typeface="Arial"/>
              </a:rPr>
              <a:t>(solo) 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isy saina mety hahatr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Jehovah ô ! Jehovah ô !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Fantatro ny fiainako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Jehovah ô !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olo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Tsy miafina aminao ry Tompoko 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Jehovah ô ! Jehovah ô !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fantatrao ny fiainako, Jehovah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hovah ô, Ianao nandinika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fantatrao ny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toe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Toe-piain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80760" y="518004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7212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7212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2T11:07:36Z</dcterms:modified>
  <cp:revision>38</cp:revision>
  <dc:subject/>
  <dc:title>Tiona Advantista</dc:title>
</cp:coreProperties>
</file>