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430-1477-438C-A46E-1A45383D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040-1A0F-478C-BE61-0BFFFCA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19B-609E-469A-AE16-696C9107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6A2-69A7-4188-B6E2-512A75A0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E09B-659C-40C5-8C02-C16A23A1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167F-CABF-47A4-B125-9B9187F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091F-7EF7-4262-B479-1038004B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D0A-4FE1-4A8F-A3FC-1ECF02DD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D696-68BF-4DAB-9F28-04CB400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233C-F6EA-4546-B60E-1EA0466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9C06-A691-4D27-8AD4-A0EC559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413-1A53-42E4-906A-86E0C35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619-2274-45E8-AAA1-3498610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5135-38A6-475C-9464-E514B29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5A8-5F35-45CD-A7D4-B8F2515F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B6B4-7F08-4465-ADE1-7A102FD4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F97-9599-4D01-B1EB-923205E1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1FD-91A8-4EDB-A442-496BC3CD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8A5-6F41-4278-A876-AF61C2B4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103-2195-4BC6-B1FC-899943A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D18-F05A-4962-BBAB-B6A45B4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C85-E5AF-423A-8C0A-27FAD73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572-BF35-44C3-B4A9-DC6F33F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C0D-BF4F-4ED4-A5D9-E168EC8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0ED-E67E-4F8D-A097-E8E2E57AEE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81E-F60F-4F51-8D7A-E7108A0CC7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7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EO AM-PELA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900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87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7 - EO AM-PELA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o am-pelatananao, Ra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o apetrako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y fiainako tonto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o am-pelatan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Marobe ny fahavalo Te hamotraka ahy iz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efa ianao miaro Ny eo am-pelatan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(An-tan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a ho mora na ho ma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'Zao fiainako iz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Dia vonona aho hiha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Fa am-pelatan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900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87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290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7 - EO AM-PELA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o am-pelatananao, Ra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o apetrako t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y fiainako rehetr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a ho ratsy na ho 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ny, izao rehetra izao Miovaova sy mora l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y eo am-pelatananao No haharitra t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(An-tan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a ho mamy na hangi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y fiainako (ety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Apetrako ny safi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Ho eo am-pelatan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872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290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7 - EO AM-PELATAN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o am-pelatananao, Ra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Ho anio sy rahatriz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y eo am-pelatananao, Ray ô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Ray ô, tsy hangaih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Na ny eso na ny latsa Tsy hampaninona ah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Fa ho sitrana ny ratra Eo am-pelatan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(An-tan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Hatrizao sy ho d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Ho anao dia ho 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Mamy loatra ny fit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</a:rPr>
              <a:t>Eo am-pelatan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90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900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290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3:02:27Z</dcterms:modified>
  <cp:revision>116</cp:revision>
  <dc:subject/>
  <dc:title>Tiona Advantista</dc:title>
</cp:coreProperties>
</file>