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72E-E0A0-4BE0-B769-454B264A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E58-A668-4FBF-A4CF-5E7933A7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4B0-9804-46B2-9B7F-3980AF19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875-1663-47AC-97C9-E715ED4A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E2A-38E2-4C52-8698-A1BDF7DD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97B-710A-4E3F-AC31-70372F44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2D3C-09D3-40CD-89FA-C3E1910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6700-3902-4326-B708-2F1196D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E9F-1AB9-4FDE-ABF0-205ECDC4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594E-E0D8-4DC5-87BA-42DC6DAE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F6DD-24D2-4990-A0C4-B98E48E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671-3257-4AB6-BAEF-4A204D4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7A9B-60DC-4DD0-A72E-86CACA4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09A-BC1E-4F61-A18F-55BEAB7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B2D-D4A7-42C0-9EF9-AD887068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0E5-65A0-4C12-9B3B-C01C9F15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B968-D273-45EC-B3EB-1B8E5C50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F08-2D86-4C98-9AAE-DACC708E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A58-6A1B-49A7-92B8-501D3F3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D74-A4B1-42D9-941E-1AAFCC27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C3C-D43F-4C66-8DE1-7B9C393E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CDB-135D-44BA-9628-277BDA2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350-744E-4FCC-A385-29CF7FD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1A5-5479-4712-AAC5-CDA60F6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077-B532-4EC4-BE07-282C0C2E5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7F31-8EF3-4F64-8C66-5287F6C41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ter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ter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3 – RAHA MAHANTRA MAHO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3 – RAHA MAHANTRA MAH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ahantra mahon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jo ady mifane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ir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sy, very tok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3 – RAHA MAHANTRA MAH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reo Jesosy fa mil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ny otanao tonto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lotra aina h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he manoloko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3 – RAHA MAHANTRA MAH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lah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ndalo fitsap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ahelo anao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tanao ho vah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3 – RAHA MAHANTRA MAHON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very ô ! Av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ahantra feno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matok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Golog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90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40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54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04:00Z</dcterms:modified>
  <cp:revision>61</cp:revision>
  <dc:subject/>
  <dc:title>Tiona Advantista</dc:title>
</cp:coreProperties>
</file>