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BCE-863C-4EE8-9B06-3AB087D1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E09-69F4-42AA-97E0-B002177C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C7A-37BC-4086-9C77-887DAB30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653-E885-4591-A791-632FCCAA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F72F-B854-4376-845F-554BCA7B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C611-EEB5-4248-B196-54DA0406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D20B-7288-4DDF-8910-DF9C316E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6A67-86D2-44BE-AE21-2FA27593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160E-ED6C-41DD-B23C-C69AD40E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DDB0-EC1B-489A-934F-ECFCA70F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5489-F290-4EE7-BAE1-02B452D8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E84-7211-4253-AB2B-A65557D1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36E3-6DC6-48AA-9362-117F7762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B85B-C98C-4053-8B7A-E0F4F659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852B-F8D0-4D2E-AA95-3F02DD22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71A6-6791-4CA9-BBE7-6224A48E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D7B6-B6CB-4FB5-B7EC-3853F468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CAC-87FE-4355-9C50-351F1F88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624B-F1D3-40A2-A60B-8F0107A3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56D-4242-4A81-A58D-80967FAB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9BC-D8BA-480B-9999-0E9A8C76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FC4-CCE9-4633-968D-3D5ED582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66C-00EA-4191-B394-CED92B01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68A-D3C6-4F20-98BD-5F59EE7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8260-F767-46E1-93CE-2947FB0CC6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650C-3485-4420-B30D-9C0438A2E0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ob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ob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03 – RY TANORA MISEH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3 – RY TANORA MISEH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anora miseh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rao n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latsaho ao am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3 – RY TANORA MISEH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very hev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-pitoe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angàna, mihazavà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andras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3 – RY TANORA MISEH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araoty re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toana ome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ely sisa ka vonj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fanahy mito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3 – RY TANORA MISEH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y Jesosy raha tet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ehana mit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y hanome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, ka matok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27:39Z</dcterms:modified>
  <cp:revision>86</cp:revision>
  <dc:subject/>
  <dc:title>Tiona Advantista</dc:title>
</cp:coreProperties>
</file>