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08F-FBB7-405D-8FCD-F586F4BF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03A-B38B-4747-8F7F-294D5852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18E-C8AB-435B-AFAD-4E31529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388-3D21-43BB-B2F0-8226A16B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218A-F198-45FA-AEA3-903AA3C9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565-6712-430A-960E-757C40E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431-0DBF-42F8-8F5E-96063189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944B-1171-4BEE-BF5A-F6B7B313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78DB-E6FD-4ABF-B0E1-EA109AB0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610F-74CB-4CC9-AB75-1232C34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5A0-45F0-4322-A7A7-15E3EA2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B2A-D4AA-4C5B-985A-D758FB7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8D0E-8C8A-4672-AE03-093F5FEE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2BD-0E2F-43C2-BC56-856BBBF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0EC9-AEC2-4790-8722-D6DBD2F0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885-8C3D-4618-85BD-E5F9E3E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193-35E3-4773-8F2E-5C4DE0C2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796-16B2-453E-99B7-31483AA2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FD9-E57E-46F9-9B64-17F3460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52C-816A-4419-BEA5-C098A6B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E3C-E569-4C78-B88C-FE30816D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4EC-FCF2-4544-8BC2-98398CA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76C-ABDE-4A10-A7A7-DFEB36A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760-6D08-4F85-AB8E-59B30CB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CB2-9861-4D5C-942E-97B3A344E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1B3-C419-4668-854C-517DFD80A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9 – NOHON’NYFA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860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8960" y="50547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9 – NOHON’NY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n'ny fahaso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ti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n'ny famindra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ranao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anandrat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hirako ity, ankasitrah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ba rais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entsom-pok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7860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78960" y="50547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9 – NOHON’NY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ISAN’ANDININ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sambatra ah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ena samba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tena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ena sambatra, tena sambatr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tena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ena samba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faka aho fa nafa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aleloia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778960" y="50547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9 – NOHON’NY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Andriamani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Andriamani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mpo ô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7860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9 – NOHON’NY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hotako ma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ba nafenik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tria Ianao no na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Reo teny fikas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raha mihaiky aho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torotoro 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ia vonona Ianao   ) 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Cho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hotako re         )              .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7860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78960" y="50547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Jeso ô niants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koa nifid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nanamari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anamasi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aiko an-kira ankehitrio Iza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ba henoy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, mba raisonao  )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Choe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hirako noe : )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9 – NOHON’NY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7860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78960" y="50547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9 – NOHON’NYFAHASOAV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tehiriz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ny hasamba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reto an-tany ka hat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nana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irak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rirako doria, doria. Ho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monjenao           )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  <a:ea typeface="Arial"/>
              </a:rPr>
              <a:t>Choe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aoko an-kira hoe : )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.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772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7860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78960" y="50547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872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872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6240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7:56:39Z</dcterms:modified>
  <cp:revision>76</cp:revision>
  <dc:subject/>
  <dc:title>Tiona Advantista</dc:title>
</cp:coreProperties>
</file>