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7DA-4769-4C05-A338-F9786571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BE1-6AE2-43FC-BFC7-CFDFDF02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6E7-CB8D-4453-A02C-A697CFDF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16A-21C5-49C0-AD13-04F5FDC3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5971-A3C5-4467-8D05-A8542CFF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5F2F-451F-4FEA-A201-5CDD8CD9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EC2E-F4A1-40ED-8A8A-E098ED8B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E394-1D95-49BA-81C2-8C264901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27F1-0F0C-49B4-9AF9-18F8B461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0A97-A6E1-41DC-8631-4B1A1258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76A9-55AE-4EEB-AA09-C8A33883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316-F1E6-48DD-BBEE-4960D01D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4948-30AD-481D-8DA6-EB44D2E5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E569-81FD-4755-98B3-E29BA476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504A-2CE7-475F-B256-A55A4C12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6192-7F9B-4C52-B424-C167D151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D033-FBA4-4629-939A-2D3588F9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0A5-C665-4A8D-A644-A538F612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E80-AE5B-47E5-84AD-60E403A4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540-6DF8-4F7B-A2F5-35B07A1B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50A-1526-4627-9683-CFF769BE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036-BA17-4D8C-B3F3-EDFEC59E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670-95AA-4BB8-9BBC-9EC1C46D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DBA-548D-47DD-96C4-4080F856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7091-64CA-4C26-A31F-E1D8947605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76F5-0955-49DF-9876-88E25F8D51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ichard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ichardson 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ff"/>
                </a:solidFill>
                <a:latin typeface="Arial"/>
                <a:ea typeface="Arial"/>
              </a:rPr>
              <a:t>TA135 – FAINGANA RY MPANJ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5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5 – FAINGANA RY MPANJ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ingàna ry Mpanjak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y ny lov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ingàna re mba h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y ho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 hampif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lahelo f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faho ny mij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azon'ny m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5 – FAINGANA RY MPANJ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 fa mis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y ny olo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jakana ent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mpo I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sy hitom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atreh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dana n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haleh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5 – FAINGANA RY MPANJ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drombohitra av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ohasah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ga ravora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tretrika avo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be tsy haka an-k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kely afa-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sy 'zay ho v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sy 'zay h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5 – FAINGANA RY MPANJ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jaka sy Mpia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ery i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renena ma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ky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laland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rehetr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ndra harem-bev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eo an-tongo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ingàna r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be fiti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lonao tra-b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hoe : Av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ny fide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ny laza 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ny fanjak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arahab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5 – FAINGANA RY MPANJ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5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8:19:13Z</dcterms:modified>
  <cp:revision>36</cp:revision>
  <dc:subject/>
  <dc:title>Tiona Advantista</dc:title>
</cp:coreProperties>
</file>