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0D5-3B93-48AB-87BD-D62AFA4B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EE3-8366-48BB-AC2B-6140023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987-2EAB-4480-A7A9-16060EA6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3D9-1BF0-4016-80F0-5616D35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64D-3C8C-477D-B7FF-EE2EA6A0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BED1-1213-4CFE-A973-CF4EFA5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0A67-F160-41D1-8358-23D75103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7E5-3707-4DDD-B6A4-3268845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4BF-B237-4E50-A67D-E415544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0263-D30D-4128-BDDC-A436F11B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8B3-CB90-436B-99A6-D1B4E0D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EEB-9D9B-494C-A720-97A2FFB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9064-0CF3-4273-AFFF-7DFE3B9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775-9442-4CB9-9FA9-26D0C08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2312-9852-4113-830B-D7E1F6F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F87-14D2-4F69-A45D-EA38E904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E60-B885-4819-9855-C00BAFB2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D37-9BBE-4FD8-BF9A-69A3016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B5A-18BE-4147-9630-4AB9AC6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425-3AC9-4360-AB81-06F43E6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90E-C8B2-4C35-AF9C-083DDE47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824-4092-4831-B950-7664CD5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275-8483-4755-B269-3348FAC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D86-3624-4C3D-8D9C-4C67D7C7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C2F-6981-4D27-AB4C-9CA82C5B3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978-12A3-438B-A4A6-9A69915813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raha-m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Billie Hanks JR.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5 – MISY ANTSO RE AO AN-T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5 – MISY ANTSO RE AO AN-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antso re ao an-tan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tso mitaraina mafy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feo toa sasatra sy 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iantsoantso hoe :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iavaka, re 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iavaka, toa feo farof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5 – MISY ANTSO RE AO AN-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ika mitokana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n-kevitra mi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tsiaro fa tsy mana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ingy menatra hi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miavaka, h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afaka ato an-tsa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5 – MISY ANTSO RE AO AN-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so iray mibanjina tsy mi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vonjy, te hanat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lo-miala voly nefa 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sin-doka, tena ank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vavaka mat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tsy afaka fa voagej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5 – MISY ANTSO RE AO AN-T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tonga hanome n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pahery sy han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aino antso, vonjy sy 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ome ny valim-b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Kristy, miants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ireo mpania toa ahy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9:55:02Z</dcterms:modified>
  <cp:revision>89</cp:revision>
  <dc:subject/>
  <dc:title>Tiona Advantista</dc:title>
</cp:coreProperties>
</file>