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30D-256E-4435-A747-59778115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9A9-B1DF-4A1C-A89F-7A57B756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8BC-2ED3-4D4B-8548-90D053B7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059-53DD-433A-BFDC-61163E9B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7CFC-96AF-4325-A216-98D981C7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F999-7E18-48F8-957B-EBDD485C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446E-3ADE-4CDE-8621-F750E3A1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1983-9595-4800-82BC-78F39FB8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33E3-9017-4D51-883F-6A25C748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19FC-6DFC-409D-93E8-0696586A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E5F7-9F78-4C64-A3DC-56A5CA1B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15D-6DB5-49F8-9CB8-07D81B6F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B0EC-46A3-4AB9-AAF7-F89F3F94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F05D-4908-4BA0-965C-DA2156A5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BDA7-202B-42D9-863D-04512C55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9744-0B16-4441-917B-E6DAE98B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69DA-D4F9-4367-B895-22E66E94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92D-DD47-496D-8337-6EB7BA35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9A7-5A97-4126-A78B-3F35D3BB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FEA-5301-41D3-9483-1C6E2C2C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D0B-CDEC-45F3-B8F2-89C952BC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7C1-09CB-42B6-8EB7-B1E988AE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557-C56B-4DC0-97DB-A412F7F7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A4B-3EBA-42BF-A527-E15B670E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B494-A735-4DEC-9121-A3301A0828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CA5F-8BE8-4A68-B05B-C3E63FF8E1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88 – JESOSY MPIANDRY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8 – JESOSY MPIANDRY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Mpiandry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tso hoe : « Avia »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dira ao am-b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ondry 'zay n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Aza ela sao 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renao ve ny fe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sarotra aza sy t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lalana mank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8 – JESOSY MPIANDRY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tso anao amim-p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Mpiandry tena mahafatra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isy azonao and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ony 'zay ti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8 – JESOSY MPIANDRY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Mpiandry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ty ho sol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nome anj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lov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ingàna sasa-mi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Tompo mora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mamelatra sa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ray 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8 – JESOSY MPIANDRY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misalas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isy bibi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evoly mpankah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kendry 'reo mp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'Lay Mpiandry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tso hoe : « Avia »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on-kanolo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monje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4T07:32:31Z</dcterms:modified>
  <cp:revision>90</cp:revision>
  <dc:subject/>
  <dc:title>Tiona Advantista</dc:title>
</cp:coreProperties>
</file>