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513-DAF2-489A-83E0-E01B2587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49F-A175-4ECA-A0C9-58B46BAF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2F4-A0FB-4AF3-B586-F694FB3A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DAD-1972-40BB-BD23-B9841F00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717E-853B-44D2-B6BE-1F1649C6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545F-CC2F-48E3-9530-00FBAE5A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687F-35A8-4819-9F43-46895A24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58A9-D290-4B66-A599-B611DDC2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0929-42D5-48B3-B1CF-1929AC26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FB9D-358C-4CBE-A84D-0EE5CA09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B250-6554-43CF-B4CF-BEE131FB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526-EB59-4862-AB08-1290CC66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223F-276E-47DB-8CEC-6031E47D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43F5-1A2C-4CF0-B3C9-9EEE2EC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EC02-6935-419C-AC8D-25B24259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B2DE-1495-4D5B-9AE0-B778127B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A6E6-268E-4C6D-B8D1-14CB4380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9FE-A235-433B-95C7-2F55F39C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8BF-2763-4F5E-8ADF-40954BD9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5E5-8320-4A57-B964-93163CD4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4E3-2C96-49FE-A396-4A643452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A46-A25E-4F48-BA79-10203F2E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EC8-33B5-48B7-8E9A-F068808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3F2-7209-4E5D-AA7B-7C5EB05B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5B3D-F9B3-4E40-903C-845C954ED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B8D-42A3-49EB-A331-738C3D346A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99 – MOA FANTATRAO ‘LAY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9 – MOA FANTATRAO ‘LAY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nt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monjy ma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 namo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iny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ny v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erina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-danitra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052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9 – MOA FANTATRAO ‘LAY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y dia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nao 'zay m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manat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nio no foto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052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9 – MOA FANTATRAO ‘LAY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ntatrao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me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vit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aza e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ho sa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ra diso ao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n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052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9 – MOA FANTATRAO ‘LAY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nt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njaka ho 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ela ints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la ny rof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ento, ny ad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ditra 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anitra 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1496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000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1496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0524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4:23:35Z</dcterms:modified>
  <cp:revision>31</cp:revision>
  <dc:subject/>
  <dc:title>Tiona Advantista</dc:title>
</cp:coreProperties>
</file>