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959-35B4-4F68-94EE-D109B844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DB7-9890-4283-A10D-56C133B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67E-2609-472A-9BB7-5E5E1024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BC4-9BF6-42DD-91D5-68D2B035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DD64-75FC-4C78-8059-DFCE893B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DD9-3E7E-4EF4-93FA-C3690A2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09E-CCE5-46BB-AC32-C16D084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1AC-0CF4-4987-A72C-66679E89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D28B-65D3-439E-9454-4E76924C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E0E-74A4-4A35-8C46-A055B9B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E5C1-66E7-4F2C-84A5-9F64810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00C-592D-49FB-9B76-1C77C7A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38FF-A7A2-4575-A9D8-25B9F3F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1522-A3B7-4B44-9459-38A77364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2365-670F-4B0A-BC3B-B29653A8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2D36-2F83-4C6C-A3A1-CEE19545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0200-5A7A-4344-AC7E-0AD6BE9F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A92-FC9F-4795-998A-48D69C94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3AB-A239-497C-9802-F59B5005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9B8-2C57-4233-8C5F-78465C1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AC7-2673-4932-A13C-B9277FB6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AFD-C6A9-49BD-9693-AE681BA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C1C-F9F0-45F3-9C15-0190CE4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9C9-001D-4CCB-9D74-A8246FE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390-B86A-4A85-B206-53B51B2690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CF6-CB07-45FC-987A-EA78CBD0DB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rs G. H. Morr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30 – Ô ! TENY FIKA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0 – Ô ! TENY FIKA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eny fikasana so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itarika ny la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y no mamp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omba ny f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0 – Ô ! TENY FIKA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Sambatra ah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etraka amina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ko Mpamonj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t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Ianao nis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hotako mar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0 – Ô ! TENY FIKA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nao mitazana ny d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ina atolotrao, mita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minao no hitod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no ma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0 – Ô ! TENY FIKA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tsy hitako izay homb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izina ny eo alo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ao no he ! Mi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hataho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hasambarana sy 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mpoka izao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na Anao ho z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hatra ny lal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30 – Ô ! TENY FIKA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36:59Z</dcterms:modified>
  <cp:revision>45</cp:revision>
  <dc:subject/>
  <dc:title>Tiona Advantista</dc:title>
</cp:coreProperties>
</file>