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1FD-C992-4204-BA60-FD73C391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E48-C446-4D07-AC56-01C0017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DA9-456A-428C-A3BC-C20219AA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331-70EB-429C-90B3-9FA4E720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D920-136E-4A8B-B920-ED8D407F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6CA4-C55E-4FD3-8B1D-1AC44D74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3196-E949-467D-A792-576F5670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7FCF-D5DF-42FE-BBDC-2C7C8B13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BD31-1440-4D4A-BE96-DBB147E8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5F3F-C868-4C27-8172-0F87BD15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478E-EF29-44A4-B174-FB66D1C8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45F-3D76-4D4E-8F43-A9CE5E60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6F47-4C8B-40D7-8327-D8FFBC71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41FF-315F-47B8-99C7-7D17DF2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D56C-46AA-4F1D-9965-F10B680E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09AA-913D-40CD-83BB-6BB5DB29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1A63-1FF0-47B8-A6E8-E8F44BDB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834-2F33-4A42-9053-08D3B7B5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9B3-571B-4305-960E-BC3A90C0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5C7-B55D-4157-8CFF-4A0C8D38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C41-2EE1-447B-9689-B0FDC610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0FB-012E-4800-B64F-95B9504D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245-9B55-4E45-BDB5-1699064D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5F0-233A-4872-BAD7-591C191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F54F-8F27-48A8-AAA9-E23C2CEA8B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D4A6-F4C0-4870-83F0-3CF54980B6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ortnians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39, DLG46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91 – HE! MORA RAY NY ZIOG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1 – HE! MORA RAY NY ZIOG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ora Ray ny ziog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ny did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sara sy m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mpio fa hanka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zava izao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aro tsy h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hiratonao ny 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toava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1 – HE! MORA RAY NY ZIOG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sarotra ny did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ny nate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dresy azony 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ank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o tsy mam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no tok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kivy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ampaherez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91 – HE! MORA RAY NY ZIOG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von'ny ot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fahan'i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e, lova no om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'ny Fanah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Tompo vinitra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namelok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Rainay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antso ny 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91 – HE! MORA RAY NY ZIOG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sarovako ha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ny did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tandrina i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taok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hitsio re ny d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to ny te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o no hifal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hiono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33:49Z</dcterms:modified>
  <cp:revision>40</cp:revision>
  <dc:subject/>
  <dc:title>Tiona Advantista</dc:title>
</cp:coreProperties>
</file>