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751-B5FE-42AA-A633-C4B68265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1E5-A899-4B5F-B1C8-155A69E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DEA-B2E2-4BD0-9ED0-45FAEC80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83B-A246-48D8-A031-E5058C11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A0C-D04A-4ECB-ABA5-F3C25227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BA9-7831-4B50-AD5D-A768ECCD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DF1-6A01-424F-896E-B73E2EC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BC1E-79DC-4252-BDE4-B03AAEC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3547-1C4A-4410-999A-0B38094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560-46C1-4726-A6BE-F1BCE2B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F8C-B195-47CC-8F28-13134F5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241-6A0D-454A-A6B6-7DDF3CC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00EB-6BA5-4F3E-8202-2E81C0D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EB02-EF8C-4FB0-9E36-22BC172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DE88-FD5F-41F9-8845-C2E1FA0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A8C-7BD6-4960-9145-E0F6B3A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DC0-7252-460F-83FF-DEEF9EAB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ABA-3A5D-45AE-9156-389E26B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9F7-C81D-4D97-B9B9-5581A2C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68E-EF80-42AD-8AF2-ED17B1C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356-9E93-4138-B23C-2CC9AE2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24E-E9BE-4E20-968B-F01C729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385-0CA4-4A5A-81B0-04C5DDF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F4B-1F8F-4FC8-BB99-2468062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8475-218D-46DC-9AD4-9D1632FCBC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626-7A8E-4DBD-BB46-1DF16D76A9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7 – EFA MADIVA HIF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7 – EFA MADIVA HIF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adiva hifar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taran'ity tanin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disadisa, antambo m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dy sy loza ho tapitr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havaozin'ny Tompo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rehetra ary izao (kanef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fantatrao ve fa kaly s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laozanao ny ady mafy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7 – EFA MADIVA HIF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vita mora ny famonje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kosa indro om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nio dia ho ts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robidy to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no ho lo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riana tsy ho fantatrao (Valio re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sitrakao ve ny ho tafit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o ny famonjena efa vi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467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7 – EFA MADIVA HIF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finoana ny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fidinao fa tsy ter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ina koa ny fahare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Aza kivy, ho mpandre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rana 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angana tokoa ianao (Hider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nandra-peo sy hankalaz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&lt;&lt;Indro fa tonga Ilay nandrasana.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70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6086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7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20:03Z</dcterms:modified>
  <cp:revision>54</cp:revision>
  <dc:subject/>
  <dc:title>Tiona Advantista</dc:title>
</cp:coreProperties>
</file>