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654-5761-41DC-AA2D-DC28B71A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946-8632-48CD-B95C-46185E8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54E-93E1-45FD-AC0A-214425C4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255-B483-4A40-B617-0D63CD15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CC20-12FC-48DE-BA34-8A9E5286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16DF-E4F6-450C-ABAA-B1A23CE8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208-30F5-4B83-8FC8-A9D61C21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957F-2726-422B-90E1-2E41139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FBF-C7D0-432D-88C9-6A862003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A46D-C7F2-48FD-858F-AEEB3F5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48B-6A62-4880-891E-9D6976CD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B4C-F249-48F7-A50E-4A1A3FF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39CD-1ED6-41D1-8CDB-FADCE14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24E3-B869-4D62-96B7-56A0D14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D67D-73C7-4DF9-9B61-E2C4BDE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B1A0-5EA2-4A00-B668-EE7928F8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CEC-549E-49D1-A930-50483B2E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24D-59CE-4FE4-8273-7D6DAAC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518-CE53-4DA1-9B35-553CA47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814-19CA-452B-B1E8-474E4ABF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FA7-64C9-479F-A987-FAB37A51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B21-19D9-4AE3-983B-3A5AF97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7AD-561E-472F-BD39-4A40253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0FD-10A4-487F-AA4A-D82D8A1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7A0-6B80-49D1-A26C-BB3CFF93FB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FBE7-4230-47DB-9CEF-8D4894E2B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60 – EFA NAMPIOMANA AHY SY IANAO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160 – EFA NAMPIOMANA AHY SY IANAO KRIS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ampiomana ahy sy ianao Krist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Indro avy faingana Aho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jinjaina sy ho tsaraina ny olona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Indro avy faingana Aho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eto amiko ny famal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Indro avy faingana Aho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liako irao nanao na tsia ny sitr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Indro avy faingana Aho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160 – EFA NAMPIOMANA AHY SY IANAO KRIS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dro avy faingana Aho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ly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dro avy faingana Aho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mà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160 – EFA NAMPIOMANA AHY SY IANAO KRIS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y manasa ny akanj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dro avy faingana Aho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nitra no valin'asa 'zay ho az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dro avy faingana Aho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tivety, kely sisa dia hifarana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dro avy faingana Aho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jely alin-kisa no hanandram-p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Indro avy faingana Aho &gt;&gt;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2:42:41Z</dcterms:modified>
  <cp:revision>37</cp:revision>
  <dc:subject/>
  <dc:title>Tiona Advantista</dc:title>
</cp:coreProperties>
</file>