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F52-6BB7-4C31-A035-E4BEE4D3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33A-867C-48D0-B5F2-6D52F8C9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51F-9239-404A-8A7E-3DEB0380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265-1AF2-45A1-88DA-6B7B1FC7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DF6C-0947-40D9-95FB-6F39A14B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1085-6E0B-4EE2-98D0-A0BCC2E4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03C3-48C7-4A31-A87A-5C22D2E5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3747-2F65-4B7E-A826-21F07957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60B3-9264-40D2-B6B5-7CC0D33F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3853-E6D7-40E9-AFB0-4BDB1D40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0B97-FA93-4B9E-B812-ABAC092E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13D-6F81-4ABF-AB8E-951FC4BC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D486-59A2-46B3-8443-EEB48174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8C41-EA4C-47C7-930B-A1D3BF26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BC89-1FBF-4356-BA1B-ECDEBD4E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637A-6105-4197-AA1C-C9356496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A40F-632A-426E-A62C-A0A1236B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401-F2A4-42E2-AE8E-E0282276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A5B-F5B6-4020-A1E2-86D2ECE2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2F0-FD64-4ACE-8864-E878C7FB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857-8A8E-4B6F-A827-1317B93C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6C3-70AD-44B6-8104-EC2DEF17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59C-D315-48C6-A193-D36E7E76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135-6383-4560-A8A3-0AF0D8F0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CD55-77F1-4B55-BD92-3E32871C4A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B96F-72D2-4B4F-A2C2-CC4BD95785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Andrianaivoravel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edhead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5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34 – RY JEHOVAH TOMP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4 – RY JEHOVAH TOMPO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hovah Tomp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lom-ber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tsy mba fo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vonjen'ny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4 – RY JEHOVAH TOMPO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nahary Aba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Kristy Hav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 Kristy Hav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4 – RY JEHOVAH TOMPO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ehibe ny indraf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 re no nana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monjena tami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jo azonay iz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4 – RY JEHOVAH TOMPO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Gaga izahay iz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Be fitia I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otr'aina azo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dy aminao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ô, Mpamonj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pamindra fo tok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ny navot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dera Anao  iz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4 – RY JEHOVAH TOMPO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8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2642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6026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3840" y="445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8:15:08Z</dcterms:modified>
  <cp:revision>36</cp:revision>
  <dc:subject/>
  <dc:title>Tiona Advantista</dc:title>
</cp:coreProperties>
</file>