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09B-3748-42C2-805B-63F312F5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C12-B0FB-43F1-B5F9-6AC955D9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04E-1BC0-405B-BC25-39C4B1FC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ECC-3DD3-40AE-80AE-18C211CF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6C20-029D-4048-A3F9-D9D5E699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56E3-9B3B-4F3D-8A29-D4C4C7A8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E635-38B3-4F20-98CA-212FFA05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69D5-E5D0-40CE-9A65-9E9C3FC2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6722-61F8-4C81-B7BF-6E079910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493D-22DA-410E-9231-3B143DA4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CC1B-4DA9-4254-BEAF-627B0A0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B14-CE8F-4F8B-8D93-6C2B0B90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26F2-115D-43D7-9D53-4ED2E103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CBCF-48AD-4DAD-A36C-F8F2BAAC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8831-1B58-4A9E-8549-2ECF5F63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86C5-B27A-4285-828F-CC2E32A0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1EC2-49DD-4C65-91D7-422A713D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B80-FF1E-4C1F-AE3C-910AD17F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F18-CADC-4C65-A048-9E6C4E6E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6C2-7FDD-4C0C-8C1A-31D8935E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48F-935C-4F97-959A-4B964E80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299-BA88-458D-9AA1-E232047F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149-9D07-4E58-8B70-B6D328E1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CC9-5456-4253-BC3B-58097BDE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583E-30CA-4950-B400-0BAECDDE0F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46DC-DA2D-4E71-BB0E-0A18AAABEF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61 - O ! ANARANA MAMIKO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Jeanne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Jeanne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461 - O ! ANARANA MAMIKO INDRIND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Anarana mamiko ind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nto loatra, tsara sy mi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nolorana ny famonjen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ny anara-mas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461 - O ! ANARANA MAMIKO INDRIND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ô, Mpamonjy tena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'Zay Mpitantana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, raiso hanjak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ny foko re ho lap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461 - O ! ANARANA MAMIKO INDRIND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sendra andro mibali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ramiran'endrika, sari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La anaranao tsy manam-paha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deraiko fatratr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461 - O ! ANARANA MAMIKO INDRIND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ho avy Ianao, Mpamonj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ifarana hatreo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 ! Jesosy, 'Lay anaranao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anjarak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2:36:26Z</dcterms:modified>
  <cp:revision>118</cp:revision>
  <dc:subject/>
  <dc:title>Tiona Advantista</dc:title>
</cp:coreProperties>
</file>