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E9B-A2F1-4827-B213-1C0C71D0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357-70CF-41AA-9223-80862FA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EC8-E494-48D3-A126-D427D6E4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713-B8B3-4179-B7B4-AF77A634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D300-0938-4983-8BA0-08E00A79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E071-F374-47A9-BD11-36D097C5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0E63-68BB-4116-801F-C86218A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161C-263E-41D6-9229-9894593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CC38-364A-43DB-8C2E-B683F2A9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9A00-F35D-4F78-8A07-6FA34DAC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0342-EF30-49F6-90A9-A68187C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727-8D15-4A46-AD15-04CAB187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A06E-5C99-4D26-9C3E-8F934B1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0B9F-6052-42B3-B159-9CEB303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2B6E-0DA3-477B-A9AD-6AF18A1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22A1-D9C2-44C8-9E7B-84B29A0E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2AA3-5975-40FB-BE9F-49820C39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4BF-1838-4BCF-817E-794068E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59C-C393-4040-A373-DD2347B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267-4307-4695-BFDE-037B3A3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164-7F9D-4601-B1B6-89A15C2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CEC-CE75-4D48-AB9E-520821DC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16F-B018-4BFA-9B59-FC578D3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82B-38CD-45F0-9A6B-EE70553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979E-D398-486D-832B-1AB6E37591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014-1370-4E45-B565-29B215B8B6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8 – IRIK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8 – IRI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ny ho mpian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hanara-d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hijor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ho tonga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8 – IRI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tro anio, ho Anao tsy misy f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tro ho Anao ny tenak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ompo Anao, hanao n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ao manontolo ka raiso 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8 – IRI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ny tsy hisalas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, hano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, ry Zoky Mal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ny hankat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8 – IRI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manomboka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ny foko, ô sas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iriko mba h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ko Jeso ny ho mendri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41:52Z</dcterms:modified>
  <cp:revision>87</cp:revision>
  <dc:subject/>
  <dc:title>Tiona Advantista</dc:title>
</cp:coreProperties>
</file>