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AD4-DCA7-46D2-9047-F69CB7E8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475-94BC-497F-A2F7-6C316C9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3F4-628A-4656-8647-F313692E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9DD-9696-4E8A-ACE5-6DE61C7A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0068-332D-4757-AD41-9CA7A079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3FE-C52B-44D8-8FD7-405A733D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313D-18E8-4233-A52F-E4926036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60C-674A-44CD-BA69-857E2F62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604D-134F-4073-B7E1-31110970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115-BC38-4536-8D8F-A08B1C7B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7556-F27D-40E5-A5BA-A7BCBF5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647-F7A0-4EAD-8431-4F0C2D63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A484-E6E7-4B82-9E9D-25CCC33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FCD4-6109-43DB-A8A6-3111BAA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424D-90A0-42AE-B9CB-A71A59EF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58DD-28B8-4FDE-AA4D-6476B97D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88E1-8511-4D8D-BBE4-1FC0D483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67E-BF78-43F6-A3AB-F2CD9BB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E92-0CA8-4B89-BC68-093394A0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325-D7C6-486B-A0B8-5AA4C39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057-E88D-42F8-A41F-2B262A63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5F9-5AFA-4DE9-9024-DDC0C681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431-251E-4F73-B690-55C9779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889-7CA4-440B-AE3A-062C0C81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90E-CDE9-4149-BC70-1DD5E71139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8CE-5042-498F-8DE1-4AB06E4596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2 – MITSANGANA KA MIH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2 – MITSANGANA KA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 ka mihazavà !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 ka mihazavà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nga ny fahaz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efa miposaka ami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2 – MITSANGANA KA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 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avan'i Jehovah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posaka amin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minao ko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posahan'i Jehovah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pazy manodid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nao ka mba jere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renen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nkat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2 – MITSANGANA KA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1628640"/>
            <a:ext cx="914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 ka mihazavà !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 ka mihazavà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nga ny fahaz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efa miposaka aminao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2 – MITSANGANA KA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renen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nantena an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minao kosa n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posahan'i Jehovah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no vavolomb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ny Hazavan'i Jehovah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rika ny fire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zo ny lov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8:44:01Z</dcterms:modified>
  <cp:revision>63</cp:revision>
  <dc:subject/>
  <dc:title>Tiona Advantista</dc:title>
</cp:coreProperties>
</file>