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7C0-B6C5-4151-BA7E-4E54AA5E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5B98-B6FF-457D-A145-32C1044D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788-9CD2-44DA-843F-62A88AB1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37E2-5A4A-44BF-A88E-1A0B6781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479E-7DD2-423C-A500-FD3D02FC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F9FD-1337-4956-BB44-3FBCCE1B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A97C-F209-48F2-A640-685CDE50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0FB4-C3CF-4918-B9FC-72B188B9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FF73-16CA-4F51-A869-DC0CC2E3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F2A3-93EE-4B9D-A87D-2B3BF82D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86FF-2B72-4F86-9A3E-C7FBDDA5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0DB-2D7D-4120-A86A-1EC005D2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92C8-016F-4EBF-A107-2D4F1B10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BB83-7342-4420-9DBB-25E7FCF1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4C63-E61B-47FA-9984-487EDA85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93A9-21B7-4087-B794-2FB97CA6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8108-CA97-4C0B-82B0-7DE8E157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F42-D2DD-460A-B83F-29461EC9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1018-7500-4432-98C9-C58DA902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EC0-4E8C-4EC5-B10D-C33C9AC9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1CD-E58D-44DB-B250-9EA4F1F7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C631-CCD7-4B3B-A927-F9C016A4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F83-9114-4375-8EF2-01E62671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183-1A43-4679-87FA-6D57C58B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4F84-E846-45CD-9899-EF621976BD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3747-27E8-48F2-B606-91AE72AADD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o amin'ny fiangonana, fandev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71 – EO ANOLOAN’IZAO NOF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1 – EO ANOLOAN’IZAO NOF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oloan'izao nof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ay misaotra Anao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bola velona sy to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ao koa ny ota mar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malahelo nohon'ny fisarah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havana malal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ay, ry Ray, ô ! Mamah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teny natao ho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1 – EO ANOLOAN’IZAO NOF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erinay ny nofony ho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tany nanalàna a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o no hiandrasa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ara-panangananao az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hefa tonga any am-parany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ndra fandresena ho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aneno ny trompet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tsangano koa 'ty hav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1 – EO ANOLOAN’IZAO NOF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ô ! Ampionon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o ny fo hanomp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y adidinay dia mbola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amin-kavana s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 ! Aoreno ny finoana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andrandrao izao ny mas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jery ny fiav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ondra famonjena ho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8:51:01Z</dcterms:modified>
  <cp:revision>83</cp:revision>
  <dc:subject/>
  <dc:title>Tiona Advantista</dc:title>
</cp:coreProperties>
</file>