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CB04-979A-4C00-A07A-1F1D7F5B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DDF-ABC7-4EE0-A604-454D9231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3FDF-684A-4F29-917B-2694B547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D8F-902E-496A-AB1E-7F2069DD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C714-060E-4FBC-B650-6D250E2C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0219-6737-4B5D-9482-2F24B9F7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39C7-0DF6-47E1-8A16-5508D597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33D2-C574-49A7-B716-79AC1AE6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D159-A29E-4A17-AE2F-B3D5D5EE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AB50-4299-4CAF-9760-5F5CE38E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EAD5-FC36-453D-9C8A-870B1076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B88-4C15-4696-B0F0-0D79E6E7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CA64-5C44-4913-B974-FA8DA78A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A6D3-F3E8-4434-8105-9BF85405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B12B-A170-4B94-AD9F-AAAED15D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99F4-FBCC-44F3-A5C9-6A1FEFEB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203C-655E-4BA2-BC05-E53CC3B3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207-9E9E-4878-B3B9-94F12CF1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F5C-2F3F-48F6-9FBE-D4AD7A01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DE7-EE04-4BE5-82E2-244A1163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655-4B3F-4B20-BA29-22950B08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3EA-97AB-47D1-8C07-51B92757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4978-135B-419A-904A-FD38D3B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BD1-FD7B-487F-9C43-D85B02A7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ED8B-021C-4ECD-8B14-9913AD42B2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AFD0-1845-4D51-953D-82186E6F51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bebahana - Fiovam-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r. Ga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28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82 – RY VATOLAMPY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2 - RY VATOLAMPY MANDRAKIZ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Vatolampy mandrak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korianan'ny aina ho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! Mora lavo aho, fanta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lona, nefa res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Ty tamy aho ka rais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Vatolampy mpanis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2 - RY VATOLAMPY MANDRAKIZ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ovy ny fo, sasao, Tomp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sino fa mahantra 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ovitra ny tanako f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anan-katolotr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Vatolampy manolo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ankina amin'ilay 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82 - RY VATOLAMPY MANDRAKIZ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ketraka aho, tohan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a amin'ny loza ko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Vatolampy 'Zay voak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tsy mihontson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an'andro, isan'o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ao no hieren'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09:12:22Z</dcterms:modified>
  <cp:revision>67</cp:revision>
  <dc:subject/>
  <dc:title>Tiona Advantista</dc:title>
</cp:coreProperties>
</file>