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32B-4AF6-42C9-A519-72C4F991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5F8-4E84-442D-813B-552AA750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983-75F4-4836-ACA7-56D5885E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9E2-FA0C-4245-8711-5578B7BC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E63F-1954-4167-86B2-393A661D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DEC9-745E-480F-BF83-4C5494F5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0C10-75D4-4BDE-B932-3999B52E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0138-07E6-42B8-AB8E-89C9F89B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63E4-214F-47D1-A642-D842F463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14B2-8C2E-454A-8E10-099CD307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67F7-3FDC-488A-A3ED-76D65C3F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546-AA6A-4702-9B04-BD3FF4D6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98F9-35C4-4A64-96CC-09E8AB87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ACA7-72AF-4688-888E-9A981BDF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DE2E-2079-4919-B173-24910F8A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B3AC-3F63-4A3A-9087-3774E461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9D84-D7D1-4509-964B-2DE9045C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BF3-E393-4D5A-898A-5BB5F2C0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BC0-A964-43CB-A171-7C8FDD04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00C-BD6D-47F4-9EF4-947D0957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394-5B35-4248-9156-54A7D6A3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85A-1432-4BA9-9762-034AD23D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5FB-7958-4550-A4E1-4A4402DA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E82-4DDF-469E-A322-ED05ADB4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2E00-4977-4806-AF5B-0507416B2A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6149-F375-46E7-A497-91D26A5694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nitsanganany – ny niakar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Gaithe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07 – TONGA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7 – TONGA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Jeso Zanaky 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ntra sy namonj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y Izy fa natsangan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marinany 'zay nifidy ny soa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76276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7577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7 – TONGA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o antoka ny ho av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elona n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hotro ho lasa sy ho l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inan-t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ny voavon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6276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577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76384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7 – TONGA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y ery ny zazak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ombelo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manahy vel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trika ny ho av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na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6276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876384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9T08:42:57Z</dcterms:modified>
  <cp:revision>33</cp:revision>
  <dc:subject/>
  <dc:title>Tiona Advantista</dc:title>
</cp:coreProperties>
</file>