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8E7-5B09-46C3-A972-C99F7C73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ED1-C68F-4C87-A7BC-71956D15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BD7-BC26-47C5-A147-9A4F07FC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3F0-0557-427A-A0AD-B9D8BBA1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E6EF-C611-41A5-8982-9EA65130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AD18-1A97-4C38-9DEB-7FBE8295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B75-6D1B-47E3-8DC1-F3C32ED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2C0D-4B79-485F-AB69-55112867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E7AB-8398-4E70-B3DE-88951A99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D92E-A36E-43C8-AFC0-6214C6E3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F70-F621-4265-B0AA-BBE1BA7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0DD-50CC-43A1-BCB0-BE95317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ACA7-4493-4AF7-BEAF-99559AE7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401F-78A6-4808-B06B-B9C93E61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35BA-8E74-417D-8D8C-77CBBFF9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C61-7117-46B8-898D-83626B48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8E7C-04DE-4D15-B0DB-F4BC5595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E83-DC8B-4EB1-BBE8-8383B25B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BF5-DD7C-47AC-9D03-19789FB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410-B2A1-4BDC-8C16-4A9A1AF5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235-E4C1-49A1-8949-FFB912B7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F53-76E5-4426-A51F-12DA9E78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960-9382-497F-9807-5F8F3A19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4E0-298C-4C14-AFA2-0841DCFF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A7E-4214-4A2B-9ECC-754AA390D8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366A-7692-47C4-8C90-15E1F82D6C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. Swen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FFPM44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2 – RY TOMPO Ô ! TARI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2 – RY TOMPO Ô ! TARI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 ! Tariho ny ondrikel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no sy vimbino hanao ny sitrak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isy hafaliana, dia taomy mba ho ti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endra fahoriana, sakano tsy h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2 – RY TOMPO Ô ! TARI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Jeso ô ! Tazano ny lalana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riho sy tantano ho ao am-bala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 dia mikasa hanolo-te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enina ny lasa, hiezak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2 – RY TOMPO Ô ! TARI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 no hafaliako, ny foko las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aminao no tiako, hatao n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roko rehetra, atolotro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o tsy misy fetra, ka raiso, anjaka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4T08:34:13Z</dcterms:modified>
  <cp:revision>78</cp:revision>
  <dc:subject/>
  <dc:title>Tiona Advantista</dc:title>
</cp:coreProperties>
</file>