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EF2-DE13-4A0E-A0B8-16E53943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BD4-E64D-4FA6-82E0-6CAD2C2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2BA-C5FE-414B-8D5A-12783525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02B-102A-4518-89BC-E11433A3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9C0-70BB-4E68-923B-7EEFCA0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67A2-65DF-4254-BF89-4F5B2FDA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2D0C-0049-4E9E-B3EF-EEDC8F01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B01-5E1C-4724-89DA-382A369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01A-8EA1-484B-8F9D-06B21304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EA9-9319-486D-9344-614FAEE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460E-420E-4169-BFDB-981583A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568-6904-4679-A6E4-A0BCFA93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8947-D667-4DCC-9EF3-E93C6F6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EEA-F1FD-49E1-A2FD-BDCFB20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5F4F-11AD-44B8-89E6-9937960B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E28-8E08-490E-867D-7F35C7EE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4F78-7413-4683-8CC6-EEA4D13E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DEB-0127-4BF9-8AA4-23FD282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5DA-2326-4892-83A4-01CBA56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DEC-2F77-4250-9202-1F2816B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DB1-2385-4D3D-8543-AD179322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609-7CDF-4DF3-850F-320F9C6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F0A-ECA9-484E-AF62-F09843F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C4F-27E4-4AD2-BD59-6905E7A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B17-73F7-4EF3-BF59-5545616E5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421-CF12-4218-BC5C-F240007CB5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Descham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2 – ANANANAO VE, NAM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2 – ANANANAO VE,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nanao ve, nam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ky sy fanante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hery mah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 Vatolampik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dia ti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da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resy re ny faho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2 – ANANANAO VE,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kivy maf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be re ny fah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tapitra ny fifalia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isy fionon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dia ti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vo er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Velon-kira fihob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2 – ANANANAO VE,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tako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raketin'ny ho a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nao miravira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isy hiantehe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dia ti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'za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ako ao amin'ny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12 – ANANANAO VE,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re, ry nam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sy ekenao manont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anao Ilay Mpiso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nao sy ny ahy k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dia ti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ny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ani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vonjeny ho dor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31:54Z</dcterms:modified>
  <cp:revision>61</cp:revision>
  <dc:subject/>
  <dc:title>Tiona Advantista</dc:title>
</cp:coreProperties>
</file>