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D3D-AEFA-4ED7-8573-6A2B241F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A72-F117-4373-8F8D-FA5603AF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30E-D70A-467D-8E7E-21BEB871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FEE-467F-49FE-8D7A-FBB21959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C209-1C93-4181-8BD9-5E16E7BB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9D3E-BEAD-4535-B7D7-120C1175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DAAB-03EE-4B7C-9C22-49904520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BB33-6580-4F12-93C6-0AE08E2A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7083-9D20-48D3-9B4F-E89DFB8D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40C9-3E15-4C7B-BBDF-C234943D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0AC3-1C26-40AE-B8EE-FFAA1158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0D2-64E3-400F-948B-91D63EB5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EB6D-984B-445F-AE16-9ABA1026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BF40-C3F2-43FD-ABE8-8090960F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770E-F3AB-42BB-A593-B725E1FC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434B-B3FA-49F4-A017-BD98D280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F5DF-F8FE-4FA9-9117-6C119738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593-908C-43C4-BC96-4A414B1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C76-27F2-4C8A-B0AC-EFCD3221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754-1D11-4260-9495-D9E132D7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EDF-1487-4DA2-81E6-122FE907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1AE-590D-490A-B1ED-D38DBE22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A75-8A7A-40A2-9339-14B9FEFA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CD5-9201-4593-8E0A-121BADEF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0C64-829C-4B9A-9090-865D0A9182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B777-4DAF-48DC-9CE6-7D53C8F135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Philippe Rajoanes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V. Bethov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48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15 – JEHOVAH Ô! IANAO NANDININK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5 – JEHOVAH Ô! IANAO NANDINIKA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ô ! Ianao nandinika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antatrao ny toe-piain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 sy saina mbamin'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afina aminao, ry Tompok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 sy saina mbamin'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afina aminao, ry Tompok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212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5 – JEHOVAH Ô! IANAO NANDINIKA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 mipetraka aho, na mande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rehetra ataoko hi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fantatrao ny lalana ale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ko dia eo an-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fantatrao ny lalana ale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ko dia eo an-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5 – JEHOVAH Ô! IANAO NANDINIKA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velona aho, eny, maty a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ko dia eo imas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erana aiza, lalana mank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alako tsy ho hit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erana aiza, lalana mank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alako tsy ho hit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212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15 – JEHOVAH Ô! IANAO NANDINIKA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! Tena mahagaga l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sanao Sy ny fiain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saina Mety mahat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endrenao Sy ny he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saina Mety mahat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endrenao Sy ny he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212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no hany Zavatra iri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aro indrindra Ny f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izako Hametraka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onona Eo am-pela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izako Hametraka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onona Eo am-pela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15 – JEHOVAH Ô! IANAO NANDINIKA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212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7:19:37Z</dcterms:modified>
  <cp:revision>69</cp:revision>
  <dc:subject/>
  <dc:title>Tiona Advantista</dc:title>
</cp:coreProperties>
</file>