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A53-4280-43D3-B481-539A1809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C78-9DFB-4EC5-8982-A41BB39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D99-BF05-4DD6-BED4-6D7FBE23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9C2-623A-4016-9DCC-B702CB5F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C687-6FE4-40BB-9D69-8E7DD9C6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5D1-452E-4A6B-85FA-081EB491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375-43B7-4AAD-9498-51949B0B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75C5-E35C-4A1C-B617-8B976E2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06A1-1F3C-47AF-9EED-ADE48D2D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08CC-A4A2-434D-BCEF-D29C769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E3E8-1DC7-4050-854E-92F32FA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D40-ACBB-4331-841E-32B4423D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5D8C-D59C-4495-8081-C0565DB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B95A-1B8D-47F2-855E-C4CD253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76C-FD1F-4CDD-973A-11E2D264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1EB-6F5E-4B5F-8231-4A033C28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84B-B99E-429F-9840-677CCB68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44B-594C-402E-B601-78E9374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B3E-6B8F-49F8-B3AA-2CB4DEEF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11E-E649-4804-8F70-5E6396C1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A1F-E890-4085-B9C2-3ED48A2B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40E-42EF-490B-A48A-E5BCC928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3CC-EB92-4F67-8F38-5D61E1D6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DFC-32F4-460E-B292-77A81EE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E01E-7664-415E-8A76-712056ED6C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694-A9F3-4F6A-B6CD-BD6C2FF782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S. Pit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9 – MISY TOERANA MAMIN’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9 – MISY TOERANA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toerana mamin'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hadinoiko mandrakiz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ngonana soa ka kolo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fioko fa trano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9 – MISY TOERANA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ndeha re ho (ao i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iko ianao mba handro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ngy ny fiango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ngonana soa ka kolo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fioko fa trano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9 – MISY TOERANA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hatra ny ady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 diavin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hy fa Jeso man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vaovao ny fiango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9 – MISY TOERANA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'ny mpirahal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'ny fanaovan-ts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m-bavaka amen'n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hitanay a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zahay dia hif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avy Ilay Tomp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laza sy tena h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vonjy ny fiango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9 – MISY TOERANA MAMIN’NY F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33:06Z</dcterms:modified>
  <cp:revision>42</cp:revision>
  <dc:subject/>
  <dc:title>Tiona Advantista</dc:title>
</cp:coreProperties>
</file>