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92C-3E1A-4706-9151-309B52E1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A24-FA73-4F18-9646-6D823F88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A8D-6D13-4DD2-8D89-3600062B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AE9-7495-4A19-9998-6AC8B750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51D5-8715-4A5B-A1FC-7C4F2FC0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385C-17F8-48F3-AB70-6BF1A311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0294-7A98-4EF9-B0A4-E05C431F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16F4-3423-4E92-86E5-949C19E4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3622-2031-4DD1-ABC5-8FD569F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185F-6B4C-411A-B00D-5EE52F8B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725A-810C-467A-ACC9-F142DB99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A6A-F1B3-43D3-8B30-FAB8F7B3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1097-1B4A-4678-B231-3B981E4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8E42-E474-440C-9201-E774A58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8DD6-91EB-4D7B-BEF8-A985495A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962C-C2CD-47D6-ABBB-2E342037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1912-3109-4C4C-B35C-E299932D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869-784D-45AB-8116-6741732F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1F5-D0E9-4ADB-B3FB-6A81D70A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FED-005E-43EB-B14C-03E748C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124-37A8-4B2A-9993-F8805272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E3B-CA45-4C84-AF48-2E27F9EB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E29-5B5B-4893-9298-768E5ED9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A9C-5FC3-4C20-831D-190EBFBF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4F53-F52A-4DAC-8586-E8E7B2C69D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C781-6EAE-4906-8E08-FF6AD2C415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amoely Lala James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Kerr Broc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4 – RAHA MIPOSAKA NY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4 – RAHA MIPOSAKA NY MASO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posaka ny mas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aina kanto no indro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va tsy hita ; 'reo ranon'and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zavana mamiratr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4 – RAHA MIPOSAKA NY MASO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nisinda 'lay haizim-pi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indro tamy maraina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re intsony ny feon-tafi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mitoera, fiad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4 – RAHA MIPOSAKA NY MASO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arika ny diako hatr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pamonjy, filoh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loza maro, 'zay toa tsy his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sinda teo, res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4 – RAHA MIPOSAKA NY MASOAN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tsy ho ela, maraina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risty Mpamonjy, ho av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raina kanto, tsy hisy to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sambaran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6T14:00:07Z</dcterms:modified>
  <cp:revision>73</cp:revision>
  <dc:subject/>
  <dc:title>Tiona Advantista</dc:title>
</cp:coreProperties>
</file>