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744-6B83-4767-8E5E-EDAAD656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022-1E7E-489B-B8E7-0259278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F23-F731-4BFC-8192-F12FEA1C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2AE-50D5-49BA-A7D5-8B0EF5F2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C3F-1CFE-446F-9C3C-499F1F28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F704-C3D5-45B4-B097-C141EFD0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5788-52DB-496E-BA29-FE5DD6C8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9837-5B1D-4F81-8379-176FF60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32C8-69E0-464C-AA8F-B7DFA841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35DB-C447-4DD8-8E34-D8FB087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8160-1912-4234-AE93-FCB00AB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685-8320-41F6-9E76-C865F7E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628E-159B-4A01-BF4A-213EBB7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C67-4359-4911-937C-25B2FB5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A731-30CF-4BBF-B24F-18E4C5C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8435-844E-496A-A117-5732C6E3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4364-70E8-46D1-A881-7FE51A00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4BE-5966-4CE0-BDEA-79266FA8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DD7-E4F0-4A96-9724-67F4B90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2D0-76CB-4A46-B8E9-6EF8788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837-A5F7-4B90-95FF-B9CD5036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C3F-9A7A-411B-BC7D-3A0B903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7DB-C1C7-4E24-AC71-4D99FA7B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ADD-9939-4C6F-AF49-6EB3B5F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6D3E-0852-472E-9B34-4DCD58E1B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BAD-2D28-4F83-BCBD-9E8EEAD26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M. J. Kirkpatri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3 – ANIO NO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3 – ANIO NO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no andro natao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masi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haonanay ami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ndrai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ahaon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ona ami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Sabat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3 – ANIO NO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heniky ny fiti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androm-piain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e tratr'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bata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tsahara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aroanay soa t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saotra Anao 'zahay, ry 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notah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23 – ANIO NO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Andro notahian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sa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ovy re ny fonay h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ia, ô !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re ny fonay h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7:26:41Z</dcterms:modified>
  <cp:revision>43</cp:revision>
  <dc:subject/>
  <dc:title>Tiona Advantista</dc:title>
</cp:coreProperties>
</file>