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165-4279-4979-B57F-7903F465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2C3-2787-4B1B-89C4-2795A6A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2B6-E006-4CB6-BA95-B11F84DF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68A-0EA1-44C1-9670-488EDCE0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E6A4-16D9-4220-BA10-10B1285F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4E8-A8B6-41F8-8844-2C99E1B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479-84D6-4A21-87BB-076615B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D0B-C440-49D3-920D-3C8321D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A4A3-5E2A-4CDC-8C15-5A73C985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D02-BAA6-416E-BA38-FB2982D1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257A-BA05-4DF6-8ED5-4AAB22D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63D-42C7-4CCF-81B7-115ED8B3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F41-92F4-4B4F-A457-E10AFE1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DFFF-4393-45D7-B9D2-EB002E2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0847-A9EB-45E1-94CA-33F0782E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EB09-214C-4590-918F-02DF1E20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5E2-C901-436D-AF3D-963D6ABC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703-5DB7-47E9-AB03-5700C13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1CC-D7FE-4B5F-98F1-305737E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031-8518-44B6-9A08-71923975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8DC-9BCF-49D7-A847-67EA932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429-6706-4866-BDBA-15AE7FA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C32-C307-49AD-B4F9-F748AFBA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B2E-5180-4D26-B19F-D3B70AD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06C-2DFE-4FF8-B074-E504161C43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DB7-47E5-47E2-B35D-97671DE693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ey Mour Irving -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3 – Ô !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3 – Ô ! ANDRIAMANITRA TSIT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ndriamanitra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m-pahar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'ny famoro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ho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3 – Ô ! ANDRIAMANITRA TSIT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Ino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hagagan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ahagagana 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y manova fo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mahagaga ila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seho te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-kery h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ino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3 – Ô ! ANDRIAMANITRA TSIT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zoko at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fahagag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Kalvar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63 – Ô ! ANDRIAMANITRA TSIT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zava-mahagaga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7:50:36Z</dcterms:modified>
  <cp:revision>29</cp:revision>
  <dc:subject/>
  <dc:title>Tiona Advantista</dc:title>
</cp:coreProperties>
</file>