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316-23BA-4332-9EC5-3F9A3870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207-09AD-44F9-953B-D4288874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38F-B2B5-4E94-858F-C9F7F7FF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E8E-FC6E-438C-A35D-DCC5EE84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E14-64A1-4992-91C9-E119B6B2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7D6-4929-4856-B5B7-34661E39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778-DC6F-4FB8-A2C3-161B0B5A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7EE-5CA9-460A-B943-5891073D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D35-46D5-4D74-9447-E00C77E7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02B-926C-40B1-9423-A74349F6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995-04C8-46BD-BAC4-699370D0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84B-3D44-424B-9B65-5C4A467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B82E-0E87-48A1-9AC5-5233FBB804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J. Ramahaisah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J. Ramahaisah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531 – AZA MANGI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2" action="ppaction://hlinksldjump"/>
          </p:cNvPr>
          <p:cNvSpPr/>
          <p:nvPr/>
        </p:nvSpPr>
        <p:spPr>
          <a:xfrm>
            <a:off x="8773560" y="56325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3" action="ppaction://hlinksldjump"/>
          </p:cNvPr>
          <p:cNvSpPr/>
          <p:nvPr/>
        </p:nvSpPr>
        <p:spPr>
          <a:xfrm>
            <a:off x="8645400" y="6013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9">
            <a:hlinkClick r:id="rId4" action="ppaction://hlinksldjump"/>
          </p:cNvPr>
          <p:cNvSpPr/>
          <p:nvPr/>
        </p:nvSpPr>
        <p:spPr>
          <a:xfrm>
            <a:off x="8629560" y="63943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Text Box 20">
            <a:hlinkClick r:id="rId5" action="ppaction://hlinksldjump"/>
          </p:cNvPr>
          <p:cNvSpPr/>
          <p:nvPr/>
        </p:nvSpPr>
        <p:spPr>
          <a:xfrm>
            <a:off x="8773560" y="56325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21">
            <a:hlinkClick r:id="rId6" action="ppaction://hlinksldjump"/>
          </p:cNvPr>
          <p:cNvSpPr/>
          <p:nvPr/>
        </p:nvSpPr>
        <p:spPr>
          <a:xfrm>
            <a:off x="8645400" y="6013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22">
            <a:hlinkClick r:id="rId7" action="ppaction://hlinksldjump"/>
          </p:cNvPr>
          <p:cNvSpPr/>
          <p:nvPr/>
        </p:nvSpPr>
        <p:spPr>
          <a:xfrm>
            <a:off x="8629560" y="63943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1 – AZA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 Aza mangina, ô ! mifoha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akaiky re Je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raisa hina hifampila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efa akaiky re Je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sondriana, mahimahi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efa akaiky re Jeso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39">
            <a:hlinkClick r:id="rId2" action="ppaction://hlinksldjump"/>
          </p:cNvPr>
          <p:cNvSpPr/>
          <p:nvPr/>
        </p:nvSpPr>
        <p:spPr>
          <a:xfrm>
            <a:off x="8645400" y="6013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0">
            <a:hlinkClick r:id="rId3" action="ppaction://hlinksldjump"/>
          </p:cNvPr>
          <p:cNvSpPr/>
          <p:nvPr/>
        </p:nvSpPr>
        <p:spPr>
          <a:xfrm>
            <a:off x="8629560" y="63943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41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1 – AZA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 O ! miomana i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tsena Azy iz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asandrato re ny m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ndro ny Mpanjaka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asandrato avo ny m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o ny Mpanjakanao.(Fa ho av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Miomana ianao,(hitsen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tsena Azy izao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8773560" y="56325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32"/>
          <p:cNvSpPr/>
          <p:nvPr/>
        </p:nvSpPr>
        <p:spPr>
          <a:xfrm>
            <a:off x="8629560" y="63943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33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1 – AZA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(faran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Mba faigana re ry Tomp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ndry ny olonao (Olona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Zavaboary miara-mis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ra-misento hoe : Av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ingana re ia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8773560" y="56325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8645400" y="6013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01:25Z</dcterms:modified>
  <cp:revision>80</cp:revision>
  <dc:subject/>
  <dc:title>Tiona Advantista</dc:title>
</cp:coreProperties>
</file>