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4CA-74C0-4B35-A11E-2C5A2809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B75-A445-4777-906E-623B8C14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666-19AF-49FF-88FA-0AC368DC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7A4-D2C7-41D3-8582-1CA08FD4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A6D9-8CBE-4D94-B88C-E0DB314E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AC27-77D8-4BFE-A4EA-E48E9A49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3A61-9BCD-430A-99DB-F9D997A5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60B2-3CF5-421E-9D18-34684724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11F9-0141-4D3B-BB89-E40C25A8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4FCE-2102-444A-A468-5BCFAACA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6613-CADE-4A4F-A13E-3492FEC2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8C9-067A-4470-A7E8-4A2E2B24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E74E-1256-4968-B1E1-41813162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416C-2D48-4937-B0C0-1F442223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DECD-0415-4D7F-A546-E6479BBB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A987-B57F-4527-B46C-0F76A6A4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B577-34A4-4416-A969-DB9C0F57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0B5-F2F6-4306-8AD7-DEF7F7E3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C2A-E8C2-493F-8F83-FBDA47AA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E4B-85D2-49E0-A42A-240DB780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8F5-F6DC-4840-AFBD-8CE382F2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80A-C43A-4A4F-9A3C-BE80240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EF5-D7C5-485C-979D-425A19BB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D19-BA9E-4B6D-BC45-91C4772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7936-0A98-4F68-8D20-85CC2FB650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62EE-5F5A-4DF2-88E5-181BF35B8B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inizafimang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Salva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75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78 – TSAROVY E ! RANK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8 – TSAROVY E !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y e ! Rankizy Ilay Mpanao 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adiavo Izy ! Dieny hit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mbola kely tsarovy rahat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manadino Ilay Mpana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8 – TSAROVY E !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y, ry zatovo Ilay Mpana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ozy ny mpanota, fandrao manimb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y ny Jehovah namoron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anantena lova sy naha to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8 – TSAROVY E !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y, ry sakaiza Jehovah Tompo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y no mitaiza sy manaso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aza manadino Ilay Mpana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iny araho, fa Izy no Ra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19:57Z</dcterms:modified>
  <cp:revision>84</cp:revision>
  <dc:subject/>
  <dc:title>Tiona Advantista</dc:title>
</cp:coreProperties>
</file>