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392-7D78-4761-BF38-D321D8B7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858-13B5-4CAD-8B94-45DA1DB3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4D8-E932-4041-BFC0-F32E7528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1A4-DDA5-46DC-AE48-8EC1FB5D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0D8E-A9C5-4DF8-B967-F0E6F6A6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0A43-28F8-4911-B186-3F9B49A8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1439-AA89-41F9-9E92-AB157667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2C0A-D937-4914-8653-8BEB5814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5F41-CE03-4A2E-9763-293D2251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854C-9320-496C-833B-BD06B07D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1E44-2667-4159-9860-AC808BF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341-DD45-4B4E-A190-39CC16CB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A1DA-A352-4135-8228-8BE30B1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BDE9-B9C6-4D25-9BF4-99C319B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EA3C-BACD-4CCC-A37D-0CADEE5B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94ED-E809-4AC2-ABD8-E051235F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82A7-4A63-4F09-8579-BEF65B8C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C34-0ABE-46A3-9C0F-B567BBF9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F65-B7CC-4F3F-8653-B9132B20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E7D-ACEA-4CBC-920B-3DC404F2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50E-6341-4082-A697-DACA33E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788-3191-472B-A35D-FA82F00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EE8-7CC0-4CB5-85DB-7005AC10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326-99AE-497B-9F21-429F6E0B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5EB4-266C-4857-BF04-B4E5D24A11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133-76B7-4E9B-9FE0-AB43A9E047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M. Fredoux Peak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. Gladsto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TA195 – RY JESO ! MBA HEN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5 – RY JESO ! MBA HENO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Jeso mba hen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eonay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mivav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ady fitah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5 – RY JESO ! MBA HENO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kiso ny fanah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eninao no han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haizanay mama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eraka ao an-dal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5 – RY JESO ! MBA HENO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aherezo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ananay mpan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ohana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raviravy t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5 – RY JESO ! MBA HENO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fo mazoto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lory fahendrena 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rihonao ny hevitr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dreo koa ny molo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Tsinontsinon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lemy sady tsy mah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dia ampaherez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ovanay n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5 – RY JESO ! MBA HENO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5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45:59Z</dcterms:modified>
  <cp:revision>39</cp:revision>
  <dc:subject/>
  <dc:title>Tiona Advantista</dc:title>
</cp:coreProperties>
</file>