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82C-5492-4150-A0D4-50DE62C1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C1E-31C8-468F-99CC-1245A038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E6A-DD74-4E38-A36D-5A462DA0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C04-0DA5-4FF7-9046-954270A1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D8C8-67C5-404C-B17C-2319E801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646F-D5E0-4CE1-BDFB-7234799F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806D-EDB9-4F24-BA41-A91212F5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21E0-2F10-4F44-9484-152F750C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E103-F18A-4487-8A2A-8C681545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11ED-01C1-4BBD-8575-67684F7B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D220-6568-41CF-B486-7BE03D96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666-0D8A-4BEB-B855-CD28EDB8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749E-C7F8-476D-A704-63FB3CD7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7DB7-57E0-4E3B-988E-D2A72FD3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8962-05E5-4316-824B-CE738754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E681-19D5-478F-9D4C-0299C32D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4933-D939-4C4E-B4F1-F6A15D13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58C-6F39-45E0-A259-3EA6B9F8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55A-9CC0-4391-93E7-DA15D58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CDF-C21B-4C60-8DF2-9DDDE064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ACF-EB9C-46EC-80BF-354A3975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436-7191-48C0-98C2-5DFA50AF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B52-61E5-40BA-BE32-D4CBAC14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536-FE4D-4481-B449-4DAC8E3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CE81-2DAE-45EA-BE0A-FFCBEAE120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3586-B772-4480-A503-EF04DB7CE0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joe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jo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51 – RAISO HO ANAO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1 – RAISO HO ANAO 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Anao 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malalak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osoa fe he voh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jakà irery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1 – RAISO HO ANAO 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nao ny ahi-dra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maka lalin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ongoty ka sol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kazo t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1 – RAISO HO ANAO 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ko rants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rantsandrantsana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ntsana iray no t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ifikitr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1 – RAISO HO ANAO 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ohano ny fin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zonan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hery hizak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ondrana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ga ny fanante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santarako ny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am-pio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ialako a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1 – RAISO HO ANAO 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51 – RAISO HO ANAO 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oary sy hatsa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moa tsy misy f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2:58:53Z</dcterms:modified>
  <cp:revision>46</cp:revision>
  <dc:subject/>
  <dc:title>Tiona Advantista</dc:title>
</cp:coreProperties>
</file>