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DE3F-DE03-41D0-A475-A2E3D6386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4A0F-DFF8-429F-B7B5-DB0B5F42E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B696-E585-4B07-B1CD-8E6E5170B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0BA1-1E0C-431F-93D0-4C3AA20C0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16EE8-9CEF-46B9-8A43-A0008C60E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2DA9D-40C0-447D-85CD-AA5BF19B7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844EF-4AFD-4A7A-95F8-6FAF9C869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69EC1-1406-4A2B-BD26-4C8678CFD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18E2D-6016-400C-93C4-5A8E1C852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56CF7-C3C8-476C-8176-ADEF691D0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32A18-1C83-43AA-839F-8E6876925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6C9B-D104-4D4C-BBB7-87F61FC42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FBD22-A5BD-405C-AFDD-F10EBF1C2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370C3-173C-4C39-9FCA-0A6189600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2DCAE-7CC3-482F-A0D0-C509C5C26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641D2-C020-4719-8274-95A438D45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F9446-FD05-4759-BE4B-AA37D1697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E8BC-D78D-4F51-B40F-1C7D9D621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3E9D-C408-4E91-A330-22F8F7C68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91FF-E276-4FCE-82F3-634326FC8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12F4-B018-40EC-BE6B-23A287968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53F0-FBE0-4A9A-85FD-B53A0E791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35AA-E602-4D4E-887F-5C5F22E6E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8120-67E3-4E0A-84B7-7FF53ACAB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2D7DB-B4BE-4B6F-80CB-3ECF08C49E5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A1D4E-A478-42D6-9747-733295EA147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OTOANA SAMY HAF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ampakaram-bad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. J. Randrianantenain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. J. Randrianantenai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551 – TAONA MARO EFA LAS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22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62840" y="56102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59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48800" y="637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51 – TAONA MARO EFA LA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aona maro efa lasa t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nitondra ny fiaina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iaraka tamin'Ilay Jeso be fiti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dia resy ny herin'i Sat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62840" y="56102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57800" y="59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48800" y="637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4808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51 – TAONA MARO EFA LA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sandrato ny Tompo Mpamonj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Asandrato ny Tomp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ny fahasoava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itondranay te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eto amin‘ny izao tontolo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57800" y="522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57800" y="59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48800" y="637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4808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51 – TAONA MARO EFA LA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mba nisy ireo tebiteb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 ireo fanahiana 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amin'ny hatanorana, hazazana 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satria Izy no nitant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57800" y="522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62840" y="56102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48800" y="637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4808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51 – TAONA MARO EFA LA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apanay fa Jeso dia nifid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lon’iray sahaza t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Lehilay iray, vehivavy ir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my zanak'Andriamanit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57800" y="522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62840" y="56102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57800" y="59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4808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8T13:02:01Z</dcterms:modified>
  <cp:revision>78</cp:revision>
  <dc:subject/>
  <dc:title>Tiona Advantista</dc:title>
</cp:coreProperties>
</file>