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B2F5-A4BD-4CBC-88AC-93E9511E3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B317-57F5-4D8C-B41D-F6624F890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1331-9D6B-41DC-9162-9F40A8253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7BBA-EFC4-44EC-805E-8834FBB9A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797D3-BEBC-493B-BB41-99C0FDA9F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8367F-8053-4151-BF38-E4CF378D4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4C3A7-00EE-49E8-8AF7-8ABF4678A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08377-559C-4795-8F8C-D5A4CA677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12B98-988C-4B90-855E-896FD2661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4B462-F607-496B-9067-720E17459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CECF5-5DBF-48F3-ABB4-7E6AE4A2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0FBE-ECFE-4DDC-8B27-41FB278D3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6C2B1-97A6-4537-86D6-2FBE2E34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4C4B0-6741-4449-AEEE-B1996A8B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FCC93-FAFB-4B84-A887-A9107C180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B1C0B-3AB1-4F3F-9D2D-264D795B0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11A84-CE97-49AE-B7EA-D14BBACEF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0097-8F5D-4CC5-881C-588DD28B6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7EB5-4FA6-4D69-B208-F88C6227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0CA3-6290-4A06-A1EF-B98506C0B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C77A-7C04-4736-AC0F-0CD34E403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05C4-B76F-4DAF-87BB-C95C2E1C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82ED-8ECF-41A1-9809-D9D298AC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E9E9-6FF8-4A06-BE49-E8D9BCFB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7BB5A-49E1-419A-82A9-B7EB1C4722F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16747-12A5-4D90-98E7-A797CDDEEBE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TANO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Ho an'ny ankizy madinik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zafindramana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zafindrama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573 – JESO IANAO NO ZOKI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6284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73 – JESO IANAO NO ZOKI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, Ianao no Zoki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keko re iz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anao koa no nama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6284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73 – JESO IANAO NO ZOKI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kaiza tsara ery I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tiako sy hatoni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anao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73 – JESO IANAO NO ZOKI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, Ianao no mendri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itokiako 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niloko Ianao,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6284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73 – JESO IANAO NO ZOKI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ho dia zaza bodo 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gataka am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erinao ho aro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6284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9T08:57:57Z</dcterms:modified>
  <cp:revision>84</cp:revision>
  <dc:subject/>
  <dc:title>Tiona Advantista</dc:title>
</cp:coreProperties>
</file>