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0191-B509-4B7A-9BCD-787396135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CA10-9671-48C9-98CB-66015521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38F7-E189-4477-AD82-281D25DD4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F763-B4D8-4857-AD65-BDB829DCB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B226-8042-494C-AAF7-17D6137E5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A4D73-13E4-4577-871D-334FF6BB1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4D94-8D1F-4E76-ADD0-41CE843C5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7042E-D158-4ED4-9EF5-B8869773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1A5F0-13A7-4238-85C2-15E877DA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71FA4-E845-4E87-B1AD-93E300D2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E9100-CFFA-4033-93E2-0C944E24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F248-A813-4A0B-A75A-97AA91E4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02D23-817A-46C5-B18A-AA05E832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14B5-89E2-41A9-999D-A679EC9E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9FCA3-7986-4046-B134-750227D7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97ABE-D3C4-4799-BE09-8385E910E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240B-7EA0-44A4-8FF4-A2FAFC1EF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A0F1-8156-48AE-95B4-67CB7A75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62C1-0E6B-4D12-83E3-CF5CD335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6241-4D54-4581-AC75-6E05F07E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4B35-4B07-45CE-8676-5CD3A252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3AFF-A640-4E6C-99D5-75C25CC9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6994-275C-4651-AC02-FA1649A2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ECB4-FC6C-4619-BF4B-89036415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840D-EBA4-40EA-8100-7774DCE81F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3C06-6321-48C6-A490-90817407AE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Seremôn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. Ramanantsialoni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G. C. Cas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HL25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49 – MANATONA RY MPAN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2900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34040" y="5178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2900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20000" y="59403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820000" y="63817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49 – MANATONA RY MPAN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tona, ry mpan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miantso anao ny 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y Tompo be fit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ia anao mandrakiz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34040" y="5178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82900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820000" y="59403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820000" y="63817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83548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49 – MANATONA RY MPAN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! Avia, ô! Av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mandray anao ny 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alia, ka mod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ho zanaka ind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82900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82900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820000" y="59403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820000" y="63817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3548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49 – MANATONA RY MPAN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eny misy ny foto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verena hanav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ny eto dia ho fo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o hanenina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82900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834040" y="5178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820000" y="59403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820000" y="63817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83548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49 – MANATONA RY MPAN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o no androm-pamonj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raraoty, tadidi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renana ny te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y otanao ari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2900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834040" y="5178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82900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820000" y="63817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83548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Ry Zokiko lalai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no aho ho nam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y saiko sy ny ai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tiko hanaj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49 – MANATONA RY MPAN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2900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34040" y="5178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2900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20000" y="59403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83548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2:52:51Z</dcterms:modified>
  <cp:revision>46</cp:revision>
  <dc:subject/>
  <dc:title>Tiona Advantista</dc:title>
</cp:coreProperties>
</file>