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14E-3BD0-4A11-AB6F-3A5AD646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9A6-6711-4B82-BE2C-6E3CE7F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7AA-F18A-4AAE-857C-4CFBEC5A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EAF-848C-4E6F-932D-B420F52E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A51E-E5D5-4D5B-83E7-1F8B4D9E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63CE-5E35-4816-BD91-2236DEB0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99CE-A04E-4C4E-A2FD-E14DD6A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7F16-4062-4F0C-9D20-81E919D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340D-C851-4CA7-BFDD-ABFBBD8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0BC-D799-44CC-8219-CC16388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C9A0-A0E4-4D79-9F35-B5C3733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592-5D37-4C52-9FC1-22748D0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D88E-A239-4BAE-8F38-17F9DA9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233-3898-49D6-BC93-22A0D52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CF30-02B6-4462-9119-FA0A267B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C4B-9BAD-4837-8B63-91FD91BC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01B5-B71B-4856-A18E-3B5CCF98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BE5-5908-4031-9C36-2839701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281-D615-400E-9105-C7D3F157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0B6-20C4-4ADB-A332-D1D8344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B86-534A-4D7D-8DEC-FB003BE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B8E-3EA1-41F2-8052-6515458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A3B-A76F-40C1-B9C2-3D47E59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99D-DC00-49C7-8799-F54D1E9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EC74-6C10-49A7-8188-321A1C51E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930D-A16B-43BB-AABB-6FF775F89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70 – TOMPONA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0 –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ay ô, Mpanjaka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Be tokoa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y zanaka efa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nomenao ny famindr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0 –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elomy ato am-ponay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monjenao anay (ry R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o mendrika Anao Ray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naraka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0 –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ay ô, Mpanjaka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atolampy iore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saorana avy ao am-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atolotra Anao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70 –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ay ô, Mpanjaka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raisanay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fiso hitohy tsy ho 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ompoanay Anao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20:50Z</dcterms:modified>
  <cp:revision>50</cp:revision>
  <dc:subject/>
  <dc:title>Tiona Advantista</dc:title>
</cp:coreProperties>
</file>