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238-416C-42E6-A1D1-7119660F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361-4967-4A49-B549-A4ACE89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C00-1129-4A19-9726-4B7528B7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8CB-65C1-47F6-A560-06CC896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EC6-E5B6-4881-9D4F-7B50D680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D52-68C8-4A14-A7D2-55A5B87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527-82F5-4B6E-9D81-A25FA72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94A-0B86-4C8E-9B22-B8027FC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FC8-F6AF-4EF5-8C7B-E0F1DDE3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1F6-AB13-4A18-955A-F3577E9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DF6-1DB5-4481-90F0-94FED1E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53A-A219-45DA-9569-93CE77B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0A7-ABAA-49A8-97D2-2A67AFB693D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NDRIAMANITR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Mpamoro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mah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FPM006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5 – AVIA, MIONDRE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41">
            <a:hlinkClick r:id="rId4" action="ppaction://hlinksldjump"/>
          </p:cNvPr>
          <p:cNvSpPr/>
          <p:nvPr/>
        </p:nvSpPr>
        <p:spPr>
          <a:xfrm>
            <a:off x="8283600" y="658332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5 – AVIA, MIOND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, miondreha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vazan-tany 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lehibe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masina tokoa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kohofa tsa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tona Azy 'za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eho fanaja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Mpanao 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39">
            <a:hlinkClick r:id="rId1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40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1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5 – AVIA, MIOND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riananahary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iky izah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minao ny he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y toher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mahara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ianao hat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anao Mpitond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o rehetra iz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30">
            <a:hlinkClick r:id="rId1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2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3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5 – AVIA, MIONDR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 any lavitra 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o ny her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isam-bazan-t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ondrika amina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njaka sy Mpitsa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ery Iana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dana ny t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kina ami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8">
            <a:hlinkClick r:id="rId1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9">
            <a:hlinkClick r:id="rId2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1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1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1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1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5T07:17:44Z</dcterms:modified>
  <cp:revision>33</cp:revision>
  <dc:subject/>
  <dc:title>Tiona Advantista</dc:title>
</cp:coreProperties>
</file>