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637-8DB0-4E9F-B9B5-DB10CFAE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FAB-2083-4CB8-AC6D-867A3D99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318-3887-4EB1-A91D-4ACEFF85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1E9-CDDE-432A-BADE-0E5B0595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95B4-FA7A-4119-BF24-9C095EA7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0F20-2EF4-4DBB-99B9-9977754C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471C-4C5A-4BB7-8D66-991ABD82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8F18-3E6C-4B31-A11B-0FBA793F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53F0-296E-4FC0-B795-AA108CF8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DAFC-A372-480E-AE54-5125250B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7266-82A9-4D77-A82B-21F00A8A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65A-C7C3-411F-AE7D-B64435A8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82B2-E346-474A-BD3D-AB84D682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41FF-D654-4E66-8BB3-023C98A0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3EAD-AD66-41C8-9DDE-741CDF6D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D193-B6C9-4EDA-B2E9-07C09F90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B4F8-7D12-46E2-A7F0-4645ED40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D4F-4BEF-4F3E-82CC-8D4C66DA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CA2-1605-4484-A13B-74E941E0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2D0-7663-42DE-85A3-13D3E90B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AF5-C105-4C6F-A4BD-9E879577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C5C-81DF-4CDC-89E6-6FA6EB6F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2D0-7048-483D-A6B9-8FF6A17F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2CE-37F5-4866-8EDC-3196ADB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4FC1-9EDC-42F3-9871-9BD770E240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1B23-CDFD-4E40-A43B-2623CA30CC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24 – JESO ILAY MPISOLOVA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2288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2792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22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1388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4 – JESO ILAY MPISOLOV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Ilay Mpisolova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masi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 indrind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ihany no banjiniko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ina indrind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2792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22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1388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1316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4 – JESO ILAY MPISOLOV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mifona h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trehan'n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ko antoka ny as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82288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8822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81388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881316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4 – JESO ILAY MPISOLOV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no miantoka ah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 indrind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oa dia manatona Azy ah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atoky fa izany no ant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ko antoka indrind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82288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2792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881388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881316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4 – JESO ILAY MPISOLOV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olatra izay aseh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in'ny tan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sina indrind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natrehan'ny anjel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Ray mandresy lah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lanitr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2288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792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822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81316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4 – JESO ILAY MPISOLOV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sy Ilay Mpisolova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manatona am-pahasahia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mpanota 'zay novonj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imaimpoana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ena samb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, sambatra indrindr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2288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82792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22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1388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1316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2:27:59Z</dcterms:modified>
  <cp:revision>79</cp:revision>
  <dc:subject/>
  <dc:title>Tiona Advantista</dc:title>
</cp:coreProperties>
</file>