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04B-E785-49CE-B384-9FB182E8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51A-250F-4499-8009-2580789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43F-EF3C-4295-B2B6-9BE2849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3F0-4F17-40BD-8C10-E453709C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B5F-70E8-4DA7-AC1F-F586649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3099-2967-42E3-A76D-3F91E2ED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599F-9D2E-4A0A-945C-C00787B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4AB6-CD74-48CA-A2DD-51BB4629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EBAF-5EF4-4080-8FC7-D27E67B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34ED-431B-46C8-A0D3-182249E6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E929-A89E-44FF-8029-3DF56FF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A66-D716-4DFE-BA81-FF9676F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242-A84F-449D-870D-1A9238B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9BE5-FFE8-4FAE-AFFC-DC264A4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54C-A90F-4A2B-968B-DF2BD2B0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4431-1352-4013-A23F-1A5AB71F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A358-6696-490F-BA84-F9D14FD4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F79-2CC6-42CE-81EB-2493F175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9C0-FCE8-494F-A262-EC03234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D7E-60DD-456D-8CFA-56EB72D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043-194A-4D33-A5BB-6BD2E4E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A05-1650-4459-A8CE-6FDD5EC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B7F-C299-4A0D-8437-A1877EE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3E5-B76B-4748-936B-A45DB99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C55-7F9E-44BD-9D88-CFAF6393D8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32B8-D43C-4DA6-A190-C84EA4214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4 – NY TENINAO TSY MI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4 – NY TENINAO TSY MI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tsy miova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oky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ina hivelomako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mampahe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4 – NY TENINAO TSY MI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'zay fanilon'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tantana 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kana ahy tsy h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manazav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94 – NY TENINAO TSY MI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'zay nomenao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pianatr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 aiza al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omba ahy hatran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, vatolampin'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ao anati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42:11Z</dcterms:modified>
  <cp:revision>40</cp:revision>
  <dc:subject/>
  <dc:title>Tiona Advantista</dc:title>
</cp:coreProperties>
</file>