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A95-7ED2-44AE-8F30-59C0EA21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399-1ABA-483A-BD3C-62B6C65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EA0-AE66-4F34-BFE4-6503ADEC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1FD-427F-4325-BB07-271BD8F3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DEA1-95AA-4217-AABC-7EBA3361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0E8-FC8C-4AA6-BAD0-9A00E21E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6936-FF34-44BC-B79F-1988D05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AE94-E894-4333-9863-333C6E0D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6F9-9C38-4556-BAB3-7EC2AF35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9EE-3968-4026-90E9-B2EF8A2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EC05-DDF0-4BD5-B3CE-91897F87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92B-057E-46A4-837C-5C1B059D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621A-5F8E-4126-9654-E7A5743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25BB-1B98-4CA9-B82F-D6C8063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51F-BD15-4ADF-B096-4A41F350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E8C-3E33-458C-954C-76C75C0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4EB9-3A9D-4949-A844-7D23C2C9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224-AFA2-4733-BA95-15AE9EE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AC2-0EE8-4AC9-9EAB-D41C864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9F6-EBC0-41B4-A204-77180AC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CDA-F28B-440F-9242-4A82607A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D6E-5E9B-4C7C-8C32-E4893FB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FBE-46D9-4A32-AE83-36ACD4D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609-2F96-4449-AF71-5FA03123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274-9661-420B-808E-15BEDA8179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161-35AC-406D-99A7-4B653CA0C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lemm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2 – INDRO HAR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42 – INDRO HAR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hariva, Tompo, ‘zao ny andr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ka mora teo ny maso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dika aminao 'ty mpanompo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nyh f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42 – INDRO HAR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aorako ny soa nomena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 no vita, Ianao nit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o ny tsiny noho ny hale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mamel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2 – INDRO HAR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ny elatra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misy aro, loza sanat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torimaso toy ny an'ny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maizina a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2 – INDRO HAR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misy toky fa hifoha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Jeso Zoky no hamoh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rainan'ny 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ri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52:59Z</dcterms:modified>
  <cp:revision>77</cp:revision>
  <dc:subject/>
  <dc:title>Tiona Advantista</dc:title>
</cp:coreProperties>
</file>