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90B-E93F-4F32-A9F8-5EF38927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AC6-48F4-474F-A6E8-0C2BF7EE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E43-7708-4951-85EC-D3048DA2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873-9038-4ECE-A7A1-127A1984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37B9-7E21-4CB6-844B-E9E54786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0DE6-3649-4FB4-ABA1-55206F49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32B9-E9D0-4504-AB8F-FF68FD69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560C-E109-46DB-A0DC-6D853525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6F2B-0CE5-406B-9671-CB8EEDF1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99C7-B031-42B1-B277-84723264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5810-F1BA-4EAA-B135-54839904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508-039A-4A46-9FD0-EBF20CD5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C67F-7425-44F6-BFFA-AB8A218B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F569-F122-452E-85E6-A1CBCD91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9F47-8024-480A-B144-4017CDEF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217D-9A65-43BF-92CF-4B188AEE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9A90-D0F6-4757-8B30-7B1981B4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FA5-5453-43AA-9DEA-E85C931E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C0B-2A02-4F69-BC55-56C618DB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9AA-6865-4DC1-98DF-D9BC8A30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6F6-4CCF-4521-80CE-C23B3D7D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FE5-EE72-49DF-B544-48CF8439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55E-1C5D-4DB0-AFE1-05565D07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D60-4AED-4631-B99B-0CE6E5E1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E06C-8F08-46FB-A630-BC4665FB91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0BBC-6491-406E-A497-2BFA9442F2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fatra faran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uteu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omposite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92 – Ô ! ANDAO, MITSANGA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2 – Ô ! ANDAO, MITSANGAN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ndao mitsangàna iza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lazao ny fitiavan'Ila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ia, mifalia, ka avia, malak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zao 'reo havanao, ilazao 'reo n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via, (o ! Av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oria, (mitor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'Ilay Jes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2 – Ô ! ANDAO, MITSANGAN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ofy mafy hanako ny trompet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lazàna fa ho avy ilay Mpanjak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akaiky Izy izao, tsy ho ela, inj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mafy ary koa hanome vali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ndao, (o ! Andao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lazao, (mba la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avy Ilay Mpanjak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2 – Ô ! ANDAO, MITSANGANA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haza izao ka ovay ny f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drao na mitory, hator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lao ny otanao ka ny Tomponao no ar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hadio sy ho vao ka hahomb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joroa, (mijor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osoa, (mandros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kaiky ny Mpamonj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49:00Z</dcterms:modified>
  <cp:revision>54</cp:revision>
  <dc:subject/>
  <dc:title>Tiona Advantista</dc:title>
</cp:coreProperties>
</file>