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B034-5A8C-4F25-8870-A32AA0E65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5107-7C71-4B20-B969-44B8CA9D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9266-0F4D-402D-9B7D-771C4E378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5965-F2B8-4EE5-892E-CF408A82A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BFE4-EACE-4272-9FC8-FD594903D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A68D-0F06-4B1B-9040-FFC4D90F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CCF9-E96F-4F2E-BE86-57014595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7A07-289E-43A2-B061-F660EC2B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ADE8-09D7-4DAD-AAFD-8F472670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2EFA-832F-4694-8525-800EAFEB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734A-DB98-48A1-BA0E-B4044F94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111C-654D-429E-ADE2-CD5AEAB5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4DE4-C5BC-4E8F-9836-3DDCD08A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20B8-3304-4C3F-BA50-633A5C08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AAA8-8EA2-4D4C-9030-2D29CC04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630C-CE6D-420C-A69F-40FAC22AC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9AF0-52A6-4A74-AE6C-D6CC2D72D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39AA-361F-430A-9941-29FA9065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69C3-FD9E-434F-B01F-4AA9426A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61A9-DDB4-4744-AD1C-FD4EE707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EF75-A428-4D95-B8C9-F171D285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09F8-49B2-40A8-9852-9CFA37B4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CAC6-A4C0-4AE4-B28F-B250CF71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A174-4CC1-4A2C-AC44-9EFB4DCB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861C-0173-49F5-B3AE-317E2E1052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C5EE-F7F3-4814-9F7F-AE77338569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abarij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. J. E. Holm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97 – ‘NJANY MISY F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91 – ‘NJANY MISY FE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jany misy f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manao hoe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anota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noy ny teny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tona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o ani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a mba man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ho ny ot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91 – ‘NJANY MISY FE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y famonje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y Kalva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ao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raiso hatr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olory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o anio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ina sy fan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ny ten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91 – ‘NJANY MISY FE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tena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atolampik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io ny fok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tsy mendrika a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dy tsy madi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iako ny hila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Anao an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7:36:57Z</dcterms:modified>
  <cp:revision>56</cp:revision>
  <dc:subject/>
  <dc:title>Tiona Advantista</dc:title>
</cp:coreProperties>
</file>