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0F3-8365-4D16-9885-BAAE6248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F09-86F8-48C7-808C-26BA3E17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166D-FCFA-4CCB-B85D-2B5370EC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D3B-669D-4960-A099-2245F8EC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30C4-2A25-49B3-AFEF-6D3592E5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16A7-A0CC-49F4-8228-45C71781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4829-4CAE-4A29-9816-BF6928F2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5BB6-34F1-45E8-A20A-0ECD3FD1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8B32-E2C7-434C-8C02-722E2CB2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D353-FFC5-419F-A2E0-92A0F7B7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B28F-939C-45C1-B893-AE04B69A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6E5-F623-4161-85E5-0BB2AAC4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CCE6-9CC3-4DAD-B832-F2061252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C011-BFBD-493E-AD20-0CA5A6FF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C507-B660-46F3-B996-29486E5D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3580-D1DD-4B59-A84B-F415A0EF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0CF5-9D0F-489D-B754-01A4A6AB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EAF-A790-4135-BC50-D7C38639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1FF-EA84-46A1-B15D-09288B14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225-ED8D-46E5-88FC-7EE43017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130-5009-485B-AF7C-B339F699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095-2164-4A3A-9149-C3DD07B3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339-878E-4B70-B965-2BCC853A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7D8-011D-4527-868F-61AF3691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9033-196E-4892-9EF2-9511BE2FA8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8732-9464-4463-BCD3-8E59B73B06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Andriatsizaf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Andriatsizaf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36 – TOY NY D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88680" y="586908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87600" y="6249960"/>
            <a:ext cx="3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6 – TOY NY D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Toy ny diera maniry r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anirian'ny fanahik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aniriako, aniriako 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to an-tany, eto an-t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aniriako Anao ry Tompo 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Eto an-tany, eto an-t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Maina sy manget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No anirian'ny fanahiko Ana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Corbel"/>
                <a:ea typeface="Arial"/>
              </a:rPr>
              <a:t>Andriamanitra ô,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99"/>
                </a:solidFill>
                <a:latin typeface="Times New Roman"/>
                <a:ea typeface="Arial"/>
              </a:rPr>
              <a:t>D.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8787600" y="6249960"/>
            <a:ext cx="3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762400" y="543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6 – TOY NY D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etaheta, mangetahe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ngetahet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nah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788680" y="586908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762400" y="543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8:49:31Z</dcterms:modified>
  <cp:revision>78</cp:revision>
  <dc:subject/>
  <dc:title>Tiona Advantista</dc:title>
</cp:coreProperties>
</file>