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4E1-35A4-43DE-BC55-013C80E9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AC7-E3B1-4AC2-AA23-5F1E1F25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F2E-6CD6-418C-A890-6068636A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CBD-7B15-4039-B626-6291262E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C957-1D23-44DF-8CB7-306A03C2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DE5F-E495-4479-B269-DC4529D4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95C9-AD32-48BC-BA31-21EB0FFF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8D5C-A082-4988-8A87-EC8A4F98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23A3-1A2E-408E-BBFC-A66E5803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04EB-5DDA-47B9-A528-1325ABB2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34E2-655E-480D-94B0-6E2A48B7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046-4B46-4C52-B807-57B9E4E1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D565-14AC-47B7-BDF5-17082179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B976-E659-4A0B-B4BA-2705FE19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7D76-7399-4195-AA22-30A656D9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94D7-C80A-44DA-9E9F-60567B14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D11F-FA5B-42E3-93F2-76F845C7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E80-2430-401E-B93F-7653ABD3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9AF-78C0-44F2-9CAA-E52FD972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534-090A-4C35-A3A5-9AD4DD91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818-CB40-426C-95C5-D552B73C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0F7-8E30-4D3C-B680-938E726B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9D0D-3DB0-4B0C-B125-E1F9CC63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4D4-5F71-4602-BB34-3D59ED2D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BAB7-63F2-48AF-83D3-06560F4E3C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2C52-59C3-43D8-A4AD-DA5B3A9842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H. M. Naught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43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56 – SAMBATRA SY TRETR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6 – SAMBATRA SY TRETR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mbatra sy tretr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kantrano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ara sady mendr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ifana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vo sy miad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no hasamba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ifankatia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na tombot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6 – SAMBATRA SY TRETR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san'andro, ho do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kantrano mifang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hay mifankat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6 – SAMBATRA SY TRETR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jany fa misandr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ra fide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efa sant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mbar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o milamina mi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tiavana mif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mifehy ny tokantr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ô, tohan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6 – SAMBATRA SY TRETR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rana ny l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no fitah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no fofo-mani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dy fifali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kantrano parad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Lavitry ny disadis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firaisam-po no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ainam-bao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risty ô, Fitiav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Mpanjak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dy Fihavan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adan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Arovy ka tah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okantrano ampi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ntatry ny Edena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hatr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6 – SAMBATRA SY TRETR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34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48440" y="5119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34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344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336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4T07:58:31Z</dcterms:modified>
  <cp:revision>78</cp:revision>
  <dc:subject/>
  <dc:title>Tiona Advantista</dc:title>
</cp:coreProperties>
</file>