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5560-060B-49E2-85A9-2A130FF06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7200-8B6F-4164-86A6-A4E3EBA3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BD1C-9829-4520-B1C5-B3E32A5BB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28B2-59CD-4374-A6F9-8AFD83159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0FB9-3E21-4A9B-86DA-F46893B21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A88D-CFE2-4845-8BDD-61F50906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A8E0-FC3A-4F17-92DE-9BF5F721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2B2A-43D4-4742-98B1-4D67A456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4384-7B44-4C1E-9389-E93ED115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CBC5-77EF-4334-BDE4-EAD7FAE3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C7E6-56B5-43B9-A206-9DE4A508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9A49-2F80-40B0-B686-A638FA28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53C7-D783-498E-8CF6-883D7525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1C5A-9604-41BB-AF0B-0BEF20FD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919A-2A8D-4353-B983-E3A68D3D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8D8A-EF3C-4D89-A656-C2671D1FE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F111-BD9A-479A-BB1C-C99C6DEAF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2422-BFF9-4C34-9DB9-80057D46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6597-4820-4C33-95DA-406C2977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60E4-53F6-4D4E-BCCD-76A64A85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8313-1511-4289-AE65-9EDBFA27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8CD6-FE05-42AB-B2C2-88FC5954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6302-1432-436E-95D4-4076207A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AD1B-42E9-4D92-BBA2-EEF8824E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D90D-AC8D-48E7-84A6-5640F8749D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C174-05E0-4E9E-86C0-A83F640630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as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benadimb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. S. Willis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89 – NY FAMONJEN’I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89 – NY FAMONJEN’I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monjen'i Jes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datsahany ny rany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famelana helo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ho fanadiov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keo, ekeo ny fitiav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sy mba mamita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Ty fitiavana mas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keo, ekeo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34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336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89 – NY FAMONJEN’I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monjen'i Jeso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vitany tao Gologot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ve ekeneo am-po mad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ampy ho fiaina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keo ! ekeo ! ny fitiav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sy mba mamita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Ty fitiavana mas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keo ! ekeo !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434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434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336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089 – NY FAMONJEN’I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monjena 'zay vit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raisiko an-tsitra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Jeso , Ilay Mpanjak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&lt;&lt;Fitiavana tsy ho lo&gt;&g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keko, eny, ekeko iz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hafahana atolotr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ô ! ventesiko,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&lt;&lt;Eny&gt;&gt; 'zay Mas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434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336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8T13:41:32Z</dcterms:modified>
  <cp:revision>31</cp:revision>
  <dc:subject/>
  <dc:title>Tiona Advantista</dc:title>
</cp:coreProperties>
</file>