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7D4-36ED-4819-A34C-337DCB57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1C9-270B-43C9-B7D2-556E6795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A79-5D02-4CFD-8ADD-45303C54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5BF-A334-4734-80DB-BD3DCAB6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5003-8932-4887-9159-A523044D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8CBF-507F-492A-8419-C317E643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10C2-F1A9-4DA4-ADB0-70478C70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DF6F-719F-4985-9BD3-5710430D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6E8A-B605-42D6-B760-52C7C685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BA78-D491-4F0E-BE6C-C45207D3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537E-E688-4812-B26B-266E6F4A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BA8-D099-4E39-8C4E-D0D636B6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7B03-8583-4A91-BF9C-035E8E0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4C30-2DBF-4485-991B-630096AE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ECE8-0F73-4EC8-9798-F6FBA9CB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F72C-876B-4DF2-89BA-38B87891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7AD-3B24-447F-A576-798F2072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E4B-78B7-4C02-98E4-E384B8F1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D5B-0569-457B-86BA-5992CD2E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B62-B274-45BA-B602-90E8DF88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C33-9702-457D-8F03-53464442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30E-B074-4121-BD1C-E458B0DE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ACA-3F9F-47D1-8F39-B39D474D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E04-FC32-460D-9893-741C24E2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F4C3-9013-49F9-925A-9B67528826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71BC-20E2-4F3C-B2C6-09B3A84D0A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ichard Mull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02 – JESO MAHAY MANOV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2 – JESO MAHAY MANOV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ahay manov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mpitony ny onjan-drano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lina ovàny ho antoand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mifeny ny ali-maiz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miambina ny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y tsy mba manam-pet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lemena ibebah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y fa avel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240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2 – JESO MAHAY MANOV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erahany ireo nofinof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ho-mainty ho lanitra mang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kamory dia ovany ho no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ny na ny tsy mbola mitrang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rary kasihiny, sit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ny ny tsy mety ata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lemena tsy ifiki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in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240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5:05:53Z</dcterms:modified>
  <cp:revision>68</cp:revision>
  <dc:subject/>
  <dc:title>Tiona Advantista</dc:title>
</cp:coreProperties>
</file>