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E29-D595-4632-A368-10668C1B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A67-4C8D-4331-B76C-19AFDEA0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EEC-642D-44F3-AF74-ACBD0D00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9D6-C616-42AF-AF82-01BD6E4B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8713-F843-49A7-9077-BDBA5F64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184A-9A0D-46FB-B8C3-88921F3D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B304-A224-41C8-A096-AFE1F5CD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92B6-50D5-4F3A-BB2F-5A52C507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7A74-0F00-467C-89C3-5A819B48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A9D1-BF1C-428E-8F28-30435DBC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47F7-AA54-4F88-B614-0CC20924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9EC-5569-41F0-A156-122ED3B2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BE0D-FFE5-42B7-8004-95502999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669F-AC69-4B0D-B6FD-CB1465B2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1DFC-7D12-485C-B089-457ADF82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1114-FD74-4ED4-A342-D0F60322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52E4-3173-45B4-AD5E-F4B89AD2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9FEA-2AD3-455B-9EFD-714BBB90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5AD-920E-498B-9596-39F456AA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09E-74FE-429A-BFD2-C17E3847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CE7-84E0-453F-A8B9-0553091A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359-F2FD-4276-8700-472FA47F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5F2-CE35-404E-BE7F-013C91B9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B1A-414A-436C-900B-4C7DCE3D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F9B0-6DE3-4965-877F-37A857FFB3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4313-79B2-4DDE-BEDB-03EE244164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57 – TSY MANANA HATOL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7 – TSY MANANA HATOLO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nana hatol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, he, maloto mol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gejan'i Sa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eno faho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oty re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indray an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mpianatra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7 – TSY MANANA HATOLO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pandika lalàn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vesa-pahotan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y tsy mahay man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afaka m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vaozy,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raiso, hanj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sory tao ny ot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loy fanahina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7 – TSY MANANA HATOLO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lemy mora lav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hano Tompo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afa-mandeha i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 sao ho v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aherez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finoan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oty sy ampi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7 – TSY MANANA HATOLO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kambana ami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ny tsiron'ai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mpana mamo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oa voa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raha ho av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ahin'ny anjel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ireo navo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'zahay hits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7:11:10Z</dcterms:modified>
  <cp:revision>62</cp:revision>
  <dc:subject/>
  <dc:title>Tiona Advantista</dc:title>
</cp:coreProperties>
</file>