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FC8B-FDEE-4744-8226-2C350C25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97C-F260-4C6A-897E-B75680CB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F1F-3CDF-40B3-9B8A-83E254AE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4A2-8C21-480A-B5A4-DAC0493F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A857-8D8E-4637-BC9F-DA25B9F6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2C5E-EB11-47D2-A066-4839DC61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4772-9E3A-488D-A98E-2606A82D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B0F5-5768-4D76-BA0F-689CDB1F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7AD2-F593-4AC1-BC91-CA1994BC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0571-7F81-4E18-8A67-CD77C9C5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333D-58D8-4383-9B8A-76A3ABFD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905-8A64-44D2-8E95-39933FE5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FB67-4C3D-4640-82CF-CC7B3980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9396-6EE6-4032-9972-67FB6577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A120-BE65-4EE3-9BE4-24ABD532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9831-C504-4B03-84FE-B4C6C950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3E67-BCE7-43C3-B426-D47C251A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B16-85EE-411B-8078-F88BB6DC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2B8-D3FD-4A53-B0F1-50E063E2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8B9-0CB5-48CC-8E58-D4C71988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DB8-A8AA-4486-B40C-1CFA7525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E0E-2C26-4E74-9872-B3E61B47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3F37-CF32-45C7-9C5C-A929B421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DBF-0405-4CF3-8BDF-13E86006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93A9-324C-4427-8684-6B8D226A2F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7020-22D8-4CB3-8A3B-939E853F8B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Razana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Webb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HL02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28 – VONINAHITRA AN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8 – VONINAHITRA 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inahitra ani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Andriam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, saotra, laz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asandratra ho av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ehibe ny herin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ehibe ny asan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rina ny didi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mbara ny hatsar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8 – VONINAHITRA 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rehetra àr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kato ny te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rindra soa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dera ny Mpah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! ny any an-d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ro sy mamiratr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ety an-tan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esehena sady kant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8 – VONINAHITRA 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! ry olombel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sanganas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omeza Az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inahitra sy ha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samb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tahiany fatr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ny raha or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volamena tsa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8 – VONINAHITRA 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Andriam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ny voav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y fe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kalaza Anao hatr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! 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famindrampo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inahitra h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lehibe Jehovah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1T22:03:19Z</dcterms:modified>
  <cp:revision>27</cp:revision>
  <dc:subject/>
  <dc:title>Tiona Advantista</dc:title>
</cp:coreProperties>
</file>