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1E11-14BA-4CA9-B53B-5ED2F9D0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C61-C916-4D0C-AF5A-8FBBA5AB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57A8-AC6A-4E5F-94FF-051FD541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3FD-74DC-4D2F-9793-84AFB30A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DBF8-71F6-47A5-BCF0-4CAD509D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13FF-29FE-49C3-B6F5-DED4689F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5184-1343-413D-B1A7-1F21C7A1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994C-5C11-4550-A750-ECA34360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F0D9-38A2-422A-96B5-2D292074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340A-C7D1-4B5D-94B5-EA8C4319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396C-D18C-4851-80EF-8A9DCBE1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CF7-F6BB-4FDD-B5DE-240DABEA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7E12-7EB8-49D5-9DFF-AD45FCA0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DBD2-B1ED-48C5-8451-57AA35F0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AF99-C7EA-4A87-B5CF-FDE2156C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BAAE-3729-44DA-998F-DA8D64CD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3668-32DE-4452-8669-068340F0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425-3844-4C12-8D93-B0FD01D8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A98-8917-4EA6-9BD5-7BF5F731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9CA-E168-4A51-A099-9D8BD15B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02B5-1BD2-4CC0-9185-04E8B282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A7DD-80CE-4695-A0F0-E39C0CE0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B0B1-6F78-425B-8433-9BFD1A37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EAD7-5BB1-405E-B49A-EBF30F7C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3DD6-240D-4FBB-855B-4A26D4F771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514D-55F2-4095-A598-A529AF5218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ANG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eremô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mahaisah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mahaisah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ff"/>
                </a:solidFill>
                <a:latin typeface="Arial"/>
                <a:ea typeface="Arial"/>
              </a:rPr>
              <a:t>TA257 – MBA HEVERONAO ANG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416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797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17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7 – MBA HEVERONAO ANGE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Mba heveronao ang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Zava-dehib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'Zay nataon'ny Tompona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Hamonjena anao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Aina no natolon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Mba ho avot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Manambara Ilay fit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Jeso Tompona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Maty tany Kalv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Mba ho solona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5797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17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4984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7 – MBA HEVERONAO ANGE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Manatona ianao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Ry mpanota ô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Fa Jeso no miantso iza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Ta handray ana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Izy no manolotr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Hery vaova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Sy mamela helok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Hamonjena ana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Aza mba matahot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Manatona r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416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17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4984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257 – MBA HEVERONAO ANGE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Mifalia re izao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Ry sakaiz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Fa voavonjy iana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Ka voar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Jeso Tompo t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No man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Lanitra sy Tany vao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Hivantananao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Toeram-bononahitr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Any an-danit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416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797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4984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5T03:27:07Z</dcterms:modified>
  <cp:revision>47</cp:revision>
  <dc:subject/>
  <dc:title>Tiona Advantista</dc:title>
</cp:coreProperties>
</file>