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9215-BDD6-497E-9111-005A2AB2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B01-BBEB-4A60-8E98-C7821C42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91E3-B452-4239-9457-05088152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69B7-1727-4907-A45D-663C383C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EF15-C825-4D53-9A19-98B9528F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7B19-2178-46CB-8F34-0BC0DFDA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14FB-912D-4214-AB1B-05FF4C79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7541-865D-4EF2-9888-842B17D9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777A-4A87-44DA-99FE-D86061DD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0B43-FEB6-4C9A-AA80-645776E6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8287-D0FA-482D-ADFD-EEC0C841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B481-FB9B-47B7-9601-09FBAA9D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2DF6-74C6-4A1F-BF13-D0059129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08F8-8BD4-4476-92BA-C0928F13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5AC2-A7D7-4A08-B207-43DECDF1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39D7-36FE-435B-BA61-4021917D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3415-8002-4439-8EAB-911BBD97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4A0-FAAA-4537-96B4-BA04625F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A4A-9F69-432C-B64C-7D073897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D43-92FA-4FFC-91B5-A57804DC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3B8-3338-41A4-8204-6A3BD956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B91-B8C0-427C-AE49-03CB038E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EFE5-1F25-48C9-94FF-73A8140D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29B-2884-4B38-9450-16C81E5E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5029-D564-49B6-9053-0F7DD0B769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ABAC-4767-4C54-9737-6774E388C4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S. S. Wesl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52 – MPAMONJY BE F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2 – MPAMONJY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pamonjy be fian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maty h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ijaly sy nahan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isolo voi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voina sy ny ra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Zakainy mora re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Izy feno an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be fitiavana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2 – MPAMONJY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foin'ny Rainy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ngorohoro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avotra mp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ondra enta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isento nitara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hon'ny helo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he niferin'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avot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2 – MPAMONJY BE FI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ompoko mal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Be ny vit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Ty nofoko ada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ahaval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nefa izany fo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tolotr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keko sady fo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tena lap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4T07:43:09Z</dcterms:modified>
  <cp:revision>78</cp:revision>
  <dc:subject/>
  <dc:title>Tiona Advantista</dc:title>
</cp:coreProperties>
</file>