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A149-F387-455D-A59F-34E5BBFD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EBC7-3C56-4D42-AA3C-709DB0E4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A78-70CD-4930-8054-9151C805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DDB1-FE7D-4F2F-96AD-2C38EDB1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DBBF-2204-45B5-908F-6BDC5D02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C0F2-96B0-4CB1-8A49-EAF326AF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E246-FE56-4EF4-9B6B-695A8CC2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0D45-EB85-4961-8C88-E95F7FFE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7569-0812-4D0B-AE77-6EF4F07A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3AE1-A4CF-4F3E-A938-267E8EF9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BE78-A960-47BE-BF1A-2D49C771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544-7BFA-4F82-85C9-ED10DC3C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D303-ADF4-415C-BE8F-5E5A33A0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4D71-784A-44EA-8849-8D6A61BC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530D-A6D0-4C6C-91AF-29244596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9928-B4BB-4069-B6BC-07169A93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0F0B-1DC6-4FD9-A56A-968FBF10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001-6068-49B1-B507-7C688F3C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849F-BF25-4443-8B63-CF497F2E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F543-9B6E-4354-82E6-5627D855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08F8-7B09-4555-AC24-08E18426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688B-8AAB-49EC-BED1-D2D0C193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6F73-2B11-414F-941D-AE7C48DD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3AEB-BD04-4EA3-B50F-38BC65B0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91AF-80AC-48A3-8A36-A3E286CABB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9672-9E00-4EF6-9654-98658FF641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akav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60 – MIHAINOA JES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0 – MIHAINOA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ainoa, Jes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tinay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tahetanay avy ao a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reha Jes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‘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o voady ata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0 – MIHAINOA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aho 'Lay Fanahy Mpanaz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tondra ny fiain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etra aminao lalandav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ilana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0 – MIHAINOA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idin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mafy ny fitiavan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eteza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sin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mpiraisina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60 – MIHAINOA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jere, Jes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ntàna ny d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lan-tsarotra no mbola aleh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a inona hanj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matoky '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eo akaikinay toko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4:10:39Z</dcterms:modified>
  <cp:revision>80</cp:revision>
  <dc:subject/>
  <dc:title>Tiona Advantista</dc:title>
</cp:coreProperties>
</file>