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AC-185D-4DE9-8D94-2EE36964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A82-72CD-4978-965D-9F96CFA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ABC-898F-443A-8401-ECCF2235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476-6B64-4FB0-89D8-81BA72B9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494A-DC71-450C-8307-E3C9E1A6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271-B9C3-43AB-8BC1-2ECBA70A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E0D8-1CB8-4A77-BFC9-4FF51701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B69A-2F66-49B0-8529-8D585AC4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795F-BDDD-42B1-BAB0-9A2BE92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BCF7-9AE3-4AD7-A250-0B4D9C6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2462-DF52-4F29-929D-147F105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FA9-EA44-4B87-ACD2-DA31D48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02E7-8CF4-40F0-AE7C-A480641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1BAD-6E13-4183-9A69-EECB6E3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280B-B7CF-4517-B9EE-D67230F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FC5-D366-45E6-AB89-7BBEE85F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9E8-1C9B-433E-B17E-9B6CA56E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1C4-1A5D-4EDE-A4F2-55EEB12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0CD-3F9E-4BA4-B7B4-B5EF030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EF2-8462-4672-B8E8-61A2826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675-F78E-4ABA-91CD-A4713AB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4E4-C500-4BF2-A638-54F4C5A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B73-23CC-4259-8DE6-8C89184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456-5C01-4B08-ACF4-EAE3B64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7E0D-BD09-41C9-AD86-D2A4F2488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D187-6002-4E9D-B3D7-CB572D506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H. A. Mi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2 – MIHAINOA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2 – MIHAINOA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vaka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ankehit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aoran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288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288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388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290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2 – MIHAINOA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to zanakao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ezo ka tah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nao ho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288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288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388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290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2 – MIHAINOA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, ry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y rehetra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ovay sy ahits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ho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288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288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388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290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2 – MIHAINOA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itariha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'Reto ondri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Dia arovy ka a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onga am-bal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288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288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290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43:26Z</dcterms:modified>
  <cp:revision>45</cp:revision>
  <dc:subject/>
  <dc:title>Tiona Advantista</dc:title>
</cp:coreProperties>
</file>