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878-BD7F-4D98-A007-B68ED20F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AF1-30A5-4522-97DE-036C764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6A2-6484-49B2-9914-52E4D4B0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B3F-F5BA-4119-B4B8-E8C5DE82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C301-DA33-4C0A-93F2-3BAEE128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743E-785A-422E-BF29-DCDCAADF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A314-8D9D-4D30-9EED-2EA80930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405E-CF2B-4A86-9C28-12520882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703-D46C-4957-924F-FC033FE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7CCB-4C6C-4F20-A3CB-E6580A6B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7D0-D678-4EC4-8024-012ECC5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ADD-B24E-4394-A3EF-831C031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18B1-5B39-43D0-854E-7BBE506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6D75-522F-4569-AC60-427CF2C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40B-BCC2-41B3-94DE-482B337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E168-18B9-422E-9529-5135B4C5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0E23-D31E-4E02-BE65-B9067EB5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8A5-A812-4C78-A21D-5FA6BF30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69E-0E6E-439D-8363-E211E6DB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1F9-BC09-4062-9DB6-12FB52DB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2FB-FC4F-400A-B519-58550C42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102-0391-4B66-BD85-357D44E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370-B614-4FDE-AED7-3BF0ABB5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288-7CFE-4D5B-82D1-C93FAABB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D1BC-79F6-484E-A348-8D3D2DDFCF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AC2-AF01-4ABC-BFE4-44C5B71DCE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4 – JESOSY Ô ! I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4 – JESOSY Ô !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indreto izahay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hankalaza sy hanaja 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ny saotra izay aterinay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avakay re mba val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velanao ho rerak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hano hery mba hahar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ha ho avy Ianao, dia ho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rehetra vory et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4 – JESOSY Ô !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ô, midina, aza el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sanao mangina zava-dehib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zavatra irina : hamasino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y mb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mpaherezo isan'andro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ntanonao re mba ho todi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danitra, dia h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dova lova izay mah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4 – JESOSY Ô !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, mamalia ny vavakay at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toy ny hanitra ankasitra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ovinao ny tena, saina s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kàny re mb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tena lanitra sy 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rehetra vory et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sambatra, ao an-danitr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paly ami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15:48Z</dcterms:modified>
  <cp:revision>42</cp:revision>
  <dc:subject/>
  <dc:title>Tiona Advantista</dc:title>
</cp:coreProperties>
</file>