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829C-2282-43FA-A342-5780FD370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2BC6-E331-4E8C-B16D-B6D7E89A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6B9E-1692-4884-A42C-C1ABAAE2F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D5AC-F35C-42B0-881A-BF0C45694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EDB4-D7A2-4302-BCF9-5B975933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CE50-74AE-4581-99C5-35E906F9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F36E-77EA-430E-8462-D52584F5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E0BF-8F05-4C28-BDC1-16D14C01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026F-0BF2-484B-A398-905B6BF0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1601-795B-47E1-85F8-5AFCBAD9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545A-3781-458C-B5E0-23969661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887B-33A7-41D5-823F-918EADD3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BA37-8E98-4812-B86F-E5A67105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8743-79A6-4D36-9234-03F6D538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AC2E-1212-43CA-A6D5-CFA8E1E3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18A3-86F8-46B1-9F7D-AAB96B2A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B71A-3158-4A5F-B893-5177AB27D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1B28-377A-42EB-97FE-577B95BC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64D4-B773-4389-92B1-DAA65B26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5030-A385-4A31-A66D-502253E2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6C44-799A-4196-900B-88BAA91F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7CBA-5F76-4F0C-B713-7FAE1F32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B676-8FC0-4490-BE5C-F11B672D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F7B9-55BE-415F-A71C-3ADED2A9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E117-8287-4CE4-9FF8-5365A3C7E3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3AE8-F1B6-467A-8D84-E4DD054DCD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nahaterah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arry L. Haris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66 – ‘REO TAONA TAO NAZARE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66 – ‘REO TAONA TAO NAZARE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eo taona tao Nazare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ona kant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nahitan'ny reh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loharano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niboika maiz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oy ny nofo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gina toy ny al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nisy feo 'zay 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6392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66 – ‘REO TAONA TAO NAZARE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eo taona tao Nazare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taona niaf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liana ny reh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n-ko taraf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oy ny rano an'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bany volan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ay taratra avy ambon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, hazav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6392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66 – ‘REO TAONA TAO NAZARE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eo taona tao Nazare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onan'ny adid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y ny zatovo reh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dia nifid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y ny tanora nam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nifidy lal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nandray ho anja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monj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6392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08:17:48Z</dcterms:modified>
  <cp:revision>29</cp:revision>
  <dc:subject/>
  <dc:title>Tiona Advantista</dc:title>
</cp:coreProperties>
</file>