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3C7E-DFE3-4872-974B-8ADFF613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B7E0-2243-4F30-8365-E505ED1F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EFC8-2F21-4C45-AB01-E824BF4E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5AD3-3BBA-4D1E-A7C0-5F97AD4D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0A6A-5012-4DD7-A986-244C0292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0F91-8672-4B25-8ED1-3CB3D8F7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D5D3-736B-454D-A601-F715E734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7BA8-2AF5-4AED-A400-81BBD62A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8263-E83F-47A8-9B07-A562B10D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0F68-8739-4A4E-B434-151D266D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A86C-6CB5-490A-9005-BA84B81E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0D82-C6B0-4735-88B8-4E9E490B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F559-C49A-42F5-A065-FF0D0286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CA7C-4ABA-4C49-98E9-00499FB5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85F9-DAA7-4935-B551-07144A3D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FF24-D3BC-4A75-A412-31A02412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79FC-0F39-440D-92CE-084E5D06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ED36-9833-4E8D-9882-242C3579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60BF-CD9D-4E36-8375-A42A3EC7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9D1E-989E-48E6-A526-77D193B8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CC95-99B8-477E-B0BD-802D9B18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2212-071F-43E1-BD04-806C0776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ADA4-5B5C-469F-BCFF-4ED30886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82F5-2C0C-4389-AEB8-1D233C0D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6030-7415-425E-9EE8-FB452D341A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9900-7085-47E6-AC64-B536B11630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73 – EO ANIVON’AHI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3 – EO ANIVON’AHI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o anivon'ahi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jere, Tompo ô, mij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ry loatra ny fan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mpo tia ô, mij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3 – EO ANIVON’AHI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hainoa fa miants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Miantso A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mlia fa mital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Mitalah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mpo ô, rahoviana r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fa niandry ela be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ela be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3 – EO ANIVON’AHI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didinim-pahot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monje Tompo ô, mamonj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no 'ndrao tsy mahat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mpo tia ô, mamonj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3 – EO ANIVON’AHI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dy lava isan'o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ampia Tompo ô, manamp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san'andro voako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mpo tia ô, manamp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3T05:25:39Z</dcterms:modified>
  <cp:revision>90</cp:revision>
  <dc:subject/>
  <dc:title>Tiona Advantista</dc:title>
</cp:coreProperties>
</file>