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95E-8683-4D89-836A-B3A98AE4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FF1-4792-48A9-BB04-E28178D2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034-F108-41E7-B709-AF450345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70A-C4D2-4E78-A432-58823A12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ED23-873F-4510-8D76-575B115C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778A-6AF0-452F-833E-894C26AF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4C8E-E371-4A9B-BC9B-19739834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D6FB-735C-43BF-B360-BBFA8864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72C8-E382-4F6F-A8BA-F593A994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DBA0-AC9B-4E80-A16C-2AFFB8A6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463A-F6D4-4A7B-8620-1CA38D59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4AC-523B-4DDF-8067-F3039914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6095-5075-472C-823E-FC8336CD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CDC3-D072-4C0F-8872-C617B4F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FEF-FEC4-4619-AEC3-0C5EDF8C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D804-B50C-4BEC-A880-8C5923AB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0EB5-0BBD-47DB-B1B3-05FD43B3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AF7-C434-44F7-9F58-528A98A2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464-38F7-40DE-8763-00D6CC1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A16-F1C1-49E1-A565-12C5DEB9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ABC-EC76-4C7F-A192-BA49AB33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DA1-5FFF-45D5-889C-5721C7EB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771-1F02-4B14-B9DD-5D0B152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548-2A05-4643-9AFC-D66B54AF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BA7-B7BE-44A8-9520-4570E47F13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3DC3-7C7E-42E0-BE34-2FEF78B46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(Tsy fantatra)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(Tsy fantatr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37 – TSY MISY TANTA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7 – TSY MISY TANT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tantara 'zay mamin'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y ny tantaran'i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tontan'ny ela mambabo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o amiko indray. </a:t>
            </a:r>
            <a:r>
              <a:rPr b="0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(Tantar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7 – TSY MISY TANT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o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(Tantarao 'ndray, Tantarao 'ndr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o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(Tantarao 'ndray, Tantarao)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ny Jesosy tsy foi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o indray </a:t>
            </a:r>
            <a:r>
              <a:rPr b="0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(Tantarao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7 – TSY MISY TANT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tantara inoako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y ny tantara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 mitondra fiadanana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o amiko indray. </a:t>
            </a:r>
            <a:r>
              <a:rPr b="0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(Tantar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7 – TSY MISY TANT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isy tantara ilaik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y ny tantaran'i Je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 ilaiko raha hody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antarao amiko indray. </a:t>
            </a:r>
            <a:r>
              <a:rPr b="0" i="1" lang="fr-FR" sz="3600" spc="-1" strike="noStrike">
                <a:solidFill>
                  <a:srgbClr val="2b5481"/>
                </a:solidFill>
                <a:latin typeface="Times New Roman"/>
                <a:ea typeface="Arial"/>
              </a:rPr>
              <a:t>(Tantar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3T07:14:50Z</dcterms:modified>
  <cp:revision>78</cp:revision>
  <dc:subject/>
  <dc:title>Tiona Advantista</dc:title>
</cp:coreProperties>
</file>