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23A0-06C0-4235-8930-2482F802E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4422-D511-42ED-BED2-B1F61BC0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8DF9-2EDC-4063-A7A5-E6640675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6D39-9CE1-46F8-AA68-89F48DFE9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C037-74B7-4D7B-BB3D-6D1925FA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E1A6-EAB6-45F1-A009-189776B5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06E5-2C20-4E65-A88E-C3637E73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A375-F778-48D5-9C07-6F353762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E3AB-576C-482D-8032-F59FF36E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31EA-8D04-4EA3-8648-789DDFF4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3B5B-769F-40DE-BAEC-A9DA9CD9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9E1B-FC12-407D-A15E-FB72C700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213B-6F26-4A83-BB9C-0AB6BF2B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86DD-1454-4661-ADDC-DCAB161A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9075-F448-4C23-B4F2-80B49BAC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BE93-C7C6-466F-AAD1-E431BEFE7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3154-9672-43F7-9D85-D494ED04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0199-088C-44EF-94CC-DB4A4EF1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DD6D-38F7-451B-8E4F-0174A364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0D5C-7A9E-49FA-A1DF-EED381F6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3974-90C3-443C-BE6E-B218FB63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EE43-3835-4D6B-A6BD-DFF08AA2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0DDB-D211-48A7-B871-B0D827D1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D1A2-3D03-49E0-B65E-3A7EDC6E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9167-717B-48B6-A669-65EB002233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51EF-C503-40D1-8A61-4E9941930D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afatra far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orothy Maste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89 – HE NY FOKO MIAND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89 – HE NY FOKO MIAND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Ny foko miandry an'i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iako ho hita ilay tav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rotraka sy ana aho noho ny diako 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iko ny hiseho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336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89 – HE NY FOKO MIAND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ainan-tsarotra izao no e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ngava, Jeso, hamonjy ny ol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tsy ho reraka na hisentosento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o fa hanao ny as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434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336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89 – HE NY FOKO MIAND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Ny foko miandry an'i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ahy ô, avia hanampy 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itory fainaga ilay vaovao tena so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Jeso ho avy handray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434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5:24:14Z</dcterms:modified>
  <cp:revision>53</cp:revision>
  <dc:subject/>
  <dc:title>Tiona Advantista</dc:title>
</cp:coreProperties>
</file>