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417-6FED-419B-9233-C58E715C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032-1894-429B-AC35-6D476907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A93-A0F4-4FAC-AF69-679C312E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D0B-8078-49E3-8A13-7A428EB7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6CD5-16D2-4F25-A8BE-F1A6705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64C3-CD13-4EA9-8E08-9AC1258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9AF-3D8E-4EBB-B9C7-EF3959A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489A-E0F2-47E4-AB36-38B60F6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2D2-A6C8-4CD8-A58A-EC96449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3E0C-E498-465D-95D2-993B5A2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B14-EFD6-4134-A553-DA9965D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F8D-4257-4E8A-A84B-0EB84402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421B-0B0D-4FBB-8ECB-1EC6494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1BEF-F27B-4419-A21C-F406F38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88B8-AF2A-41FB-B514-C4029F0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B8F4-F9B4-4573-B12B-91E0B6CC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79C7-7293-4922-9928-0F4AD5E0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6B3-3A9F-4DF2-B42E-6B103D6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8FB-0191-4FA9-A2C2-AB667265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522-C1A9-4749-A0B5-C9CD4CA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46F-AA6D-44A8-99F0-961CF49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F7A-CC6B-48D2-BF6E-AB205DF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C15-99E7-4C9D-A783-23C6668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3BC-49FC-44E1-9648-AD5F3F8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7AAD-2EA1-4C87-A201-4E97BFC92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93B-B42C-4E70-B859-14E8B4305C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8 – Ô! MITSANGANA ANDEHA MIT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107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8 – Ô! MITSANGANA ANDEHA MI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tsangàna andeha mit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zay mpiara-mias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Aho  momba sy m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tokia, fa handres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, ry Jeso ô, ho i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107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4913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8 – Ô! MITSANGANA ANDEHA MI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soa no aoka hamp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reraka am-pandeh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paho koa ny fatotr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 aty ireo fanahy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, ry Jeso ô, ho i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107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4913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8 – Ô! MITSANGANA ANDEHA MI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sy tia, Anao ny fahef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aoka aho hino sy hank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ky ho ahy ny asan'ny Fan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vonona tokoa hitomband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ty aho, ry Jeso ô,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i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7212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62400" y="4913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20:55Z</dcterms:modified>
  <cp:revision>63</cp:revision>
  <dc:subject/>
  <dc:title>Tiona Advantista</dc:title>
</cp:coreProperties>
</file>