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C0E-8916-46ED-ACF8-80BB3AA4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D82-81AF-4000-9DD3-24C7FB91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C85-3679-4C12-B4DA-B796FC4F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E0D-31C1-4CF9-AD77-14ED52E2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6056-39D6-4B10-8FAD-3948ABBE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5891-AE6D-4A7B-B7FF-2C5A51E0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00EA-79F6-4A20-9F26-8A2131D8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7EA5-3816-4146-A1F8-9D8A790E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83B1-DA3F-409D-9B2C-298627F7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55D4-27E3-4320-B76A-DEC49012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348B-4171-424C-A6AC-BBCE005F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07F-B694-4FF6-90CC-76524A86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88F6-8BED-4C44-8B7D-2BC61CDB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C92D-518D-4B0A-AD71-059EA1E8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18A6-52E5-412B-8455-457DD55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57C0-F35B-4DDD-877A-D6CF1890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B173-DE1E-43D8-8DA8-794CE5D8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857-C135-441E-9520-4D01617E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704-902B-499D-B46A-13A42022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692-DE77-423A-B35E-225BEBD0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54E-D51A-4D66-94B0-36D3E87B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405-12A3-4A48-9F78-A40576C7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4F2-23DE-4533-A742-585479FA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495-EA0C-41DD-B8E0-B930044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3617-32A5-49CA-8A6B-0316892CFD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362A-A4CD-4704-9CAD-D66BAA2C7E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ra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David Rana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David Rana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39 – HE ! MIPOSAKA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9 – HE ! MIPOSAKA AO AM-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iposaka ao am-p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narovanao fa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ratry ny maraina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9 – HE ! MIPOSAKA AO AM-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ly re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zanak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an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mpy ira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indr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onana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anio)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o hendry sy fiaro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aona vao ho An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9 – HE ! MIPOSAKA AO AM-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etra ao anatina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entinay hid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 ny an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9 – HE ! MIPOSAKA AO AM-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Jeso m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ahatra ny andro iain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sisa mbola hom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izanay hano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36:44Z</dcterms:modified>
  <cp:revision>77</cp:revision>
  <dc:subject/>
  <dc:title>Tiona Advantista</dc:title>
</cp:coreProperties>
</file>