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997-C4BD-4BCF-8CEA-C0477691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65F-8CE7-44B7-9354-149D1B69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4D7-3A58-4905-9656-728327AC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5FF-FAEF-4529-A27B-0E6468F2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1A4F-CBBF-4C9B-A477-0E0DF4BB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A77F-2621-448D-A538-8B330750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1472-6923-448F-A382-0373A646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0DE8-785E-4159-A0C5-C1228DE3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B8A-1B83-4D87-8C29-4D1EA7E0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4B3E-86EA-4BA7-A246-C2BB3B7C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F4DA-6D4E-43BC-B94E-7A58D52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206-EDA3-48B8-BBF6-8117087E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D088-BB95-485E-A094-43E441E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5368-E351-4A81-989D-0D13B788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781B-7BBA-4BB8-A422-5A1C83BA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6B2B-8582-400E-8817-3AC2841E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C111-32F6-40CC-84DB-C5ADC3C9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BFE-2D19-4E40-B4A5-1F818044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A3A-D02D-4DA7-99E8-2EA82A69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E99-C7C0-4F11-A5D6-0F25B6F9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60E-8C78-4BFB-BA62-E2B2CEF0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ABC-0A38-46DA-B9C0-BE81C610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C85-C49A-48A3-8007-0ECA38CA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15A-C122-458B-BED0-0E49CBC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FB4-C743-4C2E-B4C0-3D9C24CB7E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DC8-467B-426A-A237-0A4F4D28F5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9 – INDRO TAZAKO ILAY LO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9 – INDRO TAZAKO ILAY LO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tazako ilay lo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laozako ny tany e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ota vita, vonoina tsy hi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ako Jerosalema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9 – INDRO TAZAKO ILAY LO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tsy misy ny to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hiadana ireo 'zay sas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derana no re mana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ako Jerosalema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9 – INDRO TAZAKO ILAY LO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rahovi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no h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n'ireo lokanga volame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ko sahady ireo afaka 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nina ao Jerosalema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9 – INDRO TAZAKO ILAY LO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avia, ny olona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elabe, ô aza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drao tsy tafi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tsy hahita f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Jerosalem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2:39:38Z</dcterms:modified>
  <cp:revision>36</cp:revision>
  <dc:subject/>
  <dc:title>Tiona Advantista</dc:title>
</cp:coreProperties>
</file>