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CC0-59CB-4321-9816-C33C2D67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8BD-6698-4624-B26D-0DA6D20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F3E-D06E-4D30-9D5F-2DA2DD6A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17C-B8DC-44FE-A0EE-1FBED0AF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830-7DC6-41E5-A9F5-7FDF91BF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B522-8804-4491-84F8-C8AE1DF4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00F8-0987-4117-BEA9-50F422CC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72A-1488-4889-9B6F-86D3E28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7E8-9930-48CB-A95E-B074DA24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357-8B27-42AA-8666-3E3F900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EC24-B7E9-40CF-9C23-15D760D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2EF-2E89-4FF7-AC54-702BF723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7401-28EE-4200-BA36-8E82D638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0218-3689-4121-8980-24BEFC0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9099-60B8-4414-8809-8F7A4F4C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3CDF-1137-4007-B228-A6E8E423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3B5F-DD46-44E3-9E49-0A461EE7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788-C159-4FC4-BCF1-CA6D40E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6C1-1219-465B-861C-62B7AEC0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273-B4E1-47CF-BBDF-32071E82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B90-550D-4FA0-9288-4F9C15B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FA5-8393-4961-B9DB-B0261BD2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DBD-1102-41E6-A43C-2B95165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57F-C3C5-47FF-A599-FD5DFD1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6392-5062-4474-B773-CA73C348D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C2FF-ACF3-423A-9140-A31D2B1261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J. Andrianaivoravel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Doan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1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8 – JESO TOMPO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80596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8 – JESO TOMPO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ky ny Ra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latsain'n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nohajai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0596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8 – JESO TOMPO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ia,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voahomb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tany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re n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0596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8 – JESO TOMPO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ry loatra fah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k'ondry mo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mba ho sol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voako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0596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8 – JESO TOMPO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lahelo, be n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n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ijaly sitra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y Gologot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0596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Mpamonj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afoy ny a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ry 'zay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y amin-dRa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8 – JESO TOMPO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39:21Z</dcterms:modified>
  <cp:revision>37</cp:revision>
  <dc:subject/>
  <dc:title>Tiona Advantista</dc:title>
</cp:coreProperties>
</file>