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5E3-16CE-410E-896E-8F8E2018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C97-42B9-48FC-9B98-15315A42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D28-524B-45BB-A949-93D9F323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5BA-0267-4F51-803F-23382FEC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AE03-0F7D-4091-A36A-0DF3D868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CF2C-E096-4271-AD28-FD5BFB7C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456D-69F6-469C-B90A-E68327AD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63B4-658D-4F6A-9403-FC6C1AC8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223D-A311-42AD-A3BD-7E3B9CB1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07E3-195B-46A9-BCFF-FD9C8963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ED04-84DC-4620-B0CF-B6444003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6012-2C57-44B2-857F-9617711F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46DF-8F16-4D8E-8786-C236D32D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07B0-15A2-45CF-9438-D502D375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6362-8090-476C-9F22-00E78FAA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1B40-F8C2-4AE3-A7F3-DCE80137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71B9-2551-4FEA-9632-977E3E6C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8F9-41D8-4CCA-B322-A9F4682B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1BA-93CE-41E8-B2E9-3DC36B63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8293-2A21-4E32-A164-63D26487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664-722F-49FF-BFAF-BE6063F9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285-DD7F-4E1A-AAC4-BCA44382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9AB-5DA2-4753-93ED-A53CF274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F26-7BF9-4657-B0F7-19D383A8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F5A9-D965-4E7C-81DE-3684BB7D30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6542-E07E-41F9-851D-D77B4F8F77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TA479 - </a:t>
            </a:r>
            <a:r>
              <a:rPr b="1" i="1" lang="pl-PL" sz="3600" spc="-1" strike="noStrike">
                <a:solidFill>
                  <a:srgbClr val="ffffff"/>
                </a:solidFill>
                <a:latin typeface="Arial"/>
              </a:rPr>
              <a:t>O ! MIJOROA FA JESOSY MPANJ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2900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F. Ramanantsialon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F. Ambres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TA479 - </a:t>
            </a:r>
            <a:r>
              <a:rPr b="1" i="1" lang="pl-PL" sz="2800" spc="-1" strike="noStrike">
                <a:solidFill>
                  <a:srgbClr val="ffffff"/>
                </a:solidFill>
                <a:latin typeface="Tahoma"/>
              </a:rPr>
              <a:t>O ! MIJOROA FA JESOSY MPANJA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Mijoroa fa Jesosy Mpanj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mampahery sy miar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a dia mafy ny ady ho z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esy Satana, Jeso momb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a dia mafy ny ady ho z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esy Satana, Jeso momb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TA479 - </a:t>
            </a:r>
            <a:r>
              <a:rPr b="1" i="1" lang="pl-PL" sz="2800" spc="-1" strike="noStrike">
                <a:solidFill>
                  <a:srgbClr val="ffffff"/>
                </a:solidFill>
                <a:latin typeface="Tahoma"/>
              </a:rPr>
              <a:t>O ! MIJOROA FA JESOSY MPANJA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Miadia aza reraka ak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ry manàna finoan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a dia be 'reo zava-mah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antsoy mba hanafa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a dia be 'reo zava-mah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antsoy mba hanafa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900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TA479 - </a:t>
            </a:r>
            <a:r>
              <a:rPr b="1" i="1" lang="pl-PL" sz="2800" spc="-1" strike="noStrike">
                <a:solidFill>
                  <a:srgbClr val="ffffff"/>
                </a:solidFill>
                <a:latin typeface="Tahoma"/>
              </a:rPr>
              <a:t>O ! MIJOROA FA JESOSY MPANJA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Reo fahavalo manimba ny t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manahy fa Jeso no je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faka hanampy anao amin-k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handovana ilay tany 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faka hanampy anao amin-k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handovana ilay tany 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TA479 - </a:t>
            </a:r>
            <a:r>
              <a:rPr b="1" i="1" lang="pl-PL" sz="2800" spc="-1" strike="noStrike">
                <a:solidFill>
                  <a:srgbClr val="ffffff"/>
                </a:solidFill>
                <a:latin typeface="Tahoma"/>
              </a:rPr>
              <a:t>O ! MIJOROA FA JESOSY MPANJA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Ry sakaiza mpitolona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Mpandresy sy miar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y niaritra sady nih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oa aza ketraka foan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y niaritra sadi nih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oa aza ketraka foan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900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3:53:31Z</dcterms:modified>
  <cp:revision>117</cp:revision>
  <dc:subject/>
  <dc:title>Tiona Advantista</dc:title>
</cp:coreProperties>
</file>