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68B-428B-4D16-84DA-1EA1C893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47B-F598-4F11-BEAB-479A84BE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3B6-0992-464E-A314-DE90B0A4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092-2D70-4B48-8D68-D7F336E9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C788-5138-4433-A18A-E0177984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540B-001E-40CD-B65A-DE2E5966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6B71-B8D5-46D3-BAC9-5615AFEE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DD52-BF9E-4CEE-87C7-7577EF84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D0DF-53C3-43F6-A3E9-DAF9384F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3B8-3B5A-4FF8-9C56-D5428D6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041A-F342-4AD1-937A-1F020B9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F97-46EA-4962-896F-F0059467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0891-7806-4692-8C8A-A4A4D75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556A-AF6D-4D6D-BBCB-3375D7A5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532-0989-4677-B7CE-4262C328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E126-11E0-4AE4-8E3A-DA05DAE8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75C9-8F42-422F-B52C-E48BC2FA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DC8-D503-44ED-9783-4C3493E5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D25-EECD-4B7F-998F-B2B36C4A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03C-1DF9-4084-ADDE-4ED07E96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6B5-0CF4-4FA0-81AD-A9B57777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D6B-E26A-4EBB-90AF-66D91241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FB6-5126-4F8B-9C11-5693AAB1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B31-B2DB-4AB6-AC8B-1360DC88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245-C3A1-40C6-A435-1C50B24591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6F73-D1FC-4269-98E3-703700FA4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ahaterah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reensleev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8 – ‘LAY ZAZA IZAY M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68 – ‘LAY ZAZA IZAY M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zaza izay matory 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ofoan'i Ma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zaza iza loatra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betsaka mp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8 – ‘LAY ZAZA IZAY M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fa teraka Kris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jak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hiaraka amin'ny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sa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68 – ‘LAY ZAZA IZAY M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jely avy ka mitsaok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-kira ma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rak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mpiandry o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mba tam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8 – ‘LAY ZAZA IZAY M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hinanam-bi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y mba fandr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zaza dia manino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ny fihafi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ory ianao na mp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hank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an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Jesosy Za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8 – ‘LAY ZAZA IZAY M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2:56:18Z</dcterms:modified>
  <cp:revision>31</cp:revision>
  <dc:subject/>
  <dc:title>Tiona Advantista</dc:title>
</cp:coreProperties>
</file>