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7EF-3230-45D9-9DBD-CFAEA98C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79F-9C88-47E5-AABE-06BE4854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CFAE-BCA5-42A8-8DAF-3A84E1A7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7F4-2BB6-42D6-92D2-7D491591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0ECE-D3D7-4B5B-9E9D-A5191150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AB4C-C397-427B-BB8E-A02C82E9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4E2F-5646-417E-9BD3-DEA60E66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2594-62CB-4EA3-AE76-32DEE0F3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74CA-422C-4FDC-980C-9F8BA0FA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7ABA-42DB-4644-819E-E6CE98CD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6E0E-6FEB-41CB-BC9F-3E6599FA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75C-2546-4F28-9927-D739FB97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486A-645A-4F06-943D-9AA1E67C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60B5-F35D-442F-8F78-18D663F8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DC02-0C88-42FB-895D-E46FC91D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A555-D6D1-4542-9114-C8F8B79D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A3BC-1A47-47E9-8356-977175BA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547-95C4-4682-803B-350BB216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93C-D6A9-4603-B3A4-FD465B64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C6C-563E-462C-9807-B623982D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429-04AF-4134-BA3D-8E0FE917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9F0-6526-4E25-96CD-27B5A3BA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63E-9CDF-4DA0-98A1-BE946D2D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48E-DE78-4AB4-A360-2D60B530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8185-AF36-4992-95BB-04726BFE0F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792F-8CC4-430B-A427-52778BEB74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barij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89 – INDRETO FA VONON-KAN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9 – INDRETO FA VONON-KAN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eto fa vonon-kan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hay zanakao, ô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isy ekenay ho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fa-tsy Jeso Zok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tianay intsony ny 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matotra anay hatr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lalan-komban'ny mpan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foinay hatramin'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9 – INDRETO FA VONON-KAN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reo ô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androso 'zahay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hano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ijoro hanara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9 – INDRETO FA VONON-KAN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nefa mafana ny 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rehinay ankehit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ila hivarina an-k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hay, ka vonjeo sy amp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tana mikendry hando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melatra fandrika b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no, ry Ray tsy, ho la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zony akaikinao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9 – INDRETO FA VONON-KAN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erinao Jeso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inay hananan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erinao nenti-namonj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hery mandres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zava-kendrenay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raka ny did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ahy ô, tongava hito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-ponay mba ho lap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4T07:35:27Z</dcterms:modified>
  <cp:revision>90</cp:revision>
  <dc:subject/>
  <dc:title>Tiona Advantista</dc:title>
</cp:coreProperties>
</file>