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6DA-AD8F-4F2F-AB40-14E2D42A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7B4-6A9A-4CC1-9F3A-56394022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E14-900C-4C2C-9493-47172CB7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C8D-22F3-452F-9528-5F9604EA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8B05-6F54-42B5-9FCD-88778323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0DAE-263B-4E0C-9F54-E56EC94E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191E-320D-4EA1-B53A-E9A9BC67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62E3-18BF-4564-9535-E9C2F66A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AD9E-D4CC-4F64-9A9F-4B1E5479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A5BB-1799-435D-9C49-91E6AB9C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7F5C-EDA4-4251-9053-BC61413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5E0-D447-4C4A-B678-B9F295D3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C369-E54A-4326-B8B2-F65FD96D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FFD1-63DC-4BBF-8F1B-3A59B4A5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79EE-5B48-4D65-BFB1-4DD1962C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DE64-ED16-4B44-9388-000CE977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4B26-B693-4215-9D14-34A63C60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464-FDBC-46D0-9B54-6BDB719E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996-EBEF-4B14-832C-B9EB8CD1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545-CBF2-445C-AE03-0A635F9C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4D3-5E08-4BB9-ADA0-2F5E72D3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CE2-9C49-42B3-ADD8-76D6B5F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86B-ABE8-42BF-AEA3-AF85AA5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509-7D7D-4D74-ADF2-855112B7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F798-FD77-4D73-B1CF-D7E5E43AF4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9226-AC8C-4829-8A90-CBA8F22132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samoel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samoel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20 – SABATA MAS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0 – SABATA MAS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bata 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tsah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tsaha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bata 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ti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ani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fali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0 – SABATA MAS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Sabata 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No nitsah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Ka itsaha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0 – SABATA MAS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bata 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Tomp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voat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mina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0 – SABATA MAS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bata 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y malal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amasi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asin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bata 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Tomp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ena andr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vavah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20 – SABATA MAS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10:10:03Z</dcterms:modified>
  <cp:revision>43</cp:revision>
  <dc:subject/>
  <dc:title>Tiona Advantista</dc:title>
</cp:coreProperties>
</file>