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0E5-BE36-445F-B13F-E47857BB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910-32E4-42FF-A6D5-81AB99FE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F4D-4E5B-4CE2-81DC-E06157B2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724-58A0-496D-B169-6D3F9334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9D10-4FE6-49B2-878B-30D4FDDC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2A93-9B67-4BAA-A025-50165EE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53DB-F797-434C-9154-79E7FB8F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0823-4C18-4DE2-949B-2510D76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4E05-5D82-4CF1-B536-AD29F719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B63-C456-495E-8030-1B6AA1C9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173-02D0-460A-A0FF-73C71165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698-7C65-4F37-9798-73109BAF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AA1-A3CB-4E15-950D-DA84347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77B2-1836-4A7A-B430-9FE5880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4562-CD2F-428F-9FAC-A3BCEE84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F7A8-B696-4F38-B62C-43AD796B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9F43-7BD8-4504-BDBB-8A6730CB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AB2-E576-416A-97B1-F5B0197E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E9F-7695-42AD-94AA-DE3E77F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AEA-2178-4399-893B-F2150C48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CF6-B2C1-4781-9B31-85D1B08B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943-C6C9-449F-B4C9-0138E52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2C9-3AE0-4C6E-8941-BE68D99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552-0454-49FB-9653-B6B986D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0A6-399A-4300-BA52-885F3FCA0A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C315-90AB-4F19-ABB5-42809157E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intimol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M.S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18 – MISAORA AN’I ZANA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8 – MISAORA AN’I Z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ra an'i zanah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olona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nkalazà A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ton'izao rehetra 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8 – MISAORA AN’I Z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zavatra nom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faly, 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andro farar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andro mipo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8 – MISAORA AN’I ZANAH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mpitomboy ny s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lala ny te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fantatra ny 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sitraky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22:16Z</dcterms:modified>
  <cp:revision>29</cp:revision>
  <dc:subject/>
  <dc:title>Tiona Advantista</dc:title>
</cp:coreProperties>
</file>