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028-4F64-4259-A259-2C3988F7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E28-631B-4475-B7D2-E5FAD6AF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C37-C74C-421D-A5AD-F329357C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66A-5BE1-4634-A047-132212C9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4370-C812-4391-BEF0-BA0BD39A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60B9-F364-45E3-AACD-D13F6EC7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34DE-27EF-4635-BC86-7BACF5B4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0A59-B883-48C9-9D68-4309C65A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511B-E2AC-4D45-90C8-7877E13A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BAAB-8074-4902-A910-FB912F3A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B12E-E6ED-44C7-8D15-C857FE9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81F-C5BF-4E2B-8E50-9F961E53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0B50-A421-41F1-B800-E7201ED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F4CC-8E10-487F-96F1-130A67C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87D4-46A0-401D-8F31-385CB0F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C178-F477-4395-91F3-81CA0116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26B3-3912-4844-B853-AE5D2519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09A-01F7-47D8-878B-37550ADD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E67-8402-4C8C-8A79-2D84015A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833-F1E6-48B5-90B5-E9F7178A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220-8F53-4A1D-BB4F-C6F98CE1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4F1-3200-4A62-ACAF-44F81FB5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AF6-1C86-4866-8CE4-784AFD53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376-611C-469F-BBF5-BBE81A0E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E156-C90F-4708-B736-431672F786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65F9-47C2-4C64-AECF-525D46F1B3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i-FI" sz="1000" spc="-1" strike="noStrike">
                <a:solidFill>
                  <a:srgbClr val="ffffff"/>
                </a:solidFill>
                <a:latin typeface="Tahoma"/>
                <a:ea typeface="Arial"/>
              </a:rPr>
              <a:t>Kurt Kaiser - Mamy J.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4 – NY FITIAVANY AHY S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4 – NY FITIAVANY AHY S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ahy 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e ! Nanolo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ny ho fanavo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h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tiany izaho sy ia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74 – NY FITIAVANY AHY S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eha teny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eho ny fiti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‘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y Jesosy fanomez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h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tiany izaho 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9:44:30Z</dcterms:modified>
  <cp:revision>30</cp:revision>
  <dc:subject/>
  <dc:title>Tiona Advantista</dc:title>
</cp:coreProperties>
</file>