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F769-ED4C-45CE-A2D6-8A39D3B4A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18D4-5CCA-47BA-BDBE-9096F05E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7F39-EF32-4C04-9EED-3FF5B918B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E946-D7F7-473D-A478-363819C9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91D2-A31E-4FFA-BFAC-7F2F19F9B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78D7-A125-45EF-8291-19E656DF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9804-9735-4856-92B9-A056F51F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F9CA-A64F-4325-ACB0-5104C67C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0021-DA7A-452B-B048-4D282894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655E-1C3D-45B1-9504-58CC5E1D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A968-B548-46B5-A078-41FD7D8B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6266-C6E4-4601-9AAD-3434551C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99B5-9A7E-4575-AC2D-B4BA4111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F105-6C86-4D47-942D-7EB13579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4DD9-05D4-4E82-B6E5-F3D90989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F0E5-953B-40D6-87DB-3AF71C2F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0D4E-680E-4788-9A69-61D03F3E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4942-2E86-4AF0-9BB4-EA64FE6A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C392-83A4-48C8-A16A-1596E20D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FF74-5CF2-4711-A88D-FB90EF2C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9C56-6C77-4801-931A-8CF7D202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5A87-201D-4DA6-B04D-29B1B103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2366-79DD-46D0-8E14-A4718EB6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FCA5-4845-41EB-984D-85F0D27F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F846-4A4F-4E4F-AB83-1434A040CA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C9F8-C88A-4495-8D6C-67F467E97B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07 -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VIA RE, RY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31160" y="5943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Vonjy sy Fampion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Dera Ar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Dera Ar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07 - AVIA RE, R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Corbe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 Avia re, ry To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via mipetra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izaho mana-kolazain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via re, mihain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via mipetra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izaho te hiresak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e hiresaka aminao. </a:t>
            </a:r>
            <a:r>
              <a:rPr b="1" i="1" lang="fr-FR" sz="3600" spc="-1" strike="noStrike">
                <a:solidFill>
                  <a:srgbClr val="00ffff"/>
                </a:solidFill>
                <a:latin typeface="Corbel"/>
              </a:rPr>
              <a:t>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8831160" y="5943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88354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8833680" y="519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07 - AVIA RE, R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Corbe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 Indro efa akaikiko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tsy avelako ints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avelako handeha intsony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tsy efa namonjy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aniriako lalina uindrindr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a ny mba hipetrah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to anilako hatramin'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ompo ô, anilako mandrakizay. </a:t>
            </a:r>
            <a:r>
              <a:rPr b="1" i="1" lang="fr-FR" sz="3600" spc="-1" strike="noStrike">
                <a:solidFill>
                  <a:srgbClr val="00ffff"/>
                </a:solidFill>
                <a:latin typeface="Corbel"/>
              </a:rPr>
              <a:t>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26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354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833680" y="519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07 - AVIA RE, R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ndro efa akaikiko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tsy havelako ints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havelako handalo intsony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honina ato am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atria efa mitady ahy ela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ao dia eto anil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tiako hisaraka amiko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atria Ianao no zokiko 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n-3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26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31160" y="5943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833680" y="519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2-02T10:14:18Z</dcterms:modified>
  <cp:revision>118</cp:revision>
  <dc:subject/>
  <dc:title>Tiona Advantista</dc:title>
</cp:coreProperties>
</file>