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43D3-939E-4BD7-AF18-9136F070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D4C9-AB46-4E36-8FFA-FC018C59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4FD-9A0F-4C3E-930E-2A47D4E0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3747-4FCB-4CA1-97E3-3550E880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716A-7EA6-4D8E-B35D-21140FAD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4189-1147-4874-ADAE-921B05EE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0642-AD55-4F7B-A71B-7053DB40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3B97-90F7-4206-9042-18881DBC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3EDC-46C9-4DE9-9E2F-15714BEB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361A-A027-4F4F-97F5-A357A5CB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7744-5203-471C-9832-B5FE4512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3F0-7942-4A92-BEB2-76A7630F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A761-1E3F-4BE9-9D92-2B46DDA9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B052-F247-485F-988F-C33BD241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E34C-EA15-4DA5-B4B5-C56E22FD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2748-03C7-426E-B299-B656E256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66D4-5C77-4B41-8CA9-AC170912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DA7-5800-4D0B-A653-961DCF37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8669-3093-4D29-BC06-B44E6378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9C1-982A-4E33-8630-5CFAC50E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655-65D7-4895-B2AE-0D3B5E1B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FBC-0315-47C3-81EA-652F75F0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C23-2F37-4387-A2E2-00028048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EB7-D20A-4C1C-82AC-CDCEDB9F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C7D2-0B91-4C39-9417-35D3D28726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9A01-C22B-43E3-AD9F-5CF244F30D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nakav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zafimahafal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H. M. Naught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432, DLG37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54 – TOKANTRANO SAMB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4 – TOKANTRANO SAMB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kantrano sambatra toy ny l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jakam-pitiavana, faly mi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ravoam-po toko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mem-panah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y fitiavana Mampikamb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ario soa toko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ga ka hanjaka ao ny fitiav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4 – TOKANTRANO SAMB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kantrano sambatra Toy ny l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ra-paly avokoa, Miaraka or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tana maves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 mahasas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hefa ny fitiavana mampikamb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ario so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ga ka hanjaka ao tokantrano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4 – TOKANTRANO SAMB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kantrano sambatra Toy ny l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mahafinaritra raha mahar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a fikiriz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eram-pamah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y fitiavana mampikamb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y ô, arov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haritra tokoa tokantran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13:10:56Z</dcterms:modified>
  <cp:revision>78</cp:revision>
  <dc:subject/>
  <dc:title>Tiona Advantista</dc:title>
</cp:coreProperties>
</file>