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4E7-27BF-432E-A3AA-EBCFB726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C7A-9DA1-4041-8128-30C0CE22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E97-22D9-495C-8159-333D1FE5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E27-39B9-4B74-8DFA-30774DDE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BB13-E600-442E-90A0-94641141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5068-2DF6-4E88-AA6E-6298FFF0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83B1-37C6-420C-8B62-61CB5F54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1C9C-090E-4704-8F20-20D643F8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7904-BAF8-4975-AE63-917EED55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A01B-F16A-4E1D-8A1D-DCD6FF7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E774-F0A7-4EAE-871D-6B0C4C2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928-14E7-4BE0-99C4-44C20675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3EB6-BC5A-482B-9AB4-11E2983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DC16-C292-4D14-BDF3-70F61C9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D29E-8105-4D79-9988-37D6E11B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01D9-7CA1-4E84-8B2E-5DC3545D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3B6E-7BEB-44A4-9FC7-0087FCA5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2C3-15EA-4E8A-BEBD-5681FB10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696-E17C-4C11-8A8F-666D3F84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36F-F825-4F26-95F2-46733C71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DFD-14C2-4814-8406-0E80AC1E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31E-0013-406B-B843-13B2774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134-6608-401F-A901-BE87CD02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CA3-AD46-4A68-A34B-8DF73E00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EACA-B360-415B-B03B-E807BFE49B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416E-60F9-435A-8C48-53F2B61DDF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E. Bol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54 – ANIO JESO, HO R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4 – ANIO JESO, HO 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, Jeso, ho reko ny feona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so hoe : Avia manat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, Jeso, izaho 'zay nanias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ro fa he mitolo-bat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4 – ANIO JESO, HO 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, Jeso, he tazako mihom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ery ambony Gologo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, Jeso, toa tsapako mitom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fitia : Izaho tsy handà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4 – ANIO JESO, HO 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, Jeso, ny fahatanor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foiko re ho eo an-tà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, Jeso, tsy hisy fahot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entiko mba hodio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4 – ANIO JESO, HO RE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, Jeso, vohako re 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diranao ho lapanao do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io, Jeso, 'Lay tanam-bokov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 mandra-pahatonga 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e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7:51:12Z</dcterms:modified>
  <cp:revision>78</cp:revision>
  <dc:subject/>
  <dc:title>Tiona Advantista</dc:title>
</cp:coreProperties>
</file>