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F24-40C8-4AAB-B440-C6A5C352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3F3-D084-4AC1-AF6E-17A6EF9C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8B2-1A13-4637-8063-865CDDB5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1EF-D65E-458C-BC2F-4B0C64A8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1188-8A6D-4019-AE59-FEC8FB0A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F205-4216-4F72-A572-64E2E05B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846A-0A7B-4F08-BB58-24493984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2BBB-21C9-4989-9BE9-55471F09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881F-5219-43E5-8960-22BA08C6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37F1-6993-4FBD-983F-1FB74391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D41C-C404-4D16-9113-EBE777C0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A35C-88E1-4C74-8CE7-32A35862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3A98-B65C-47D8-9062-D337AC12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1E04-9571-4DF7-AAE5-AE53EDF0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26B9-BC35-4C9B-B32D-7CC83105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A239-D213-4EEB-B62F-AEDC1BEA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5554-503D-4FA9-9642-B43514CF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63D-B625-4691-B0D4-28FE97CC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352-7391-4CE6-86FC-B2929562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ED5-DC8D-42FD-91B8-F4395D23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DA0-B1FD-430E-9215-427AA22A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641E-0010-47C8-8311-C17F4BFF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69B3-456C-4CA5-A726-7B3CA57D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61E-3C72-4CA5-8C3B-1AA39149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675E-FCC2-4B58-8D79-698D7857F2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AD99-ACAD-4A1D-89D2-979248CC91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24 – SAMBATRA, TRETR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4 – SAMBATRA, TRETR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batra, tretrika feno ha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Jesosy mitoetra ao 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ny tahotra sy ny hakiv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foana tsy hisy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ry Azy ny fiain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Zoky dia miandr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ondona eo am-baravaranao I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 hiditra ao am-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83368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24 – SAMBATRA, TRETR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tsara tokoa ny fonenan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mboarin'ny Tomp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batra, tretrika feno harav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voavotra tafiditra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iry izahay ho diov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 mendrika 'lay tany 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Zoky tia, indret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osoa ao am-pona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33680" y="5581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9:27:29Z</dcterms:modified>
  <cp:revision>61</cp:revision>
  <dc:subject/>
  <dc:title>Tiona Advantista</dc:title>
</cp:coreProperties>
</file>