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8EA-8713-4E68-8B17-FBD6EAF0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D2F-3D81-402F-AD47-B4452F1A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BDA-D6CB-45FD-9920-030ED95F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F5F-137D-4520-8ED6-C7F0F428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46B-4B7B-447C-B582-2483D1E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9514-83B8-44DF-901E-22CCE02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B4F-68B7-422F-BD5D-057186A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272E-5D3E-46DB-B80A-9C38743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6D6-C570-478F-92F9-5FD85256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1EE-31D4-4599-8012-86881FC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2078-2AB8-4AA1-9E1A-B4FE9E0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FF7-FEB8-4011-8268-15CC5F9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250-DC78-476C-AE38-C8E687E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A61F-BC62-4465-898C-830EB622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6EAB-2158-4EE9-9ADC-D8D9FA8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AB5-67C5-405D-AB0C-5C6AF8B4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B8F7-B5DE-4533-9F3A-641DCE7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1FF-682D-4FFC-86C7-3C982BB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5D7-68E7-483E-8A6B-CC34704C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779-6B2F-47AD-881F-1290E1DB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EDF-0269-49C0-A93B-6179C34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F7D-6342-4B8F-B0A4-1400BEE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CFC-EE40-4841-8CB5-CA725B0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059-7C17-40C7-B857-87110326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D8C-F343-4500-A7D1-0D5D87B3A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5CA0-ED9A-4555-876D-F47708152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kotonirai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A. Mill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8 – RY TANORA MIJO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8 – RY TANORA MIJO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anora mijoroa Ho vavolomb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risty no mibai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oroa, mijo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o avo be Ny fanilo ho taza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oroa, mijor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risty eo anilanao Mba ho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o ny feonao Mba ho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oroa, mijor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08:27:32Z</dcterms:modified>
  <cp:revision>88</cp:revision>
  <dc:subject/>
  <dc:title>Tiona Advantista</dc:title>
</cp:coreProperties>
</file>