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9219-D941-46B2-9246-5EB5F52C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591F-98A4-4AF8-A10B-547ED360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515A-7A2A-487A-9711-8A6E04B9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7052-110B-42CA-8DC3-6C35E4F1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8C74-7AAB-4123-960F-A0CDE27EE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2DD6-9CA9-4B5F-939A-0AEDAA63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F4C6-E7BF-4192-9909-7BC76839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34A5-1734-4366-8E14-8D58296B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D9BF-58F4-4D30-8FAC-F171747A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5CF2-4F32-4B70-AFB3-8151DF75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313C-9AA2-44C3-A0CF-F76228E5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CBFE-4F54-4434-9298-B9C042CB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B3D3-A7FF-4440-9140-025A6F0F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2A97-4E53-463F-A850-01A08D14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7E6A-D051-485F-B1B8-67AA818B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BAE9-39A6-4419-AF08-8A3FBF0AE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EC69-8EF3-43C0-9708-0198CB058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FC5E-AB42-4E02-BEC0-F8662B27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E0DC-E0B0-44BF-A393-36676A8C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1003-E46B-4003-B84D-12259AC8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4D3F-A42D-41BC-9E34-B2E5AA1D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019E-62FA-427D-8F7D-13741EB2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E2FE-E258-4559-8DD5-F7945C55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9434-9AAA-404E-8A8E-8F14E799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0353-E1A7-4EEB-9C8B-32E3C85609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F1D4-7A29-42A1-B8D5-C1BE73791E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inany sy ny fahafates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. S. Widdemer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71 – MOA TAZANAO MIHOMB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178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4880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71 – MOA TAZANAO MIHOMB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tazanao mihombo 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Tompon'ny fiain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fantsika eny Kalv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votra, hamelon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57800" y="5178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5780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4880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4880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84808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71 – MOA TAZANAO MIHOMB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hy re sy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nanekeny ny manj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tiavan-tsy voafetra iz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ao hatolotra ny f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5780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5780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4880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4880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71 – MOA TAZANAO MIHOMB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efa anie tsy mendr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feno loto, ota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tambesaran-kelo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oa ho raisiny toko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5780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57800" y="5178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4880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4880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84808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71 – MOA TAZANAO MIHOMB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iny indrindra re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menao ho fanat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hamasininy had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lapam-boninah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5780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57800" y="5178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5780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4880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84808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aiko ny handao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be fitia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olotro tontol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-pelatananao ny f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ahoma"/>
              </a:rPr>
              <a:t>TA071 – MOA TAZANAO MIHOMB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5780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57800" y="5178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5780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4880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4808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09:35:03Z</dcterms:modified>
  <cp:revision>30</cp:revision>
  <dc:subject/>
  <dc:title>Tiona Advantista</dc:title>
</cp:coreProperties>
</file>