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BCD-2FE5-4556-8DCA-CBD43280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280-23AE-4E62-BBDC-ACF6C6AA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E9D-489B-4071-97D6-F70E26F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B10-FE27-4E17-BE6C-F287A486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6165-FC12-4DEB-BF7F-FE71AF97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D34-EC1C-4A93-9343-A32C5F7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119-1DC8-45E5-9580-134263AF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8655-0A0A-4330-83D9-3FE6812D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07A-42F3-49B8-B263-95D16888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F1DF-F809-426D-9A63-97CEC4A1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5D1D-D1FC-4EF0-B371-C9EBE91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676-3D1C-4790-BDF1-EB3121F8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4789-786B-47A8-8BFE-28D919D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B046-52F9-4E38-B222-E03A61DD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13ED-5951-43C0-9D1C-1E07287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6AF-20A8-4766-B644-3CEE0D50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5E48-155F-47BE-90D2-B876E414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7D2-C91F-4799-81EC-69984524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664-5701-4813-BE4E-9F4DE961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FC2-24F3-4EFD-94F2-37020CAB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C4E-2419-464C-8381-C790AB2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A06-8AB4-45C4-95C4-80BC1831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814-81B9-4488-BA67-B4B83702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0EB-4C5A-4C1C-A7EB-62A8CAD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625F-8855-46C7-B98E-892B46B1CD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316-2555-4FAF-BF81-81BA3FB996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ffman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4 – RY RAY Ô,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4 – RY RAY Ô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Ray ô, henoy ny vavak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tolotray ankehit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o fankasitraha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vanao a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ratsy aza izah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ndà ny sitrapo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nankato ny teny s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ia mbola nomenao indra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saoranay ny anar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4 – RY RAY Ô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tena irinay hatrizao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nompo sy hanaja 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nao 'zay tianao t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hankato ny did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onay manontolo, 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ery sy ny sain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andro manontolo, 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entinay eo an-tongotr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Ray ô, ka raiso hatr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34 – RY RAY Ô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avy ilay andro leh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haonanay ao ami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sandratray ny hira, 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dera ny fitiav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Ray, diovy ny fon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vaozy ny toet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mendrika ny lani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tretrika sy finari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noy re ny vavakay. A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50:38Z</dcterms:modified>
  <cp:revision>45</cp:revision>
  <dc:subject/>
  <dc:title>Tiona Advantista</dc:title>
</cp:coreProperties>
</file>