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6AA-14C2-484F-8ACC-2B35D85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EEF-EC3D-49F3-81E5-7869579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805-FBA3-459F-B745-9EC3483E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B29-3846-4523-8B0A-FDC97C4C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B03D-31CE-4F32-944B-2491A0B4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02CF-4DC7-47FA-9E53-CDA0E319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1276-37BF-4B89-B7D4-3D92B34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019-8DCA-4A9C-8B20-D1C5405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EF2-D28D-459A-B5AC-9245AED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6D5-C7E1-49CC-9D7E-D7AE8E36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6999-37E7-4ACF-8D28-EBD6899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E99-99AA-4D28-9C89-B2BEBA8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E1F5-9295-47DD-9162-25DC725A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ECDF-3543-42A9-A6BB-0F41C8A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126-3E66-46B0-9A06-A52BFA48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D83A-E177-41CC-9D0E-B654DE7D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69F6-40D2-47A6-9D14-5E350056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FBD-D92C-4742-8ACF-E28DAE77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26D-69CF-4070-88EA-0FE839A0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83E-1D5E-4481-9008-6FEAE22B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B44-2B9A-4CE9-BA6A-344F307A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A3B-F8DE-431C-99EE-3FA79F8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F71-14C6-421B-87BD-4EF3113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917-CB96-4980-815D-A5DF0F5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B4B-738B-4BDA-B52A-BED13181F6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4C27-F388-44D7-A37F-3C4CC66F6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kol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na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Henriks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6 – FOTO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6 – FOTOAN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soa sy mam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natra eo an-tong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ma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6 – FOTOAN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nena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oka ny finoa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mbo hery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6 – FOTOAN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indrindra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hi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fon'ny fiti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oamb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6 – FOTOAN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ian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tsika ahy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dronao andras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Jesosy ô ! avia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20:59Z</dcterms:modified>
  <cp:revision>44</cp:revision>
  <dc:subject/>
  <dc:title>Tiona Advantista</dc:title>
</cp:coreProperties>
</file>