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FEF-5551-4329-B312-56FA740E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1DF-17C0-4ABB-B0D5-DD2DD708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83D-B889-4453-BD19-91DABFF9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9C5-9344-402E-9DF7-64131F92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420B-A0A6-4B7E-B95A-2C4704BE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FA67-5270-4EB4-ACDC-41868C7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108-B2A8-4FE6-9DFC-AFDBC27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4D8D-02DF-4F86-8120-28089DFF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43D-34C9-41DB-A948-57984D5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4C1D-DEEB-4826-8C4F-A483614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7B8F-A55D-473D-875B-C432226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951-580A-45A3-A625-B8651182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FA8-5A59-486B-B9CB-E1ABD88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4342-0A30-4B8C-A662-D1F4D56E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099B-A4DB-4150-93F4-B84A47F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951A-A5B7-443A-8487-3710F01F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FDE-06E7-4EB2-BDBB-5BD46432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DF4-5032-414F-8049-3FB86395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50D-2ECA-4640-8810-AB57E007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BF5-4534-4CE2-9B6B-DBB1F73B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F08-07FC-4B2A-92C7-33B4AA4B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537-7017-4DD6-87DB-1DC7135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FC1-13F0-4FDA-85CC-81E182D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17E-1B2B-4761-85F8-AE2A576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3E3D-4797-44FB-B9C0-A277C7EF27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F73E-AC32-44ED-8E5F-3F32B8C43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3 – ‘ZAHO HITADY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3 – ‘ZAHO HITADY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hitady ny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bola kel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iry ho voa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mpino mar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3 – ‘ZAHO HITADY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Jeso, tiak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atra ny ami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taoko antso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anavot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3 – ‘ZAHO HITADY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int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ho fa mba 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42:56Z</dcterms:modified>
  <cp:revision>84</cp:revision>
  <dc:subject/>
  <dc:title>Tiona Advantista</dc:title>
</cp:coreProperties>
</file>