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87A-2EF2-4D0A-B24E-016E4611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916-D457-48C7-AE22-E583E337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062-ACB8-4423-A8B4-17627985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557-5DA5-4E75-8F89-9CFDB97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6D43-02D7-4C5D-B6C8-3F7FA16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A22-381D-4BD2-AA07-52F5DED3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1984-C41B-4D59-AB72-A3C528B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E10A-7A70-4FD5-A889-4D31305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846-419B-4D17-A12C-6759B96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B4CD-F7C6-4918-8C13-01A05152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CD1F-B356-4826-BDD7-CF92608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BBE-301B-4A2B-BDAE-F01C74F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C9B7-E253-4BB6-B9B2-E47A446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36A-C51D-4BE9-951B-4B942C3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E9E-6774-430C-8699-01C6326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C108-563B-499A-9147-64DB8D07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42B-306F-445A-B8EC-6B6C6AB3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34A-4875-4FB6-AB2C-4D27336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C75-7712-41D3-BEC7-442382B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456-3014-47C1-8B93-4E0F7D98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C51-7C17-4746-9736-712B742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337-5360-49EC-BBAF-764E25D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6E9-783E-463D-A712-CD4757C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17A-FBD9-4674-B03C-E5187E9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5A8-4093-4457-9EE5-D625A1C01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FBF-EC3E-4B84-9780-238795117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. U. Linner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9 – HO ANAO NY AIKO NO NAFO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9 – HO ANAO NY AIKO NO NAFO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aiko no nafo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ta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zakaiko re ny to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faliana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tsy hita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aseho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a fantatrao iz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ô, la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9 – HO ANAO NY AIKO NO NAFO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tao amb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saohan'anjel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ofikiriko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zoanao re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ahantra teto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Izay Mpanjak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azàna mitomany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mba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9 – HO ANAO NY AIKO NO NAFO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ko ianao va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-java-mandalo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za moa, mandra-pahovi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hanenina, ô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tivety dia ho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'zay isasa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anie ka tsy ho l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mba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9 – HO ANAO NY AIKO NO NAFO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Jesosy 'zay tia ah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, saina s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, Tompo, ankehitr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zony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ara-d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, Jeso 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05:26Z</dcterms:modified>
  <cp:revision>61</cp:revision>
  <dc:subject/>
  <dc:title>Tiona Advantista</dc:title>
</cp:coreProperties>
</file>