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49A4-211E-4C19-BAFA-71A3C388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9DAC-7D0E-4D54-B4E3-9481EE2C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55D5-A508-4778-B96C-D1567727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CB91-E9C4-4EC4-93C7-D9A5914D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AE0A-F6C3-473D-919F-62A252B5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924E-5BEA-4E28-8A4A-4037228E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4A44-BE0A-4862-9BEE-2D6FF4FF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4E85-EAF5-47E1-9FF4-F15B253D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F74F-AC21-4736-9D95-5BCEE439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6B26-F75B-418B-B4E2-F7C8A856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EC44-21A5-4280-98F1-43B505D1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3E47-928D-4DB0-BFB8-17302C27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B7C1-394F-4F33-A055-1BF61DF8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7924-38BA-40E7-AA16-41435C03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AA06-D33E-4908-8D09-AEAAA3A7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4C1B-E3EA-4DCD-B3AC-C0643B13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7920-47D2-4E6F-B2AB-912A7014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F805-B864-498F-A2E2-2360A52E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2869-E96C-4669-82AF-FE273A95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B01B-C045-43E1-9D0B-6658BD57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33E7-433E-4A40-838F-32A21C1C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0486-9C30-4994-B614-74A989A5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E7FF-3F8F-4670-9935-3FEE5083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2E8B-A363-4347-B214-04F38D67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9CBF-99E6-4D07-A90E-DA46FBA151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B2FB-0F6E-4D37-8571-1E19A714EE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Ramanantsialon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W. H. Do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53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01 – MIASA RE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1 – MIASA RE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sà re izao, Jeso no momb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a-pahatonga anao anatrehan'n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ketraka ianao, tontosao ny at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lofosa tokoa mba hamory ny v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1 – MIASA RE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ingà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miaingà),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sà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miasà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joroa eo al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 ! Vitao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ô ! Vit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tao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ny at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omba anao ny Tompo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1 – MIASA RE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! Tsarovy tokoa miaramiula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ijoro, hanavao, no ilàn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tafio avokoa ny fiadiana maha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haresy ianao sy haher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01 – MIASA RE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anora madio, no voady hat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ezaha re anio, mijoroa hana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inana soa idealy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ereza hatrizao, aza kiv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1:21:29Z</dcterms:modified>
  <cp:revision>85</cp:revision>
  <dc:subject/>
  <dc:title>Tiona Advantista</dc:title>
</cp:coreProperties>
</file>