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4DC-D2F9-471D-9DB5-8302D76A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548-11CF-43F6-BC55-FC35F6D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26F-F487-419C-A41D-4E5CF8EE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B14-30E4-4122-86F7-08F6DD17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F6E7-14A4-4331-BBAF-ACA418F3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772-9463-4C7C-86C8-D811E2CA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49AD-860E-4EFA-B617-F2BF1E7C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856B-A8F7-427B-B4A5-4FB357B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4D9-BA17-4FDB-BA46-1574B52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39BC-91AE-431C-99A8-3801B9C3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EAA5-DC8E-43FD-A520-A38681C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92A-3B92-4223-9943-8251B164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FBBC-8A6B-4DC0-BE8A-353127A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8379-6B3B-4C2D-888B-869408AF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EC85-877B-4087-A244-4FDDD8E7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0E33-F2B6-436C-9127-8E0F12DA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F90-99D8-433F-A1A6-3AF1460E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02F-3FB6-4FE0-98CA-13A3479D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DBD-CF28-4233-85A2-1656641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D32-D583-44B1-9431-8C9F96DD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9A3-5BB9-4516-B184-2CEFEC03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1A6-F548-47F1-8DE4-AC8F81D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FC7-65BF-4B2D-B0C2-4B56FC6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C05-2269-4FB8-B3DC-071D045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53D-1ECB-4269-BAC5-D0FF07B68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C0F6-A301-4A32-B0AB-7206039345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mah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6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320, DLG05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1 – AZA MANADIN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1 – AZA MANADIN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anadin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haino vav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ba mana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lavitr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diha, ry Mpanj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jereo ny olo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anadin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haino vav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1 – AZA MANADIN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fiere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tolampy heri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amboty az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manan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-tahotra 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andrandr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anadin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haino vav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1 – AZA MANADIN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Ianao no 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tonik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ny fahada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ba heveri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mpifalio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mbay ny ela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anadin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haino vav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1 – AZA MANADIN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bataba laland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hit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zaho te ho ton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itsahar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nena ry Jehovah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lia ahy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anadin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haino vav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7:20:55Z</dcterms:modified>
  <cp:revision>44</cp:revision>
  <dc:subject/>
  <dc:title>Tiona Advantista</dc:title>
</cp:coreProperties>
</file>