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317-E3BF-4036-B2DD-CD5C2C6C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962-4C91-4129-AA79-E68E9C64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D88-2EA5-47FD-8522-BE1468A3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3F6-411A-44C3-8EA6-2E9ABAF8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E360-970C-4F1D-B9E7-2D23A5A9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C911-E4BD-439B-9CB1-474E5EB0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D20-F3DD-43C5-88D4-E40E4DE0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E32E-AE2A-48D0-B190-C4E1BD99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6575-7C4C-4C99-B5A8-5237E71F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0CBC-E9F1-43C8-8CDB-97D26F5B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E1CC-C590-4810-BCB7-93D30C8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5C9-DB93-4CF4-8E7B-8221E477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5FDB-2B4F-4D4C-AE5C-1C55D57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7F94-89A2-4CE2-889E-23BD8BBA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B191-1431-492F-8D49-DF88A12B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9DAA-FF0D-41EA-B475-F86E5354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37F0-BC73-4968-BD00-3631F900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09A-A790-437A-B986-E473B3DA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712-506B-40B0-BCCE-81B7534F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597-F23E-42F2-978B-AC598B36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DF8-1360-48A8-8BE0-470135E1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F6F-D7F5-488A-987C-20C8F7B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A38-C3C9-48C1-B41C-2B89304C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4D9-7C9B-4F39-9481-55E435E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CF81-9268-4963-A6E7-1AB80BF780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47FC-20B0-4974-9EA5-B290F5C9FD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om-baova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i-FI" sz="1000" spc="-1" strike="noStrike">
                <a:solidFill>
                  <a:srgbClr val="ffffff"/>
                </a:solidFill>
                <a:latin typeface="Tahoma"/>
                <a:ea typeface="Arial"/>
              </a:rPr>
              <a:t>J. Baptiste Calki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4 – HE ! TAONA VAOVA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4 – HE ! TAONA VAOVAO IND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Taona vaova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ndro ome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ra fider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entinay manaj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4 – HE ! TAONA VAOVAO IND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vaozo, Jeso, ny f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ho Anao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ho afak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ota ka hadio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4 – HE ! TAONA VAOVAO IND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lakolosy mane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karants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za fa akaiky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y 'Lay Mpanjak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5:50:00Z</dcterms:modified>
  <cp:revision>79</cp:revision>
  <dc:subject/>
  <dc:title>Tiona Advantista</dc:title>
</cp:coreProperties>
</file>