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8A4-0272-4C2E-A5B2-86676B4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A3A-C069-4589-A04A-90DFBFF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69-BC0D-4105-927A-A92618B3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A26-73A5-4353-BB41-D13381A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2C4-497C-46A3-BB23-4AE3FB22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D048-937D-418C-AFAB-40E6758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0F7-78D6-4DF7-8CF7-CD111D6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150-B11B-4E77-9682-48F2427E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E16E-B08E-4583-A0D5-D333AD0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ABFA-4698-446C-BF0C-2985CCD4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DE8B-864B-4E3A-9370-48FFD19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3FC-1B44-4468-88BF-C0BD8CE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122C-BCF3-4127-B0C7-588A98C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ECEF-E295-4336-8947-EE0B047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043-7736-424B-8DC6-7803A010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F66-39BC-4AE3-B60D-C344E750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EB5-4ACC-4A88-AC87-D45C0CCA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98C-1CE6-4D55-9B9A-3AF7405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5DB-7D9A-4DBD-9E07-1DAFC0C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52A-23BE-4E21-8F0B-765FBFF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CAB-7CCC-4288-8203-EDF9465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C14-6F5C-4E87-ABF4-AB2CC48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F86-8592-48BB-ACA8-D76FF91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E7A-DDB7-44D3-ABB2-4AF56AE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3DC-A9DB-483A-AB1B-5B133CF1E2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AB05-BFEF-437E-93A5-191E5EFC7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. P. Bilhor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6 – MANDROSOA IZAO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6 – MANDROSOA IZAO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 izao, ry miaramil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sy no Mpitarika eo al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sangano izao ilay fani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zavao 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6 – MANDROSOA IZAO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ô, mba haz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tanora ô, hazava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si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os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izina e !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'zao tontolo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vitao ny a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6 – MANDROSOA IZAO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fidiana ianao hitond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amonjena lehibe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izao 'lay Fahazavan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sy Masoandro lehibe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6 – MANDROSOA IZAO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 dia hif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haizim-pito ho tarang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ilofosa hamonjy nam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Kanana re iry fa tazana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39:35Z</dcterms:modified>
  <cp:revision>85</cp:revision>
  <dc:subject/>
  <dc:title>Tiona Advantista</dc:title>
</cp:coreProperties>
</file>