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9055-22FC-4AB6-BAC1-FCACED81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376-5B15-4E53-8CA2-D987E8F2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96E-2299-4CA1-AEC3-3F3D80BD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479-3129-4791-B228-1BD08247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F5F8-C950-41DD-8191-DAE11C38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08B0-F67B-4AB1-A4AE-0A7525F6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B934-7BF9-422E-BF30-19F91565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55E0-5658-4BFB-AFCF-88A03144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A936-0672-458F-A0BB-12A2151E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6F0B-EA3A-4185-823B-FA57B116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3B1C-6ADF-49DC-9793-2A95C52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211-FF8C-4098-87EE-E97C4CF1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2CD8-3D07-4CBE-B203-83AEC377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88B5-6A83-44F3-B2CE-45C681E8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CD7A-60CD-4798-ABFE-6937ACD8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FCF1-2EC0-4A26-A0F2-B6E56F20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1F4B-47F1-43E8-AD0F-8E9F337D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D1E-D829-414F-8A8F-A78109BB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190-F0EA-4168-8620-200EE4F3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3BD-F0B4-4F58-9B99-DD6D4B12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C44-826C-4CFF-8148-11857486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A3B-C84D-4155-87AE-C598B9A0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A8C-BBF3-4670-8B5A-AC29C73A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293-6870-4704-BCD9-A7DB27E6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72F1-BC63-4421-A270-290249BFE5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CF53-CDE1-4282-AFDC-B8676CFAD5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ara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ary Ramboniariso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ary Ramboniari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38 – HENOINAO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67080" y="59421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67440" y="63230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8 – HENOINAO 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Henoinao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ba henoinao ani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n'ny Tompo mand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-pona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d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angavy indr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ha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mponao. </a:t>
            </a:r>
            <a:r>
              <a:rPr b="1" i="1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67440" y="63230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76240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8 – HENOINAO 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ela aza ianao no nand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vy fa mbola tia anao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y a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anekeny nijaly t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ny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iants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valio ny Tomponao. 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7080" y="59421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6240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8:33:52Z</dcterms:modified>
  <cp:revision>75</cp:revision>
  <dc:subject/>
  <dc:title>Tiona Advantista</dc:title>
</cp:coreProperties>
</file>