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53F-3BC0-4D57-A8C0-792F2A7F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F94-2F42-4F07-B01E-CD18C81C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F58-E4BA-4576-AB8C-15B5CACB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DEF-78EA-49E0-9A5B-F406CA1D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33AB-5494-4E7E-AD2C-B003B8A4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F71-B078-4E3C-87EE-4B1EAD5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DE3B-C208-4A55-9D95-76BA84E9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D1A-772F-4317-A5AE-BAC30E62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9979-8FB3-4C77-A2BD-703D713E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E3F9-E823-42D4-B8F4-7208AF63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8291-6187-4753-9BC0-4544659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CBD-330C-4567-9116-385941E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A9D8-BED4-4B1F-914F-51DB108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81DE-DE76-4696-96B2-ED571D7A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3313-7924-48BB-938F-6AA10AE0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42A4-D44F-4254-916C-7BFEBDAC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641-87E5-452D-930F-50DAC4E7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47F-3A0C-4B0D-BC6B-74FCF0A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824-DD34-4E17-AE02-9315D697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563-7967-4F9F-9B6C-D2E4FA33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3F0-4E95-4630-B459-722B87E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687-FFB5-4824-9501-0989874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09F-E121-4FF6-810B-AFC24553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7AD-68AB-4914-8C04-563372A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9C02-CF2B-4B73-AE4D-F161F00159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1F09-8F51-4AA4-A5B1-1885218F28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Not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09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7 – TOMP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ey ny fitiav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tsy nand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ny a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di-pah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ndrify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i-p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ahy '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ey ny famindrap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ka ad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ve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ta maro 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vitako t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Parad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hy ar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e ho mpian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i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ongo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naro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n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tok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 mody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v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danitr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hide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ha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endrik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08:38Z</dcterms:modified>
  <cp:revision>33</cp:revision>
  <dc:subject/>
  <dc:title>Tiona Advantista</dc:title>
</cp:coreProperties>
</file>