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2A2-2F1C-4164-89BC-B5FE99A9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32A-CB58-40D3-9382-E506D4DC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E71-7C04-41A9-A750-2C8C7678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213-54BB-4741-B6D9-92FF40BB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F12-291D-440C-BCCE-79A69B05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13B3-6E81-463F-B7B5-936B3F98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AC5E-F251-4A4E-A245-4C6C7695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536-84DC-46F2-96FB-C342FB64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AA8D-E74A-4C38-B6C5-EBB409B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6A9B-DDAF-4713-B4EA-804A2F84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2FE-1E53-4B97-B6B6-C477973D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792-7B26-49FF-8A6E-376C3C6A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505-FC96-4026-B8CD-0883C01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4A9-7A5A-4FCE-92B2-6CAC283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4FEF-6EF4-4F8D-9F34-7DD97F1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B24-0A1D-4395-BCE7-38757997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DF7F-8364-44F3-B043-EC18CB2E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24F-37B7-4985-863B-F22E008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97F-D2EC-4BCD-B5B4-A39477B5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0A4-4338-4AFA-9D45-BAA72CBC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284-5DFA-4E65-80BA-3E0E512B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4C8-3E4A-4F4C-9534-178BAB8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822-8A25-4BF6-B035-9718EBFC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901-9C44-4DB3-98A7-6DA204AF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9629-9F76-4408-9442-27BAA6749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F12-3D5F-482F-B636-9E11DF91A1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G. Ove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5 – HE NORATRAI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5 – HE NORAT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noratrain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olatsaina, ry Tompo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an-kapoka te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asitranana ny rat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90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5 – HE NORAT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ohomboin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afoinao, hatolotr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ka ny fiain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lotrao, Jeso ô, n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5 – HE NORAT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tan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nitsangana Ilay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 ny fasana, res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ndresena nomena ah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90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5 – HE NORAT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-danitr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driamanitra, Tompo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ifona ho ah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sy fananten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90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 re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eny ambony, ho avy Je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ny hafaliana raha ho av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itsen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85 – HE NORATRAIN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90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28:44Z</dcterms:modified>
  <cp:revision>30</cp:revision>
  <dc:subject/>
  <dc:title>Tiona Advantista</dc:title>
</cp:coreProperties>
</file>