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DFA-2048-4647-A184-AE5C89E8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18A-5AAC-474E-88BD-E1B48FB7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FEB-83DB-4D88-91A1-B7184507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5AD-2C2B-4235-B615-25F742E8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B481-7EFB-4155-B782-3E76CCDE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841F-9FF3-4472-8CA5-0CEA1FD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AC7B-77CF-4D68-B6A9-5EBE039D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123B-6CD3-4825-A3AA-9DA49016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A061-AA24-4C7B-A8B1-C7D7A19A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3689-AEF5-4D15-8875-DDF9E4AD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DBEF-496A-4D4D-AF6E-728912F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1D7-4D90-47D1-B83D-50242EA3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C4A-C1E7-41B0-954D-26A7A270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037B-DE4C-46F8-87FC-34A7B800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72C4-84B0-41FC-9F60-47C0F186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7AC5-2E78-4825-AA3F-74B0F8C4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EAE4-F10F-446D-870E-3ACC9DEF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AD7-27DE-4646-9551-900EDE85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BFC-8D6D-4FAE-8BA4-900C9B5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6D8-B479-4976-BDEF-F5D5A3CF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62B-F655-436C-8BA1-86EE9CA0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A9F-F50A-485C-99BE-71EEC06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9F3-0945-4816-9B1D-60C206D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2C0-41C7-4051-8110-58D7AD3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BDCB-917A-4A45-8B8C-CF078DD9F6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6C60-0B8C-4FBF-A704-5DA740D4D4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2 – FENO HA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2 – FENO HA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 haf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o an-dani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onga ao am-b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ondry n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very t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an-tranon-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al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v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o an-danitr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2 – FENO HA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Ny faho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dino av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lamba m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atafy az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terak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ian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l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v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o an-danitr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2 – FENO HAFAL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ra sy Hos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iredon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eloka intso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n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elona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al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v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o an-danitra 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26:21Z</dcterms:modified>
  <cp:revision>90</cp:revision>
  <dc:subject/>
  <dc:title>Tiona Advantista</dc:title>
</cp:coreProperties>
</file>