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2A7-F43F-4BFD-AE69-EEE24EFD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A2C-7BCD-4034-B0D2-29F80725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C7D-519A-4AC5-A0C2-A6F825F9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E21-1F21-4255-8191-5079CE1E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865-3417-431D-9790-314784C0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E70C-AC02-4606-BE7A-F51C182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5ABD-3B4D-4C09-A2B0-97EF4A6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24A0-5470-4D3C-9E0F-66C80AA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EEC-0D85-45B1-82CA-9522AC55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2C1C-F9DA-4EF8-939D-CF33DD0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99D-4C5A-4808-8B5D-34B2768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9F2-D3C9-4A50-AF8E-7B4C5F3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A15C-8B01-4F1D-AA54-D45DDD8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A635-9979-478F-A4F7-259F774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F6CE-DA26-4DD4-A1DC-95E9A10A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BE77-E0E7-49C2-B628-9F5DD25B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E586-6F9E-433E-BA93-2A1DA67F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745-8C3C-4A31-887E-B3E09AD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35E-BB21-43AD-8715-757CA5FA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C27-6225-4054-B26F-794EA1F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958-ECB5-4619-B203-1734172E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ED-AEBB-4AD2-AF9E-C675F47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BFC-A030-4FED-882A-3A584E4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301-4FEF-446D-9BB9-2D85F04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7AE-DC4A-4C0E-B652-97C5F7FE2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7BCC-8211-40D3-B223-7F363B822B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4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SY MBA LAVITRA JESO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Mac Granah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4 - TSY MBA LAVITRA JES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ba lavitra Jeso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kaiky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Ry namako 'zay tena 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e rera-p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4 - TSY MBA LAVITRA JES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tsoy re Jeso anio (an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tsoy re Jeso anio (an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ny dia tia sady antra a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tsoy re Jes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4 - TSY MBA LAVITRA JES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a ka mandao 'reo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havana, ray, ren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ketraka fa tsy man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, aminao tok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0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4 - TSY MBA LAVITRA JESO AK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Ny rany dia tsy notsits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afoiny mba ho avotr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inao koa indro novid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lalany indrindr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3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21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32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33680" y="486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5:03:08Z</dcterms:modified>
  <cp:revision>119</cp:revision>
  <dc:subject/>
  <dc:title>Tiona Advantista</dc:title>
</cp:coreProperties>
</file>