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ECE3-CB78-4E10-9FB0-B8746C25D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0CC9-BBA5-4782-9AF8-900B6CC5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CBFC-B0F6-4109-9C9F-C6E26896A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4BDA-9745-4310-8735-30971B558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63C5-8686-49BE-A0F5-FA0B4953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ADFB-CD1E-4FE5-AFDF-4626F535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12CD-FB37-4772-84CB-B2220D9A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86D0-A83C-4FB0-8E27-BB24B2E8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AB3B-A9D5-40D1-803A-FD360E03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C93F-8B23-4E96-BC1C-84192ED6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CB73-D50B-4376-8468-F0A9CF4B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EA71-A127-4474-A3F7-9328F1D8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3276-0739-4F13-BDA0-0374C3B5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4006-838E-4949-8503-82524644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66F7-48C2-474F-B426-1C657E46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2392-D52D-4945-A6F1-ED82CF65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FFA4-0822-4B13-84B5-9D9FA128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A751-00F6-46C7-87FB-CC7CB43F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ED1D-C696-4BA5-8621-9D07744C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0881-6D25-4DC7-B64C-8089E0AE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0DBC-45A6-4CB8-9020-E6650673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B6CC-D6FD-45C4-95E3-B0A8C9EC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247D-75E6-45E2-AA99-106AB4C9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6F87-8EE3-4C9A-9F75-D3180733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9ED1-0E51-4055-BC9A-572B46766AC0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14A2-A30C-48DF-BEB7-7A7838443974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18 -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NY LANITRA FIANDRIA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5238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31160" y="5621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29000" y="6032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640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Fanante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F. Ramanantsialoni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O. Ka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HL39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18 - NY LANITRA FIANDRIAN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lanitra fiandria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tiako honenan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hiara-mifaly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tena iriko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31160" y="5621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29000" y="6032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17120" y="640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18 - NY LANITRA FIANDRIAN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hobia, mider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velona mandrak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(miderà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derà, mihirà, mider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velona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26120" y="5238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29000" y="6032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17120" y="640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18 - NY LANITRA FIANDRIAN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iadana mandrak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hita iro hav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ho tretrika rahatr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minao, Jeso, i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26120" y="5238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31160" y="5621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8817120" y="640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18 - NY LANITRA FIANDRIAN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iara-midera ny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zaho sy ny anjeliny 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so no Imanoel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ady fahasambarako 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26120" y="5238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31160" y="5621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29000" y="6032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7:57:27Z</dcterms:modified>
  <cp:revision>120</cp:revision>
  <dc:subject/>
  <dc:title>Tiona Advantista</dc:title>
</cp:coreProperties>
</file>