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DCE4-7812-4E03-88B2-3E2695B53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DF40-E2D8-4F6D-A20A-2A0D5E4B9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F07D-4675-411D-9647-4EB026B6A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5AA9-EFE0-4867-907A-A48F7220C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37F24-6EBE-4BCC-A72C-38E64A2A4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11515-4D2A-446E-8FBA-D19B2C3A8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09173-579C-4AD2-8957-2652FC201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9D133-A13C-4ED8-A368-CBAE8E481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CC663-9ADB-4BF6-A608-CFC180258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C4EA2-166F-46B5-B83F-D0649EC4D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C99CD-260D-484F-A12F-81EDAE0A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9E46-0B4D-4E11-8B7E-A6DE7927C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9C635-FB20-430D-A5E0-40C270F2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8F215-F7BA-4071-8685-7C1F1C7D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13459-7B29-4572-88AA-731818142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2A129-8525-40B1-9788-B305FC7F1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52C86-FA20-4207-8E99-E13448317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EEE2-839D-4F6D-9695-D261D0DF3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34F6-BA8C-46C0-9C8D-80E6104FE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5190-B309-4771-A888-1E28AEC54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708B-52E9-48E3-83D5-4E802B622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AFE8-B9EE-42E7-A5EF-75CBC3C2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109B-BD07-461F-B9D1-51D826E2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02C8-6FC2-471E-902B-CDAA7CEE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F1F89-97EB-42BE-9B48-D90A543CA23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0A7BA-A34D-4B56-A4AF-129588FE805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S. Razafindrakot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S. Razafindrakot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685 – IANAO TANORA NO FANIL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434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48440" y="59421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434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85 – IANAO TANORA NO FANIL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anao tanora no fanilo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anao no fahazavana s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minao no misy indray ny aina v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ntenaina hampitraka ny efa v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ny haizina no manaro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aizim-pito no manjaka 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ila anao ny firenena hanar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faingàna re ianao, mandroso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48440" y="59421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434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8336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85 – IANAO TANORA NO FANIL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fanevanao aingao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sandrato ho tazana e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ny hery eo an-tan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aza ela ry tanora mandros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434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434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336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85 – IANAO TANORA NO FANIL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e ! Miposaka aminao tokoa iza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Ny hazavan'ilay maraina so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Ka mamirapiratra sy tena va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Mampahery ireo izay mamoy f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Mitsangàna re ka mihazav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Mba ho voninahitra toko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Asehoy fa ianao dia tena sa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Noho 'Lay Kapiteninao ao aloh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434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48440" y="59421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336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23T08:37:40Z</dcterms:modified>
  <cp:revision>90</cp:revision>
  <dc:subject/>
  <dc:title>Tiona Advantista</dc:title>
</cp:coreProperties>
</file>