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932-BAB0-47BF-A185-B3A91028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0E5-221C-43BF-AEF8-02D8B39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436-9BB8-44F2-BA70-BC9F436C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197-95DA-4349-B212-F02C2BD0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3C66-0092-448D-9567-BB9A4F70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19D4-F854-48E3-891C-1F7B687A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1EE6-92C9-41A5-9879-2FBDA95B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F704-F772-4C34-A703-09B5019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B85-39C7-4CA3-8389-215CAA0E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63F8-F263-48BB-92D8-ABDE8608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2119-36AA-4E70-922A-FE1ADB5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21C-DBE3-4D0E-BA87-12205082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F0E7-CB14-4481-AC2D-23345690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FBAE-8BA3-40B8-B179-64EA57C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3B4F-8818-4CAD-82DB-A77A426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95E-DC57-43DC-9207-DF13855B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2DA-37B5-4277-BC97-333D6193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E51-CDEE-4B2A-AF10-C7720867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2AC-452E-4D73-803F-27F2589F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0E9-BD2D-4B81-9678-CFF6C9AE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30D-624C-4582-B2FE-A948EB8F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2CF-484E-4C14-A8B5-540DCF25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D15-C91C-45A0-9FB3-79E278B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34D-820D-41CD-A614-FABC5BEB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9EAA-77F5-4562-B3FB-E7C65B026A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79A6-441A-4477-934F-28245D796D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b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7 – INJANY FEO MIANTS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7 – INJANY FEO MI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ny feo miantso mafy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ve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omàna, mivonona r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y ny Tomp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kaiky ny fot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liana ny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araoty hibabah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andro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7 – INJANY FEO MI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onjena tsy vid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vita h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Jeso mbola 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 handre ny fe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eteza ho v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elana ny o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Tompo anie ka o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met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7 – INJANY FEO MI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mbola tsy mitsah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tsom-piti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mbola tsy mif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m-pahaso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enoy ny feo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gavy ana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Izy vono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dray a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48:54Z</dcterms:modified>
  <cp:revision>61</cp:revision>
  <dc:subject/>
  <dc:title>Tiona Advantista</dc:title>
</cp:coreProperties>
</file>