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97A9-587B-4746-8B16-BA11336BD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A90D-04E7-468F-A147-596DE7A12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8CE3-4E35-46F2-82FF-E1300BE09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74CE-EA4F-4436-A8A7-72714B6D8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27F55-D47A-4CB7-AD3F-F8CD15B92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7CEB8-8E7C-4161-A7B3-141A1C3CD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1D530-5C2B-4C4D-8D65-4E005F7EB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7AC28-2102-4146-8AE0-EE9C427C3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28FD8-FD0F-4134-89F8-19206C8C9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A89A2-1F29-402C-82B4-2A5E7437B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55AED-2517-4815-BE17-DC6FBD43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9407-2193-4B91-AC13-0C9A64EB4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31D9C-32ED-48B1-AFF6-78721186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72579-B496-4DC6-A064-4CC0E284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B8BC7-6762-4604-B228-F1EDE0199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D55A3-DFC3-4155-B20A-46BEDA4EB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17FDC-2520-4642-81F4-D94ABA4F3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80E2-A13C-4D26-B942-0FED31307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6BCB-DF7F-48E5-B8B1-A990F6426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C09A-9F4B-494C-BE2D-DCF1B59D2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F632-53FA-499F-86AD-0A6475FC9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F991-68B0-4923-AA0C-DDEFF98E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DFBE-66CE-4488-9A9F-E75004EC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1D29-71EF-4F4C-9173-A70F1324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03D69-F099-4315-B80D-11F5F8DF590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BB51C-09EF-458A-9197-0F1C95E232A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bebahana - Fiovam-p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. Marn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HL28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383 – HE ! NY SAND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5084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57720" y="5516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5950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83 – HE ! NY SAND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! Ny sandry Tsy hiandr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atsotrako '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hilofo Sy hiroso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dray ny 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ara-miezaka amina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atratra toetra v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, hatony, ka tazon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‘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drao diso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57720" y="5516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757720" y="5950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762400" y="4653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83 – HE ! NY SAND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to an-tany mitomany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esin'ny manj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o an-koatra tsara loatra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hafaly f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Omany aho 'za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o mendrika ho 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meo ahy ny Fanah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tondra hak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757720" y="5084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757720" y="5950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762400" y="4653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83 – HE ! NY SAND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Be ny ratsy ‘zay mandraf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toheriko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y malala, aza miala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anao no heri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mandresy fantatra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ho voninahitr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za miala, Ray malala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dreseko '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57720" y="5084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57720" y="5516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762400" y="4653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83 – HE ! NY SAND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sendra ny famindr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dia afak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malama tsy voatan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solafak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ny potraka tokoa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antrao, ry Tompo s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tanjah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o ta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57720" y="5084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57720" y="5516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57720" y="5950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762400" y="4653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6T09:50:45Z</dcterms:modified>
  <cp:revision>69</cp:revision>
  <dc:subject/>
  <dc:title>Tiona Advantista</dc:title>
</cp:coreProperties>
</file>