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709-A0EA-4CC4-A3E3-95FE2A2E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1B3-4DF0-44A6-A2D9-6281D21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169-04A7-4A5C-A17E-7FC01928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185-EAF4-4389-A92C-36B2509A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014A-F030-4D68-948B-BC971CBA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1A0A-5B85-456D-83AC-641798EB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166-4625-4C50-9747-5161B78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015-A231-4FAD-B679-85C47639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697D-0ED6-4B7E-93C1-657D873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BCF-F6DC-4921-8414-2F5914A8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BDB9-61FA-49A2-9B51-A485AB8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A65-85E4-4AE0-AD57-B731B87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2C45-032D-48EE-BF31-4FB3F01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8FC6-F73B-41CA-94F1-63BAB80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FB7E-3492-449A-A11E-17329A4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5DF4-8451-45CC-92A5-AC3B2363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CE5-F269-494A-8246-5081ACF5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06E-52BF-4ABF-BD02-EB91DB6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D23-2783-4F7F-A2D5-A0C7B0F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2C-1BBF-417E-876B-E95AAE57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7DF-81D1-4CB5-836D-88A2BE25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16E-0998-495A-866D-12790EC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151-B904-453C-8423-821FE7C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814-DB4F-4103-8B2E-E998C9ED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1770-927C-4FB9-80A3-E3AAE892D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B80-B9F7-42CF-9BAD-057B1DCDD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ndriavoavonj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ndriavoavonj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6 – NY SABATANA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6 – NY SABAT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batanao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sarovanay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vory ny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to ny 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nay ny fanaj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saotr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ira f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n'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6 – NY SABAT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ahinao fah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ova, tsy mif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nao Jehovah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nitsah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itsahar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ho tsaroan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16 – NY SABAT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tarih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sitr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itandrem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bata Ma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toeran-kiv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abata to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tsahy ny f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'ny vaho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58:52Z</dcterms:modified>
  <cp:revision>43</cp:revision>
  <dc:subject/>
  <dc:title>Tiona Advantista</dc:title>
</cp:coreProperties>
</file>