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16C-297A-4D06-BF7A-9E03BE65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CAA-62D4-4FB7-BEC8-06CE9F48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AA8-0161-479D-A812-77030B71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182-708C-48EA-8AB9-7729483B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4F07-3B80-4202-82E7-8C546A4B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F2C9-0522-4C31-AC7B-FA681C0E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FBA9-715A-46D2-B660-1F3DBD78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3EA3-1607-4766-A99A-E061C5DB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9DB2-89ED-4B61-8B66-77BE49FE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B57B-609D-4829-8CBE-A3D88D86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E38C-75DB-44B3-A3D0-10FBF27A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221-F83C-40EF-BBE0-2610B0A8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A83E-C10B-4657-A7E3-BC75A6F0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14A7-C27F-468E-81F3-415157CF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E835-43C1-438D-88EF-8FBB4A3A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1CA8-6A1C-4D0D-B98F-F64FFE8B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4DDF-54F7-490B-A58D-BB30BAC1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C52-DEDD-487C-A6EC-BCC8AD4D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BAF-1744-4DAA-AB6E-C149D74A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13F-C451-472E-9228-83CB3194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11B-3E88-49DF-9BDE-D41D2FF3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969-B43C-41F6-B702-5952E7DD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ABB-2EE3-48F5-87D5-4C595B5A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879-A834-4DBD-A868-E0C6590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F15C-8E2A-4EAC-8930-11234BA65A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CDCD-AF19-455F-8DAE-C8E61704C7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. Fillm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566, DLG30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04 – VAO TANORA AH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4 – VAO TANORA AH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o tanora ah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e ho mpias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sy, Zoky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a mpanias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ely hery, tsy m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toky sy omb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Kristy, rais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as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4 – VAO TANORA AH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Baiboly jir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nilon-di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androso ah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voninahi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inao ny fiai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mpio handres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Kristy, raisona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s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4 – VAO TANORA AH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anaro mba h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ondry izay m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anahy Masina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inao ny ta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mbino ah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jor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ô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o fanir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31:17Z</dcterms:modified>
  <cp:revision>86</cp:revision>
  <dc:subject/>
  <dc:title>Tiona Advantista</dc:title>
</cp:coreProperties>
</file>