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369-8240-49F0-BA56-F66B2C02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684-DCDC-446D-ACF7-562F4EC9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64A-A811-4A0E-A166-253386CA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9E1-8447-42E9-AAE2-43779210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84DF-1BAC-4DFB-BE4E-5FFE0874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C560-1E46-4E18-83F1-8300BB3C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B725-DC57-4B42-B972-63EB6AF6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C1A7-678A-41C8-A633-DF6F8E0E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B980-7782-4EB7-BDC8-E4924D35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D52E-8021-494C-9572-E74428EC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DAE7-8AC7-4ECF-90F9-99730BD7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A34-844E-4CD0-AF3A-194D9B23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04C7-393D-44CF-83FB-DD0D450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76A4-0C11-4A7A-9035-F5FCFBBB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A1D4-3F5A-4934-9733-FCD8CD8A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4B53-4E60-4BEA-B4EE-91F9C79F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98F8-D945-4153-B212-5A221ECD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B9A-81E2-48D7-8BE0-FD24FF4B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CD5-76BC-4514-A871-D368E133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FC2-2AB3-4E9F-8B29-432ED446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C8E-7B18-4BA5-ADCE-8BA9C924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4E3-07BD-4485-93A7-FA380EA8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3B0-EA65-42C2-AF13-B43AEE50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C37F-433A-48E2-A4A7-13356D28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E50C-708F-4898-901C-1C94F66CA2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9B74-D110-4369-A2B7-E114FC3209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pakaram-bad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C. Hoffman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53 – RY RAY Ô, JE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3 – RY RAY Ô, JER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y Ray ô, jereo ankehit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a tonga anatreh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ngataka fitahiana ani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'Zahay mba ho an'ny zanak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'Zay vonon-kiara-dia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nio sy ho mandrakiz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y Ray ô, arotsahy 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asoavan-dehi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enoy re, henoy ny vavak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3 – RY RAY Ô, JER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y Ray ô, ny fitiav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o arotsahy ankehit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meno ny fony hatr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'Lay tene fitiavana ma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y herinao no ampanjak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o amin'ny fiainany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 fiainana tanter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iezaka tsy ho rer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izotra ao an-danitra ami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3 – RY RAY Ô, JER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a miditra na mivo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rovinao ny ten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ha sendra ka misolaf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ao dia kivy ny fanahi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y Ray ô, tohano sy am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zony akaikinao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antano ao an-dàl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a inona no misak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 tonga aminao ny di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17T11:35:42Z</dcterms:modified>
  <cp:revision>76</cp:revision>
  <dc:subject/>
  <dc:title>Tiona Advantista</dc:title>
</cp:coreProperties>
</file>