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116-7C56-4DB3-9914-17AD10D6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FCE-1669-41CF-BF8B-FF72609A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675-0650-43BE-98AD-7020AA6B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47D-0CC4-4908-9CD5-B1068958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6B09-B88B-4E99-8DA3-F79FB8AF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03D-B7D1-46A4-88EB-8E8F45BC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D5E-C39D-4886-A174-A2C764F8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FF14-0960-460C-9BDF-566968E4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67F4-578E-4D2F-9002-BF3B7CC4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6BDD-7BBA-4C27-8237-536B7D63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AD81-7BD9-4452-B8F3-51122CCF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727-8E21-4ACA-9E43-ABCE7FC1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136-DFDD-474E-B2BB-AC7DF97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C9D9-E3E5-455E-83CB-8F27DDA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D9B4-3940-4B07-820E-0C9D3625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2B56-1FE1-4E32-8F2E-3542E1DF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6838-D2E5-430D-AAD2-F0BD602C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F5A-FBCA-4FAA-8FED-791DE99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A3D-65C7-4192-B98A-59B964D5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699-4649-479E-B14D-4C54D17E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0DC-7887-4433-93E4-C945CA35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15F-8868-45D9-961F-41E24CD4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302-A514-4E8F-A82B-88225CB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DBD-8464-4808-AD2A-E39E95F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B6CD-947C-4FB2-BD9A-44C3C529E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7B7F-5F35-429E-A890-D8C1FB1AB2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y Lala Jam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awrence F. Tayl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1 – RAHA SENDRA NY ZAVA-MAH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1 – RAHA SENDRA NY ZAVA-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ny zava-mah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a mbola mafy ny al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o tsy misy hev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kivy hatrany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1 – RAHA SENDRA NY ZAVA-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sy mba mety manda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non-kanampy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ny mitsotra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Raiso fa miandr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kiro, aza avela hi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noa fa Izy ti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ento mameno ny f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o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1 – RAHA SENDRA NY ZAVA-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ndry 'zay olon-kanamp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ny vonjy h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mainka niavos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riana iza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1 – RAHA SENDRA NY ZAVA-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atrakao ny fij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banjina an'i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o Jeso nanolo-tena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nao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05:02:59Z</dcterms:modified>
  <cp:revision>68</cp:revision>
  <dc:subject/>
  <dc:title>Tiona Advantista</dc:title>
</cp:coreProperties>
</file>