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AC4-85C6-409F-9EB7-FF2513F9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409-E99C-402D-87C3-D0771DFF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7C4-1115-4959-811A-072E6430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AC1-95CB-4AB7-BFD7-77872FD6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378D-1500-47BE-863F-3454381B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4681-59B2-4718-94AF-80494687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5821-68F9-43B1-8DC4-B2DB0010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A35E-1FB5-4694-838B-C99F5D32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9FDA-99BC-41E5-B7FC-29CA3595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2417-DAEB-46DC-AEF3-55829264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C7DF-BFB0-4CCA-9403-31342CF2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95F-A018-4097-B47E-C9D38642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86A0-C6FC-4D1F-BCC4-E5DB4FA1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A5D7-E64D-49E9-A598-7763AAA3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97F0-8957-4C94-9358-3A6245A5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A888-A218-4FA6-A32B-4DAC7C27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7011-C8DE-4787-AFE9-89C02605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2C9-E91E-4D71-ACC4-39B1C9CB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64F-BA02-406D-8BB9-F34E6CA6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4DE-108D-464F-8064-850F5F54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4DC-B05E-43B9-98CF-F3F42000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6B8-F92E-41B2-9268-002D9716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679-A008-472C-BD5B-C780CEC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1DD-66A1-4DAE-93E2-2E1190DF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6354-B89B-43EB-AC5C-D9D318EC7A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7417-265E-47D8-9CD6-A645208878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L. Thom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9 – IZA NO AN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9 – IZA NO ANY AN-D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any an-dani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toa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m-boninah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ah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volamena, vato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anohano, so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mpianin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88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9 – IZA NO ANY AN-D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'reo anjely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ide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a mahafin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hy f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he nanol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ty mba ho av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lahitok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88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9 – IZA NO ANY AN-D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ty an-tany, iz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ena ahy r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sy Ianao, ry Tompo s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sa : alok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voninkazo man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indro tsy mah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lazo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88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99 – IZA NO ANY AN-D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ahy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o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hamoizak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velona aza ny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koa handao 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anjarako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ani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88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1:11:40Z</dcterms:modified>
  <cp:revision>69</cp:revision>
  <dc:subject/>
  <dc:title>Tiona Advantista</dc:title>
</cp:coreProperties>
</file>