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17B-4D2D-4D06-BF5C-0243D215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DD5-45AA-4D9C-8394-D341AE4B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880-465A-42D3-B5F9-FBA81643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FB7-638E-43C3-9C57-76D0806B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01D0-38DE-4288-BB7E-C1685132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058B-3F14-4E2C-ADE0-83F950F1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DEBC-68FB-4DD2-A27A-C4180F59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351E-A7AD-4110-B367-743D1689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89EA-C7D2-48FF-86A8-9C01AA8D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B4EB-69B6-42A3-9768-A56E308E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3826-8A31-4D40-9967-7116A08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D0E-0AA2-4ABB-B4FB-D4DBC1B9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FC5E-7F6A-460C-8D8F-2299F838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9AD3-2E40-4474-8603-027F96CF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83CD-CD7E-4A52-ABEA-03456754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9A94-1203-477B-B405-AC3C0465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0516-FF5E-49EF-9E93-3EFE3498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B87-61FF-4EEF-A7C4-EE795F76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F12-2A39-4E3E-9E41-AB6439FD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6DA-8E82-4857-9FE3-5E864F54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CC3-DD01-4ACE-BFA3-1BA969D4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19F-68EA-4AB2-A033-82E27882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6B9-D2FB-4F37-A775-93B048D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44F-CF32-4B1C-A129-26E7EF7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0109-78EB-420A-B570-8D9165A746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79A1-BD97-404C-8BBD-325FF744F1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96 – HO KIVY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3224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224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3224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6 – HO KIVY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kivy ve raha sendra ny manj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dy atao ve hampamoy f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tanintsika 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re Jeso ery mitaza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nenjehana hiare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panakaiky Ilay tratra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rotika aza Izao nof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ve tsy hosoloiny Vaov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3224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224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228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6 – HO KIVY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oriana hitana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làlana hahatonga anao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antenana latsaka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ahatraranao ilay Ede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o nofo izao ta handav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tana anie no ta hanjak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oa mandrese, Jesosy momb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zano ange, fa indry, Kanan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3224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224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228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6 – HO KIVY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aherezo ny ondrinao, ry R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avela ho irery hangai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nenjehana tsy taho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tria Ianao Tsitoha mitarik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akarana ho afak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o rehetra izao tsy maintsy res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sabatray ny teny masi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adiana aronay ny did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3224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224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228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2:15:36Z</dcterms:modified>
  <cp:revision>77</cp:revision>
  <dc:subject/>
  <dc:title>Tiona Advantista</dc:title>
</cp:coreProperties>
</file>