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D25-1ACC-4D92-A2EC-A2EDB702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061-F320-4930-B9FC-0724050D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319-91A3-4539-8B7B-0A397022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D03-C840-43ED-9F15-70498D91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79C0-291B-4226-A1B9-7413D8FE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270C-A7A2-484D-9D52-1250308C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A4EC-B628-4159-A42F-3726D6BE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96B3-2F5D-4765-94CD-6E8A45A7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9B1D-FD19-4E47-BE55-DDF526AC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2387-F179-45DA-ACE0-1EC2DE97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6916-E8A5-4E95-A3DB-77FBC6BC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1FDC-DDBB-42A1-80FF-F6DC44BA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60C8-F1B0-4D12-8696-E36E9606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5398-095D-40EA-BAF0-5B135ACD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F067-8D2D-4E65-8413-E5C4C9D9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4DEC-4BBA-46F4-B164-015B2CA8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5FDA-9439-4FA5-8BAC-F9A97FCD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12D-61CF-43F5-B31F-FD08E3F9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5E0E-CD51-482C-9294-D2A0403F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D61-2B6E-4736-8067-8CDEC65A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E53-91C5-4CA0-821A-D03903B5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109-6515-4F67-AA2D-E94B4993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FA9-36C3-4789-A11D-3A1E6B2A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69C-CC03-4BA9-9BC8-462BC979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7B5B-179B-4D07-B3C2-63F2204831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4683-7F9F-401B-B889-AFBCBE033F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ulen Borton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32 – FENO ADIDY VE NY F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80760" y="55609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2 – FENO ADIDY VE NY FO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 adidy ve ny fo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avela ny Tomp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aonao mosalahy ny vav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 vonona ny fo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ay voninah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nga anio ny Tomponao ?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780760" y="55609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2 – FENO ADIDY VE NY FO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nao ve ny hahita ny T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fiverenany 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inanao ve ‘zay lazain'ny vav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tianao ho tonga ve Jes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2 – FENO ADIDY VE NY FO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miantso &lt;&lt;avia Jeso&gt;&gt;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raha tonga Izy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dia haneso anao ny tav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ireo ota maro mami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voad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henatrao mandrakizay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80760" y="55609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2 – FENO ADIDY VE NY FO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nao ve ny hiavian'Ilay Tomp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vonona ve 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taonao ve toy izay tor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tianao ho tonga ve Jes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80760" y="55609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4:28:22Z</dcterms:modified>
  <cp:revision>62</cp:revision>
  <dc:subject/>
  <dc:title>Tiona Advantista</dc:title>
</cp:coreProperties>
</file>