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03A-168F-4025-91CE-3AA45F2E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3BA-8985-4804-B6A9-BE3554DD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35F-E9F2-40D2-8F98-100C77F2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99E-AB46-4D66-BB4C-CAD9D0D7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C15D-D769-45CD-8DDC-9E5D8937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4704-17AA-4101-99F7-4E3DF88A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70B2-99F7-4F97-9DAA-5819D0A2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AE1A-3147-429B-8305-D14858CA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F1A3-E0A7-423F-8CD0-2E7E181F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087B-05E4-411D-BD53-2F301462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A326-CD45-43B1-ADE2-61FD3253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5A3-8473-4EA5-897C-739480B2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3FA9-88AD-490B-B9AA-A48AC24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80FA-4818-4B93-9CDE-A33D905C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1849-520A-49A7-8603-668E7209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54CA-8029-43E7-8680-328EAC01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4806-1596-4F77-8949-8B2F63CA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43B-813B-49A6-B00B-17071CE8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AEF-7510-4D9F-8F10-B0680A98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B47-E2B6-41FD-A338-C8550B8B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A7C-0E99-450B-91C2-7B278C94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FFE-EAB8-4B4B-9B0B-C4C92346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C90-F24A-44F9-B8CB-B2CE92A7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14C-F840-4DA5-AC98-E1F277FF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D5C9-E472-4117-B4AD-CE9F130974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A47D-92CA-4242-BFDF-668812B7CB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maranana - Tsodran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ahl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. Selneck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33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77 – AROVY AHO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7 – AROVY AH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vy aho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ko h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kalaz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ah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faharetam-p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ovy tsy ho 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anja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33680" y="596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49:29Z</dcterms:modified>
  <cp:revision>51</cp:revision>
  <dc:subject/>
  <dc:title>Tiona Advantista</dc:title>
</cp:coreProperties>
</file>