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9C62-43EF-4659-B21C-73918479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2B46-CD9F-4A18-AE0F-C2FEB957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2F9A-6789-461B-956D-1EDCD615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AA12-F59C-449C-8EBC-F01DCA3A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7A7F-EA98-47CD-91FC-6BE96419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9C2E-BE20-4B48-B7A1-3E40CDF5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2EF8-C261-4225-83A3-B28B213A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4B28-62F7-485B-81F8-1C78E448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A6FB-05B4-429A-9C8D-009268E2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1737-130A-4273-917B-50B0DD06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FED5-2630-4569-B75B-83853DF9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2E29-4DAD-4E54-96CF-CF1FF444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BD54-E1B7-47FC-AC38-50AE7CED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B18C-52C1-48A6-B9F9-510D3F5F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6FFA-99BE-4448-842C-A1E87263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B92C-B272-49BF-8ED8-064D2CE6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CF73-D7DB-4FB2-AE4E-B3FCD6C8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80C5-D4FF-492D-8C99-6861A81A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0358-884F-4AA2-80DB-A43C6C6F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097B-AF71-4D3A-B5A3-BBA3EF1B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7367-B356-4F90-A7D1-9AE6A719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7131-076B-41D5-A649-49A0DFA1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F2C9-707A-4ECD-9304-D0A91756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92B3-27E9-452E-BE84-273A51DE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4C34-8B99-4277-95B8-4A5F316998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B0D4-6E14-401F-A979-33555F2FC7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faliana sy Fahatok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I. D. Sank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319, DLG46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21 – EO AMINAO RY MPAMONJY MAL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41880" y="4005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46920" y="4386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41880" y="4767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32880" y="5148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32880" y="5518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740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8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1 – EO AMINAO RY MPAMONJY MAL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minao, ry Mpamonjy mal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minao izay feno ny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no aleha tsy hisalas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hianinan'ny fonay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8746920" y="4386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8741880" y="4767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4" action="ppaction://hlinksldjump"/>
          </p:cNvPr>
          <p:cNvSpPr/>
          <p:nvPr/>
        </p:nvSpPr>
        <p:spPr>
          <a:xfrm>
            <a:off x="8732880" y="5148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5" action="ppaction://hlinksldjump"/>
          </p:cNvPr>
          <p:cNvSpPr/>
          <p:nvPr/>
        </p:nvSpPr>
        <p:spPr>
          <a:xfrm>
            <a:off x="8732880" y="5518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6" action="ppaction://hlinksldjump"/>
          </p:cNvPr>
          <p:cNvSpPr/>
          <p:nvPr/>
        </p:nvSpPr>
        <p:spPr>
          <a:xfrm>
            <a:off x="8740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7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8732160" y="3573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1 – EO AMINAO RY MPAMONJY MAL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Eo aminao, Jesosy ô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nantenan'ny ver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Eo aminao, Jesosy 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o misy toky sy he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8741880" y="4005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8741880" y="4767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4" action="ppaction://hlinksldjump"/>
          </p:cNvPr>
          <p:cNvSpPr/>
          <p:nvPr/>
        </p:nvSpPr>
        <p:spPr>
          <a:xfrm>
            <a:off x="8732880" y="5148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5" action="ppaction://hlinksldjump"/>
          </p:cNvPr>
          <p:cNvSpPr/>
          <p:nvPr/>
        </p:nvSpPr>
        <p:spPr>
          <a:xfrm>
            <a:off x="8732880" y="5518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6" action="ppaction://hlinksldjump"/>
          </p:cNvPr>
          <p:cNvSpPr/>
          <p:nvPr/>
        </p:nvSpPr>
        <p:spPr>
          <a:xfrm>
            <a:off x="8740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7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8732160" y="3573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1 – EO AMINAO RY MPAMONJY MAL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minao raha mamely Sat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nangoly handavo an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irery no afaka hit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minao dia handresy i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741880" y="4005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8746920" y="4386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732880" y="5148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8732880" y="5518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6" action="ppaction://hlinksldjump"/>
          </p:cNvPr>
          <p:cNvSpPr/>
          <p:nvPr/>
        </p:nvSpPr>
        <p:spPr>
          <a:xfrm>
            <a:off x="8740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7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8732160" y="3573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1 – EO AMINAO RY MPAMONJY MAL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minao raha vesaran'ny 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oa hilofika re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minao, ry 'Lay antra mpan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minao no fitsahar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8741880" y="4005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3" action="ppaction://hlinksldjump"/>
          </p:cNvPr>
          <p:cNvSpPr/>
          <p:nvPr/>
        </p:nvSpPr>
        <p:spPr>
          <a:xfrm>
            <a:off x="8746920" y="4386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4" action="ppaction://hlinksldjump"/>
          </p:cNvPr>
          <p:cNvSpPr/>
          <p:nvPr/>
        </p:nvSpPr>
        <p:spPr>
          <a:xfrm>
            <a:off x="8741880" y="4767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5" action="ppaction://hlinksldjump"/>
          </p:cNvPr>
          <p:cNvSpPr/>
          <p:nvPr/>
        </p:nvSpPr>
        <p:spPr>
          <a:xfrm>
            <a:off x="8732880" y="5518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6" action="ppaction://hlinksldjump"/>
          </p:cNvPr>
          <p:cNvSpPr/>
          <p:nvPr/>
        </p:nvSpPr>
        <p:spPr>
          <a:xfrm>
            <a:off x="8740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7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732160" y="3573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minao raha mandrahona ny 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feno tahotra re ny fo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minao, ry Ilay masoand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iverenan'ny toky in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1 – EO AMINAO RY MPAMONJY MAL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8741880" y="4005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>
            <a:hlinkClick r:id="rId3" action="ppaction://hlinksldjump"/>
          </p:cNvPr>
          <p:cNvSpPr/>
          <p:nvPr/>
        </p:nvSpPr>
        <p:spPr>
          <a:xfrm>
            <a:off x="8746920" y="4386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4" action="ppaction://hlinksldjump"/>
          </p:cNvPr>
          <p:cNvSpPr/>
          <p:nvPr/>
        </p:nvSpPr>
        <p:spPr>
          <a:xfrm>
            <a:off x="8741880" y="4767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5" action="ppaction://hlinksldjump"/>
          </p:cNvPr>
          <p:cNvSpPr/>
          <p:nvPr/>
        </p:nvSpPr>
        <p:spPr>
          <a:xfrm>
            <a:off x="8732880" y="5148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>
            <a:hlinkClick r:id="rId6" action="ppaction://hlinksldjump"/>
          </p:cNvPr>
          <p:cNvSpPr/>
          <p:nvPr/>
        </p:nvSpPr>
        <p:spPr>
          <a:xfrm>
            <a:off x="8740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7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8732160" y="3573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y aminao, tsy ho ela intso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y aminao ho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rey ny hasambarana any amb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minao Tompo, ho any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1 – EO AMINAO RY MPAMONJY MAL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8741880" y="4005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8746920" y="4386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rId4" action="ppaction://hlinksldjump"/>
          </p:cNvPr>
          <p:cNvSpPr/>
          <p:nvPr/>
        </p:nvSpPr>
        <p:spPr>
          <a:xfrm>
            <a:off x="8741880" y="4767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5" action="ppaction://hlinksldjump"/>
          </p:cNvPr>
          <p:cNvSpPr/>
          <p:nvPr/>
        </p:nvSpPr>
        <p:spPr>
          <a:xfrm>
            <a:off x="8732880" y="5148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>
            <a:hlinkClick r:id="rId6" action="ppaction://hlinksldjump"/>
          </p:cNvPr>
          <p:cNvSpPr/>
          <p:nvPr/>
        </p:nvSpPr>
        <p:spPr>
          <a:xfrm>
            <a:off x="8732880" y="5518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7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8732160" y="3573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ahita Anao, Mpamonjy ô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Ry tokinay sy He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ahita Anao, Jesosy ô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nao, Mpitia olom-bery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1 – EO AMINAO RY MPAMONJY MAL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741880" y="4005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746920" y="4386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741880" y="4767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32880" y="5148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732880" y="5518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740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8732160" y="3573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7:53:00Z</dcterms:modified>
  <cp:revision>71</cp:revision>
  <dc:subject/>
  <dc:title>Tiona Advantista</dc:title>
</cp:coreProperties>
</file>