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0074-66B2-45C2-923B-29E3E299A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FECF-EA58-4512-B51F-E72305A3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BF7D-A9CA-4EF9-9E82-D54242909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35FD-E73A-4AE5-B95F-BDFFE17D0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2E66-ABA4-41EB-8CFA-2197FC58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C796-E131-4D68-ADC9-0024BAF6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DEE3-AB98-42C6-A24B-648B37F5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4C4C-9C9F-447E-B345-5D570D60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7988-60C3-49C8-98E5-51F06F63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124E-2066-4ACF-9B44-8FED5CCE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744D-CA40-408C-8F06-7EEBF694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A762-DB90-451E-A912-2106CC46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C85D-8850-4064-B811-F1339BFD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A82D-8C6B-4CF5-847A-FDB31F4A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E3E8-FE37-4AC8-943B-18548C71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AD48-4790-42B4-BE76-8DC78E6CC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20AA-0576-427A-BD72-7C959580E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F5EC-F7ED-4378-B949-60F39EE0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AD5C-35AF-4C23-A891-C38A5D41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1E5C-EE14-45A9-A357-1C42ECEF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DB6C-19F1-4CE6-802B-101B45C3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F7D7-C81C-4903-AE4B-098B925E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28C8-637F-48A8-9FF3-0FB154B1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3F1F-6733-457C-B831-A0A6FB9B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1795-1CC4-4371-9E4C-EA3B64328E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9FDB-C7BF-46F3-9079-9BE414A3E4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64 – TANTANONAO NY DI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64 – TANTANONAO NY DIA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antanonao ny di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Jehovah Tompo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be tokoa ny tahot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kely ny heri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 ! Sarotra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làlana haleh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jer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64 – TANTANONAO NY DIA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ena sitrakay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eo anilanao ry 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ambatra n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antanonao Tompo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64 – TANTANONAO NY DIA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eteza hiaraka ami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sao dia very ind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iainanay tapah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 fifali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miaraka am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taonay rehareh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nek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64 – TANTANONAO NY DIAN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anao no antom-piain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anao no tanjak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Vohanay ho Anao n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atria tempol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sitrakao hat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vavakay ho 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haino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2T15:34:16Z</dcterms:modified>
  <cp:revision>90</cp:revision>
  <dc:subject/>
  <dc:title>Tiona Advantista</dc:title>
</cp:coreProperties>
</file>