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3D7-399C-4FAD-9354-1AA34C5F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BB5-D0E0-4684-BF27-E574B2D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BFE-5962-4463-A498-30E0BFE7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5AC-C360-415E-887C-46B368EF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AEF4-D761-4F83-ADC3-89078294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272A-5157-4B33-9B5A-1746F724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ED23-7347-4FE8-90FE-C932A055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3E0-2B71-491F-9207-49217E8E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594E-EBB5-4B6F-A77F-0886D85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798-B560-4251-A778-3C7BBAF0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066A-5AE5-4840-9DF5-855807A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F30-DB18-4EDA-A2A7-1D138008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E47F-4864-42BE-9BD2-C93FD01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D6D-C755-47D7-92A1-A0AA1CE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A44C-A77E-4060-B08E-12BBDC6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D3C-131A-489F-9D7D-F6F85C9E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3F6-1098-4BD6-8EDC-5B70B418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6BB-923E-43F4-BF0A-BA590969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1A7-2DEB-4FC2-BB7D-C630AF52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5A8-C917-4781-AD89-1B8B44C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71B-274E-4362-A7AD-D49554EC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564-3D0E-4200-A5A4-AC9D320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3AB-2603-4047-9A87-DE8DF70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44B-3F9F-4D26-AAC8-B79D77A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51F-584D-451F-8288-D32F4C9F5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72E-EC3B-4DE1-B919-6125E465E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474 - INJAO MIROHONDROH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dy sy Fandres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E. Razafinia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4 - INJAO MIROHONDROH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njao mirohondroh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ranomasi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onja manol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ely maf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very he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renen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eon'ny ri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-mitsoka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4 - INJAO MIROHONDROH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raha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mandry fah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dy mampis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tebiteb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mi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fiad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onona e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4 - INJAO MIROHONDROH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n'ny manan-d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erak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tahotra ny lo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ranga ao h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karoka n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fiada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nefa ny mif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koront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4 - INJAO MIROHONDROH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ire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iantsampaz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e mifofo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onja taz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ry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atakal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hiniko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nonjy ar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24:33Z</dcterms:modified>
  <cp:revision>118</cp:revision>
  <dc:subject/>
  <dc:title>Tiona Advantista</dc:title>
</cp:coreProperties>
</file>