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B44-1F2A-42B6-8E2E-03D3F628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6E4-33BA-4BFC-9C0E-27E9660F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1DE-A309-4E49-AA3D-8C411FE9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870-7E8D-4003-9B56-4FF3C941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4BE-7502-4524-8DEB-A7A13E7D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6DA-1D43-409E-86B2-01CD10F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FAF-7B59-41D1-A00E-5A29FFCD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794-9A74-4456-860A-908264D4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FB9-FDDB-4045-801D-D862134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27C-56E6-4815-B2AC-2F0A8D8F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0536-C743-43FE-ABA9-C194B4D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386-3EC7-4730-A4A0-87480D72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C23-F132-4B53-953D-780319C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D7D-767C-404C-9578-F240944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EB48-F0C9-4D0E-8F50-4691B91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7BE8-A5F7-48B1-8089-6FCE2D1F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4A39-6EA0-47FA-B52C-B246A654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E33-0A97-4FE8-A9C0-BC1F8C5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BF4-9995-4343-8E0F-E7335A2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F3A-9E03-4E73-AADD-43DB14D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179-F32C-4E6E-872B-774AD6C2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EB9-B6A9-42EF-9E3A-0C47B96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3DB-E25A-4E3D-80BB-697F236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2B9-F1B2-4922-9A69-48B28A4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171-0DE1-4E17-B826-E18E4EEADE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D9B1-3301-4117-873B-B2C66CEA0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Herbert A. Work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8 – FANOMEZANA TONGALAF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8 – FANOMEZANA TONGALAF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omezana tongalaf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tra mba ho fanat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itra 'zay nentin'i M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sorany an'i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8 – FANOMEZANA TONGALAF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 nanosika hanom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lotra ny fofo-manitra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e, tena ambony lav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noho 'lay fanomez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8 – FANOMEZANA TONGALAF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malala avi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titra 'zay arots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tsy mendrika, ô ek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manolotra no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30:13Z</dcterms:modified>
  <cp:revision>42</cp:revision>
  <dc:subject/>
  <dc:title>Tiona Advantista</dc:title>
</cp:coreProperties>
</file>