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392-F30E-4045-B2E1-1A82D103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017-B244-478E-AA42-957F582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076-F773-4E6B-95E5-73E88EB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F17-9816-44D2-ABDE-0471604E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567E-9E53-4782-952D-98EE231F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AC5-D371-4476-992B-47D51E0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3D4-48CD-4358-9EFE-69FC606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AC6-A527-40F6-8945-17F48B1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E9C5-BA45-4294-B706-F21DC992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1198-859D-4DF8-B6A4-4714FDF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B9F6-3DB0-49F7-BD0C-A126835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15D-2AAA-4048-8D20-7D69BF44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126-F71F-45C1-A02C-CDF0C38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1ABB-9A1A-4CCC-AC0E-CB53EB0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E15A-246D-444F-A9A6-7C3200E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3BBB-28F7-4C0B-B65A-942BAF2A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A4F-D6E9-43DF-B70D-705FB8F4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02D-0A13-4404-83D7-D9E1C3E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792-A882-412C-85BE-09CA4E60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841-2A16-4177-9638-842F8499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BFC-E029-4321-8D1D-4D79F68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D64-7D6D-40EC-9763-E2DE403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134-966B-43D6-BAC4-06E2C74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0C8-E4D3-48C9-ABF1-20CE5EC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34FE-5DC4-4FCF-8CDE-10802ECE8A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03C4-1C0B-48C7-B3F3-0815A9E64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es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e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9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2 – INONA RE HATAKA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2 – INONA RE HATAKA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re, no hataka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sosy Izay Mpisolo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tra izay ho simba 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ora levo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hazoniko ny 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aty ny jiro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sy sol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nona na in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2 – INONA RE HATAKA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Jesosy no f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anda fiarov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efa m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ovelomin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dia mahantra aza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bola nafindra ho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anja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py ahy re 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2 – INONA RE HATAKA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y Jesosy Tompo tsa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mela 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r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no aho ho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 velomy ny fitiav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hano ny fandeha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rahako ny là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le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04:36Z</dcterms:modified>
  <cp:revision>69</cp:revision>
  <dc:subject/>
  <dc:title>Tiona Advantista</dc:title>
</cp:coreProperties>
</file>