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7604-4D3E-423B-9819-72BC2423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3595-CE86-4C54-9006-BADDF1BF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57F5-71F6-443F-8CC6-EF784AF91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E447-D67C-4E0F-AAF8-6B91F9CDD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36C4-5015-4DF8-A9B1-E978BE1C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0858-FA89-45E3-84CC-8EDD479A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33A8-63FF-4949-89CC-59CE9687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5896-610E-4661-9C4E-1F1046AD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6FED-BB3C-4720-B613-560C7AE0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44A8-7281-4EEA-BD11-C53AF83F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B2EB-8B6A-4DD5-944A-E6A0B849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2998-51C8-401E-ABA0-61188FB1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D257-D4ED-40E3-8A9B-A9E5ACF4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7CD1-9A28-409E-B959-13ACAB44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163B-71E8-4288-A031-0A354AF9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26A8-9BBB-4C8C-8D9C-B5B3F0B13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9328-FD1E-44BD-A80A-C9CB165F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D976-51CE-4743-8E24-617C7BC9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0DA9-1001-406E-9E5D-176693BB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EF56-B729-4027-91DC-ED0CBC63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D3B3-36D8-47B4-8054-EB9A7AD3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00A3-C5C3-4E14-9A46-BC070082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94F5-F09B-49C0-9C5B-4321A383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EAAC-BFF0-4F88-ACEB-43AF945D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3556-EA0B-43B8-A0CA-789BE5AC8D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36A9-1523-4779-8C63-4E29494F22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Harkn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654 – MATY JESO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4188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4692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4188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3288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3288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4 – MATY JESO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ty Jesosy hisolo ahy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ndro fitiav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iaritra irery tanaty alim-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ndro fitiav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74692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74188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73288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73288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873216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6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4 – MATY JESO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nona no hit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iko ratsy izao </a:t>
            </a:r>
            <a:r>
              <a:rPr b="0" i="1" lang="pt-B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ratsy 'z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dia nafoinao na dia ny ai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mpo ô, ambarao </a:t>
            </a:r>
            <a:r>
              <a:rPr b="0" i="1" lang="pt-B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ambarao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74188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74188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73288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73288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873216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6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4 – MATY JESO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! Voahombo na tsy diso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ndro fitiav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foin'ny Rainy na Zanaka 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ndro fitiavana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74188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74692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73288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73288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873216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6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4 – MATY JESO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ka ny toerako. Nahoana re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ndro fitiav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ho mpanota sy meloka 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ndro fitiavan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74188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74692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74188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73288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873216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6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foiko mantsy ho faty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ho fitiav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dia nafoiko ny aiko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ho fitiav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4 – MATY JESO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74188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74692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74188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73288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873216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rId5" action="ppaction://hlinksldjump"/>
          </p:cNvPr>
          <p:cNvSpPr/>
          <p:nvPr/>
        </p:nvSpPr>
        <p:spPr>
          <a:xfrm>
            <a:off x="874872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FA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ny irik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moa ve mba foi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Ahy anio sy ho mandrak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itiavan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654 – MATY JESO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74188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746920" y="46735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74188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73288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73288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873216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22T08:41:29Z</dcterms:modified>
  <cp:revision>90</cp:revision>
  <dc:subject/>
  <dc:title>Tiona Advantista</dc:title>
</cp:coreProperties>
</file>