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C68-1990-4049-9FBF-D2D0F162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843-7B0E-42BF-8C5E-61014C68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48B-99F9-4129-A882-1F7937E0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CE5-7430-498B-9CC9-66C9628E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D69B-C273-4980-B861-775B3DA6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2BB-0916-4930-8714-94671BE2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0773-616A-4EFB-93D1-A1C2AC27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CD4A-E924-42A7-996D-DFB2473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2BD-14D8-4C97-A1AF-04628B5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3DDA-22F9-4105-B085-EE41BAC5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6CF6-CAA6-4A33-B6C1-452768C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5D6-DA2B-44A3-9964-ECED39BD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A1D-4DF5-4E43-A72E-EB00D05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97A1-F5A0-4985-9F2C-463EA8D5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F60C-582D-4B09-86E2-5E4F17D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87D-F9F8-41B9-8316-E201103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724B-F98D-48CB-8A7C-5645F6D3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89D-74B9-4C6B-AB53-7909A2C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793-E8F3-4DA1-915A-DB77EF82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302-BBCD-4A0F-A5D7-4411AF0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117-DC7A-4648-9A65-EC85E51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6D6-0153-4935-B1F1-9E18A3CD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683-62A7-4520-B95E-85F22B0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89C-D59F-41A8-929A-F95075A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541-088A-4F77-8F6F-BB40168C9C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E23-5D4B-40C5-AAA2-9E9DDEF3A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nombo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lph Carmicha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8 – TOERANA 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57056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8 – TOERANA T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erana tony i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tsar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ny saiko tone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vaka az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elam-boninkaz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miratr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andan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mamik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80760" y="57056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8 – TOERANA T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goka ny fitiav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avy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-kanatrika ny 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m-p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8 – TOERANA T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erana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toerana 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natrehana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o andrai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anovoz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o amoki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760" y="57056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98 – TOERANA T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here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ina sy fanah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ha miala e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-kanatrika ny 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m-p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80760" y="57056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55:01Z</dcterms:modified>
  <cp:revision>41</cp:revision>
  <dc:subject/>
  <dc:title>Tiona Advantista</dc:title>
</cp:coreProperties>
</file>