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6A90-A2F1-4A83-8477-46C0A3A7C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FA0E-C8B7-4F4D-8D33-FA8DDF39D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BB0D-2EBA-46CA-8732-E42A806D0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F18E-B8C7-4788-837D-DF11334FE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B6983-D6B8-4E6C-A957-0F63BAF12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BECD5-6553-4C8D-B893-9B5EE0AD5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3803E-4940-4463-A467-439E16036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FD056-FFB1-44BD-B0A8-60E597E3C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CFC10-D540-4F6F-A564-BD7519C04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1371D-8AA8-4D3A-B768-EF415DB69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6988B-B330-4E29-B908-47EFDBF6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0995-DF03-4D02-8927-55BDAADF3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E5FF0-0E44-4E50-839C-7A981296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4F468-5356-4EA8-901B-46FB28A4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59903-4CAD-4ABB-BDD5-CD068C22A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B9E50-0A05-478B-A067-D2669DBD6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C0C60-35AB-4F5B-96B5-B0C9C3AB3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622F-18C3-47B8-A2A5-83463E5DA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14B4-F1C3-4D5B-92F9-4AFE2BF30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90FE-7015-4E5E-B934-6B8B30D2E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A26C-FA9E-452C-8591-BB54EFC19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EAF3-7920-4650-9AC3-A5422030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3E56-2DD3-4F8B-9CF3-97F333AC0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4467-4653-4B58-AF09-E93FEF58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10787-0532-4C81-9958-7EB66F39AF7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0EEB9-8B20-41DA-BF91-2F58AB70D82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TORIANA NY FILAZANTSA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tso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C. Borchgrevink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eon-kira amerikani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FFPM395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326 – MODIA, MODIA Ô ! RY MPANOTA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2120" y="4797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80760" y="517860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7160" y="55594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63120" y="5940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763120" y="6381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26 – MODIA, MODIA Ô ! RY MPANOTA Ô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odia, modia, ô, ry mpanota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mba hitsangana va mba hiadanan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handosiranao va izao fomba ratsy iz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dro mitady anao Andriamani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ta hampiditra ano any an-dani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ta hampiditra ano any an-danitra !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 u="sng">
                <a:solidFill>
                  <a:srgbClr val="00ccff"/>
                </a:solidFill>
                <a:uFillTx/>
                <a:latin typeface="Symbol"/>
                <a:ea typeface="Symbol"/>
                <a:hlinkClick r:id="rId2" action="ppaction://hlinksldjump"/>
              </a:rPr>
              <a:t>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780760" y="517860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777160" y="55594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5" action="ppaction://hlinksldjump"/>
          </p:cNvPr>
          <p:cNvSpPr/>
          <p:nvPr/>
        </p:nvSpPr>
        <p:spPr>
          <a:xfrm>
            <a:off x="8763120" y="5940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6" action="ppaction://hlinksldjump"/>
          </p:cNvPr>
          <p:cNvSpPr/>
          <p:nvPr/>
        </p:nvSpPr>
        <p:spPr>
          <a:xfrm>
            <a:off x="8763120" y="6381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762400" y="4365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26 – MODIA, MODIA Ô ! RY MPANOTA Ô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 (Tohin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oa tsy tianao va ny mba ho velona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oa dia aza mandà Azy mpamelon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sy miantso anao, ka mba henoi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iso ny tenniny izao, mba hamonjena 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iso ny tenniny izao, mba hamonjena anao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772120" y="4797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777160" y="55594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763120" y="5940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763120" y="6381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2400" y="4365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26 – MODIA, MODIA Ô ! RY MPANOTA Ô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ry mpanota miov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ho sambatra to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mody i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ho sambatra to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mody i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772120" y="4797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780760" y="517860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763120" y="5940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763120" y="6381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8762400" y="4365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26 – MODIA, MODIA Ô ! RY MPANOTA Ô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odia, modia, ô, ry mpanota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mbola azonao va ny fiantsoan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 ianao ta handà ny fitiavanay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mankanesa aty, indro mivoha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ranon'ny Rainao ery, ka mba hidiro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mba modia ianao, tranon'ny Rainao e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mba modia ianao, sao dia handatsa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 u="sng">
                <a:solidFill>
                  <a:srgbClr val="00ccff"/>
                </a:solidFill>
                <a:uFillTx/>
                <a:latin typeface="Symbol"/>
                <a:ea typeface="Symbol"/>
                <a:hlinkClick r:id="rId2" action="ppaction://hlinksldjump"/>
              </a:rPr>
              <a:t>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772120" y="4797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780760" y="517860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3" action="ppaction://hlinksldjump"/>
          </p:cNvPr>
          <p:cNvSpPr/>
          <p:nvPr/>
        </p:nvSpPr>
        <p:spPr>
          <a:xfrm>
            <a:off x="8777160" y="55594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4" action="ppaction://hlinksldjump"/>
          </p:cNvPr>
          <p:cNvSpPr/>
          <p:nvPr/>
        </p:nvSpPr>
        <p:spPr>
          <a:xfrm>
            <a:off x="8763120" y="6381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8762400" y="4365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 (Tohin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kirizanao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oa katsaho izao ny voninah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fa miandry anao any an-dan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fa miandry anao any an-dan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ry mpanota, sns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fr-FR" sz="3600" spc="-1" strike="noStrike" u="sng">
                <a:solidFill>
                  <a:srgbClr val="00ccff"/>
                </a:solidFill>
                <a:uFillTx/>
                <a:latin typeface="Times New Roman"/>
                <a:ea typeface="Arial"/>
                <a:hlinkClick r:id="rId2" action="ppaction://hlinksldjump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26 – MODIA, MODIA Ô ! RY MPANOTA Ô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772120" y="4797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780760" y="517860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777160" y="55594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763120" y="5940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8762400" y="4365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RAZAFIMANANTSOA</cp:lastModifiedBy>
  <dcterms:modified xsi:type="dcterms:W3CDTF">2010-11-18T11:16:13Z</dcterms:modified>
  <cp:revision>60</cp:revision>
  <dc:subject/>
  <dc:title>Tiona Advantista</dc:title>
</cp:coreProperties>
</file>