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D1E-8002-4C73-AFA6-535B3118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C7E-257C-4F03-8472-856B016D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D45-7154-4852-A532-057C0A7A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D28-C4DD-4243-85E6-34A5BBF4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10E-AFD2-414C-99A2-70343B97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7850-30D7-4D78-8112-7E3AA51F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3EB8-9C29-40B0-8599-A6909DAA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781-3073-401D-B6C8-40D5DB6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D959-1FF8-46A6-AF2E-5853D5E4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DCDF-DEC5-4FC7-A630-8A3D79F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E962-8FCD-4005-A485-7C18836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841-978C-446B-8C84-7BC8EEA0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43D8-6288-4FB9-911A-3C4B13C4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AFCF-0D4A-48A2-8FD3-DF47608F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79A7-8B90-46A7-8B5F-C5A1D8A0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8BA9-483E-4F3A-8306-0364019B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2427-F46D-42BD-A570-88EB0F35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B06-9189-4CB2-9135-FFB344C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26E-8C11-43A0-9EE2-20E7156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3A2-79D3-42B3-9DAE-E2052D0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A23-18DF-4E82-9CDC-66C4F9C7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6D4-63F3-49C9-B688-F15E662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B0F-6491-43FB-A230-70D5707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1E1-F28E-4ED0-920A-F4DF0B6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260-E1C9-46D5-8A77-B4E4AB9E3C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F945-A91F-4D39-B6AC-7A91FF92B5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Mac Granaham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9 – ANGAMB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9 – ANGAMB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gamb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rain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aliak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e tana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anitr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mba handray ny az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9 – ANGAMB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aingàna Ia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pahoviana, hihiran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,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9 – ANGAMB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gamb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y ny ant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taovovo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anitr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mba handray ny az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9 – ANGAMB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gamb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ariva ny 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sok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sa ny 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anitr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mba handray ny az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gamb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foko miom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vari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fahot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aina, ant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li-mangi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Kristy, moa vonona v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9 – ANGAMBA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36:49Z</dcterms:modified>
  <cp:revision>36</cp:revision>
  <dc:subject/>
  <dc:title>Tiona Advantista</dc:title>
</cp:coreProperties>
</file>