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2B9-4B23-4C55-88C7-CF717671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D5E-D9BF-4509-96C3-929BFA83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55B-479A-40F0-9642-A4D993DF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3FC-092E-4A94-B731-C01012EB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477-164E-4955-9933-D7274F9C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5598-EC57-4B40-9D02-9F874ED5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1008-BE8A-4B65-A622-A793563E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5C21-2C32-4AAC-96B8-35D95F71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15BC-047D-466B-89ED-1E81C88E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9C31-89EB-4993-B78F-579A65E4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E9CC-EA35-4017-BB5E-0058E24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617-EE66-47E6-AC60-DC72523C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228-29FF-4388-972D-F46EA26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9081-1E29-49E7-A06E-6DB788A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F12-5F7F-495C-B197-5102CA84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DB0B-ED89-4089-A57F-8B36B2E6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DD48-F77F-4161-A46F-426FEFA9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B58-6D8B-40DC-833B-B9B4D10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985-B7DF-47F3-B3A8-0301C3D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AD7-35A4-46D8-BB90-500F1E0B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CDC-9DCE-4BD9-82FE-A2D0448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B3F-DCE2-4BEE-B24D-684AD0F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A8E-6879-4CB1-A1AA-B5B2865C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CD3-D27F-4B23-BA5F-3288CF8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FD97-B376-485E-92BE-73DFC2371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0CCB-09D3-4659-B4FE-B2BA148EB8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endelssoh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93, DLG46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2 – MAMIKO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916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916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916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5772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2 – MAMIKO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ko loatra ny eo akaiki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vitra sento, tsy mis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'zany 'zaho hitoetra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, ry Ray, ‘zaho samb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916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916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74980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5772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2 – MAMIKO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, mangidy toa mam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'zany foko ampoky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riana, loza izay ho ta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 dia tonga zava-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916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916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74980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75772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2 – MAMIKO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no misy famonje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Very toky raha hilaoz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vitra Anao milofika ny t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iho, Ray, e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916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916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4980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5772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2 – MAMIKO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ry Ray, anilanao no t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aho, Ray, ho ao an-dan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ndrinao mitantana ny d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ahatonga ho e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5916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5916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916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4980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8:03:01Z</dcterms:modified>
  <cp:revision>70</cp:revision>
  <dc:subject/>
  <dc:title>Tiona Advantista</dc:title>
</cp:coreProperties>
</file>