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F5BB-EC3D-4F04-BE31-5E76C179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7743-FD2E-46A9-B193-CD08D84E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CAA9-7212-4F58-A233-C68F5703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3CA7-E473-434B-8925-FF103EF7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10B6-7FBF-42AB-847E-3877B8BD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0299-A87A-42C0-96E4-224C44F8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0833-AEEF-467A-9399-2B645BEB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AD7F-3707-4725-95F5-5C683A6B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0F42-9FFD-49D4-A35C-58875B94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ACD3-B29B-402D-83E9-8EE78381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47D5-4786-403B-ADCC-04EE30D3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68D5-EA03-4BE1-80DF-B9A29703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7025-C2E8-4C03-8BFD-D763DCF5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0B90-A5E7-4343-80F0-010194F8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331A-F33D-4D7E-9A79-AA46C3F6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CB95-6564-4648-99FF-BE6B9702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DEE5-DF37-47C2-8BE2-88FBF304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8DC8-FAFC-4591-B546-E26C14DF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B7C0-0613-48E8-8A14-21DCF0AB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672-7A49-440C-8B50-F0AF9EAA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DFA-71D0-4C65-828B-2D343177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7CD-9719-4587-888C-7C8E6802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B46-2292-42A8-871F-691AAEBE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92A-D35A-4AAC-90FF-5DFB7C5A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ACC2-AD9E-461A-9C5B-29F5CF664012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269C-8B1A-4ADE-A6D1-936B82AE1CAB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85 - MAFY TOA ONJA 'ZAY MANAF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6 – JESO NO SAKAIZ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fy toa o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'Zay manafo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fitian'i J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'Lay Mpanavo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a mafy re, ny onja b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Jeso mamily ny sambok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a mafy re, ny onja b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zy no tokiko (tokik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8578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9:59:13Z</dcterms:modified>
  <cp:revision>84</cp:revision>
  <dc:subject/>
  <dc:title>Tiona Advantista</dc:title>
</cp:coreProperties>
</file>