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6329-692D-4405-8013-C24F9FBF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54FF-4C8A-4927-8241-2BA84CC5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B0F5-0AD0-44FE-B507-63CD0F82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5D86-ED7C-4E75-864E-D20E29D6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673F-9708-44BD-AE65-3F582016B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9429-6133-4776-8A31-B39DBD70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940D-C503-49CC-957D-DD9BDCB5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47EC-D41C-4148-8345-1DB5FAFB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A773-307A-419D-B33C-622C5DE1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B4E5-C1D0-4C5F-BB86-3AF48306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E528-A1B8-4206-990B-1E625054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4294-110E-48E3-9524-233AD498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3E72-17C3-417C-B0DD-A9638A4F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2E80-4194-413C-BF46-8C88DBFE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88DA-8772-47DE-AF2D-5D65C7B0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7D08-0E55-4893-9BE7-E97F661C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A531-4840-493A-871D-A669CA66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22FC-635D-48ED-BBB4-D5241EA6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6F77-93CC-4E93-A746-413B095D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BE60-3EFC-4EB8-A729-A7E0CEFF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E062-8DA0-46EE-AF57-F26586DB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F288-C203-438D-8F65-EC691CF3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2AD3-CF08-49B0-B401-E8918EF2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03C8-89AA-45D9-9D4E-37D75D7A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4A77-6AAB-425F-9F17-AC53463181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1FCA-C6DD-4DD3-BD8A-4B24822B91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iavana sy Fino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  <a:ea typeface="Arial"/>
              </a:rPr>
              <a:t>D. B. Town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09 – MIARAKA AMIN’I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09 – MIARAKA AMIN’I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raka amin'i Jeso tsy mampanah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aiza itondrany ety an-tany e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isaraka aminy tsy mahafaly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raka aminy tsy misy taho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627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09 – MIARAKA AMIN’I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aiza na aiza aleh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ataho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nil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eha tsy miaho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09 – MIARAKA AMIN’I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raka aminy aho tsy ilaoz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sakaiza hafa dia mety mand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zaho kosa sakambini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aiza na aiza Jeso no arah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627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09 – MIARAKA AMIN’I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raka amin'i Jeso matory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mikitroka aza re ny haiz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o antoka fa Izy no hamoh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trano itoerany milam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aiza na aiza aleha, s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627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6:53:53Z</dcterms:modified>
  <cp:revision>68</cp:revision>
  <dc:subject/>
  <dc:title>Tiona Advantista</dc:title>
</cp:coreProperties>
</file>