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310C-E358-4385-9B78-ED24793DA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47F2-4FCB-42CE-BE50-5017B942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426A-4734-4E23-8495-E96E0135D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F677-E963-479F-998A-48C5CE17D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2EA2-332E-4B4E-B9F3-65C07A78E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9EA4-9CBF-4A3A-8D4F-D8CF64A2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E205-926A-463E-880F-B1276F1E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39C4-1DDA-4C59-9B97-E6F5EA7A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5633-514F-489E-AD90-C6CAF1FE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E88B-2067-4FA5-B320-BFC46F43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B91C-76DF-4FCF-947B-734A0CCD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BBD7-CD1E-4F4A-AEF6-1DC83B15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0F64-A4E8-45FE-B4CB-831A88E3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42F6-43D3-479D-BC8F-B2F9D1BC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479C-A41C-4A75-97E5-0341BD5D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A1D6-331C-4B7A-BA13-215EF7E5C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2731-F013-4652-84BA-E2560D604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4C8F-F8B8-4B0E-A997-1A061CA3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C5B5-1387-4534-8BD1-218099B0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CA3F-30B6-4F8B-869A-9D4CED36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8BC5-EB8B-4FD3-9230-0103FBE7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AA6F-7158-4027-95DF-D3A812BD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09B3-5CFE-440B-9706-8AAE9837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7A35-EF0B-48F7-804D-938FB2F6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04A7-4219-461B-9F42-DB125ED01B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6CCF-0ACB-4A20-8975-361048F9AD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57 - HANARAK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4789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31160" y="51721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35480" y="5583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8817120" y="5958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anoloran-tena sy Fanamasi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Rajoel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W. S. Mart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HL06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48080" y="635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A457 - HANARAKA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naraka Anao no iri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a aiza no aleh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sosy, 'zay re no tiak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ndeha eo anil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31160" y="51721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35480" y="5583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17120" y="5958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41600" y="4419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6" action="ppaction://hlinksldjump"/>
          </p:cNvPr>
          <p:cNvSpPr/>
          <p:nvPr/>
        </p:nvSpPr>
        <p:spPr>
          <a:xfrm>
            <a:off x="8848080" y="635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A457 - HANARAKA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san'andro sy isan'o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Anao, ho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na iza no hanakor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Anao,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(Tsy hiala aminao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26120" y="4789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35480" y="5583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17120" y="5958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41600" y="4419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6" action="ppaction://hlinksldjump"/>
          </p:cNvPr>
          <p:cNvSpPr/>
          <p:nvPr/>
        </p:nvSpPr>
        <p:spPr>
          <a:xfrm>
            <a:off x="8848080" y="635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A457 - HANARAKA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naraka Anao mba hanomp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a aiza iantso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tahaka Anao, er ry Tom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kivy na sarotra at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26120" y="4789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31160" y="51721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17120" y="5958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41600" y="4419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6" action="ppaction://hlinksldjump"/>
          </p:cNvPr>
          <p:cNvSpPr/>
          <p:nvPr/>
        </p:nvSpPr>
        <p:spPr>
          <a:xfrm>
            <a:off x="8848080" y="635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A457 - HANARAKA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naraka Anao na dia ma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adin'i Getsema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iara-mandresy 'lay ra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mim-pivavahana 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8826120" y="4789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8831160" y="51721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4" action="ppaction://hlinksldjump"/>
          </p:cNvPr>
          <p:cNvSpPr/>
          <p:nvPr/>
        </p:nvSpPr>
        <p:spPr>
          <a:xfrm>
            <a:off x="8835480" y="5583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841600" y="4419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848080" y="635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A457 - HANARAKA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naraka Anao any amb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y be voninahitra 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tsy hahitana ints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zava-mahory e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826120" y="4789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831160" y="51721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35480" y="5583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17120" y="5958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41600" y="4419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2:19:04Z</dcterms:modified>
  <cp:revision>117</cp:revision>
  <dc:subject/>
  <dc:title>Tiona Advantista</dc:title>
</cp:coreProperties>
</file>