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B95-C5A2-40AE-B0B7-8F4D1627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5BA-32DC-4111-9B93-0384BE38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8F6-D17C-4AA2-A7DF-65157049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F2C-FF66-463D-A416-9FB3C41D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E459-7C83-4C36-99C8-48749635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3AA6-42B8-4F0A-B92E-82AFDC62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84FC-6986-4C50-9FEC-BE040564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4476-F7A2-448D-8175-22649BB9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6A95-2D27-4CE1-A98C-8DF5DCDA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AB97-2651-4AD1-989E-431CB94D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DAD6-D6BF-477E-B4C7-A2A5BFEA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CD5-2BE1-4B7C-BE68-22F164BF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73C0-EA29-4823-AD95-5CA0BA25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B983-AED3-4305-BCA5-CAAA520A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9DC5-375C-4309-B8E6-19CB9CDA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50EE-414C-464F-9813-0C516C2E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20C8-A944-4013-BD13-17A59C72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976-F592-499E-A1C0-98195C5A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AC6-6D3C-4073-8680-CEE16BCD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3DF-6B3E-4189-8D66-A977FBB9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6CD-6017-4FC6-BC80-54DCB512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895-B40B-42CA-81BA-359BCA6C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E35-BF57-4B4C-ACE2-573D1206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B4D-B73B-4F15-B0AF-E31D8B57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0D1F-0BE0-4E94-8A14-DC784D51E0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EA5A-15F6-435C-8D92-47A3F7AB5E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he Csehy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10 – OMEO SOLIK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0 – OMEO SOLIK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solika aho hirehet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re fa mitar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ny Fanahy hirehe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hirehitra aho mandra-mar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0 – OMEO SOLIK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rao, hirao ny ho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'ny Mpanjak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panjak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10 – OMEO SOLIK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talenta hahazo ol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re fa mitar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talenta hamonjy olo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onjeko mandra-mar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08:48:04Z</dcterms:modified>
  <cp:revision>78</cp:revision>
  <dc:subject/>
  <dc:title>Tiona Advantista</dc:title>
</cp:coreProperties>
</file>