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7EE0-AA70-4226-91AA-06A6B79D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2FB4-2A03-42DF-B553-8CBF7D56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5ADA-2BA7-4892-81B6-94E9A55E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000A-4E47-4C56-AE03-94AB0CDC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1381-7405-4D1B-B67A-60880392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8A7D-DF2F-417C-A407-9CBFA233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763E-1694-40DF-828C-09726FCC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AFA6-299B-4447-B16C-FE70C807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58ED-5D6B-4AED-9F2F-D5C1B578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921B-8ED0-4EF5-AF6B-0FDAC786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C0CD-A746-4704-8082-E2A3CB4B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D4A5-0EEE-436D-83F5-F882EED6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B165-FE01-489E-B768-F6E863C3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C9F2-7C0C-499B-9D75-4C558286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7C13-49C6-4D7D-93AB-EFA6247D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1C29-FC5B-41CF-A1A1-F358355B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1C90-729F-45AC-BEC0-70612267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A935-A1BA-48FE-AAC7-EAFD6528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5543-DA09-4F7F-9D5D-8A96CFFD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83FB-C657-4FBD-A161-D73BF181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D8E1-63F4-4466-82AC-466854C6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7F2A-A9F3-4B38-BB8D-93E68936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6D39-700C-47F1-86A1-BCDFFC25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2756-6C84-4D1D-A74E-34DADF89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5358-F4E8-48B5-8916-530702030B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E7CF-EB58-4CCD-A2D5-4E5CF0E21C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AHY MAS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ayd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73 – VALIO NY HATAK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73 – VALIO NY HATAK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alio ny hatakay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ahy Masina 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hery sady toki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fitahi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lona fan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la ahi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hazy, tsilov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ovinao '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7577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73 – VALIO NY HATAK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sy halem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tondra fietr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ahy ô, mid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ndra aim-baov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ngana ny r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ty mpanomp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onga irakao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ahy ! Avot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73 – VALIO NY HATAK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seo ny hevitray '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a Anao in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kely tsy mahomb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ionao '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ny fahot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anamelo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sehonao hi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minay ny antr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7:33:54Z</dcterms:modified>
  <cp:revision>39</cp:revision>
  <dc:subject/>
  <dc:title>Tiona Advantista</dc:title>
</cp:coreProperties>
</file>