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7A05-B254-4B6B-A707-30A3412E2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7193-67E6-42E3-86E5-027A3AB6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D639-3BD6-4373-8C51-0048FE143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FAFE-E140-4A07-91F3-9864CE3CC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DEDF-E563-4C6E-8CE3-6CFAF13F5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629C-65A3-485F-A9A3-2AC8BAD6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67D5-BCDD-45AF-98D0-445F2F21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F156-2109-4E65-823F-61FD9389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4701-70D0-4253-B00A-9FE9E161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9400-EB50-492B-A2F3-A19CEC2B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27D9-88EE-4C27-BD14-8D1830E3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07F5-0A92-4B69-9E61-F30BEB89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9605-1E1D-48E0-91B0-A7495FD5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B09B-A8A0-4F03-A99E-20F0E619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659B-4ED3-4369-AE26-F15F60F8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C68D-3728-4702-B50A-CCAE7650C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AB38-24C1-4FC6-9387-47E618066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B9E3-A4C6-4485-8A7B-72211715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6EA9-8C4B-41CC-BADD-C40A2AB9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7DC8-6D28-40E1-9A4B-242265CF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6985-7F5E-47C0-8251-2B8D240D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775F-DAB6-4554-A91B-6EF08F3E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3369-A86A-498E-9A83-269EA61F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6CC7-158E-41C7-999D-D4BB3B44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D6F5-A28A-499A-A255-31DF7A09DD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2642-900B-4CA6-914A-25A8231889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Sabat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anne Ratsir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Willson F. Sewin - Mamy J. Ratsi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24 – INDRO FA MISOK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24 – INDRO FA MISOKA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fa misok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masoandro taz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tona avia der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pamoron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kala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8628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24 – INDRO FA MISOKA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era, haja, sao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olot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ao, Jehovah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endrika asandrat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2" action="ppaction://hlinksldjump"/>
          </p:cNvPr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3" action="ppaction://hlinksldjump"/>
          </p:cNvPr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4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24 – INDRO FA MISOKA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ota maro izay nat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ô, mba avel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Diovy ka sas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onay re anja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2" action="ppaction://hlinksldjump"/>
          </p:cNvPr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3" action="ppaction://hlinksldjump"/>
          </p:cNvPr>
          <p:cNvSpPr/>
          <p:nvPr/>
        </p:nvSpPr>
        <p:spPr>
          <a:xfrm>
            <a:off x="88628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4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24 – INDRO FA MISOKA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adanana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ombay ny ol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pitony, hanav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ameno hatr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ain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8628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3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Ekeo ny vavak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ny saotra ent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voninah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ao mahar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24 – INDRO FA MISOKA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628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17:29:08Z</dcterms:modified>
  <cp:revision>44</cp:revision>
  <dc:subject/>
  <dc:title>Tiona Advantista</dc:title>
</cp:coreProperties>
</file>