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D68-0B67-4836-92BB-F4A1A4B1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782-0076-4106-95B4-C26ADB37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2C5-98D5-4A3B-B2FD-E0A11344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B40-8708-4238-A8F8-7467A0C0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9523-93F2-43F3-A7E0-A047B882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BB0D-F1BF-4688-847C-34DBC55D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8A3A-732B-477E-B17D-71407665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868-DA75-418E-AB9F-8FCD4BBA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41D8-C976-4B7C-AEDA-CFA3486C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F95D-FC34-497C-86FD-F1695486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4CB8-97BA-4B24-871C-AB3FF574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A87-C35B-4959-8CB6-659FACEB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69A3-F7CB-46A5-B090-2D87E88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2590-01FB-4277-BAAC-F30BF0FF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F5D5-2DA0-49C2-BAC5-892619B2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2137-6D25-4A45-9E15-677A5947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4BE8-5B56-43F7-ADD7-4B6B817A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444-8FF3-4246-A062-E0938C36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9C4-302F-4E48-86AE-1C8B6390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E59-9189-4999-AE8D-AB07A246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A83-B9A5-42DB-A174-8BBDE199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11E-6D91-4775-BEA6-C13EA07D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4F8-F6D6-4451-80EC-E33131A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EFB-3437-4ABE-ACAA-3876955C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A03-D896-4C07-B4F9-ACDB118A89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C234-D4DD-4F6F-912C-A179B66F52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ira Anglik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Bourgeo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12 – RY TOMPO ZANAHAR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2 – RY TOMPO ZANAHAR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Zanahar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i-tsaotra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novelo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ratra izao ani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2 – RY TOMPO ZANAHAR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izina efa las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zava no naposak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evony koa ny ot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zavao ny hevi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2 – RY TOMPO ZANAHAR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sanay at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rehonao ka mba tah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ao ho voninahi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isanay ny hant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12 – RY TOMPO ZANAHAR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nay Ia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nay Jeso Tomp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nay ny fanah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nay fa Mpamonj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44:43Z</dcterms:modified>
  <cp:revision>44</cp:revision>
  <dc:subject/>
  <dc:title>Tiona Advantista</dc:title>
</cp:coreProperties>
</file>