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446-6840-4EF5-8477-1DDDD56D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151-8F9C-4ED7-A136-0005BEC4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15A-C681-4F74-8DF6-00E0B0D5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54D-7653-4F2C-8C9E-AA005FAE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DFC8-81B4-40F8-B965-96C47B02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14A0-1401-433A-87B8-FC378867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77EF-74CD-49B5-9010-1E299569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DFF0-9EEB-4395-8383-00B8A590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B4DC-C9AA-4E66-9D3C-4FCDB441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7A76-62DE-48FC-8848-27952F0D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E86C-F3AB-419E-B614-F9CFA45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756-A080-4A3A-98BE-315E89E0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72E3-4CEF-47B1-886E-C443653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71D6-2642-4FDA-A971-8B1EE64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0CE-48EE-4721-8C11-8DC06E3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DE97-373F-4070-B254-599E7F93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73B0-E439-41B1-8C12-CD18B20A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190-4363-4BA1-9F17-23406FF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FC1-D648-489A-87B0-CD44E195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3F2-29BC-46DE-A13B-29C9A449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2F4-CBCC-4605-B119-19D333CF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DB9-62F4-4D10-B9A8-A0366C1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332-B597-4B88-9EBF-A42792C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29B-8A83-42AC-B927-70BEFE91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87A7-B53E-47F9-A052-48FCC07C1C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E6CF-C150-4094-9426-18593A4896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7 – Ô! INONA NO HOLAZ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7 – Ô! INONA NO HO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Inona e, no holaz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a anatrehanao ry Tsitoh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eto hifo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aho, dis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o no anten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vesatra ato am-poko ato Ny ota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fina e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o am-poko, 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7 – Ô! INONA NO HO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, Ray malal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 maba hodo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izaho intsony no velona f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o anati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zavatra hany ato an-tsaik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amonjena Izay nataonao tao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, ry Tompo, Manombok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o vaovao no omena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87 – Ô! INONA NO HO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aho, Ray Malal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inoako koa hatanj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vy velona anati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dinao,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dino koa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ren'ny fiangonanao anio ny ant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ro anie no hitsang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lo-ten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18:16Z</dcterms:modified>
  <cp:revision>67</cp:revision>
  <dc:subject/>
  <dc:title>Tiona Advantista</dc:title>
</cp:coreProperties>
</file>