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31C-722B-491E-BAD1-C88071A8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D6C-31DA-421A-9720-D34E0242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8B4-CA1E-44A4-80DE-15F6037F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3C2-561A-429E-8E4D-A30CF3FC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B7C9-ACFF-448D-B35C-97C030B4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DAAE-94DE-46A0-8539-8D5C9A2E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7C8D-5FB7-4231-924B-B5A81476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AEC6-D2EB-4F57-970D-558C5F50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27E4-C3C9-4DFB-95BC-899D2B0F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327A-138E-4910-BF5C-9400E3D7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4661-9143-48FB-B4BD-922A727E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794-A4B1-4A68-8EF2-47F28D8E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15A3-76E4-41ED-BBDB-7436C656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6DA4-1242-40C2-BC8F-38D53466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05D2-4208-4C4C-B535-86F5536F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82E2-E92B-416A-B022-DA06B2B2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F62A-5D07-47BF-9307-E5B34681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374-8147-4A11-942C-B1B3046F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19E-CA3D-4C0A-B2AE-8B74CA35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3C7-03D8-4E93-9B1A-61A0E033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7DD-EE4C-44BE-952B-F8163F78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DAB-4A83-48D3-8137-885C2F6D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119-DF90-4F85-8E25-056DE521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2F1-EF4A-45F2-A8B2-CF0BBA36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BED6-4A8D-4FAD-8426-A019604258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E7D1-51AF-4DA5-93D9-B765C25F4C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Sab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illiam B. Bradbury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22 – NY ANDRO MASIN’NY SAB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2 – NY ANDRO MASIN’NY SAB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 masin'ny Sab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voat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iako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fitahiana hita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sahatray ny asa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ela ny la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iomana hivav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maky te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2 – NY ANDRO MASIN’NY SAB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tiako koa ny mian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ekoly Saba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aino ny tantar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aza a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bata hariv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o ny asa s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angy sy mihir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ran'ny tanà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2 – NY ANDRO MASIN’NY SAB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raha milentik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aso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e ! Mivor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 hisaotra ila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tiako re ny Sab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itahian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tsarovak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itra ny and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17:24:08Z</dcterms:modified>
  <cp:revision>43</cp:revision>
  <dc:subject/>
  <dc:title>Tiona Advantista</dc:title>
</cp:coreProperties>
</file>