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64F-34EE-425E-B955-D8FF100D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5B4-F277-4ACD-9723-9312C4A1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36C-DEB0-4F7C-895C-467EF856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BF9-5352-46C3-A8FF-40489974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A362-5B7B-4C0B-81CE-CF419351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7921-520B-4300-9768-BAC859F3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2439-CCC1-42E9-8D1E-2A59F5D0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01CF-75E8-41FE-A71E-4156AFF0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4F9C-3248-409E-9782-02026E93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13AD-B2D5-4A32-85BC-6D57555C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FB7D-308C-4C19-ACBD-9BFE3649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005-5E33-4C50-BBE0-F113AEC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806F-649E-4E29-9B41-5D68E3A0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261A-7B20-4164-9E01-39679CC4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88B6-FA52-4B69-8E12-4CA5AE9C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F3B8-AAD1-44A8-AE1B-2966D8A0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9E6C-5D39-4E99-B4B6-D395B81B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A84-A70D-4CE4-97E2-CB01CAAC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DD5-F332-4D95-9F7E-F7708D93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32C-C127-408F-8CEB-846C5C21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D43-79FA-47B3-83E3-9DC1FC4F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18F-A42F-4505-A44A-8233E67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E1D-5579-4D5C-9A6B-7AB7B158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147-6043-4FB3-BC5B-C89ACA09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AC10-84E5-4E4A-9E51-3285D1EF5C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6B60-28EC-42AA-9823-247CF21581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86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IZA ILAY EDENA FAHIZA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Emi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6 - AIZA ILAY EDENA FAHIZA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iza ilay Edena fahiza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iriko fa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a mbola hiverin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lako sasatr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6 - AIZA ILAY EDENA FAHIZA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Ry Ray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a ho nofy ve (ho nof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iala sasatra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, Ry Ray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a ho nofy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Jerosalema vaov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iza ilay Edena fahiza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a hiverina indra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6 - AIZA ILAY EDENA FAHIZA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to tsy hisy fitsah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dy isan'andr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ba misy hasamb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iza Ilay Edena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6 - AIZA ILAY EDENA FAHIZA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fy loatra Ray ny ady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o, fanahy mila ho 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ba mitalah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Ny lalako haza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 ! Mba tena sambatr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manao n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handray anjara lova s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y Edena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6 - AIZA ILAY EDENA FAHIZAY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4:12:16Z</dcterms:modified>
  <cp:revision>116</cp:revision>
  <dc:subject/>
  <dc:title>Tiona Advantista</dc:title>
</cp:coreProperties>
</file>