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C78-D730-4C4B-9F4C-77BB09AA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CF4-5E87-4664-82CA-6BD75F17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22D-B70B-4003-8968-849C1B14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BA0-FE79-4579-ADE5-251F2879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4705-0171-4157-A9B5-8D1E037A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A793-C234-44CE-A62D-3B885938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56A1-E898-44B3-B361-62F8F87F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1CF8-33A1-43B0-BB33-F32BA09D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809F-EF84-4DF5-854A-CA24E015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7B4B-2E15-4FF8-8B13-B5F4DE77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E8ED-FC04-4882-A2E8-1EA8B3B2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E47-BE14-439A-BC6E-AF63611E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173D-DF8A-48EE-88B4-2711CB83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291D-A188-4181-9F4A-1CB10B0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CB4D-2517-4FC2-A422-06AB1BA3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5E82-F4B0-491B-9A44-65EA185B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8D2B-AD96-444B-B9CC-7DA9549C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67C-55E9-40BB-9CB0-9A072628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DBF-764C-44BC-86AF-789C2CA1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348-1561-4DC3-813B-0608B50B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1A2-6F90-4D32-9F33-65E130E4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3B7-DC30-4B17-A781-76BE8E07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47C-0539-4E61-8BB5-2FD89BC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31B-6E12-44AA-BF0A-FE6F20E6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640A-F35F-4CDB-8020-DE86BEAE46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937D-A37C-45F8-ABE9-0F8A2FDC03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tephen R. Adams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7 – IZAY MISY NY FANAHIN’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7 – IZAY MISY NY FANAHIN’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sy ny Fanahin'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isy hery sy fiad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dia manjombona aza re izany f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kivy, manana ‘lay Fan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ahery 'za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46:15Z</dcterms:modified>
  <cp:revision>41</cp:revision>
  <dc:subject/>
  <dc:title>Tiona Advantista</dc:title>
</cp:coreProperties>
</file>