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3BC-12C7-497F-8970-7F4F3121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F83-66BA-4684-8B10-9FE315C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13A-9396-4276-BB6A-8995D27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4F8-1F30-421A-B0EF-323D03AB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5809-E52F-4CD9-BD7C-46CC6132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FAAF-8458-4407-8D44-97960A46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9B82-8C83-4E35-9549-C7F5AEB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72E-906A-425D-B14B-7BA6BB73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97BD-EFFE-49C5-A300-A19D81A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8C81-0EF5-4AB9-B7A9-AAAC8633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EB3A-87FA-4B13-A489-5BE1C51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774-DF05-4527-91B8-00CB564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F85D-64C6-4E6D-A1AF-F120E688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056-7080-48A6-AD54-8338E60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5FA5-D592-45F0-952F-F31E033C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3D4-6F7F-4CFB-A3B7-1EB76FC3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36F-7AEC-4210-9B5B-F201DCF1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3C5-EE95-4461-B216-79B8C220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326-3863-4C67-BE69-4642D5A7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6B8-8EC8-4C17-9CBC-65848CF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565-E586-43AA-9137-A2F5DDE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A80-91D3-42B2-BB73-DC891977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096-FB24-4E97-BDC0-52FEF61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DCE-B410-4AD3-B7C1-A1436FF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42F5-DF24-4834-996B-95F0D2070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7CD3-E2ED-499A-8BEB-7DEE0862C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na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D. Ac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1 – VOHAY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5720" y="55897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44680" y="5970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25600" y="63514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1 – VOHA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y ny fo 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y ka mba hampandroso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lavi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lav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raisi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sy rais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lasa Izy ka ho n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Jeso, raiso Iz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veronao ny fijal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44680" y="5970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625600" y="63514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1 – VOHA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y ny f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y ka mba hampandroso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y ny f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y Jeso ka mba hampandros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Vohay Jeso ka mba hanampy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ry izao hanamp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hazo ny fiainam-b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5720" y="55897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25600" y="63514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1 – VOHAY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ingàna re milazà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dira ry Mpamonjy t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mandrosoa ka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nay mba ho lap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zahay Jeso handra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5720" y="55897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44680" y="5970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6T13:29:03Z</dcterms:modified>
  <cp:revision>38</cp:revision>
  <dc:subject/>
  <dc:title>Tiona Advantista</dc:title>
</cp:coreProperties>
</file>