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F90C-C6F6-4603-9ABD-C3694287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9DB-F927-4E9F-A436-47F22C0A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ED0E-CF26-4ECA-959C-7B3F4471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F2BE-C668-4A9A-AF2B-301E03E1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6C0F-A077-47A7-8E97-05D803B8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C626-55CA-450D-81A3-AC9A0367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B91D-E215-4FB4-88AE-52F1DF58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CCEA-33F3-4472-A7E8-733A333E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22E9-BE85-4CBB-B965-CFF7B1F6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3F91-6344-4554-984D-6675C28C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900B-479D-48F3-91EB-51DD651B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AFDF-F1D6-4A3B-9AAF-F45A344C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CE47-F469-4D4E-9441-14DD2550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C0C1-BD67-49E0-9674-223C88BC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9045-F7CE-4FB1-BCFE-BBD40E21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E7E9-35FF-4AB2-83CA-E1B9B977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7459-FB90-4790-B593-C3C4FB5A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8532-0E0C-4034-9EC7-7E204187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3EEC-9D51-46D0-9553-05F73BCB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EA02-1057-4D98-9517-6739DB1D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CC65-7C85-4F33-B187-721F829F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971-F9A9-45AD-B72C-D420E6A2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AF5-CBB1-457D-8E6C-22EFA418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A75C-EFC8-4F5E-81AB-4168383C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289C-04C1-48B0-AD00-D9B195F7E8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083B-9985-4BB7-BE32-D6B31C6DC3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dy sy Fandres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zakari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Ruth Harms Calkin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3366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83 – TSY FANTATRO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3 – TSY FANTATRO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fantatro, Tompo, nahoana no t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itondrako fahoriana toy iz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hoana, Tompo ô, 'ty fatiant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re tombony no nangatahik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6284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3 – TSY FANTATRO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mino aho fa tsy hafi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ny lalanao dia azo anto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y, mino aho ary matok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isava ny haizina ka hohaiko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3 – TSY FANTATRO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fantaro, Tompo, nahoana no t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makiako ity lala-maizina 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hoana Tompo ô, no dia sitr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moizako ny nofinonfy tiak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62840" y="60134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4:04:23Z</dcterms:modified>
  <cp:revision>73</cp:revision>
  <dc:subject/>
  <dc:title>Tiona Advantista</dc:title>
</cp:coreProperties>
</file>