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BB4A-4049-4E4C-BD3E-5C493A92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2644-36E4-44D7-846D-948006AA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5258-F5B3-4FBA-AF3F-2FBC0E17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6C00-3B4A-4AD4-B037-3170C585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B3D7-58AD-4E8E-A488-914CA80B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48F7-3ED2-47A4-833B-CC2A658B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5F6F-C6F2-4B14-AEA0-F8FBA1FF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50AA-7309-4AC2-B010-A7285E2C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B4D9-8387-47F3-A953-1A239B71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B35D-C853-4B4A-BBAE-DEDE2DDB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F399-AD78-443B-B293-8BB9658F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ACAF-00C0-4C0A-BC2B-3AA3FA51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E513-03A6-4AD4-9B43-A1C4F823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80D6-4C1C-474C-AE47-E04B6257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2F8E-5409-4D9A-BD30-A6A3417C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1EDF-81A0-41DC-8D6C-0EAA8E22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9DF8-305C-49C8-8520-08A3862C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B3D1-F5AF-44CB-80B4-F3FD467C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6799-A582-4CE5-B6A1-766C47B1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C7F8-193E-4196-A863-489736CC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2AAC-8ABA-4618-B70D-F8B33D4F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A1C3-0A34-488D-9B60-191D4053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7548-F898-455A-94F0-A9331083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FBFC-550E-4254-A0F5-F1F26FFF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E27F-9FA4-4F33-8C30-A2BBFE9514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E2E1-ABB5-4983-95CE-C4D445D3FF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Ravelo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Ravelo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53 – MBA RAHOV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53 – MBA RAHOV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ba rahoviana foana mo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ahazo fifahar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Ny fahoriana 'zay man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Ka hisy fitsaharana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aso andrandr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Tsy ho ela iza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o avy an-drahon-dani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Jesosy tia ô ! Mba av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amonjy hanavot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53 – MBA RAHOV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Izao fiainantsika iza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Ny ranomaso tsy manda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Ka fisentoana lava iz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y velona ô, izao atao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'Ndeha mba fidio Kristy an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ampionona izany f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o avy ind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aka, hand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isava ny manj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53 – MBA RAHOV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Ô ! Ry sakaiza, ory ve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andeha hatony Jeso t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Ka aza misalasala 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Fa Izy miantso hoe : Avia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Famonj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Tsy teren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atolotra fa mandroso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Ka matokia An'i Kris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o avy hitondra so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4T07:47:50Z</dcterms:modified>
  <cp:revision>78</cp:revision>
  <dc:subject/>
  <dc:title>Tiona Advantista</dc:title>
</cp:coreProperties>
</file>