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17E-D800-44C2-8DA3-D93C2454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B86-A8DB-4F9C-A97F-80F423D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B82-1F3A-45C4-B0D8-DE71F463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E11-BB2A-4E96-B1B9-9AB6883F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2F14-E360-43D4-B7CB-BE9AD0CF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7AF8-CF6D-4145-8245-C1BC1DB6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CCBF-7565-4C90-ABA0-2C47DDD9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57E8-DA6F-42F7-B55D-93E01FC8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A3F-B1F5-493B-B149-F7F2FB26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5524-75B3-4DB3-8CB7-555C8329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60E2-0D0F-427D-8495-E0119E9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184-4EAC-4BA8-A1CA-FEDE8D0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D30F-43DA-4FA6-9045-6CAA857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B4B1-D39A-43C3-970E-F1FC041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25D5-4C54-4BBF-8A10-D0B2E286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4559-0E98-4167-8B7D-A0FBB3E9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96F0-BD65-4D7B-88B9-2F88822D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E18-5306-4D3C-8457-124F99D0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EB6-2F76-4E7E-85B0-B79BE77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7BB-2784-4D42-91A5-22111150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322-8C72-43B3-B188-2F5D8BEE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B56-898B-4615-9466-387CBC0B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1E3-5CC9-470B-82D4-E79BC8B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680-AE0F-40B4-A2C2-77A48EF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C1F2-EEAA-4394-A3B3-5F61BB1550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C27-4E7D-4B28-98B8-606CA31A99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a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F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9 – ‘NDEHA HI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9 – ‘NDEHA HI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hilazako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namako mila 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hilazako ilay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'zay lal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9 – ‘NDEHA HI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maty mba h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iza na iza eto an-t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y indro nom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dio ny ota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ny koa tiany o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namono Azy t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indrisy ho be ny v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nandatsa 'la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9 – ‘NDEHA HILA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hilazako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ireo efa nand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diso làlana izy 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betsaka ireo sand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6086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04:31Z</dcterms:modified>
  <cp:revision>62</cp:revision>
  <dc:subject/>
  <dc:title>Tiona Advantista</dc:title>
</cp:coreProperties>
</file>