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EF2-397A-444A-BF9F-2737589E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E09-2E23-4C9D-9D43-69C10CE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1E0-BBFC-4797-84F0-B75C825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F55-41D7-466F-AA23-8039FE57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5B0E-8F3D-48D3-BE08-536D06A2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724-BB20-4BBE-9AD9-8A81290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A65-3778-49DD-8631-2936FD5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FBE8-7953-4614-9BEE-45DAFD5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8707-BA0F-44F2-A4CF-D2E6091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59AA-6BAF-42A6-8C71-1514CAE5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C39-C756-4457-8D27-B078557B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894-38D6-452E-8543-55C87CF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9818-9E36-4BDB-891B-9FD48A4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D41-44A3-4173-82C7-A1DC597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2AD-A0ED-45E9-8706-A41178F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2FA8-ECE6-4758-84F7-2DA9A0B4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AC5-892C-4E7A-8A24-7C42BB02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A94-1165-4231-87C0-420355D1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F7E-FC4C-4B1A-BB20-2083FAC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686-43F4-4FA6-86FA-0A59886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724-28CD-4878-9CFF-E1F58D3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A45-8EE0-4E12-8731-180586C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4C9-BDAC-40C6-82EA-CDD86A8F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034-5B69-4A48-AF6D-63146C6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8724-A6B2-42FD-8CFE-D350EDFEAF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752-9D99-40BF-9232-E0B9A843C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. Grunholn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9 – HANANDRA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1524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9 – HANANDRAT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Hanandratra Ana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ndratra Ana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'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hoby ny anaranao, Hihira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zavabo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Eo amin'ny fitoera-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) Eo amin'ny fitoera-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Eo amin'ny fitoeranao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) Toeranao masina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15240" y="6329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68932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9 – HANANDRATRA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'ny fitoeranao m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3) Eo amin'ny Tempolin'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mpolin'i Jehovah. (in-3)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 fitsaharany 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ny andro notinendr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ndratra Anao 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ndratra Ana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ndratra Ana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'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14880" y="5948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689320" y="551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2:24:58Z</dcterms:modified>
  <cp:revision>35</cp:revision>
  <dc:subject/>
  <dc:title>Tiona Advantista</dc:title>
</cp:coreProperties>
</file>