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271-4DD8-456F-A5BC-0E7C5486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F65-7DFA-4AF8-892A-FCFCC1B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C9C-CC4C-4991-BB8A-83165998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783-575A-480F-B156-01BF8657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C94F-0854-4F38-B072-7DD73E86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E75B-E88C-4011-A713-C1DF91A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0F3-B274-4B6E-ADEB-D1D0913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E18-9CF4-47D2-A2F4-0AF09E0E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A4E-B9ED-46CD-973B-4829A01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121-BFC5-4757-813F-698C5B89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A9A-28CD-450C-946D-4B2C845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4F4-53DA-4A61-B9E9-ED5EA30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280-DC9B-4EE4-A6E1-A612618B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E267-1A37-4395-9444-D425C0A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4962-9710-482D-8ED4-3CD6986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0D3-7389-4CBC-88CE-C3E9A53F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09CC-DAC0-4EA3-A7DC-0558F1DD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A36-6C6F-4825-8E58-8248E84C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1CA-EEB3-48FD-9BAF-17597E7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2F0-7E7F-4DCE-9CAC-EDE8C32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EF5-B203-4C74-95A2-AACDE37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860-4420-4DCA-9905-C2DA7388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793-CD76-403B-9787-DD7461F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05E-86EA-4825-ABCA-21DF9C3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7BDA-5E53-4530-817C-F0E2C818C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DE8-2393-4CE3-9E69-C30E157AA7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ntsiz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ntsizaf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6 – HALELOIA, MID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6 – HALELOIA, MID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,: Haleloia (in-4) Miderà An'Andriamanitra 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 (Miderà an'Andriamanit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Eo amin'ny fitoerany Masina 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derà Az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,: Azy (in-4) Eo amin'ny habakabaky ny heriny 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iderà Az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,: Ary aoka 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y rehetra (in-3) Manam-pofon'a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amy hidera an'i Jehovah Halelo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833680" y="5962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6:24:44Z</dcterms:modified>
  <cp:revision>77</cp:revision>
  <dc:subject/>
  <dc:title>Tiona Advantista</dc:title>
</cp:coreProperties>
</file>