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CF5-AD97-443A-8EAD-F54D2F84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BB6-EF09-44F0-AB2E-1089E20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9CE-BE11-4563-A089-E02C8323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E6F-0FBE-40E6-86D4-14CC5C4B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E44B-1176-4D5D-B023-9BE2175C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4AE6-6C60-4DC9-95DB-1AAADA6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A8A8-218B-42A2-A398-4C31C4DA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9701-AC02-409C-92DC-8561C54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198-3DDD-41F3-916D-72E66F57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087-9ACA-4594-8351-53D867D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FCE-A9CA-440B-BF9F-EB15C47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CA8-5459-4EFD-AC37-065F5D40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DD6D-0319-47BB-8D00-C76580B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324-0841-4A99-B63B-3EE857B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A3F7-02FA-46F8-8A0F-667711B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CE7-6828-4FFF-B77B-933EC447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3F3-8D81-440C-9EF9-97F4A6F6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B36-F86C-4EA2-8382-2C968C5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304-1A83-441C-BDAF-B17293E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14D-7390-4D2D-B714-ABF50EF5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6A8-2C36-4AA2-8E35-AE202EB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B7A-2C15-477B-83E2-14EB060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A2E-C9A2-4BEF-89A1-53CBC72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732-F158-46A1-B829-A05EA7B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C87-95CF-4407-95DE-E85D87D340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5D17-FA66-45E4-9E25-9D72E849A3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unt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8 – MISY RE TA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re tany soa ary an-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no aofFa tsy toy ny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rehan'ny Ray, tena mam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irin'ny fo lavorar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andry ahy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nam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koa lapasoa tena kanto 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lamena avokoa tsy hiof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tosoa marobe mitomara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vahana re  an'ireo todi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koa ony soa mikoriana,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ritra tokoa rahampitso sy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on'aina, odre ! Milonjehitra 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anie sady fy, eo an-daniny r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koa hira soa horedoni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feon-dranobe tsy hitsahatra 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na ny Ray, ary Jesos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vonjy tety d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a hiantsa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8 – MISY RE TAN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y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o ô, tadidi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, ka ek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hangina 'lay f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27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6-07-23T16:11:13Z</dcterms:modified>
  <cp:revision>39</cp:revision>
  <dc:subject/>
  <dc:title>Tiona Advantista</dc:title>
</cp:coreProperties>
</file>