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210D-76C8-48F8-9F35-CCED816E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2970-3710-47D7-A30A-A2D73106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B4E-4C70-4666-B61F-68A39F92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4421-E5D9-48F6-BC71-149550FA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877C-AA53-4ADD-B86F-D5EDFC11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3F6D-8659-47E9-9B52-E1D76624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9A5C-7F13-446F-88B4-66448452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E133-3141-4844-B0C5-FB145782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D9FB-5D02-4D93-8788-B737EF61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E22C-D827-4888-B228-EFA7F089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55EC-5E0B-4D8E-A7EA-DBED3918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33E7-84D7-4D97-A46F-2A70C471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F363-C134-4ED4-B358-C9747B7E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D3C2-F98F-4F6E-8CA1-CEEBE5C6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F907-7854-43E5-8F73-2F24FA5C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FB00-D611-471F-8290-5657D228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7350-877C-4F81-BA27-D4C289E0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C9ED-53D1-4711-946C-6B638538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F599-AB75-4AD2-886B-9969A49A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F83D-22FE-4724-972C-C84522B3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3882-BE10-450F-8E9B-3F5FF205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41A4-F3D2-48F7-9416-CF319EFB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CC1-862A-430E-9E5A-1B94856C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14E8-F321-4C32-A21C-140412F6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696C-EDA2-4699-AB78-DF56413A36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4C61-4B44-4010-8A4A-496EE79094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pamor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I. D. Sanke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HL43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016 – ENDREY AMBONY LO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16 – ENDREY AMBONY LO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drey ambony lo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tratry ny s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avo tafaho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nao ,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anitra sy t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asan-tan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ry lavitra 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ninahi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16 – ENDREY AMBONY LO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takatra mihint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vitanao ry R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dia tsy nitsis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monjena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ndro ilay hav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fy haizim-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ry fisol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famelana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016 – ENDREY AMBONY LO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m-pamonj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menatra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ratsy nefa ek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zanaky n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tray tonto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adiav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nay, ry Mpisol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ria navot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8-25T08:11:45Z</dcterms:modified>
  <cp:revision>30</cp:revision>
  <dc:subject/>
  <dc:title>Tiona Advantista</dc:title>
</cp:coreProperties>
</file>