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CB9-8EA9-495F-9AB1-7257C8D9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FAC-072B-4189-8BB2-F6162C93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2D1-FB17-4EF7-81AE-A218D957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DA3-5963-4F4C-BEAB-E5115334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315-FA23-4AD8-8690-B9BB38B7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B63-C999-447A-BE28-55F35AFC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760F-A4C4-4E69-AC51-858DF8D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7114-88C7-437B-9C35-C6282CD0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018A-F05E-4B77-BE82-BA49A89A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677-4351-40EA-848D-480A2FAD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F35-F1C6-4481-9E7E-EE0105FE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9F0-3195-4DCA-B25D-C7308C9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F7C5-5637-4A4C-B61D-22B1D1F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82D0-D0E8-4245-84F9-723FE3E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BD3-1796-4B1B-89C4-2453D53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CF5-1DB4-427B-B7B8-077B6CFC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9B0-43E7-4DD6-A9A2-D9F4FAEB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2F9-021A-4C29-A9E1-E1515A97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C47-5B69-4F4E-8EAD-348F3A3B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74D-53E8-403A-8C93-FB524FC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1A9-801B-4455-BC3F-C02E1B00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0A6-0B1C-4DA2-80A5-5EDDD9E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ED0-C7DB-47A3-B7B9-F6575FB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0CD-36AF-4A35-8803-50405EC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C24-3050-4AC5-88EC-4A8E73101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6DD-76DC-4C41-B1BE-77E8741D2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6 – RAIS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6 – RAIS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ka mba sas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tsy mendrik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ovy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avela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6 – RAIS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ka mba anj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, Tomp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ka sas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avela ho l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6 – RAIS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 tsy mend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o tsy mba ma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tolotr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azoko o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ome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Ovay mba ho 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6 – RAISO TOMP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mba ir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araka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aza m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lany n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antano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43:17Z</dcterms:modified>
  <cp:revision>90</cp:revision>
  <dc:subject/>
  <dc:title>Tiona Advantista</dc:title>
</cp:coreProperties>
</file>