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EE6-69C3-46B7-B13A-7DE1DD9C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34B-D129-4710-AA31-829BE6B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7B4-3222-4720-9D88-07AFFA0C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BB2-B80E-4B4F-9128-16D31A13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686-D5C6-4F70-B6A2-B7FD26D0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367A-EF11-4B01-B6D5-FF56E839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2B26-ED5C-4A09-99C2-AC4B7BF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E80A-3823-416D-8025-DF19DFC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A1B2-268A-46C1-AD9A-592D03F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B416-F354-4378-819F-E9D6567C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29C-604E-481A-94D8-07C3614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A1D-85E4-4BB3-861C-B82DB66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DEF7-3D35-41E0-B827-D1961E8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773C-3FCD-4142-9E67-6CD02EC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B66-F92A-4B8C-AB32-96715408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E84-4F24-4104-A3AC-56252C3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E6C-F140-49E5-BEF4-4D54EF9D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DB4-74FC-474D-AB30-A564828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C30-0AB3-4739-9B30-A496E058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F84-D24A-4F16-8A54-F5A59848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E6E-6079-419E-860E-5D2F160E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170-F76D-448E-9715-B59A4C6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BAB-4BF3-484F-A9BF-E57D6C2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4CA-C246-4CB2-B411-39F378BD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78DA-27C9-45D5-8D65-1DFE6D5DB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658-C5BF-467A-899D-2EE3FBCC47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oop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3 – AO AM-PONAY ‘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3 – AO AM-PONAY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nay 'zao ny fanant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indray ny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vy Iz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anay 'reo teny fika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aony teto fahiz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to fahiz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3 – AO AM-PONAY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intso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h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alelo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ny Mpanjaka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ny fonay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m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'ny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3 – AO AM-PONAY ‘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nao 'zahay, Jesos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àna mba handra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ba handray 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nay miantso hoe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« Avia, Ry Tompo sy Mpanjakanay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14:20Z</dcterms:modified>
  <cp:revision>74</cp:revision>
  <dc:subject/>
  <dc:title>Tiona Advantista</dc:title>
</cp:coreProperties>
</file>