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A6C-E382-4D72-848E-A4C678A1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813-CD91-4CF6-A22D-52073422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F0C-691F-4159-B4F2-6BF9ABB6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785-D646-4524-8676-A1BDF868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4DB2-585D-484A-B365-E3D3CBCF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7259-B743-4BAF-BB56-8ED6D8BC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30C0-B4F0-4B33-A71D-F2106389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8683-2A54-4F98-8CB7-8C2EAF36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0CD1-A8F6-4E0F-B0D9-4BB38F81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5123-3380-4DF9-BB61-43D2569E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0B90-2696-453E-A8F3-AEA0AA6D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017-2239-47C5-9D40-66BD3A00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0A11-FA91-46B9-AA40-BDCFF0D9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E59D-D564-4585-BF32-95054008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985F-65B9-4C11-BF01-8F803805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A264-8F16-4C54-8322-80D44AFA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B5FE-3DBF-4A01-9393-5AB94B05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A38-0B22-4434-8B23-0060CC48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8E0-3254-4F7C-9C46-CB8CD57F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243-322B-4D53-A741-A75E64EF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812-C8EC-45D5-9E82-4FFAF535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327-D8E6-4D3D-BFBE-A53619EB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57A-0E1A-4B62-AF22-BC770075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7FC-9A0E-442B-BB86-38357E90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C8D4-1603-47DC-BCC3-64C69273E8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D11F-BD05-422D-B88D-CBBE7C69ED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e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Mal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48, DLG36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13 – HE TSARA ! NY MPIRAHAL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3 - HE TSARA ! NY MPIRAHAL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Tsara ny mpirahal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ay fitia mivory 'z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azavainao, ry F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tanin'ilay af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avaka sy hira ata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tena fofo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avaka sy hira ata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fakatra ao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3 - HE TSARA ! NY MPIRAHAL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noloanao, ry Mpam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raisan'olo-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no mihoby ny voav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afidy sy voafant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izy no mifalif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'ny fo finari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izy no mifalif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hoby ny Mpanav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3 - HE TSARA ! NY MPIRAHAL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'aiza n'aiza ivo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misy hoby av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jaka ao ny f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tena henika 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mindrampo t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angonanao maha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ery tena mana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13 - HE TSARA ! NY MPIRAHAL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Rainay tsara arots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ondra fiada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soavan'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'Lay Mpanalal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ba ho fiti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santatr'ilay tany 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 , ho fiti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hampiray ny ol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47:30Z</dcterms:modified>
  <cp:revision>42</cp:revision>
  <dc:subject/>
  <dc:title>Tiona Advantista</dc:title>
</cp:coreProperties>
</file>