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C71-3B23-49FB-B198-2E3D2E8A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88B-69D7-42E5-B50E-95EFE8B7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91F-A5A2-4195-A407-994EBA7B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C17-EF9E-4C43-861D-4C43F773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F961-1D91-4D3F-8F76-7EFE4A8F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318F-22E5-4128-97EA-3E242F4D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FB7E-94A5-4EB9-82BD-B006A21C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BEA7-ACD7-4E49-9F90-CAAB8A28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A75D-9397-48C9-8025-5125F84E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4F2F-643A-4889-8EE2-5B2E0DFE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86EA-847B-4074-9C4D-CBFAFD9E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54F-522B-48E6-BD92-62738EAA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990B-9D55-40B8-B567-7729F130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B518-3AEE-4EA9-BC11-8742249E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D40C-1C8F-450C-BC44-01336C14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C47D-CC1E-4DA8-9200-FF9D2909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C0E8-F65C-4EE0-AFBE-3A8AA6B4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955-BE79-43FC-B931-0290C230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C4A-1C3C-4DA8-8C96-AD1C7E1F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D16-3C74-4933-BB5E-C64EDB2F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04A-1B75-4C76-AD7A-5528F689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586-6B36-4B1A-9138-7D4D15BB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13C-D2DB-4FF5-AC10-1603E571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1FF-3266-44EE-88D9-8F40F08D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9B00-6699-4F64-8AF4-62DAAB9464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D8C9-A1E7-48B4-8CCF-3F79BC015F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osorana mpitandr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B. Bridgers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65 – MISY FEO MI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14960" y="458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0000" y="4962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14960" y="5343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05960" y="572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20000" y="6107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5 – MISY FEO MI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feo mirindra at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 mamin'i Jeso '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okia aza mivadi-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no momb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20000" y="4962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14960" y="5343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05960" y="572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2900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20000" y="6107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5 – MISY FEO MI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Jeso be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Mamik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Avia hiara-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Tantano aho hahatrat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14960" y="458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14960" y="5343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05960" y="572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82900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8820000" y="6107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5 – MISY FEO MI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'zany miarak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ly sy mihira 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siky amiko ny endri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ravo ery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14960" y="458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20000" y="4962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05960" y="572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82900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5" action="ppaction://hlinksldjump"/>
          </p:cNvPr>
          <p:cNvSpPr/>
          <p:nvPr/>
        </p:nvSpPr>
        <p:spPr>
          <a:xfrm>
            <a:off x="8820000" y="6107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5 – MISY FEO MI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tsy ho el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sena ahy val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iditra ao an-tran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haona ny mpiar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14960" y="458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20000" y="4962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14960" y="5343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882900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8820000" y="6107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5 – MISY FEO MIRIN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be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k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ela, av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y ny mpiarak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14960" y="458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20000" y="4962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14960" y="5343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05960" y="572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2900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7:10:37Z</dcterms:modified>
  <cp:revision>80</cp:revision>
  <dc:subject/>
  <dc:title>Tiona Advantista</dc:title>
</cp:coreProperties>
</file>