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2C0-78D1-4C80-92BA-9C4682A8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20A-52B7-477B-8C64-5B23BCFE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CAC-C62A-4EA9-8092-2845CC8D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423-E626-4FA2-A999-F8ED38D9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C75-4D3B-4C7D-BA3C-57D14BDA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6D0-A21C-4958-8284-DABF43C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04A-5BE1-4B64-9ECE-0CE20E8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C21-7824-49AA-8A91-EC227B87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33D-03CF-46BA-BD84-10869A6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4B7-2C77-4E92-968F-C8F6253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A64-DF70-44D7-B5A3-BDDC967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0E9-B47B-4D00-9518-04228CD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A39D-A391-42B5-9871-7A660523F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ariva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S. Sewel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. B. Lyte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FFPM473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541 – MOMBA AN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Text Box 7">
            <a:hlinkClick r:id="rId2" action="ppaction://hlinksldjump"/>
          </p:cNvPr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Text Box 8">
            <a:hlinkClick r:id="rId3" action="ppaction://hlinksldjump"/>
          </p:cNvPr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Text Box 9">
            <a:hlinkClick r:id="rId4" action="ppaction://hlinksldjump"/>
          </p:cNvPr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Text Box 10">
            <a:hlinkClick r:id="rId5" action="ppaction://hlinksldjump"/>
          </p:cNvPr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Text Box 11">
            <a:hlinkClick r:id="rId6" action="ppaction://hlinksldjump"/>
          </p:cNvPr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17">
            <a:hlinkClick r:id="rId7" action="ppaction://hlinksldjump"/>
          </p:cNvPr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Text Box 20">
            <a:hlinkClick r:id="rId8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mbà anay ry Jeso Tompo ô !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izina ny alina aty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vonjy raha tsy aminao 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onjy tia ô ! Mombà ana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Text Box 40">
            <a:hlinkClick r:id="rId2" action="ppaction://hlinksldjump"/>
          </p:cNvPr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Text Box 41">
            <a:hlinkClick r:id="rId3" action="ppaction://hlinksldjump"/>
          </p:cNvPr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Text Box 42">
            <a:hlinkClick r:id="rId4" action="ppaction://hlinksldjump"/>
          </p:cNvPr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Text Box 43">
            <a:hlinkClick r:id="rId5" action="ppaction://hlinksldjump"/>
          </p:cNvPr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Text Box 44">
            <a:hlinkClick r:id="rId6" action="ppaction://hlinksldjump"/>
          </p:cNvPr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Text Box 45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Text Box 46">
            <a:hlinkClick r:id="rId7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alo koa ny andronay ety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ihalo ny fifalianay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ovaova izao rehetra izao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sy miova ô ! Mombà ana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Text Box 31">
            <a:hlinkClick r:id="rId2" action="ppaction://hlinksldjump"/>
          </p:cNvPr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Text Box 33">
            <a:hlinkClick r:id="rId3" action="ppaction://hlinksldjump"/>
          </p:cNvPr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Text Box 34">
            <a:hlinkClick r:id="rId4" action="ppaction://hlinksldjump"/>
          </p:cNvPr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Text Box 35">
            <a:hlinkClick r:id="rId5" action="ppaction://hlinksldjump"/>
          </p:cNvPr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Text Box 36">
            <a:hlinkClick r:id="rId6" action="ppaction://hlinksldjump"/>
          </p:cNvPr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Text Box 37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Text Box 38">
            <a:hlinkClick r:id="rId7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ba mivahiny aminay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ihevitra ny helokay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ka ho be ny famindrànao fo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 Tompo ô ! Mombà ana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Text Box 19">
            <a:hlinkClick r:id="rId2" action="ppaction://hlinksldjump"/>
          </p:cNvPr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Text Box 20">
            <a:hlinkClick r:id="rId3" action="ppaction://hlinksldjump"/>
          </p:cNvPr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Text Box 22">
            <a:hlinkClick r:id="rId4" action="ppaction://hlinksldjump"/>
          </p:cNvPr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Text Box 23">
            <a:hlinkClick r:id="rId5" action="ppaction://hlinksldjump"/>
          </p:cNvPr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Text Box 24">
            <a:hlinkClick r:id="rId6" action="ppaction://hlinksldjump"/>
          </p:cNvPr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Text Box 25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Text Box 26">
            <a:hlinkClick r:id="rId7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haleo tena izahay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ora resy, mora kivy koa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 Tompo ! Aoka honenana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ty an-dasin'ny mpanomponao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Text Box 26">
            <a:hlinkClick r:id="rId2" action="ppaction://hlinksldjump"/>
          </p:cNvPr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Text Box 27">
            <a:hlinkClick r:id="rId3" action="ppaction://hlinksldjump"/>
          </p:cNvPr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Text Box 28">
            <a:hlinkClick r:id="rId4" action="ppaction://hlinksldjump"/>
          </p:cNvPr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Text Box 30">
            <a:hlinkClick r:id="rId5" action="ppaction://hlinksldjump"/>
          </p:cNvPr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Text Box 31">
            <a:hlinkClick r:id="rId6" action="ppaction://hlinksldjump"/>
          </p:cNvPr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Text Box 32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Text Box 33">
            <a:hlinkClick r:id="rId7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eninao no fifalianay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asonao mitari-dàlana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ny herinao no tanjakay 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kaiza tsara  ô ! Mombà ana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Text Box 24">
            <a:hlinkClick r:id="rId2" action="ppaction://hlinksldjump"/>
          </p:cNvPr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Text Box 25">
            <a:hlinkClick r:id="rId3" action="ppaction://hlinksldjump"/>
          </p:cNvPr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Text Box 26">
            <a:hlinkClick r:id="rId4" action="ppaction://hlinksldjump"/>
          </p:cNvPr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Text Box 27">
            <a:hlinkClick r:id="rId5" action="ppaction://hlinksldjump"/>
          </p:cNvPr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Text Box 28">
            <a:hlinkClick r:id="rId6" action="ppaction://hlinksldjump"/>
          </p:cNvPr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Text Box 30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Text Box 31">
            <a:hlinkClick r:id="rId7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ombanao afa-tahotra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ety kivy na mamoy fo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fahoriana iz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inona ny fo arovanao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Text Box 33">
            <a:hlinkClick r:id="rId2" action="ppaction://hlinksldjump"/>
          </p:cNvPr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Text Box 34">
            <a:hlinkClick r:id="rId3" action="ppaction://hlinksldjump"/>
          </p:cNvPr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Text Box 35">
            <a:hlinkClick r:id="rId4" action="ppaction://hlinksldjump"/>
          </p:cNvPr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Text Box 36">
            <a:hlinkClick r:id="rId5" action="ppaction://hlinksldjump"/>
          </p:cNvPr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Text Box 38">
            <a:hlinkClick r:id="rId6" action="ppaction://hlinksldjump"/>
          </p:cNvPr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Text Box 39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Text Box 40">
            <a:hlinkClick r:id="rId7" action="ppaction://hlinksldjump"/>
          </p:cNvPr>
          <p:cNvSpPr/>
          <p:nvPr/>
        </p:nvSpPr>
        <p:spPr>
          <a:xfrm>
            <a:off x="8793000" y="62611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1 – MOMBA 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hefa tonga ny fotoan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ànay lehy ony maizina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ka ny tavanao hazava ao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izay re mombà anay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772120" y="378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8772120" y="417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8772120" y="45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8763120" y="493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8777160" y="58053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8763120" y="5373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Text Box 18">
            <a:hlinkClick r:id="" action="ppaction://hlinkshowjump?jump=firstslide"/>
          </p:cNvPr>
          <p:cNvSpPr/>
          <p:nvPr/>
        </p:nvSpPr>
        <p:spPr>
          <a:xfrm>
            <a:off x="8773560" y="33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49:06Z</dcterms:modified>
  <cp:revision>78</cp:revision>
  <dc:subject/>
  <dc:title>Tiona Advantista</dc:title>
</cp:coreProperties>
</file>