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2A7-4399-47F1-8182-11DA6AF1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8D3-78A4-4643-8C03-E28F3072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9C1-E8B9-49A4-B98A-FAE91285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221-BF3A-4205-A984-4F32CCCD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4153-B9E3-4825-97DE-22DDC569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C7FC-4C82-4B0C-B895-88140F8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9BE1-B5B8-4225-832F-1A6C663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9D14-1B45-46C4-A005-D3DFA727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79ED-8592-47CA-9923-C2CB3EB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FCE1-3A5A-4D84-9995-FEA4AEC7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A7EA-A331-4003-97D2-1366C34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86B-9E0C-43A4-8D4D-B8C34E89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563D-B413-402D-B1F0-02DA385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6BE-B93C-454F-B56A-8415959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8EE4-07B4-43B4-9450-15557C0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9CE-3A59-4D58-8907-D6FEFFD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442-4189-486B-97FC-09BC4DFF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506-9A18-4170-8F25-BE55E16E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0C4-520A-430A-92EA-D7779B2F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D43-77FA-4F69-9E13-BD14E76D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4EE-66A2-4304-8049-F4AE4EE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686-C4DF-47C0-B9BA-B249A8B4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B1D-3128-45ED-8243-ED75459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D21-80A3-4DC6-B66A-87B5520E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71C-2C14-4F8C-9EBE-430160987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B61-BD11-487C-B4F5-88AC71A15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. J. Rah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122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7 – ISAORANA ANIE 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60640"/>
            <a:ext cx="91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Raha ny marina dia tsy misy ny TA055 f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 55 ao @ Fihirana fanao am-pao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 navadika ho TA757 ao @ Tio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7 – ISAORANA ANIE 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orana an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n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tahiam-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ny ho a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treo am-boho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andraka ant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ika hen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oan'ny lanitr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7 – ISAORANA ANIE 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ety tap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lany ny hare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ta far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isa izay home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hy samb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fo miad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efa s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ana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7 – ISAORANA ANIE ANDRIAMANI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y sy Zan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y Fanah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erain'ny mas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ompo iray k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 fahasoav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nater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fisao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8:02:25Z</dcterms:modified>
  <cp:revision>78</cp:revision>
  <dc:subject/>
  <dc:title>Tiona Advantista</dc:title>
</cp:coreProperties>
</file>