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19A-2295-4D86-92FA-2FDC7484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514-42E9-4A81-B929-20989AF0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7C6-D200-45FB-A126-E3145EC4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E3A-7880-4828-9F34-E0994E6F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7479-EC16-4B09-985F-84A58BBF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DD80-F0F6-4C75-A906-92E3D7D1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9CE3-E86E-4298-AC36-C22C56A5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3641-D74B-4D3A-BCE9-B5BE7157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C998-4A42-471F-80FB-7FF0BDB0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54A0-5E70-4B8C-8C3A-ED29B4E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AEF9-AAB6-40CE-9ADC-52C55B37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2B8-0AEE-4E97-BF66-99215445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DE7A-3890-489C-9BF4-E145002A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997E-AF53-41FA-85BF-34395F90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EE93-2371-483E-A75E-DC4D194F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D1AA-D833-4CD2-8849-38296F57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0621-DB15-4138-AC12-3D26155A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0FA-9FDA-4EA7-AB4D-2D7083DF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6DF-ABB9-49A9-BD5B-7B164F4C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6DB-02F9-4FAD-B85E-D4775365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A55-1059-4E8F-8415-6A731CE0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7BD-7A5E-4343-8EA9-6D5C04D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8D4-5084-4833-9C41-5A43519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211-C559-4E0A-AD82-C6A0352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688F-9D4A-4DE2-A764-11F3459314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09D9-97E1-4796-9D3A-358DB27AEC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40 – FANTATRAO VE FA NY ANDR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0 – FANTATRAO VE F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tatrao ve f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lasan-davi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ela, toa ak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izina handrak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0 – FANTATRAO VE F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sangàna ka dia mieza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itao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firenen'ny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itao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sangàna hanefa ny 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me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40 – FANTATRAO VE F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asoandro efa 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sa ny fahaz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ela dia ho v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drom-pahaso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7:28:15Z</dcterms:modified>
  <cp:revision>89</cp:revision>
  <dc:subject/>
  <dc:title>Tiona Advantista</dc:title>
</cp:coreProperties>
</file>