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4D3-717D-4176-AEEC-E2C6E2D1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2218-F67B-4027-B28C-51F7746C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53E-6D5E-4D3B-B425-B8C30AE5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19C5-ED51-4705-A0C4-FC7A6911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EB35-9D42-4E12-80E4-F73BE38F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FB74-C76B-42FA-9B50-93070D9C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3AB2-3CDA-4221-89DB-02201B6F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49C0-ABC0-4032-9C06-F74CAB68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F4EE-51C1-4299-87EB-13552CF7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E8F6-8E70-4701-AAED-0243E732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1EA9-251B-4342-B9BB-41C22B26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A7B0-7CE2-4C4E-8756-2373EC92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EC37-486F-4AA8-8420-D341C70B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F6DA-CBD4-4D97-A207-1DDA8619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C87E-2374-4CCD-8F0C-B40BAE55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ABE0-CE53-44F7-BDE3-4DEBD85C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66D7-8E7E-4513-8CCA-A0FCB15C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1E1F-98E7-4FE7-B46E-7C2B9E4F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90F-1499-4246-8F66-A05FB290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3D31-40EA-42FF-B252-E96E1BB4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0BE-8249-4E46-BB21-E4F01B7F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9CBE-5E9A-4572-AA08-80938353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51F-5A4D-4F26-800E-B8E2537E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926-0725-4DC3-B5EF-30462929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B177-A2DA-468D-8308-ABE210A1F6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622E-FBFF-46E6-B149-3BCBF12E80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12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ANDAKO JEHOV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Vonjy sy Fampion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J. Rakotomananjanaha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J. Rakotomananjanaha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2 - MANDAKO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dako sy aroko Ianao, Jehovah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oa tsy manahy aho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ndro fantatro fa tsy m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vatolampiko, Jehovah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2 - MANDAKO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hangozohozo ny fanah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napetrako amina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ahamasinana tadiav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menao Jehovah Ray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</a:rPr>
              <a:t>(satri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dako sy aroko Ianao, Jehovah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oa tsy manahy aho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ndro fantatro fa tsy m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vatolampiko, Jehovah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6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2 - MANDAKO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 mifofofofo ny tafiotra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mihilana ny sambom-piain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oa halaky kivy, hitomany 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anao iankin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2 - MANDAKO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reo ady mafy 'zay atreh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tsy hampahory ny mpanomp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ny faniriana nokotreh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ny ho voninahi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 dia mafy sady kinga no m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lay fahavalo te hisari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kiko ny fanatrehanao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Mpitana mari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2 - MANDAKO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7:41:08Z</dcterms:modified>
  <cp:revision>118</cp:revision>
  <dc:subject/>
  <dc:title>Tiona Advantista</dc:title>
</cp:coreProperties>
</file>