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9C7-0403-41BD-9029-1D4DA71D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3B5-0EA1-43AF-B1BF-BD443FE9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F22-9F8C-4779-A6D8-1BEFC278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1CD-C8E3-4EF9-8D36-C7E8FF54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0742-D873-4798-A095-7A62D8DF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ABBE-7DCD-43E3-916F-F9045FB5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AD50-BF83-4A05-90C8-3F3B4618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144B-7A5F-4A84-AE50-2496E32D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C92A-DB15-4E85-B0CC-4B910FC1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96C8-2867-4948-95CB-8935EC6E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6617-5F04-4A16-9350-CAA6CB9A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4AF-6E8B-45CF-BC97-A1B213D9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E147-7D09-44EA-AED2-64F0040D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CE6D-2F4E-4B84-BB8A-AF6F0DD1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2923-C511-4CAA-8C87-C4570534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248F-727B-4D0A-BBE2-09C2AFBB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506A-8BE3-4860-912C-4493EA70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073-3619-4CA4-96BB-31A2D118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439-2F20-436F-B97B-20A16F06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0B2-6364-451E-BC86-9C32E405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7E1-8C56-43DC-AA88-85CAF0B6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A67-05D8-477E-B830-A8B1F8CB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932-4E81-47DD-9FE3-1275FA04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53A-4557-4132-BCE2-73376041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E3A1-EFA9-42D5-927D-5678CAAC48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A69A-6255-4AB3-8AD3-032FAE4302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mpakaram-bad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Faustin Saï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49 – ‘NDRETO MISY OLON-D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9 – ‘NDRETO MISY OLON-DR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dreto misy olon-d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fanaiky hiar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anampy, hifana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ifandao tsy hisar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la Anao hanampy 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aminao ny hery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ba tsy ho vaziv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o tokantrano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9 – ‘NDRETO MISY OLON-DR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nga eto izy,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la fitah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hatsiaro fa mpan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Zaza ho tarih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oa metez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ome ny fitah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o voninahi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ainam-pifal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9 – ‘NDRETO MISY OLON-DR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Tompo, hakaike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y ireo fa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y ratsy aele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jakan'ny he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sendra ny mah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kaikezo, Tomp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tsy hirodana akor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kantrano ho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7T11:56:41Z</dcterms:modified>
  <cp:revision>76</cp:revision>
  <dc:subject/>
  <dc:title>Tiona Advantista</dc:title>
</cp:coreProperties>
</file>