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1D05-2A8E-405E-9AD6-FA92AD24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E836-9E90-4CAA-AEE8-8B4FAC60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893A-EB34-4052-A0A2-01AD2716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5D2B-2588-4C0C-9865-8576DEFB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9ABF-A654-478F-A508-2BB713E4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4855-D388-408D-A653-0BC001D1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9E9C-A17D-4A9D-A50F-A8F836C8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CC1A-D1C1-4307-8188-04C20CDE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FA43-8DC7-4498-9AE6-86484D40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2DAB-D6D3-4AE9-92BF-1282B49E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1D72-67B9-4C71-ABBE-9C63540A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C1CE-ECC2-4F17-9BC4-574BECD3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D345-B99F-4EDB-967B-838FB00D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47F2-1021-4A8B-9D94-14572EBB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0C5C-4F02-4C04-BA62-679C80F4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E1F1-75D6-454C-B3FD-E3CAED3F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C8FA-E966-403E-9DEC-DEF7402A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56F-EC08-4444-A2D9-A1F2AD5E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9DD6-788E-45B5-A9F1-00CCC5B2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98B4-BFE5-4AC0-B8CA-767F180A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3D6E-B342-44C7-B02D-98B0BF7E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CBB-2D53-4A0E-9FBB-B3AF9D4A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4EC-57B2-4DC4-8442-8AD01FDB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365-959E-41A1-9336-D14F0DA0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4479-AF18-4C2C-932D-7F8F4182A0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B101-CF40-4570-B104-5AB002B50E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lin’ny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. Randriamiandrira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. Randriamiandrira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64 – EFA ELA IANA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603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000" y="5964120"/>
            <a:ext cx="23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3760" y="6323040"/>
            <a:ext cx="23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4 – EFA ELA IANA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ela Iana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andona tato am-p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angavy am-piti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nina ato am-p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Be 'reo zavatra tal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rendrarendra sy filà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bosesika eo alo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kona ilay Kanana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000" y="5964120"/>
            <a:ext cx="23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3760" y="6323040"/>
            <a:ext cx="23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43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4 – EFA ELA IANA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i="1" lang="fr-FR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tohiny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kehitriny Jes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y foko no atolot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saiko sy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ireo vatako rehe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iako mba han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mpo Anao tsy misy fetra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603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3760" y="6323040"/>
            <a:ext cx="23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43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64 – EFA ELA IANA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i="1" lang="fr-FR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farany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rovy Jes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Ty mpanompokel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za avela hanias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aizao ho mpiana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aizao ho mpiana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aizao ho mpiana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603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000" y="5964120"/>
            <a:ext cx="23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43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6T05:31:00Z</dcterms:modified>
  <cp:revision>62</cp:revision>
  <dc:subject/>
  <dc:title>Tiona Advantista</dc:title>
</cp:coreProperties>
</file>