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814-2999-40B0-8962-BB9FA9C1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DF5-A340-44BE-A49F-5F962CD9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B54-41B7-4588-BC86-3FFD1AA1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5F2-C497-4F1F-AD12-1A74A100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6DF-A705-41C4-9231-7F133B9C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9DA7-8A51-4803-8FF2-27ADC966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46DE-828D-481D-82B5-736F17E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AF76-F3EA-45D3-A56F-0CB8042B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F435-2AC5-47E7-83AC-AB210993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E802-6A09-4DC2-9669-3F24A3F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E8F6-7021-4FCA-8E3D-EC0F5251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682-CE09-42DA-AA55-6DBD45AD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9C7C-DF7B-4D2B-840C-8D72C91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FAD-81A9-4F34-8832-4B1D611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D01-CD83-41C3-95C6-A936EC22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A4CF-7359-49B7-85D3-1835DC4C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BFE4-8D7C-46C0-BFD2-1F92D20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2FA-D411-409B-A7F5-2BEFB49D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220-23A3-4D2B-87F1-A53EDD3C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6B0-1CDC-4B40-87B7-75EE76FC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035-C82D-4AD8-90B0-838B03A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585-4D72-4040-AF9E-5D2757D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82D-B92B-40B4-AA88-855609C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A94-5265-47CD-A47B-FF00331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9B5D-30CB-488F-9901-83C2B93033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F1B-EA0E-47C7-BE61-CA28617F9D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éritage Singer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3 – AVIA JES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53 – AVIA JES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Avia Jesosy Tomp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dry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avy faingana Ah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ret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Izy manambara : Ho av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izay manasa ny akanjony (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in-3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avy faingana Aho mba hamal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na rehetra Araka ny asany (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in-3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57:13Z</dcterms:modified>
  <cp:revision>36</cp:revision>
  <dc:subject/>
  <dc:title>Tiona Advantista</dc:title>
</cp:coreProperties>
</file>