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76A-968C-42A8-9A9F-93A5883E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BCA-DD75-49BF-A42B-16DF1EC1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6CF-86EC-4EA4-AEE9-CDB41392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231-E88F-4A32-9C69-EDBAB94B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A5D-5C53-4CA5-A3E0-A41A2AA8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E6B7-55EF-429F-8B52-7B15487C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5AC4-BDB8-4FA6-A2C1-8F0DBF7C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4AE-DCD4-49F2-8E6F-A44559EC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756B-A4D8-44A0-876E-45A3CABD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210E-97FD-4D2D-8FC0-9325856E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61F-A153-4949-B7EE-7C82818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E64-9333-499B-81D4-C2A1246E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D021-CC11-46B4-BEC9-A5369A1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D039-9A64-4745-B075-C65074CB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B06-3376-4783-91FA-0E00BCB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557-C892-4FC5-BB1E-0B68A3F0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E23D-0DA3-440C-AA9E-387E8CA9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17C-994C-4EE0-9DC4-0312D362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205-CC63-49DA-AC2B-5BD3B417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419-9C14-4548-A87B-4B2AED4A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94A-A204-46FA-9B21-911B9514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A56-FDB8-4011-87AE-3BBED5D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D0F-8748-45C5-A7B9-9415394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A68-6138-4A90-9C2B-6AC855E6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F0FB-A919-4389-A7B4-A11D4DB222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4765-F509-4204-8DB1-8235ACA2DA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illiam J. Gaith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6 – O! NY TANANAO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6 - O! NY TANANAO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Ny tananao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an'izay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monjy tamin'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votra ny f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6 - O! NY TANANAO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o tanano io no namonje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sitranana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Ny 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hisintona ahy ho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6 - O! NY TANANAO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 Tompo, Jeso t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oka re ny tan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hanosotra ahy hatr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iderako ny Anar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10:02:38Z</dcterms:modified>
  <cp:revision>67</cp:revision>
  <dc:subject/>
  <dc:title>Tiona Advantista</dc:title>
</cp:coreProperties>
</file>