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4F5-C104-4508-9326-31E92695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BCCD-ADB7-429D-B030-59B20E49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D23-15DD-4A3F-88E6-03D8BF36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FB8-402D-45A0-9A14-E1F36BE7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13B5-E9B8-4E9E-BCB0-76512120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1AAE-F835-4748-93DD-39B04741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C547-1B73-4B43-92B3-CE5EAD98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4493-94E2-46B9-955C-89F35F4B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D0A4-8A21-4F8F-ABAF-3F957299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1E16-4F13-4714-91CF-3719901A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E3C7-1AB9-407A-A047-C44D3F18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EF2-9D57-428D-BBAD-D37A85DF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993B-FAB9-4CB3-B019-1B36B628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B7DA-9DE8-4E93-B720-A29C1B43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F05D-379F-426E-97CD-E93B1911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9C6C-BB13-4C0C-8DB4-85706CD3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94D1-C7C3-4CF9-A72D-719FC65D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DAE4-86EF-4D61-BC8C-788E4577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B93C-0188-4CDC-9A78-02DB91FA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FEB-3BC3-494C-955C-6C8F56C4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3F9-1C27-4951-9020-146E03B5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5B17-74AB-4C0D-892A-4B45CEEF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F03D-A3FA-4F62-9200-AD0C47F1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1D64-4FDA-4841-8ABD-A008F367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3638-12EC-458E-A839-0637A0D372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7724-6F25-42DB-8AA5-4DB1ECFC1D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kotomananjanah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kotomananjanahary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52 – LAKOLOSY NO MANE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876636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2 – LAKOLOSY NO MAN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ffff"/>
                </a:solidFill>
                <a:latin typeface="Tahoma"/>
                <a:ea typeface="Arial"/>
              </a:rPr>
              <a:t>(Feo 1, 2)</a:t>
            </a:r>
            <a:r>
              <a:rPr b="1" i="1" lang="fr-F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Lakolosy no mane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00"/>
                </a:solidFill>
                <a:latin typeface="Tahoma"/>
                <a:ea typeface="Arial"/>
              </a:rPr>
              <a:t>(Feo 3, 4)</a:t>
            </a:r>
            <a:r>
              <a:rPr b="1" i="1" lang="fr-F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ding, ndaong, Nding, nda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  <a:ea typeface="Arial"/>
              </a:rPr>
              <a:t>(Rehetra) 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manakoako fatra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ffff"/>
                </a:solidFill>
                <a:latin typeface="Tahoma"/>
                <a:ea typeface="Arial"/>
              </a:rPr>
              <a:t>(Feo 1, 3)</a:t>
            </a:r>
            <a:r>
              <a:rPr b="1" i="1" lang="fr-F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enao, tsena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00"/>
                </a:solidFill>
                <a:latin typeface="Tahoma"/>
                <a:ea typeface="Arial"/>
              </a:rPr>
              <a:t>(Feo 2, 4)</a:t>
            </a:r>
            <a:r>
              <a:rPr b="1" i="1" lang="fr-F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ndro avy Jeso To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76636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2 – LAKOLOSY NO MAN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tondra hiaka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y ve ny solik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y ve ? Fantaro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rao variana lo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laozany any an-koa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7638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2 – LAKOLOSY NO MAN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(Feo 1, 2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kolosy no mana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Feo 3, 4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ding, ndaong, Nding, ndao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e5ffff"/>
                </a:solidFill>
                <a:latin typeface="Times New Roman"/>
                <a:ea typeface="Arial"/>
              </a:rPr>
              <a:t>(Rehatra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rio ny ota rast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(Feo 1, 3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dio, fid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Feo 2, 4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Jesosy no ar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76636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7638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2 – LAKOLOSY NO MAN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famonje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mafy re ny 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y ho anao Jeso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mba misalas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Jesosinao tsy mba mial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6636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7638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(Feo 1, 2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kolosy no mipa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Feo 3, 4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ding, ndaong, Nding, ndao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e5ffff"/>
                </a:solidFill>
                <a:latin typeface="Times New Roman"/>
                <a:ea typeface="Arial"/>
              </a:rPr>
              <a:t>(Rehetra)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o miantefa mafy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(Feo 1, 3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bio, hob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Feo 2, 4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y Mpanjakan'ny tonto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2 – LAKOLOSY NO MAN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76636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4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7638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2 – LAKOLOSY NO MAN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vy mba handray ana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ny tany dia ho l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'Lay Satana sisa 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ianao tsy ho eto ints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iadana tokoa any ambo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6636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7638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9:51:15Z</dcterms:modified>
  <cp:revision>37</cp:revision>
  <dc:subject/>
  <dc:title>Tiona Advantista</dc:title>
</cp:coreProperties>
</file>