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1983-FE6B-4ED8-BE28-C79F701B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4BBC-C0C4-4C7B-9A08-8592F7ED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378-5F89-403B-844E-0192D34F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881A-D20A-4614-B541-1398BD90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51E8-48BC-45F5-A2FD-714CA8F7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CFCE-7E77-4D8C-A18B-E8BF07E1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7CCB-CC92-4646-9F61-BB60170D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B31F-F353-469C-AA19-A65253B6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C791-1316-489B-90BA-1B8A86A9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5636-871C-4BC7-83AE-CBFB66B3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1289-884A-4716-AE0F-362B05BD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4F8-D74E-4DA4-ACED-166EEAFF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1253-B4A8-4E3D-88A4-B99C8B8E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C335-8F4F-49DF-8E55-F62A2E92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F1D0-7EED-40E9-8985-7D70BF8D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1BAC-6976-47A0-8D92-2FBB4692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10FD-7509-4AF1-8B4D-FF198B3F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FD43-5CB3-4A8E-B4A0-B01D758D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E608-1AA5-461D-B394-101EC8FE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6043-3FD9-4CA6-B92D-82E74365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23C5-3C0B-42E9-8D6E-D2B46035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E4F7-65EE-4417-A759-1313E32A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9D9-28F1-4A99-B1D0-A28E109F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D1D0-A236-44B9-8AAE-3F1E9BDC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55F6-85D1-41C2-8A2D-F66E6E1A8F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E452-270F-456F-B863-66A4997699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iavana sy Fino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A. Houlder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FFPM46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14 – IRINAY JES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4 – IRINAY JES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nay, Jeso tia, mpanota i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sy alahelo aty anatin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nay, ry Mpamonjy hiseho ho 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faka ny ota mba hifali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4 – IRINAY JES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nay, Jeso tia, mba hanazava 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izina ny saina, ka diso izah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nay Jeso Kristy hanolon-tsaina 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nay Jeso hendry mba hianar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4 – IRINAY JES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nay, Jeso tia, ho tonga ami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ntra sy hiaro sy hanadio an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malely aza ka reraka i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hefa voavonjy, matanjaka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4 – IRINAY JES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nay malala ! Ry Jeso tian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havanay mahery ! Ry rahalahin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jeo izahay mpanota miankina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hio izahay mahantra mivavak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7:11:18Z</dcterms:modified>
  <cp:revision>69</cp:revision>
  <dc:subject/>
  <dc:title>Tiona Advantista</dc:title>
</cp:coreProperties>
</file>