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06F-45F8-4547-B058-606BD318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27E-DBCB-42E5-A367-C2A50EB8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A18-1FDD-4497-81CF-71D8D0B8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627-A5D5-4B99-A368-F346E4D3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0945-E3A3-48F7-BB9B-5238F977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48BC-4EC9-41BE-8D19-2F5ED02B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1475-36FE-4FCF-B3C7-7772A1FC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D937-171A-4682-8AAC-18DAD3EF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FD00-4CD1-4747-8449-45717B03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A5FA-193E-4A30-8AA4-764FDBF0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AD15-A83D-46C6-8D51-E93EF301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708-277B-43F6-AE89-DD02BBA6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23CA-BA96-4169-8E66-28D6EEBE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052E-BE1A-4259-9194-41C0D6E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4577-349F-459F-86E7-FCEE29DB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75DA-92C7-4980-98D5-CEA76A71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A019-BF41-4844-B170-C2BFF567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DA2-45F0-464F-91C7-2114EEC9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AD3-8492-4A9B-A832-FE74ED0B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BEC-B23D-4C47-B330-260E50BE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A34-57EC-4523-98F7-8D3D0AD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46E-D3EB-44E9-9BAC-13BC1C7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EFB-EE32-44DB-8AC9-89F70E0C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918-60A0-4465-AC12-CA44B28D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FED0-EE2D-40D9-B6AD-FF3EA77B4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B5A9-0A1E-4958-91B9-7DCFFFB973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Browing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55 – INDRO M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5 – INDRO M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mazava ny lanitr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nisava ny haizina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ho-mainty izay mitat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, nisind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5 – INDRO M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omà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ao, ô ! 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tsang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 tse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tsy ho e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Tompo, tse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5 – INDRO M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renao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trompe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koako, manaitra tok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variana, ny loha andrand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y, 'Lay Jes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55 – INDRO M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bataban'ity tany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hon'ady ety sy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lakolosy izay mampa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e ! avy 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10:22:04Z</dcterms:modified>
  <cp:revision>37</cp:revision>
  <dc:subject/>
  <dc:title>Tiona Advantista</dc:title>
</cp:coreProperties>
</file>