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708-00D5-4A98-A89C-A5DC98CD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84D-F600-405E-A302-E4C4FFA9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E48-E2DD-4259-BC4D-654E0747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020-9461-4BDE-B2B0-C3686FB0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4079-8C7D-4033-A05A-BEF27E68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6BAE-DB2D-43B2-8B72-369AA662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4A3A-9114-4786-A2C7-6474A44A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51EF-9847-4A5A-9B08-D93280CD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F617-4A52-4487-82D1-551EE54E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603A-BF1C-4BD9-AB31-BBC2A6AF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D4C4-E4DF-4FA7-AF0E-C69A4070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7A2-C332-4332-A041-B1C0453B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6823-96D8-4B34-B107-3FE60B18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279E-D1F9-4EAC-A70F-8BAECC7D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3005-38C9-4F79-8204-2E80F669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31B4-2929-48E4-862D-A1ABA657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727D-F690-457B-BD64-D357B172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95A-F334-40A5-8436-B197EBE9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4E6-6B71-45B3-ADA7-D40EABA1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BF0-8343-40CD-AED1-D2794496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908-AC6D-454B-940C-ECCC99A7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596-4F45-4D84-A65D-5F6E59C8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F29-8716-4951-B982-D871BBBB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1B6-22E2-461F-9C63-3D481EC1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7304-45AF-4E50-873E-E70391F8FC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11D8-97C5-4A67-BFD8-D2FAD71E60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49 – Ô ! HAFALIANA MAMENO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9 – Ô ! HAFALIANA MAMENO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Hafaliana mameno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ndra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jaliana hisind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ndra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drombohitra avo hi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 ho ravorav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afononoka ny haf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avy indra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9 – Ô ! HAFALIANA MAMENO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avy indray J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nala ny manj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avy indray J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mpionona ny f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Jesosy ô, avia (av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via, avia ka mamal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faliana sesila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 hanerana ny tan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ho avy indray J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9 – Ô ! HAFALIANA MAMENO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O ! Hafaliana mameno 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avy indray J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zay irina hita avok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avy indray J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anàna masina vaov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Sy mana miafina ho 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safononoka ny hafali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aha avy indray J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9 – Ô ! HAFALIANA MAMENO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O ! Hafaliana mameno 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avy indray J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za mangina fa miants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avy indray J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Ndeha hitoriana mba hand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‘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eo havan-tiana maro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safononoka ny hafali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aha avy indray J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9:16:07Z</dcterms:modified>
  <cp:revision>37</cp:revision>
  <dc:subject/>
  <dc:title>Tiona Advantista</dc:title>
</cp:coreProperties>
</file>