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F45-419E-4C58-A9D8-C21C6425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03A-10A0-4B01-B4B7-59D40B9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595-592D-4813-9FCC-C1C23EF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29A-1A7F-425E-A9B3-15731B81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F884-1944-45BA-BCE8-419A6303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7B2D-22D7-4F99-8BF7-50E666F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E37E-C14F-40CB-B6CD-C2A3F192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2E5B-B571-4FF2-8F46-B8B677CB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A21-0CF0-4A9C-B912-1A28C969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06D-1FB0-4094-8719-38660BB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D14B-F433-4F67-BB1A-3CA9C8CE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E60-AB4D-4652-8ABA-A3A29A9B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FB60-5D3D-4B8A-B4D3-631F11F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4A89-EAC5-456B-822A-DB10D8F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6CC5-3B1F-492A-B287-03BA6EA4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1FB9-8B9E-400B-94BD-8113AE48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C5F-32A5-4C94-A4E3-B6B16603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FCD-47F6-483F-BF31-A157E1D7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994-440A-44B7-AF27-F67F587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BC7-421D-4485-8E09-DED9ECAE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65B-DFEB-400E-8710-E4F73799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C66-B234-48E1-82BB-3E1E0E32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7DA-C78A-4AF1-A30B-EEB3ACB1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346-F8EF-480E-90A5-8CBFA5E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15A-8EAF-4DBD-A8E5-8CD491F46D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EF89-F84F-4C55-8355-FF338C4729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5 – MIAING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45 – MIAING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ingà izao, ry tanora M. 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mba lazao isan'or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namanao mbola be la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tsy mahay fa izao tany izao ho m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45 – MIAING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ndao ka mba 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ndao 'ndao ka mba la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zao 'zao ani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ny hafatrao la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zao '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45 – MIAING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antsoina, ry tanora M. 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ety ny tany, ka mizor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iangarana ireo nam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arao koa fa ity tany ity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45 – MIAING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ao ka miolomaiza, ry tanora M. 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mbola mahaiza miantso maf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ry ny Tomponao, tamy ka ts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y indray Kristy hanavao ity tany 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8:32:17Z</dcterms:modified>
  <cp:revision>89</cp:revision>
  <dc:subject/>
  <dc:title>Tiona Advantista</dc:title>
</cp:coreProperties>
</file>