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A201-4A3E-4271-ACED-FA4CF4BC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3BBE-8ABB-4F3B-8B60-E542B9CA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B949-9544-45F9-A119-DC09CD09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17B5-7978-4169-9C9E-E9167C5C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8A42-53A8-493D-A5DA-E84FA5C2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036C-76DD-4757-99C2-C42B3A1A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F180-F9A0-4E3C-A708-9FEE48AA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12A9-5A6B-4BFC-9B03-AAB75850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47BE-F2FD-44FA-B5C0-5DC036AD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3EF8-ACF4-47AC-B8A2-69EDA31D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B91B-78A9-4E72-A2F9-CAEE1D2C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23AF-6E46-470E-A7BB-68C08350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78F2-A08F-4941-9A61-FDF8FB3A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B7AC-B094-498C-9C8B-714A0C23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2861-C65C-444A-AFEB-F83AEBEF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13F2-2978-41CF-99D8-AB9CAFBD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3915-7EF2-4E70-B1E6-1CBA50FE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75A8-D345-478E-8FBF-2DA041DC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BA9F-7878-4B44-9C7C-B851D325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77E0-F9E8-4920-BB39-F1C75B56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20A9-AE1C-4ABF-9C4C-AA93E5E8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A232-2F49-4F35-9004-C5088D8C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0025-4569-47E5-B83D-9731EF24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717B-520E-49D1-A6C1-D211B566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5025-D43A-46F6-8D24-256DE97844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1963-874E-4D49-8231-D713DAF03D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19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RAHOVIAN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Fanante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. R. Marnoë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Hiram-bahoa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HL39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9 - RAHOVIANA 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oviana re ho hit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Lay tanjon'i Kanan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farana eo ny di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ry ny fitsap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ao ny Tompo Mpiand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olotra ny sand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dray anay mba hid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ao an-d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9 - RAHOVIANA 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</a:rPr>
              <a:t>Ho tena samb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</a:rPr>
              <a:t>Sambatra, samb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</a:rPr>
              <a:t>Ho tena samb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</a:rPr>
              <a:t>Raha ao an-d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</a:rPr>
              <a:t>Hifankahita tav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</a:rPr>
              <a:t>Hifaly toy ny z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</a:rPr>
              <a:t>Hihira hoe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</a:rPr>
              <a:t>&lt;&lt; Haleloia, ho Anao Jehovah ô! 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6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9 - RAHOVIANA 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kory re amin'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h hatsaran'ny hi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taon'ireo zana-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y irony miaramil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sika tsy hang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araka mihi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redona toa rano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voavonjy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6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9 - RAHOVIANA 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Reo voavonjy maro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akanjo lava fot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hoby aok'izany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avotr'i Jeso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hobim-pandres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tohy seseh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&lt;&lt; Ha an'ny Zanak'ondry ani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saotra, laza be 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kory re amin'iz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hafaliantsi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hita maso Ila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y tena tia an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kamban'ny fi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tena ira do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ialonana, ditra, ad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oloiny zava-t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9 - RAHOVIANA 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8:02:03Z</dcterms:modified>
  <cp:revision>119</cp:revision>
  <dc:subject/>
  <dc:title>Tiona Advantista</dc:title>
</cp:coreProperties>
</file>