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030-C47E-46B5-B379-8EBC443B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CB1-76EA-4AA4-A4BE-D513E377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8BE-052D-4B5B-AFCD-BB7C3E15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66F-354C-4C11-8CDB-70CF9155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7660-5899-4D89-A1BC-9583912A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D903-4073-4199-B9D7-E84276D3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ED6C-69C1-4FDE-B98D-AED35F8A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FBB-173A-4725-B912-EA95D47F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2B91-D8FB-4E10-9F27-0EE30677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7806-9320-45E1-B1CA-126523DD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6508-E10A-4813-AB46-55260191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333-A572-44ED-96CF-04C11C87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6952-754B-4507-B566-0BB166B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31D4-968C-4EB9-AC80-6425BCE1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DEEE-45EF-4550-821E-58AD1688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19BD-3BA9-4B0D-AE2D-44DDC754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3E6E-7AAF-4D01-A71A-331F6AEE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749-DA45-464D-8FAB-8209D079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EE9-747E-4A26-BCBC-8FDF839B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711-1728-48F0-B8AA-F98DCEBB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D02-C532-4622-AB9B-C1AD85EF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00A-93BE-4F4C-A41D-4DF2963A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4A5-751E-4A8F-B4E6-ADB6DC68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623-9C21-4B26-B74E-E7559137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2CF8-543C-4286-8DC4-55252960E9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4013-278A-4CBD-8174-8A5B58D6F3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52 – JESO Ô, AMPIANAR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40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5881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2 – JESO Ô, AMPIANAR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 ! Ampiana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làna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onay hamasin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hitsio ny fiai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40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290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20000" y="5881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54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2 – JESO Ô, AMPIANAR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sara h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Soa tokoa, hery koa, aina v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ais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Anao, raiso re 'zahay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90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290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20000" y="5881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54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2 – JESO Ô, AMPIANAR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a-tahotra ny f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y fan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asa ho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ahatong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90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40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20000" y="5881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54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2 – JESO Ô, AMPIANAR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vatolam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jona ionon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fiarovana am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tony 'za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90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40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290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54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Mpamonjy m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oera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n'andro, isan'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rovy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2 – JESO Ô, AMPIANAR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90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40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290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5881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54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02:01Z</dcterms:modified>
  <cp:revision>47</cp:revision>
  <dc:subject/>
  <dc:title>Tiona Advantista</dc:title>
</cp:coreProperties>
</file>