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369-FADE-42CE-A41E-13984D5D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4F5-AE27-4A6F-BC77-E5E3B1EB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CE0-776A-4D41-A941-16530DBA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7DC-671F-4215-8EDC-35F64C8D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0192-F337-425B-BC10-AB3F6D9A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8310-331C-4E62-ABC8-68072261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8715-39BF-45D4-8841-229FE58F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F1A3-C5EF-45E9-A967-EED69EB3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CB90-F2BD-469D-8182-DBAAA23D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C905-BB05-4CD9-8AA1-DB82D3F2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DA4C-09B8-4B4E-B1D1-77E8B2BE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5F3-786B-4F84-AD7E-F1B735F4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1792-0E6C-4825-84EC-75BCB792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52AC-DF7D-4DB9-A68D-1824A41E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48BA-531F-476A-A70B-7F8228EB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A704-E0EC-4588-A129-0B0A619D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F159-7D5F-4A7D-9941-12A21016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E5B-B618-4E96-8BCE-58FB2FB9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6B7-E310-4B4B-AE3F-A5889769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52C-CD8F-4BA3-B6D3-E1EE4DD2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D8B-4137-43D1-B765-B5CCC15D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7C9-D348-4B43-9BFE-21F47DE7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106-F538-45E8-9DE0-ABF82CA3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E4E-0198-4471-B36E-AD8F33C4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92D6-C870-4504-BF27-4A9C077880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1350-4EAF-42B1-86BC-5D9DAA7810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dresena eo amin'i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Kotonjanahary (By)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Kotonjanahary (By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33  - INDRET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3  - INDRETO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eto 'zah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et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eto 'zahay, Jes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eto 'zah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vonon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ny haso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3  - INDRETO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oso 'zah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oso '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oso 'zahay, Jes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oso 'zah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fik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ny haso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3  - INDRETO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esy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esy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esy izahay, Jes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esy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babo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ny haso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3  - INDRETO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aly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aly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aly izahay, Jes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aly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se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ny haso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8:57:22Z</dcterms:modified>
  <cp:revision>89</cp:revision>
  <dc:subject/>
  <dc:title>Tiona Advantista</dc:title>
</cp:coreProperties>
</file>