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1DF-AA1F-4CF3-BBFD-28A78A49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B4C-69E9-42CE-AA88-DBE3857C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E9B-3214-4745-9769-C62825BB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AE5-7F04-4807-985C-E17EEF98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880C-6995-464E-A8C7-CBC4D501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49D0-04C8-4BA5-9223-5BCBD92C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1326-6638-4071-BC92-38BA0F90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B863-A0D3-40B5-819A-57632557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948A-3230-40AF-B769-48152918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0303-E40F-4BCF-81FD-5493C499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351D-6399-4239-9855-4B56A94E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5CD-7668-4FE7-9FC6-CB36CCA7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FBDE-4FE6-45B3-8697-CE7978D0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12BB-8156-4761-9F8C-79E0B14A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009D-0BE8-4D68-A36E-E4CFEFFD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015B-25FE-4FCF-977F-607F5D8E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8D0F-D42C-4E27-AED8-EEC00D9B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F9E-C4E2-4F03-9B55-F71322BB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A03-6EB4-4E8F-B693-C819B672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3DC-1CCB-4B3F-82B0-396B1F36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94B-5AEB-4522-AB30-D7220C5E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A91-2906-4012-8FDE-80D6E719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ED9-4B40-4355-9FEA-C7E0B894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FA5-D686-41E1-871D-7A97FDD7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E274-0134-4165-B6FB-BFA5108F61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F8E9-D250-45E0-A79A-36DF1213F6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09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IHAINOA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Emili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Emili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9 - MIHAINOA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hainoa Mpam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drenes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oko mil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eno ahi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ampahere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o manir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hainoa, mihain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pamonjy mah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9 - MIHAINOA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o-dranomaso ny fandri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Lanin'alahelo e ! Ny mas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mihozohozo koa ny taol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ba vonjeo ry Tom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9 - MIHAINOA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hainoa ny fe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taraina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noy ny tore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ô, af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antrao ry Tomp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vonjeo sao v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monje, mamonj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pamonjy mah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9 - MIHAINOA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hainoa fa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ny ady e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mely ny raf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satry ny sen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oko male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ahari-p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jere, mije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pamonjy mah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32:43Z</dcterms:modified>
  <cp:revision>120</cp:revision>
  <dc:subject/>
  <dc:title>Tiona Advantista</dc:title>
</cp:coreProperties>
</file>