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A38-E14A-451C-9E67-54CEC2DE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D11-7AF1-4E82-9D9C-6CE2E466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BEF-628C-472B-AEB3-7774C5C0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9D2-D60E-489C-9AAF-504649A1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2E33-CB32-43C8-874B-518D651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526F-A9DD-4218-AD94-D3081CD8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6DD-FB2E-48AB-B6B6-10D3738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C776-544E-4DA1-AEAC-73D3C9EC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783D-15CE-48C4-A084-57AECA6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9710-EFB2-4AFD-921B-1E86BC7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905-1EA4-44AE-9005-9DB0E90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3D2-AC79-488E-A144-7C1FF9B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2253-5D70-4461-85E6-EEFAFA28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E544-F6A6-401F-AC4C-1420D08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BC2-0869-483B-B1DE-9E6513D1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A56-B77F-4DC2-B7F4-286A0908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FBA-9E82-435B-A89C-AEF8BBA5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CEB-806E-4F8F-BB30-2DB7C1C1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8BF-C479-4691-8C31-297BF2E1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295-948C-4BA3-8441-DE1672A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375-AE02-4627-9821-2E9665F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CB3-A171-4A32-A130-DAA6389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D43-A8AD-4776-A63B-6967465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F1A-1E66-481C-A45D-C1AB01C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0791-80B8-4AB8-9C19-2D38990EB3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8024-6A0E-4B4C-AB29-877FBAF92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. Hark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9 – FANAHY MASIN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9 –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vay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a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9 –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y safid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itra t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9 –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in'ilay a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nao mba 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9 –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mba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ray hin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51:02Z</dcterms:modified>
  <cp:revision>40</cp:revision>
  <dc:subject/>
  <dc:title>Tiona Advantista</dc:title>
</cp:coreProperties>
</file>