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335-CEF4-411A-80A6-273D7147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F50-08E2-4C01-8DFD-7098C626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40F-8DEB-436A-A55F-59BD1B07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30F-2B5A-4A71-A550-197C39CE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D7D0-8C42-47FD-8CFA-130E5173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783C-7510-4168-AE38-4A029285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BB14-5658-4D57-A816-728E7A46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5CAE-7544-4D64-AEA5-24022087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DC61-FF75-4DDA-90BF-DBDD892F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EEE1-D178-4EC2-906B-BA757CD5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C7CA-3351-4760-8070-D3E097EF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3A5-D7D5-4F30-8CE5-2E8F2F04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3032-F721-486B-8545-410F1B2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A2AA-F538-4416-A6A5-783B6A97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6798-961B-4550-8E43-BF84FA0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97FD-36B4-4633-A0FA-909BFA84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E290-9D5E-4505-897C-1CA876C4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718-88B0-4436-8EE7-9EDC33C2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C2A-D960-431F-89EF-A794D761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C50-CCA1-4ED6-B81E-75287279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77D-A5AD-45A7-92CE-A11B02D1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A97-92B5-4C71-8C9C-42BF821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1C7-5CEB-4D76-AAC7-9EDE5CC3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7C6-4D55-43C9-8883-E1AD00EE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7321-C93A-47BC-873E-04AC7172E0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647-902B-44F7-AA85-E2CCC3F77D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ater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ater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54 – JESO NO MIANTSO AH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40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4 – JESO NO MIANTSO AH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miantso ahy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 malefaka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etsika ny fo, (ny f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ny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40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4 – JESO NO MIANTSO AH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O ! Avia, (av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O ! Avia, (av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Matokia, indro Jeso mbola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O ! Avia (avia) mijere (av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Maneke ry foko zary 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4 – JESO NO MIANTSO AH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ny re fa mand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Sakaiza tsy mand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erena manat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vonj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40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4 – JESO NO MIANTSO AH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non'ny bati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vina ny 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ova Paradis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40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ara-mat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ena mamik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batisa no hana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eny ny efa v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4 – JESO NO MIANTSO AH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40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07:59Z</dcterms:modified>
  <cp:revision>46</cp:revision>
  <dc:subject/>
  <dc:title>Tiona Advantista</dc:title>
</cp:coreProperties>
</file>