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D2C-D275-4D8E-A916-DFBC234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F76-2E00-4B00-B685-BD21D6F6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6CE-A28E-40C1-84A9-C9B603C9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1A8-DD51-48B5-987C-AE6CEB04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FE6E-209D-4955-9C1D-A460585F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943C-1A50-423F-A929-6C29A204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10CE-0B4F-4327-A692-45F94584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8563-C8D3-458B-9FF1-9C0984A6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0DF0-A669-4736-9863-1BA21BC2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04EF-E43B-4E2F-B6D1-9AEBE214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F721-6BE9-4944-B821-0E5C8C2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09C-181F-4006-9B2F-E69B64E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6A28-791A-4FC6-BD20-033B52E3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154C-94AE-49B5-8592-A598D46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EB65-8A35-4A6C-A876-A8448A4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C6B2-8B67-4A30-9103-502B2919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7377-E297-4B51-AAF0-E01804E1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188-1CEB-4B8A-864B-711845C8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C59-D01C-437E-8475-F8EE24AE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FC4-0713-45A1-9161-CB19314C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46F-4966-49FE-8048-F1BCEC4B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DDF-D9C1-49A7-A331-B9BB4FE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464-AC48-41E6-9793-98313FD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D5E-775A-4E03-AB90-F6A2E17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A7DA-22B5-45A9-B819-C240B2BBD2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40B4-C519-4A3B-A516-3F79A2C556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P. Bilhor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3 – MIAD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3 – MIADY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dy ho 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tao Getsem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mpo tena ti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, mije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3 – MIADY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io (ny ota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izao, (ario ny ota iza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io (ar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jereo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ibebaha re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3 – MIADY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latsa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am-pitsarana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mpon-dani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, mij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3 – MIADY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maty ho 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ao an'ali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, moa fantatr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, mij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y amina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jakany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boariny ho lap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oinao ve, la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3 – MIADY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56:39Z</dcterms:modified>
  <cp:revision>32</cp:revision>
  <dc:subject/>
  <dc:title>Tiona Advantista</dc:title>
</cp:coreProperties>
</file>