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68B-BC94-4EC2-978E-4DAD729B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517-5CDD-49F0-87FB-4042F53F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EFB-934F-4A41-B853-544E2F8D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16F-8E74-436D-99C2-D6FA76E7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6F54-63F7-4522-806F-BFEB61CA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3290-9EE1-49F9-8C63-1705435D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26B7-CF87-4189-A3B8-DA4EA32D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C4E9-11D5-47B1-98C0-628EF44E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7613-B8BE-4432-96F9-25690D17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DAC1-EA32-4441-BD26-1A7C8342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B95F-4288-43AF-82EF-0F017436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9F0-DD0F-4D59-82C1-0723541D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EEBD-A22F-4FB8-A5B7-C1869527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7E6D-9842-4779-AEB5-D23E6AF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8B3F-1E48-46A2-A34F-57A1EE89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616C-ED80-4BA2-8490-D1EBBA80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0400-C01D-461A-AB2D-67BDC377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9E0-F498-453E-B6D4-0FB1992A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A9C-9A21-4124-A716-B96DAB3A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A9A-2C67-46B6-BC74-D74B5407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131-B141-42DF-BAFF-036F82D5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34D-7D78-428D-9EB1-8D2D307C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65C-DFC7-4EA3-A45E-B0AFF6F5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084-4427-4C9B-8314-41BB7E2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50EC-791D-4BC2-B644-FB26A87FF7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FD2A-873E-41B9-931E-328C4CC941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r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findraman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findrama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43 – ALINA NY ANDR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3 – ALINA NY ANDR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lina ny andr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ina ny tonto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orimaso ma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, ry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3 – ALINA NY ANDR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gav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aho anjely ma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by hiar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, ry Raina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480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54:34Z</dcterms:modified>
  <cp:revision>76</cp:revision>
  <dc:subject/>
  <dc:title>Tiona Advantista</dc:title>
</cp:coreProperties>
</file>