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13C-1CE1-46E8-9588-0429BD55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9BF-270E-4493-83FA-3C79B958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C1C-5520-48DE-AA28-03524CB8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7B8-D556-423A-8F39-2EF10B9B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3964-9B50-432D-995B-7E519442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A1D-613D-49FA-9D87-EE5879A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D642-9C43-4875-8142-43CE07B0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D565-F622-4BCB-8FF3-2CCC4058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2427-3151-4112-98DC-8FD2A50B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E7CA-0037-4D17-B98C-500FBE32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84C5-13C5-401E-B455-DDF2F9E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43B-4DAE-4BAB-BF88-CB08DBC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C004-3EB2-41C3-A6D1-08914B4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7B4-D2A3-4DF4-B5C5-C4E4AB20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DAD-ECA1-49F7-81D1-470A6B88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4A31-3D10-4883-AB98-179FDEAC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AC8E-A9C5-4042-A896-067E55A6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A47-F29B-4069-A4CE-DA5F405B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1C7-CB8A-4A2D-AA42-2C1FF6F6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414-F2E6-4785-B9D6-7F38AC1D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247-F020-4077-A94E-1A47051E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C41-7B77-48EF-BE28-FE091FC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292-D4FF-44FC-A558-527B154F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B84-20AE-4742-99F6-EDB7DCD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21AC-CFD3-4D28-91B1-9CE3AEE3C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EA3-A2BF-4DC1-A6FB-83480FF836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4 - JESOSY NO MANJ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S. Razana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De Fellembe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4 - JESOSY NO M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no manj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y am-po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o koa h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ilany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ndao ny lanitra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tady ahy mp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antso, niangav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&lt;&lt;Mpanota ô, avia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4 - JESOSY NO M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no mib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ain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eony no heno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rany,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aroako dia tsar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nanatonan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teny tao am-po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&lt;&lt;Izaho Mpamonjy tia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4 - JESOSY NO M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no jer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rany,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iany no ata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am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ba very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manolo-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efa voavonjin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ran’ny fanek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4 - JESOSY NO M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mito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ako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ny mits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hini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irery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&lt;&lt;'lay fanekena&gt;&gt;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olom-boa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Hisatro-diadema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08:07Z</dcterms:modified>
  <cp:revision>115</cp:revision>
  <dc:subject/>
  <dc:title>Tiona Advantista</dc:title>
</cp:coreProperties>
</file>