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930-4908-4EE0-8CF7-4E8A95F3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12B-CF96-4932-AC94-C04ECA21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59C-EDEB-4C29-B1AD-46FB1D7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D63-1B38-4EAC-9C95-A47D9552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614B-DC73-42AF-B52E-0271DA2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0AA-0383-4F4D-A5B7-40DF9C9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1275-A617-492A-8311-9792A017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C7F8-B2C2-48A2-9732-82C8EF6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03DD-06D8-4C34-AEDF-CCE9C83D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3695-1DFD-41F3-84EE-B8FDFAC2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7D3E-5B47-450E-A600-ADD225B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A6D-1B4E-4EB7-8517-94DEDE8D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A7D-D203-48DB-BDF7-2E1DBEC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90B6-45FC-44CC-A586-7C86955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48D8-CAA2-4453-A82C-2FB4C732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A16-335C-4461-9051-C47DFB3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95F4-06B3-4B3B-8013-33B56A75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6C7-D32F-45BB-8684-3F714EA1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28F-995A-4A55-BA12-5118CEC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83A-C3B2-4330-A04A-8D0C0C03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FED-83C8-40B3-A5FE-C115A427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1E4-D2B4-4D7C-A684-93A1837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A68-15F2-4E7B-A292-13DCEEA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DE2-FF8B-4082-BB02-E9F4C66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7357-4684-41F5-9C99-E3B32D783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7B89-6A9F-4B59-8DEF-50E9470A1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Kurt Kais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7 – NY PITIKAFO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7 – NY PITIKAFO I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pitikafo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tonga afo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ety haham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evona ny al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toy izan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'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nandramanao f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ba hafind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7 – NY PITIKAFO I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ahagag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 lohata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simok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zo 'zay tsy m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toy izan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'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elona sy han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mba ti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7 – NY PITIKAFO I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re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faliana tsap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rais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'La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be fitia tsy ho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iavany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sapanao mantsy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findrana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08:25:31Z</dcterms:modified>
  <cp:revision>88</cp:revision>
  <dc:subject/>
  <dc:title>Tiona Advantista</dc:title>
</cp:coreProperties>
</file>