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38F-106E-4143-A8E9-4E8A0CA6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9DC-9DD8-48D4-A108-FF95A299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C9B-AF1D-4CCA-B045-DD02EC25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156-98D2-4F01-93FE-CADC3A97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C6E4-0438-4448-B21E-2DDBB464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DA9B-10FF-423C-928B-94FBAE01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EE7A-0D46-41CC-AAAE-1FC9E583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EBE3-D7A4-42BD-AC4A-A5F6CEBD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340A-6A94-4004-9EC5-C2A4F1BF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4D2C-594F-47AC-BEA7-75A335E2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95B4-2A18-46DF-B717-5CE60700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A4F-4E3F-46AE-8D5D-9EA259AA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A803-1A18-47ED-BE15-7F3770B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939B-55EA-402F-91E8-30378AAA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AEC1-C008-497C-9E36-FF3A226D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B78C-59EB-4D79-AAC8-A990C3FB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A053-7596-4759-9925-084C5090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6E5-5EA5-45C2-9654-D306CC47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7D5-2D8A-46E8-9D96-402D5BED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7EE-6EB0-461A-A931-91754014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EB2-9054-44FD-914A-288ABA4F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68E-56A7-42BC-AED0-141CAB07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08B-4823-4C21-B37C-A328700F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222-A179-498A-816F-0E5C2B5C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2732-94C2-4B9F-925C-B278828105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379B-215D-4A04-8C0D-CB8DD385A7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loran-tena sy fanir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2 – ‘LAY TANANA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2 – ‘LAY TANANA MAS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tanàna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efa tazako et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irapiratr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mahaman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oharano m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jao mandefa antso ho 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ia ianao hiala sasatr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2 – ‘LAY TANANA MAS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ao hody e, andao hody 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mba varian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sy anjaranao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ao hody e , an-tanàna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y anjara tranonao any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za omenao olon-kaf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2 – ‘LAY TANANA MAS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tanàna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efa midina ho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Mpamonjy, 'Lay Mes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m-bavahad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ramiran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ika hampandroso a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oa ve efa tsinjo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2 – ‘LAY TANANA MAS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tanàna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na sento na tor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fij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fah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eha isika izao hank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za mba varimbarian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 ! Andao, Jeso miandr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13:18Z</dcterms:modified>
  <cp:revision>87</cp:revision>
  <dc:subject/>
  <dc:title>Tiona Advantista</dc:title>
</cp:coreProperties>
</file>