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CB6E-C2BA-4DBB-9F39-F7A4429AA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BCA4-502D-4703-A146-4B1F76C4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8986-7575-4B04-8AC7-EDE686D13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28CD-8497-4D69-B9C9-7AE75D881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A5C9-745F-4458-9A1E-260F6291E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FFBD-F06E-4F27-AEC8-BA750C65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8F4D-29F2-41BA-AC03-7E7CBF4E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3908-8C88-4BAF-8120-342E8D57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1C46-5DE5-4B24-80D0-0B3CEE96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96E5-12A5-43E8-A998-8B9E1B54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50F4-5A0A-4C96-97AB-C170DA0B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1E88-A2E2-45FE-9AD7-94B25687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AB6A-F98B-407C-A77B-ADA2902A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E7A4-7D96-4D13-94F9-F7501441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E39B-9914-4634-836E-A492697C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7591-4C56-4AC1-832E-A038395DB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A6BF-5C77-491E-ADA0-520030EF5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6083-7F2F-4650-8029-B29A96DC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60A8-3283-4270-9939-276795CC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FECE-FC17-4AC5-8367-AF0CEAC9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2ECF-F584-4573-A39A-BFDFC613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D23F-B8C9-46E6-870D-F7E25E1C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4D40-F8BF-47BD-8461-6FD2D1F1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1CEF-75BB-4D03-AF85-7246E69F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7B91-E4D1-4090-9398-6A94C152B8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440A-252D-4592-9B66-D1C9968A4C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terarivel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(Tsy fantatra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42 – FANTATRAO VA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42 – FANTATRAO VA 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4)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Fantatrao va re, ô ! Ry f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3, 4)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Ny làlam-pamonjena maminao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Loza marobe no mbola hanj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devona izao rehetr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42 – FANTATRAO VA 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Ô ! Henoy izany feo mahe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ba hitandremanao ny didin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ny mpino ihany no tsy ho ve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lehibe ny tombambidi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42 – FANTATRAO VA 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4)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Ny Sabata no famantar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3, 4)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Tombo-kasen'ny olo-masin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firaisana, fitsahar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ba ho anao izay horais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42 – FANTATRAO VA 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4)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Mikaela no azo anto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Feo 3, 4)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Ho aronao nasiana marik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Mpamonjinao efa nianto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ny tena hery mahasari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3T07:53:06Z</dcterms:modified>
  <cp:revision>78</cp:revision>
  <dc:subject/>
  <dc:title>Tiona Advantista</dc:title>
</cp:coreProperties>
</file>