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7A7-818D-4AC8-BF48-CED43278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A20-1E7B-4873-8CF0-B8DD49D3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6E0-D868-4F95-BE4D-103BE51F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62F-9729-40E1-BC25-2C040830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46C7-9AFF-4EF6-868E-653D88F2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1105-B06E-4799-A0C1-33AD3833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B6F-8BBD-420D-BB1B-445CBCC0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B941-11A4-491B-8F78-A0B1686A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743-4C78-4FF4-A871-EE5F6E26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497F-ECBE-4444-AB53-41A9AFA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02C0-2F19-4679-AB97-D0131B3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D87-D0DC-4F49-8649-2553D41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018-42D5-483C-92FF-318B2FF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D3C-D527-4FC1-81BF-DF39293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539-A960-4F2C-A85A-A8BB662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B699-0624-452B-9490-97F4A497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EF33-0776-448D-99FF-52B44C46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90E-DB9F-4BF1-A726-DB2CF781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C7A-C07A-451D-B405-8D9932C8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D4F-C261-49F1-9241-97ED1E1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B81-9830-4541-A0B8-53F35F4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7DE-0F91-44DD-9C81-2DAFD867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0F6-04EF-4F3D-97F4-A8A3EDC9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5FA-D7A9-4CF1-8E4B-91CCEF9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D6B-9D0F-4058-BCBC-A3B48DD5F3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1E2-4D6F-457A-970C-C817007E92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1 – TANO AHO, RY TOMPO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21 – TANO AHO, RY TOMPO ANDRIAMANI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aho, ry Tompo 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ako rehetra no ome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koa ny foko ho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sambatra izay m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21 – TANO AHO, RY TOMPO ANDRIAMANI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ilaiko rehetra an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nao ahy ny fahaso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dananao iainako tokoa Jes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nan-java-mahory 'zay e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21 – TANO AHO, RY TOMPO ANDRIAMANI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fahoriana sy ny 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fantatr'izay mitoetra eo akaik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sy misy loza 'zay mety h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miaraka aminao ka t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21 – TANO AHO, RY TOMPO ANDRIAMANI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batra izay 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miaraka aminao sy tan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faliana feno toko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ria izaranao ny fiad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3:00:27Z</dcterms:modified>
  <cp:revision>87</cp:revision>
  <dc:subject/>
  <dc:title>Tiona Advantista</dc:title>
</cp:coreProperties>
</file>