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DFA-A22B-4553-8DA2-A9A73425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F5D-BF89-4F5F-B71A-9F228550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7E3-41B7-43FA-ACB4-47AE2164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048-D159-4686-9CF2-6F0FC930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2AF0-6BBE-465E-B9F3-DEED8A93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90E8-C339-479C-8195-AD12B04D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22A-16ED-4D39-BD61-FE7C729C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5D04-3460-4B3F-9477-1BA7DF7C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6047-C6D5-4EB0-9AE1-871AF1F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963F-02F7-4D1F-9C35-AAFC0322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DC99-0BE4-4CA7-A273-136221C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E8C-5437-4978-A402-0A3E0545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2CDB-9BC4-448C-B45D-904C14E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412F-DD92-4D23-8990-C68E147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E478-9598-4AEF-9988-86117045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4E91-2481-4D34-8D1C-E53F01D8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F96-0AA4-455F-A667-7405AAF1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84E-BD7A-4485-A89E-5A769F8E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0CA-8713-48A2-BBE7-D43E464F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B5C-C8BC-4DC5-A82F-D64A8917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D8E-D029-428D-A774-6745CD70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F61-A67F-4DB5-A167-13C3666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FF7-2931-46DC-AB85-7E08C05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B38-DBE4-4A90-AB62-595810B2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CFC7-AC1F-4FD1-BED5-294D41FF84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1994-A5FE-4D93-B7C3-138E996E2B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tsimih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tsimih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4 – Ô ! ATSANGANO IZAO NY FANE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90040" y="5435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34 – Ô ! ATSANGANO IZAO NY FANEV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antsangano izao Ny fane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joroa, eny, mijo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Jesosy izao No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ntafika, e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rosoa (ry tanor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loha (ry tanor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androsoa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fanevanao, (Jeso fanevanao tanor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690040" y="5435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34 – Ô ! ATSANGANO IZAO NY FANEV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ambarao, Ota avel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vitao ny adid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didinao efa ho r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joroa (ry tanora ô) Misehoa (ry tanor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joroa, miseh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torio ny Tomp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piteny hitarika eo al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mitsangàna, tori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690040" y="5435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34 – Ô ! ATSANGANO IZAO NY FANEV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o tontolo izao no hale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ikina re ny heri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dy sarotra manoloan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ka ho vonona re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barao (tanora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lazao (ry tanor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barao sy 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Jeso fanevana, tano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690040" y="5435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34 – Ô ! ATSANGANO IZAO NY FANEV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o Izy anio, lainga re ar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maso koa fadio ; (Jesosy no fid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sà (ry tanor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sà (ry tanora ô), 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sà izao, mivonona, miaing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maniry hitarika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mitsangàna, torio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el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ho av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Tompon'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ofosa re, ô ! miez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miezaha f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torio (tanora ô !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torio (Ry tanor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o re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34 – Ô ! ATSANGANO IZAO NY FANEV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690040" y="5435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34 – Ô ! ATSANGANO IZAO NY FANEV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Jeso fanevanao, tano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vonona ia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mana i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kaiky 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tontolo izao dia hifar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mitsangàna sy mias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90040" y="5435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0T19:46:02Z</dcterms:modified>
  <cp:revision>87</cp:revision>
  <dc:subject/>
  <dc:title>Tiona Advantista</dc:title>
</cp:coreProperties>
</file>