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A08-E8A4-4DE3-841F-2F38B1B4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23E-1510-4C66-BCD1-805EB33B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F03-21DB-4957-AF5E-E82679B3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1A9-DC1A-4D8C-81C4-D9F7B1E5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020F-2774-4416-AA77-6CAFDFC1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51C3-4427-4540-957F-E6D1EDA0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5FE6-C644-4838-8F7A-E83A4155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0CF4-38AE-4B17-986E-EE197DF0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8AC8-9E52-43F7-B657-6F0DCB32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9307-D398-4CC8-AE04-7F14E7FB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E351-8260-4250-B0A0-F1CB1EAE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23B-C0DC-4A92-A35F-937A6BEB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0C2A-29CF-4672-8730-57E2EBAA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C973-6E7B-44B1-ABC5-03C3629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7B66-4877-4149-8801-228DFCAE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43A3-D8FC-4BC1-B69A-2A9650E3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5049-C0F2-4AC6-AA0C-9FA185C6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B79-11E1-4722-BBEE-240D79C5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E14-1A6A-44D6-9C9D-383B466D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784-4AE9-4806-9FF4-DA2DDCCA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8E3-9F9F-462E-9FCF-0BB73389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31A-7AAE-4811-B401-C698CB1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980-2500-4BC3-914E-946CD66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8CB-FEB0-4C58-A44D-8FE32A7D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3B7E-C1BF-4337-89F9-8C83D8296E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2764-0431-4F53-9F9A-CD00B7F3FB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osie List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34 – FOTOANA TOY IN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4 – FOTOANA TOY IN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toana toy inona no efa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amin'ny niara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resahanao tamin'i Jes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borahiny t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tsiambaratelo ‘zay nafe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iadanam-po no nome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4 – FOTOANA TOY IN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Ekeo re Jeso ho Sakaiz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Izy hamonj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4 – FOTOANA TOY IN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toana toy inona no efa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amin'ny nahatsap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ivavaka nitalah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iky nandritry ny al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anao maivana ny en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ntinao teo amin'i Jes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4 – FOTOANA TOY IN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toana toy inona no efa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amin'ny nahala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nona ny hihain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maly ny vavak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ba mahafoy fa Sakaiza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ntana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35:15Z</dcterms:modified>
  <cp:revision>61</cp:revision>
  <dc:subject/>
  <dc:title>Tiona Advantista</dc:title>
</cp:coreProperties>
</file>