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333-A2B0-4986-A355-8D7C63FF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934-8F49-4F06-BF1A-8AF7F0B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DC3-0AA5-495D-B404-3AE045E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3CC-0229-491B-B2F8-C799CDB3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A49-B2F8-4A3C-8826-D61CE48A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FEF6-0983-4478-BF6F-7292063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807-6745-4E57-9F13-F18CCBA7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D3FC-1B39-4546-98EB-9C9FDF4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102-BD56-433E-B7EB-DB19448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3F8-594F-499C-96A4-21A0558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2FA-96EF-48FA-B7BF-CB5CB6F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663-9D7F-47D4-BD37-778421E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1C37-9550-412A-86B6-8B59172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BEC-0DCC-4CD4-9A4D-827AF40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AFB-7FE6-42AD-B896-55A5844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03E-96D7-4545-84B3-05DD9A8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311-FECD-4228-B9DC-9A831421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108-D6F8-4DD4-A73B-0876D489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F87-735D-4BD5-BCE4-8E41A308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C68-A6F1-4925-AC02-7ED613F5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100-EE73-4896-9AD4-44019CD1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214-3F33-40E2-8CA8-FC26999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2CB-CA1A-4D6C-85FF-17273E4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7CA-C3BE-4B46-85E0-6D728AF2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5AAD-596B-4903-9B92-393A887BAA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AA2-9102-43BB-A127-8045F9B7DE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oy Pendlet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6 – MANDRERAKA IZA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6 – MANDRERAKA IZA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eraka iza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vitra n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ly aho mihi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anjely momb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otsaka ny haiz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-raiki-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ly aho mi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anjely momb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6 – MANDRERAKA IZA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Izy no mitan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o sy mit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-dia eny an-dà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sy ny anjel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amako mety h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dia ire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ly aho mi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anjely momb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6 – MANDRERAKA IZA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la tsy ho z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ntana izay ent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zo hery aho ka 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anjely momb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semban-drah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androm-p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zo hery aho ka 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anjely momba ah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izy, sns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6 – MANDRERAKA IZA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rano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n-tendrombo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tahotra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anjely miambi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mifar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hinia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jely miambi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50:13Z</dcterms:modified>
  <cp:revision>70</cp:revision>
  <dc:subject/>
  <dc:title>Tiona Advantista</dc:title>
</cp:coreProperties>
</file>