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D4B3-AE82-4E67-903B-02D6D963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E201-B276-428A-8573-BC8512D3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2205-5E7E-4D19-96C9-0A5603C2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7742-0920-4445-912D-05DAD868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99A5-2526-4551-ABD9-CF6761C2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E30A-F821-4B74-8ED8-A7E83783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49F1-F2F4-49B6-B5D6-9DEDF150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A76E-17C7-4F89-8397-B02B0AC0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3292-4298-4D25-B508-841318A3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17F8-78DE-44B2-BF94-88E89AB3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E3C9-1BF0-464A-8FEE-EE5C9E05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6C0C-3428-4738-9C51-C41AC475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4081-5423-4E20-9137-78FFF345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9A6F-D34B-4A15-9CCA-7066857A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2080-F904-42D5-A89C-96D99DBE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9430-5C11-4377-9A00-03CAC430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9317-7439-4458-8F7C-A63E031C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A3CD-D882-4CAF-AAEA-6999C706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A027-482E-4BE9-8B33-1FFB7376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A6FD-8278-493E-9694-6A911A0B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E2F-709D-4067-AA77-7AF3A570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04E3-1523-408F-A296-C1F2A114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8B0B-5A2F-4BAC-A1CB-8481AFBA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FB1-46F9-407A-BCE2-01667CDA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8155-6DF3-48EF-8AB2-26E1063D53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F30E-C5A5-42B8-964A-96196CAE2F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ymond B. Rakotondrainibe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O. Excel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HL51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40 – DERAIKO NY ANA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0 – DERAIKO NY ANAR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iko ny anar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iko mba ho re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fitiavan-dehib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etren-tena tsy fand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etren-tena tsy fand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0 – DERAIKO NY ANAR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'ANDININY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Jeso,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iko ny anaranao 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0 – DERAIKO NY ANAR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avy ny marain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dinoko raha vao mif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riva rehefa tonga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ndratra Anao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ndratra Anao r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, sns </a:t>
            </a:r>
            <a:r>
              <a:rPr b="0" lang="fr-FR" sz="3200" spc="-1" strike="noStrike" u="sng">
                <a:solidFill>
                  <a:srgbClr val="00ccff"/>
                </a:solidFill>
                <a:uFillTx/>
                <a:latin typeface="Corbel"/>
                <a:ea typeface="Arial"/>
                <a:hlinkClick r:id="rId2" action="ppaction://hlinksldjump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7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0 – DERAIKO NY ANAR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Anao tsy tap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'zay Mpanaf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arotra ny làl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mahay mitan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mahay mitant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, sns </a:t>
            </a:r>
            <a:r>
              <a:rPr b="0" lang="fr-FR" sz="3200" spc="-1" strike="noStrike" u="sng">
                <a:solidFill>
                  <a:srgbClr val="00ccff"/>
                </a:solidFill>
                <a:uFillTx/>
                <a:latin typeface="Corbel"/>
                <a:ea typeface="Arial"/>
                <a:hlinkClick r:id="rId2" action="ppaction://hlinksldjump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4" action="ppaction://hlinksldjump"/>
          </p:cNvPr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5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7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0 – DERAIKO NY ANAR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954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nja sy tafiotr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sy hisy ataho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efa voalanj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baikon'ny t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baikon'ny t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, sns </a:t>
            </a:r>
            <a:r>
              <a:rPr b="0" lang="fr-FR" sz="3200" spc="-1" strike="noStrike" u="sng">
                <a:solidFill>
                  <a:srgbClr val="00ccff"/>
                </a:solidFill>
                <a:uFillTx/>
                <a:latin typeface="Corbel"/>
                <a:ea typeface="Arial"/>
                <a:hlinkClick r:id="rId2" action="ppaction://hlinksldjump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40 – DERAIKO NY ANAR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bara-piavinao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nga sy handray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aonay ny sitr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inay ny ana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inay ny ana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, sns </a:t>
            </a:r>
            <a:r>
              <a:rPr b="0" lang="fr-FR" sz="3200" spc="-1" strike="noStrike" u="sng">
                <a:solidFill>
                  <a:srgbClr val="00ccff"/>
                </a:solidFill>
                <a:uFillTx/>
                <a:latin typeface="Corbel"/>
                <a:ea typeface="Arial"/>
                <a:hlinkClick r:id="rId2" action="ppaction://hlinksldjump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01T22:28:29Z</dcterms:modified>
  <cp:revision>29</cp:revision>
  <dc:subject/>
  <dc:title>Tiona Advantista</dc:title>
</cp:coreProperties>
</file>