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B14E-07EF-40C9-9427-01A04244B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FB9E-CDE5-4402-9F3E-770FD902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B59A-E865-444B-9179-C8E8AB43A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678D-3A15-452C-8E0B-ECD128D88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0A6F-1488-4378-9570-5582C3778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ECEE-E504-429A-A535-6161DEF3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E3A3-1518-4435-A493-F2447B77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9080-382D-4FF3-AC11-3B3BFEA8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753D-5969-4980-8C5F-A4FA73DD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652B-A96D-45FB-B687-8FBDA589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62A4-371B-45F0-A6D5-67EF21B8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11E2-5A0D-4E6F-B93F-3E7E85A7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338B-27A8-4772-9347-21515A84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4D50-2C2D-4223-8838-C0844BC8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265A-592E-462D-87FF-A10FC54D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10D4-8349-44FD-9F0E-527A3386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94FF-D68D-470E-A48D-2DEE6CDD3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E248-DC4B-4AB1-BBAC-38E2A72B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2BF5-AB89-4F25-9807-D8BF84AF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7FC6-5F79-4FDA-99AF-86952643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413B-8B9A-4C12-87BD-13B203CE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EDB4-DBA8-4FF3-9F80-476A4153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042B-A05B-45DF-88F2-D43A53F2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5B8E-00F0-4F63-BB0F-70173623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A9E7-D585-4289-A080-9074AAC62C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D6BF-FCCF-48BA-A300-DE1528185A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TENYN'ANDRIAMANA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anne Ratsi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Old Melody - Mamy J.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92 – HE ! TOY NY TANIMBOLY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92 – HE ! TOY NY TANIMBOLY S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, toy ny tanimboly 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, ny ten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vonona hitady m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zo mioty 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oninkazo m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erovero 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jary amboara fatr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ome aina 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384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92 – HE ! TOY NY TANIMBOLY S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a kintana mamir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ninao Krist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e mandefa tar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silo 'zany d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sabatra mar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anafih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babo ho ao an-d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 manaik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577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384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192 – HE ! TOY NY TANIMBOLY S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iriko, Tompo 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ia ny teni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taovam-piadiana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enti-miady 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jiro hanazava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-dàlan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arika ireo fan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ndany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384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8:36:32Z</dcterms:modified>
  <cp:revision>41</cp:revision>
  <dc:subject/>
  <dc:title>Tiona Advantista</dc:title>
</cp:coreProperties>
</file>