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AA4-0FD1-46CF-A816-82C05D7A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8EE-9F80-415E-BEE4-5C11C790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AB2-FF30-4D21-A07D-DC931CF5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01B-EAD7-4964-BD08-86EEDD88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F8EF-A433-4878-8D40-65D1E727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2467-B958-4FF0-B46B-11BC627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4591-767E-4B42-8841-90E28BFB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F774-299E-47F0-A5DE-8E6B05C4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85D5-3B17-4C0A-A1E3-E172B74A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63A8-1E7E-4030-8CA8-15A690BA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9AB0-2317-44D8-9CDE-D936B64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A1B-6118-4A19-84DF-73096A42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7095-9E4C-4114-A8CC-98DC9D51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9155-AE12-447E-90AB-F6E8F8D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E8AE-B17A-4E9D-AAF0-613BFAEF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83B9-CF09-4B6D-A898-8DBAB962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0EA-AC6A-4161-91C0-47777EDA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080-00EB-4E06-90AA-85958A4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521-B18D-4C10-9833-12F14E3E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4B1-AD9B-454F-86D0-199AE7B3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812-004D-4EAC-A0B6-AEB2ECA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2D5-E3C9-45EE-A8F7-DFB2A8D3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CE3-1B3B-46D3-B8CA-6DE332B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A80-794C-43D2-9F09-F914848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46EE-6E1D-462E-B376-1F5BE8C5A5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69AC-5117-48F9-937A-DB78605DF7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ndriamandimbi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8 – O! RY MAHANTRA SY 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8 – O! RY MAHANTRA SY 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mahantra sy 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vidy ilay volamena vo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n-kare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8 – O! RY MAHANTRA SY 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y, ô, voh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Vohay ny fo ! Vohay ny fo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y re honen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y ny fo anio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vohay re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Vohay ny f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8 – O! RY MAHANTRA SY 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alahelo sy jamb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itad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mana odimas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ahira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8 – O! RY MAHANTRA SY 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njaka ve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Jes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e fitafy fotsy sy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ehoan'ny hen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Jeso no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angavy, mifon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vohay re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8 – O! RY MAHANTRA SY 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49:45Z</dcterms:modified>
  <cp:revision>61</cp:revision>
  <dc:subject/>
  <dc:title>Tiona Advantista</dc:title>
</cp:coreProperties>
</file>