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015-0F87-4B9A-95F2-73D73C1F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1F6-FFC9-48FB-9B94-D26F00B7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5C2-E81A-4BAF-BF72-630275FC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BC9-A59B-42B2-9001-F57A2EF0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BA0D-90D5-40CA-A64B-50E69017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7D9D-BAF8-4190-8048-BC2D1AE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361-5B68-43D7-8525-35DCFAC8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3E5A-5307-4810-AB99-ABDDA522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276A-EDB2-4564-B327-7AD4874C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C0CB-B7C0-44D3-B67E-9631703A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98D5-727C-4292-B07D-4183ED4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F79-4E01-4C1F-8141-0D428522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D47A-11A6-4984-A032-639F179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971E-BC5E-4FEC-B8A4-FC5E27FF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54CF-757E-4A48-9F3B-CA399AB5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6386-9736-49F1-A120-23411212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4E63-F158-4918-A4A2-6A2C2B71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172-B53A-4CC7-9173-2A330113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A83-388D-4EE6-8BE6-48AF1C6E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597-5DB8-47A0-B3F5-81AC28EF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FE5-9329-460F-8F46-758067D3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CB6-3E35-4AB4-A803-82276F7E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211-C0F4-4BCE-ABFB-0D4A09D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D45-18F0-4DCF-A76B-1254B018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0926-D492-451A-838B-2A751F97BC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4CB8-758B-46D7-A780-42F19FDCBD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findraman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zafindramana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41 – AVY INDRAY TSY HO 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916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916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1 – AVY INDRAY TSY HO E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Avy indray tsy ho 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'Lay Mpanjakanay 'zay andrasan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Ka tsy kivy ny fonay na dia mafy ny manjo ety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Sarotra ny alehanay nefa kos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Ny tanany no miaro anay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Izany no toky sy tanjaka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Fanoitra tsara manan-kery ho anao ety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o avy indray tsy ho ela 'Lay Mpanjaka so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Vonona tokoa ny ham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Ireo fonao izay tsy mahas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875916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49800" y="543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1 – AVY INDRAY TSY HO E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'Zaho tsy ho tafan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Na hatory koa, na hirondro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Fa hiasa hatrany hanazava ireo namak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Jesosy Tompo no anton'ny 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Ka mampientana ny fana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Fa soa ny fanantenana ny fanavotana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Izay toky hifaharanay tok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Ka 'zaho tsy mba hangina na hatory ko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Fa handeha hiasa hatr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Corbel"/>
                <a:ea typeface="Arial"/>
              </a:rPr>
              <a:t>Hanambara fa avy Je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759160" y="5869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49800" y="543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3T07:47:23Z</dcterms:modified>
  <cp:revision>78</cp:revision>
  <dc:subject/>
  <dc:title>Tiona Advantista</dc:title>
</cp:coreProperties>
</file>