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0B0-23F8-42FF-B676-3611F475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008-65ED-4B2E-AAB7-215A587B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850-B6CD-4DEF-B873-16514DD3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203-64F0-4EE2-BD04-1A31186C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50EB-AAD7-41D2-8177-FDF212EF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EE76-7DDF-4BAC-B527-881C8626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0AB0-2590-4D61-90DE-C1433BE3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D4FF-DBDE-4AB5-8884-B73EBA45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D199-FF00-423C-BCA6-137D135D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117A-7775-43A3-9803-323068A4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556E-8A09-43A1-B0E7-C43188D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6DC-BB5F-45E5-ACD1-3ABE4276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B8D7-B826-40ED-9A90-39852538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7D29-767B-4C8B-8AA8-2E78633A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014D-9484-48A3-887B-6A666DE2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3F15-635B-4999-B844-390F309D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0D4D-EF5B-4CD7-B54D-39123830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937-835D-4560-80E5-DBEFDBDD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6FE-4B52-4B7D-B30E-CB7E88DD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3C1-D519-4D17-9136-7C3EC7F6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46D-F8A9-46F7-95F2-6B21A989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7D9-9166-45BB-B081-6D10D62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693-FD73-492D-9B02-159C72F9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F44-7B5D-4271-A118-8C280B0C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675-F2F4-4AD6-B75D-A9A91A861A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7D41-833C-4912-A84C-D379CAFE45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tsimihah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tsimihah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26 – JESO ‘LAY IN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6 – JESO ‘LAY IN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'lay ino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pamonj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velom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diako hatr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vimbin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Jes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6 – JESO ‘LAY IN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deraiko lalandava ny fitiav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loko nesor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y no natol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deraiko lalandava ny hasoav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ino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6 – JESO ‘LAY IN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'lay ino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ty am-p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y, tok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sandriny m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tan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Jes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6 – JESO ‘LAY IN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deraiko lalandava ny fitiav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nositra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àlako nalam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deraiko lalandava ny hasoav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ino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'lay ino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'lay m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pamindr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oko han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6 – JESO ‘LAY IN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26 – JESO ‘LAY IN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deraiko lalandava ny fitiav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mba ho avo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isolo ny he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deraiko lalandava ny hasoav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ino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63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577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38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7:48:12Z</dcterms:modified>
  <cp:revision>35</cp:revision>
  <dc:subject/>
  <dc:title>Tiona Advantista</dc:title>
</cp:coreProperties>
</file>