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B76-C7BC-44F0-8A7E-45EEBAA7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2C4-A645-4BFC-B2A3-320ABF28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31F-6D78-4D66-B1BC-7A915A70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914-245C-48D1-8B8D-792F9694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F28B-4ABD-4DDF-A83F-252D276E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3E2-756F-4546-B7CD-9A5B5DEA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C210-05E0-4D17-B5FF-3AAFF48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E920-E056-47F4-AB01-EEED63D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E3D7-FB67-4471-9258-79D03DC8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4E25-7980-4B29-9F06-9E3C06AB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2068-E751-461D-9561-CDC9A72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603-BD0E-4DD6-85D7-B60BA4A5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9349-550A-45F5-ADE7-58EA4C7A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DCFE-DBB5-48D5-88DA-6115D05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8FB5-C34E-45A7-AE31-6A551C6C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7781-CE26-49E1-B11A-666CEDFD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8EB-A4D9-4A1C-825D-87A386FD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FED-0147-494D-889A-0CD0941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9EF-5CF3-4121-AACE-19C0A4FE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A77-E921-40B6-8C89-07B32ED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487-5202-4CDC-AA90-C0021945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E18-906F-4E75-8386-A33EE88A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C23-2A1A-4648-AEFB-DB2C37A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E8F-3DE5-4828-8F72-9333FCF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867-D521-4434-9B5B-83903CD8D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459-902C-42DC-9225-1D8B06321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7 – HENOY ANGE NY 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6284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7 – HENOY ANGE NY 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ange ny 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ntesin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y tafat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oako 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ra mahafin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iderana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Mes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zanak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7 – HENOY ANGE NY 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dina tety Ianao, Tompo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nay fa ti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iky hisolo voina 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ha ho avy indra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an-danitra avo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hira izahay Ho fider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6284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7 – HENOY ANGE NY H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ho Anao, Tompo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otra sy ny haj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toko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avaka at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ider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, ry Tomponay, Fa vokatr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6284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2:34:21Z</dcterms:modified>
  <cp:revision>88</cp:revision>
  <dc:subject/>
  <dc:title>Tiona Advantista</dc:title>
</cp:coreProperties>
</file>