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626-732A-4515-8CD2-A700050A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EC5-53F2-4563-BBDE-62CECABD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566-0FA3-4952-B945-BDF28FA8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BE7-6FB5-4965-B600-9390AEC2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265B-F14F-4C04-ACFA-D92E7164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E69-F6E7-4CA6-BE46-3591A7B7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B5D8-EC11-4664-892A-C12EC1CF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C7C4-C1C4-4190-9C47-837AF17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5E82-0E79-4F14-80AD-31E93BB2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3330-C581-47D5-A713-DA72DC24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B82-4879-4CF6-A931-7AFC49C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47C-E14E-4E44-904D-F7E442C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F4A2-A186-4694-9BD3-3591D48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5F3D-DAD5-4C87-B90C-91061A8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BBD-4751-4518-A994-C58BA15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760A-179D-4733-B949-0703BD19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0DA-5847-4843-83C3-BFDFD876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51F-CD91-471D-B528-B76C0838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9B1-E28A-4F04-BD3F-571D169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E15-CE71-4864-95D0-44FDF18E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475-0CE5-4685-BEBC-AFE3CD0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F55-0C35-4734-ABA8-B6C26B7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7C5-1065-4FA0-AEEE-23CBA80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93E-C55F-4787-83F3-A423578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0ABD-EEFF-4E3F-BCCE-D240FEF5E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23F-3D72-4C8F-B594-A0743F3C7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eorge Bever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8 – MAHAGAGA NY ASAN’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8 – MAHAGAGA NY ASAN’N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re ny as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sy ny al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haga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iako mba ho 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itiavany lal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8 – MAHAGAGA NY ASAN’N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loat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nto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v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adas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eza, miha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o ahy s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8 – MAHAGAGA NY ASAN’N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re ny as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y, mijinj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haga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hagag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atra be ny voajinj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58 – MAHAGAGA NY ASAN’N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gaga re ny as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amelan-kel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fate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ambin'ny ot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aina no atol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81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7:23:38Z</dcterms:modified>
  <cp:revision>29</cp:revision>
  <dc:subject/>
  <dc:title>Tiona Advantista</dc:title>
</cp:coreProperties>
</file>