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6DF-DCD6-41BF-A647-853A4A26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FF4-E789-47C2-837C-8D261FB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378-089F-47F6-8B3B-90A5DCE2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426-6BC2-4912-AFB8-547DFA5D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CFD6-9DBB-4945-917A-D4441E23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598F-8510-4D62-A761-F2E98C41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A794-3DE4-4CCC-A3F1-E4BEE6F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F17-1B29-4D9D-BC84-3FA855C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CBC7-155D-4973-AB84-5AA74158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C1CE-6052-4DA2-B162-5B672577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180C-ACB3-42C2-B34D-9D28FF9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54D-3B95-48E4-A948-4B31EA9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520C-E1E6-4941-930E-2FD7F83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8D8D-AE50-4014-A89E-48EED84B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0BBE-272B-4FF7-A550-44FFB72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0B6D-9889-4777-ADF1-75EB2A40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60C-9A92-4D35-80AC-60E2B839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0FF-30B0-46D6-B338-78656D0D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DE5-8902-4E4B-829D-B806DA96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3FD-0156-4978-8D28-8B50687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D43-3970-4AA0-ACE3-F1E93846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BE6-B224-4A4B-BF3D-267FA9D4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B42-B926-48DE-89F6-F3E5AA2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64C-1439-4906-A878-F42DF52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F58-DC01-49CA-A575-A49041789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9D7-5D41-4181-9799-E3737E78D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omposite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0 – NY FITAHIANAO RE, R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0 – NY FITAHIANAO RE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ao re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arotsahy aminay et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tsorankazo manitsy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nay Anao ka avia mba amp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0 – NY FITAHIANAO RE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'zay Mpitarika tsar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ahafoy fa mitant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 mampahery ary mamp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a ho tody ao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0 – NY FITAHIANAO RE, RY TOMP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fanenjehana dia tsy man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ampimalo ana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voninahitrao na aiza na 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ho tena vavolombe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08:57Z</dcterms:modified>
  <cp:revision>45</cp:revision>
  <dc:subject/>
  <dc:title>Tiona Advantista</dc:title>
</cp:coreProperties>
</file>