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D1E-5626-479B-A9EB-AA27D7A1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DB1-F902-4504-AD1D-6FBA5114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5F0-094D-4A32-B8DC-5074B1C6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2DA-CBC9-4842-8FB0-FDD93121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1F09-8312-40D7-BEEB-4CF3510A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4436-048D-4BA8-A633-AD00E8B2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7E55-39AB-486C-A0F9-D26CFE1F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5E18-4C68-40C8-8CB4-FE268DE4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F6E1-CEB3-479C-A7D9-5507A6CB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E910-AC34-4297-8BAC-D7AB81A0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CC4F-AC6B-43D1-B287-2FA1E70F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C29-4A5C-41E6-82C7-EBA4B7CE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6F31-FB48-492B-B0C5-E150C0C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C327-1619-4ABF-8B6C-FAA2934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D9CF-2515-4F81-9F6F-3C10815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BC4F-DC8E-40E2-B621-24A3A8AA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EC03-E32C-4E15-89E9-AE02E129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43B-3C8A-407C-B812-4A17DF06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2ED-AE48-45AD-A01D-4EBD93A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F1B-1500-480A-9EDD-091A4B9D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307-B9C8-4330-9E11-C07D57C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5AC-BCEA-4086-9E56-CC46A972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0A6-D404-4C41-8FC4-BEE6477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CAE-704C-4092-8879-D48DA710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24F1-F3BD-4A8A-B92E-504E3392C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AA89-E66B-46DE-B9E5-952A0B0ADF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uzette Ratsimb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uzette Ratsimb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2 – HE ! FALIFA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2 – HE ! FALIFA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ifal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ratr'izao Sabat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hira m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sandratra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ifal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ratr'izao Sabat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48080" y="58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41:12Z</dcterms:modified>
  <cp:revision>84</cp:revision>
  <dc:subject/>
  <dc:title>Tiona Advantista</dc:title>
</cp:coreProperties>
</file>