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42EB-3DA0-4338-8C71-9AC49AE3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BFAF-932D-45F8-9DE0-A97D0EF2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AB33-8754-4096-BD65-ADE0F963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FD1E-6E3E-402F-9390-8625769B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B2E2-F172-4362-875D-2A56A429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101B-93A7-48B3-8967-99A5C315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69D1-B151-4D5E-A836-31637E48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B342-0C67-499D-B18E-6F1D47A0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0662-AD9C-405B-8DB1-D645A8A8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000C-E0BA-4117-B66F-A5BC1948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CBE9-D7D7-4342-A806-C1CFA634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AC02-B612-4F3E-8A2F-4643DF85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B6EA-7BAB-45F4-B094-BB59686C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0BEF-01F7-4F81-958F-52CCE948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86AC-D709-4568-93AE-FA669C26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AF8E-A5F5-452C-8586-394B574F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9427-D0C8-4081-9947-5307371B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AA85-0B6B-417A-A217-9A56EB43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E55C-D03F-48B3-A119-8C2DD502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A5C2-520D-4998-A04D-26586970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3B25-2042-4074-A436-F3C514C4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DF5C-F1AE-4A08-8814-C1AFA2B5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E5ED-5E8E-494F-B25E-90679103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FDEA-F5EB-4A40-932C-E93339EE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0DB5-0BA6-45C8-93C7-0D012E326D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1E3B-E8CE-4F43-A1CF-7F1FEAF91F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11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KAIKINAO RY JESO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26120" y="59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Vonjy sy Fampion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. Rabenasol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. Rabenasol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1 - AKAIKINAO RY JESO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kaikinao ry Jeso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iriko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kaikinao, akaik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iainako mirind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kaikinao ry Jeso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tena mahafa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kaikinao mampionona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sendra ny manj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8826120" y="59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883368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1 - AKAIKINAO RY JESO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ho eo an-tongotrao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fifalian'ny fo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-tongotrao, an-tongo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zioga ho zak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-tongotrao, ry Jeso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o no arok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eo an-tongotrao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herin-j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3368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1 - AKAIKINAO RY JESO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kaikinao, anil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hiala eo intso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ilanao, anil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tena mampito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ilanao, ry Jeso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tena fiadan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ilanao, akaik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Jeso Tompo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26120" y="59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3368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02T10:24:56Z</dcterms:modified>
  <cp:revision>118</cp:revision>
  <dc:subject/>
  <dc:title>Tiona Advantista</dc:title>
</cp:coreProperties>
</file>