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79A0-26D3-4C37-B1A1-E9A26B98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DC22-CFAE-4209-B62C-40EF2F27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3948-D42B-4DF8-98E8-18EE6EAA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63CE-DE32-491E-A555-898ADAFC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C41D-953B-4044-BBB7-21F45BE6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DF96-E49B-4017-A9A9-8C995B0A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79B2-E82A-4509-ABE3-63714273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983D-7F35-441B-85D0-ADA9F999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B480-0F1D-40C0-8D81-BD808B6F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44DD-A5ED-4DBF-A522-A5BBBE1F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4839-3D04-4540-B3C7-40E9EE64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68BF-9601-4F6B-9839-99B597CF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5374-2437-40B3-A30C-ADB55DE4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4574-DB96-4E88-AA74-187DB813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F281-03B9-45D4-9A10-383DFF5D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38B1-CE4B-40EB-B625-AB3F8D7C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45D0-95F5-4D37-80D3-97F6378E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31D-D352-4335-9912-ACDDD955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9135-7954-40A3-9855-38DED728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BD71-23B6-429F-8695-E31EBB79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0414-3BEB-4136-8E1B-C5CAB12F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3FF9-E461-4175-A3A0-38D847B9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35CD-BEB0-4E61-B2E2-4CAB224E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F3C1-7B74-4631-8663-418560BB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7779-30F3-40F0-8B13-30AE3F2789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3B49-3349-455D-8C06-F323511009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ob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obijaona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37 – INDRO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7 – INDRO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Jeso, Tompon'ny 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ela dia avy indr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hatanjaho ny fo sy ny s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iky izao n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nenana mahasamb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siam-piadanam-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ovasoa maharitra, voninahi-dehi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tsy ho ela, ‘Zao andrasantsik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7 – INDRO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Jeso Toky sy h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vonona ho avy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ka ny azy amin-k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eo amin'n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sambatra, ho tretrik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manaiky, mankat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olo-marina Ary ny mahitsy f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 tsy ho ela, dia ho raisin'i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7 – INDRO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Jeso, tsy ho ela intso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ly soa sy han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mpanompo mahatok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hasambaram-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ifalia sy miravoa fa hisokatra ny l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andrao ny masona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ny Mpampaka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 tsy ho ela, avy handray ana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8:25:45Z</dcterms:modified>
  <cp:revision>36</cp:revision>
  <dc:subject/>
  <dc:title>Tiona Advantista</dc:title>
</cp:coreProperties>
</file>