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DAF-AD27-4D39-A1E1-51C6A523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9AD-8966-4253-89EF-F87428A4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960-2FE2-459D-8B4B-D7672CEE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A05-147A-4000-B17C-8F74DDAA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FF10-8F9F-4EEC-9529-67783C2C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2F22-E95F-4BF0-9790-7B820BF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C0B5-6CD5-49F8-90DB-AF3999F9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565F-F3DF-4A61-809E-F4865655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1D05-2105-428C-A035-316904FC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5D00-E025-4F58-BCFB-EF713815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AD1B-A875-4A55-B9F1-EEF3A088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AD5-0D8E-4DB6-9939-A112BA4D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06A-39C3-406F-BD2E-1CE154E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24E8-CCF3-4FA4-9B94-093BBE0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C05D-F4E5-470F-A9EB-9B976A51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882E-2E19-422B-82BB-44600B81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0EBD-9616-47C4-8893-1ACAA97B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ECB-12BE-4A3B-9C2B-A9FA02C8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5C6-2E8B-42D4-A7FE-BEC48853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321-AD82-4D08-83BF-68822427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E5A-0838-441C-B6C2-A539964E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636-C405-41C7-8E75-9B7E144B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9C1-10CF-4371-B172-AFFB8A7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5DA-3867-453E-8AB7-1620E108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84B-48C4-4D94-A942-9F3CDCEA82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E189-9FCC-4681-987E-FEFB72953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a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FFPM27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mpondance :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2 – MBA MIVAVA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0596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2 – MBA MIVAV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mivavaha raha vao m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inao Ilay Mpana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niaro ny fanahy sy 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salama to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0596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805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2 – MBA MIVAV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 re,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piar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0596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805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2 – MBA MIVAV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hefa tonga koa ny ato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O ! Miambena tsar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anangoly saina isan'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devoly rafi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0596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805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2 – MBA MIVAV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alina mangina, ka hat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ovy eo ny ota izay n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dia ifony mafy sy its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drao maningotra 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805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aiza na aiza ianao m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tana fahavalo 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za kivy na mba manjor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vavaha tsy ho vo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2 – MBA MIVAV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14960" y="486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0000" y="5249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14960" y="5630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5960" y="601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05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5:46:10Z</dcterms:modified>
  <cp:revision>76</cp:revision>
  <dc:subject/>
  <dc:title>Tiona Advantista</dc:title>
</cp:coreProperties>
</file>