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590-7A88-43CA-92D8-9634B017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8A7-96AC-4C0E-BA7E-4BDB618D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780-6613-42B8-A7B1-5CA8F97B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9CD-49F0-4BA7-9371-E6566763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469-5DCC-4E17-ADDB-FA98FDCF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511-CC81-4266-971E-3900A697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B260-575D-4E5D-AF15-B4FE6E1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19D2-E7FD-422C-83EA-A61DFA7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B34D-F2BD-4044-8921-F0B4B2E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749B-5E26-4001-9C5F-EC85BCC9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F9CF-E031-4445-8106-1AA7A15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D1-39AE-4FE8-A328-538F7A4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1025-A77C-42C5-909F-42A09D8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7CB-FC95-4276-9B1A-9AC6D9D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B29-42DE-4A7A-9350-9969E7E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AAD1-36C0-4476-8C55-C891037D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EBA6-7D97-4742-A1FE-2C4601AA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B36-E5C8-40EC-93FE-7859B222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2D3-E2F1-4EA2-9553-40B27B8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E18-019B-4B94-BEFB-1E3EA33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012-59B4-4405-9258-0BD498A9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1D3-A82A-451A-9FD8-8EBE5AE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C6D-35F8-4810-964E-3901D55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42F-B53F-4BE7-B23F-E1F98E5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35E-765B-493F-98A7-AA83BAED3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FF1-5525-4269-8AF3-DEABB40D2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ardiner L. 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7 – NA BETSAKA NY MP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7 – NA BETSAKA NY MPAN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betsaka ny mp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ikotaba ny ant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oitra ny mpirehar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no heno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7 – NA BETSAKA NY MPAN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min'ireo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ireo sahirana, trot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noana sy ma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o dia mango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7 – NA BETSAKA NY MPAN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kapoaka nisotro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hiry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eo amin'ny endri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angorah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47 – NA BETSAKA NY MPAN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toroy ny o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lana izay nizo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tonga azy ho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ilay tanàn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44:52Z</dcterms:modified>
  <cp:revision>45</cp:revision>
  <dc:subject/>
  <dc:title>Tiona Advantista</dc:title>
</cp:coreProperties>
</file>