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C95-1E32-44B5-9072-A9EC97EB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73A-7C5A-4B6B-8405-D3FA8007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791-900F-456E-8635-F8EEA9DA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D63-9B22-4D8F-9A91-DBDDD387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0F0C-44CA-4E0A-941E-6E82918B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7E34-CCB0-4DB5-A05F-76A687ED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0424-F043-401B-8910-4B2DBF5B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9971-FCB1-488B-BAF8-E4F186CF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FAE3-CF61-4AC0-A06D-489B3894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C7EA-1EEF-4205-9286-C6BDDB64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D340-6BE9-4E6B-B401-5CAE07EE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B17-1D20-4FE4-A2D3-08F97F41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A1EB-4494-4A10-AA69-2EAF03F5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A4BB-5056-4B0A-A513-C215D6DB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393D-5716-4439-8822-15D7C07E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6FC7-1408-4593-8DD0-375E2DB2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D4E8-9B22-4F5B-9098-5085230B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1C1-F986-4D5B-B22F-49C9D468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86B-6C94-4D82-8152-7AF1F5D9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CD6-BAE9-4569-AF59-D09D01AD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25F-6B13-4C09-A9A2-0FE47949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6B4-546D-44DF-BAC5-762025F7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FED-4DAE-43DB-AB7C-AA498A18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0FC-A3DD-4278-A75A-A07BA425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18E3-EAFB-42DB-907A-19D4E011AE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E436-503B-409F-961C-99F3A1CED1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o amin'ny fiangonana, fandev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70 – HE ! MAMIRAPIRATRA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0 – HE ! MAMIRAPIRATRA 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amirapirata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kazo eny an-tsa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ny endriny 'zay ten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elina sy vetivet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ho koa manda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mpivahiny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hivelomak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480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70 – HE ! MAMIRAPIRATRA 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ihintsana 'zao nofo '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imba ary koa ho 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 ho rava koa izao hit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riko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y zavatra ir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gatahiko ami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elomina ao anatiko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480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8:47:32Z</dcterms:modified>
  <cp:revision>83</cp:revision>
  <dc:subject/>
  <dc:title>Tiona Advantista</dc:title>
</cp:coreProperties>
</file>