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D15-CC71-408C-8B10-BA4A8974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BB7-EA1F-4F85-AC4A-E7E9B30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2F2-F13E-4AE4-B684-19CB87F5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A1D-5336-4BD1-81A0-C9722C9B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0BB6-E76F-46ED-B0A5-573D422A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032C-FE1A-415F-A58D-CDFA1C44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03EA-FC77-4468-83D9-7F51C569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563-B7DF-4341-B52C-1951981F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1CC2-3855-4C03-9F3C-E396A87C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AB95-C14F-4F35-9046-A1FB320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81FC-A746-4DAE-8F46-1558EFA9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DD9-E185-4E45-9E75-BAB629C3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7EEE-2287-4AEE-B414-8467049C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54DF-F680-4A78-BA46-068D0E2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A120-F9EF-4CCB-B639-095D80AD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70B6-207C-4815-899A-206158E8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F58B-7058-4E34-9F79-414F1D2C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F84-17A2-4EE2-AE51-12F8343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467-88F3-457E-96A7-D2969839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D00-32BE-4A44-AF1E-13B47988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022-F4E9-4D71-8DB7-721D6811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7F9-1B9A-47A6-93BA-BA2C014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8F5-CDD5-4814-83D3-3321DA9D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688-29A4-4C8D-8F11-1279349A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BEB-E523-4778-A8DA-6B597BD81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493F-E741-4514-BD19-625CC1851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B. Bradbu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55 -IZAHO MANATO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5 – IZAHO MANATON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manato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na afa-tsy 'lay 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latsaka ho ah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'ondry, ekeo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5 – IZAHO MANATON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lemy, mora mir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ora koa miah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'zaho ka mataho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'ondry, miarov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5 – IZAHO MANATON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, aoka ny f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babo ny fo rst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va ny anat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'ondry, ho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55 – IZAHO MANATON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panota aza 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velanao ny hel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ny te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'ondry, mba ek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12:20Z</dcterms:modified>
  <cp:revision>48</cp:revision>
  <dc:subject/>
  <dc:title>Tiona Advantista</dc:title>
</cp:coreProperties>
</file>