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63C-46C1-4733-8693-14C43184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054-7C01-49A0-B6AF-C6E61F6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57C-FF33-4AC4-9B3E-3CB22DE7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573-84CA-403A-8C2A-47BEBFCC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668-4645-45BB-88A6-A83C3062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1AED-7765-48DE-B900-6CCE724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F531-C325-43A0-A61A-A62DA785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74D4-306D-41AE-A7F9-FAB68A1D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89E6-70DA-4B02-90A4-1E4F027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F028-5018-4F8A-9CD5-A5816A49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4B2E-3353-4C03-A26E-7E47FA7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3E1-96DF-4DE7-BF91-F979C86F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119-CDEE-4870-A40E-B094D836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9999-29CA-46E8-8670-9937BC3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49B-0CA2-48A9-80FE-D0C22AD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01C6-7969-47FA-BA5F-5E8DDF18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EA83-8527-4A45-9369-16461BA3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2E7-24EB-4BC9-A8C2-B7F96F9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2A5-0495-499B-ABB7-0DE352EB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3BC-30AF-4E82-B50E-B3DF2C52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5FC-80FD-4BAE-A40B-F0D0EF0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4BC-8929-47E6-8E8A-82B8370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D8E-FEB9-410B-984E-904F2CA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C3D-A474-40EF-A17B-B823E0A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A219-2BAE-4F82-AACF-B5A092BA50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B06-3863-4119-8298-EECE7A8D7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ark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62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5 – HO AV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87960" y="5948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88320" y="6329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5 – HO AVY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o avy indray ny Tompo, Halelo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o avy indray ny Tompo, Halelo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(Indro avy Izy ka tsena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o avy indra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(Indro avy Izy ka tsena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o avy indra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vy amin-kery eny an-danitra a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andray antsika olo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angovitra ny tany sy lani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(Fa hitsara) Avy hitsar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(Izy' zao, hitsara Izy 'zao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itsara izao tontolo iza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88320" y="6329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5 – HO AVY IND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 (Fa isika hihira hoe:)   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 isika hihira hoe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(Eny hihira hoe) Haleloia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Ilay nandrasana (Ilay nandrasa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vy hitondra anay, (Avy hitond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vy hitondra anay ary ambo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(Izy noTompo Mpanjakantsik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Izy noTompo Mpanjakants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ndeha hifaly, hifaly, Isika, a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ihoby hoe : Halelo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Midera Anao 'zahay Jeso ô.</a:t>
            </a:r>
            <a:r>
              <a:rPr b="1" i="1" lang="fr-FR" sz="2800" spc="-1" strike="noStrike">
                <a:solidFill>
                  <a:srgbClr val="ffcc00"/>
                </a:solidFill>
                <a:latin typeface="Corbel"/>
                <a:ea typeface="Arial"/>
              </a:rPr>
              <a:t>:,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87960" y="5948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07:50:51Z</dcterms:modified>
  <cp:revision>37</cp:revision>
  <dc:subject/>
  <dc:title>Tiona Advantista</dc:title>
</cp:coreProperties>
</file>