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02B-C27D-4525-A06F-FD1B4A3E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DDB-B1C2-464F-B7F8-2D795CCB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8AA-1AF1-4C4D-B739-F2D681E0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C61-37ED-4574-BBF8-2BDEB6B8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3C6E-6840-4B17-882B-4B412983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D58B-4EC0-44E7-B4A3-23E6D152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DE76-5290-46E7-BCD6-6D819384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8E4F-4355-4F74-B059-1844252A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E13-3349-4557-A313-FBBDEA34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193E-5B9B-41BB-B842-98632E44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92F5-B391-411C-B788-EB89326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FA0-BBAD-4D9C-BBCE-A83FDA40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D09-8EBA-4B8C-A623-810EBB2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D9FA-BC70-4953-860D-B55AF0E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8CD1-0EC3-4E1E-8F10-CD68D93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69AD-E131-45D9-99EC-27BD3EBD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C0B-1582-4B62-8FAF-84EB9BF7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A78-E57B-41BB-8F63-A87F5819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39D-0A16-4D4A-B25F-82B409C8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F9D-2A5C-48A6-9DF8-00C4F2C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0A2-DCA9-45C9-AE46-9806098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B4D-D318-4B9E-A58D-D9B90AA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23C-8B0F-4537-BA9E-F38F689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4F1-0A2B-45B9-83D8-8ABD699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6E3E-086F-4EC6-A390-B324035A66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181-6C7E-4E25-A33C-89F4C99908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50 – FITIAVA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0 – FITIAVANA MANDRAKIZ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iavak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oa tsy fantatra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 ô hever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er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o ny lala-mar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sa nivar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0 – FITIAVANA MANDRAKIZ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ela no nand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tso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bola tsy aho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mpirai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ko no nomek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r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monjen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50 – FITIAVANA MANDRAKIZ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ô, he ! Fanta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isy meloka ah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-kovonje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izao ny ants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lavi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re 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rana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6:40:31Z</dcterms:modified>
  <cp:revision>62</cp:revision>
  <dc:subject/>
  <dc:title>Tiona Advantista</dc:title>
</cp:coreProperties>
</file>