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27E-57B5-4B9D-9B3E-B2D406BC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75D-1263-472F-BEE3-9605DBBF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54E-A9F3-417D-B6C9-7E694A9A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A28-C8A4-48BA-AD46-65BBE618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AB6D-A1ED-4328-ACCC-81214208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C988-5C86-468F-B14F-7E2373FC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513-8AAF-4FAB-A065-0433140A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8DD6-1E56-40CB-9381-ECD288D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3BE3-406A-4253-8F73-502493FC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65C-6128-487E-84D2-5C9A0DA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CECC-A80A-4FC7-A14A-124E97E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CAA-1F51-4383-97DC-02D0173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98CF-9839-4989-9F1F-D6D64A0F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E3F3-05BD-46E8-93AB-B8D4B0B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313F-BD7B-4F57-A355-7DBB73C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735-BC68-46BB-A1CA-66B6AF6E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34B0-10FD-4FDA-87A6-BBD07B8B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64A-F42B-4F63-A21A-7BAAF2C3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91E-91B7-482F-AA6B-A3279E0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A0B-8D4B-4979-AEE1-41C71E3A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483-5A22-4356-8EDB-D18FCF91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B7B-B456-43DE-AEBD-87BE353A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043-75A8-40E0-B57D-282AFBF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5F7-D3AA-4209-B28D-CBADC57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640-B94C-41DB-8A3A-B44E28E183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BBEE-D66A-41D2-A611-B037CDDBE5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2 – HE !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2 – HE ! IRIK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sakai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petraka eo ani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 ny fe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'zany zaho ha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ndrikao, r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zo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er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2 – HE ! IRIK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zanak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v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'zany z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anj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lova atolo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vo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2 – HE ! IRIK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avitra ny tah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biteb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'zany zah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lo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poky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14:37Z</dcterms:modified>
  <cp:revision>70</cp:revision>
  <dc:subject/>
  <dc:title>Tiona Advantista</dc:title>
</cp:coreProperties>
</file>