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A627-1D8B-4B14-A22C-F380F8D5E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DA3B-5498-41E2-885D-5BC701AA0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175E-3FDD-4C39-9217-9A97773BC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CD9B-A316-48D3-A14F-912D0E0BA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5F06D-DA4C-4AC1-8485-78A9EAD7E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3DDA5-2029-4B92-9AE4-03E466920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0778D-9A62-4916-BE50-E87E0A5F6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B758D-13F8-4828-8CD9-974AF3C4E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DEB11-F4DE-49D0-B006-9F011E0DC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397CE-D606-4038-BE7C-AD2ED7A56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756EE-79A7-469B-BEE0-FE45C3FD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E2EF-93EE-4813-93DD-EE4EB2BEC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A0D75-7F10-4ACE-94BD-CFB1BE08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A38A8-46CA-4BB1-9863-99B3B455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5D44A-A316-4524-A9A6-90CB302AC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8001B-2A6C-438B-9D3B-B48F22339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31EA7-E4C4-4A23-83E6-D75310144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22F1-FFD4-4DB7-91CD-C7A43D79A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FF2D-36CA-49BA-B755-95814184B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5DD4-694B-4A46-A627-111B1571C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661D-050D-4C99-B25E-164923662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2271-65A6-4CB6-8A87-CDB75CD4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8BDD-0148-4335-B56E-B051D322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2781-A687-467F-8F8C-8A1014FE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E6762-F980-4C10-A859-46E5518465B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FD7EB-4D1E-45CE-9CBF-F0886E3288A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DRIAMANI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Mpamoro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joel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Stuart K. Hine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023 – RY TOMPO Ô, MPAHARY NY REHE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TA023 – RY TOMPO Ô, MPAHARY NY REHET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Tompo ô, Mpahary ny rehe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-danitra, ety an-tany 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erinao dia tsy manam-pe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lehibe, ikoizana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oa velon-kira re izao 'zao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leloia ! Haleloia !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andratra ny voninahitra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leloia ! Haleloia !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5780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5780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4880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4808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TA023 – RY TOMPO Ô, MPAHARY NY REHET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reko indray ‘reo manodidina 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asanao mirindra sady so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melombelon-tsaina sy fanah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meno toky, fifaliana 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satriko hanandratra ny feo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leloia ! Haleloi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sinda izao ny sento sy toreo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leloia ! Haleloi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5780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5780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4880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4808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TA023 – RY TOMPO Ô, MPAHARY NY REHET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raha mitodika eny Gologo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masoko, ry Tompo tena t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tazako Ilay nisolo ot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Zanakao  nafoy teo kalvary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Njao manontany ao am-poko ao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Tompo ô ! Izaho 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iantefan'ny fitiavan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Fitiavan-dehib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5780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5780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4880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4808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TA023 – RY TOMPO Ô, MPAHARY NY REHET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any an-koatra, Ao an-danitra av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sy fonenan-tsoa amboari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draisanao ao am-po miravorav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Ty ondry very nokatsah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in'izay hihoby aho hoe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leloia ! Haleloi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araka amin'ny voavonjy 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leloia ! Aman ! Amen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5780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5780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5780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4808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8-25T08:38:27Z</dcterms:modified>
  <cp:revision>28</cp:revision>
  <dc:subject/>
  <dc:title>Tiona Advantista</dc:title>
</cp:coreProperties>
</file>