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3FF-B85F-4401-9DB3-A8AC2837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DCB-EA0D-4BF8-85A1-4AE20AB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21E-F28E-475D-A9A3-1EFEBA8C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3A5-88A4-406E-B01A-C57330B5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3DFD-0DFB-40A2-AB27-FD6888EF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DAA3-35F7-4246-8127-FE7DE15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7FE4-BD0E-4D63-992B-6434761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09E-B167-4A8E-97CA-E0D0B82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2A11-D4A6-4FE5-B1BF-9CC4F90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EF41-2CD6-4F4C-BD01-A7907646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BD43-CD7F-4122-ADF2-FA5DD6E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AF7-30A6-4225-9887-72514890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2A4-028F-462C-9060-A2FDAA82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3F7-3014-48E3-876E-56C836A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95A-E4A2-4320-99DB-1FE4C11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0C77-1590-49AD-ADD9-1F891379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411A-9753-41B3-8761-BFD6387A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390-F385-4BC5-99ED-52E3ED3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1CF-7666-43F9-A68E-306C4A7D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060-ED83-4357-9FD9-AE1ABD7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07D-7707-49F5-B2ED-CF2EE87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D55-212B-4ED3-B991-1DB5A4A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9B2-58F2-4F21-9003-F2DF6F0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0B6-DBAF-4B51-B3D4-F596ED8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89B-2297-4721-9112-437E1E7990E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B0C-171C-46C6-858A-75EE946E6BD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5 - MAFY TOA ONJA 'ZAY MANAF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fy toa o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manaf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n'i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Mpanav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 mamily ny sambo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y no tokiko (tokik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59:13Z</dcterms:modified>
  <cp:revision>84</cp:revision>
  <dc:subject/>
  <dc:title>Tiona Advantista</dc:title>
</cp:coreProperties>
</file>