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589-E018-42AE-AEF1-47E234AD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7CA-7381-4735-910B-7520BD06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489-BAA0-4FC8-8FBF-E37C3418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A2E-18DA-40CA-9123-CFECF72A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E842-2533-4F5B-A85F-B7DB5EFA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8A52-8994-436A-B2AE-4E9300F9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FA65-BC36-45B2-8B05-AF2B5CE0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2ED5-3DEE-466C-8BAD-370194A3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4A9E-A5FB-48FD-8377-6E168A34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A599-99F5-4326-91C2-5380F7E1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4363-B3B0-4AEB-9F21-695B4FB0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8BF-1FE6-4AFB-96DE-FB1BA847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D628-3924-4411-A423-CAC9DC3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144D-67C3-4113-A3E3-A9F9EEB1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A52E-990C-413C-8400-13A9793C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45EE-3E27-4563-8EE5-F5B8340E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6343-83E0-48D1-8BE4-4220AAA5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D13-829B-4935-B070-EFDA4826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573-7216-4D24-ABDE-A7ABAEAA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A26-E22B-4F37-9B54-CE0DB6B2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49B-0C68-43E1-BE53-B765DA1E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3FD-8D25-4825-9809-BD4B9085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41B-AD8B-4F42-BCD7-C38A508A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F12-63C9-499E-B892-AA208CC2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24DA-D019-4A52-AE25-3BB1F07B11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A8B4-A07C-49C0-9F3A-E9C2C34644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koly Sab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7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28 – EO AN-TONGOTRAO R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8 – EO AN-TONGOTRAO R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tongotrao, ry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hian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ay ka alefa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panan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8 – EO AN-TONGOTRAO R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 ! Amba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fitia ambon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tsapanay hatr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 vid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8 – EO AN-TONGOTRAO R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zavain'ity Seko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ta ilay haz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o nandresy ny devo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panjak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8 – EO AN-TONGOTRAO R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ehoy anay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itana vaov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roy aty am-p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ena la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tongotrao, ry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hian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hinay voki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ofo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8 – EO AN-TONGOTRAO R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3:26:10Z</dcterms:modified>
  <cp:revision>44</cp:revision>
  <dc:subject/>
  <dc:title>Tiona Advantista</dc:title>
</cp:coreProperties>
</file>