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A6C-8D07-4188-B7A3-A1930754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89A-3FFF-40DD-96BC-82124218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0CA-00E1-4F55-B2DE-CD2379B9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29D-C1AF-4BB4-84C2-717594BC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214-49F5-400D-8478-8B402CC1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ED70-F3EE-4D88-9D89-F56AE35A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62D4-7836-46D7-B247-46919156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0D4D-1933-410F-87CA-E5578720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AE8D-3B82-4D97-B63D-B91988A1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2B9B-8F3E-4EDB-8E03-7417825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7D3-67AE-466F-840E-B79D59E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FF3-B58B-4334-AA86-DDEB742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02AE-5083-4D01-82F6-BF5A3B5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6A0E-3411-4CA0-A3A5-857D7EF6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D4B-5EE0-4CDF-BDDB-62E9D3A4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9050-E105-4598-94D3-6A9C4A24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F03-1A2E-4394-B735-7D51C284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A36-EFCA-4E84-B263-DF4F23F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E91-B775-4142-8F96-83763FA3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62E-2BC2-4CA9-8C43-AF336C6E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6E5-BCC2-43AE-B117-C7168358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9FD-5039-4DD6-9128-83C8E96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AF7-5ADC-4C74-A60A-85E9F48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A32-336A-463C-9744-F9CF875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3CF5-669F-452E-B270-898AD17764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DE20-5B3D-4E77-8440-F4FC4EC66C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ranz Schube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8 – TOMPO Ô ! TON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13440" y="5416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1344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1344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28 – TOMPO Ô ! TON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Toneo re ‘zany adin-ts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 ! Fefeo re, fa maningotr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Ry Vatolampy, iantso fa m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ampy hampaher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1344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1344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03720" y="4984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528 – TOMPO Ô ! TON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afaho, nofoko malem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tanjaho, sehatry ny mem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so Anao Mpamonjy, miantso mital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oko milonjy, Tompo, ô, af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13440" y="5416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13440" y="617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03720" y="4984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8 – TOMPO Ô ! TON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fanantenana, toky sady her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dala-maha ana, aza avela i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y indray andro any hiar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ainan-tsy ho lany, tan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ao ny dera sy ny voninahit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Anao ny laza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13440" y="5416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13440" y="5797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03720" y="4984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7:44:19Z</dcterms:modified>
  <cp:revision>75</cp:revision>
  <dc:subject/>
  <dc:title>Tiona Advantista</dc:title>
</cp:coreProperties>
</file>