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3FA-65B9-4926-909B-F1C77A54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229-B19E-49F3-8662-133FA9C9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DDE0-64CE-48CB-A0F6-007EC044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DC0-E258-4866-82F0-F053AD33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BFB1-A1ED-422C-9A2C-C35CD3CE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D79C-9C8E-4BE5-9DA1-9C7F3D45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EE25-93E9-4F99-8236-DD16F412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8CDF-509F-4ABE-8464-D30BD660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1210-0CBA-4C6F-B942-F4E3F932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91C8-75C6-44F9-8C35-7338895D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0739-13B9-4CED-99BE-3D54DD8A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80A-05F9-4A65-8C9D-75ECEA6C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D4A2-7FC8-430F-84B6-942FAA6A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31A2-A450-4AC3-8908-1D324AC3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CFA1-8789-47B5-A187-4E26D558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D0D3-4176-4526-914C-6C5F1DF9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7FA2-3CF1-454B-AE57-49781001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67F-B15B-4FEA-B8FC-3708D341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9C3-497A-4D3F-A004-6474C164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742-CF61-4090-B873-C50A2D47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7F0-0807-4AED-8835-4AC312E7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B19-D425-4F29-9640-0B7DBE37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795-E7B4-442A-92F2-394C3BAA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8CB-DB04-4C27-B75B-815027A0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7A57-5854-4CD2-9FAF-D4CDBD3731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9C10-F932-49AA-8F2F-7DD8AD8CB3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eethov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11 – TIANAO VE, Ô ! RY MPANOT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1 – TIANAO VE, Ô ! RY MPAN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nao ve, ô ry mpan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ndova l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elao izao ny 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an'Andriamanitra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1 – TIANAO VE, Ô ! RY MPAN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n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a handray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Ekeo izao ny v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o dia hanene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1 – TIANAO VE, Ô ! RY MPAN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iandry tsy mba m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mpidi-doza b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, vetiv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neninao ani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1 – TIANAO VE, Ô ! RY MPAN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no androm-p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voha ny lanit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tsy ter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'Andriam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8:28:51Z</dcterms:modified>
  <cp:revision>61</cp:revision>
  <dc:subject/>
  <dc:title>Tiona Advantista</dc:title>
</cp:coreProperties>
</file>