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C2A-3A40-4F79-9E6D-7D889709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3F7-2A44-4523-AEDB-CA0F39A0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088-D729-4F45-A9AE-DCC8398B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9FA-CCB9-4D04-BEDC-8063E844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5F2A-31F4-4BC6-9789-B9BCD141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7C54-FB9C-4105-AE3C-7ACB70D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61F4-4976-4190-96F1-F8035DA2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F4E3-36DE-48F5-B101-75EE1E3B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23F1-25EB-4FF8-AAD5-1E9C1F7D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3557-5DF0-4E79-BF92-1EBD12AC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2F2-D576-48FE-8268-65647040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CF8-0257-46D0-BEE1-D1489EA3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3394-E05F-4F32-9255-4158DFC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42C3-78F9-4C02-8174-C1B81E4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B17C-3CB8-4CFC-854C-04690764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A024-C7D4-4F61-97CE-62F540A8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D431-B049-424D-9DD1-6F39B916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910-A21E-45DF-9B6D-97EDA1D4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E86-8A16-4910-9392-A25605EE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B9F-FDCE-4379-9BC2-BC7E59FC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AB1-7D24-4209-A080-570C6128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550-A65D-4A7C-8088-E4F4191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91A-7C89-46EC-9BFB-B4F64746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6C3-D9F6-4F25-BC87-56F87986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B34C-589F-4665-8098-2B68B36F6B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4615-5581-4D0D-AC69-2FD0D2DC72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6 – INDRO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63120" y="6308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63120" y="5877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6 – INDR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Tompo fa mitsanga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-barav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dona mora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ny feony fa mian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mamaramp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y renao ry tano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63120" y="6308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63120" y="5877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6 – INDR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voha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ô voh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y f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diran'ny Mpamonjy ti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voha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ô voh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ke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ka eke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ba ho mponin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63120" y="6308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63120" y="5877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6 – INDR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hola-tsatro-tsi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eo an-doh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onjena anao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ny lanitra ho a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iantoh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ianao mety mam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63120" y="6308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63120" y="5877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6 – INDR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tanany nahinj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ny laniv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gorobaky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iavan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entanentan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many, antsoant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63120" y="6308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63120" y="5877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tsy ho ela dia hivad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sa to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anao indray no hand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zay dia hanen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tsy 'zay n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hainao ny hif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6 – INDR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63120" y="6308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6 – INDRO N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voha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ô vohay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iz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dieny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diran'ny Mpamonjy 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voha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ô voh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ke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ka eke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ba ho mponin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5877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1:02:51Z</dcterms:modified>
  <cp:revision>86</cp:revision>
  <dc:subject/>
  <dc:title>Tiona Advantista</dc:title>
</cp:coreProperties>
</file>