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6D1-8726-49E7-9193-B876F12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BB5-A48B-413C-9CCD-AADE2EF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901-2DF8-4437-A73D-24FCBA3C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1BA-F6D7-40FF-A3B1-A9742926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F0EC-93EE-44B0-89EC-2271B638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9FB3-7E7C-4ECE-8FE8-3874CD6A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C449-2A22-4B10-BC52-A16B585C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CC7A-FDC7-470B-829E-EBF1E1B8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368-26FD-4D4F-A9C7-C764DB20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96B0-7A7E-4194-AB14-EC90225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E0DC-23CF-499F-97A6-0C767926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B99-8A5C-47F1-9198-781DC81C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F18-3AEA-4FE2-88D5-94BAD23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E90-879A-421E-92EC-E75E9362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469A-26AB-43EB-87F0-2634A95F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16D3-F229-4223-B85E-4F33FE4F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431B-F06B-4ED3-B0BD-D27E8581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3AD-2F65-49CF-81D5-15CC9F3C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297-48F8-4227-8501-7F59E85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33-0FF9-4B57-B97B-DADE5E4E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44C-4062-4EAD-9F30-E0C8BD6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765-795D-4C42-9064-59E90A6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F58-AF3A-4B70-9770-170ADFA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BA4-8AA2-419E-8AE8-E38C5057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203-BD61-40FE-A14A-416FFDCBE0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34E0-9BAF-4DA4-86FE-785BEC187D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8 - TSAP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8 - TSAP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pako, Raik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pako, tsap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n'andr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gat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o mahay mankasi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8 - TSAP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sitraka, mankasit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sa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malal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gat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o mahay mankasi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8 - TSAP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ko, hit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ko, hitako ny fiah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hy isan'andr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gat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o mahay mankasi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8 - TSAP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inako, 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inako, eny ny fiaro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rona ny te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gat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o mahay mankasi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81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injoko, tsinj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ako, hitako 'Lay Tany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ao hivant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meo ahy anio ny fin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fy or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8 - TSAP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90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40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5940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2:49:25Z</dcterms:modified>
  <cp:revision>46</cp:revision>
  <dc:subject/>
  <dc:title>Tiona Advantista</dc:title>
</cp:coreProperties>
</file>