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53C-7381-429C-912E-3B137A89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8A3-5551-4F17-9F1D-AD9935EA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52F-2418-4E4C-90CD-0A9F7649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660-077C-4D45-8377-C1825E9F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BFE8-311B-43A7-8981-B9460A20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BD6E-691A-4084-8F01-AAA91DEC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AEB1-AFB8-4850-9260-2136B393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4113-A8D8-41B3-A809-5CE42C23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85BA-01BF-4FE0-8425-DDF97FA6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6DEC-2F9D-4A68-9130-A46915A6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8D9A-96D2-4662-B208-CD3F0591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932-6137-495B-AB0F-C0D63C9A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25D7-D172-4281-A163-A20C5DDC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45D6-C9BF-40EC-9730-8364F228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B85C-E856-4097-BCC2-30C1D116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6314-2AB5-4FAB-AFAF-DBA17F90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C517-364D-4631-9194-4AE4D211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CF0-A5EC-4078-A67F-2440F76B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9D3-84C9-4E87-8180-63BEDCD8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BDD-ECE7-468B-83ED-CC54E340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481-BEBB-49A9-914E-9678606A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10D-AF5B-4AA6-9C6F-81337C5B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A80-56C8-40EC-B65D-4CFBBE20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B9C-CBDE-4930-BAAF-C1C5E9BA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6E75-C386-4A1C-9402-0A00675018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882A-BBD2-4950-A96E-4C3FFB35AE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ra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45 – EFA ELA NO N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5 – EFA ELA NO NAND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ela no nand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Ty mpanota kely 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andosit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sa, reraka sy l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iverin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anao no tsy mand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iverin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oka tsy ho lav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5 – EFA ELA NO NAND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babon'i Sat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ijaly, or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aniry hovah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Mpamonjy Tompo s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ao no azo t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o resy ny manj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narena-mahat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a fiadan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5 – EFA ELA NO NAND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pahery ny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monjena ahy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avonjy ny m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ena fitiavam-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ononako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dy Mpanava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rim-bato aina v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da fiononam-p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5 – EFA ELA NO NAND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nona aho, ry Mpamonj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mpanarak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fa azoko ny vonj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iso aho ho zanak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mpo ho Anao ir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tariho hatriz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tantano tsy ho 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o ao an-danitr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340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3T08:06:07Z</dcterms:modified>
  <cp:revision>78</cp:revision>
  <dc:subject/>
  <dc:title>Tiona Advantista</dc:title>
</cp:coreProperties>
</file>