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934-2F78-4C7C-8CAD-E1F20F94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BAC-9336-48D7-B3CC-C0EA74C9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655-6E04-45AB-9598-BE72024C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336-4E11-4146-AE7F-F6E5A73F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4F52-1A45-43B5-80C0-00727A2E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647-BE20-468A-84F6-A2F1869B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B751-0D53-4D2D-998B-5BFA97D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2D61-0ECE-418E-B9B8-8AF626BF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9F63-35CC-4151-90C2-7AAA059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9CDF-3797-48D8-9CD7-5681884A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8A7-A538-43E1-8697-0B34F24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E30-C284-4F89-87E0-5F11979D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75AF-8DD0-4715-A41A-AEDAAF8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C9FA-BEFF-463C-847F-4C582691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AE1B-50B1-473B-8BB3-1AAEA5B9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4B15-00F0-4A94-AC46-11B9A526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74AF-FA28-47AB-8EC1-52FCB915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AC2-8998-4F05-BC32-4C11AE5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CFA-7A94-4DCA-8A1D-40D5BCA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341-C493-4500-86A9-7340E21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B69-99C0-453A-B81B-448D4AC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BAC-981C-4AFB-AAD9-B821429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3B6-ED15-489F-9C6C-8936DE8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A9D-85A7-4BCE-94B2-02CB4B6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2674-72AA-4F4E-B69A-42BA3A724E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9F09-380B-494D-8B52-109D66722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vonjizaf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J. M. Bierman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7 – RY TANORA VONINK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7 – RY TANORA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ora vonink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hatsaran-tare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sady ravor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tsiky, mihome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Ilay Mpana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hoe avia !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ka atolor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o mpania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7 – RY TANORA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monjy no mi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nao hiara-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na ny teny kan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y eto fa n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Miomàna die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azy ny f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sambatra doria 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7 – RY TANORA VONINKA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ora ô ! Mete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 no andras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haharitra el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ny ora manind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y ny feo mana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Moa tia Ahy v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no m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ny fonao 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41:52Z</dcterms:modified>
  <cp:revision>85</cp:revision>
  <dc:subject/>
  <dc:title>Tiona Advantista</dc:title>
</cp:coreProperties>
</file>