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663-AA18-458C-A91D-5C75D430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1D1-315E-4C8F-A500-4A2C34E2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4E6-895E-4FC2-99CD-1C179D9B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014-D05F-44CB-894E-9DB9DAC9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A797-028E-459F-83A0-F954523B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FA11-50A1-4BC0-B64F-096FFBB0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2999-20BA-4C01-8A68-63AB8367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737E-3AB8-4736-B7A2-5B606B7D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5EB3-7027-463C-A394-A9F3E272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9C49-7391-480A-BFA9-FDD18AB8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BA6B-74D3-44CB-BDDF-F739FF6E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6A7-BE00-4352-86F5-ADD97123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CDCA-8405-4552-A568-810EE28C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E357-149F-4E97-BD54-42655CA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99F7-2B2F-440D-9E7A-D1BB110D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580D-28AD-4EC5-B55B-F29E37BD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5D73-73C3-4083-A0B3-398233C5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7F1-6553-4640-9581-F7A2234A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378-603E-43CE-A28E-FBE5CF10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13B-4F99-468D-BC4B-2E4EE02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23F-BF3A-4173-8E4C-A961345B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731-B9B5-4916-80B9-37217C4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CE9-19FB-4FFB-9332-21159710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A6C-888B-40E2-871B-1E2CE89E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43AA-96E3-4146-A2A0-E58A64C5E71B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9DB4-E3B0-4746-8BD9-2B1BA3C33B7A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44 – TOMPO M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4 – TOMPO MA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hery, henoy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 sao very, jereo,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o anilanao, 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to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loz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za mba m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4 – TOMPO MA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 mba ar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zanakao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lemy ka mba tsinj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dia miron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o anilanao, 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to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anao Ray no mba m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Ray ô, mba je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4 – TOMPO MA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n'aina o ! Mihain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taraina, rais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ho Anao R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fandao fa h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za mba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44 – TOMPO MA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henoy re ‘zaha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mba ho re ny fe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kay ry Ray ô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val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gai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za mba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8:21:47Z</dcterms:modified>
  <cp:revision>47</cp:revision>
  <dc:subject/>
  <dc:title>Tiona Advantista</dc:title>
</cp:coreProperties>
</file>