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1FF4-DB50-4050-BCB4-E8846E30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FA2B-82F5-400A-AE09-BDD32F5A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09DD-F05E-4305-99EB-BA6F2E89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9BB6-56F8-405D-8E68-018CA924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215C-615C-4A3E-925C-FCF745A0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9FE8-758E-477F-AD7C-FE0116EF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D390-96DA-4B42-983C-57AAA014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09B5-335D-40D7-9AE3-97034090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C4F2-505E-4585-8460-C390BC72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81B3-F415-41C2-9691-1EC5D966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5A28-C6AB-4C77-879D-0D5E1AC6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C003-6EDD-4A44-8066-19FFBEC3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E38B-A5EB-41F3-A5B0-8DA0D39C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F69D-036B-4873-98C6-39C26755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DF9E-61FD-4E6A-9C1E-653669AF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EA0E-4687-4A4A-BAEC-B6C39FAF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536A-ABC7-447F-A5C1-F253D652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6630-CFF5-45E2-BB80-D41DBA00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C60-20DF-4920-A3EE-8CBB4618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A490-5B77-40A3-BFEA-EC08E969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00CE-B33D-4FE1-B8C8-E3644B03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5EA0-DA9D-4984-AB34-B405D301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7EFD-A69A-4093-AE02-4FC79F94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F464-6160-47CD-B83C-8AF4E7F9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942E-5750-4CB7-8591-6E9EC44AFD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A675-9446-4424-99D3-492788FAE8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z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22 – NY ANJELIN’I JEHOV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06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487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2 – NY ANJELIN’I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anjelin'i Jehovah manodid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odidina izay miakina am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Reo anjely alin-kisa Feno hery no mia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vahoakan'Andriam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487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2 – NY ANJELIN’I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ona ary hatahor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Inona ary no hatahoranao ?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ona ary hatahor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Inona ary no hatahoranao ?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ireo anjely maro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Anjely marob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irahin'i Jehov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aro ana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06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2 – NY ANJELIN’I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anjelin'i Satana dia handos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ny anjelin'i Jehovah no manafik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izay miantso sy matoky A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mahazo fiarovana azo anto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06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487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2 – NY ANJELIN’I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Jehovah Tomponay 'ndret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ba manana mpiaro afa-ts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y, arovy tsy ho azom-pahava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ahita ny herinao na aiza misy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06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487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11:14:20Z</dcterms:modified>
  <cp:revision>78</cp:revision>
  <dc:subject/>
  <dc:title>Tiona Advantista</dc:title>
</cp:coreProperties>
</file>