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A9D-969C-45ED-BDB4-91A5449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BE5-A5DF-4013-8645-362051A4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7E0-DE8E-40CF-964A-7210D0A4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108-CF13-4490-835A-4D3B368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2737-BF23-4DEE-8EEE-9E8A48AE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F48-6070-49D0-9377-5463ACB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4FC-8590-46F4-9EBD-70BC5824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2B8-85E4-4773-9851-C32201B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914-7F7E-4DF6-9549-123CCD7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911-5719-4778-BAE3-38A677A2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E9B-9560-4865-86B7-28460F4E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4B4-1086-441B-84E8-1AC4EEB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F75-D8CB-43E5-8B06-B8DA215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0CA-757C-405B-AC33-978A374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E8F-7A39-4650-ACB3-E731A87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1455-7AAB-4A4C-9F42-BAEB807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C71-A371-4318-87ED-4CB7CAF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512-C73D-4B5B-9E01-5553643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69E-3572-4FDA-863D-76F758C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5FD-E28B-49DB-BBB1-E08E33C5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792-7C27-41A4-BF6A-64362ED1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F6D-36CB-4309-A4FA-DDA4FA2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121-A933-475B-A9A7-E10C985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BBD-51CD-4C12-A9EA-F675DD2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CC1-B18C-4E4C-BCB3-655F937CB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CD1-6C47-46D1-9E9A-2C8DC0CFE0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5 – HARIVA I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5 – HARIVA IZAO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vah 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olotr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saotra, hery,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soa norai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ita, sy asa, Ray ô, isaora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5 – HARIVA IZAO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ah R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inay et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ony haleme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disoana vitana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fon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y anie Ry ô ! have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5 – HARIVA IZAO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ah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y Ma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tsahy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hianatra izah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dray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finoana vao, Ray ô ! ny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5 – HARIVA IZAO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hoah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 hiaro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ao her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entinay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ay, Tompo, ny fo, ka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59:44Z</dcterms:modified>
  <cp:revision>77</cp:revision>
  <dc:subject/>
  <dc:title>Tiona Advantista</dc:title>
</cp:coreProperties>
</file>