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1DA3-FB21-45F4-BBC1-60234DD6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ADC0-AEE1-447F-8865-5A239FD4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929-FA6F-4D72-8D0C-7FD6C961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AEB5-972B-4A45-BC53-69C1E3AA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2CA7-D14A-4B63-925A-7FBBC0BC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CD9F-5E66-41C3-9E3C-552878D6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C2C5-8C41-4259-AC31-53F18D0B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B07F-B125-4371-9FF5-4A3BE757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5A34-278C-4F04-A213-46D4965F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B2AB-FE23-4193-B6CB-E5FB1D58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AE03-140E-4EA9-A80F-CBFE3251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E942-1AC9-4F8E-B8E8-456917D9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CEF8-47E4-4686-8C26-8CFB94E6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BEC0-34B5-458B-A85B-3A183945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EE20-6D4C-4A07-8280-3DF0596F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46EF-55DE-4945-8F91-EAFC5094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1FF5-46CF-49A9-93EA-E16E70B1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116-90A7-443B-88D1-4DEAB097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720-E266-435A-AFD9-F46A4E17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7D4-278C-44AE-97DA-C84B8E03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F09B-54D3-422A-8810-D60A045B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549-7B62-4925-B8DF-84D6184F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B51B-B53B-4E55-B770-2AA39956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42F-677D-4A8A-B2F9-656FBF81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E88B-BCC7-4496-8D29-39B41E2DF7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AAB9-7A5F-4796-B329-3D55919BC4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. D. Ackle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40 – HE INDRO AVY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0 – HE INDRO AVY IND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indro avy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-drahon-d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risty 'Lay Mpamonj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no voninah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ira izahay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76384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40 – HE INDRO AVY IND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ela intson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laozanay ny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o fifaliam-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idiranay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ndra-peo hider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76384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8:38:22Z</dcterms:modified>
  <cp:revision>36</cp:revision>
  <dc:subject/>
  <dc:title>Tiona Advantista</dc:title>
</cp:coreProperties>
</file>