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22D-513C-43F9-BD6D-1101873D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C6B-0297-4193-94B1-7E82E930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8E2-42F0-4A01-A8B7-FA1D4BCF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026-3751-4737-B093-1820812D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EBA6-4FE2-41BC-A057-E43AE0BB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D529-5486-4777-89FB-2B249CE9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0189-8C4D-42F9-9C86-A79CA457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4DDE-3AA0-4131-9798-3AE64FA0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D29B-B113-4134-8E57-0EBB0C83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E27E-43AB-4B2C-B1CE-41B5EBC0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83E5-F993-469B-BE3A-28C82BD5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F25-86E8-4492-94D7-2F1D58EC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A8CA-27BC-40FE-8638-2EB2F874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64E7-CFDA-48FE-8CA9-03F5D574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44C2-2184-4C87-BEC7-D1248DF7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41F0-0F13-4264-84CB-C03FF985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AC10-D399-4607-9034-7BE211FD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DC5-D067-473A-BA8A-58EA040F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A93-CFE2-4E56-99F9-BD42D750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F14-443A-4DA3-87D4-AE298B5C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A98-6CEA-4FBD-9277-37E8D6E3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C32-AA70-4C5D-B587-1335FF18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0DAB-BE0E-4D1D-8DE7-62A0AAC2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55E-E751-4E1C-8325-FE653B14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5E6C-BBAE-4EB8-8D6D-B05CC015EC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C5A8-B916-4625-9159-DDF7DA1176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Mic Thurber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30 – MBA FIDIO RE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43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43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4320" y="60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07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0 – MBA FIDIO RE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fidio re Jeso, ‘Lay nanavotr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reo fahotana manimba ial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dinoy avokoa ireo soriso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Jesosy be fitia vonon-kanome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faliana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43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4320" y="60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07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290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0 – MBA FIDIO RE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misy afaka hanome fahafah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fa-tsy 'Lay Mpamonjy nanavo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y re azo antok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lefy satria, eny, tena miha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ian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43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4320" y="60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07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290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0 – MBA FIDIO RE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evero ange ‘zay mba mety h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misy tokoa ? Ambarao ary m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 ve tsy mba fantatrao ‘reo harena be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sy mahavo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43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243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07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290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30 – MBA FIDIO RE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dia atakalo ireny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ifona ho anao anatrehan'n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 ho tonga ka mba handra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entiny ho anao fiainana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falian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43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43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4320" y="60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290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4:14:02Z</dcterms:modified>
  <cp:revision>61</cp:revision>
  <dc:subject/>
  <dc:title>Tiona Advantista</dc:title>
</cp:coreProperties>
</file>