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0A6E-80FE-4883-A331-327F1F4AD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67B9-CC5D-4926-BAF1-62A33A89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FB9B-7C2A-48F1-8D21-AC3830C0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90D4-5ECC-4808-B1EB-65F8198E9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39C2-C175-4C02-AAE4-1AD53BC7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05B9-9F4D-468A-8117-3DC022C1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C16F-E29D-4CC4-8EC7-38794A06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BA9C-7B1F-4917-9094-86EB1DAB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F7AB-8B8B-4450-8F8E-FC9A8DFD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39FE-9074-4E7F-BDDA-01C18D1F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76FC-8C60-43B9-A450-BAA6C66F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4E8B-D9DD-46B7-BFA4-6BF3133D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23AC-6901-448C-BC6D-B34C381E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3FC4-16BC-4569-8E72-F26E92FB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C8D3-4437-4F95-98DB-79361CAF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EB32-F81A-4565-BDD6-C1B244356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15BE-507C-4136-8239-43048A34D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2174-408D-4C95-9B05-C26F2933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9811-F36C-47DC-84FD-FF0709AB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9FA8-B62F-44A8-8AB0-B4FB0695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6720-191B-42AC-A0DA-FFAE9322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4E3B-3CCB-47B4-8A6F-B5111D5B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C302-DDAB-4ED2-B85C-6A54B6F5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C70A-01B1-4A44-AC71-5F3AEC1B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625B-506F-46E4-B28B-12B37BB73B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517B-49AB-41E3-B5F1-CA93DAFFA5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Valin’ny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. H. Bysh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54 – HE! REKO ‘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54 – HE ! REKO ‘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Reko 'zao ny antso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eon'ny fitiav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o hoe : &lt;&lt;Avia ianao&gt;&gt;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sahiko re ny handà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7771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7721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54 – HE ! REKO ‘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olotro Anao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fanati-tsitra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oko, saina, hery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foiko tsy hisy ho tan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-tananao, ry Tompo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7721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7721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54 – HE ! REKO ‘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reko mantsy Kalv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nihomboh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tiavan-dehibe 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sehonao ah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7721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7771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54 – HE ! REKO ‘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-tsitrapo, ater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fo nandà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reo, fa indro lavi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o tompoiko intsony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721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771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7721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ba ho voninahitr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hahavelomak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omana hitsen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tena hiezah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54 – HE ! REKO ‘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721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771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721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17:01:26Z</dcterms:modified>
  <cp:revision>62</cp:revision>
  <dc:subject/>
  <dc:title>Tiona Advantista</dc:title>
</cp:coreProperties>
</file>