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00B-FC68-4C10-9C3B-29EC437A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CC9-41E1-41AF-B5FD-39EC2ECE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8FC-D16F-4DD3-BD15-C877A3C2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F50-9C85-483E-B32E-89D252CE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45B8-4564-41F4-9E13-0BF46FCF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135B-9A43-4D8A-919D-58EB31D2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E9B4-4F56-46B5-BFB4-F3C8501E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E381-9E50-444D-97AB-06E56769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B2AB-D56C-4A37-9003-0E58DCCC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9322-02AA-4171-8674-BE32D2DA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180D-2408-4357-B9E4-FB5D143B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979-9E5D-452D-93E6-91082F5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5866-E044-43FF-82F4-763E073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C247-D9C5-4447-8992-4576A1B4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F5B7-1CE5-46E3-AC96-BD3F2486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290B-174A-4BC5-90D3-801EEEA2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7447-D176-47F5-8F68-6CB64BE4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90C-5DD1-48C3-9B3D-E5040AA4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B45-BE8B-4765-A611-415AEA1B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D4E-6A18-414A-BA58-A4A54C8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2AD-D3CF-474C-8548-D41D7E42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6EB-54A7-4AF5-A8F4-B2F5FCC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976-DECB-49A9-BFA6-810B42E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E0A-CB5D-44F1-A52D-6056342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47BE-F4B9-44D5-B0DB-3C4797D2B5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237F-6922-4984-8F38-940FB218F0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y sy Rakot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P. Hammo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08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2 – ‘LAY ORA TAO GETSEM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s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2 – ‘LAY ORA TAO GETSEM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ora tao Getsem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ako tsa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ompo tia sy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ory loatra t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2 – ‘LAY ORA TAO GETSEM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ako 'zao Getsem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are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iko hadinoi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ahoriana 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2 – ‘LAY ORA TAO GETSEM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ianatrao malal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tory av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foin'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Tompo s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2 – ‘LAY ORA TAO GETSEM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jary rà ny din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helok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diranova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olo voina an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0596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oraty ao am-pok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sary velon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sarin'i Getsem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iaret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2 – ‘LAY ORA TAO GETSEM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14960" y="480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0000" y="5191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14960" y="5572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596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05240" y="4378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43:54Z</dcterms:modified>
  <cp:revision>48</cp:revision>
  <dc:subject/>
  <dc:title>Tiona Advantista</dc:title>
</cp:coreProperties>
</file>