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8A6-46DD-4F34-A300-B624FC2B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CC3-2FD4-4C0A-9919-99A0A02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0A9-E6E8-4AE3-9DC8-FFF44212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7AF-FEE5-459F-B1D2-0B914048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7BA-DFFA-44DD-BB22-0B9031F3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4379-93A6-407E-A9A7-2592F8E3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A0A1-3DB8-48C1-B8E2-9DEB876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5719-1971-4639-9AA9-555459F2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F8FC-4667-4D1D-8C18-5E0B4EF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F584-DC09-4E6F-BD92-FD57038A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D589-7064-4BC6-985E-5A8BABC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2FE-BC57-43AF-857F-A18185F9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3A48-1D7A-4CB0-A2B3-47EBE53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5A29-95A3-466B-807B-0BB294B7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720D-58AE-4C6F-BC31-9D33C741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1FFB-3080-4485-BB2F-44741660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6B54-B78D-423B-8B22-204E9877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E2A-5EF4-432C-BAC7-6455DAEF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B65-5993-4002-9D99-C27708EB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1C3-ED1B-4EA4-966D-05373B12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A12-7606-4453-86CA-8BA7754F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03F-E9A5-47C0-A55A-7725175D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C73-46BC-44CC-8808-86EEB98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6DB-71F1-4E55-9304-41CC854E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07C-C1AB-4C7E-869A-CB8F5AF0A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C051-5792-4866-9411-09BC19E6B0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8 – RAHA MAIZIM-BE NY 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8 – RAHA MAIZIM-BE NY LAL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izim-be ny là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 tahotr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sotrako ny ta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raisinao, Mpamonj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8 – RAHA MAIZIM-BE NY LAL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nanao Jes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oahomb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metrahak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8 – RAHA MAIZIM-BE NY LAL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be ny tebiteb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pangirifir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diaviko ny t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ampisava 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8 – RAHA MAIZIM-BE NY LAL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fy koa ny ad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a kivy 'za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ny hery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ampandresy ah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1:08:39Z</dcterms:modified>
  <cp:revision>68</cp:revision>
  <dc:subject/>
  <dc:title>Tiona Advantista</dc:title>
</cp:coreProperties>
</file>