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9F4-87FD-423B-8A7A-00E3F5F7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839-2DED-4DE4-92A7-075F7305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AAA-8633-4D1D-A6D9-86D55B7A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0B6-52F4-49E6-8763-80AA15B2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E0E7-A0A4-4DE6-B24B-BB8CD4F1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FE7E-1FA4-4BF0-AF6A-5788302E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7F81-32DB-4FA5-AFE0-A9C4976B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5ED3-054F-4C1B-ACB7-55FEF2C3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C6B0-E30A-4853-AF12-BBE833B5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C298-D206-425E-AC20-6EB98ACB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9D23-3EBA-4726-9105-9B6C2544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BBB-3A7F-4E3C-8362-A5F87299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D6DE-2BCE-4648-A4C3-8C18D7DB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DE64-E471-4AA1-923B-779D4A11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1B37-D779-495A-BC4B-1E339EE5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791D-5D6B-49F0-B4C2-A5ED6786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C70F-7034-4EF0-957A-8EE7D5B7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9B7-FC3B-4030-8BBD-501F1A81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187-D7AC-49CB-A3D6-58F7CFF1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B73-0C90-409D-8123-D0E4B0CB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401-6193-4605-997A-8BCE3EFD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9DC-84F0-465E-92C0-F509E42C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1A7-98D2-41AC-B080-7B729FC9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9E3-D91B-426D-A596-C58CFD07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D0E8-C7AB-459A-BE1A-3AB7FDF364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7E1A-0894-4E5E-9029-4CC4263FF8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50 – TOMPO AMPIO AHO HITA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0 – TOMPO AMPIO AHO HITA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ampio aho hitaona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ahy ho Anao mba ho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io aho hahazo o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sena Anao an-draho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0 – TOMPO AMPIO AHO HITA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io (Eny ampi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io (Ry Tompo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o fifaliana ireo mpan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ngom-bokatr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0 – TOMPO AMPIO AHO HITA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hatrizay re ry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hizara ny satrok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fifaliako ny hahita i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ahy maro hiaraka 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0 – TOMPO AMPIO AHO HITA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ampijery, ho faly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eo voavonjy nahantra t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alihavanja, ka hihoby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« Hosana ! Hosana ! Ry Mpamonjy tia 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idintsidina mane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Reo tendrombohitra masin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hita ireo planeta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arahaba ny havantsika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0 – TOMPO AMPIO AHO HITA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0 – TOMPO AMPIO AHO HITA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boly 'zahay ry Jesosy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dy hihira, hihir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ranonay e hotsidih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drakizay re hananana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628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07:57:03Z</dcterms:modified>
  <cp:revision>90</cp:revision>
  <dc:subject/>
  <dc:title>Tiona Advantista</dc:title>
</cp:coreProperties>
</file>