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7B4-55E2-47E9-B017-A541F23B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3A9-8935-4CD7-8D77-AC17636B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8D1-4BD4-4035-A3C3-D142AEF8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FAE-01B6-4DB9-9FE5-DDDEBA40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FD66-D1B8-4133-87D5-4F7F6940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EC66-18DC-4D07-8569-1847D33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614F-EDFF-4D83-B15E-EF4AD9B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1293-2011-43F3-89F2-28C35A3F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CC2-0592-4F11-80CF-965301D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8CD-E050-4009-8D5A-CD4F080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CA79-C84C-4C87-BFB6-37B003C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86B-15FB-41E4-BC19-712A4B77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BD6C-4FE2-49A5-A66B-64725A3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162-AB1A-46EE-B02E-E22AEFB6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262D-CC48-4ED2-B1F9-772146B6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CE05-025B-433F-AFB6-77092C77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FDAB-59C8-429C-9FA0-7D3EE062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979-7AE8-489A-B5EC-138ABB5E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005-5AFA-460A-B2F3-73035AEE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A54-F7E6-44E9-9515-62A0ADE1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E72-A449-440C-BE5B-46D076D6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441-66A5-47EE-918F-27236BC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1A0-D908-4673-B809-E7006FB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3E7-F653-4EAC-BB76-80BDCB1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3246-4CF6-4805-AA19-0617B731DA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8163-6BC1-407F-86C1-E8F35A6FCA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Ranorohant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O. Exc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6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7 – IANAO RY M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7 – IANAO RY M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, ry m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ny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ahazavan'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7 – IANAO RY M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izina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ilo,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7 – IANAO RY M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e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sady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et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7 – IANAO RY M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by aka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j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ho fai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16:04Z</dcterms:modified>
  <cp:revision>84</cp:revision>
  <dc:subject/>
  <dc:title>Tiona Advantista</dc:title>
</cp:coreProperties>
</file>