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FD3-BED6-4D06-B053-75826D2F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1AE-C847-42E2-892C-3A8C748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8DA-0D63-46D4-BF69-BDF19C62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069-4656-4BAD-BF7E-EC850B55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8748-2A80-4CE7-9F06-36882274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2DDA-2C50-4590-813C-D0E55BD2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0BF-D488-45E5-A98A-69185D8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FB2D-1734-49D4-9B50-D7281F1E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2EC-90CF-4F9B-AAD0-A848DA11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089-0A35-4096-9EB5-F97BC6A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813-78F1-47D5-97CB-E3DFAFBB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B1A-EA43-40D0-9150-A0FBE0B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77F1-CFCE-44EC-8FFC-8B12CA5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93E8-884E-43D4-8DE9-8CEA5D0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2474-7CEA-4C73-A7D8-69CE03C8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936-B1C2-4B99-86B8-061342C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EBF4-05A2-4F9C-9D8B-A5F1CD8E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EBE-C43B-4F1E-B3BF-00A91D7B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066-FD31-444E-9606-C4FA6AB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12F-62DD-437E-BB0E-10F546CC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938-DBF0-43D4-B486-45126E9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139-CE9B-4A08-9489-9D48D22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234-62A0-443C-AC90-FE7D3E29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6D4-5F7D-464D-870A-AEB38EB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B4D9-8040-434A-9E3F-9410E074EF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00C-ADE0-46EF-83C8-F7D1B38BA4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kotonjanaha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Psa Uier de Strasbou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HL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8 – Ô ! RY FANAHIKO, DERAO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48 – Ô ! RY FANAHIKO, DERAO JEHOV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fanahiko, derao Jehov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y izay rehetra ato ana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erao ny Anarany Ma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driamanitra fananten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eno soa ny andronao rehe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isaory, ô ry fana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48 – Ô ! RY FANAHIKO, DERAO JEHOV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velany ny helokao reh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nisainy ireo helok'o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itrany daholo ny rof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ty tsy ho tahotrao intso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toky ianao akaiky Az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didinin'ny fitiav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48 – Ô ! RY FANAHIKO, DERAO JEHOV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lala-tanana Andriamanints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mpoky ny soa ny vahoa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ba maro teny fa mizara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riny an'izay hampahor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ry ho an'izay mangozoho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mindrampo tena l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48 – Ô ! RY FANAHIKO, DERAO JEHOV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olombelona marefo a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hitra ihany isika izao no et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teza fa voninah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Pahon'ny rivotra koa dia la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a ny tany naniriana 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halala ny fisia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ao koa ry mandrakiza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mandrakizay ny indrafona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vinao ny fampanant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ovanao izay matahot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nkato ny hasin'ny lalà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tandrina 'zay voasora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48 – Ô ! RY FANAHIKO, DERAO JEHOV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8834400" y="6308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A748 – Ô ! RY FANAHIKO, DERAO JEHOV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y manadino ireo faho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taontsika zanany malal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iny tokoa izay mibeb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tria fantany ny toe-ts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vovoka nalaina tami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dioviny amin'indra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43400" y="4292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43400" y="4673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3400" y="505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34400" y="5435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34400" y="58770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8833680" y="386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7:28:15Z</dcterms:modified>
  <cp:revision>79</cp:revision>
  <dc:subject/>
  <dc:title>Tiona Advantista</dc:title>
</cp:coreProperties>
</file>