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FB2-A584-4B31-A9B0-A11C73DB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41D6-65AC-4AFB-8D91-A785635F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392D-FA02-4A03-AEB7-1D847F36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D3F-85B4-4C3C-A042-0874ECB8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AC1F-28DD-4101-A369-0FA12383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EEC7-1835-4D2E-9E3E-02975EEB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F46D-E64B-479C-A60D-8AD91C3F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CDE6-DFDB-4DC6-9EDE-CF79FF47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9686-0D54-4912-A81C-12392FB8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A057-CA07-40F2-8955-400E7AC3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C543-39C0-4CA5-BE11-B3B065B5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E653-E79D-4C31-A736-400F0218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3D8D-CFEA-4B07-9845-E7EB8AC1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3E41-9671-41B8-B95F-A6DEA21A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C897-6D40-4C0A-A7B2-FD4441BA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C351-3755-4D43-869C-4999205D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6665-E4F2-4BEC-845F-5BDF9B76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D37E-DD74-4FA7-A033-4B50AB7C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C26F-4EDA-44C1-82F2-E83DCA00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10A0-C246-4FAC-A729-0B4C43CC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168-E314-4708-8121-6565CB8F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7063-08FD-4D01-A5D3-07CB81EB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E4F6-9044-423B-83AB-0DD59862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37B-BDF4-4F9E-A074-2B893EB2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E812-6536-41D1-A57F-B093BE216C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4B85-3EC3-4987-BEFF-D7D12B3C2B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J. Rah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J. Rah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93 – JESOSY IRERY IH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1240" y="4292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1600" y="4673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26400" y="505476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26400" y="5435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72640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26400" y="5877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3 – JESOSY IRERY IH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irery ihany No zavatra rehe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a ny laza, na harena Dia ho simba sy ho ri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Dia mora simba sady mora ritr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Izy no tompon'ny fahefana Tsy misy fetra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oa maro sesehena izay (Tena) mahari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iara-miasa, hahasoa Ny </a:t>
            </a: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zava-drehe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Ny zavatra rehetr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Ka na faly na tomany Jeso no banjino hatr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51600" y="4673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26400" y="505476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26400" y="5435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72640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7" action="ppaction://hlinksldjump"/>
          </p:cNvPr>
          <p:cNvSpPr/>
          <p:nvPr/>
        </p:nvSpPr>
        <p:spPr>
          <a:xfrm>
            <a:off x="8726400" y="5877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40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3 – JESOSY IRERY IH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aha mitombo ny harena, Finaritr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Sambatra, finaritr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irery no zavatra rehetra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aha sendra fitsapana Sy ady saro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Tojo ady sarotr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irery no zavatra rehe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51240" y="4292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26400" y="505476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726400" y="5435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72640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726400" y="5877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740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3 – JESOSY IRERY IH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irery ihany No zavatra rehe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aha mahatsiaro toa nafo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Jeso Kristy no antsoy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a Izy hitantana, hiara-dia,  Hiara-mitoetr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a Sakaiza, Tsy manary na aiza na aiz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iara-miasa hahasoa Ny zava-drehe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aha toa ka manirery, Ka izao rehetra iz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Mandao ana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751240" y="4292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8751600" y="4673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8726400" y="5435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872640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7" action="ppaction://hlinksldjump"/>
          </p:cNvPr>
          <p:cNvSpPr/>
          <p:nvPr/>
        </p:nvSpPr>
        <p:spPr>
          <a:xfrm>
            <a:off x="8726400" y="5877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740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3 – JESOSY IRERY IH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ihataka sy tsy mijery, Manadino, mandao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irery no zavatra rehe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aha misondrotra ny laza Sy voninahi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Sy ny voninahitr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irery no zavatra rehe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51240" y="4292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51600" y="4673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26400" y="505476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72640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726400" y="5877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740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irery ihany No zavatra rehe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ongana ve ny harena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ihany jerena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y havana maneso, mandatsa Sady tsy mitsetr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a jesosy dia onena, Ny olo-mahan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iara-miasa hahasoa Ny zava-drehe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Zavatra rehetr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aha manjombona ny andro, Jeosy no masoand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3 – JESOSY IRERY IH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51240" y="4292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8751600" y="4673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4" action="ppaction://hlinksldjump"/>
          </p:cNvPr>
          <p:cNvSpPr/>
          <p:nvPr/>
        </p:nvSpPr>
        <p:spPr>
          <a:xfrm>
            <a:off x="8726400" y="505476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5" action="ppaction://hlinksldjump"/>
          </p:cNvPr>
          <p:cNvSpPr/>
          <p:nvPr/>
        </p:nvSpPr>
        <p:spPr>
          <a:xfrm>
            <a:off x="8726400" y="5435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6" action="ppaction://hlinksldjump"/>
          </p:cNvPr>
          <p:cNvSpPr/>
          <p:nvPr/>
        </p:nvSpPr>
        <p:spPr>
          <a:xfrm>
            <a:off x="872640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740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3 – JESOSY IRERY IH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aha mamiratra mazava, Ny lanitr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irery no zavatra rehe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aha mikotroka mamely, Ny oram-bara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Mafy ny oram-baratr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irery no zavatra rehe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51240" y="4292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51600" y="4673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26400" y="505476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26400" y="5435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26400" y="5877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740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4T08:43:50Z</dcterms:modified>
  <cp:revision>78</cp:revision>
  <dc:subject/>
  <dc:title>Tiona Advantista</dc:title>
</cp:coreProperties>
</file>