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393-2E05-41D2-BA40-3A82A1A1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A3A-FF27-4BAD-85D2-C680067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97D-12BE-4A4C-8A2D-14365447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5C7-978D-47ED-8E7F-3A6E477D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75B-ED4A-4555-A385-AB456221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65AC-A014-4D9F-A173-F3A088D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B159-762F-4ED9-9DD7-74CD707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BA20-1272-4098-B20C-9EBF604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3EDB-2F99-46E1-A814-D173357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5F4-567E-437C-A313-F9FFD205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24E-BB67-4471-9FCD-ACC91E8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546-CADE-45D0-8D85-B071A16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827-56E0-4A6C-8A55-F670ED5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1650-76B0-457C-8976-B02105A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FB80-9607-4891-BD22-0B7CC541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4FE-8C08-4CB3-A9B6-8244AE1C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2782-CD2A-46E2-AD48-2DFB4696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BB3-B897-4BFB-AA65-34F2998D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6B9-C465-4CA7-8CCC-20F75B7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B05-BD49-45CD-80B9-E276168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485-E8E1-4DFA-9446-50D7F85F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E96-4E7A-49E2-87A6-6D005491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C90-550B-46A7-871E-A3FBC28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169-810B-4E65-998C-80DF8B7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EFAF-212F-4D13-94E0-205D663E48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3FE-F827-4064-A440-4DEE59CEA2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8 – MOA VE JESO FANTS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8 – MOA VE JESO FANTS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Jeso fant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njo ahy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mbola atsot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ndrim-p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kosa efa nilaoz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mahantra i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8 – MOA VE JESO FANTS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sasatra, efa r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fy ny ady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trotraka, toa ho ke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aingà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8 – MOA VE JESO FANTS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Jeso fantatr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o ny rafy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 ny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tsy tod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omeo hery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hy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8 – MOA VE JESO FANTS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o fa mijal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zaho efa momb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erezo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sisa hiare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tod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7:54:22Z</dcterms:modified>
  <cp:revision>35</cp:revision>
  <dc:subject/>
  <dc:title>Tiona Advantista</dc:title>
</cp:coreProperties>
</file>