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581-C8C2-4F97-917A-6E2B96D9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465-9076-41D6-B0B5-C9CCCAF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1FC-A647-4C21-974E-BAD0A3F3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408-4372-409A-9F6A-39F90D65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0BE1-518F-4729-9F6E-4CB332B5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A132-591D-4645-8FA1-E79E87FD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3DE3-BD4E-442F-A038-8F4C5E05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DC0C-5378-42D8-88C1-BE70F362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CB50-BAD8-4F85-BD9B-A63438E1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75A0-76B5-4F75-83EB-71C72B9C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DF8D-1C4E-4993-9399-4BF78EC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B29-F795-4941-93CE-A55EABB2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49F1-D9AD-4B0D-BF87-0B3D1947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B92F-A1B9-44B7-AD93-2248CB9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94F7-76CD-413B-88CE-DFF347BC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F5B7-86B9-49E8-AECA-23E90B0B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1F90-13D3-4D5E-9534-5966C45C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AFB-40E9-4200-B8B4-BDC8CA6A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872-EF51-4285-826C-7249D7C0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D4D-536F-4282-84F4-A2EBE909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E72-A4C5-4736-B8EB-4F11BADB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009-C376-4DD6-AD9E-FA162B85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ADC-E5D3-40CE-A4CE-6C72A94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931-75E3-4371-9F21-D587814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A385-E71D-4AC1-A34C-B7694FA062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BED2-EAAA-4D68-9778-E54FC24393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90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SY HAIKO INTSONY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4686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097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47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588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G. Guillo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HL3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0 - TSY HAIKO INTSON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aiko intsony,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ny handà ny ants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, ny foko 'zay n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atolotr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31160" y="4686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35480" y="5097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7120" y="547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7120" y="588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416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0 - TSY HAIKO INTSON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iso Tompo, A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fanananao hatr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apetrako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bony alita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61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35480" y="5097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7120" y="547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7120" y="588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416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7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0 - TSY HAIKO INTSON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! Hitanao, Jes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be ny halemeko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dre maro koa ny mpankahal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Ô, tafio ny heri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61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1160" y="4686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7120" y="547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7120" y="588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416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0 - TSY HAIKO INTSON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fantatrao re fa il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tsapana ka h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atanjaho 'zany s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drao dia mamoy f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61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31160" y="4686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35480" y="5097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7120" y="588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416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ena iriko, Tompo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haka ny endrik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indra koa hanamb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asoan'ny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0 - TSY HAIKO INTSON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61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31160" y="4686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35480" y="5097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17120" y="547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416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isonao tontolo,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jakao manomboka an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o ny foko, Jesos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ento an-danitra madi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90 - TSY HAIKO INTSONY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261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31160" y="46864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35480" y="5097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17120" y="5472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17120" y="588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4160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44:43Z</dcterms:modified>
  <cp:revision>116</cp:revision>
  <dc:subject/>
  <dc:title>Tiona Advantista</dc:title>
</cp:coreProperties>
</file>