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F59-F071-4E0B-B4B9-38FDB3A6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E87-BD1C-416D-AFF9-C72FA9C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F98-1112-4953-9316-9E638396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29B-3841-41E8-8E7A-C922347F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B87-D9A0-47F9-8BB9-809F0920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89DC-BBDC-4B46-AE1F-C5233E62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3B68-FE2D-4FFA-9D86-EEBE544F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115C-71ED-469E-9A45-7189CCCD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24B9-8060-4722-BE4C-CD82681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8E94-B891-49E3-B3B6-B2E14495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BF5D-8730-4B14-95CF-93665E7C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844-7EFA-4D6E-8555-0B9F18F5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EC4E-B646-4E97-8FD9-AEF7A705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B18B-966B-40BB-9F93-10F5BFE9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B9EB-7A7D-4944-AA8D-4E4C951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0305-6B79-4E9A-A8A4-31DB19B3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4706-F3A2-4A6A-A2A5-146B3DF2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0D4-E739-4E55-944D-202FEEB0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D46-E553-41B1-8AC5-A2D8AD0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00A-56A7-4939-9950-B949CE32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AAE-01C2-4452-97A4-3A8E59D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756-35B6-4768-99DB-8293A93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AB9-6886-420B-99B0-F86CFC3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C9B-A147-4A91-BF49-3627C07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A77-2855-4476-A99D-C42B951B05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BA55-518F-44FB-9BE3-00B242C070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 fisoronana ata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illiam Bredburg -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8 – FOTOANA ANANDRA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8 – FOTOANA ANANDRA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anandra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vavahako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tena m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rako eo an-tongo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, ekeo ny fivavah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riko e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iso mba ho h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nkasitra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8 – FOTOANA ANANDRA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jo zava-tsar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la hampamo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ony tsy hatah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tehitra ami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 tonon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ka mba vali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y 'zay andras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erin'ny Fana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8 – FOTOANA ANANDRAT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sy Mpanalala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ao ny fisoron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tondra ny taraina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mpita ny fifona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isy miafina 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rakitry ny foko '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ho avy I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-drahon-dan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feno ny hasambara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0T07:26:34Z</dcterms:modified>
  <cp:revision>35</cp:revision>
  <dc:subject/>
  <dc:title>Tiona Advantista</dc:title>
</cp:coreProperties>
</file>