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556-207D-443F-992F-6FF55863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2A4-A785-42C9-B18C-903E9B80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2EE-BFF1-47A5-A8FA-DB333A1D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B05-2F29-435B-8F75-A573C60B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94D2-79B0-47B8-B8D2-057AD9F7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7D28-7CD9-490D-90A4-19C6DAC9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CD78-0E38-4F84-8BA1-0FD835BB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80DF-0889-4D8B-B6EC-6939B2DC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A148-DD5D-45BF-BD63-D4EC5CA8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D772-A79C-411C-8D07-445466B9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C206-7895-47F3-BD08-F69F509D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4F43-BE6D-4542-AF7C-3321C6D0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58F9-FD21-48FE-800B-AAD8D582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8D69-BD9C-4A12-BEAC-D6A716EA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F174-E68D-4DBB-A63A-9073C9D8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AF28-FC5D-4C34-B3A5-0E4F15CD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2551-BCC8-463C-8FA2-30328BE2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B19-6311-4D27-B684-4FB170C3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264-4CE2-439F-BB4B-45C34B01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DED-4316-4BA4-8AF0-4003DC06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E76-B30F-472B-8433-54AF6410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960-0435-41EC-B7F7-64A5FC95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71A-C127-4A29-98AF-9539040B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1297-55EF-4364-B89F-F14B8DCF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499A-23C7-4FFC-8BE0-1FC0BB9A77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2990-F62E-40EC-BEF9-A774BC428C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pamo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ranklin L. Sheppar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21 – TAMIN’NY RAIKO 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1 – TAMIN’NY RAIKO 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anin'ny Raiko 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ho fifalia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ihiran'ny vo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eon-kiran'ny t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e taniny 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ony re ny sai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mah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zava-bit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hagaga ny natao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6392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1 – TAMIN’NY RAIKO 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anin'ny Raiko it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kalom-bor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dera ny Mpamoro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Derao, derao ny R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e taniny 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fenoiny ny s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endrombohitr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Voninkazo ko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tory avokoa ny Mp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6392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1 – TAMIN’NY RAIKO 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anin'ny Raiko it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ho hadinoi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 mahery ny ratsy 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zy no manja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e ! Taniny 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halahelo ah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Lanitra ô, hir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Mpanjaka Iz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via mihobia, ry t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6392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25T08:30:57Z</dcterms:modified>
  <cp:revision>29</cp:revision>
  <dc:subject/>
  <dc:title>Tiona Advantista</dc:title>
</cp:coreProperties>
</file>