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4EB-FF7B-440C-BFD9-DC3CC44C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7D7-1A73-45D6-A7B8-7519FF1D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7B2-95C2-4597-B1CF-AE31859F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9B9-6F17-43C1-AC67-2CE0C865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8525-8A90-4F66-9153-07C48B08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0BEE-BA68-4ADD-A0CE-7CE0F9A6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B39C-95E7-4FB7-9F56-CD237747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89C-20D4-446A-80DC-5871F555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0710-A38B-4449-B64C-11374085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542-411F-467F-A357-C459DC69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102-282C-4ECA-9085-91EFE52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C0F-D1F6-43A9-9095-AB2C65FE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A0BA-FAE3-4A02-B2D2-2C85C8D0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9FB5-CDB8-4629-A884-BDB2F5DF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6996-1B3C-471D-8B91-9608B10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C549-A722-4E79-9D43-DCE57D74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0DF5-EF65-4D0F-92DE-37861C3E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C8D-F7B6-490F-A922-883075F5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E6E-E5C5-41AA-9AA3-282360F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CEC-22E0-4268-A8E6-6B941065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57B-05C2-44F5-9DEA-6BA8AE9A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32B-F30A-4C77-BAF0-9F133FBE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479-A5CE-4008-AC98-0D748194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B50-40ED-4589-A9F6-BDCA8C7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F8B7-9357-432A-873C-3270088180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4614-C474-402D-9CA2-B44360EB3C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L. Thomp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5 – ANTSO MALEFAKA FENO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5 – ANTSO MALEFAKA FENO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 malefaka feno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amiko sy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amin-Jeso Mpitady m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dy ahy 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(avia) avia at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y mpanota mahantra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itsaharana hatramin'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ny ahy s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5 – ANTSO MALEFAKA FENO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anatrehan'ny Ray ao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na ho ahy sy h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eno hantra izao re ny f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oraka ahy s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(avia) avia at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y mpanota mahantra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indram-po efa vono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afy ahy s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5 – ANTSO MALEFAKA FENO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ty an-tany mandalo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koa sy 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an-danitra feno 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hy s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(avia) avia at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y mpanota mahantra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sambarana an-tany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ahy s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09:28Z</dcterms:modified>
  <cp:revision>66</cp:revision>
  <dc:subject/>
  <dc:title>Tiona Advantista</dc:title>
</cp:coreProperties>
</file>