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3DF-0659-4936-B1D5-A22C64CF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A66-DCD7-49DB-9EF7-BE9326DF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889-A679-4A74-BDB5-6CC7C368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067-A594-46DB-B24A-54D64565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C9B5-FB5E-4562-9821-FD0AD3D9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D814-A0AE-41FE-98C7-189BD3AC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79AD-CE2A-4B6F-BDF4-247F1EEC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0154-2E83-4FA5-A5AD-8170E9C2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41EB-5AF3-4EF8-97EA-D3E9A5CA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FA86-E4DF-4D7C-AF4B-10D40C41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A3B2-0821-492A-A930-69863561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CE2-A991-4E25-923A-BFADB4C5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F002-EE1E-4B63-880E-1D3231FF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5AAF-2602-4B09-922C-2341F580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2E1E-BAF7-4382-860F-FFE3A3B6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8267-8C0D-4616-9C5A-6FA14E08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EFB5-8780-49A7-96C0-AD6F9F1F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54A-CEF0-4FDA-919E-8726EF91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1C4-EE11-4A64-BD6E-7E6EC443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E7E-2B50-47BA-B2BD-F2986209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9C2-64EC-4294-A7FC-4360BA86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D45-BD73-43B8-B75B-330F9608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145-8C9A-4414-AAE6-1D0A815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C3B-3563-4582-BA4C-52A19ADC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6A08-5E57-4E02-8E15-9DA455E9FC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5992-3168-4BBD-A434-0DF23214EC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78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'NJANY MISY ANTSO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. Ramanantsialoni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P. P. Bli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8 - 'NJANY MISY ANTSO MA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Njany misy antso maf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ndrandrà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Mpamonjy lehibe, 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vy handra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8 - 'NJANY MISY ANTSO MA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vy aho : mia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y n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ezaha, matok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ho h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8 - 'NJANY MISY ANTSO MA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! Mangotraka ny ad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esy Sa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no mafy re ny vo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ial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8 - 'NJANY MISY ANTSO MA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noana aseh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fanev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y rafy dia hiko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mpandres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 ! Hifarana ny ad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o Krist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mpitarika mpiad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mpandres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8 - 'NJANY MISY ANTSO MA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3:40:50Z</dcterms:modified>
  <cp:revision>116</cp:revision>
  <dc:subject/>
  <dc:title>Tiona Advantista</dc:title>
</cp:coreProperties>
</file>