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0C9-9B3F-4171-A413-22F69AF9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E28-6E66-4888-8020-34E47F3C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F2C-24AA-48B4-A446-39EBC4C8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136-0BA7-40CD-B5E7-2F21F425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DF38-96E4-4715-9F58-883FD8E7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D517-A73C-426A-93B7-FB471F99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70B0-77A5-4C9D-8BFE-C919F9D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7E3F-9823-401C-A33E-F38345BA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C176-DE51-4CE1-9AA2-7F11283C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7D2-FDDD-46FD-BF89-B8C1C53D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AEBD-838A-402F-975B-D247BF20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3A2-46C3-4413-A75E-4D1A484C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7B87-4E26-4592-95DD-FEA3B6E5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D9EC-8696-4C85-AEEF-58A2A3FC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2E03-AF56-4C23-BCBB-D0EBB793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0E8A-29BE-4A6D-9C80-0AB53326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B335-07AC-41AD-96FD-FC5D8575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905-2CAD-4C5C-93BA-580F9AAD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A8C-7811-4724-AC27-066C0085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0BB-2C03-4CE4-B9FB-8D0E203B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E69-C54C-4F06-B51F-DD5016C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C8B-C3BF-4ED7-AAFA-3EA68276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60E-CE42-4293-B13D-D63864C1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F4A-EA78-4DC8-8B5E-A72B0FA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4518-728D-4CEB-83B3-7F02233CE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B982-6278-4865-8FF6-E0240205E4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8 – MIARAKA AMINAO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8 – MIARAKA AMI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aminao, Jesosy Zo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fifaliana, misy to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za sambatra ny e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fombanao no tiany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8 – MIARAKA AMI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teny ratsy tsy f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heno ao, tsy sitr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hiran-danitra milan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kaloana ny zava-kan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8 – MIARAKA AMI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ianatra any ny baib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heranay ny mpanang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ha ho avy indra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 izahay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8 – MIARAKA AMI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Dadanay sy Nen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fa nitaiz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samy tsy hangai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tody soa ka ho tafa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20:27Z</dcterms:modified>
  <cp:revision>84</cp:revision>
  <dc:subject/>
  <dc:title>Tiona Advantista</dc:title>
</cp:coreProperties>
</file>