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6C9-CF30-4D4F-A9E7-567C347D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67D-B27F-404A-8D2F-D016E6BF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0B5-D161-4BD7-A407-F91376DE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EEE-CDD7-4FAF-84F7-A3A5AD5C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119B-B1B8-4ABE-A5A3-136B21D5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77A6-FF42-40B6-9CC9-7DF49044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215-263A-467B-8934-B748767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7B6C-1C87-474E-BEC8-1110B1F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1F56-17BC-4A43-852E-2AA90A39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23B0-A052-4EFE-9514-894380A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88AB-C020-44CF-991B-2E0719D0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346-F805-4097-A78F-B6DE0D39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0AE8-4D2B-4FE3-882F-55C7EC0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590A-8626-4F85-8D99-5A6804D4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0D0B-106A-49AC-8F29-E7DB98D9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A38F-EFF5-4536-A87A-71FD55A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86AF-D188-4631-B1EF-D882E6BD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855-8CA5-4051-97E2-82319A11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2E8-ABFB-415D-AE5E-52DB464D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9DA-DE5C-4E23-AFC1-BAC8746B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ECC-E465-4F37-B162-17C56E86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991-2CA3-4C31-950C-BBA20ED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C7D-308E-4494-BD71-69F3F2CD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803-5CF4-48D5-8EA7-6F0D977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A4A4-8F86-4963-B10B-3B485E4443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5AC2-F90E-43DD-B469-F446D348D2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terarive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terarive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8 – RAHA NANJENJENA F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8 – RAHA NANJENJENA F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nanjenjena fo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la toky iza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ora manolo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anjombona toko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8 – RAHA NANJENJENA F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! Jeso (indro ! Je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omany, (mitom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fony tia 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o anilanao hat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ala na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8 – RAHA NANJENJENA F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isento sy misa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amely ny manj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sambarana miva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faliana zary 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8 – RAHA NANJENJENA F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alom-pijal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fody mahas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omena zaza t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itombo sy ham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9:30:00Z</dcterms:modified>
  <cp:revision>90</cp:revision>
  <dc:subject/>
  <dc:title>Tiona Advantista</dc:title>
</cp:coreProperties>
</file>