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CCF-C83B-4FC4-9C03-0284630F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00D-E73A-4970-9D3B-89917FAD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BE7-2EF3-4A5B-A6F6-42141804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683-E4F4-4914-B554-9853AAE4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B9C-75A0-4CAE-8BBF-01036C5E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5F64-9D4B-4AD6-B1B4-70FBF04B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02E4-789F-4DDC-9997-55942D6A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DB4-BF12-42AF-B912-5656334F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6C35-BF4A-46F5-809B-F04A6A36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86DD-793E-4300-99A9-4CCE784B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0B7C-FDA7-420A-8ED4-96D5399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E2D-1E2E-4C3F-ABBB-11CE4D41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DB8F-B982-4283-B6F1-F6DA977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5DF3-5543-43C8-9754-66F4066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9234-D3D8-4EEE-81AF-F72365C5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BEAB-96FA-413C-9698-40060426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4E8B-B692-4910-8B0E-C9EE2BB2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025-4A41-42DB-AAAF-D02430F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AEB-E37C-4BC0-B2F6-3917C3F4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087-A2D1-433D-AE44-D924F6CF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AE9-E52E-435D-B74E-2618A49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5B9-6E61-40EB-8708-C5422C3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51F-9206-4D12-AFD7-08A13C3B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7C4-23A8-49AC-8C53-B55D365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7167-4A79-4A27-8495-E61A73206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E62F-82EC-449D-8BBE-6E3D124C7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1 – ATREHONAO 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1 – ATREHONAO RY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rehonao ry Tompo ô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foto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voninahitrao sam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Atrehonao manonto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1 – ATREHONAO RY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lory tsilon-t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ay ny haf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fo mahi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eran'ny t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fahavitri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fotoan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hana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1 – ATREHONAO RY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ahitao ny t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to olona tafav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getahet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1 – ATREHONAO RY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dira re Fanah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boary ny f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kato ny Filazan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famonjen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lory tsilon-tsaina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7:30:43Z</dcterms:modified>
  <cp:revision>89</cp:revision>
  <dc:subject/>
  <dc:title>Tiona Advantista</dc:title>
</cp:coreProperties>
</file>