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81D-7552-41C1-9FAC-6631F6E6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B02-47AF-4713-8408-1C103752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C9F-265F-4EDC-ABCA-D10EB1B5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B74-8CF0-45DE-B7D1-8387D139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347B-9ADA-4BDF-B470-9EEF2F23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83AA-0B39-47CD-82FF-06CA710A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9B40-8935-46A4-95AA-8ED8843B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FBDF-9CB4-42BC-833F-DE5D4067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A294-94AC-417A-A1CF-8656577C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ADBC-76B5-4F19-ABF2-749C5ACD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10E5-A446-4EB3-B643-0522D8DE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695-8DDC-4790-930A-2CA72855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26F6-8421-496A-B610-32F19E54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1B3B-F655-4728-90BE-8ED1E9EA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3DCD-6096-467B-9192-CCFC94B6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16DC-2B10-4CBC-AB62-BC4B6E25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B071-B4CC-439D-8FB2-23980921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831-4409-43E2-ABE9-62427DDE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E49-8D67-4258-A70F-C3B0B78E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337-3D12-4AFD-ACC6-1ED2E625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6E2-1EF6-405E-B8B8-269D1D35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63A-8307-413B-B7C3-CEFCE997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3F3-7D63-480C-972D-814F1E3F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DD8-810A-4011-95E5-60DE02DA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2A36-026C-43EE-AFE9-EA14C6BE98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D946-3E08-47B2-BBC9-A19D5F3325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29 – ‘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9 – ‘ZAO TONTOL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'Zao tontolo 'zao matory avoko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tory, matory, matory avo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kotra haizina ao ka renoka tokoa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ondriana ery mator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asaka alim-be kanefa ny lanitra er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Mazava),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feno hazavana leh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a teraka ao ny Tomp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y fanahiko, hatory ve i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anefa ao ny Tomp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9 – ‘ZAO TONTOL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'Zao tontolo 'zao matory avoko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tory, matory, matory avo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kotra haizina ao ka renoka tokoa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ondriana ery ma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efa ery an-danitra indreo mihira avo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Mihira)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'reo anjely sady faly 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a teraka ao ny Tomp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y fanahiko, hatory ve i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anefa ao ny Tomp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323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9 – ‘ZAO TONTOLO IZ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'Zao tontolo 'zao matory avoko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tory, matory, matory avok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akotra haizina ao ka renoka tokoa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ondriana ery ma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akatry ny sainao ve izay nomena 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Nomena)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Ary koa ny fitahian'ny 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Fa teraka ao ny Tomp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y fanahiko, hatory ve ian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anefa ao ny Tomp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560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1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3:27:13Z</dcterms:modified>
  <cp:revision>78</cp:revision>
  <dc:subject/>
  <dc:title>Tiona Advantista</dc:title>
</cp:coreProperties>
</file>