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70DD-18FC-4EB7-914C-65EC9436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3893-948E-4C6E-B111-FA549A28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E577-F379-4568-80CB-2EF56CB7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C758-7545-4F98-90B0-AAC356E6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9E3E-106C-4515-B95D-6A947816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379C-5D2F-47FB-AEDD-0397FC7F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936F-0E38-47E8-97C9-7F5B6693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978A-7C17-42EA-80B6-D655271B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8384-2665-4B57-9E2C-057DD6F3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D943-7ABE-437D-9AE7-29B4E857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6B99-7B3E-49A4-AEB3-06CF281E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5DC8-D4A3-4EB9-9C6A-DF7DCAE4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E781-BF90-4092-A05D-1E7886E2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F828-731D-4B12-B9FD-6A14C8D8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F864-ADC1-47DF-BCC8-24BD9F31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E316-79CA-4548-A40D-65552E82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2EC4-C8EB-4503-A118-B88D6D8B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4DE0-60E8-4D23-BD55-6E748F7F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6620-E21D-45C0-B91C-B6A74433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8581-247A-4668-87C8-D564DA49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4AB-D8BB-4181-A40F-1D6BD889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A25E-9271-401D-81F9-F9092BBA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5E45-FA2F-4DF5-9813-346226A6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0BA9-2D9B-4B6F-9EFE-8E0831C7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2D12-A1E5-4BB9-934A-5AC3BC8C0B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16AD-DA54-4267-943B-4D5D8E29AB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nomboh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. Rakoto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. Rakoto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96 – ANDEHA ISIKA HANANDRA-P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196 – ANDEHA ISIKA HANANDRA-P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eha isika hanandram-peo ho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sina Jehovah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sina, masina, mas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hovah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VAVAKA MANDOHAL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sina, masina, mas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hovah Ray. Ame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8:49:00Z</dcterms:modified>
  <cp:revision>42</cp:revision>
  <dc:subject/>
  <dc:title>Tiona Advantista</dc:title>
</cp:coreProperties>
</file>