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16E-B9B4-4CCA-9E19-A69487F2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810-9836-452B-94AC-8DDA375D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A7D-8C68-4CC4-87EF-98B0CA1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12A-61BA-47AC-B453-182C3788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6B8F-20AF-48F0-8A75-6C733857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9401-B995-4D70-BC6E-4F3203DD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5B5-3A16-4040-A27D-E8D0157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03AC-BF25-4A0B-848B-AB173482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0DA2-AAAF-442A-9881-804CF1C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5D0C-496A-4633-A336-8D1FBE2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BB7-6E1E-4EF0-91F5-49805DE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DD0-3501-487E-A96D-782108C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1E4-01D6-445C-90FA-8AFC614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0CE9-2397-4A26-95E0-9642F57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E6B0-2B18-48C3-85B7-2F90694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F802-AD8E-4C7F-89B2-37B3CCB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EF26-8593-4AB1-A3C3-7579FAE9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FC3-04CC-4401-AD32-6F545AE8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9C1-633E-4FF5-9F35-001329F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385-ABBB-46DB-BDDD-B7C3FB6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E34-666C-417A-A10C-B878192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B98-B9FE-44DB-A467-DE58CDA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748-7033-4CB3-8896-22A2F44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ACF-EBBA-48E0-867B-D94614D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4085-E2B9-4F5F-A6FD-4A8144CE3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7EBE-5384-4F99-809F-02AE05A38E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Bo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196, DLG24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9 – RY TOMPO Ô, TAHIO NY 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9 – RY TOMPO Ô, TAHIO NY T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tahio ny 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rene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hiala anie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tsarov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9 – RY TOMPO Ô, TAHIO NY T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izay mi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v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oky Anao 'zahay, f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fahaval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9 – RY TOMPO Ô, TAHIO NY T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 nafafinao mazà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sy mamak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mandalo fitsap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ina mora v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79 – RY TOMPO Ô, TAHIO NY T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, Tompo, mba h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-po ny T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nga hery hampiv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53:17Z</dcterms:modified>
  <cp:revision>51</cp:revision>
  <dc:subject/>
  <dc:title>Tiona Advantista</dc:title>
</cp:coreProperties>
</file>