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BD6-9065-4A7D-8003-0793E906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65B-5547-4AD6-AB8B-3303272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68B-B5F7-4648-9DC2-450F09C7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961-97BA-4404-8DFA-7FB8FFDC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85E0-77A7-407B-9B84-899028D2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7407-0D2F-47AF-9D73-1F189FBC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D7D5-6DE4-4A2D-B467-FE80A5D5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8F7B-61D0-464A-88E4-7D300270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E11C-FEBC-46A5-846D-03300556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F7C5-E997-4620-B76B-13538BA8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A4FE-8654-4355-A640-8374677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656-0E0D-4836-800C-CC9A7CE6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975D-1663-4E7B-B1F6-8DD2747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DBF-5D56-42E4-A6CD-7893288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8DBD-A6E3-42E6-9804-B562B7E5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456-FC5D-49AF-B10E-A07CBDD2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4EB4-A129-47DB-B38B-5F82ED78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072-D23A-4BCA-9405-AC472A1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2EF-D72F-438F-92AF-719C9803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C3A-9FDD-43FB-A48D-60935F6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E55-F940-4A84-9510-FEF14E32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CB7-75E1-41A9-90B4-7CE8247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517-B982-49BE-87A5-DFDEF87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42D-AC62-4499-84DF-AA8C7F6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D13-79C0-48E2-86DB-E4BD4478B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60B9-9541-474D-96F0-CD50215626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4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9 – RENAO MOA VE IZA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9 – RENAO MOA VE IZA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nao moa ve iza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fiadan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jely faly ka maneh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Ilay Mpanav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Jesosy, 'La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ra antsi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itondra izany 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mba ho fiai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9 – RENAO MOA VE IZA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nao ve ilay feo mi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potra tao Gologota t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reraka miferi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'Zay nisol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tro ngidin'ny kapo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jaly ka dia mat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korain'ny vaho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re tena Mpana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9 – RENAO MOA VE IZA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nao moa ve izany ant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'i Je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anatona ry mp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m-baovao ome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amaly izany ant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fotoana me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vela ho matsa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v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9 – RENAO MOA VE IZA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nao ve hira hoe : &lt;&lt;Hosana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ntesin'ny voavo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re ny fana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hampifaly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za lavinao re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ome fiad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ba hisy toa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neninao re, ka eke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30T02:59:03Z</dcterms:modified>
  <cp:revision>29</cp:revision>
  <dc:subject/>
  <dc:title>Tiona Advantista</dc:title>
</cp:coreProperties>
</file>