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654-4187-4E51-A001-2AA0CFB3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D95-E049-492E-90C3-58B6C196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F61-0011-4D68-AF0D-028431C2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5A0-C804-4D0B-9BC2-4B9C4CC0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D704-EE1C-46BE-B4E9-6B0DCE88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AF9E-FD44-4B48-8AFA-AD578393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7E1C-059F-4773-BBBA-84E55CEE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6A39-0FF1-40E6-A33A-1009F004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782F-28C0-4A06-A55A-790ED078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6F81-DD41-4BD7-A950-CF0B193C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8EBC-3CC0-4FB1-88EB-744BC817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B7A-1A4C-4184-8ED3-F67E7A9B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80A7-3046-467C-8079-1D66575A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1960-66AD-42E2-8B91-9840BFE0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EDA1-FAC1-4EF3-A7A4-670E5B34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3396-A2C3-4EA3-98ED-C5EC692B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6DB6-4EA7-481A-B4CD-7F88CB56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9DD-E36E-4F53-9882-551C1872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9F3-837D-4D7C-BEFD-F2A3E6D0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398-78C8-4302-8040-59E9410A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522-B01F-457B-8105-BE27569A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CDB-AFAA-4AE8-8636-B8064002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50E-44A6-47A6-941C-884CCDC9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371-C700-40B0-97F5-8550E4DC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CF0C-27D6-4388-AFBA-7EE623DBF8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B76E-9D51-4F44-AA3D-92F7AC70B5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anasan'ny Tom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73 – NY RANAO SY NY HAMARI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288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288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288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1388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3 – NY RANAO SY NY HAMARI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ao sy ny hamari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kanjom-boninahit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ratsy izao tontol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faly aho miandrand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288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288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388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1316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3 – NY RANAO SY NY HAMARI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hy aho hanatrik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efa nodiov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Afa-trosa ah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288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288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388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1316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3 – NY RANAO SY NY HAMARI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Ny hazo izay nijal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No nanafahana ah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ataho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Satria efa navotanao</a:t>
            </a:r>
            <a:r>
              <a:rPr b="1" i="1" lang="es-E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288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2288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1388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1316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73 – NY RANAO SY NY HAMARI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oako fa ny rana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entinao manalal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oloan'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eza fiandrianam-pahaso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288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288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1316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4:40:21Z</dcterms:modified>
  <cp:revision>51</cp:revision>
  <dc:subject/>
  <dc:title>Tiona Advantista</dc:title>
</cp:coreProperties>
</file>