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52D-D735-4AD5-A044-D061DD38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74A-93C6-48E5-AC19-1F8339BC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53E-5555-4674-99CD-E2490E55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FC0-28BB-46EF-B251-3FC53912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8093-17A8-4B46-BAA9-6AA1F5D9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8DA5-599C-4FCB-ABE0-5C737B2A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48E4-B23E-4AB3-8BE5-5C631E5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534C-69EF-4B9C-A1EC-92DCCD9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8129-EEA2-4AD3-A49D-D0F2E837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5406-3960-4B3B-A504-0AC72F78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BF33-E261-4DD7-993F-BA83A80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383-8E37-4859-BC85-B5E5C882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4BD8-F04B-48F3-AE34-6F1401BE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6E00-0EE9-4CB5-A384-599800B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2526-EFE8-4B71-AC0D-4C9B319F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15F9-7080-438A-A2B0-288EB0C0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F490-EABD-4F00-B698-FCD79C16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2BA-1629-426F-887F-354113DB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75D-4C4F-48E7-8A0B-A4C87727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55A-A300-45BE-B8EE-456BC4A0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3CD-1458-4A76-A941-336538B7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9EB-3C4D-452E-9D26-77E9EE14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9DC-1C28-42C6-8B1E-52F2ACDF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C29-79A1-4F50-BC9B-C55A8A8F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CB40-CCD5-4C65-BE5C-94F4970FBC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DD84-EE0A-41A7-9EEF-3785C59CDD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dresena eo amin'i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harles M. Phillmore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26 – FONY AHO MBOLA K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6 – FONY AHO MBOLA K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ny aho mbola kely dia tsaroa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eniko nampianatra ahy Soratra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tantaran'ny Baiboly nankafiz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oro ny lalan-kizo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6 – FONY AHO MBOLA K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sino Jeso ireo talen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zoako manomp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iko aminao ny fangatah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vy re ny faniria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6 – FONY AHO MBOLA K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ehitriny faly aho, ry neny t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otaizanao araka ny baiko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Jeso malala any an-danitra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ly anao noho 'reo soa be dia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6 – FONY AHO MBOLA K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jiro hanazava re no tariget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intona ireo mbola ao anaty haiz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iako hiaraka amiko hitsena Anao Kris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andova 'lay Kanan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2:19:01Z</dcterms:modified>
  <cp:revision>89</cp:revision>
  <dc:subject/>
  <dc:title>Tiona Advantista</dc:title>
</cp:coreProperties>
</file>