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FC6-DA11-43DA-AF4E-3F400C73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DBC-2CCB-4C06-BABF-E7CE70E3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4FD-F763-4A58-BCCA-4ADB9B8A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62B-ED2B-421B-9523-6AFB2DA6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5516-CC08-487A-B64D-96E686EC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EA2-CACB-4D4C-8791-C138A83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D3E-A1F7-4F1B-91C0-5CCDE45F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127C-BB4E-4D0E-AAD9-A4098E1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2704-6FA1-48DE-BE23-EA18A723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D11A-B353-47C1-A48E-DA2E590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2AF0-CAB6-4EFE-ADDD-E677D31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096-B4B1-490D-9198-919BCF0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C69-21E4-4ECB-A620-ED0EE9B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A6BE-480B-40FD-9EB0-32A52F3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D506-F1D2-458D-B4A0-86E7428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234-7379-4628-BCE8-59B00AEA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3C51-93B1-496C-B6DC-452E6CB3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716-919A-4F41-A161-98D94D58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1CD-098E-41B4-9926-89F33AF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3E4-F28A-47B4-9D9F-3AFF7DE2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A63-E16B-41E0-A645-9F9D0D2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8BB-8B0D-456E-B744-1370F47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637-789A-4EB0-986C-AD5F7B0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6F4-43E5-4C0E-83B5-3B8B72A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9B6C-D9C8-4D47-91CE-6EA1478AD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E829-8E1C-434E-BB2F-7990AB5AC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erarive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Barracloug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8 – MPAMONJIKO FENO H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8 – MPAMONJIKO FENO H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monjiko feno h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voninahitr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eraina tao an-d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tsy niaho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8 – MPAMONJIKO FENO H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ndro, nifidy ho 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elo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dao ny lapa iv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sol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8 – MPAMONJIKO FENO H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voninahitry n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nanan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efa nilaozany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jalin-jan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8 – MPAMONJIKO FENO H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iza re no hahasara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ny h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saina, tena sy fan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niantoh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ndraiko an-karav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v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lemeko hosol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ninah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8 – MPAMONJIKO FENO H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905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50:12Z</dcterms:modified>
  <cp:revision>90</cp:revision>
  <dc:subject/>
  <dc:title>Tiona Advantista</dc:title>
</cp:coreProperties>
</file>