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455-FEF8-40DF-B7A2-13D70BE8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022-87D6-4DB6-B59B-2FDB58F1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A6C-DFE9-48D4-BFD7-940C2C92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652-4051-48CF-8315-4FF93412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1FA-0D87-461E-8001-9FD69BFB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1F98-E477-4483-8C0F-CF764CF4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C98-E432-464C-B077-9FD45E67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52F5-62D4-497B-AC37-A369DE7D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E08-BCA9-4609-881A-C136C6E7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1289-3975-4BB0-876D-199FF9BC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E9ED-D351-4BE3-85E3-DDC91EE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140-ADE8-4CC6-BD33-CDFE751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5094-18D8-4B79-8391-1CDA5A8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9DF6-94B4-43B1-8736-A2C15A63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EABD-3B60-4A64-A175-8F38DC54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6981-04DC-474B-90F6-7ED18CB6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3CE0-8C35-41C4-8DCF-C567315E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48E-4A4F-4412-86FE-51964505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D80-A0D3-4B9E-90F3-721EF6C8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2CF-163F-4501-BB16-529F2C4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886-B799-4975-B896-AF56AE60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798-7462-4D64-9F1C-16C76B5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8D6-8976-40B2-AF01-3F3681A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F98-28D6-484B-8C48-C10EE56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310-137B-4356-B7CD-0600DB56E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5BDA-3897-4FD8-851F-BD0029FF0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irkpatri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6 – FEON’I KRISTY NO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6 – FEON’I KRSISTY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'i Kristy no miant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 i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onjehitra ny v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hiasa 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njinao miant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alef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Valio fa antso maik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ty aho ho irakao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6 – FEON’I KRSISTY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sy lasa lavitr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, mba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itsy mantsy ny mp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taran'i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adasika ny s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ny fino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Jeso Tompon'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mpy he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6 – FEON’I KRSISTY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lentan'ny fit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tsy hana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hafa 'zay nom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sao, ampias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tao ny m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be norai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amin'ny v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sa soa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6 – FEON’I KRSISTY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tsy ho re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eny toa mand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Ray 'zay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baiko : Miaingà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v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asa irais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y ao ny Tompo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ny handrai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49:46Z</dcterms:modified>
  <cp:revision>63</cp:revision>
  <dc:subject/>
  <dc:title>Tiona Advantista</dc:title>
</cp:coreProperties>
</file>