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A988-741C-4537-986C-0ED87FF37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4329-DB4C-498A-9E67-0C5F2349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E1DE-B171-4FCD-9180-B18D79291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D647-3DB9-431C-894D-270797526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0D1F-8F40-4996-88FA-192E480F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ED9F-51B5-453A-9D89-80FE0CD6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A853-F882-4A4B-B68F-E28AFCB2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8C1A-1379-4482-8AF2-9671B6A8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3D26-066A-4784-89CC-C9917499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3A7C-A9BF-40C1-856F-C4F2C9B1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CD04-D8F7-418A-BDBD-3B0F802C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1CBC-030B-4709-BF65-FC0D7893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01EA-03FB-40E9-9B67-EAD50370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1B28-EDEA-46C2-AE96-D76C18A2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27A5-8F15-4902-AD97-9682E735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3511-1AAA-4685-9CA0-C3367DF2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91F4-6B38-4CBC-8CC9-0CE6394BA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C2F6-D526-491B-A5C5-DDFC0B89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6D00-9E73-46F0-9771-930D126B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D046-364B-44E1-8DC8-A3F01D60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57C1-71AD-4C05-8221-CB4C93FE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26D0-4EEC-42B3-8EDC-0FBA6684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918D-F263-453E-A2A4-52BF57E8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ADFB-3DB2-46DD-AC65-E560AB98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76B3-85E4-4414-89C2-D9FEDD5F6B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7BE5-4E74-485D-85E0-E0D04E7187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G. Augustin Mil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62 – FOTOAM-BOLAMENA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4665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50468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427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5808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3440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62 – FOTOAM-BOLAMENA TOK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otoam-bolamena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Lay hihaonako isa-mar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min'i Jeso Tompo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Zay mofo, ranon'a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48440" y="50468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43400" y="5427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34400" y="5808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3440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833680" y="4233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62 – FOTOAM-BOLAMENA TOK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ny, mamy re ny fitiav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Loharano mandrakiz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ifaliana re ao an-tan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antatry 'lay rahatr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43400" y="4665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43400" y="5427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34400" y="5808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3440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33680" y="4233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62 – FOTOAM-BOLAMENA TOK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tavany feno fi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mpisava ny fahori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y manamaivana ny d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ndresy hakivi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43400" y="4665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48440" y="50468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34400" y="5808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3440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833680" y="4233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62 – FOTOAM-BOLAMENA TOK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Njao reko ny feony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y ny antsa mandrotsirot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meno 'lay maraina v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vahan-draozy fots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43400" y="4665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48440" y="50468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43400" y="5427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34400" y="6249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833680" y="4233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 dia hisoka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ny andro ety an-t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Tsy mba ho kivy 'zao 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Jeso eo ih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62 – FOTOAM-BOLAMENA TOK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43400" y="4665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48440" y="50468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43400" y="5427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34400" y="5808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833680" y="4233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2T15:27:31Z</dcterms:modified>
  <cp:revision>90</cp:revision>
  <dc:subject/>
  <dc:title>Tiona Advantista</dc:title>
</cp:coreProperties>
</file>