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EEB9-4C23-4D96-B406-34458A0F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E7D-E969-4CB8-A212-B6E46E13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7150-E844-4264-9DE7-6C5229E7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3ED6-7B22-4349-9D2E-DFD332DE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A2FB-ACE1-43C9-AEF6-BC21BEFD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711F-FFA0-4810-9A14-C30E8F1E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FAC6-0F90-4F52-9766-EA343B47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EA51-10BA-4430-8004-96A177C1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F42D-7A83-47BA-A71F-768B1F76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6B68-0FEA-4812-9A81-5E63CEE9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26C9-EC18-4D61-8EFA-712BB5C2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5ADE-DAFF-4E6B-914A-13246076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B112-920E-46F7-8BA3-E33E9E3D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421F-87DB-456F-89DD-BADDC002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709E-1957-4E56-8920-11D9A9A2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8656-E7AA-4392-9C99-6EDD5A8A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8EB2-27BD-47AC-89C9-3BBC1DD1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C34-4F9E-405F-A4C9-0E5C116B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A4E-2ED1-42E8-9288-A8A467C3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90F-DE59-4091-B56E-26EC2C72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907-1131-4545-8756-0E50EB9F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B97-B1F6-492C-826E-DB8078DF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6489-25F3-4073-8BC2-D81D3F8A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3F0-065D-4378-A2C1-8CDD9E67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761A-5BE3-4E73-9995-A06E239A50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9218-2009-4F79-A58D-AAB1C813F9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Bati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amoela Lala Jame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M. Miry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Air du JEM40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64 – Ô ! FIFALIAM-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4 – Ô ! FIFALIAM-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Fifaliam-be an-danitra 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ondry 'zay nania hita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 ! havaozy indray ny f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endrika tokoa ny lap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4 – Ô ! FIFALIAM-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batra i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batra tafa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lanitra 'ty ond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voninahitrao ny fiainan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io sy ho mandrakizay. Amen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4 – Ô ! FIFALIAM-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Fifaliam-be an-dapanao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mpanota iray hosas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eraka indray ho olom-b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kasitraho Jeso ho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64 – Ô ! FIFALIAM-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y ô ! Tarihonao ny làlan'i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bola sarotra ny ady ha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rao manirery re ! Raha lavit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fio 'lay herin'ny Fanah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3:53:57Z</dcterms:modified>
  <cp:revision>50</cp:revision>
  <dc:subject/>
  <dc:title>Tiona Advantista</dc:title>
</cp:coreProperties>
</file>