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2779-6190-410F-9354-C6969DD8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7B66-1003-48EE-8AE8-1D2BAD58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D0F1-8348-4DD5-9082-1F09C049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9FEF-3E63-4403-A012-EB99F7CF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4F4B-DCA7-4EB9-82D7-5B8312A9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0A6C-710E-41DC-AAC3-E8A31719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A3DF-422C-4552-9390-2FBF51CE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9D60-62FB-4C08-A910-E03B3AAB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A804-1BFC-4E1F-B5E4-D753F6A8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E794-9DB8-463D-965D-3EBA10B3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1E41-B82E-4B32-84F0-04425F9C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8F30-6A2F-46D9-8DFE-D91268F2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C47F-BCD5-49D6-992E-A63D22A2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BB2D-BA7A-4C14-AA49-055A9D1F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351E-D907-4282-9F80-CEF89F83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ABBC-73D9-4357-87A3-6C75FA6B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FC30-302F-4027-9AA3-BE6BD85C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F594-4E60-4FC6-ACC4-6E7FA755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7C2B-BAE8-472E-B25B-17EE46E3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0CE-A206-4D3C-8283-A99611DD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7065-94D3-457F-8B72-88C9C52E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78FA-7663-4B73-8339-71F810F1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1F1C-877A-43E0-83ED-02D543C8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D97F-155E-4EA0-874B-FED25B2A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44D3-CFC0-4188-8E56-2EA8F25C36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6D51-DF4E-4438-BD5B-C43DCB65A7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kohof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. C. Steppier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043, DLG00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35 – HO HIRAKO TOKOA RY RA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5 – HO HIRAKO TOKOA RY RAY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hirako tokoa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fitia maher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fitiavana m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erina ny v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6284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5 – HO HIRAKO TOKOA RY RAY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'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! hirao, hir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foko hi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ena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Mpamonj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5 – HO HIRAKO TOKOA RY RAY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rao 'lay fahefana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ova ny mpanot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dia malemy aza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esy izao ny o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6284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5 – HO HIRAKO TOKOA RY RAY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rao 'lay fo mangor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sendra anao tom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rina raha potr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ny onjan-t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86284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rao Ilay Mpiamb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hy sy mitand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 tana-misakamb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alina na andr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5 – HO HIRAKO TOKOA RY RAY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86284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5 – HO HIRAKO TOKOA RY RAY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raiko fa mahar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ao,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aona ho any an-d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nina a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86284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8-30T02:53:31Z</dcterms:modified>
  <cp:revision>31</cp:revision>
  <dc:subject/>
  <dc:title>Tiona Advantista</dc:title>
</cp:coreProperties>
</file>