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1C59-69F3-4907-845B-A4751EACA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6C3D-726D-41DF-89E7-820AC1E7C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80BD-2BB8-4A5B-8404-44992A8F6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2CF0-29AA-49CB-BDD8-A098242D9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C852B-F588-4A18-BDCA-DB30B20AC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259C6-D423-4C56-B18C-AC2D6D0A6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AE768-EF1B-4B4F-98C9-42FEE82A9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5043B-DBA5-4C61-BE21-FFA955C64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6FB6A-4052-4E72-8646-2198CC515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8C1AD-07CE-4E52-B770-4A6922A68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110F6-D7D7-4412-AA9D-164E14A41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400F-A07D-46F6-9500-9D42B7D51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8B3EB-8BF5-40D0-BE97-DC0CCC333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4C1CA-2C8E-4064-9586-1E1387551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D057B-C14B-425B-9D23-FBB3F9943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902F0-6104-4C18-AADB-8ED639583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A0827-539B-41BB-B16E-3B0C49E10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687C-052D-4EFA-8318-13F1E49A8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D9E1-4D3C-4D97-8F42-F549772BC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DEED-73FB-4F9C-898B-C70F0605D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9A34-F97E-42D4-B785-86166BBE8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0B8B-7A5D-471A-B2C2-9E6C64BF5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BC15-C9A8-4053-BE98-FFA108EDB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43D8-FE89-4054-ADA1-3906A2F02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1C12A-BADC-4AD9-8DDB-757191BC79C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64CE0-299A-40BE-B545-16C0839995D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OLON-TOKANA - OLON-DROA - RODOB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Rajoelison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Meredith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655 – RY MPANJAKAM-BONINAHI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4340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48440" y="55609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434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8344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55 – RY MPANJAKAM-BONINAHIT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Ry Mpanjakam-boninahi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e ! Midera A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Izahay 'zay very lavi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Fa naveri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848440" y="55609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8434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88344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8833680" y="4748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55 – RY MPANJAKAM-BONINAHIT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Ekeonao, ry Ray, </a:t>
            </a:r>
            <a:r>
              <a:rPr b="0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ry Ray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Ekeonao, ry Ray, </a:t>
            </a:r>
            <a:r>
              <a:rPr b="0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ry Ray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y saotra aterin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o mandrakiz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84340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8434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8344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8833680" y="4748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55 – RY MPANJAKAM-BONINAHIT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Zanak'ondry, misaotra A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Faly, ravo e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'Reto olona navot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Tany Kalvar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84340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848440" y="55609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8344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8833680" y="4748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55 – RY MPANJAKAM-BONINAHIT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Ry Fanahy Mpanavao ny f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Eny, raiso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y fisaorana eram-po tok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Mendrika 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84340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848440" y="55609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8434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8833680" y="4748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22T08:44:13Z</dcterms:modified>
  <cp:revision>90</cp:revision>
  <dc:subject/>
  <dc:title>Tiona Advantista</dc:title>
</cp:coreProperties>
</file>