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37B-AEB7-43A6-9A8A-57DD80AA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FD2-51F9-4BA8-B6C4-A7938AE4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746-3040-4BD2-B2F8-519E385E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80B-CEB5-49B9-BA26-EAC85062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F3AA-ED69-4438-B9AA-B253D776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FEF1-64A8-4D72-8FF2-AA9F990F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5771-8C20-42E9-A0E2-553583FC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8574-DB22-44BC-A672-19EE6A4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906-B9A0-4524-B458-D4FBB2EB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3544-D3A3-4B5A-B8BD-51BAD95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7294-E7ED-4359-A52D-807CA65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395-FDA0-4057-9B66-349A6079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C523-C239-4F88-8DE3-969333D1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70D2-090A-44E9-8642-0426F3F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DF6C-9D61-42AF-B3AA-4AB4F729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D51B-2CE5-422D-9FE1-BCC70BF7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8ACE-73B6-4052-8C97-8C79A574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698-CE62-4450-B1F8-6CF3B94D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0E2-E871-4B9A-818D-C790AF0C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292-8987-4326-966A-06A627F4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BD1-845A-4A52-9DA1-EB86D061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91C-EDE1-46CA-9909-3981086E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EF3-5AA6-4CF4-A896-A82272CF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11D-F8E8-4956-8F19-0C908083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876C-95F1-4279-AAED-0682E1B104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5277-AC7F-4E27-B368-1ED96246F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M. Granah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00 – TSY FANTATRAO ANI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0 – TSY FANTATRAO ANI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fantatrao ani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san'ny fitiav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kosa ant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azav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0 – TSY FANTATRAO ANI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petrako ami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, ny fiainak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oky fatratr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Ianao 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0 – TSY FANTATRAO ANI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vesatra ny ta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la tsy ho zak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ampy ny haso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azav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0 – TSY FANTATRAO ANI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andrahona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Masoandr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dia mbola h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azav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Rehefa hazav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ondrako mah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isaora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ameno ny fonao.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400 – TSY FANTATRAO ANI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1:14:08Z</dcterms:modified>
  <cp:revision>69</cp:revision>
  <dc:subject/>
  <dc:title>Tiona Advantista</dc:title>
</cp:coreProperties>
</file>