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FC2-2370-4BF6-A50A-1EB7F522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78B-449A-42E0-86C9-06B58C1E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C87-1F8D-466B-97AE-78C0AA27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A6D-8E68-4793-82A0-808486BE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4264-1BFB-4FFB-B008-89C2532C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7BD1-3F9E-4108-804D-40CBF6B4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427-800F-4F41-9BE7-BB5EE62A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B553-83D8-45BF-9D55-0E7D17D7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02B0-5C1C-490B-930D-A896EE82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2FDA-53E5-4B59-8761-5146AED6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39CB-508E-4A06-AE5D-B0EFEDA2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33F-FEE1-4A42-A76C-1068892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BBDD-7412-4B8D-8AF0-2F40257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3B68-A48E-4448-A050-CE70EAF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918F-C0E9-4EBE-A2A4-7EB821F7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C452-E97C-4573-A736-83DF4C7C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06C7-A17C-44F8-A8C7-7A7C98D7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68F-1D4E-49BC-9CA6-DDF39FFE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757-D0F5-42DD-88A5-1FBE2478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858-F83D-46F7-AFC5-96F21C15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F5A-AA81-4FC0-97D8-299EDC5C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FF6-3CC7-4AED-ACAE-E84BD8C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09B-B4FF-4929-9877-794558E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321-132B-436B-A58E-329AF022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6E14-2043-417A-95DA-5E60E9B3FF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0F72-7F2D-479A-97BC-7181553080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uttro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233 – TOMPO MALALA, FENO HATS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90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6467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3 – TOMPO MALALA, FENO HATS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feno hats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irinay ny hahit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sehoy aminay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mahavonjy tokoa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90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20000" y="6467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54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3 – TOMPO MALALA, FENO HATS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Tsitoha, Tompo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boatra fonenan-tso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avela, babo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nao re ny fonay iz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90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20000" y="6467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54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3 – TOMPO MALALA, FENO HATS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hery, aza ela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sa-miandry Anao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sehoa amin-ker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irery no fiononanay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90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90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0000" y="6467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54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33 – TOMPO MALALA, FENO HATS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, faingàna fa tsy mahata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y izay onenana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 ny hitoetr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, eo no honenanay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90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90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54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47:26Z</dcterms:modified>
  <cp:revision>46</cp:revision>
  <dc:subject/>
  <dc:title>Tiona Advantista</dc:title>
</cp:coreProperties>
</file>