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65E1-4318-4688-B6D1-E276C2CE0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079C-DAD6-4AAD-BD26-2F701173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792F-9CF4-4BEB-9348-F2A7E9FA8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7335-3D5F-4679-B322-FD26F5A88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49BC-F48B-427E-B804-6B3E23559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FB99-CB73-4746-A520-601EA948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25CB-3EF1-47BC-AC14-AEEEB54F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F20D-06FC-428F-8D49-F35976A5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BF04-40C9-4A4A-94BA-A8A6BE6E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F486-34F6-4D17-968A-9E662A7F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81E1-B62B-441E-B7D6-5DB4B92E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28A4-0895-420B-83B2-6EEFE17E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3A8D-B793-493D-AD65-AF0F00C5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7E71-B678-4419-9D62-8DB9BDB7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EE7B-9EA6-42FE-882F-DE182795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0644-9414-4AFC-9321-0A06C11A9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6F72-DACA-4173-AF12-D97C53848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54F3-113C-4419-9CE0-7004F80A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E552-0E7C-48A8-A3AD-1C49C932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35EF-7960-4493-8E68-23FED403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713F-9907-4879-93DE-D9BB729D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2FEC-2C75-4A08-81D0-F8738A55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CF13-CCE0-4865-9E56-A5BD4AF5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6DF1-A3A2-4E23-B3A0-30CBAD15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3314-D303-49C8-A475-5C5B65BF33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BBE1-AFB5-432D-982B-59A1A7E912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ante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anne Ratsi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amy J.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3366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23 – ARY ANKOATRA 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942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86392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23 – ARY ANKOATRA 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an-koatra 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fonenana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an-koatra 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fonenana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an-koatra 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fonenana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izor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23 – ARY ANKOATRA 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'Ndeha re hiara-miakatra 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'Ndeha re hiara-miakatra 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'Ndeha re hiara-miakatra 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Ao an-dan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23 – ARY ANKOATRA 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amonjy ahy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nefa mety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amonjy ahy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nefa mety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amonjy ahy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nefa mety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Iz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8T05:48:20Z</dcterms:modified>
  <cp:revision>75</cp:revision>
  <dc:subject/>
  <dc:title>Tiona Advantista</dc:title>
</cp:coreProperties>
</file>