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7305-A890-4C19-9733-DECC3D5B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B571-BC07-42AB-9B08-ACC8EA84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F537-4EB0-408C-8B43-54B83655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CE1F-9D8E-4458-AB3F-38FF7B21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D312-8791-4E4E-B4B0-63994DB6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00C8-4617-4F69-B5BF-7444A742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BDC7-6E21-41FB-BAFF-1F903A4A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2138-0946-4897-B1A3-75F5E34F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D0C1-A6FC-4E22-9FC3-86E0EACE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8AA0-B8FA-471E-8335-EC07AE51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01DF-958C-4079-988C-EAB6CA94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CDA6-6C55-4DB7-AA27-972730A8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18FC-78F7-4D4B-9882-6A963847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AB7D-5666-479B-BFEF-22DA6F81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5171-45F6-4186-9351-45CCE4FA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D77B-39CA-4724-8ACD-56CD1541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07DE-EE96-412A-9FD5-9884D5B1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5B4F-C613-46C3-A739-FC22200A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39D1-DDB8-4858-91A6-7CF79D41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79D6-5E78-41F0-B264-2FC46D1E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726D-1B3A-442F-899C-52715929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1400-F9F3-4208-A901-4F4A3CE1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5150-BFC5-420D-8814-7A1569D2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BD95-6F41-4F3E-883B-671327A7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28F5-E955-4223-BE33-493E0983F4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CE13-BD98-4156-8FDE-EBD48A3560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lin’ny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zafimahef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P. P. Knap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48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65 – MAMIN’NY F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5 – MAMIN’NY F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in'ny foko ry Jes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monjena izay vit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disoako navel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afaka aho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5 – MAMIN’NY F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malala ô ! Mpamonjy so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ny aiko raiso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elon-kanompo, velon-kan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on-kanao izay sitr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5 – MAMIN’NY F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o ny foko, ry Jeso t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aza tsy mahasaraka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ola malemy, mora m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o hifikitra ao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5 – MAMIN’NY F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ny foko sy ny f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-mitepo tena ir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ny saiko sy ny sa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ray safidy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05:33:14Z</dcterms:modified>
  <cp:revision>62</cp:revision>
  <dc:subject/>
  <dc:title>Tiona Advantista</dc:title>
</cp:coreProperties>
</file>