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FDE-B7D1-4965-B6BA-91F09F4A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F5E-4A61-49B1-ADFC-91B6BCB5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5DB-E0D0-4534-A7B2-C3BC907E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0FA-BD41-4B3C-B704-26F717C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B227-53B6-4086-9B14-03507F8D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9645-D377-4A0E-BE13-7DFD87F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F67-263C-4E81-ABEC-9A54D92E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16F4-5C11-4620-A21C-4D906D4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A68-8451-4BB9-907C-C4A0CEBD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935-3220-42C2-8247-EC7035B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0D07-F9A5-41EA-9991-ECC8704C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55B-8C0F-48DC-9722-8BB8A21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4A0E-8B29-4DD6-85B1-2020F51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4D1E-5C05-46C2-8649-C0573FA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F391-4ED8-41AB-ADFD-8A2538C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F500-61D1-41B2-8F57-D020E45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4A9-429E-49D6-AE22-24630BD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ECF-DB9F-492E-8386-4482FC00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B6F-7AD9-4383-916D-9F19F649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594-6C09-43D6-AD6E-2784F24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C9F-1295-45E1-A9F6-F350D32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4B2-14C0-4F33-B8CC-D7BDB8E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14C-0A60-4D8C-B478-5FBA3615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986-900A-46BA-9A1C-830E9C5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4A6E-E65B-42B5-B2D7-4E8D8A8BA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AA2B-CDCC-4250-8053-F6B170F69C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Do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63, DLG2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3 – MANGINA, M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3 – MANGINA,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! Mangi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fa inj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i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fa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na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, mif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d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3 – MANGINA,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! Mangi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enon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e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Avia, ry mp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k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izao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3 – MANGINA,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! Mangi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lo 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o dia sond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tsaho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aza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re 'lay f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m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iso ek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03 – MANGINA,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! Mangi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am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ha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re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ah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in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11:38Z</dcterms:modified>
  <cp:revision>42</cp:revision>
  <dc:subject/>
  <dc:title>Tiona Advantista</dc:title>
</cp:coreProperties>
</file>