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E64-6306-4126-B9CC-4377DAD4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44D-9389-427E-9908-B6BC471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DDB-5B9D-4133-A72B-B7A4ED1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383-3F09-4E5A-9E39-BA4661D1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0329-08D4-4ED4-9C27-9487E7FB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604F-8712-40F9-81B2-0EA63264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0B3-0485-4ABE-9814-5968843E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1C3-3928-4F72-B384-9B83C2D0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159-2D24-4155-AE8E-8372B4A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780-7D53-4F76-9AFF-6FEB8D0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A97-7DCC-4569-A04A-5BC9399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F0D-9DA0-472F-99F9-74CB667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63A-5B21-4F3C-827B-2F204D4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EB3E-A7C5-4CCF-9965-FA0F897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024D-A68F-4629-A7B3-A3DA5C09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C59-3194-4143-9F61-8A926EDC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6911-67E1-423C-8042-CE47AB60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D0B-B019-412F-A6C1-549837B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0A5-B740-4DDA-96E1-185F7DC0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2C1-D3A1-42AD-BED4-7A782E4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20F-511D-40C9-B13E-C22DF8D4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661-8C90-46DA-A623-974388C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EB3-33B2-478C-BDE4-160AAE2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D5C-6F23-4F23-9FDE-911B54B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EC8A-7AC0-4346-89AF-D330987FC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0485-F20A-481B-A083-4E8BAB6FC7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4 - FANKAT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8796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8832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4 - FANKATOA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katoavana, fankat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katoavana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filamatra harah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rahintsika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katoav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katoavana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oso amim-pahatok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832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4 - FANKATOAV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velona amin'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i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otro ny ran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eken'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vavaka ami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androso an'i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ri-po, mahery f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796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19T09:27:31Z</dcterms:modified>
  <cp:revision>86</cp:revision>
  <dc:subject/>
  <dc:title>Tiona Advantista</dc:title>
</cp:coreProperties>
</file>