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FDAD-D472-4D61-90E2-7D65BBE5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E87D-51E6-4478-9237-246D6FA9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E15-9694-4EE6-AEA3-1B5DD0A9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BEF-8728-4080-8124-2D208EC8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9D4A-D786-4A11-B915-C8E6A99A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1359-FAB3-4082-813E-5A2460F9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9249-9F3D-4632-B91D-8DD8A7B6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3704-97B5-465C-82CA-52F53E51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4984-350B-4FE1-B642-45E87D9F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B08F-19DD-45DD-AAFB-3269A525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E058-28F8-42CA-A63D-D50DCF7C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E66-032E-41B7-B118-A465BCC4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6B70-B322-46F1-ABE4-7C464855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79F8-2141-4B13-BCC8-22FE1941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F67A-91FA-4C42-9403-69C0DECC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0B7C-E7CE-4CB4-B55A-316B4BD6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C2E8-06D5-4D54-90B5-5FD4D32C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F1DE-88A7-49B8-82F9-9BBDFE4E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0945-8CD2-4F82-9044-A96D4152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2887-7760-4D77-9908-9E4B8EDF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04A6-48DD-4B5A-A02E-87A743A3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CDDA-D0A9-4CF2-839A-E538716A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2A4F-2F93-4475-B6B4-8A390869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CD2E-0B00-46D9-A158-0521FEEE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3E6E-C713-42AA-9B2B-B0195E94F5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BA1B-B307-48F3-A3D4-0F8172E15C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TA471 -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MBA OMEO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2900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anoloran-tena sy Fanamas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G. Mond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P. P. Bli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FFPM6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1 - MBA OMEO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omeo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o madi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faka ahi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Ana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ho dia mal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Mba hafana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hikely 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hefako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2900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1 - MBA OMEO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ola manango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akam-pan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o koa ny devo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a hamotrak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mpo ô ! A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mpanomponao '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ry mba taf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erim-po v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2900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1 - MBA OMEO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tolory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Zotom-po sy h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hendrem-pan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o mahay miet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pianaro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hanolo-t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mba hatanj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ino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1 - MBA OMEO 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hamasi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saiko, ry Tomp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omeo fo min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o mahay man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o mahay mihaf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o miravorav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dia voa m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o toy n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900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3:14:06Z</dcterms:modified>
  <cp:revision>116</cp:revision>
  <dc:subject/>
  <dc:title>Tiona Advantista</dc:title>
</cp:coreProperties>
</file>