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AF9-6FA9-474D-A707-367FAD81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0F0-139B-4214-9FF4-6E8995E6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0A2-5308-4C78-BDF5-B6C3C5CA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3BD-53DE-4E38-BBB4-64F75742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63C1-BD52-44C6-9DFF-4B03810F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769C-1E88-464F-B84D-A58EA30F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8DA7-1A7C-48DA-998E-DD924595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D281-1B34-4EE4-8576-939FED53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A941-EF60-401C-80E8-3ED5810C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D2AB-BD87-410A-8502-B7190FCE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F5F6-F358-4C25-9D53-BE77DB0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C33-5CBD-4897-8E40-C485E3F8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2EF1-C6C8-43C7-ACDF-32BBFBC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B99F-B5E8-457B-86C9-42F0D077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885D-93E6-4FD3-8395-9809B3DD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8FEF-A9DF-47BE-9258-B198EDBE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BDAB-4E46-4FCC-B954-77B3BFA6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426-73CC-430A-AD5A-C332EC4B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206-0FB5-49AE-B4DA-DC21D03A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FC0-F4CC-4C51-86CF-F15CCEE9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20D-4922-4859-9C87-32167614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E1B-F200-4392-A41F-33E8CD3C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45D-D6A0-4B57-A1BE-FF2733DC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08A-81EB-421E-B8FA-899C4A1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B029-C403-4ED1-AC8F-11E7674148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5B1C-0F22-46DC-8834-EB24771D72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masite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05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69 – RAHA TONGA ANIO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9 – RAHA TONGA ANI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tonga anio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-kery l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rahin'ny mp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anjely marob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9 – RAHA TONGA ANI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ho faly h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ho faly h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idera n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nanavotra aina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9 – RAHA TONGA ANI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Ho simba sy ho 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o rehetra ar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ifankahita t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natao sy ny Mp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9 – RAHA TONGA ANI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so maro no hij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nijaly fah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mino Azy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o faly rahatr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ehefa tonga re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itsara izay n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omany ny tsy mi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anatrika Azy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9 – RAHA TONGA ANI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9 – RAHA TONGA ANI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 ! Avia re, ry Tom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njaka am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hatonga anay mp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ra-pal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 ! Avia, ô ! Av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 ! Avia, ô ! Av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olon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maniry indrind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6:41:37Z</dcterms:modified>
  <cp:revision>39</cp:revision>
  <dc:subject/>
  <dc:title>Tiona Advantista</dc:title>
</cp:coreProperties>
</file>