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D49-2EAE-44F6-B41A-A58F4DDC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4FF-6184-45C0-B646-CFCAD694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9F6-DD40-45A4-8AAE-91752ECB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9BA-3360-47B5-80CF-CD2C24E0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3B6-334F-4300-AF82-446E76A1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2CE-A3D1-4083-9EC1-0674A4B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2309-4D3D-4DDF-A98A-8084A02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71D7-633C-4A8D-ADD7-1FEE7EF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BCA-94C7-4B3F-8574-EDFB953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1B1B-F6E2-4F56-AFBE-390AC3EF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C86-D2E6-457C-B28C-10CA57C6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345-5226-494D-ACED-8F212058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8299-65B4-486C-B174-BE051ED2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436-DC59-4055-A3C1-0852FBB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A822-623A-4FBE-958D-A945FDA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B86-22E0-48A2-8EE4-C73E70D5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9A1B-9DAA-4E28-81EE-F939122C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76F-51C2-459F-9F2B-35115C5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3F3-C6A1-46C0-89C8-DF370393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76F-8DCF-4FAE-99CE-81E984F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072-99F2-417C-B4D3-0CC8867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1AF-234D-4E3B-A4E5-64E4404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85F-0FF2-4222-96C8-C4145ACD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29B-1BE1-4F37-8A70-80E8C23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0F6-2EC2-4E82-934F-854AB3C41E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45C-0137-4C90-B500-5787ECBE77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S. Thomp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N. L. Schjorring - S. E. Jorgens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7 – FITIAVANA RANOV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7 – FITIAVANA RANOV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rano v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oharano lal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fina ao ana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-dan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7 – FITIAVANA RANOV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no nirah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tamin-Jehovah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Mba raisonao, dia ho fant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7 – FITIAVANA RANOV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didy t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didy lehi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 ao, hitoe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iadan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24:42Z</dcterms:modified>
  <cp:revision>69</cp:revision>
  <dc:subject/>
  <dc:title>Tiona Advantista</dc:title>
</cp:coreProperties>
</file>