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054-D7B0-4944-BFF1-329B39F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B81-EFAC-4D92-8AC4-741CCFD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57A-0B64-437E-83CC-F43F510D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370-2CB6-48A9-A22E-BD3D6196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13A-82CE-43AB-8D67-1C672DE9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8CEC-7E64-406A-9579-4B0A512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45F-E6DA-4C24-BB6C-284C51D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B174-44E9-4EF5-984F-272A4A4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3236-4DE5-466B-9150-72C4B63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A68-F48A-4F44-B62A-32D1CBE7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4F3D-A8BC-4C70-92A5-61471E9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28E-8F18-4F02-8A26-6D82E03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E5D6-0C15-4908-ABE1-887C56D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A0AF-F6A5-4056-AC99-CA4787C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B193-556F-48C5-B007-7137D042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D1B-7ABC-4358-90D6-615C3091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F68B-1D31-47AF-9EAD-73253F4F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90E-4EF6-48A3-8DC3-6D1BC81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3A6-6FDD-460E-9020-B02F08E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C4E-6B2D-4CFF-8D38-DAB61144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24C-FCA4-4DCB-994C-6406359F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A86-C65A-476F-BE0F-2462CCD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BDD-6AE5-49DB-9BD5-9F08541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C93-DF0C-492F-B587-1A453D3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BFF-597D-439B-A971-29CD2CA97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22E-F79A-457F-AF88-15163DEFA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7 – ANY LAV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3396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4840" y="50468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4840" y="54277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2496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2496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7 – ANY LAVI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y lav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m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 no hank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piono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la n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ilaz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4840" y="50468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4840" y="54277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2496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2496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3864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7 – ANY LAVI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 mandeha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za re no mba hank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 no hank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y lavitra 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kany lav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y lav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3396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54840" y="54277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2496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2496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3864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7 – ANY LAVI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za re la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a ny Tompo momba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Tompo momba a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mba malain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sangà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:,: N'aiza n'aiza mis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asandrato ny 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sana)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3396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54840" y="50468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2496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2496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3864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7 – ANY LAVI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mbadik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m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 no han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 no ham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mali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ony izay mijal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3396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54840" y="50468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54840" y="54277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2496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3864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n-tsaha mang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vi-pifali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a ne f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tan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eny misy 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eha re mizo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7 – ANY LAVITRA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3396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54840" y="50468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54840" y="54277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2496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3864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49:28Z</dcterms:modified>
  <cp:revision>89</cp:revision>
  <dc:subject/>
  <dc:title>Tiona Advantista</dc:title>
</cp:coreProperties>
</file>