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8D3-41F6-472E-B6B4-51DC6304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C3B-96BB-4176-80B1-135AFD35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949-80A2-4824-A2F5-B18DEE92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8D1-89A4-4FFA-A24D-E488AF00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241-2FA9-40B9-BFD8-446F2747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760B-B29E-4AD8-8A1A-9DA1E039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2782-D4F6-478B-A884-14623C9B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DDCE-25AC-4C7F-8A6E-0AE4589D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7DAF-91F0-43B6-B68B-6BEFF644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F194-A2E8-4B8D-8183-BE19D02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F135-1346-4A5D-9EA2-001C3734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1AC-A9C2-4314-BFFE-ACD2C8CD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4CE-D713-408E-93CF-D646D4C0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DE47-7FFC-44B4-8974-C94267C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A208-9922-41B8-ADA1-D584217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E9C2-0AB4-4D2A-B1A7-4E61C0F0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5D05-D0BD-41CF-8F13-9F980BEC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9EB-747B-4E05-8BE4-C21071E4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56D-5354-4FFD-9C16-C68AE4D5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5E9-6D24-4FBA-9F93-F247DF2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BE4-54D9-41E0-B7E5-92C21A64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4CC-224D-4C2D-8352-03CDCA12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89F-6934-4E12-A3E2-3855532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BA1-A247-47A1-BBCC-FAE5B64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B0E1-673C-4A27-BE88-50EF413B5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4A8C-6712-4AD2-BD1F-597343BE6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illiam J. Gaither - Mamy J.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25 – VOAGEJAN’NY SAINA TSY N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5 – VOAGEJAN’NY SAINA TSY N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gejan'ny saina tsy n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evozin'ny filàna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ny Tompo re tsy mba nanad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monjy tamin-dra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5 – VOAGEJAN’NY SAINA TSY N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afaka aho, voa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intsony hel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ka ny ota 'zay tena nampil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avela tante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25 – VOAGEJAN’NY SAINA TSY N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afaka tsy voahel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'ota lasa rehe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vela ity mpanota nibeb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elana tsy nisy f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afaka aho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771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7:44:26Z</dcterms:modified>
  <cp:revision>35</cp:revision>
  <dc:subject/>
  <dc:title>Tiona Advantista</dc:title>
</cp:coreProperties>
</file>