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185-6BD0-4880-A5D7-7891174D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739-9F6B-4376-A05A-E0987367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617-9915-49EC-96F3-64203AC5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7A1-61C7-40CA-A842-AB201062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73D6-A793-404E-B3E9-E0BE507B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D46D-E24F-460D-B91B-06011E34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EFAD-F79D-4B25-A14E-B1A41C47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3D1A-82B5-4914-9448-EDB91C01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4D69-EA78-4DC9-9EA2-06AD50AF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7616-652E-4DF0-8F36-496DC1E0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F400-825E-4A22-8D73-EDEEC71D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0A60-8595-4EF1-89B9-9ADB5456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89DC-53DD-4885-974A-91CEFEDF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2A52-791B-445C-9497-CB8A7447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C934-BB8A-46E7-A120-7AC407DC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D839-3D29-4735-8B15-5467918D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3012-0D2A-41D6-8077-641039DE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956-68C9-4DFD-B22A-CE3A3BEE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2A7-55FA-41CA-AEA6-C1A1D1E0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654-74B7-4BE8-A493-89AF9651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C29-49E0-489F-A6AE-850DE626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86A-F609-425A-8198-FE531876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EB1-8C32-47E2-8EA6-1DB5F9DC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36D-898B-432F-97F8-9D948E7E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BA3E-7321-4C0D-8BC3-D5B3280197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EA5D-6312-495D-82CF-99A3BFB2DA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nitsanganany – ny niakar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Andriantsizaf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Simpe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01 – HALELOIA, FA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80760" y="63943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1 – HALELOIA, FA L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leloia, halelo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lelo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lehibe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dre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hagagana nata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(Feo 1) :</a:t>
            </a:r>
            <a:r>
              <a:rPr b="1" i="1" lang="it-I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Fa lehibe, Lehibe toko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Feo 2,3,4) :</a:t>
            </a:r>
            <a:r>
              <a:rPr b="1" i="1" lang="it-I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Fa, lehibe lehibe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koa,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80760" y="63943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76240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01 – HALELOIA, FA L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saorana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oninah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tray Anao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oninah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haj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6240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9T07:21:28Z</dcterms:modified>
  <cp:revision>32</cp:revision>
  <dc:subject/>
  <dc:title>Tiona Advantista</dc:title>
</cp:coreProperties>
</file>