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C66F-7D3A-4720-B339-AFDA5385A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051D-B17A-4911-AB3F-B9C12D392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628C-22EF-4BF1-8E0D-DBD36171C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9979-9493-4814-8E3A-55B2B2986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4F2D3-A6E5-40E4-A283-ED2BA78D3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14D48-0E19-4DED-A9DB-06F2401F7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20624-E261-4A78-8BDE-B96F7B872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6D429-CCD1-4127-BB25-B16A7DF07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C413C-2476-4442-B4A4-16C3FD40C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CF57C-23EB-4C25-9E45-1635F3EA3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15A5A-400C-4808-AE92-0C359C9EF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ECA5-CA94-4C78-A2E8-E14537C2F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289AA-3AFD-4049-AECC-0FC00F29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7BEEF-52AA-4C38-AD85-45026E882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F342E-4B71-4C71-A4EA-3C791D473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054D4-BD14-4C81-8DAE-DE89F4A04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CACAB-3485-4400-BFFC-79E6E61A2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B874-8260-485D-8897-BF65D86A9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BB3D-6A11-4E7F-84C5-8AE4B469C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CFB1-B597-4BD7-8962-237EB8909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3F49-BEF6-4C8F-B12F-BEE09E8B9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0FDD-6211-46BA-AB94-E8BF2B41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1D1A-B0B8-4D8C-81E5-3D6EE6805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CEF7-D4A4-4BC0-AFFA-1FD4CBE0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99B12-123E-492A-86BF-00AF79A5AC4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96DFA-99D8-4E89-A238-DACCA3CF34A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TORIANA NY FILAZANTSA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ntso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Esther Bary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Stuart Hamble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333 – MIHIRA A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85780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33 – MIHIRA AH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hira aho mandra-piavinao 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sy ô, deraiko I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dreraka ny zava-mifamah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kivy aho, hira no asandratr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85780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>
            <a:hlinkClick r:id="" action="ppaction://hlinkshowjump?jump=firstslide"/>
          </p:cNvPr>
          <p:cNvSpPr/>
          <p:nvPr/>
        </p:nvSpPr>
        <p:spPr>
          <a:xfrm>
            <a:off x="8848080" y="55818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TA333 – MIHIRA AH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o tany izao ho simba ary ho l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reo ange fa mikoront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vy Jeso hanolo izany ho vaov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onenana 'zay hivantan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" action="ppaction://hlinkshowjump?jump=firstslide"/>
          </p:cNvPr>
          <p:cNvSpPr/>
          <p:nvPr/>
        </p:nvSpPr>
        <p:spPr>
          <a:xfrm>
            <a:off x="8848080" y="55818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5T14:30:40Z</dcterms:modified>
  <cp:revision>62</cp:revision>
  <dc:subject/>
  <dc:title>Tiona Advantista</dc:title>
</cp:coreProperties>
</file>