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980-2934-4E8A-9B16-1F94B9A4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90D-98BC-47B3-9771-033F7CAB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0108-280B-4644-B226-8799AC92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C0B3-35BA-4052-98D9-9AE3F98A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580C-BB41-4341-84F9-1C24CB28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FAEB-7FC1-49F4-9FA1-0C67612E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31EC-573D-45FB-A8A2-AAB3B2CE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06B9-4DA7-4ECF-AD78-BDDCF100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7FC6-D1BB-45ED-BB8F-A67BF6E0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409B-87EF-4E6C-B37D-24E3A571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BEB5-3E6E-4BD4-9312-EAEFEFAF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7FFF-EA21-4E28-BE8C-063B26E1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FC52-39D3-4250-A50A-7F504BDE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EE63-A11E-42CA-A9DF-D4600232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2BE5-94B6-47AD-B24C-5E7DB015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E16A-AB7E-4136-A109-882DE2D7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5075-F3BC-4276-90E4-823FEA98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F96-C830-4497-B1FF-538772BB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3E3-6ED4-4EB4-8EA3-1C137904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34B-FDCE-4D78-9074-002780E5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6EB-8CD0-4EA6-83B1-5481E414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49C-BAE9-4E99-A540-9392FEEB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BEB-5ECA-46B0-9037-553510A1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72F-A146-473B-9EB6-4B0A0EC1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34AC-0E58-440C-B3AD-F7FBEE8C27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5CF5-F1E6-4DB3-8960-A1D1A07A07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Andrianjafitrim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. D. Sank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95 – RY ZANAKO M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5 – RY ZANAKO M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anako man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noina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be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gora-po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anako ! mo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 maty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be ny bibidi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dia 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5 – RY ZANAKO M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zavatry ny 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 mahasimb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rena mety l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ahavonjy a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irery ih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iadan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ola manontan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dy v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5 – RY ZANAKO M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iratra jer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alan-tsitra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nkoso-bolam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itaka ny f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itrapon'ny t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ry ny a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io ka miver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dia 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5 – RY ZANAKO M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Tompon'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jaly h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, he, nanolotr'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monjena an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ko mitar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dia ia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za mba mal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dia 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0:51:00Z</dcterms:modified>
  <cp:revision>87</cp:revision>
  <dc:subject/>
  <dc:title>Tiona Advantista</dc:title>
</cp:coreProperties>
</file>