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412E-DEE9-47C2-B700-CAF45069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1290-D46B-40CD-A804-EF10C2E7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C8D6-3FD5-4D2B-AD11-337FC8DA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FFA6-F0F9-40C4-9BE6-49895B25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662E-EB2B-43D1-AE59-AB3E73EF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6210-35AF-4BBC-84C7-CFDB862C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9874-B9B3-47B9-9F2D-59229A23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D322-CD1F-4930-B2A3-109CB486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67D9-8DBA-47CC-8009-A3221910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8978-0665-4610-9939-A451E625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94CA-25C9-4541-93AD-DE500EA0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27CD-FD67-4729-A425-B3D613D7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45D0-EDD6-41EC-BC12-02B58984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DE6D-5148-4CC8-9C80-E0D35024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DC27-066F-4AD5-8918-0FF71FA8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C7EE-5C41-4428-843D-0ACC1A82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6658-B078-45D3-BF98-19525DEA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810F-A6D8-45DA-A158-11D8D753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FA4F-7ACE-4BA8-B955-5D728090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C92A-D097-4AA3-81A0-664F4D0A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FB6-2524-4FB2-8FDC-2CC177D5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1C2E-B57E-416D-93FB-73FD0156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D36A-CCB9-40AD-A440-FFA25EB6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ED3C-8C3F-4DED-AA91-BE9578F2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662E-4023-42E3-AE69-49C2296C44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073B-C24D-4048-A5CF-E9F397561D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kotomananjanah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kotomananjanahary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52 – JEHOVAH Ô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52 – JEHOVAH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Jehovah ô, Jehovah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lanitra sy ny 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tory ny fiandria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volana amn-kint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ambara ny voninahi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zava-manan'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hita sy tsy hi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mampiseho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ahendrenao.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52 – JEHOVAH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voron-tsara feo, ny ranomas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voninkazo soa, ny zava-maitso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eho sy milaza Ilay Mpamoro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anana sahala Mpanolotra ny soa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bio, ,derao, de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hovah Tomp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hovah Tomp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leloia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05:48:10Z</dcterms:modified>
  <cp:revision>27</cp:revision>
  <dc:subject/>
  <dc:title>Tiona Advantista</dc:title>
</cp:coreProperties>
</file>