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227-A74F-4E59-85AC-F2857662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1A4-ED77-4C3E-9527-658213CB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D16-5DA4-4555-B7F0-482657CD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ADC-EB27-4956-B6CF-1C74B906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D627-69AC-4D1B-9A46-623F6C9C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E9C3-11A1-471B-AB70-4FF3C98C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BA66-C688-48E4-8B71-BA30AD0E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B903-7A93-4790-A062-1D43D28B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8420-D15A-4740-ABA6-822607D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CF72-AFE2-473E-ADCB-725F43E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4D08-6049-48E1-9FFA-AF4556E3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98F-89D9-4FC5-8E7F-44DC75AA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16E0-355C-4053-BFA0-91888274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13D2-698A-4062-83E7-2D1B1972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365B-72FA-4CA0-A1BF-44D44A0F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7330-77C5-4708-8AB1-EAE95B6C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9E80-4F87-468E-B2F8-B7EE6409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6B4-4384-4858-9B9A-646A722B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BB1-1809-4803-B9AE-BD20492F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842-65CE-48D2-BE02-5400E3D3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0DB-9E56-4336-800E-A0C3CFAB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770-89A1-42B0-95DE-62503CA0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F9B-AA78-4255-8FD4-4DB71AFB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286-60EA-4672-AFE7-3DF5E294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1320-D5BB-44B9-82D8-5D6E19273C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3417-A890-49DD-BAEE-C4A0F26EAC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77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AHA NY FIAINAN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. Razafindrama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. Razafindrama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7 - RAHA NY FIAINANA 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ny fiainan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mampitoman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jere lav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tomany 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toma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ry, nisent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ety nijal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monj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 rais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7 - RAHA NY FIAINANA 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andrerak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din-tsaina lal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jere lav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mat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ty tao Kalvar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ivesa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ety ho sas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an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r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7 - RAHA NY FIAINANA 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anonja maf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ny alon-drano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jere lav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dro av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y tsy ela r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horiana 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ranomaso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jalia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foan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7 - RAHA NY FIAINANA 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ny fiainan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mampitanondrik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jere lav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fa akaik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y handray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hasasa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dino faing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adana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asol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20:10:12Z</dcterms:modified>
  <cp:revision>116</cp:revision>
  <dc:subject/>
  <dc:title>Tiona Advantista</dc:title>
</cp:coreProperties>
</file>