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12EB-AA8E-4632-BE2B-CA8EE15DB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3FF4-F2EC-486D-ACB9-6A8B2D52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D10D-A77A-4F66-9266-03FB05D1A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5C2E-01ED-4561-B0D1-8F94EE33D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D118-264A-4EBD-A042-4F675152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5CF9-6FA9-4ACE-9A0D-FB78E375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926E-E04E-4FD3-9B2F-3F89B4B2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8406-F824-4A9E-921B-80BD015D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BFE4-3A64-49A1-A3B5-BBA2C584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7A9E-EAF5-48D7-9EB2-770B0F8A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524E-EC02-44D5-9574-A19F1CB8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916A-CE6B-433F-92FE-33CA5129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B809-BBEC-47F1-A5AE-1FDE990A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2B58-78F3-416C-8D48-4898A527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FA36-F66D-49EA-AE09-F9979DFC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5779-1D4B-4A0E-A80F-F954274C2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9B6D-61AF-4ABE-9D74-8E6740A92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48D1-4B79-4129-AB9E-F347EF6F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C7FE-0086-4D1C-AC0E-E184684D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0ACF-764D-477E-90F7-82C4691D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69E1-A909-48B6-B076-83C70004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3B6B-6FDA-46C7-B30B-A24B8687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6853-46EF-490A-9089-240BB645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CB37-6B5A-4BD6-BAE0-5B5AEBEE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62C1-AECA-4908-B5A1-B29BBAE418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24CB-93E3-4A53-8813-576DC6060B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toam-pivavah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sther Bar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Cleland Bl Macfe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10 – Ô ! TOERA-MAHAFINAR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10 – Ô ! TOERA-MAHAFINAR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Toera-mahafinar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kaikinao, ry 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ony sy milam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miadana izah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627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10 – Ô ! TOERA-MAHAFINAR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voat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zony ah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mpanompo s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kaikin'ny f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10 – Ô ! TOERA-MAHAFINAR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Toera-mahafinar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kaikinao, ry 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re no tena l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asanao 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627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10 – Ô ! TOERA-MAHAFINAR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Toera-mahafinar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kaikinao, ry 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oera-mahasamb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ho faly izah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627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9:35:27Z</dcterms:modified>
  <cp:revision>42</cp:revision>
  <dc:subject/>
  <dc:title>Tiona Advantista</dc:title>
</cp:coreProperties>
</file>