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423-DFC0-4F4B-9ACD-990744D7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EC1-4E47-4694-8E4A-6C78FE19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089-F727-4303-B5C8-8E1E0282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ABD-4A7A-460C-A62D-2301C11C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3ECE-AE2B-49D2-AC18-B8244868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6EC0-D21E-4E74-BA32-3DD6D21C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3EBD-99FB-4F69-90A6-F633478F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6A86-0799-4F13-94FC-F347A9EC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0262-819D-49FE-950C-180189FA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1386-B481-4529-B53E-9ED08D6E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028D-1C49-4569-96C6-3E9B61A3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E17-4435-44D4-8014-72E66B21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FD86-5CDF-4826-80AC-5ADFE3A8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3E69-7C7C-42FF-BD24-027899C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D3E8-4B81-406F-A500-A1E3CFC5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8733-EC42-4D99-98ED-99D64590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3CA-08D6-40E2-AF72-19760276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9CC-DB0D-41E5-8355-8E04094F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D3E-B07D-41D8-A0E9-6EE57B7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7A5-000D-4A4A-A6D1-74EF76A2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3F7-ECCA-4462-A4E5-65AF1B73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2E3-D904-4E45-9EE9-8D98D6B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023-E4E8-4A7B-BEBC-DA9C861A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898-7D00-4FF9-9F2C-3CD5E164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C4CE-2D45-47FD-9BF9-BC9707C4F1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CA27-A17E-4961-87DD-BA3FD5A7FF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5 – RY ZANAK’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5 – RY ZANAK’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'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ny misy f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eo avy an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oa mba renare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5 – RY ZANAK’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dia ho av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ntso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, miangav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reta ianare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àna fin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ban'ny v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y dia ho f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imba sy ho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5 – RY ZANAK’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o tabataban'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loza be m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ndro fa mianj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eraka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5 – RY ZANAK’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-tena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tra mar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na ho loza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amant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dia mandrosoa sa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ita ny adi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joroa ka met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olom-boafi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5 – RY ZANAK’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9:02:23Z</dcterms:modified>
  <cp:revision>36</cp:revision>
  <dc:subject/>
  <dc:title>Tiona Advantista</dc:title>
</cp:coreProperties>
</file>