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4C23-4ED6-4B5C-9115-73D3E5A5D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AF93-ABE3-4E42-8762-AF7DB3EF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1573-9430-4913-BF3A-4D31BD4E3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736D-1270-4E1E-87DF-7C4E0743D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D027-A16A-4BC9-946E-50695586B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7270-1D22-41F4-A7FC-0424A2E3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A1EC-6DDC-43AF-A237-F17E6951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65A9-3BAC-400C-BAD1-DC65A45B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ABBB-A2BF-410E-A94E-85F56F89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4F3A-1E0F-4580-8421-5BC82E46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CE5F-2C36-4585-ACF5-850C38B7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9D80-A82A-4FD9-99B6-4B9530DA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3A63-BC17-4F01-ABE0-38FCF1F7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2FA6-1DF4-43A8-A510-6E1D9061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27EC-94DA-40EA-A2E7-A1F9AAA1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1F94-FE98-4C84-A26C-B5972C01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32C5-A974-4037-BC15-2AAE5DBB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5A04-51AB-4F3D-AD1F-F5F4BE5C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8320-595F-410D-A8AA-DA64E47B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FD16-E0D0-4BC3-BCD2-7D3FE379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8831-EE8F-4A53-B795-A4135DB0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5DA9-4CB0-4827-99AC-CB0E1DCB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AF65-6E57-45BB-BDCF-1C568063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02A6-7767-4BC9-BD87-3E851D22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1F3F-4074-45C4-9FB9-77F0C9F33D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2509-FADD-4395-9FF2-62BC0561EC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alin’ny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. Rowlands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Low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FFPM43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46 – MBA TAOMY AHO 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46 – MBA TAOMY AHO 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taomy aho 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onga zana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dio am-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taomy aho 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ia Anao toko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 atolotr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rais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336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46 – MBA TAOMY AHO 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riho aho 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Jes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ilaoz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be manj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rotroy an-tratr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ndrikel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ento mody '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nan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434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336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346 – MBA TAOMY AHO 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ovy aho 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ahy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niho sy hazav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oetr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ovy aho 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 ovay ho v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fanah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nen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434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15:27:20Z</dcterms:modified>
  <cp:revision>62</cp:revision>
  <dc:subject/>
  <dc:title>Tiona Advantista</dc:title>
</cp:coreProperties>
</file>