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237-8B04-4757-84C5-9D2F2C34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C9B-D59C-4D88-9F4C-2A09609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C53-6D51-4BB4-8053-13BBF9D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FFB-AFE5-4B45-ADA4-47E1C052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69B-26DC-4B06-8090-803DD2BF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A8BB-B539-4AD8-940D-092F686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BB2-738E-42C0-8110-9B882DB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3247-EEE8-42AE-90FA-1F560B91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C9F1-29D7-4F9F-8C04-2058F2A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10B6-781D-43B2-A141-5539BE83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A7B6-DDF6-4A61-8777-24364B3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D24-4E9C-4361-ADAC-D496C81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757-81DE-47EC-B25D-9EF9BFB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E531-F22E-4852-A71F-234056D1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64E-113B-49AD-A61D-0D3F173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682-B2ED-4028-B1B7-D35C6C8D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93B6-BC85-4677-8158-E176E59E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BBC-7FBE-4C31-B353-055DB77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9DA-74DC-4066-B498-5E2D28E5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CCA-C61B-4CC4-9F62-3A025822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331-016C-4282-A69C-8CF4CBB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18F-9BBF-4ED6-8B2A-28D9316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892-3B16-4171-908E-A808986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5EC-0EFD-47A1-9717-4AF444D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3C47-8E32-4EB4-A96E-2FB9C8C69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A4C-3105-4C3A-8F79-566C3ACDA3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E. Cousi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40 – ARIO NY TAH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0 – ARIO NY TAHO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o ny tahotrao, ry olon osa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lazain'ny Tomponao, tsy hisy tsy ho t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entonao dia reny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'ny fitarainanao, vali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0 – ARIO NY TAHO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lehibe no itok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y mahery re no hamonje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mahalala 'zay tiany hat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sitra amin-tahotra ny fahava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40 – ARIO NY TAHO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ndrany soa no ianki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oka hofidiany koa izay haleh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takatrao ny sainy lal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endreny ho anao, ekeo ho mar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440 – ARIO NY TAHO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sara ô ! mijere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reraka aza re ny fo, tohano izah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vay ny hevitray, ny fonay haza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toronao anay, hizora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09:52Z</dcterms:modified>
  <cp:revision>70</cp:revision>
  <dc:subject/>
  <dc:title>Tiona Advantista</dc:title>
</cp:coreProperties>
</file>