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793-EC2D-4FE7-AB69-66054EEA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533-F27E-4174-9767-7D37D8A2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5E7-A31A-4875-90EC-E9B6FD97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CAE-E34F-42B5-AB43-A4F98C0E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595-96E8-498C-8E95-969E08BF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0164-4CA2-4442-9A82-64D2B119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BC45-36F5-421D-B0A0-5BA30A45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507-0383-4553-AFE4-7F8E86A2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6A4-D3DB-45A7-ABEC-104B4E0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E13-42D8-4FFF-A543-BECE350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09D8-4146-464A-9501-E84A282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1B2-E500-4294-B52A-630777E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1D1-0A21-4616-8A13-66AE801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D803-4A04-4AAE-AF52-AA5E059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4233-B37B-4F0D-BE90-A5BFA88D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613-F12D-45C9-ABFF-ADD1C5B2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4978-D2BC-41E1-B0FC-30C3CFCE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771-FC28-4942-8BBF-65BBFAB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A9C-AC8B-42BE-B189-EB68685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D4B-15C5-4956-BE46-770E22F7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EAF-94A9-4045-8CB2-12D5EB4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15D-DD6B-4939-A3B4-2E41681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427-09ED-4A85-A02A-BFCD610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E21-C45E-46F4-AE49-188B4D0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7FEC-97D4-40E7-93B4-EC228C256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845-6A77-4F51-A69A-61B7E0DD3C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Ravon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ames wal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6 – ZIONA Ô, MIFOHAZ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 ô ! Mifohaz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nao ny heri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Maizin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rotsaha amin'ny asa iz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tsangàna ka mihazav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 momb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nj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 ô ! Mifohaz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fatoranao vah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afianao tsara tare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nao ankehitri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 ô ! Mifohaz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tsangàna ka mihazavà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ny voninahitr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iposaka amin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 ô ! Mpitondra te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ny ho avy 'zay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anatona ny firen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dy famonjena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631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6 – ZIONA Ô, MIFOHAZ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iona ô ! Mifali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fa tamy ny Mpampak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itanao 'reo olom-b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, hitsena an'i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721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716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212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17:23Z</dcterms:modified>
  <cp:revision>53</cp:revision>
  <dc:subject/>
  <dc:title>Tiona Advantista</dc:title>
</cp:coreProperties>
</file>