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06D-22E6-4813-83A2-A101CAF3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E69-F7ED-40F8-8A10-A088304F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662-0F7E-4B5B-AAF5-750B5D6D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BD6-C22A-4F35-B64D-1DB1BAC4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93A9-61DF-4245-A9BE-9F542D9E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818-A8F9-40DD-864A-597894E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CD67-21D2-4919-A4D0-D95AF6EF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07AE-A275-4A05-91C2-4330E07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157-C7FF-4978-99E8-CA8AAE07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20F-4AE3-4310-8E24-188B98AF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9CA3-5D11-451C-9F03-832A550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6EC-6DD6-48DD-A3C9-35D1AE6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435-ACC1-4698-AA02-1CFF04F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CBC9-9E62-47F3-9F8B-3B2F738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EE62-BA0E-4A79-B68E-87011DD3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4383-45E9-4076-A564-B02EC898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679-C774-4A66-B0C4-D3D7AF5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4A4-BB98-4FBF-8B92-F4AD174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DEF-E7AC-41D7-854F-4A7DAF4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3B7-9D76-4085-AC3E-8DCF620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63E-2F04-46FC-AC0A-60AECDE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CEF-9DE8-4941-8E9D-03389B9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F14-6E98-466C-BF4E-3F6B46F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B32-E830-4621-AF12-7B5C6C4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282-F4FF-45E3-BDED-CF69AB6D66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356A-22AC-458E-AC31-7A72B75A7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ev. A. H. Ac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5 – NY HATANORANA DIA T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5 – NY HATANORANA DIA T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tanorana dia toa voninkaz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ozy mivelatra, manitr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ho vasoka sady hal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aharitra dia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5 – NY HATANORANA DIA T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ao no irik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Anao Jeso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ao, eto ka h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lanao, ry hany Tok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5 – NY HATANORANA DIA T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faliana dia, indro, mand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mantsy matez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o mpisopatra, be fahaval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oviana re no ho tod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5 – NY HATANORANA DIA T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riako, ry Mpamonj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Anao, raha mbol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trizay dia handray 'lay anj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oatahiry an-danitr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hita Anao no irik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Anao eo anila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hahita Anao dieny ety iz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indra ary, sy ho mandraki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5 – NY HATANORANA DIA T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35:21Z</dcterms:modified>
  <cp:revision>85</cp:revision>
  <dc:subject/>
  <dc:title>Tiona Advantista</dc:title>
</cp:coreProperties>
</file>