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026E-1058-447E-A5F8-85911030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4923-F3BE-4150-BC84-3B742B65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862F-C5A2-418E-AAF5-6C1AB5F3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79E8-275B-4DCB-BF6A-CF7A2454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17A9-62D6-44CA-82F0-E24BA0A8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3303-BF7B-4AD7-B51F-A0BBE303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1F77-F718-4AD1-B262-70F38518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C6EF-2C13-4145-86B8-55C9D237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859C-3AA6-4293-8BD4-D669ABB1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FA6F-D3D3-4A2D-A32B-5373CB26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8028-92CE-423E-A5B3-DE67F2AF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41BE-CBDD-4334-B9B4-7916AB09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F646-3CB7-41E3-A0A0-ABF09B54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2EDE-CC2A-4290-8519-865CEC3E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81A4-A4EC-4B24-A06F-5A4E9FE3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C2FF-0615-446A-81FA-C11E0DEC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9332-1BFA-4894-BC9F-1B9B9E18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0AA1-D96A-479D-8647-1C4914C0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AE2-15A7-40D3-BA17-284BE2A2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F84C-CBAD-4DD0-928A-4EF6A59C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C9E6-5FEE-4D0E-9A82-EF2E6176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5F41-2BBE-49A1-BCB1-998D52C8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6B42-3998-4DD8-83C7-DFE8D52A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F1A-6E5B-423C-862E-E363A4ED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E2AE-399D-4A22-8E68-B7333BCC57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7615-FFF1-4F44-A477-10D00E7FB2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TENYN'ANDRIAMANA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ozart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barijoë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88 – MISAOTRA ANAO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88 – MISAOTRA ANAO I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aotra Anao 'zahay, ry Ray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ny Teny Masinao 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in'ny aina, Teny tsa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elombelona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no fitiavan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88 – MISAOTRA ANAO I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ianaro hanova to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jary tena olom-baov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Fanahy ampitoe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ari-dàlana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onga any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188 – MISAOTRA ANAO I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inao no sabatray 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handresenay ilay rats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ena hery, vatolam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azonay iankin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ritra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8:24:18Z</dcterms:modified>
  <cp:revision>40</cp:revision>
  <dc:subject/>
  <dc:title>Tiona Advantista</dc:title>
</cp:coreProperties>
</file>