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4E56-ACB1-4746-BF12-C6863BF33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3C1C-09C0-4CD6-997E-2ABCD6A1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5721-1E1F-43EA-A0E6-3085B25A1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6F35-E826-4198-828A-FFED57D4C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6496-6D40-4410-BDD9-9081F578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C8A0-EE3B-4F37-AA20-398AA339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1467-1590-4A45-BA10-03FD93C5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AFE0-2529-46EB-BF23-A4445359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0F968-DAA0-4A59-A09C-9F9FFBFE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00BF-B689-47D0-8A64-C686254F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CDEA-EE92-4E85-B5F3-71A6523E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FA28-1E95-4604-A930-015B16AD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72EA-C296-4F05-AF76-1552BE77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4437-4766-4548-8A2B-A44D8813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2619-A58B-4EF2-9BE9-D20483D0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F467-8120-4F00-9823-FDC644F43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E839-E031-4A86-AA24-026A88E9C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38B0-1F8C-4611-8B42-DA75AA31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F326-2D70-4501-8BC1-D1357B72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DBC0-A55A-4E3A-BE0F-E8A6A09F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B25A-2AFD-41A1-9257-D7317957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D3F4-DF2B-479A-AED3-CDB508F9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8B9F-B3C4-4BB3-95F6-A31700D1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877A-E4AE-49FB-BA6F-A228E4F9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D711-43E2-4FFC-8B43-8F1F2F8D02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C4E1-9F28-42E3-A36D-47BDDC055D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tiav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ichard W. Beat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09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18 – JESO RE NO SAKAI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21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18 – JESO RE NO SAKAI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re no sakaiza tsa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be fit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iany tsy mba miafa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odor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eto, havana, sakaiz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alo ihany ka mahaiz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irery re no mitaiz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! Ny fit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21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721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631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18 – JESO RE NO SAKAI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re no fiainants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rakiza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deha re hankalazaints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Zana-d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diaviny ny ondry ver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ny an-efitra tsy irer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 am-bala ny fo tsy te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! Ny fit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721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721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631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18 – JESO RE NO SAKAI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nanolotra ny a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o Kalv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itahy anao no ilai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! Ny fit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eha isika mba hihai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eony 'zay miantso sai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! Hatony Izy, ry mpihain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ao ny fit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21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721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18 – JESO RE NO SAKAI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ampio 'zahay hahal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ny fi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onay hofenoy tsa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fankat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inanay anie iz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vatsinay raha eto an-t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o santatry ny ho 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ny fit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21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721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721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8T08:19:32Z</dcterms:modified>
  <cp:revision>36</cp:revision>
  <dc:subject/>
  <dc:title>Tiona Advantista</dc:title>
</cp:coreProperties>
</file>