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86B-3242-4508-8584-472D92BA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A32-515C-40AC-B864-3DAA964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674-BD7D-4664-B70C-24999F97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456-49B2-4B97-99D3-3FB5154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E58B-EE4B-4C2F-B147-8B05B1BB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196E-C907-4FC4-95CF-5173D876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4C16-BD40-47B9-B186-0154920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522F-B218-40C9-80EB-1DBE368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7D51-169A-4C3A-9421-646A40C6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071-080B-422A-8BD4-F479F66A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E35B-2023-403E-A839-78EE96BC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79E-F751-4EA1-8B6B-DDF1545B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B523-BB63-48B7-9393-16139A3B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D03-87B8-4083-93A7-DBCEF2A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6EF5-6345-49D8-9F96-13C46FC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D4A-471F-43EF-B783-2D53171D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450E-381F-4364-9FEE-0DDA1761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EAD-8EFB-4F34-8AF6-A0670BC3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972-1288-43A4-967D-B32E9527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F2B-8783-43CA-BBC4-E9B58F7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8DB-FD6A-4892-A3E8-1432546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C0D-5F4E-4468-AA4E-651AD4CF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4B9-F70B-44BA-81D8-F879779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B38-7400-47AF-AE17-5841798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297B-9880-47AF-A18F-A89B3E330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CBF-2811-45E7-8645-3B2D72D806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495 - </a:t>
            </a:r>
            <a:r>
              <a:rPr b="1" i="1" lang="pt-BR" sz="3600" spc="-1" strike="noStrike">
                <a:solidFill>
                  <a:srgbClr val="ffffff"/>
                </a:solidFill>
                <a:latin typeface="Corbel"/>
              </a:rPr>
              <a:t>JESO O ! NA MAIZINA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826120" y="5972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61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5 - </a:t>
            </a:r>
            <a:r>
              <a:rPr b="1" i="1" lang="pt-BR" sz="3200" spc="-1" strike="noStrike">
                <a:solidFill>
                  <a:srgbClr val="ffffff"/>
                </a:solidFill>
                <a:latin typeface="Tahoma"/>
              </a:rPr>
              <a:t>JESO O ! NA MAIZINA A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ô, na maizina aza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pitarika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ihatra ekeko fa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ononako toko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anao aza t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ijaly no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tia ô ek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rehetra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261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3368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5 - </a:t>
            </a:r>
            <a:r>
              <a:rPr b="1" i="1" lang="pt-BR" sz="3200" spc="-1" strike="noStrike">
                <a:solidFill>
                  <a:srgbClr val="ffffff"/>
                </a:solidFill>
                <a:latin typeface="Tahoma"/>
              </a:rPr>
              <a:t>JESO O ! NA MAIZINA A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noako miori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velomy hatanj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ndreseko koa tah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endrika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tontolo izao je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oriana no hita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tia ô ek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rehetra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26120" y="5972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3368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5:06:48Z</dcterms:modified>
  <cp:revision>120</cp:revision>
  <dc:subject/>
  <dc:title>Tiona Advantista</dc:title>
</cp:coreProperties>
</file>