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CA2-21E0-440E-A1F9-80EE0674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3CC-0EA6-41A6-9DD9-58D9893D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E96-18F0-4CA2-99AE-A359CD44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0D8-DAFB-45B8-AD2F-8B4923F1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411D-DBC6-44E7-846B-6B4FD1C4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E70E-8204-4C9E-90D2-049F2E34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3755-07C7-44E4-9903-41A9B3E4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D5F3-7C13-442C-9B04-3DB085BB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4E5E-4620-429D-81C2-B390A42B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DE25-2420-42FA-9545-09C3B4B6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B787-D771-4317-A1B9-F7D3ABB5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E1F-EF47-4AA4-AA62-F8595C3D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1230-50AE-4563-B06D-C5BD54C5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FCD7-74E9-406F-86A7-EFFD7F82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2D1C-5971-454B-84D7-CCB1B3FE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C8EC-9828-46BC-8F79-7F2AE656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CA85-A596-43BE-8886-ADBDA21B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826-EE45-4B71-9B45-14BC5F59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2F6-072B-4D68-A90B-958B7F07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B6E-4661-4026-BA28-6FACC07D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2A3-A5D9-437A-86B0-8F21C9C6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2C1-40DA-47F7-B6CE-5A8B7172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841-67B5-40ED-9523-A97D63E9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B8A-840A-4304-96D6-351F1E9F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F0A1-30DC-4026-BED9-400656C91D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1F05-90CE-4FF2-9CAE-5DBF0843BC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anasan'ny Tomp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69 – AMPY AH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9 – AMPY AH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bola velona aho ka miaina et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ahy Jeso, ampy ah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o hany faniriak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rakitra ao am-poko fa ampy ah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ndraiko anio ny maso hifantoka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m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jery akory 'zany ady hanafotr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y hitalahoako sy hangatahiko ami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Ampy ahy Jeso, ô  ! Ampy ah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9 – AMPY AH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bola velona aho ka miaina et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ahy Jeso, ampy ah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o hany faniriak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rakitra ao am-poko fa ampy ah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mafy aho mba hifikirak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ahoako 'zay ho valifatin'ny ts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y hitalahoako sy hangatahiko ami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Ampy ahy Jeso, ô  ! Ampy ah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9 – AMPY AH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bola velona aho ka miaina et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py ahy Jeso, ampy ah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o hany faniriak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rakitra ao am-poko fa ampy ah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ho jamba aza ireo masoko i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esorina amiko ny aina sy n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ny hitalahoako sy hangatahiko ami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 ! Ampy ahy Jeso, ô  ! Ampy ah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6-07-23T15:47:31Z</dcterms:modified>
  <cp:revision>52</cp:revision>
  <dc:subject/>
  <dc:title>Tiona Advantista</dc:title>
</cp:coreProperties>
</file>