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C6E-FF91-4D04-AE68-6A08A3C0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0C9-2355-4B98-B870-4DD75D0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AB2-49D6-411C-9E67-19346043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D1E-5B64-40BA-A591-E551410B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5C27-BB9A-4C22-8123-CBC61ADE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EC4E-8BD8-4F79-AE67-E09688C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C847-6641-40D9-82A1-7033462A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870-6C56-4DD4-AE39-0110A6F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553A-86C7-4C8E-A756-6B10F6F9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D78A-E31C-4998-8298-EA34BA9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804-D767-4E87-A3D8-5DFE9AD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90F-0EC8-4CE0-8349-088568CC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C702-3764-4666-904F-8CD57E4B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A7BC-2CD9-4E04-8D79-3FAEC62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C49B-3DFA-4708-94B1-7878B66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4D6E-C617-49B3-B784-D7D3005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6C5B-4F4C-42B3-9219-10287484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855-9330-46FC-9C91-A996D9C6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727-2F28-4F0B-848C-1B14CBF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28C-B266-4CAF-9075-105993C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7F2-A02D-46B2-B23B-F69E678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EC1-81C9-4C31-975A-A3B794C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DBE-0E06-4730-B4DC-35E45CFC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879-5674-419D-9874-6DA5874A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2E8A-B8C9-4514-8A16-855183C81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9220-2790-4AEB-9B28-DBCEBACEB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?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. Hould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35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4 – EFA TONGA AT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4 – EFA TONGA AT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tonga at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mba ho fiai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teny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manan-k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4 – EFA TONGA AT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in'ny Ray, tsa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in'ny Ray, tsa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4 – EFA TONGA AT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o no filazantsa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mamy indrindr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ny t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soa nomen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4 – EFA TONGA ATY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! Heno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fiainan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y fia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o no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amonj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27:08Z</dcterms:modified>
  <cp:revision>55</cp:revision>
  <dc:subject/>
  <dc:title>Tiona Advantista</dc:title>
</cp:coreProperties>
</file>