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AC3-2128-40B1-8E08-CEBE9877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116-65FC-4454-99F5-4564A2E5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C5B-A95B-402B-90DC-249AD179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012-7293-46E4-91F6-FD3C8386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EB0B-C3CB-4299-B508-79DEE15C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34EC-36C3-46FB-8A9A-D8092603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D379-F5CC-4AA7-ABE9-A584061E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16DF-0C84-41C0-A281-CA1E38AB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BCD6-77DC-4690-9D1A-C52E9B36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B468-187B-4069-9081-5AE78647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D7A7-A578-42E9-B4C8-9875FAF9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4FC-97FC-4E58-A472-A3E766C6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A00C-25C5-4B9E-9F3C-418A6CFA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E7DD-CF61-4C2F-A7CB-09A2C31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F879-27EE-4AB5-961B-2C87911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F3E3-CED4-45D9-A8CD-F78197AD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3855-06A1-4DBD-87DF-CB87221F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51F-7703-4B3C-8F93-573FCE3C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822-1870-413C-A582-E472361D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822-6A7A-46F5-94B7-E0F02A7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51F-9278-4BB8-AF36-EDE6376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292-94EA-4605-978E-A5DFF746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F0B-5561-4DD2-B83A-F295B29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650-93FE-4635-AED0-754D1FC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7375-E5F9-467F-A041-94B20D92D9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D105-B228-4D4D-9875-E52A2F80C6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ichard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C. Wesl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04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8 – MBA JEREO NY TOMPO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8 – MBA JEREO NY TOMPO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jereo ny Tompo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o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, avy ami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in'ny raho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o ny her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8 – MBA JEREO NY TOMPO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fahav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resiny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, ry anjel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obia, ry olo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o ny laz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8 – MBA JEREO NY TOMPO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ny mbola teto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o-tsilo nenti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y satro-bola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drika ny loh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o ny de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68 – MBA JEREO NY TOMPO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eso mafy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ny fahoria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o, asandratra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o ny hajan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ny voninahin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6:37:29Z</dcterms:modified>
  <cp:revision>38</cp:revision>
  <dc:subject/>
  <dc:title>Tiona Advantista</dc:title>
</cp:coreProperties>
</file>