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814C-F73C-424F-AAAB-A5CCA8E1E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3BBE-15E8-482B-9F1D-31FE3F3C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1EFE-0960-47BF-9BE4-E1C79F84A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8571-2034-4D48-932E-3A090E652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DDFC-8F78-4471-A091-4E3E41D66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1B8C-FE06-403A-BB49-4BF37CDD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5AA4-A670-4904-BEBC-8E933AE2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851E-DF4C-4B32-B752-7F2871AA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2B09-AA67-4C39-881E-39BB2451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3BF6-9C5A-41E2-A01C-F1926F85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1972-C08E-4BB5-BC57-1A1465C4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B061-BD87-4288-80AF-ABE74E7E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450B-921E-4EF2-8D52-57DD4A4D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F2D5-2994-4E57-AD43-82D5FC5C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5C95-EFD8-4D7B-8F8A-C6717744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7EDD-E0D0-4510-A7A0-9700070B9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7865-5BBD-42FC-B219-1B093A8E1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0A88-D57E-406F-BFF1-3F7984AB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C66D-F89D-49EA-94D7-BF33F4D6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AC15-DC04-4C7D-95DB-F1412092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FE04-AA91-4D39-BEED-575254E2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F62D-EE5D-4B60-A17A-35D21034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B0B6-2D46-4ECF-8523-01948940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E2F2-8630-4510-A226-820BA34C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892E-A934-439A-AFFA-DA213E4578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C597-B2C1-446A-B0E0-F1B04CA376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iavana sy Fino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John E. Campbell - Mamy J. Ratsi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04 – JESO RE NO HER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04 – JESO RE NO HER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re no heri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no miaro 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re no hiarah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kaikiny hery ho 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04 – JESO RE NO HER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iriko, Tompo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raka akaiki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san'andro akaik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keo re, ry Tompoko 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04 – JESO RE NO HER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be ny fandr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oko sy heriko Iz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y enta-mampiondri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Zakaiko raha anila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04 – JESO RE NO HER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ana, sasatra ah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y, lany koa ny andro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be ny mifamahofah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ihany no ho tanj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05:30:42Z</dcterms:modified>
  <cp:revision>68</cp:revision>
  <dc:subject/>
  <dc:title>Tiona Advantista</dc:title>
</cp:coreProperties>
</file>