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78C-14D2-4BCF-BD6D-53F75AFA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273-E116-4397-A9EB-933EB029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2C6-589F-47DB-9DC0-B297EE8C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F67-A749-4674-A4E4-230B20BF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1C30-151E-4374-B7A4-962D3EC0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5470-8F8A-42E6-9426-6C7FBE8E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2E17-1CFC-463B-A90C-81044E9B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639D-B93F-48D1-94D7-9A685573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E3B6-7913-4833-9743-60BBDD2D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DAF0-32B2-4B2F-B2BC-3E4C9462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B42A-0F91-4154-AAC2-36D90557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0FA-B548-4C83-8DE4-73DCCEB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BA08-0C01-443A-9B2F-00CDD984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B778-B3FB-4A05-AD29-753ADBCB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7D04-DCBD-44D1-A623-D984C9DD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CF9-A977-430D-8958-B491FE44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8838-A507-49A5-86A2-98BC3A83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24F-88D8-4850-8121-F626D531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4DB-96D6-4425-96AB-0652FA8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09F-213E-44F9-B855-9B5FBA21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BF1-2CBA-49E7-9C75-042531E8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116-1B87-42E5-8967-62C406A1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582-A871-4653-841A-7893B78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3F3-420A-4D7E-8CA3-1C421144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0CA1-1B8A-4E33-BB0B-84F7BA4371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54F7-7BE4-4CC1-98A4-C1942CDE71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terar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G. Raterari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50 – RAIKO Ô ! MIJ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0 – RAIKO Ô ! MIJ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ko ô ! Mij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so ka vonj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e mijaly sy feno ratr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Ty nofo mitore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ahantra avia manek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tao ho anao Getsema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0 – RAIKO Ô ! MIJ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reo Getsem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ra nij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Jesosy tia sy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eno fitomani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jary rà ny dini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n'ny otako n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0 – RAIKO Ô ! MIJ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o re Jesos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goraka ny ver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girifiry re tao Kalva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sy nisy nijer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Rainy koa dia nand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heloka f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50 – RAIKO Ô ! MIJ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intona ah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zo fijali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itarika ahy mba hanav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dio ny nat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zo fijaliana 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iky ny fitondr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7:37:59Z</dcterms:modified>
  <cp:revision>78</cp:revision>
  <dc:subject/>
  <dc:title>Tiona Advantista</dc:title>
</cp:coreProperties>
</file>