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94F-E6A8-4761-A9ED-96F57554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B47-85D7-4FD9-856B-B19422A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611-3365-43C5-A704-44063C52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10E-E527-471A-9838-26CC0D7D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84AC-AD9C-43A0-8D6A-F9088727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290F-2DD6-469D-A482-6C5EB57A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FB75-A2AE-4AAC-91E3-A5BEB4F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3882-5B1C-4F06-8C1D-0C6E2DC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658A-7E3B-4ED8-8A6D-C51E2FB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F0C-B267-4E8D-A38F-7F6621C3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DCA4-F46B-4C20-8038-E2F216B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DE9-F941-44D6-8754-6F475B6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AAD-3D88-4729-B68A-27A9EAE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555-F9B8-4457-92CF-AD2552F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92F-183A-47AC-8D3A-235D7419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F9E1-53F2-4E3C-A527-CBCB1C4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53CC-AB86-481C-B31A-84311DFD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BB2-8ACC-4F61-957F-FF476119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C56-71AC-4ED0-BE6D-EFA2140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C5B-6BB3-4A61-ACB6-2A0DC28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85A-929F-4DC4-912A-335EED02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52C-5C8E-490C-8C69-857EC0B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760-4DDD-46B5-8790-268A7F3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A9D-ABCF-431C-B3ED-FA80DED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4064-299C-4E4A-9462-0362F57FF1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5A7D-E01B-4F3B-88C7-0714C37944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oral 17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9 – MITSANG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9 –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sambatra ô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tondra ten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mampion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kara an-kav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9 –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Jerosalem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ka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hanak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ram-pirene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soa mahaf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i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9 –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i-b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Izy fa mi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mba hamal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itondra ny az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à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50:47Z</dcterms:modified>
  <cp:revision>63</cp:revision>
  <dc:subject/>
  <dc:title>Tiona Advantista</dc:title>
</cp:coreProperties>
</file>