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D37-50B2-4E01-A71E-B61C9CF8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544-FDFF-47D6-8685-AE3F761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49B-9396-41A8-BDC6-8952D498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374-FCA0-45C0-9B43-B942F39E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B15C-8173-4A5B-A723-7902B59D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8D9C-7835-46D0-8CC8-11AA685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8A07-EB10-408D-A29E-DD4CE60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994B-277C-483A-B14C-22154D7A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7FB-B8C5-4E8E-A80B-BE870038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7D6-2AD6-4BC5-A713-9F5503BF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BCF-F69B-48A5-9C30-889FD52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5BD-D747-4CA7-AF14-B1636CAD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6D50-BEF5-49F9-9F9D-3B0E707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8096-C5C6-4043-93DE-8664C9D3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DC5A-4F81-4116-89AB-BA74C84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63B7-FE59-437A-811E-037CF969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F578-860E-49D8-95D0-D42CDDA1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6B6-7541-48FA-896F-5A883B36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D16-DE6A-49A7-9C20-A97D6D92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406-DA71-4669-9079-04BEEFF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1E6-8201-48A4-8A75-50FA895B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F56-6A91-497B-8ABB-DE302233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A2E-7B15-49A1-8504-87D32E71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38D-4E72-4373-A8ED-8A57484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FBB0-F144-47E8-8A80-C9D2B702B6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580D-DF03-4E57-9B9E-0287FD4E10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6 - </a:t>
            </a: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Ô, AZA MATAH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C. F. 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5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6 - Ô, AZA MATAH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, aza matah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h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ky tsara l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sy aina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manjombona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leh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dia hilaz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eo anil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6 - Ô, AZA MATAH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ia, tsy irer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ia, tsy irer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Mpamonjy, Mpi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iaraka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ia, tsy irer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ia, tsy irer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Mpamonjy, Mpi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araka 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6 - Ô, AZA MATAH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ny maso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emban-drah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hain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ba tako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oa tsy 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Rony kin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miara-m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manoro lala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6 - Ô, AZA MATAHO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'reo loza m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tsy hit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Jeso Mpi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amping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o mit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atok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o resy ir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izaho mital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5:10:07Z</dcterms:modified>
  <cp:revision>120</cp:revision>
  <dc:subject/>
  <dc:title>Tiona Advantista</dc:title>
</cp:coreProperties>
</file>