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5F2-5F24-4900-BD62-F582717A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FEE-174B-4569-85DC-A0F3E1B2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F2C-DB92-4A6D-843F-5A953859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DC0-A905-491C-98B5-A73C14C6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ECCD-061F-4985-9EE7-8B088CBA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1AA4-BBF3-409E-B31F-5FFA0833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AD99-0274-4DF2-82BD-B7B2FEF7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38AB-F602-4F41-A85B-E8D6C124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AD3A-6FBF-4782-8895-A16EB56F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0A34-AF55-4DE3-8C4B-C2F2C038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CC45-901E-411C-BA0C-ADBEE136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493-F00C-43C9-9863-1ED1C172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29B9-E3B9-4A10-8DDB-E046FDAA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241C-6F7B-4BDD-87E1-6A3737B9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EE1F-4117-4BCD-9F5F-3B98EDC9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E68A-5C57-43B9-AA2D-5BA0B853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6878-5977-40E2-9AC1-F5A730CA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414-F577-4DB8-BBE3-FC118CBB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A49-655F-4D84-994F-D0F6DD32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377-8787-41BB-A388-D8D666D8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76A-6B6A-439B-9E3B-3288C4D1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20E-F01B-4D36-9389-F2EC7F29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E68-094C-400D-B22B-D9BD338E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BDD-AF89-4C1A-8C60-A8FD4D05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F2EF-40B9-42EF-BCDE-1632230518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6A09-E090-497B-B7C0-A5EC5C2BDF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500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ESO SAKAIZ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446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4829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240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614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7" action="ppaction://hlinksldjump"/>
          </p:cNvPr>
          <p:cNvSpPr/>
          <p:nvPr/>
        </p:nvSpPr>
        <p:spPr>
          <a:xfrm>
            <a:off x="8817120" y="60008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inizafimang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inizafimang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0 - JES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Sakaiz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kaiza rahate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eto izahay, vonj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be ny ad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31160" y="4829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35480" y="5240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17120" y="5614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17120" y="60008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7" action="ppaction://hlinksldjump"/>
          </p:cNvPr>
          <p:cNvSpPr/>
          <p:nvPr/>
        </p:nvSpPr>
        <p:spPr>
          <a:xfrm>
            <a:off x="8833680" y="40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0 - JES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Sakaizanay, (Jeso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kaiza rahateo (Jeso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eto izahay, vonj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be ny ad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26120" y="4446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35480" y="5240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17120" y="5614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17120" y="60008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7" action="ppaction://hlinksldjump"/>
          </p:cNvPr>
          <p:cNvSpPr/>
          <p:nvPr/>
        </p:nvSpPr>
        <p:spPr>
          <a:xfrm>
            <a:off x="8833680" y="40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0 - JES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Sakaiz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kaiza be fit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riho izahay h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zava-ti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26120" y="4446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1160" y="4829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17120" y="5614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17120" y="60008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8833680" y="40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0 - JES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Sakaiz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kaiza tsy mand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dia mpanota az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hay mpanompo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26120" y="4446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31160" y="4829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35480" y="5240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17120" y="60008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8833680" y="40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Sakaiz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kaiza tsy mam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ory na fin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hay ankehitri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0 - JES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26120" y="4446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31160" y="4829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35480" y="5240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17120" y="5614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8833680" y="40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500 - JESO SAKAIZ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Sakaiz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maly sy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bola ho Sakaiz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drakizay dori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6120" y="4446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31160" y="4829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35480" y="5240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17120" y="5614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17120" y="60008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33680" y="40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6:55:56Z</dcterms:modified>
  <cp:revision>116</cp:revision>
  <dc:subject/>
  <dc:title>Tiona Advantista</dc:title>
</cp:coreProperties>
</file>