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817-F617-4C03-A0B4-E0AA8F2D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FDE-1A8E-4AEB-8656-151B8EFC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B8B-D72D-4402-B127-32CD08B6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C78-5F54-4A3E-86EE-4672C03A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11B7-2630-4D05-B7B5-5B087211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31C5-2FAA-4115-8392-2D9E7073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A954-382C-4150-80BF-4313EA3C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9B90-E0A1-4A0E-8332-13585EA7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3E0E-FBFE-4ACE-ACCB-29BA0989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DB4F-C113-464A-B94E-3864B62C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DF26-7309-40AA-802D-0EA1583F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F07-FADB-4556-AF29-F1AF63D8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F7AF-EE46-4A1E-8465-B74FEC88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3F43-2160-4635-AA96-52B1F396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0BD3-0BA8-4378-A66F-67131651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7D24-237E-4D7C-863B-83D7766A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3DF7-81D1-4806-BF22-795FD727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9AE-3DF9-4A61-9B67-C07EEF97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7EC-BFD7-41A1-86EB-1D6D2120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FA4-2F6E-438F-B766-C0DA0891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0E0-2AF3-46F2-8E46-8C2BD328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505-E2FA-40B4-9353-1E3D4C2F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C89-5369-4A75-B8DC-547EC52D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15D-1670-4A6F-8EA3-A24D825A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77CA-C4A7-4F3F-AB01-59E27E3B45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C723-2AE2-4F28-93C8-42448DFF3D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. Rabari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M. De Schoulepniko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47 – RY TOMPO Ô, TARIHO NY TANINDRAZA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TA747 – RY TOMPO Ô, TARIHO NY TANINDRAZAN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ô, tariho ny tanindraz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saina atodio fa tena ti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aiky ny mazava omen'ny ten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tsy hisalasala hanara-di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no re, ry Tompo hanao ny sitr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vonona hanompo handray ny hafa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didinao rehetra nomenao fahiz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aoka mba ho fetra hotanterah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TA747 – RY TOMPO Ô, TARIHO NY TANINDRAZAN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ô, vimbino ny tanindraz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rovy sy tsimbino mba hiada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meo saina hendry ireo mpitondra 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haizanay mikendry ‘zay hahaso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sendra ka variana, tsy mahatsiar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ohazy mba ho liana handray ny hev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sitrakao rehetra no tena sitrak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io no tarigetra ‘zay hotratrari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TA747 – RY TOMPO Ô, TARIHO NY TANINDRAZAN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nay malala, ry Vonivato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riho lalandava ny tanindraz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erinao rehetra ny voninahitr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aoka mba hitoetra ho tazanay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inay Tompo tsara hohamasin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raisanay anjara ho eo ani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njeo ny Malagasy ho olon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tsy hilasilasy hanaraka ny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4-16T14:38:07Z</dcterms:modified>
  <cp:revision>78</cp:revision>
  <dc:subject/>
  <dc:title>Tiona Advantista</dc:title>
</cp:coreProperties>
</file>