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DA05-7C19-48E7-BF81-389961694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18D9-47F3-486C-8C59-B98C52A8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2013-59BC-45C9-A6BD-722C7718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646E-FB05-41D3-A18A-AF021628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D930-A01F-4FC7-A3C2-520676A6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08C3-30D7-40CD-83EA-EB5D7FD3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27D2-DBDF-488C-A5DA-355279F0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2D42-7520-4B38-88EE-305C1508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25D5-1B5F-4678-992E-31E03F1E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B573-4630-4CFE-BFC6-E7C591CE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6F9A-8836-4BBD-A556-F68A516D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2E99-F0AC-48FD-93EE-D172122A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904C-D545-483C-AABC-BA2D5208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AC7F-823E-4868-B740-AD728A2B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0085-4CE1-4EA7-8F96-A46CF07D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A90E-3800-4491-9938-EC6BB436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938B-53B3-43B3-B661-CBD54153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9AA5-7176-4DF8-9D8D-4562EB7D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758B-328C-41CC-8C40-B33A0B89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40D0-2D60-4707-B054-A99663C9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C830-22DC-44B6-99EE-E3ADE895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F16D-7D9D-415F-81FF-95833B96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AE29-33D9-4DB9-A009-FCCDA4A4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EF85-0335-44CF-A83E-363C6141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1163-5B6F-498E-B6E0-E3D1A0B26F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E6EA-CA44-4511-B8C0-9D05D3A0D9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va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obo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obo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37 – JESOSY Ô !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37 – JESOSY Ô !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ô !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bay ny her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ezah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ton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indro mafy ny a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izina ny d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Jeso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teher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6392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37 – JESOSY Ô !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indro ka mah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‘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any filan'ny no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za avela ho re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ay mpanomp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za afoinao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osa i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manan-k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vonjy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6392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37 – JESOSY Ô !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sao madio ny fo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toer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tia 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keo hatr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izahay mpano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endrik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ova famonj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ho avy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6392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4T04:00:07Z</dcterms:modified>
  <cp:revision>45</cp:revision>
  <dc:subject/>
  <dc:title>Tiona Advantista</dc:title>
</cp:coreProperties>
</file>