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A17B-44BC-4FA4-B4BF-8FFBCE725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FC82-7838-4050-9DF4-7D4C1FF8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B88C-38A9-4450-8314-993B2FE9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FEC0-4BBA-4A25-9BEE-35862C69A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2116-F3C0-451D-BFA2-20C2507F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5607-B460-4883-B188-90749492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0090-FA70-4BFC-B9CE-40765961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E9F8-2219-433B-A2D2-8C563E07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8784-C002-47E5-B30E-F32BE6AF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5EC8-4E9F-4AE0-A846-53A4369E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0CC0-1152-40A3-A469-92E53AAB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148C-D5F7-4129-B60F-2E728F50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50DB-78B3-4E9B-B109-1D642217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3C99-D398-4344-B126-00248F60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E0B0-411C-4254-BBA4-91D1F00D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2D6D-8627-4F02-AA22-FFCAC30D7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E31B-B3CE-405F-B6E4-4EF2732D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577E-24DD-4B28-A084-8E36E09B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A1B0-D848-4310-BB20-040EDC7E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021B-DB56-405A-9EB1-50521B9E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5C83-D88B-476F-8E88-1541A9D2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A9A9-D3BD-4EAD-A689-F27D21D8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78E7-16B7-4BC8-99D2-29A15BF5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BA33-AA86-41CA-8FA4-7E090D85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B164-FC5C-4A3D-8E4E-4BF422BA96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92ED-FC4A-4852-9281-1518A32764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NA SAMY HAF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nakav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 E. Jon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61 – JESOSY Ô ! MPANAVOTRA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61 – JESOSY Ô ! MPANAVOTRA 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ô, Mpanavotra 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no antom-piain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Ravo ny fanah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ovidin'ny ranao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628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61 – JESOSY Ô ! MPANAVOTRA 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ô, 'zaho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ahy hatr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velomak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iavanao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61 – JESOSY Ô ! MPANAVOTRA 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no fionon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elombelona fan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la ny otako ao am-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anjaka Tompo Mpit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628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61 – JESOSY Ô ! MPANAVOTRA 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Jeso 'zay tena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antenaiko lav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katsaka ahy 'zay nan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mbatra aho voavonj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628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lavitra Ianao,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javona ny ho av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kaikinao no tiako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no fahasambar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61 – JESOSY Ô ! MPANAVOTRA 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628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05:40:53Z</dcterms:modified>
  <cp:revision>79</cp:revision>
  <dc:subject/>
  <dc:title>Tiona Advantista</dc:title>
</cp:coreProperties>
</file>