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A2BB-0510-4FF4-814B-7571AD47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A32F-0B89-4273-9E20-24B1C840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E9B4-FACD-4B97-80E3-719C93916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73DA-1DFE-4383-AE5E-AA6EBA33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BE76-2C14-48A3-8711-FB977D62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A377-9C8B-4516-B3FF-5213758A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3E67-2611-4801-A384-15843C16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BE93-CBE7-492E-89B3-B50F85CC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7151-823E-4EAB-B05D-710E28CE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131A-567E-4E20-96EE-41A161B4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78D0-DB7C-4908-A9C2-42FF6471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644F-D80B-4E2C-BE9C-76646E17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3780-7814-4797-BE57-7E3A9B57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6726-24D4-477A-9BDB-AC1DA729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088C-FE2E-441E-AB49-A022E275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3350-B6F5-4E55-BBA5-AF343890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B7AA-D123-47A3-AE5A-D34937CD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35AE-C9E6-4A88-8CEA-3839F8CC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EDA7-003E-43EF-BCCD-5E9AC0EC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EDB2-7F68-4BBC-B4AD-738CDD0B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EED0-57C4-4E08-804A-A24F02F3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2939-293F-4014-B7C7-02A82081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4DF4-EA4F-4A54-BE20-4FEBE80E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1C53-0238-44F8-B6AE-F95C4235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30FD-EBF1-4A66-8295-3C256419AA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07A4-0784-46FC-AB1C-BE5B08D982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. Ratovondrahety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scar P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11 – JEHOVAH TOMPONAY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685000" y="483228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558640" y="521352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558640" y="559440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510760" y="5975280"/>
            <a:ext cx="66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510760" y="639432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11 – JEHOVAH TOMPONAY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hovah Tomponay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y mandrakiz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driamanitra Mpanjak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erana izao rehetr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herinao, tsy tratry ny fisai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voninahitra ao an-danitra 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e hidera Anao izahay noforon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nefa tsy hainay 'zay vav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enti-mankalaza ny fiandriananao </a:t>
            </a:r>
            <a:r>
              <a:rPr b="1" i="1" lang="fr-FR" sz="36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558640" y="521352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558640" y="559440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8510760" y="5975280"/>
            <a:ext cx="66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6" action="ppaction://hlinksldjump"/>
          </p:cNvPr>
          <p:cNvSpPr/>
          <p:nvPr/>
        </p:nvSpPr>
        <p:spPr>
          <a:xfrm>
            <a:off x="8510760" y="639432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667000" y="440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11 – JEHOVAH TOMPONAY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(tohiny 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masina, marina sady be fahendren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y andohalehan'izao tontol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ho ny famindrampon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y maharitra mandrakizay,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Maharitra mandrakiz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omeo ny Fanahinao Mas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Ny Fanahy Masi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8685000" y="483228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4" action="ppaction://hlinksldjump"/>
          </p:cNvPr>
          <p:cNvSpPr/>
          <p:nvPr/>
        </p:nvSpPr>
        <p:spPr>
          <a:xfrm>
            <a:off x="8558640" y="559440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5" action="ppaction://hlinksldjump"/>
          </p:cNvPr>
          <p:cNvSpPr/>
          <p:nvPr/>
        </p:nvSpPr>
        <p:spPr>
          <a:xfrm>
            <a:off x="8510760" y="5975280"/>
            <a:ext cx="66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6" action="ppaction://hlinksldjump"/>
          </p:cNvPr>
          <p:cNvSpPr/>
          <p:nvPr/>
        </p:nvSpPr>
        <p:spPr>
          <a:xfrm>
            <a:off x="8510760" y="639432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667000" y="440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11 – JEHOVAH TOMPONAY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(tohiny 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fona sy hitaraina ho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Hifona ho an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enoy ny fivavak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Amin'ny anaran'i Jesosy Zanak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ho ny haben'ny fahaso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ry noho ny fitiav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reo, Tompo ô ! ny fiango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pikambano, hatanjaho,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8685000" y="483228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4" action="ppaction://hlinksldjump"/>
          </p:cNvPr>
          <p:cNvSpPr/>
          <p:nvPr/>
        </p:nvSpPr>
        <p:spPr>
          <a:xfrm>
            <a:off x="8558640" y="521352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5" action="ppaction://hlinksldjump"/>
          </p:cNvPr>
          <p:cNvSpPr/>
          <p:nvPr/>
        </p:nvSpPr>
        <p:spPr>
          <a:xfrm>
            <a:off x="8510760" y="5975280"/>
            <a:ext cx="66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6" action="ppaction://hlinksldjump"/>
          </p:cNvPr>
          <p:cNvSpPr/>
          <p:nvPr/>
        </p:nvSpPr>
        <p:spPr>
          <a:xfrm>
            <a:off x="8510760" y="639432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667000" y="440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11 – JEHOVAH TOMPONAY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(tohiny 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rovy izy mba hijoro amin'ny Ten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na mafy ny tafi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y ny alon-dranomas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ran'ny Zan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hamonjy a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y hanavotra az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pitomboy ny fino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685000" y="483228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558640" y="521352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3" action="ppaction://hlinksldjump"/>
          </p:cNvPr>
          <p:cNvSpPr/>
          <p:nvPr/>
        </p:nvSpPr>
        <p:spPr>
          <a:xfrm>
            <a:off x="8558640" y="559440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4" action="ppaction://hlinksldjump"/>
          </p:cNvPr>
          <p:cNvSpPr/>
          <p:nvPr/>
        </p:nvSpPr>
        <p:spPr>
          <a:xfrm>
            <a:off x="8510760" y="639432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667000" y="440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(fara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anaranao ankalazaina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y hanefanay isan'andro ny voad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raiso ny fisaor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noy, henoy, ny vavakay, ry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11 – JEHOVAH TOMPONAY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685000" y="483228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558640" y="521352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558640" y="559440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510760" y="5975280"/>
            <a:ext cx="66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667000" y="440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23T15:17:33Z</dcterms:modified>
  <cp:revision>37</cp:revision>
  <dc:subject/>
  <dc:title>Tiona Advantista</dc:title>
</cp:coreProperties>
</file>