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933-2A44-4D65-A2F0-6FD43ED5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EB1-4425-447C-ADEC-7F3536F5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E27-A4B1-42AB-9D38-49BF057D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9DA-CD81-4B72-8B21-7C89978C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AD0-71E9-44F6-8ED3-43103F5E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973F-B0A4-412E-AB6F-DDAF2673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0570-8660-4A36-950B-BDDBFFA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634B-29DA-4A0B-8C0B-A080556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DBB-D7EA-47B0-B61D-F2A7249B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0A87-3C5E-4D91-8626-FFA72339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18B-1A8C-4F0D-9805-84E8F79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203-40CE-4EC8-88F8-22C34A7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A9D6-0E63-4DC7-8B45-28CDE54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AFC2-DE21-487B-886A-C98E8BB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6417-6DC0-4C6C-B41B-B1F96E86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B49E-5F2E-4748-99BB-ABA765A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257-0681-48D8-BCF7-BEBF1AD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FED-E7C1-49BB-811B-CBEEF072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875-FEE5-45B4-9379-83B7B8F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165-1D8C-4ADD-912A-E74B4F3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70D-5EBF-4858-B687-A93B70D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B83-3AC0-4E41-901F-29BBB8F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7A9-8676-4330-B31F-60C7479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C59-6B43-4383-9905-7E4B205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582-AAC1-488F-9E48-7A5986573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6A4-09C2-428A-87EF-6C60E9E545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kotova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usique Gall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5 – MITOERA R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5 – MITOERA R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, ry Jesos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animbol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mboary 'zao ny v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mbo sy ham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, tomoe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sao ny Nosinay, (Nosi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sao 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34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5 – MITOERA R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onenanao ny la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oera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ovay ny Malaga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ena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onena ; O ! Mone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avao ny Nosinay, (Nosi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zavao 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5 – MITOERA R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kekezo 'reo mp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averin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antano mba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ires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Tariho ; O ! Tar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Nosinay, (Nosi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34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5 – MITOERA R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fohazy ny mpi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oha ireo m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dre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sino, hamas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Nosinay, (Nosi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34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Jesosy feno an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, laza,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ohalik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ohali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era, mitoe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ao ny Nosinay, (Nosi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ao ny Nos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5 – MITOERA R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3400" y="5178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30:32Z</dcterms:modified>
  <cp:revision>56</cp:revision>
  <dc:subject/>
  <dc:title>Tiona Advantista</dc:title>
</cp:coreProperties>
</file>