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E71-FC25-4AA7-8442-56A659C1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0B5-9A04-4CEE-A014-85E57A59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310-3286-4737-A19B-B9236234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A00-0C01-496E-B926-EFB778CA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628-654D-4E78-9CD8-EB86BB08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3D52-292F-4A99-AA8D-5AC898D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1ED2-443F-452D-962B-FB9E460F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FB2F-BF19-45A2-B304-5C166ED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FF2-11CA-4080-B1BC-8865DE67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BAD2-AE2A-4212-96DB-51D828F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4ED-28DE-48C1-A5AD-DC209F9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77C-7032-4F66-B5DB-4597684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CC92-22F0-4AD3-8200-28933CE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887-0C5F-46AC-8891-9862458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4225-FE20-4709-878A-47373D4D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FD81-069C-4532-8975-475B069B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89A6-4B6C-4434-9333-28108011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A76-E5FB-4DC5-99DD-CABA0811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AEA-862D-4F20-B498-40A95CA2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0EA-A298-44EC-8170-6AC0F18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FBF-4CD5-4986-AC42-29DB4E23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C8C-6553-4BA7-BA41-1502B33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27A-29F1-493B-96B1-927F7B4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279-B9E2-4B89-BDDA-FD88ED3D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7E5-3983-408D-A988-8503AC090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5530-E35C-4417-B197-88C10C87B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60 – AO AM-POKO, RY JESO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0 – AO AM-POKO, RY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ko ry Jes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ko mamboatra ny fomba ho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haiko intsony ny hiaina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ahy tokoa ilay fitia(va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mamy no mameno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mamy dia mam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njarako hatrami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0 – AO AM-POKO, RY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sy ô, ny fitiav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fa iainako tokoa,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ba manam-pahar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anam-petra 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velomako hatrizao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trizao, ho doria, d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0 – AO AM-POKO, RY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soandro hanazava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sava ny rahona izay mit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ilon'ny foko mba hamirat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raiko tokoa ila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liana no heno mameno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liana no tonga manjaka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ko hatrami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0 – AO AM-POKO, RY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haiko hadinoina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tia 'zay mambabo ny fo tso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koboniko mafy ao anaty sat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itia tsy mba roa 'la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voana tsy hay tantarai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voana tsy roa aman-tany, tsy r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ngeja ahy hatrami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31:42Z</dcterms:modified>
  <cp:revision>62</cp:revision>
  <dc:subject/>
  <dc:title>Tiona Advantista</dc:title>
</cp:coreProperties>
</file>