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AC3-A210-497A-8D42-0612CD56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A2E-050F-4D90-834B-E2760B7F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160-A37D-451B-AC02-D6BAF768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41B-E215-4FB0-8188-4A531EF5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E799-54E5-47CE-9B55-E921F473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C9F2-0F29-49CA-9541-A37003F3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52E8-B2D3-4F84-9E4D-3E1B371E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769B-476C-4927-B574-9352A1DA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B2A2-EA09-4863-BB48-D9164230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6235-B84E-4027-9C99-90A0FFAA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75A3-C651-488F-B2D3-EC896824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FFD-DA46-4053-B494-72F82A0A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5927-7455-42C6-B0F0-6077E8F2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09AA-7C7E-4160-A074-86B63A80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8E52-CBE2-4659-B635-A99D7D5E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B2DD-182D-41C1-9F91-7C737CFE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C9F4-C6AC-46E3-B89D-CC3ECEBC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7E8-B44A-4A6E-A126-D81AE509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BD9-FE95-4AF1-8200-D349944F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C31-CA31-4C27-966A-8229EFD7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9E3-EC64-4BAA-AD23-F280FC4A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D50-DF41-4ECE-8C07-7D2E0114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4DB-00FE-4DDC-9B0F-34A0BBFA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6D5-538C-4E67-8AB1-18FF400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4F94-9988-4C9A-A43F-AF13FDF2F5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D042-9B3D-4C04-8054-D7ED99428E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hn R. Swen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23 – HENOY, HEN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3 – HENOY,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oy, hen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ny feon'i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antsika mba hitsang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lio, vali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lio ny antso hoe : &lt;&lt;Avia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drosoa ry mpanarato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844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3 – HENOY,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sandrato a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fanevantsika, asandra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ovao mahaf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rio ho ren'izao tontol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ereza afafazo 'zany v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eraho ny baikon'ilay Tomp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anahy hitarika, avelao ny ahi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omba ny asa famonjem-p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3 – HENOY,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Jes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Tefeo, amboar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Ho mendrika hitondra ny haf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Tendreo, tendr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Tendreo ny molotray Jes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ny teninao  no amba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844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9:22:58Z</dcterms:modified>
  <cp:revision>61</cp:revision>
  <dc:subject/>
  <dc:title>Tiona Advantista</dc:title>
</cp:coreProperties>
</file>