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9A9-62E9-4335-AD6C-3DBA7DF7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8EE-DA89-409B-9AED-1743A2A4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757-092C-4186-ACB3-245F9C49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B09-9C3C-4A7A-A918-230956D7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3025-E851-4234-82EF-72E99989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F31D-87A0-43A8-99DE-66FA5BFA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BCB6-D216-4DF0-9813-BCA0457B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8FF6-8B3B-4A44-A324-A7B993B0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C6F7-AD9B-4320-BADF-BAE3A8BA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DE3E-9CBD-4716-8FA3-57A46CCA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9FD4-6DC9-4BB6-9287-7D7A4A0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397-D3F0-4890-9DE4-25AF46A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B150-048A-411B-ADC6-979BC8F5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8224-F720-486A-B2B5-ACF403FC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6F83-9C07-407D-802E-F130781C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2231-6BFC-4818-87E7-D34A1A56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20B2-2FC7-4A24-9978-DFCCA305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F27-E3B7-4603-9909-450F0879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F24-E5F2-4443-8F80-64B1407F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F8E-8B5C-4194-B5DA-2006E8B3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51A-BE6D-4B5A-9A0F-CF5E78E7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51F-C57C-4F92-AD21-87B511AF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908-A466-4857-8725-C6B0129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356-B337-480E-9B9A-6DC7ECEB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FBED-42A7-4425-8FA0-28FC182F0E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6FC7-9B27-478D-973A-3DC5A330EF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76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O ZIONA ANY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0000" y="4748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4320" y="515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3880" y="553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388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. H. Rosenkra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20000" y="63244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6 - AO ZIONA ANY AMB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Ziona any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sy re fonenan-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y tsy mba hisy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nomaso, sento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20000" y="4748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24320" y="515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13880" y="553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1388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20000" y="63244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6 - AO ZIONA ANY AMB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 ao an-danitra 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natrehan-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eno hira mahar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ihaonantsik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24320" y="515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13880" y="553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1388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20000" y="63244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7" action="ppaction://hlinksldjump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6 - AO ZIONA ANY AMB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y misy a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Mpamonjy tena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iaritra ny 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ampody ny mp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20000" y="4748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13880" y="553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1388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20000" y="63244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6 - AO ZIONA ANY AMB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hifankahita t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-kavana t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lay alim-be sisa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! Mazava n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20000" y="4748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24320" y="515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1388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20000" y="63244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oa mahereza 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jere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ahalavo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handres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6 - AO ZIONA ANY AMB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20000" y="4748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24320" y="515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13880" y="553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20000" y="632448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 ho sambatra ao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natrehan-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isaraka ints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6 - AO ZIONA ANY AMB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20000" y="47480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24320" y="5159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13880" y="553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13880" y="5952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3368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32:53Z</dcterms:modified>
  <cp:revision>117</cp:revision>
  <dc:subject/>
  <dc:title>Tiona Advantista</dc:title>
</cp:coreProperties>
</file>