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E54E-86D6-4E75-9178-8D5720B9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1C36-7DFD-42FF-B48E-8DB171B6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24DB-B195-4214-9F39-448A49D5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C0CF-9716-4F21-9344-45B70179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D73E-A20E-425F-BF2C-DF4368EF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7341-EE0C-4F8C-B2D9-54D9E288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427A-EBC3-4B3A-A73C-95317CE6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DD43-FC05-45D7-956A-6F5E78D3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E0D2-FCFC-40EA-ACA8-8CA994FB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DBA9-344B-445B-ABF3-83A089AB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DBBB-8FD6-40CA-AFF7-EA384689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B934-5A8A-442D-8B42-A037D9F0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C40E-EB1D-4540-83EE-DF2AB9C3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A6F3-A66B-4CA5-8A59-350B4C24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9626-C3A7-469D-9EB4-E264A5CD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BA3F-D5D4-470A-ABA6-CCE7B941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5C43-7CCF-42FC-9950-F79202F9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7324-7CD3-4A8C-BDCC-BC889507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D0EE-1CC4-47C8-88B0-189C3568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2AC2-5222-4BB6-A07F-4D93CE35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A1B9-6C52-4113-8ED5-E6A88FDA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927E-4E9F-43E3-B567-999BAF96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063C-B4E2-4C9B-BF6E-14D798D0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54F1-3D53-4694-8728-A706BB66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F5A5-F4EB-4A63-914B-D7D3A4948E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E56C-ECE2-4983-BEBF-FEBC862D8E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14 – MAMELA HELOKA JES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4 – MAMELA HELOKA JES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là helo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là helo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là helo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so Tomp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ntrà, miantrà, miantr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tia mamal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484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434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344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336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4 – MAMELA HELOKA JES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tatrao,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ô ! fantatrao)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in 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mpo ô,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ry Tompo ô,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tena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('zay mahasoa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hasoa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'zay mahas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a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(dia fantatrao)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hiko re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T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la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(mpo ô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là heloka, Jes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là heloka Jeso tia. (in 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434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434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344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4 – MAMELA HELOKA JES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, manatona anao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Oa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, manatona anao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Oa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hankaiza tokoa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Oa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ry Jesosy tia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Oa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Ty mpanota izay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Oam, oam, oa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ahavonjy tena ity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tena it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434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484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344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336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4 – MAMELA HELOKA JES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ady mafy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mitolon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ny sitrako an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tanterak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vonjeo Tompo 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là Jeso tia, Mamal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434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484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434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336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Ô, afeno aminao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Oa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ty foko ity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Oa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hirizo ho Anao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Oa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monjiko ô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Oa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ela heloka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Oam, oam, oa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alaho aminao Jeso 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4 – MAMELA HELOKA JESO 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434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484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434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344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336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2T09:58:21Z</dcterms:modified>
  <cp:revision>78</cp:revision>
  <dc:subject/>
  <dc:title>Tiona Advantista</dc:title>
</cp:coreProperties>
</file>