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F54-9438-4ED2-8C52-D09C6564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DDF-E205-452A-876B-746E4403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118-89BE-4240-A639-56850FF3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722-2123-4B03-8A31-9FA248F8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D304-1D70-4A9D-BB28-13A587DE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3DA5-74E5-474B-ADF0-1865C2D0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E55A-B71A-475A-B613-6BD13F67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1C15-323E-4E79-9BA0-8FDB757D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CF91-A42C-4F83-9A38-C3EA3BA9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A2D8-968B-4311-85B1-DE590B44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7784-6587-4F92-A8E5-FB9F1584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138-3E5F-42CA-A3E2-AC6F56B7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69E7-0DD8-4167-8DD3-11FAC228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A966-8616-4EB8-93D8-0CE0C870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BA44-4F03-457D-A359-1ABF7E64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E041-D42D-4455-ABA7-691142AA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C23D-16A6-464D-8787-738F1E2C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862-E83F-4DED-BB65-D728BB30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11A-857A-4D85-84B0-896BFC6A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41C-C881-4C6E-B963-83B2C74B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6CD-838D-49AE-8A33-AC2CC570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9FA-49F5-4908-9946-A96FF59F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DEE-5B6D-4FC9-AF6B-93B6A963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8E2-9C31-4DF7-9C50-E84CF057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B2EA-0C97-4EEF-B5B9-D470DB85E8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71E7-A7ED-434B-8532-31B572E59F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remô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naivoravel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Hartsoug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449, HL496, DLG30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258 – ‘NJAY REKO TOMPO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8 – ‘NJAY REKO TOMPO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y reko,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jay re ny feo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ah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kany Kalvar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8 – ‘NJAY REKO TOMPO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lehi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aho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ovy ny ra so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tao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8 – ‘NJAY REKO TOMPO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lemy aho 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taraina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jeo ny aiko,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jeo ny olo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8 – ‘NJAY REKO TOMPO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dan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esy ny manj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sorinao ny tahot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 ! Vonje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6392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3:30:07Z</dcterms:modified>
  <cp:revision>49</cp:revision>
  <dc:subject/>
  <dc:title>Tiona Advantista</dc:title>
</cp:coreProperties>
</file>