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4CFB-6933-4B86-98D3-D900A8258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239C-F72E-4671-8107-BCC0A755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0886-4DAE-47AE-800D-3957192AE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1D32-28D0-4624-B4A7-3B3D4E77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AF30-B4FD-4AED-A5DB-82837AAE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19B8-8118-4A31-8A6E-195540EA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AA6B-85BE-48ED-8555-B743F924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848E-C0DC-4269-91B8-928066C5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C531-D736-4062-8938-152055E1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1120-1EEE-4EBC-953B-810AB41B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73EB-8301-4B61-8FBE-9186F2FD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F43B-F986-4CF5-B0DF-D7A15C93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6BDC-453E-4E36-8266-B82ADFF0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5FB0-3BD5-4FCA-B367-8D09CF82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6BE2-FB96-4C30-A254-4F9D94AC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7847-5ED8-46AE-B010-02FD8EC1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691A-9DF5-4E9B-B157-63C96030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7BBD-DBFE-4169-909B-4D892D63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84F9-BFE9-4CA3-BB98-879C5DD7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00A7-772D-4BAD-9AFF-DB60393D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B863-B711-4536-926C-8740D4D5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6283-65BE-4808-8246-48D1E8F3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B08E-C3B0-47FA-AB1B-A4AC5212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D043-1703-4E98-9984-F77A7672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C565-08A9-4D23-8D76-E082E152CC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F407-BB45-411F-8B18-D3D43F79BA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AHY MASI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aobelina, M. J. Meeg, J. John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levine Heed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r>
              <a:rPr b="1" lang="fr-FR" sz="1200" spc="-1" strike="noStrike">
                <a:solidFill>
                  <a:srgbClr val="ffffff"/>
                </a:solidFill>
                <a:latin typeface="Tahoma"/>
                <a:ea typeface="Arial"/>
              </a:rPr>
              <a:t>HL431; FFPM19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76 – RY FANAHY MPANAZAV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76 – RY FANAHY MPANAZAVA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Fanahy Mpanaz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drandra Anao 'zah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ela, fa tong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omy ny fanahi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fantatray maz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lazain'ny tenin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eheto laland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am-po ny af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384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76 – RY FANAHY MPANAZAVA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Jesosy ! Miten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aka ny fomb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ay izay manant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dre ny feon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o marary sy man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tsaboy sy iantr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 hino, fa tsy s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ehoy ny ola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577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384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176 – RY FANAHY MPANAZAVA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nay Mpanome ny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enoy ny hatak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tananao tsito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rovinao an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anora mba tah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aventy haf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hitanay an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aty ny ten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7:43:25Z</dcterms:modified>
  <cp:revision>39</cp:revision>
  <dc:subject/>
  <dc:title>Tiona Advantista</dc:title>
</cp:coreProperties>
</file>