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8AE3-0FE9-4EBB-A567-E0C66419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D3FF-738D-41DB-88D4-7DE6999C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4557-773C-424F-992F-73EBF1EB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1A2B-3D74-4EF3-A92B-1FA71F59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722C-6D1F-4C14-A90C-B7533DE6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8612-6AA0-4C6C-A295-E0D583FA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F60F-E466-4233-AF3A-F25570D1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4F66-AA58-45F4-8538-0905A88E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D049-4D71-484A-915E-1F0F75A4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CDD8-5D97-4614-82B7-97E875EE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7547-C304-487E-A8F0-E2010EB2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7192-9085-4609-9209-9F79E2C6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D19C-2A37-4F0E-9A93-617195D423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Fitiavana sy Finoan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Ranjoan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P. P. Bliss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Correspondance : FFPM506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A413 – TSY MISY MIADANA KA AFA-P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Text Box 20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21">
            <a:hlinkClick r:id="rId3" action="ppaction://hlinksldjump"/>
          </p:cNvPr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22">
            <a:hlinkClick r:id="rId4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ext Box 23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3 – TSY MISY MIADANA KA AFA-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misy miadana ka afa-p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ay monina eto an-tany 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izay tia sy mino ny Tompo Je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hahazo ny soa tsy ho lan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42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 Box 44">
            <a:hlinkClick r:id="rId2" action="ppaction://hlinksldjump"/>
          </p:cNvPr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45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46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3 – TSY MISY MIADANA KA AFA-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a irio (Mba irio)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a irio  (Mba irio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 hananana an'i Je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34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35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37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38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3 – TSY MISY MIADANA KA AFA-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misy mahory mahazo ety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 no hanala izany 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arovy ny avotra tao Kalvary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nalatsany tany ny ran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18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3 – TSY MISY MIADANA KA AFA-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aho maniry hanaraka Ana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Tompo Mpanafaka ota 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fantatro tsara hatramin'iza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itiavanao ahy mpanot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25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26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 Box 28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7:08:19Z</dcterms:modified>
  <cp:revision>70</cp:revision>
  <dc:subject/>
  <dc:title>Tiona Advantista</dc:title>
</cp:coreProperties>
</file>