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F78-09F8-414C-A238-5A75F38C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A31-3BAF-47A1-A45D-F802BB19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84B-F349-484F-A5BD-9B221C38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811A-9458-41A3-9FF8-74268CF6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11E6-3B6F-4EEA-9327-47A6919F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624B-F030-4BA0-8C01-FB839088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4164-9736-4611-8EE3-E3EAEE5E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0B0B-8500-4543-A98A-7E9932D2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1B71-9BCF-4526-A6B0-7F22AF3E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4A07-59A4-4570-97A1-8BD0B2BA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F54A-B02F-4E44-89DD-73B73BD3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208-CF82-469B-9A06-6680B870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D9CF-98CF-48BE-AFF7-4E34E432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2F30-45D1-4A17-B282-DEAC92CE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1E0B-8CA7-4D17-811D-DD25708F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8205-C4B4-46D8-9A0E-7140882A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2A94-3A79-43A0-B304-55B17B98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9AB-AAF7-478B-A625-A6134333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5B62-866B-4967-8390-1FF04C9F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B16-B377-4A27-8887-D3950EB2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86E1-0719-4E79-A9EF-85A0A86F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E6E-BCB2-4F43-81C1-54E7831F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EBF4-1EC5-4CAE-958A-1D0EEB46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C075-6942-4367-BEEC-CEC20FC8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E8D3-068E-48E4-A383-D8C101D3D3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859B-C0BD-4168-A0D8-09D815D84D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sa misiône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J. Rah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J. Rah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73 – AMPIONONY NY OL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6360" y="55897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3 – AMPIONONY NY OL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ionony ny ol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Ampionony ny olok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ionony ny ol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Hoy Andriamanitr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itondra teny soa mahafal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soy mafy mba h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Antsoy mafy mba ho r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7577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87721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87631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3 – AMPIONONY NY OL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faly izay mand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Ry Jerosalem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rosal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efa nahazo famindram-p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efa vita ny ad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dy voavela ny helony (voavel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mifalia sy mirav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rosalema ô, miravorav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66360" y="55897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3 – AMPIONONY NY OL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iona mihainoa (Ry Ziona mihain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rosalem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'Zay mitondra teny) Izay mitondra teny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ndrato mafy ny feo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Andriamanitra (Indro Andriamanitr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amin'ny her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Hiandry ny ondry) Hiandry ny o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6360" y="55897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373 – AMPIONONY NY OL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anangona ny zanak'o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o trotroiny an-tratr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ia l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'i (Jehova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y tsy miova f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ota rehetra : &lt;&lt;Malalany&gt;&gt;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6360" y="55897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08:46:53Z</dcterms:modified>
  <cp:revision>63</cp:revision>
  <dc:subject/>
  <dc:title>Tiona Advantista</dc:title>
</cp:coreProperties>
</file>