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43B8-2717-4029-9576-44F10A3D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AD35-4420-4C3B-916B-2F6C1894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C845-AC68-4667-8702-CDE248AA3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C866-3F59-4BDF-A3DF-0887E31A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C4C0-6A32-4EF9-B9A9-52598628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F980-34F6-4BCA-975C-696BDD73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60CA-871C-4131-AB88-26D31EA6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D59D-1586-46A6-93DF-C9B8D3C4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6AD1-C069-405A-9AF5-0D844332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34BB-BAA0-4E5A-B0D9-09405CB4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3320-0471-49A9-A2BC-66BAC271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6AA6-0D2B-4160-912D-C62F2742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9489-4793-4286-9859-5A8A104B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DCE3-9ED7-4DA7-AA34-35216D08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C88C-0A8D-47A2-8009-AFCAA293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0B68-CA31-4F0C-B2AF-B090EC18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4834-D906-4A4C-BA5E-0E8592C0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FF13-61BA-45DE-BFE9-D850B9BA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2381-AC67-4E62-A4EE-9842803A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94F-BFA5-4853-81D9-0A515693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BF59-C129-497E-941D-40A168AB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7F15-E989-42D6-9ED6-C734ECF5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6777-3C40-484F-B22A-235F6F1D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919B-CAC3-4A77-8114-05A2DF62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5B75-2C0D-460E-AB63-D8AA99C9A9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5430-FFBD-4493-B569-CF3877A5AF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nahaterah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67 – NY HIR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80760" y="55609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67 – NY HIR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iranao aoka han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ion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eraka ao ny Tomp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tem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anàna 'zay mami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enika izao tan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(Ry Ziona ô)</a:t>
            </a:r>
            <a:r>
              <a:rPr b="1" i="1" lang="fr-FR" sz="36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r>
              <a:rPr b="1" i="1" lang="fr-FR" sz="36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8780760" y="55609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67 – NY HIR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zao fa efa teraka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manoela, Mpanjak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Ry Ziona ô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lanitra sy ny 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faly hiaraka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ionanay ô, Ny antem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anàna 'zay mami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enika izao tan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67 – NY HIR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dena simb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havaozina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ingao anio ny hor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falianao an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adanana ao anat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Ry Ziona ô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80760" y="55609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TA067 – NY HIR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zao fa efa teraka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manoela, Mpanjak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Ry Ziona ô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lanitra sy ny 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faly hiaraka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ionanay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falianao anie H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adanana ao anat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80760" y="55609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2:56:56Z</dcterms:modified>
  <cp:revision>30</cp:revision>
  <dc:subject/>
  <dc:title>Tiona Advantista</dc:title>
</cp:coreProperties>
</file>