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17C-D421-4168-A4A7-3216FE36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60B-BD48-40CF-964F-650C9A0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F28-BC39-4D6A-9347-E7E87690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326-2125-4A4C-BD8B-966F778B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8F2-98E6-4A00-86C3-0DD3A6DB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C96-8432-4725-AEE3-34F90CBD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63BD-B9EB-467F-9C36-F62A005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16A8-EA13-4301-9F97-4E111D9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A330-88D4-4FBC-A1C6-A0A4944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A06-06F4-4FAB-B2D7-3A71DFF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96F0-C592-419A-8D52-A4B847D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131-D985-495C-A25C-F8D842AD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9786-5A97-4EA5-8FDC-19A972F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452-C44C-4577-BF68-78BDA2B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D4E-E346-40FF-8ABD-9CD7155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89E-C172-4308-9F52-3CA3E428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67D-9B89-4782-9B6F-32EBB98A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496-6402-4B1E-A395-3F1B7C4C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927-E493-4FC7-8A8F-8657CC48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B41-FC32-42AA-A7B7-F516CF2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EB1-B1DF-43FA-B5F8-53B9771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03A-4016-454E-83FE-E4A7AC3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590-649E-43D2-815C-E84B18E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F3-705D-47A3-A515-B8C6F0E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2E50-D44F-4E73-94F4-2F678BE3F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8FE1-819D-4FF1-99F1-FE3EBBD027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ndrian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ndrian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00 – ‘ZAO NO ANDRON’NY HATAN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00 – ‘ZAO NO ANDRON’NY HATANORA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andron'ny hatan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onako Anao, ry Mpamonj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hany mba fanante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okisako handraisana 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00 – ‘ZAO NO ANDRON’NY HATANORA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oady 'zay ataok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ho ary koa mba tah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no ho mendri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etrako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00 – ‘ZAO NO ANDRON’NY HATANORA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andron'ny hatan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eko ny faka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toetra tsy maintsy i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reo ratsy 'zay mahazatr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00 – ‘ZAO NO ANDRON’NY HATANORA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andron'ny hatan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iako Anao, ry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toetrako no hila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noako Anao tsy voah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13:44Z</dcterms:modified>
  <cp:revision>85</cp:revision>
  <dc:subject/>
  <dc:title>Tiona Advantista</dc:title>
</cp:coreProperties>
</file>