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0E4-6E07-477B-BCDC-40EDD667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D13-085C-45FF-B21E-C0C7550C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F88-0035-4537-A91F-72F01752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4B8-F67C-4961-BFF5-1D8912AB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A93F-0774-4D05-92B8-02CC5B05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4CE6-8C39-41D0-80F4-E811DBD1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2318-7CBA-4C9A-AB0F-2AC5A8C0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5BB2-235C-46C4-B94B-64661D12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76E8-E677-4AB6-9494-FBB969FD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4636-CD1B-4E3E-BAC5-217FE5BC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54E6-12E8-4AEC-ABE0-7FCB2C6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E0E-34AD-493C-B74C-B7E82B2A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9D3C-729D-41CD-9DCA-6A14FD7F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897B-BE0F-477F-A848-2514A34C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9188-FD01-4B6D-8657-42615C02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3A3E-0DFF-4023-A8F1-7BCF7E15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1D08-E5C6-4C7F-BDCC-8AF7A974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B01-2920-49C1-A3A2-7D840DB5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020-B590-4FE0-B917-21FAA3CD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450-1EB2-4B75-BECC-C27F9C00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39D-AAD6-42E0-8335-9D9D7317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89A-7ACF-4393-9ABE-9764D020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2C5-E21A-4EDF-A646-BF03ACA1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09E-0C6B-46B2-80A2-E08046C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CC95-E7EE-4FAC-848A-50413AD450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C355-E621-4D0D-8E87-F090E39F1C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H. Mor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0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45 – MAHATOKY IANAO, RY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5 – MAHATOKY IA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toky Ianao, r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 mahar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etra mafy anio sy ho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voafetra na voaf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5 – MAHATOKY IA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tokoa, ry Ray, no Vatolamp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iovaova ny fiainan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ho fanilon'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rika anay ho tody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5 – MAHATOKY IA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indramponao dia andon'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mbelona sy mana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havaozinao isa-m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mpoky ny soa re ani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5 – MAHATOKY IA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toa takona ny mas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bola miasa re mangin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ananao miahy, mit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ntana izao tontolo iz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ananao, ry Ray, no amel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ko raha mbola e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okiako Anao tsy mba ho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da mafiko ilay fit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5 – MAHATOKY IA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9:25:16Z</dcterms:modified>
  <cp:revision>70</cp:revision>
  <dc:subject/>
  <dc:title>Tiona Advantista</dc:title>
</cp:coreProperties>
</file>