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1A7-452C-453E-9EEC-ECE627BA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359-604C-458C-A214-B9A1A61E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DB40-AF4F-4EE9-9A12-5411D517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4A9-81FB-4F35-8BF3-C9F191E7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0043-A716-442A-BCF1-B88F2038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657A-C446-4D06-8A2B-64749581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0D55-6D78-4E05-9585-2DE095C8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769A-2886-457E-B171-FF5F476F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6B5A-77F8-4003-BA38-7A6AE727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19B8-AC3E-41DC-847B-81F70772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65FD-A852-4C0D-B098-0C4A3F6A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7A4-9F2F-4733-920D-4FC7CFD1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6120-376A-476C-92B6-3832AE54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5BDD-AF26-4A0B-95B1-22392E57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ECDC-B58F-4DD3-86BD-34A242FC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C24B-6A9C-407E-A4F8-DB2D0101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FDFD-4873-45C2-9B62-7C399ED3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A17-1DE0-41E9-9BF5-C11F42EE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C8F-D2FC-4C41-A468-2DB5128F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D62-E0F9-4BE6-A08E-132D9FC9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2E0-F73A-4253-977B-99AC772A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ED02-F081-4BB2-BC3A-C049AD25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E13-2765-44F5-BBB1-866232DB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5385-683E-451F-96EC-A19BD95E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A0D6-DA72-4F33-B62E-B64E3EE73A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9B25-8E6A-418F-A8C9-B4E9DFCE0E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ieme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07 – HE ! MISY LOHARAN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7 – HE ! MISY LOHARANO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Misy loharano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garangarana madi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boika tsy ho ritr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 hatoninao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alana makeo maz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feno fitah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zazakely 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vo am-pifal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7 – HE ! MISY LOHARANO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eha hisotro ranon'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angetaheta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hy kivy, mitar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ia vesaran'entam-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ononana sy hery vaov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inana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o tokoa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eo am-pelatanan-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307 – HE ! MISY LOHARANO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hazo tanam-bokov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tampon'ny havoana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intona izao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tona eny Kalv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boika eo 'lay lohar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ndra aina, her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, hisotro isan'and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goka eo, hanar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8:16:23Z</dcterms:modified>
  <cp:revision>61</cp:revision>
  <dc:subject/>
  <dc:title>Tiona Advantista</dc:title>
</cp:coreProperties>
</file>