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BFE-4D44-43D1-AB01-CD7EE3BF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153-453C-405A-B763-4A1BEED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A4A-AE0F-4D6F-9841-FC7B2D9B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7C4-D222-4DD8-BE5C-7E50FA37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210-4575-4FC2-AD09-8D32CBC7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2304-BE6E-475C-847C-1C2A4696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AE2C-BA3B-4FB2-A0C7-035907C9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2A95-DB33-4063-A681-BB5DBC0D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675-A30E-4E3F-99E2-87234C2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CF1-CBA8-4897-8969-67DF6BB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1764-7A47-415F-A952-5088AEF9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3BE-16A4-43FD-BE04-AC6AFE8D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119B-B50F-4343-A477-85C0A56E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7EF-6004-4AC9-B843-8D4BC6A6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0DF5-6227-4921-99CF-FB9EE83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FD1-32ED-4B7F-9415-E3DD7001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7A6F-5843-4B22-9E0F-4C4D467C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154-8A66-40E2-85D7-5EBF478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B06-3692-424D-9DEE-FFCCED1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15D-6916-4384-A703-44789800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C0A-EC86-4797-9D1B-89C37402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738-6AE6-4456-A1BA-E42C84D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9F1-C3AF-4B2D-95A8-19D96CD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955-0D50-4181-B384-CE5117B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039-A484-41FE-830B-2D089B19F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C109-2C79-488D-9B28-E660622093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m-pivava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Mac Granah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57, DLG15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00 – MIHIRA FIHIRAM-P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4832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0 – MIHIRA FIHIRAM-PI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fihiram-p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Ila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feo fide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by, hosana no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7160" y="4832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0 – MIHIRA FIHIRAM-PI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(derao), derao (der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mpo Mpanav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(hirao), hobio (hob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Mpamor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0 – MIHIRA FIHIRAM-PI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oka ny feo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ndratra ambon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ko ho re er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bara fitia m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7160" y="4832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0 – MIHIRA FIHIRAM-PI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dia olom-b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renena 'zay voatok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votana tao Gologot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nan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7160" y="4832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ngy antsi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n'ny lanitr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y ny fanante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ilay tany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0 – MIHIRA FIHIRAM-PI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7160" y="4832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00 – MIHIRA FIHIRAM-PI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Mpandahatra he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'zaha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mpanompo voate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a sy h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7160" y="4832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59:37Z</dcterms:modified>
  <cp:revision>42</cp:revision>
  <dc:subject/>
  <dc:title>Tiona Advantista</dc:title>
</cp:coreProperties>
</file>