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610-03F6-4518-9FC1-53688AAE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388-6A79-4399-8149-2CBF99C1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BEA-2D9C-4FC8-8B53-C2613556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EE3-E322-449F-AADF-BD943AC0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D10A-CB2F-425C-9FC8-014D9C65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FAC7-9E3D-4E1B-B363-88FD22E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9A4-CAE5-4C65-B0F1-8990633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15A1-9BEC-4307-AB2A-0583EB49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D3A6-A8E2-4183-84C5-F2F6C1BF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9F6C-694E-4716-9D45-38E27FAF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A47A-2E43-4729-87F7-8B17C778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0BE-7A67-432C-B20E-16EE4BD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D99D-B503-4C33-92C6-8DD589BC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AB0E-BFEA-4B3A-A13E-0DDF874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957C-3A6F-43DC-8D99-1576E5A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9967-D406-447A-B6A1-630D38F3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DBB5-CA93-4B55-9B57-4B23369E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EDE-11A1-4762-970E-1BFB3A9D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004-CEB6-4545-A504-B119A2B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1FC-E1B1-4F67-AADB-5CDF0DA8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F53-8088-4628-8525-EB34597B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99E-2BE3-4919-A62A-6CDBE19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7E7-AD51-4FA0-B0BD-4F3756A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64F-A3B8-4378-9126-9382BE6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5167-DCED-4EAD-BEB7-8E418367E9D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662-4EB3-4195-8D2D-74802651E64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458 - RY JESOSY MASIN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5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IAINANA KRISTI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ous-thèm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Fanoloran-tena sy Fanamasi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aroles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Musique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orespondance :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8 - RY JESOSY MASIN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Ry Jesos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pampih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sy fan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ra no vente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ider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saotra ent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rai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8 - RY JESOSY MASIN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natitra atolo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o, fanah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Ary izany te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Ho Ana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Ekeo re ho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o fonen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Fa izany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o tadi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8 - RY JESOSY MASIN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ô, eke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fisao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hainoa ka mba val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vav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ianay ho tempo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ny ten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hihavan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koa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17120" y="643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458 - RY JESOSY MASINA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Jeso ô, miandrand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Ny madinika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iandry Anao mba hana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'Zao tontolo '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Ka ny hira mami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Tompo sy Mpit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Dia ventesinay indr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</a:rPr>
              <a:t>Marana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6120" y="5262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1160" y="56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35480" y="6056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41600" y="489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7T12:23:44Z</dcterms:modified>
  <cp:revision>116</cp:revision>
  <dc:subject/>
  <dc:title>Tiona Advantista</dc:title>
</cp:coreProperties>
</file>