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281-E013-49D2-81C0-E389449E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ABF-67B5-4A34-8720-06AE4C92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D56-E0CB-446A-9C3C-527466DC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B11-CE5F-44B8-B1E8-04AA24A9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9204-DDDE-444C-A146-5368266E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6EED-9A29-4CE9-B568-34B6A719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40CE-ED36-422E-B7A5-391ECDA3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2215-8E53-4E0E-9FD2-9643A488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CC4B-F8C8-46A7-90CC-AADCE6FE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EEB3-6CD2-4469-9F7C-F08C2C57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1423-6F65-4493-AE59-7A6753F6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B6B-8954-4F9B-A79D-6575E376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6712-9656-4D58-BE2A-61D5193E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3492-1B87-4B98-A889-2591C890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B313-6516-4479-A6C9-E2A5EEA2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DD4F-52AF-4A6F-944D-849355B9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8BAB-5749-4EDE-B8BE-A0139917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52B-FBEC-49B4-BF52-D5D45C19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781-EBC4-4406-9C10-3CF102BF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463-E3B6-4EA3-A31F-8C7FC301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970-A97D-453B-BEFC-4D4E6C0B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3E4-CF24-45AC-A801-0F542858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520-8596-4F39-B00E-EBB96297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F57-54DC-464B-AEF1-DC4C197C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CDCD-4803-499C-904C-530E1D0A69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0511-829D-4E12-BBE4-C2C455D024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seph Barub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61 – FITIAVANA TSY TAKATRY N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061 – FITIAVANA TSY TAKATRY NY S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tsy takatry n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fitiavana tanter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mba misy izay ankahal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raisiny izay mibeb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061 – FITIAVANA TSY TAKATRY NY S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tsy takatry n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fitiavana mamel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izay mitondra 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ty aza tonga vel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061 – FITIAVANA TSY TAKATRY NY S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manandratra ny amb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ampahery izay re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mpifaly izay mitom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ny fatorana aza bo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061 – FITIAVANA TSY TAKATRY NY S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tia ô, babonao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fitiavanao mampihaik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nty aho mba ho tia Ana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ovay ho toy ny Anao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7:38:34Z</dcterms:modified>
  <cp:revision>28</cp:revision>
  <dc:subject/>
  <dc:title>Tiona Advantista</dc:title>
</cp:coreProperties>
</file>