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2474-6033-42E9-AB01-5F4E57DB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ED28-CA24-4B22-8F56-8E748E0B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8612-EB18-404F-96FE-2065BE01F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EB65-2367-4423-B0AD-976CDFA7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E01D-B98B-4D88-84BA-937E686F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2604-89A2-4905-B8D0-13231A72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2DAC-EC90-4730-9489-9DCD25E7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E3A8-3279-4FA9-8B45-67DF164E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26D6-A56D-437C-AC23-4336334C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8AA4-ACA8-489C-9DF5-1A0BB48E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7D47-704C-4E0E-BB1E-250D13B8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71DF-6D64-401F-B39A-BAEFD255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DACB-87C1-4B61-BE71-916131DA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6525-A16B-4535-835E-AB880D12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3CF6-35C5-4365-80F2-ADB48A8E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4F90-83E7-4CFA-BDAC-39FA93DE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7F68-B3FA-46FC-AB26-DA7AB1A4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2B0-F5F3-435B-AFE3-465BF2EA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F067-9FA4-4526-AFB0-937C6FB1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E89C-3A6C-4662-A436-2E7B7229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065B-CACA-45FC-BA3C-4D1F4472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9438-C62B-426B-AA72-2835C4F3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0C84-81F0-4FD6-9CB7-4C07B0A5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D5CD-C244-48EA-A20D-280295D3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3B27-A0C7-42C4-8415-05768A5CEE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DC41-07B1-497D-B243-DDC1FF8A3D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oloran-tena sy Fanamasi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I. A. Ramboniariso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I. A. Ramboniari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52 – RY TOMPO Ô ! ATOLOTR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29000" y="402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29000" y="44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38720" y="478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20000" y="5165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20000" y="55497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820000" y="59342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8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52 – RY TOMPO Ô ! ATOLOTRO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50880"/>
            <a:ext cx="914400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ô, atolotr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ako Ani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vonona hanomp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ho Anao do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8829000" y="44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8838720" y="478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4" action="ppaction://hlinksldjump"/>
          </p:cNvPr>
          <p:cNvSpPr/>
          <p:nvPr/>
        </p:nvSpPr>
        <p:spPr>
          <a:xfrm>
            <a:off x="8820000" y="5165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5" action="ppaction://hlinksldjump"/>
          </p:cNvPr>
          <p:cNvSpPr/>
          <p:nvPr/>
        </p:nvSpPr>
        <p:spPr>
          <a:xfrm>
            <a:off x="8820000" y="55497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6" action="ppaction://hlinksldjump"/>
          </p:cNvPr>
          <p:cNvSpPr/>
          <p:nvPr/>
        </p:nvSpPr>
        <p:spPr>
          <a:xfrm>
            <a:off x="8820000" y="59342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7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8833680" y="3648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52 – RY TOMPO Ô ! ATOLOTRO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50880"/>
            <a:ext cx="914400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asoko tariho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jery tsar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fidy lalana mar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tinendr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8829000" y="402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8838720" y="478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4" action="ppaction://hlinksldjump"/>
          </p:cNvPr>
          <p:cNvSpPr/>
          <p:nvPr/>
        </p:nvSpPr>
        <p:spPr>
          <a:xfrm>
            <a:off x="8820000" y="5165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5" action="ppaction://hlinksldjump"/>
          </p:cNvPr>
          <p:cNvSpPr/>
          <p:nvPr/>
        </p:nvSpPr>
        <p:spPr>
          <a:xfrm>
            <a:off x="8820000" y="55497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6" action="ppaction://hlinksldjump"/>
          </p:cNvPr>
          <p:cNvSpPr/>
          <p:nvPr/>
        </p:nvSpPr>
        <p:spPr>
          <a:xfrm>
            <a:off x="8820000" y="59342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7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8833680" y="3648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52 – RY TOMPO Ô ! ATOLOTRO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36400"/>
            <a:ext cx="9144000" cy="62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eoko havaozy an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ory ny hafa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iderana ny her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ho Ana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829000" y="402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8829000" y="44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820000" y="5165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rId5" action="ppaction://hlinksldjump"/>
          </p:cNvPr>
          <p:cNvSpPr/>
          <p:nvPr/>
        </p:nvSpPr>
        <p:spPr>
          <a:xfrm>
            <a:off x="8820000" y="55497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6" action="ppaction://hlinksldjump"/>
          </p:cNvPr>
          <p:cNvSpPr/>
          <p:nvPr/>
        </p:nvSpPr>
        <p:spPr>
          <a:xfrm>
            <a:off x="8820000" y="59342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7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8833680" y="3648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52 – RY TOMPO Ô ! ATOLOTRO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36400"/>
            <a:ext cx="9144000" cy="60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nako atolotro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o ny as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sitrako ho tantan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ho Anao an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8829000" y="402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3" action="ppaction://hlinksldjump"/>
          </p:cNvPr>
          <p:cNvSpPr/>
          <p:nvPr/>
        </p:nvSpPr>
        <p:spPr>
          <a:xfrm>
            <a:off x="8829000" y="44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rId4" action="ppaction://hlinksldjump"/>
          </p:cNvPr>
          <p:cNvSpPr/>
          <p:nvPr/>
        </p:nvSpPr>
        <p:spPr>
          <a:xfrm>
            <a:off x="8838720" y="478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5" action="ppaction://hlinksldjump"/>
          </p:cNvPr>
          <p:cNvSpPr/>
          <p:nvPr/>
        </p:nvSpPr>
        <p:spPr>
          <a:xfrm>
            <a:off x="8820000" y="55497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6" action="ppaction://hlinksldjump"/>
          </p:cNvPr>
          <p:cNvSpPr/>
          <p:nvPr/>
        </p:nvSpPr>
        <p:spPr>
          <a:xfrm>
            <a:off x="8820000" y="59342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7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833680" y="3648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413000"/>
            <a:ext cx="91440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36400"/>
            <a:ext cx="9144000" cy="60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ongotro ho fanirak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'aiza n'aiza ale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raha Ianao no Mpitar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sy tsy handeh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52 – RY TOMPO Ô ! ATOLOTRO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8829000" y="402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>
            <a:hlinkClick r:id="rId3" action="ppaction://hlinksldjump"/>
          </p:cNvPr>
          <p:cNvSpPr/>
          <p:nvPr/>
        </p:nvSpPr>
        <p:spPr>
          <a:xfrm>
            <a:off x="8829000" y="44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4" action="ppaction://hlinksldjump"/>
          </p:cNvPr>
          <p:cNvSpPr/>
          <p:nvPr/>
        </p:nvSpPr>
        <p:spPr>
          <a:xfrm>
            <a:off x="8838720" y="478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rId5" action="ppaction://hlinksldjump"/>
          </p:cNvPr>
          <p:cNvSpPr/>
          <p:nvPr/>
        </p:nvSpPr>
        <p:spPr>
          <a:xfrm>
            <a:off x="8820000" y="5165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>
            <a:hlinkClick r:id="rId6" action="ppaction://hlinksldjump"/>
          </p:cNvPr>
          <p:cNvSpPr/>
          <p:nvPr/>
        </p:nvSpPr>
        <p:spPr>
          <a:xfrm>
            <a:off x="8820000" y="59342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7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8833680" y="3648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52 – RY TOMPO Ô ! ATOLOTRO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36400"/>
            <a:ext cx="9144000" cy="62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riko, ny fahaiz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tr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tria Ianao no heriko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ifikir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8829000" y="402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8829000" y="44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>
            <a:hlinkClick r:id="rId4" action="ppaction://hlinksldjump"/>
          </p:cNvPr>
          <p:cNvSpPr/>
          <p:nvPr/>
        </p:nvSpPr>
        <p:spPr>
          <a:xfrm>
            <a:off x="8838720" y="478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5" action="ppaction://hlinksldjump"/>
          </p:cNvPr>
          <p:cNvSpPr/>
          <p:nvPr/>
        </p:nvSpPr>
        <p:spPr>
          <a:xfrm>
            <a:off x="8820000" y="5165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rId6" action="ppaction://hlinksldjump"/>
          </p:cNvPr>
          <p:cNvSpPr/>
          <p:nvPr/>
        </p:nvSpPr>
        <p:spPr>
          <a:xfrm>
            <a:off x="8820000" y="55497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rId7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8833680" y="3648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52 – RY TOMPO Ô ! ATOLOTRO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49360"/>
            <a:ext cx="914400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inako, ekeko hatr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oeranao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nilanao dia mahasamb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no hafali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829000" y="402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829000" y="44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838720" y="478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820000" y="5165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820000" y="55497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820000" y="59342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8833680" y="3648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1:45:25Z</dcterms:modified>
  <cp:revision>34</cp:revision>
  <dc:subject/>
  <dc:title>Tiona Advantista</dc:title>
</cp:coreProperties>
</file>