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8FF-D38B-49C6-9485-00B12B3A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C2D-D4C0-474A-8021-FAF2025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7A5-F95F-47E3-B388-D1D4C090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457-2F3B-4378-AA9A-F472288E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DF9D-4026-4EC0-9583-DFF369AE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872D-D322-4BF5-AEC0-BF8A934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BD4-1866-4CA5-B381-DA63F1C7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89E2-E518-4ED5-AF2D-997A031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6A0-FC44-4B34-B3E5-57595AA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AFD-AA55-41EA-96EA-31CC09AD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27D2-214C-4E1F-A562-BCEBB41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58A-C3E4-4D00-9F49-F600B86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E91F-E87D-48EA-B54F-1DB6D6E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5410-8183-40B3-BEFF-A0178B8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BA1-7FBE-48C4-A051-DC3357E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6F28-D64B-4DB4-8801-A5A6BE37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A476-CD60-450D-89FD-6C1C1D32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224-358A-47A8-8F04-D7972C86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FFA-F90F-46A3-B229-0EF45DF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B32-3DC4-44C2-9D05-7CB9FA8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40D-DCFA-4DFD-B035-C23004BE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483-7711-464F-B836-4754514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8FB-A186-457C-AB24-86B6C87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700-B4B7-42FB-AE0F-BF0E4D1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DACC-C676-40AC-B7FA-250AFB561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2BD-F62F-4FE8-AB2A-321306589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lora H. Cass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3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8 – JESOS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8 – JESOS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efa antso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lio haing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ra maro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tanora 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tena t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to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8 – JESOS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zora ry tano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mba mihem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toki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alo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itarika hendr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8 – JESOS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mba 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dy mango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hanamp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res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h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o potr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anato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8 – JESOS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-tsandry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talent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Azy r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ramil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lofosa 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dy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esy no anj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Jeso ti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an'ny za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nilofo m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maro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jà ny ana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8 – JESOS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43:28Z</dcterms:modified>
  <cp:revision>56</cp:revision>
  <dc:subject/>
  <dc:title>Tiona Advantista</dc:title>
</cp:coreProperties>
</file>