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7D3-B17F-457B-BF90-D2412561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EB7-D63F-4A3D-9564-4C0F8E11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1BA-B8E7-49BA-BFB6-A9937F2F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58A-2E75-49E5-912C-1FB2B84F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481-0C53-4EF0-B0A6-D212D90E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8F32-70D9-41C4-8B1A-F7A5932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9E2E-0E72-4FFE-8412-B654F575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FB5-0169-462D-A8A0-9E7674CA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AAC5-B0F3-49DB-BB07-D645346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E2AB-8087-464F-A737-0CA47C30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876-5C6F-4DBA-B6AD-93BB81D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5F3-1CEE-4454-8B76-B27A63D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21E-765B-42FC-B73D-86795C5A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7BC-9F75-4411-A59C-5D9BB78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8222-AB7F-4367-9DCF-6BA625F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A565-6FA8-4292-9BC9-1629077D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5035-4B0A-4B29-B026-D82FB5E5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11B-1B92-4018-AFFF-3CA1E8D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C43-5DF4-4BEA-A788-878ECFBC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C0D-4E8F-4C0C-968C-ED76599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050-6F8F-4032-806E-862C244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74E-4689-4332-A1EC-0669705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C07-85D1-41C6-B47D-0EFE7D8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DEB-4A36-441A-A9F3-EE8A02D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CF2-4391-4FFD-B92F-8093EFD714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0ED-F2A5-4382-9823-1DDEA6E085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F. Ramanantsialoni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I. D. Sanke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3 – HE ! MPIVAHINY 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3 – HE ! MPIVAHINY ETY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pivahiny ety an-t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tenanao sy ny ahy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o ela intsony, ny fetra ho la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vovoka sy ho la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3 – HE ! MPIVAHINY ETY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sy ihany toky sy h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tia anao, ry olom-b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Manatona fa tsy ho ir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anana Azy tsy ho ve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3 – HE ! MPIVAHINY ETY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 misento sy mitar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kivy koa miferin'ai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Ranomaso, loza m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oratraina, toro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3 – HE ! MPIVAHINY ETY AN-T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 marary ny fo sy s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'efa nandao 'reo nolala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Njao fa mandatsa koa ny sakai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ia intsony 'reo notinaiz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56:53Z</dcterms:modified>
  <cp:revision>78</cp:revision>
  <dc:subject/>
  <dc:title>Tiona Advantista</dc:title>
</cp:coreProperties>
</file>