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B33-0143-4FCC-ADF5-74906FB7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544E-8381-432A-A887-5831FF93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F90-1D3F-4A41-8AD7-333C2B61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78C-4E11-41A4-A6DB-B649F1BF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FE77-3D8E-46B8-9DCB-20C4865A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9F2F-717F-42F3-B378-FA31EEFA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E503-52DF-4563-866F-2FC7DDD4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4EA9-E3B6-4609-A93E-9E978555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06D9-2785-4E31-AFB9-2CD4195B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E044-0F7C-48A4-912B-DDD5CE87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03B4-9BB2-42B6-AA56-E4B79883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ECF-9178-421F-9E44-B10AE26A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B707-CE48-4EF0-9584-E90CA3A3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048E-5A38-44D5-B1E0-0EFAE51A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E4D0-A6B2-41D8-B11C-996E4294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F2DF-46D4-4426-B074-B9350005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602D-5A9D-40C0-92CD-83BC5D36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48E-2228-4A70-BBAA-141E2228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C8E-9430-4A47-87BF-F6FBFA67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047-2596-4ACD-8B53-F262E0E3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9E0-95BA-4D25-8655-CAAFE68C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B7F-1517-4F08-A62E-CEAA1402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643-6434-4FA6-BD2E-5E1FC650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33E-CE40-4C56-B6C9-6F62129B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92FC-3F11-4EE5-A8FA-7A89966B00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7D1D-7F4C-42D4-8B49-F85E725F39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anasan'ny Tom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ymond B. Rakotondrainibe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D. Hackl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adance : HL597, DLG03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75 – FITIAVANA TSY HAY LAZ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5 – FITIAVANA TSY HAY LAZA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tsy hay laz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, azoko avy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avela ho very m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ô! Ny avo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5 – FITIAVANA TSY HAY LAZA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Mpamonj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Mpamonj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zy no haton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Mpamonj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5 – FITIAVANA TSY HAY LAZA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otako, ny haleme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sory hiala am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erinao no hany eke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babo ny fanah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5 – FITIAVANA TSY HAY LAZA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ô, tariho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raka ny là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za avela fa ar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enoy ny fanambi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irery re, r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faka hamonjy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io aho ho mpan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joro sy ho tena s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5 – FITIAVANA TSY HAY LAZA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780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6284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4880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4:46:03Z</dcterms:modified>
  <cp:revision>51</cp:revision>
  <dc:subject/>
  <dc:title>Tiona Advantista</dc:title>
</cp:coreProperties>
</file>