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53BB-C128-4A83-A141-0086F46FF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F93A-2B9E-44DE-BF52-61A5701E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20B9-F599-4BFD-9E40-F6126CB0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29A3-8E6D-4F11-87D6-7775EE70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6A73-CC87-48E9-B091-18A9107C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0D95-62C5-40C3-8C90-978586B9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253A-FFE1-4E56-8C30-CE90FAD5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B2C3-1B9B-4721-A403-8FC790F3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379E-BF33-419E-97A6-97098671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EC86-5C46-48B0-B1F6-B196120C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B560-BEA4-4CED-A5BD-90EF50DF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B1EE-A927-48B9-A8D7-20F56976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5ADC-9779-4D30-A0BB-458EDBB7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8A2B-A323-4FCC-AD97-F3FDC9CF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7694-A0C2-481E-82F8-1334C611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3131-3199-4E36-A6C2-27D5F3D3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7D78-A9CD-45D3-BCBF-CD3B321D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A3F5-43CD-4C95-98B5-D8D515C3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258E-666C-4FB6-B9B3-68B6CA3B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7476-AA88-49F2-96E8-980FFA82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1242-D3C3-4F18-BA14-614C5962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35BA-21F3-4860-A967-A82EA65E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D772-93D4-49EF-A3F1-1DEA27EB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A864-C6BB-40D4-A324-6F55369D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CAF4-BEDA-45F7-963D-C58BE3B681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1B28-738F-4166-87B6-886DBA77AC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bebahana - Fiovam-p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89 – MPANOTA AHO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9 – MPANOTA AHO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nota aho,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vesa-kelo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ba miadana 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olo-melo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olo-melo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9 – MPANOTA AHO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sy zakako ints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otako, Jes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mba sasao sy vono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min'ny ranao so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min'ny ranao so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9 – MPANOTA AHO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ony halem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ta mambabo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Rain'ny famonj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sory av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sory av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2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389 – MPANOTA AHO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soloy ho tonga 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ko re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omeo fo toy ny An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 tia mandrakiz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 tia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2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10:34:59Z</dcterms:modified>
  <cp:revision>68</cp:revision>
  <dc:subject/>
  <dc:title>Tiona Advantista</dc:title>
</cp:coreProperties>
</file>