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77B-BFA3-452E-999E-CE798F5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CC-3CE5-4619-88E9-DD258C4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E42-7872-43A1-BC7C-4686839C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47F-0388-4C1D-8A7F-90F4B4E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B945-FF87-43CE-95E4-54CA9E9B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3834-281D-4160-B247-E5294E2C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103-1D2A-42AA-963D-94AFC03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26A7-0086-410E-AD47-6611726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937D-5028-4CC5-A81B-4AC001C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AF99-704A-47EB-A362-E4A483D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D36-0C9A-4C35-A5A7-5B9E478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F11-5806-4330-9168-8181FFCD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747B-0E9A-42B2-9D8B-E0DA22D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A17-D044-4564-8571-6713411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2B2-A81A-43C0-A0DA-9CDA2D63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A90-61CB-42C9-A30B-920F5495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818-086E-4889-A13F-4280C46C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216-6EAE-4A05-956E-8BEEC95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5D3-35E0-48FC-8DD6-F78E3C4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DFA-AFEB-4ECD-89C8-E9D7340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22D-E95E-4090-8703-338FC13D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8B1-EF53-490E-AC03-3177F72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1CF-392A-4A9A-80EC-54B2CAB5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0C7-9DCC-45A1-9DFA-53A3517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414-B21B-4EA3-8DA6-68073B31C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3534-6DFF-45F8-9E8F-DFB6C5FC6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Z. M. Meredith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7 – Ô ! NY FANATITR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7 – Ô ! NY FANATITRA ENT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ny fanatitr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eke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rotsahy ho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o.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28:16Z</dcterms:modified>
  <cp:revision>42</cp:revision>
  <dc:subject/>
  <dc:title>Tiona Advantista</dc:title>
</cp:coreProperties>
</file>