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D09-AE9D-4FA8-9552-435F0357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BE7-62AC-408F-830E-E02F5E6F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420-5BFD-49E4-8701-6CA5580F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43F-4D52-4BA6-AE45-B7C6D29D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EC28-074A-47EC-8A5A-8DEF185C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AB40-1441-412F-866B-972C117D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F04D-3877-4361-8158-448211B6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5A9A-06C9-4431-A7A0-3636E0A1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05E4-F11E-4236-A722-232B974D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43CB-F3D7-4AF2-9D54-C2710015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1A06-B4C5-45E6-B26A-3104C66A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376-6071-4418-94FF-964997BC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C2C2-7F56-4BA4-879B-220B586A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08C6-CF18-4F68-844D-9D3039D3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AFFB-7A2E-42F0-87D0-11B2ABF1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AE60-2760-473C-8F83-A6BC5933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51F8-1B0A-4D82-A9DB-A9A4EA1B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755-AD54-4A04-8DF3-EBC4729F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E7B-315B-4EEC-93F0-A3CE6CB6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FC3-BE1B-45CA-9AE6-68D13098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6C6-46F4-47F8-A5DA-CAD3865B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A29-6B5F-46F1-9596-E73AB804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AC3-A3FE-40AF-9EF2-C400C4AE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3C1-0206-49AF-904E-A63987BE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47CA-3182-4D0C-97FD-A2C806543D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6583-9C75-49AF-A29B-FA9054A65C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sa misiône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D. Sank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215, DLG28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75 – MOA MBA HENONAO VA R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5 – MOA MBA HENONAO VA R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mba renao va r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onj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o hira be mpandr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onj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 mafim-pam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 izay mampanan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monjena firen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onjy Jes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5 – MOA MBA HENONAO VA R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tany mihirà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onj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teny amin'ny 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onj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iantso anao hi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mpiely koa ny la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dre na dia ny zaz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onjy Jes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5 – MOA MBA HENONAO VA R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 toro ila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onj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lon-dratsy ila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onj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orio koa ny No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torana aitos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zao 'zay mikoros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onjy Jes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75 – MOA MBA HENONAO VA R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 hatrany an'efitr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onj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y ampita lavitr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onj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eram-baz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ny heno any ho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hira mamy 'za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onj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4:25:41Z</dcterms:modified>
  <cp:revision>64</cp:revision>
  <dc:subject/>
  <dc:title>Tiona Advantista</dc:title>
</cp:coreProperties>
</file>