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9A40-96EF-47F4-9746-C4FB6AB74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7F0E-9254-42A2-B8D1-A1B15B3A2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64CF-4776-4FFD-9FE3-603A58551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9AA4-F8AC-4B6F-8D32-45C4D8B18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09248-294C-4969-9A25-FF6DB07A8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0163C-8A92-48E3-AADB-28827B512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0EBD6-AAAA-4923-97AF-95E1DC9DC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E254C-2C66-486D-9830-FDA7F6ADA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CD336-5AE6-46A1-B2EE-B2CDC1121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80D5F-058E-4041-84CC-1D65C1B04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EC010-5331-4046-A2A3-418FE0360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EFF8-2FB5-4EFA-BDD9-8A3103C14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11E76-E369-4C92-A123-D47B8A252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DA305-8C37-48A7-A122-309DDD96E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45CFC-C2A7-4AE6-8E09-FEA805ED7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3D742-A362-4B9B-83DA-D9D138FFC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3ABFB-FC04-4408-85E3-E540F71AB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D86D-35B5-44AF-94C5-92C66AA33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0189-EC85-408F-A47B-B7997F14C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15B3-E499-4B07-AF82-AFC70DACB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E542-1285-407C-966B-CF3EB64B4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26F9-A423-494B-8B2F-DD041CBD3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F8D0-6205-432F-8B66-B5AB1B55C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28F9-AADE-40A2-B1F1-7B9D87BC6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4787F-27D8-42E8-8A00-6B2A841B4FB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7E22C-E37B-4D14-9A2A-DDD1AB5C959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" Target="slide2.xml"/><Relationship Id="rId4" Type="http://schemas.openxmlformats.org/officeDocument/2006/relationships/slide" Target="slide3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805360"/>
            <a:ext cx="9144000" cy="9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OLON-TOKANA - OLON-DROA - RODOB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</a:t>
            </a:r>
            <a:r>
              <a:rPr b="0" lang="fr-FR" sz="1200" spc="-1" strike="noStrike">
                <a:solidFill>
                  <a:srgbClr val="ffffff"/>
                </a:solidFill>
                <a:latin typeface="Tahoma"/>
                <a:ea typeface="Arial"/>
              </a:rPr>
              <a:t>A. Raoeliarijaona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</a:t>
            </a:r>
            <a:r>
              <a:rPr b="0" lang="fr-FR" sz="1200" spc="-1" strike="noStrike">
                <a:solidFill>
                  <a:srgbClr val="ffffff"/>
                </a:solidFill>
                <a:latin typeface="Tahoma"/>
                <a:ea typeface="Arial"/>
              </a:rPr>
              <a:t>A. Raoeliarijaon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735 – SAMBATRA IZAY MITOE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57800" y="47386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57800" y="5119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57800" y="55008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848800" y="588168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">
            <a:hlinkClick r:id="rId6" action="ppaction://hlinksldjump"/>
          </p:cNvPr>
          <p:cNvSpPr/>
          <p:nvPr/>
        </p:nvSpPr>
        <p:spPr>
          <a:xfrm>
            <a:off x="88488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735 – SAMBATRA IZAY MITOET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 </a:t>
            </a:r>
            <a:r>
              <a:rPr b="0" i="1" lang="fr-FR" sz="3600" spc="-1" strike="noStrike">
                <a:solidFill>
                  <a:srgbClr val="2b5481"/>
                </a:solidFill>
                <a:latin typeface="Corbel"/>
                <a:ea typeface="Arial"/>
              </a:rPr>
              <a:t>(Fa )</a:t>
            </a: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 sambatra izay mitoe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o an-tranon'ny Avo indrind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2b5481"/>
                </a:solidFill>
                <a:latin typeface="Corbel"/>
                <a:ea typeface="Arial"/>
              </a:rPr>
              <a:t>(Ao an-tranon'i Jehovah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ambatra izay manan-ke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zay manan-kery avy ami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ndriamanitra ô, Andriamanitra ô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2b5481"/>
                </a:solidFill>
                <a:latin typeface="Corbel"/>
                <a:ea typeface="Arial"/>
              </a:rPr>
              <a:t>(Ao am-pony, ao am-pon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2b5481"/>
                </a:solidFill>
                <a:latin typeface="Corbel"/>
                <a:ea typeface="Arial"/>
              </a:rPr>
              <a:t>Ao am-pony, fiderana)</a:t>
            </a: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 u="sng">
                <a:solidFill>
                  <a:srgbClr val="00ccff"/>
                </a:solidFill>
                <a:uFillTx/>
                <a:latin typeface="Symbol"/>
                <a:ea typeface="Symbol"/>
                <a:hlinkClick r:id="rId2" action="ppaction://hlinksldjump"/>
              </a:rPr>
              <a:t>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857800" y="5119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8857800" y="55008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rId5" action="ppaction://hlinksldjump"/>
          </p:cNvPr>
          <p:cNvSpPr/>
          <p:nvPr/>
        </p:nvSpPr>
        <p:spPr>
          <a:xfrm>
            <a:off x="8848800" y="588168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>
            <a:hlinkClick r:id="rId6" action="ppaction://hlinksldjump"/>
          </p:cNvPr>
          <p:cNvSpPr/>
          <p:nvPr/>
        </p:nvSpPr>
        <p:spPr>
          <a:xfrm>
            <a:off x="88488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>
            <a:hlinkClick r:id="" action="ppaction://hlinkshowjump?jump=firstslide"/>
          </p:cNvPr>
          <p:cNvSpPr/>
          <p:nvPr/>
        </p:nvSpPr>
        <p:spPr>
          <a:xfrm>
            <a:off x="8848080" y="4307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735 – SAMBATRA IZAY MITOET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ambatra izay mitoe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o an-tranon'ny Avo indrindr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idera Anao, hidera A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idera Anao, mandrakariv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idera Anao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Corbel"/>
                <a:ea typeface="Arial"/>
              </a:rPr>
              <a:t>D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2" action="ppaction://hlinksldjump"/>
          </p:cNvPr>
          <p:cNvSpPr/>
          <p:nvPr/>
        </p:nvSpPr>
        <p:spPr>
          <a:xfrm>
            <a:off x="8857800" y="47386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rId3" action="ppaction://hlinksldjump"/>
          </p:cNvPr>
          <p:cNvSpPr/>
          <p:nvPr/>
        </p:nvSpPr>
        <p:spPr>
          <a:xfrm>
            <a:off x="8857800" y="55008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>
            <a:hlinkClick r:id="rId4" action="ppaction://hlinksldjump"/>
          </p:cNvPr>
          <p:cNvSpPr/>
          <p:nvPr/>
        </p:nvSpPr>
        <p:spPr>
          <a:xfrm>
            <a:off x="8848800" y="588168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>
            <a:hlinkClick r:id="rId5" action="ppaction://hlinksldjump"/>
          </p:cNvPr>
          <p:cNvSpPr/>
          <p:nvPr/>
        </p:nvSpPr>
        <p:spPr>
          <a:xfrm>
            <a:off x="88488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848080" y="4307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735 – SAMBATRA IZAY MITOET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ccff"/>
                </a:solidFill>
                <a:latin typeface="Corbel"/>
                <a:ea typeface="Arial"/>
              </a:rPr>
              <a:t>&amp;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2b5481"/>
                </a:solidFill>
                <a:latin typeface="Corbel"/>
                <a:ea typeface="Arial"/>
              </a:rPr>
              <a:t>(Sambatra izay manan-ker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2b5481"/>
                </a:solidFill>
                <a:latin typeface="Corbel"/>
                <a:ea typeface="Arial"/>
              </a:rPr>
              <a:t>Manan-kery avy aminao ry Avo indrindra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ambatra izay mitoetra </a:t>
            </a:r>
            <a:r>
              <a:rPr b="0" i="1" lang="fr-FR" sz="3600" spc="-1" strike="noStrike">
                <a:solidFill>
                  <a:srgbClr val="2b5481"/>
                </a:solidFill>
                <a:latin typeface="Corbel"/>
                <a:ea typeface="Arial"/>
              </a:rPr>
              <a:t>('Zay mitoetra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o amin'ny Avo indrind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masoandrony Ianao, </a:t>
            </a:r>
            <a:r>
              <a:rPr b="0" i="1" lang="fr-FR" sz="3600" spc="-1" strike="noStrike">
                <a:solidFill>
                  <a:srgbClr val="2b5481"/>
                </a:solidFill>
                <a:latin typeface="Corbel"/>
                <a:ea typeface="Arial"/>
              </a:rPr>
              <a:t>(Ho Mpiaro azy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ady ho ampingany k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masoandrony Ianao, </a:t>
            </a:r>
            <a:r>
              <a:rPr b="0" i="1" lang="fr-FR" sz="3600" spc="-1" strike="noStrike">
                <a:solidFill>
                  <a:srgbClr val="2b5481"/>
                </a:solidFill>
                <a:latin typeface="Corbel"/>
                <a:ea typeface="Arial"/>
              </a:rPr>
              <a:t>(Ho Mpiaro azy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ady ho ampingany koa </a:t>
            </a:r>
            <a:r>
              <a:rPr b="0" i="1" lang="fr-FR" sz="3600" spc="-1" strike="noStrike">
                <a:solidFill>
                  <a:srgbClr val="2b5481"/>
                </a:solidFill>
                <a:latin typeface="Corbel"/>
                <a:ea typeface="Arial"/>
              </a:rPr>
              <a:t>(ry Tompo)</a:t>
            </a: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 </a:t>
            </a:r>
            <a:r>
              <a:rPr b="0" lang="fr-FR" sz="3600" spc="-1" strike="noStrike" u="sng">
                <a:solidFill>
                  <a:srgbClr val="00ccff"/>
                </a:solidFill>
                <a:uFillTx/>
                <a:latin typeface="Symbol"/>
                <a:ea typeface="Symbol"/>
                <a:hlinkClick r:id="rId2" action="ppaction://hlinksldjump"/>
              </a:rPr>
              <a:t>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rId3" action="ppaction://hlinksldjump"/>
          </p:cNvPr>
          <p:cNvSpPr/>
          <p:nvPr/>
        </p:nvSpPr>
        <p:spPr>
          <a:xfrm>
            <a:off x="8857800" y="47386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>
            <a:hlinkClick r:id="rId4" action="ppaction://hlinksldjump"/>
          </p:cNvPr>
          <p:cNvSpPr/>
          <p:nvPr/>
        </p:nvSpPr>
        <p:spPr>
          <a:xfrm>
            <a:off x="8857800" y="5119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>
            <a:hlinkClick r:id="rId5" action="ppaction://hlinksldjump"/>
          </p:cNvPr>
          <p:cNvSpPr/>
          <p:nvPr/>
        </p:nvSpPr>
        <p:spPr>
          <a:xfrm>
            <a:off x="8848800" y="588168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>
            <a:hlinkClick r:id="rId6" action="ppaction://hlinksldjump"/>
          </p:cNvPr>
          <p:cNvSpPr/>
          <p:nvPr/>
        </p:nvSpPr>
        <p:spPr>
          <a:xfrm>
            <a:off x="88488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>
            <a:hlinkClick r:id="" action="ppaction://hlinkshowjump?jump=firstslide"/>
          </p:cNvPr>
          <p:cNvSpPr/>
          <p:nvPr/>
        </p:nvSpPr>
        <p:spPr>
          <a:xfrm>
            <a:off x="8848080" y="4307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735 – SAMBATRA IZAY MITOET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ccff"/>
                </a:solidFill>
                <a:latin typeface="Corbel"/>
                <a:ea typeface="Arial"/>
              </a:rPr>
              <a:t>&amp;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ndriamanitra ô, jere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2b5481"/>
                </a:solidFill>
                <a:latin typeface="Corbel"/>
                <a:ea typeface="Arial"/>
              </a:rPr>
              <a:t>(Jereo ry Tompo 'reo 'zay voahosotrao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ndriamanitra ô, jereo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Zay voahosotrao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ccff"/>
                </a:solidFill>
                <a:latin typeface="Corbel"/>
                <a:ea typeface="Arial"/>
              </a:rPr>
              <a:t>D.S.1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ccff"/>
                </a:solidFill>
                <a:latin typeface="Corbel"/>
                <a:ea typeface="Arial"/>
              </a:rPr>
              <a:t>FARA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>
            <a:hlinkClick r:id="rId2" action="ppaction://hlinksldjump"/>
          </p:cNvPr>
          <p:cNvSpPr/>
          <p:nvPr/>
        </p:nvSpPr>
        <p:spPr>
          <a:xfrm>
            <a:off x="8857800" y="47386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>
            <a:hlinkClick r:id="rId3" action="ppaction://hlinksldjump"/>
          </p:cNvPr>
          <p:cNvSpPr/>
          <p:nvPr/>
        </p:nvSpPr>
        <p:spPr>
          <a:xfrm>
            <a:off x="8857800" y="5119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>
            <a:hlinkClick r:id="rId4" action="ppaction://hlinksldjump"/>
          </p:cNvPr>
          <p:cNvSpPr/>
          <p:nvPr/>
        </p:nvSpPr>
        <p:spPr>
          <a:xfrm>
            <a:off x="8857800" y="55008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>
            <a:hlinkClick r:id="rId5" action="ppaction://hlinksldjump"/>
          </p:cNvPr>
          <p:cNvSpPr/>
          <p:nvPr/>
        </p:nvSpPr>
        <p:spPr>
          <a:xfrm>
            <a:off x="88488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>
            <a:hlinkClick r:id="" action="ppaction://hlinkshowjump?jump=firstslide"/>
          </p:cNvPr>
          <p:cNvSpPr/>
          <p:nvPr/>
        </p:nvSpPr>
        <p:spPr>
          <a:xfrm>
            <a:off x="8848080" y="4307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masoandro sy ampingany I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sambatra izay mitoe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o amin'ny Avo indrind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sambatra izay mitoe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o amin'ny Avo indrind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ccff"/>
                </a:solidFill>
                <a:latin typeface="Corbel"/>
                <a:ea typeface="Arial"/>
              </a:rPr>
              <a:t>D.S.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735 – SAMBATRA IZAY MITOET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857800" y="47386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857800" y="5119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857800" y="55008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>
            <a:hlinkClick r:id="rId2" action="ppaction://hlinksldjump"/>
          </p:cNvPr>
          <p:cNvSpPr/>
          <p:nvPr/>
        </p:nvSpPr>
        <p:spPr>
          <a:xfrm>
            <a:off x="8848800" y="588168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>
            <a:hlinkClick r:id="" action="ppaction://hlinkshowjump?jump=firstslide"/>
          </p:cNvPr>
          <p:cNvSpPr/>
          <p:nvPr/>
        </p:nvSpPr>
        <p:spPr>
          <a:xfrm>
            <a:off x="8848080" y="4307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10-02T15:18:24Z</dcterms:modified>
  <cp:revision>39</cp:revision>
  <dc:subject/>
  <dc:title>Tiona Advantista</dc:title>
</cp:coreProperties>
</file>