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BB1-6834-4584-992B-38BD7785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174-53BE-49C3-81EF-98B9D27A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3F0-BC16-45D6-B242-EF30B6BE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A4D-7798-4705-991C-A43A26C1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B087-9D3B-4692-ADE1-EAFE7CEB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1026-B501-464E-B171-6DB89E1A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5B1B-5EFD-414B-B160-1E1B9A9C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271-C9E2-45D4-B402-BE91D712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D5B6-2746-450E-BA48-1F994C73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6158-77D5-4383-9BEE-5FC3B1D8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E0FD-F0E6-4AB4-B466-78A2FE4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907-51A8-4B7F-9779-4F5DECF8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F050-7364-4CF3-BC4E-B940B0E9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613B-0949-40ED-A53B-4BBA5A9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AE08-740C-42CB-8FB1-7AEA6C6E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F922-2352-466D-BF44-96611669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530B-BE4B-429F-8D69-42E39A70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1F2-2E91-404C-A2A4-6F7ABF9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22E-6A3A-4127-B749-EF8C095F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C5F-86A0-4147-A611-C4BD150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2F5-1121-4861-AF4E-693B304C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CED-AFB2-4252-9212-2932214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9E2-7B54-445C-B16F-4442775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86F-3DED-41F6-A6B7-754A66FF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1110-E8A7-46CC-9CC2-27CF82B7B9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4C29-0175-417A-947E-F339C73B81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ymond B. Rakotondrainib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ymond B. Rakotondraini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10 – RAHA MAIZINA NY ALE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0 – RAHA MAIZINA NY ALEH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izina ny ale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jombona aminao n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iondrik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banjino kosa 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0 – RAHA MAIZINA NY ALEH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ao ny 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jery sy miah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z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hanaisotra ny taho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0 – RAHA MAIZINA NY ALEH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aro-dàlana ko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vilivily, mety lavo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ompo akaik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handray anao an-tanan-dr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ao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0 – RAHA MAIZINA NY ALEH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lova mah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to an-tany na dia ir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vonona hiatrika ilay lov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ao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izany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asehonao aminay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ome tsy mba tap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mety tadiav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ao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0 – RAHA MAIZINA NY ALEH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20T07:25:22Z</dcterms:modified>
  <cp:revision>68</cp:revision>
  <dc:subject/>
  <dc:title>Tiona Advantista</dc:title>
</cp:coreProperties>
</file>