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6A0-9A6B-4767-B1F5-185F7959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88F-3A54-485A-B063-3DAC59ED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CA8-F99C-41FF-A0EE-1ED62CEB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01C-95B3-4B05-9DB8-D7230D19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711E-7594-4626-8B73-6A85F2FF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D351-4C5A-4FDF-BDEF-70BA6D5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C826-FD64-4073-A77F-810DD450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2E23-FAE7-446A-BB63-9F0FC046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3CB9-E596-4234-B58F-96092FBA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15EC-68AB-47B3-85BF-04CA6748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613A-BA6B-45CD-BE04-9C7BE0DC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5B3-ADEB-4104-BAA0-434BA1DB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EDB7-7F76-434D-AFBE-AF32C32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6FED-2CC4-441B-AC9B-7166C00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46C8-CDC0-42D7-A2A3-68021F82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E803-906B-4B56-B13A-D769EE43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11F0-084B-4FE3-BADC-60EF4F83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129-8CE4-4A6E-B097-EDB95531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8B1-4629-44F6-8C06-C40A925B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E2A-C046-44F7-A26A-57A21F30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F43-9674-4AA4-9E8B-59E53377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990-AD7D-4EDB-980D-CB6D5DBB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2A2-122D-4430-9111-DFA57EBA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559-BA1A-47E9-B663-A464AA9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6C4F-D554-4391-8981-39251034AC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7500-DB06-4320-AA47-917344405C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David Rana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David Rana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38 – HE ! SAMBATR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8 – HE ! SAMBATR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Sambatra ny fo Izay matoky A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ba manana ahiahy na fijalia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a-tsarotra, manjary fitahi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Sambatra aho, he ! Sambat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mpo Anao, r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8 – HE ! SAMBATR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Tsy matahot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arak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voady enti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" Ho Anao mandrakizay 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8 – HE ! SAMBATR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jo ny tafiotra mafy, mila ho kiv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oky fa ny sandrinao, Jeso, anil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ahery ny fo, manolo-pitahia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Sambatra aho, he ! Sambat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mpo Anao, ry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9:01:07Z</dcterms:modified>
  <cp:revision>71</cp:revision>
  <dc:subject/>
  <dc:title>Tiona Advantista</dc:title>
</cp:coreProperties>
</file>