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E2A-79EF-4BA2-936B-4813F38C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62C-C01B-4441-A773-0C13CE89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6E9-1E1B-4E9E-ADB2-4089ACD7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E1E-4F09-4100-86DA-1D64E268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E7AD-58B8-4D2E-827C-FDE1D9EF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9106-2341-4DD6-9071-8933EBE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443-E4E9-4B6D-AE5E-A0D6F7FE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DDC4-66E9-42D9-9640-4967971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A70C-B44C-471E-96C9-A1878341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273A-FD37-4C25-9519-ECF9BE05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5A2F-5814-4DB6-B110-554948B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49A-F247-423E-8436-F54B351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A3FF-C451-460D-BA48-79261B30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0A18-ACAC-41C5-824B-3A04CCE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3FA-4E05-4E48-B5DA-51153A84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DD70-6BCC-4149-9C52-325056DA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07A7-1CF2-4272-875E-AE3769D2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C26-BC9E-404E-8828-68279340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1AB-72A6-469C-9C7A-1F24545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395-E1F0-4531-98AD-6A7180D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01A-08E4-4FBC-A717-3054FD3B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504-C5AA-4CEA-A6A5-3F088DB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7BD-A100-4D0D-80C1-DB1CD81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B3C-906F-4EC9-B856-29C05BF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2D9A-5864-4C1A-B45C-2B86F1F2D3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A92E-11A2-4C7A-8F54-1A6ED9D0B9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faliana sy Fahatok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 zana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7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9 – NY EO AKAIKI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9 – NY EO AKAIKI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kikinao 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i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jary tena tafa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sy 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a re, ry Raik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o fij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mai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9 – NY EO AKAIKI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kikinao 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erin-janak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rery no m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mpy ah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a re, ry Raik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tsy hanap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na 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9 – NY EO AKAIKI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kikinao 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ndako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tsy dia tsy h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ombaka ah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a re, ry Raik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ra izay manjomb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ad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419 – NY EO AKAIKI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kikinao 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ifali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ko dia hif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a re, ry Raik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inao fanambinan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kapoak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31:21Z</dcterms:modified>
  <cp:revision>70</cp:revision>
  <dc:subject/>
  <dc:title>Tiona Advantista</dc:title>
</cp:coreProperties>
</file>