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666B-3CE1-4922-9CA8-A933517D7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F48E-6CE4-4CCB-B30E-F72B6015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C4E1-5AF4-4A0B-BAC4-28626C17E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33E5-5BF9-42C8-BFBB-6A91338AD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16E0-2025-4792-A26C-4959556EF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F2C1-4D27-4EFE-8BD2-A41966A9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ACDE-437C-4168-977D-1831AABA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8C4E-6AB2-48A1-A77C-17D3D6D8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E5AD-4EB3-411C-A278-BE8B4311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3EF3-423F-4DCC-87B7-C2E3AC70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4AE0-0FA8-48E7-97CD-7A90F302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BA92-4B3B-4935-91FE-886D8112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2B88-5141-4E6F-B6D1-A75BFF6E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58BC-19A4-4197-B165-A140311B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D4F8-2DC7-4312-9888-3FB2EE25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FE3A-EC8B-4FB7-AF11-ED14E3E0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F564-F394-4709-9AC5-5E1C068A6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B408-A8F1-474A-A678-C36ACCD7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18EF-42DA-4745-A5A0-3F04FFD2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8FD9-50B7-4DA8-AA9B-D42FF8ED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1998-F289-4850-970C-74B87963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6274-80AC-4999-9028-961AE79E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C19C-2D44-4A30-A3A7-F176E488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4355-E2D5-43D1-BDA2-FCDE2C02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E8D6-817C-47D4-95E6-774CF9685F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4F22-2373-4DA0-83F5-87A331B76D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  <a:ea typeface="Arial"/>
              </a:rPr>
              <a:t>TA469 - 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RY JESO KRISTY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5262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31160" y="5645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35480" y="60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643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anoloran-tena sy Fanamasi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H. Rabehas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S. W. Mart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FFPM43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69 - RY JESO KRIST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y Jeso Kristy Tom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 ! Ampio ny olon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mpianaro mba han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Sy hanao ny sitrak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lemy aho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omeo ny her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hivily tsy han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hanara-di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31160" y="5645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35480" y="60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17120" y="643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5" action="ppaction://hlinksldjump"/>
          </p:cNvPr>
          <p:cNvSpPr/>
          <p:nvPr/>
        </p:nvSpPr>
        <p:spPr>
          <a:xfrm>
            <a:off x="88416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69 - RY JESO KRIST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 ! Vonjeo, ô ! Vonje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tantano sy jere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za afoy izah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Ianao no avot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26120" y="5262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35480" y="60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17120" y="643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88416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69 - RY JESO KRIST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oko mba diov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y Mpamonjy lehib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ambeno sy arov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Sao dia very aho re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riko indrindra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hitombo sy ham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ny voka-tsoa reh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Anao, ry Jes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26120" y="5262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31160" y="5645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8817120" y="643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88416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69 - RY JESO KRIST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ba raisona, ry Tomp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Anao toko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y anananay rehe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anarano fo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maty H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ho ny fitiav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tsy hainao hadino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itiavanao ana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26120" y="5262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31160" y="5645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35480" y="60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416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3:07:50Z</dcterms:modified>
  <cp:revision>116</cp:revision>
  <dc:subject/>
  <dc:title>Tiona Advantista</dc:title>
</cp:coreProperties>
</file>