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0F5-7C7C-47C0-81F8-153385FF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013-5F81-4C7B-AC2B-CA58254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79E-2763-43A4-8510-77D88070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E30-BFAC-479E-8B28-E1F29E53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11EC-D308-4396-9F5C-ED0CA3CD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8754-0FEE-4E98-A335-4EA42488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51B6-4289-4B5D-82F3-ED5D90CD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1DE5-F606-40A1-ADAA-A497B5EB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A93F-2049-41CC-B3EB-AD6A1006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C8F2-8B8C-49D2-8869-CBFD5C7E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06CC-5957-4303-A782-A17FFC1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372-1F31-465B-B1EF-FCB30356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17E0-708D-46FD-8C68-A2AF405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CBF8-B5DF-4F99-B3E1-96B10A5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5BE8-767D-4BD3-B4EB-2DD35E0B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9EFC-562E-4204-90E1-05CB8CCE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A723-2717-4C5B-843D-BF2B7F47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91E-ED37-4D00-BBEF-96DF12F3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123-90C3-46F1-880E-77ADF367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C50-E4AE-43AD-99FF-C3B0290F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F46-A9E6-4DE9-B74E-7E81F3F1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86A-6269-4C80-BCBE-67B1D392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A56-0B87-4DD2-9F3B-0F0F6B3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904-9E90-4AC6-BE03-B7BCACF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F58-A19F-4F74-AC9C-144AC5114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756-B5C5-4466-A017-4535497568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G. Hartl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008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4 – DERA, LAZA, HERY, HA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e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4 – DERA, LAZA, HERY, H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laza, hery, ha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'aina, Zanah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n'ny voninah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Mpanao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ivelom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tr'aina, foto-t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vavah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4 – DERA, LAZA, HERY, H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ira isika hoe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ho 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leloia ! 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(in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ira isik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ho 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4 – DERA, LAZA, HERY, H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Tsitoha, tsy mio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sy mamindra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soa isan'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isaor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tolampy tsy mif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in'olombelo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rova-maha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tokia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6:07:26Z</dcterms:modified>
  <cp:revision>28</cp:revision>
  <dc:subject/>
  <dc:title>Tiona Advantista</dc:title>
</cp:coreProperties>
</file>