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86A-7BF4-4985-B860-4A015AD6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EF3-DFFB-4E7A-B05E-33D939D5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1D1-07E4-4357-BA1E-C30D4A9D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F68-C8B8-4F68-8A35-600218D2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40D0-7608-466E-B0AA-47676DA8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9811-59D7-4553-A974-DF5C5157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9CE6-635E-4568-B851-063AC7D9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140B-E880-4E64-B334-1B8A174D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C1EF-5191-405D-8FCB-0D54B273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4A61-31C5-4EDA-BE43-6B720B5B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E556-94AE-41D5-8271-6C54F550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4F6-9B06-4CAC-B7D3-2D261E7B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CD21-CD0B-4709-B862-A2221C39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3053-A9B0-4CB9-B61F-56F81D5F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8384-1C0F-4822-966C-D6E6C543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85F3-B013-49BD-9412-B0114CF6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CB41-4E74-4EA9-B3AE-35519F0C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FA0-5BA1-40DB-A288-D9FEFB8B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E4B-8359-4107-8D49-20D0CA65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29C-EA0F-4A07-860E-28F1F59C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EDF-C9AE-44BD-99F7-AE9A7508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A5C-C814-449B-95F5-749EFFDB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AB0-E0C5-4BFA-81F8-67C10853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EDA-F60C-49A0-B354-38801A0C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7D03-4746-43CC-A936-90ABB30383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75FF-B589-40E6-BED0-69263F7D0E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M.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63 – APETRAKO EO AN-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3 – APETRAKO EO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petrako eo an-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ko manonto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n'ny fanah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niso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3 – APETRAKO EO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 ô, tan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iala eo an-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riho ny diako h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iriako an-tananao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3 – APETRAKO EO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naniasi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Ray n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ra-po sy nilal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Lavi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3 – APETRAKO EO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rehetra hit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ahasondrian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ositra ny t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ompon'ny f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haiko intsony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ao ny là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 re, ampio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riho ny 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3 – APETRAKO EO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7:43:16Z</dcterms:modified>
  <cp:revision>62</cp:revision>
  <dc:subject/>
  <dc:title>Tiona Advantista</dc:title>
</cp:coreProperties>
</file>