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D50-E9F6-486E-8031-5C34BB05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3EC-B057-4FD8-9C4A-72ACDB5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F22-B673-45E2-B613-C2F07EA4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E76-87C3-4757-BFE7-61CDB3D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B3AD-ADC4-4A8E-B1E8-F584420B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9D45-E247-4A59-A4FC-8FACC72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E96F-BEE2-43B3-AEC7-60F7576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0F86-FD83-42EB-84AB-E7B2780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D9C-391E-43E9-A2F0-DDF24B3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343D-4CF2-43F5-8D60-4779047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D0A-B06F-46AD-A016-5565669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3C5-5ED7-4364-9269-82AA8ED2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8A8-401C-4DA1-AD71-B8A1264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CF99-DB1B-4AF6-ACDB-2FC7597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2F5-ED83-438D-B15F-7324181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BA10-2C89-4EAE-A40A-3D0EEBB1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9260-E0B4-4F03-BA94-736DCBC1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BD6-3E25-4561-BD38-4D2B3B8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74F-45C7-4220-9C63-42A6B5DF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B21-18FE-4EF8-8007-CA48E73D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B92-527F-47E7-B6A6-3854C55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EBA-5EFA-40B1-9839-55CAF94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4D1-D50B-45C1-8CEF-8D76D1D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0CE-B421-44EB-89F3-6766BE4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BDE-9CAD-41EE-A091-4770A9E5B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58BC-0FBF-49EC-B14C-F6DCE88DE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ela Lo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7 – ANAR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7 – ANARANA TSY MANAM-PAHA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r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rana 'zay mam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loat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mba 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anaran'i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7 – ANARANA TSY MANAM-PAHA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aranao, ry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na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hamasiniko tokoa satri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aranao no ivelom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7 – ANARANA TSY MANAM-PAHA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anarana an-ta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endri-kaj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an'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ly anran'i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17:02Z</dcterms:modified>
  <cp:revision>70</cp:revision>
  <dc:subject/>
  <dc:title>Tiona Advantista</dc:title>
</cp:coreProperties>
</file>