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7B4-DE8C-45D2-83D6-32757F3E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EC2-3B4B-4F22-9613-DD483ADB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DB7-0D37-4252-9588-2D0F7C3C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E6A-A233-4D02-BE2A-DC5B68FF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04AA-BA0C-410D-9FBC-17167B1F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D3CF-64BB-42B6-A899-136795F8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864E-3361-4C98-B776-9452B759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8287-31C2-4DD0-9D4E-AD2F5B2F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7419-6FD4-44CB-92F5-27DDF77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60BF-605B-489D-81D8-54F0E89E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EB34-FD85-4558-BD6C-FE217B6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C48-5815-4024-881D-6E722A9E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3C29-9AB8-4428-AF2A-D6CB74BB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1C44-BAB1-4A9E-BD19-1F2D33C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9F34-0D50-4CEB-8FC4-A253617E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907C-C795-4D59-B153-85A5F229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0C18-94DA-4F6E-A759-60DB4ADB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180-DBC5-426D-A847-659D7F48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E25-7858-4CFB-AFDC-285540BF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175-9478-4EF6-9CC4-469E7AF1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229-7CA1-4A40-9E8E-09F317FA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E34-BA45-4A4F-9D5B-633B58EF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E3D-BC4C-476D-868E-8C588F2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AC9-DDBA-4EFF-A6D2-BB89B403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CE6C-9A0B-4858-800E-CE166328F0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D3F9-A681-41DD-AEE0-A3A613C456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sa misiôn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firing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K. Sha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3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6 – MAMAFAZA V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6 – MAMAFAZA V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faza voa ka aza mba mal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fantatrao re ‘zay ho vono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min'ny hariva, na amin'ny m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faza voa tsy mijan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6 – MAMAFAZA V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okia re, matoki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y amboara ho anao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okia re, matoki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y amboara ho anao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6 – MAMAFAZA V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faza voa amin'ny mahan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mba mifidy ‘zay hasian-t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fo mazoto sady feno 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men'ny Tompo valisoa tok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6 – MAMAFAZA V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faza voa amin'ny male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anjaho 'reo ‘zay reraka ao am-p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ehoy Jesosy loharanon-k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no hanovozy 'zay ilain'ny f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sà sakaiza ! Milofos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misy asa azonao at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ahora sao tsy vita ilay anj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petraky ny Tompo am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6 – MAMAFAZA V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5:37:01Z</dcterms:modified>
  <cp:revision>65</cp:revision>
  <dc:subject/>
  <dc:title>Tiona Advantista</dc:title>
</cp:coreProperties>
</file>