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B8E-A2BD-4E83-8005-11600211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05F-E1A5-4C9E-BAE8-5860B02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FA5-ECD4-4C66-B7A1-2E1F255C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F4D-B92A-40EF-BE6B-9BD0E0D5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20EF-BFD5-4D29-8DD9-60BC56CE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2FD7-4FA9-479D-A6A9-4BA90B3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F7A-D65F-4722-A3C7-C0BC4C6A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C7C0-EBCB-45EC-980A-B4A8806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14D2-1A58-4C16-B156-6794EE0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5939-5E52-4AF1-B438-DF6CA55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3979-E4FB-44D1-9598-0EAC064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18A-530A-41AE-BB2B-78E0651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7C94-2669-4057-A868-4DE1D09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0BEB-3D95-4B3A-A2C7-7040792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13A-3338-4A0A-B44B-8C492A6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B90-D210-446B-A96C-33F51670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8AF-FBD8-4B63-BF1A-BA2BFF90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B9E-5068-4BAC-B9F4-A2D93F8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B0F-3ECB-47D8-A5B3-88B541FC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107-A563-48BC-87B1-7A3A256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2B8-8C8D-445A-AA2D-9635014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CE5-852C-4825-A632-31216C1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35D-C717-47AD-87C6-ACA73F4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13F-2BAF-4CAB-9797-EFC7720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C24-4F45-4820-AC11-1798F78793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EA62-4C34-4DC4-87EB-C9459DA35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9 – MISAOTRA ANA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9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laza Anao, Jeso ô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fotaf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y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9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henoy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mponay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 ny vavaka at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 eto aminay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eno hatrany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y ny f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9 – MISAOTRA ANAO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petrakay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ao manomboka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y a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lapa ho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4:06:53Z</dcterms:modified>
  <cp:revision>78</cp:revision>
  <dc:subject/>
  <dc:title>Tiona Advantista</dc:title>
</cp:coreProperties>
</file>