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4C1C-C066-49DF-A5BF-BA94E4815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7826-FF42-4AF0-81FA-B094CF26A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D596-2B8B-4DC7-8448-A2DCEAA8E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9AF5-DF54-4D89-8B1C-E5A6FAA18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A1C45-D314-4659-A3BB-5D7816441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1A900-4BFB-457D-8858-778C783BB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C6ABA-A980-44B7-93D9-84F5B1331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FD5E5-7E33-4C7E-ABD5-15B06267C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DC606-771D-4068-B5EA-D35968C37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9B68B-3E94-49A5-AE30-7B1ACB6FB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29B81-6653-4FE4-833D-C59DA8FF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7E5E-4C3B-46C9-B598-0242716BE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BAE84-5B27-42F4-BA67-87B629D3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F88AB-22CB-4B92-88A9-7FD56A7E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4C79C-465E-4975-9F0F-CFC2B89F2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898D8-6A7D-4A1A-A802-50066E21E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20EC0-4EC2-48C2-B157-A8AA4523E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BD77-762A-44AE-B77F-CA27D23A2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DB44-69AA-4AE8-91C3-E3832CD51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2E3F-6458-405B-8161-C8050B2B5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5D0D-1969-4DAD-AEF7-569228727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722F-DD12-4CE4-98AF-6EF7F989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CB50-B46D-49F6-A737-158E9550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271F-DBF8-4209-BE81-40AA0E56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1C3A8-DD12-4A98-A052-D68280357BF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391A8-86D6-4EE4-AAB4-0E056FE1782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bebahana - Fiovam-p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G. Cousins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G. C. Stebbin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377 – TOMPO Ô, OVAY NY FO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5661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72120" y="6041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6423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77 – TOMPO Ô, OVAY NY FO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mpo ô ! Ovay ny fo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o mora anar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y ny an'ny zazake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otra sady mari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:,: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mialona, tsy madi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manao ny sitrakao.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:,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72120" y="6041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72120" y="6423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762400" y="5229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77 – TOMPO Ô, OVAY NY FO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Zaza, ka tsy te hifid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y homenao ahy ani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o azoko ampit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ankinina ami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:,: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oa tsy manahy ah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efa niantohanao.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:,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772120" y="5661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772120" y="6423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762400" y="5229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377 – TOMPO Ô, OVAY NY FO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Zaza tsy maharo te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miankina amin-dR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mahery, tsy mba hend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ry tsy mahay mandeh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:,: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anao no Raiko t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iko be fahari-po.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:,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772120" y="5661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772120" y="6041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2400" y="5229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6T08:52:42Z</dcterms:modified>
  <cp:revision>65</cp:revision>
  <dc:subject/>
  <dc:title>Tiona Advantista</dc:title>
</cp:coreProperties>
</file>