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AF6B-3112-4DDF-BDED-D3253453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B7A4-F7AF-434A-BAE8-4E98D9CA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F85D-05AA-45A0-A369-7C0C40A6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3539-4F1A-44B8-9C50-63430B81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8BB8-66EE-4DA1-A132-4674DE2B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32C2-972D-4DED-BE3D-AE698ED3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90CE-D745-4B06-8B00-DDD4A456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F076-8ECC-404E-9587-B75A896D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CA6B-996E-4A1F-9F95-0ECB9458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CF3F-76FE-4AB5-AE36-D9A9DE61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3933-F497-4FFF-A05B-AB17347A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6E77-B864-4DD4-A9D9-CB4301E8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077E-3801-4E65-82F4-A8449033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98C4-EA13-4909-9ED1-C6BD20BC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16E2-90D6-48CB-B3F6-79519F6A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A327-3CF8-4373-B9B8-480068F7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3B86-F03C-4C4B-81A8-099F60AD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DE44-184A-4906-8C6B-CF9AE464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412D-7E1F-444F-8B4C-C3BAE16F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9E8C-2DC8-48E6-9FE8-0E9C6BA4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0050-C145-43D0-BBCD-FB1801D3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0642-783E-4CE5-896A-79C7F9B1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CA23-2699-4663-BF42-1F721D10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C3F7-A520-44BC-BB23-B727FF1A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5D69-66CB-4DEC-8510-6AE1A78859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EE0F-A1D4-4E08-BEBC-A86D99788F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faliana sy Fahatok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H. Ackle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29 – HE ! NAHITA MPAMONJY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9 – HE ! NAHITA MPAMONJ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Nahita Mpamonjy 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aim-panah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ihaino ny mital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pifaly f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716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9 – HE ! NAHITA MPAMONJ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fifalian'ny fo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no manjaka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o azy manontol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, azy hatr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lazainy no hatao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y no haleh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fifalian'ny fo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Sakaiza mam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9 – HE ! NAHITA MPAMONJ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Mandroso mihats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inak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hazo manamb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anie mba ti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716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9 – HE ! NAHITA MPAMONJ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hendrena avy any ambo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ry mahasamb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omeny 'zay trotro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n-dalan-tsaro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716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8:23:38Z</dcterms:modified>
  <cp:revision>70</cp:revision>
  <dc:subject/>
  <dc:title>Tiona Advantista</dc:title>
</cp:coreProperties>
</file>