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822C-1B3E-4B70-820F-154ED2CA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F6F3-A4F6-42DD-8252-2C57EF97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0F2F-C9E0-400D-A9C1-77323AE0F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123D-08EB-41CA-B915-3D7DBB826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2F7A-3333-41A1-B65A-029846FEA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3C2F-B3AE-43FE-BDF1-192C11BD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E0C3-CCB9-4822-9E3D-7BE14CB2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42AD-92BA-4E20-858C-B74C8514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77A1-6EFD-4F39-B9AD-E0B11066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32C5-B7C0-4912-B757-BCF430D0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4284-607C-453B-8088-761A2918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E7CB-9DB9-4BCA-A37D-F0B5AE59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32E8-C44B-4EC9-87AB-910CE270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A1D7-E35E-4523-A4F8-34F7ED96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2677-ED57-4A20-8A74-B2DF7A34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E6B0-2784-4931-9144-23720780F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142E-3CF1-4DCF-B9E8-5A88EF62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2A15-5DF4-421F-B738-2377551E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AD7C-A750-4A27-BDC3-2B921DBA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9C8B-6ED3-49D5-93A5-C3832D5D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8702-6DC1-4D20-A0BE-6C50AD74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28FD-3D36-4B7F-9842-91DCF032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69F1-A9D2-4BB4-B517-291B0886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7C66-1796-473F-9092-D4D03E4D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6A19-2282-40F5-8025-17A451BCA4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CFDC-E1F2-465A-BF6C-AC6FBB32E5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kotomananjanahar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kotomananjanaha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11 – NY ANDRONAO TANO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11 – NY ANDRONAO TAN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andronao tanora izao no tena fatr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sian'ny hery tena feno hiasana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inona no ataonao mba tiako ho fant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ry aiza no alehanao moa fantatrao ve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11 – NY ANDRONAO TAN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aleo ve atolotra Ilay Mpamonjy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entiny, hamboariny ho tena mendri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y iza handeha irery, ho be fanias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hahalia làlana ka dia ho rendrik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11 – NY ANDRONAO TAN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a voninkazo tsara loko izany andr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intona, mamoaka fofo-manitra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rahariva dia halazo, ary fant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potika, hihintsana ‘lay voninkazo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11 – NY ANDRONAO TAN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O ! Inona no tombotsoa mahazo izao s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nefa dia ho potika ny hatanor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Dieny mbola misy ny fotoana iai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io, meteza hanavao ireo las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12:09:00Z</dcterms:modified>
  <cp:revision>87</cp:revision>
  <dc:subject/>
  <dc:title>Tiona Advantista</dc:title>
</cp:coreProperties>
</file>