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360-D798-49F8-8CFE-122AAB4B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DEA-CFC0-4967-8661-A897FDC0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92E-A27A-4DBE-8357-32EF9BBF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E4B-E6E2-4F3D-9F25-0A04B1FA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6C71-40C4-4028-AA8A-76A88AE0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4BFE-F992-48B0-91B5-7BECCDD7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C23D-2E8F-4DD8-8DFE-3AB54BF8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AE84-61CF-4C26-B84E-482F7615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6CA-F9EA-41A8-85C5-C2CA297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30DB-7272-4C0E-9228-EDBCCBC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6E51-C05F-46CE-8BBA-725882C4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55E-173C-4C21-B9FE-415033E1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E03A-3A19-4C4B-8387-84732A7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DF1A-057B-4F43-B009-5121E241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F06E-6006-42B6-AD5D-31C7C188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2956-9E50-461A-A3B2-5D051845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DF4F-122A-4868-A292-201CCE64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B6F-12B5-4E5A-8D2F-8311DCDF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BD8-CB59-4666-9AF8-586F4CEE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9FC-6A3A-4B81-8599-D4F7A183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4AA-8634-495E-818C-47C6218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876-2D72-468A-9CD8-D51638E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8B9-1B30-4DC9-AC78-181A3A5C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7EE-0926-47C1-93F0-17047642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3C7D-8568-442B-94D6-E924BC12B3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5EE2-FB48-4F76-874F-BA1F81C8C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ra F. Stamphi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8 – NY HAIZIM-BE ‘ZAY MANDRATRA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8 – NY HAIZIM-BE ‘ZAY MANDRAT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haizim-be 'zay mandratra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ahiako, Jeso eo al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kely loatra ny fahalal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Izy hanao izay m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8 – NY HAIZIM-BE ‘ZAY MANDRAT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 dia hazava 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resahin'ny Tomp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ehony ahy ny anton'i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ho hita fa n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8 – NY HAIZIM-BE ‘ZAY MANDRAT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antoka ny fitondrà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izina aza ny lohasa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ny baiko, minoa ih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pitari-drahar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8 – NY HAIZIM-BE ‘ZAY MANDRAT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retim-ponao tsindrio he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hareta tsy ho e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eho anao ny anton'ire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, hadio toa volam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20:08Z</dcterms:modified>
  <cp:revision>70</cp:revision>
  <dc:subject/>
  <dc:title>Tiona Advantista</dc:title>
</cp:coreProperties>
</file>