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77E-E90C-4B9C-861D-793982D1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453-E75F-42EA-9FFA-04092D30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47B-5E46-45AE-A3EA-499964DB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FBA-6B63-41AE-97B5-4F6A3E4A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8212-E372-4784-813C-BDB9B06A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9294-34D9-40F5-80E0-3C17BF8B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61A2-9B44-49C7-BD7E-CA6EC134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8E04-242F-4D31-BDF7-E5CB1B33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A332-26AF-4891-8243-E8D98331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8F6-4E98-4057-B4D4-65153898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DEE8-2D63-4D83-92C0-76FCE71F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1C3-A83B-4782-AC9D-A82C1465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407F-B3FA-4927-BF39-9291929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099A-C282-4F6F-A46C-6012DD7D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2E35-2FB5-4BBF-89DE-15D1BF5A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1FE6-BE45-4505-BE16-0DF21617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CAFE-BF86-42CE-8CC0-DD2945C9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F0D-3874-4125-9C7B-5D09B88E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CC4-31FF-4E25-B569-B576EE83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CA4-B02A-4005-AF55-B775F4E1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66E-86C4-4E8C-B35C-1F348CCB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542-E041-4F57-A467-CA978B7C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831-6EDA-4FCB-8402-018C53FB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654-6EFD-4E09-9EA1-0F1C3FF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C5A-2329-44BC-8F9B-403F34D71D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13E0-7750-4C8E-93BF-F1166D056E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Lasser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91 – RY MPAMONJIKO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3224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224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3224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1 – RY MPAMONJIKO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tiako hambar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metez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piaro ahy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manahy 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ry sy mito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ota n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sarai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3224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224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228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1 – RY MPAMONJIKO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Mpisolov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mahala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isy meloka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ndrà fo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ny rana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dio ah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ota n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fafa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3224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224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228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1 – RY MPAMONJIKO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Eny, ampy ny r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ho sas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azo 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avia ka min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fafako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tanao maro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rakà, mijere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3224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224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228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46:22Z</dcterms:modified>
  <cp:revision>31</cp:revision>
  <dc:subject/>
  <dc:title>Tiona Advantista</dc:title>
</cp:coreProperties>
</file>