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6D80-A6A4-4AA9-9591-D5E730E3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3433-9BA9-453D-B34E-8662E0FD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ED94-4D71-45D7-BCA9-CD4EBBB4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1BAE-51C0-41A9-B395-9323231D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E404-A100-4A6B-AAD0-5D1D1EEA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C1A8-9239-48CD-AB2C-87564E3D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7E3A-425E-4FDB-97FE-B60A0124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E8B0-37E1-4677-BC37-00A5519A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686E-9C25-4681-82EB-D4D5D46B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15CA-FFC6-480F-B883-D432D869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A69B-CE04-45C7-9101-22976EF4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763A-2414-49D3-B4BA-C0C12DDD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989E-CC96-491E-BC87-07BD99CA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CCC6-AE2F-40B5-91D0-25225160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AD55-75E8-4F94-A610-9115CFCA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AAA3-3F5F-40BE-8E41-9CFBFC99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1646-AA2B-4EC3-A0E2-D838972A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BE94-AA35-4867-BD5D-C6634CC7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90A2-A2FB-4AD5-A294-C6552DBC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B555-7C01-4653-82BA-BFE09EB8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1B49-8468-4D71-BAAA-EAEF451A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510-38BA-47B1-B3C6-E1D10666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A91-7A05-40B4-93A4-9A9A5A4C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5251-5A76-4381-A4B8-DF34863A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0145-6124-4AAD-887F-8689F841ED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36EC-838D-44F8-96EF-24CCF5FC25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benadimb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Peet Steenbe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94 – RY JESOVAH RA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970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4 – RY JESOVAH RAI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y Jehovah Rain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'Zay loharanon-tso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Sy fototry ny fiainan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anao no ijoroanay. Dera ho Ana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Feo 1)      Ry Jehovah. Amena  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Feo 2, 3) Ry Jehovah - Haleloi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                           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aleloia, haleloia, Ame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Feo 4)     Ry Jehovah Haleloia  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      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aleloia Ame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5970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4 – RY JESOVAH RAI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y Kristy Mpamonj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ilohan'ny tanor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ariho 'reto zandri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andia ny lala-nombanao. Dera ho 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Feo 1)        Ry Mpamonjy anay, Am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Feo 2, 3)   Ry Mpamonjy Haleloia         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                  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aleloia, haleloia, Ame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Feo 4)       Ry Mpamonjy Haleloia        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aleloia, Ame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4 – RY JESOVAH RAI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y Fanahy hend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idina ao am-pon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ibitsika, hano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fiaina-mendrika, madio. Dera ho 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Feo 1)          Ry Fanahy hendry. Am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Feo 2, 3)     Ry Fanahy, Haleloia           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                       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aleloia, haleloia, Ame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Feo 4)         Ry Fanahy, Haleloia           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   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aleloia, Ame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5970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0:47:02Z</dcterms:modified>
  <cp:revision>85</cp:revision>
  <dc:subject/>
  <dc:title>Tiona Advantista</dc:title>
</cp:coreProperties>
</file>