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1BE-B9C8-42D7-B7DC-FE661841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998-5D82-4CA1-B927-26218DAF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DCD-41ED-4AF3-956D-BFC978E6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24D-3FA1-4B0A-84FA-8453A9EA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9B2E-A1F4-4485-BF5D-D6DEC638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5345-061E-43BD-AA75-966422E8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334-1B62-45CB-9573-BE463C68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1C2B-7B1C-4EF7-A45C-05BABED8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1114-4A03-434F-B7A7-B76520D8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E4BC-7AC1-43E9-B660-9CD65D0A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5003-62E8-4BA4-A5E6-487658F8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FA5-131E-45ED-8632-75616610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7C36-9B50-4AEF-BA4E-D076E52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124-A66A-42A4-B69C-07F7DD42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F01F-981C-4581-91A7-99B6C1C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47D2-F55A-4D94-9460-50610C8C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EDE5-4B94-435A-A0B3-D0A0EE7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851-7AC7-4397-BC86-8E45081E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21B-764E-49C6-9F84-127E2845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95F-7176-49E6-926B-667F23B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861-F2B0-4DB4-98B4-12FDB81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41B-A5CC-4B10-A097-3CC60BA4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77F-6E6E-4EA7-8ACD-7147818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65C-9229-41A1-A2F3-E8117C1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C427-CD5A-4CF4-9747-4B72EC7364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A434-4D83-40D5-9502-563AD4E7A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tovondrahet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tovondrahe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8 – TANORA VAO MIVEL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8 – TANORA VAO MIVEL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ra vao mivel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inkazo 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oandron'aina mami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ery isandra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Tsara re, he, samba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8 – TANORA VAO MIVEL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ra misy bik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y, hendry sy mah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anjina sy mifant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reo ny mas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rary soa, miv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8 – TANORA VAO MIVEL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ra misy tah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lay 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o tempoly ny t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ran'ny Fanah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dremonao, amben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8 – TANORA VAO MIVEL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ra ô, andraik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ngonan'i Kris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vy asa manok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my ireo sakaiz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itra ao, honina 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08:54Z</dcterms:modified>
  <cp:revision>85</cp:revision>
  <dc:subject/>
  <dc:title>Tiona Advantista</dc:title>
</cp:coreProperties>
</file>