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603-C629-4D4A-92DC-4D556A73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B14-D5D3-4209-B910-10A69E11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B4B-5F9C-46D4-B67F-CB92321F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809-138F-43B0-AA48-E5909C38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59B6-74DD-470A-9978-749C660F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9BF2-91DC-4366-A943-2A2E2A8D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6230-8C8A-4306-9735-34A3D9E6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D209-411D-4872-8EF5-3542F5FB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1E17-2857-40AE-AA5A-5EBCA3FB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5134-EBB9-4694-9055-9401A756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049F-DE38-4DAD-BDE3-E8A923E9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C95-3DFD-4DD2-9933-233FA99C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0573-29C4-4F0C-AA0A-B7566EC2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C473-CCC0-4EB3-9912-1307F072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4C9C-98D6-4908-8383-5FFCE0A4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0F2B-92D8-451E-A261-4C0AA541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C676-2C4F-4236-B78A-15C2AB09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EE8-F42C-4C16-B02B-7F42B812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8CB-F09E-4C31-A11E-CE085358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F25-C85B-46F3-9C87-DA955B0F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318-1C34-4B86-8E6C-8E4E179C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D1F-F9AF-438F-89B4-5308D639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844-8B59-48C7-8128-E6DB29D5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9DE-E5F2-46B1-A0AC-F4827279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CCC0-9CA7-47F1-BC26-EB9D429E77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65FD-EC7E-4B53-AFFB-652252B6CF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pamo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hn W. Peterson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26 – Ô! MAHAGA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6 – Ô! MAHAGA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ahagaga Raiko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ao tsit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soratra tokoa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danitra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6 – Ô! MAHAGA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'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andro izay mamirapir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kintana mazava mahafinar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 mahagag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sy ho takatray tokoa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6 – Ô! MAHAGA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ahitr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sy voajer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e manjelanjelatr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ndri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6 – Ô! MAHAGA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y masinao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ry am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ronkely eny an-tsa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kazo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5T08:48:20Z</dcterms:modified>
  <cp:revision>28</cp:revision>
  <dc:subject/>
  <dc:title>Tiona Advantista</dc:title>
</cp:coreProperties>
</file>