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7E9-8155-406A-B1BA-3CEF0459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89C-ACFB-4311-9F7D-742A5DE5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5DD-D1D0-4CF4-80A9-18909633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206-BF47-481B-B479-90B195E0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ADCF-933B-412A-9057-28B931A7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C052-E1BB-450E-8A2C-D6E12FFD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DA4D-CB49-45D8-894E-2034A9C0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6ACC-9703-420E-AC1A-47121FC0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623A-09DD-4980-85F6-0CF67C45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AA81-5AF3-4BD1-90C6-BB6CC7BB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C39C-52E6-4C1B-9504-72655786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A9D-9467-4098-B3CB-41CEB2BC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CA3E-9672-4A6B-B8D8-0765301C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15D5-2AB8-4A48-AA59-074E76CD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EB6F-CA5E-47C0-A88A-33791D37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C335-B6B5-4805-B6A3-6920B688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4B41-E06C-4256-9CBE-594ECCF3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DD2-71A3-416B-B0F1-B7AC9AB6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E0D-39C7-4CD6-8210-D24E9DA8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5F2-2EA7-4F82-9829-56465C9D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081-81F2-4816-B93B-3971864F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092-BFAB-4982-92BB-F9ECF867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0F9-74AE-4CFE-9BFD-814A607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40F-5032-42D8-B654-2FC01555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CCEC-746D-44FD-A6F2-7DF26B1C23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F092-03CE-407B-8B69-3C99E5479B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uteur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ompositeu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21 – ENY TONTOLO EN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1 – ENY TONTOLO EN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tontolo en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ita 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y hitany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mby, vitsika</a:t>
            </a:r>
            <a:r>
              <a:rPr b="0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1 – ENY TONTOLO EN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indro misy tsy ho hita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ko navela tao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hadinoiny av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tsaroany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hitany intsony iz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1 – ENY TONTOLO EN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manarak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iseh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dehan'ny tant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dinika ar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1 – ENY TONTOLO EN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azo iafe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hita I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loka mise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senton'ankiz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0T08:56:14Z</dcterms:modified>
  <cp:revision>35</cp:revision>
  <dc:subject/>
  <dc:title>Tiona Advantista</dc:title>
</cp:coreProperties>
</file>