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30A-7635-48C0-A083-785D11EA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4F8-6B6A-4E22-AA09-F1AB7052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121-7D2F-4A4B-946B-44628297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4B4C-1A17-4DE8-81F4-48C76BE8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8A01-C3F2-4A11-889F-FAB187E6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52A6-22B3-4FD2-8020-3146BD2C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E156-B256-4794-AA3E-B2362229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A1E8-AF33-4F48-AF08-8CEC19DE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C87D-3B71-42F8-BE62-F236C769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A223-433A-4583-8F6F-6C1DC902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C2EA-9EF6-4EA8-8F63-5F60B3C5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5B7C-3FCC-44AD-A332-D3376A86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F0A1-DDE2-4A45-BAAB-52A45299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7EEC-8E73-4356-A9EB-D9D115F9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DDE5-4835-4C8B-9D1C-B760C3D0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1EF2-B9D6-4681-96CC-1A052471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B69E-6A29-4D44-AB70-3973B94E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BB49-7952-41F2-9B6E-FC9AD475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AC7E-F9F8-4FEB-84F0-94533BB6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D08-54C2-49FD-9DE1-FC0FDBB9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BEA-6B31-4F0F-9272-1AB81BE9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623-A03B-4003-91EA-D321C26B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76D6-5897-4D51-A4AE-C0F9EFF9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D3F-4532-4BC6-821B-5127AD88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AC58-219D-4B34-86D8-889D0CBE97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9933-9652-4BE6-A679-E867DD9538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barijoe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K. Gruholz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02 – HENOY, HEN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04440" y="473868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595000" y="511956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595000" y="550080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547120" y="5881680"/>
            <a:ext cx="7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547120" y="6323040"/>
            <a:ext cx="5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2 – HENOY,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noy, heno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'Njay lakolos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eon-dakolosy 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Manakoako maf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di, nd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Njay lakolosy Manakoako maf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noy, ô, hen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, henoy, nd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595000" y="511956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595000" y="550080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547120" y="5881680"/>
            <a:ext cx="7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547120" y="6323040"/>
            <a:ext cx="5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67816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2 – HENOY,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tohiny 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foko mba mifoh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tonga izao ny mar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raina fanante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noy re, henoy re, heno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di, nd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vy Kristy, Kristy Mpanjak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vy handray anao hiak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akatra any an-d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04440" y="473868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595000" y="550080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547120" y="5881680"/>
            <a:ext cx="7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547120" y="6323040"/>
            <a:ext cx="5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67816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2 – HENOY,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tohiny 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, andrandrao re ny loh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tapitra eo re ny ad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arana eo ny fisento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lanitra ho lo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, mifalia, mifali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, miomàna mba hiak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haona amin'ny Tompo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04440" y="473868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595000" y="511956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547120" y="5881680"/>
            <a:ext cx="7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547120" y="6323040"/>
            <a:ext cx="5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67816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2 – HENOY,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tohiny 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lehibe be voninah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panjakan'ny Mpanj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enteso re ny hi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asandrato n y fe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hoby mafy ny T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endrika hoder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hovah tena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04440" y="473868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95000" y="511956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595000" y="550080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547120" y="6323040"/>
            <a:ext cx="5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67816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fara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foko ô asandra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iram-pandresen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bio ô, hobio, hob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Ndi, ndao, Ndi, ndao, nd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Ndi, nd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di, ndao, Ndi, nd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obio, hobi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di, ndi, ndao (Amen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2 – HENOY,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04440" y="473868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95000" y="511956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595000" y="5500800"/>
            <a:ext cx="5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547120" y="5881680"/>
            <a:ext cx="7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67816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1T07:09:55Z</dcterms:modified>
  <cp:revision>79</cp:revision>
  <dc:subject/>
  <dc:title>Tiona Advantista</dc:title>
</cp:coreProperties>
</file>