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184C-7C27-4120-848B-CB62FD88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C00-31B3-42BB-BE53-25E5D3D5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BEA-DBB1-4D7C-856E-9C28EAA8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27D-7F53-4E21-A31C-E4741608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8EA9-ED0C-4087-87CD-1ED71452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A577-6A69-4DED-98F4-29EE1275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B677-54E5-4E79-9C33-8FE95786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59AA-7A91-4F47-AE28-A2AAB650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00BE-DF7D-4F7C-914B-B6D4ADCE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54FE-B8EE-45F6-A520-B6ED8179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1CC4-D3B0-422A-8A10-C2FC81FB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E694-7117-41D9-A0DE-05A4EF06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8FB2-41B2-4286-8CA3-D1A90C10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20BC-576A-4034-A793-045A06F1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1A80-B4EA-4603-BD5E-48C07512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A471-CE6B-4B53-A8A7-525E2361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EB9A-5DFD-4D85-AC57-DC217086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E0D-EA54-4676-B761-3F9E485F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38E-CFDF-4990-A335-57D6D78F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889-A86C-45FC-BC4D-83F2FDC5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4B3-36BE-4020-8541-D5FB1C88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15C-FB62-4AF6-BEBE-4952A1D0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8C6-9B72-460E-B05B-80F0201A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F5A-E5A2-4488-A4CB-A9194CFB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D145-E53C-4CA0-8C3F-7881AD5C9B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82F0-FE9D-408E-A1FE-317BB7C5DD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. Mal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22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81 – RY ZANAK'ONDRY VOAVO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035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416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797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178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1 –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RY ZANAK'ONDRY VOAVO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anak'Ondry voavo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nay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ranao nandrese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y 'zay navo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416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5797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178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603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1 –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RY ZANAK'ONDRY VOAVO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eto hisakaf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miandry ny fivere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hanefa ny famonj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035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5797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178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603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1 –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RY ZANAK'ONDRY VOAVO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o amin'ilay vokov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danana no hit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sitrana tokoa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osoloin'ny rat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035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416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178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603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1 – RAHA MAFY IZA NY MAH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fio ny fahamarinana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ay mpanompo vor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hahazo tombotsoa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itra ao an-dan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035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416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5797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603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09:09:50Z</dcterms:modified>
  <cp:revision>68</cp:revision>
  <dc:subject/>
  <dc:title>Tiona Advantista</dc:title>
</cp:coreProperties>
</file>