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9F7-6A71-47CA-8296-1B700AA5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013-A06E-460D-9C55-4DE65E5A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419-35DA-412F-AD9B-8715D141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833-8DE5-46F2-AE94-ECF061BC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22C5-C996-4486-AF7E-FD33B6E3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307A-1D22-4B2E-9875-54E75390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2E14-4A8D-4B29-9730-1C5B8938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AD80-E277-455B-940C-AACE33A0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0673-60FD-40D9-89A7-49E9B8E2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6150-B575-48FC-B95D-8D66045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CB0C-BDF5-40B4-BA75-2904E6F0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8C7-01E6-491F-991A-8639193F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840C-D7B9-45E1-9E27-005D046D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228E-E3CA-467E-A5AD-097E8F0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CACD-44BE-4484-A1F0-E45CE43F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722A-DEE5-4752-8041-565EBDAE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1FEA-FEED-4A16-A09B-D0AD6E24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20A-8AC1-4644-9F0B-369685BA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BDA-6B14-49AC-B382-D4A6F01A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44C-2D44-491A-BC69-4EFDFD8D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76E-7758-44C6-9F79-D4498895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DA0-8C02-4B6D-9B00-68242FE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F71-8250-4F11-83E6-325059D6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A40-D60F-46BF-AF0D-D5B1EC2C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4681-BA9B-4E33-B629-0414729B8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D735-7ED2-4D0C-B130-71B06BFEAE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L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erbert Johnso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6 – TSY HAIKO RE RAHOV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6 – TSY HAIKO RE RAHO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aiko re rahov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ahitako zav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 tsy hay jere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dirana an-dan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re hiandr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poa toy izay ho hit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o koa fa raha his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vany, hatreh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6 – TSY HAIKO RE RAHO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itako ny end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an'ny olo-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itako ny tav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ho koa horai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6 – TSY HAIKO RE RAHO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ny ratsy, ao koa n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vadibadika n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y mahafal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ba mihena ny m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tsy hah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elina dia las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an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sy ny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7:35:03Z</dcterms:modified>
  <cp:revision>74</cp:revision>
  <dc:subject/>
  <dc:title>Tiona Advantista</dc:title>
</cp:coreProperties>
</file>