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AFAC-AED6-4B2D-B565-038A5314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CA0B-2394-4C0D-9021-F09045FE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61E9-D202-479B-B142-65B74B72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5D56-1E86-4F99-B08F-5764A237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1C31-D4DF-4185-BE9D-446F4F265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28CF-BD36-497F-95A0-5589EBEA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1918-9432-4384-8476-4F932335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F870-8416-4353-9D40-6C068013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E62E-DA27-462C-B8F9-CA655044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AAB8-268F-4A52-8FCB-96A4F476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3ABD-D400-4DB5-9467-B9BE003C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F44C-24B4-4FA0-97C2-73FE8C8F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B593-E690-4F80-8367-44A5B419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E510-54D3-4C20-8F40-7C4520E5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08FA-E168-4E5E-B9F4-EB6F84B6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88EF-CE38-4228-B457-E67AEE438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E05B-4FD8-4DD9-A52B-EF4FEB31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D3F8-A990-4D3E-85A2-37D2EB4C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E289-F6E4-4499-8C5A-8CDF3CB8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1F59-3599-4C8D-BD4F-FFE49408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584C-F2ED-4E51-8799-CAC39093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41EA-69BF-4E82-8265-D1C1C187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88FA-BA4E-4BD6-ABAF-357ABB2C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9320-8D61-494D-9918-330F9842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8B30-D729-4994-94C7-360531BD53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0F4C-0B3C-4066-BAAA-CDBBD8050D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afatr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John E. Peterson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85 – TOY IZANY KOA NO ANIRAH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85 – TOY IZANY KOA NO ANIRAH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y 'zany koa no anirahako anar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ompo tsy mitady tombot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tsy ho tezitra na hanainga f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ratsy hovaliana ny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716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85 – TOY IZANY KOA NO ANIRAH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y ny Ray naniraka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anirah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85 – TOY IZANY KOA NO ANIRAH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o koa maniraka anar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ehy fery, hanasitr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mahory ho toy ny tsy te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asiaka dia ho tsra fan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716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85 – TOY IZANY KOA NO ANIRAH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o koa maniraka anar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zaka esonteny, latsa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sy hijanona hanandra-pe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ory ny Filazantsara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716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5:10:05Z</dcterms:modified>
  <cp:revision>53</cp:revision>
  <dc:subject/>
  <dc:title>Tiona Advantista</dc:title>
</cp:coreProperties>
</file>