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B48-AA4B-46B9-9757-1E7715A6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D05-2640-4D41-A655-09E7491A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E74-FDCC-418B-90E3-D15FBD9A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592-9C81-4166-802D-BFD1246E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21B5-B786-4D72-BCE3-8ABBF1BB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D5D4-AFB0-4947-92E4-12B5ACF9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93A5-7F1B-42E7-9820-91B10B95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2058-05D4-4768-A861-F1D8BBF8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77C0-E2BC-4F18-800D-220B6022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63EA-75AD-4520-B97E-EE63404A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588C-2DB3-4DE7-95E4-D911F24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2C1-175F-4459-B09C-46EE569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0B3-2710-47ED-BAF3-F6CB6F00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2674-67E8-48AE-B1E8-2B93BF8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157E-A5CF-48D4-98E6-0A822AE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6ED0-1FB7-47A1-A2F4-33B389C6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3097-4B7F-4C8A-B6E7-47F540EB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38C-B559-4EB4-A350-D7120196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A7A-DB29-4BB6-BDE8-54C182E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462-A277-4390-BD74-5ECD1EC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602-BBAF-4804-863A-755569F7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D59-59D1-4BA8-8C38-893C09AA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05E-3C9D-4890-A49E-D0DFDB3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032-6295-485B-BD3C-7254420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E377-A8AA-4F69-AE3C-D9574A9D8E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7822-90FD-4047-A8CE-C707A14A59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L3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3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9 – EFA MANDROS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9 – EFA MANDROS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mandroso izao ny fits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ndinihina ny toetr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ny zavatra izay nandr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havela sy hilaoz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idy masina nonen'n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dremo tsara fa fiai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9 – EFA MANDROS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lemena maro izay tsy re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mba ny toe-panah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lavoana misesise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akana ny hamasin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ngataho mba hovan'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hahavery ny fanah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9 – EFA MANDROS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androsoy Jeso ho ao am-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rika hatrizao ny d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y no tena mba ila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sika ilay fahava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ngataho re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jaka ao amin'ny toet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9 – EFA MANDROS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tia ô, Mpisolov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afina aminao ny ot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eteza Ianao hampis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zavatra izay ataho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ny sandrinao mahery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ankinan'ny fanah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24:19Z</dcterms:modified>
  <cp:revision>61</cp:revision>
  <dc:subject/>
  <dc:title>Tiona Advantista</dc:title>
</cp:coreProperties>
</file>