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7FD-657F-4D55-B693-0BDC0ABC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44E-E22C-43B2-8FD6-B36A1CB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AE8-170C-4E09-84B2-599DD152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294-3A11-4D5F-A7A2-FD42DE34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D4A9-9446-42DA-8282-31E6E575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7D17-817C-4223-A77F-C1C22C62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97AC-872D-42C6-ADAC-56B2314F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152F-1FF4-48D5-A616-6995AE87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C5E-90F0-4ABF-89A9-8AA370B7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72A-DBFE-458E-A6FD-B8267FC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5753-790C-4ABB-AE82-F2C75B2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C1D-729F-442F-AD6D-6C6B9AEC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56DD-8E8C-4EB4-9789-B46C1BA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42E-946B-49FC-99D8-311035A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014C-F342-47A4-A612-97382986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DD6-8DFE-4E52-9895-06FB3323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2896-84B5-44A8-97C5-FE585469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057-9F85-48E3-82AA-B78C71A8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5D1-7159-45C6-A8A8-FA0D49D3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9EC-E407-430E-BA5D-541E5CA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525-B898-42D5-8CDF-E5070895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7F0-78F4-4773-BD4A-EC1FF44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374-5A07-4DB4-88BB-67457517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CEB-008C-42E6-BA46-6D57B74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005-A7F0-4B19-9C08-74C2FD392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38DE-531B-418E-BC84-D2ACCDD54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80 – MIVERENA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0 – MIVERENA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verena Jeso ô, fa miandry Anao 'zah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ela faingàna re fa miandry el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horiana Jeso ô, ny fiandrasana Anao 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rao tsy mahandry 'zahay ka av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ô, malak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0 – MIVERENA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ia Jesos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dry Anao ka malak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ia fa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andry Anao ny ol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ia fa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andry Anao Jeso ô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. (Jeso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80 – MIVERENA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robe ny olona reraka sy 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zao tontolo izao, no manakan-dàl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ela, Jeso ô, 'Nnrao dia ritra ny ond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rao tsy mahandry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via Jesosy ô, malak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15:36Z</dcterms:modified>
  <cp:revision>91</cp:revision>
  <dc:subject/>
  <dc:title>Tiona Advantista</dc:title>
</cp:coreProperties>
</file>