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C2B-1DE4-415A-A963-957BA131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73B-7EE1-487B-9A1F-530E6A5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016-5C7E-4CE0-9724-9A54AA33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0AA-EA6D-408F-A843-4B952CE0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F1AE-E745-418D-990F-EF2FD7D2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B80-DD69-43A3-96E7-01D4FE8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B185-E839-4FCB-AAB1-6D27618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FBB5-FFE8-4AC5-A0A3-C3E4EA1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F915-A506-47B2-9821-13CBF44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BBC8-99C4-4AC9-8BBA-9F9E0DBD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4396-C27F-4428-92E4-14CEC8D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4A5-1920-426F-9648-1B363C1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632-3274-4E75-AC3B-F376C7A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7179-16FB-4361-9B70-38465B2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B232-2704-459E-9DFF-BEC2075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8B4E-CD81-4551-B6A0-32FD129E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684-1519-4056-A3E4-306B0588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2C9-0921-4AC9-A1DA-E58F7D8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130-93AA-4ABF-9ECA-9F2D372A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F75-66E8-42D7-AF39-0F6ADB09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805-77C7-4C9B-81D3-AC60F351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78C-219D-42E0-B6BA-D03B383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64B-5260-42A5-A4AB-B37AB44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F97-5DB5-4FDB-A0C7-7753E9A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8E0-BC96-4CE9-A894-3FB3332223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A9F-1CDD-492F-9FA6-F7C55851C6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ntsiz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cien and moder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8 – MIDERA ANAO ‘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8 – MIDE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a An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y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ratr'izao andro so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Saba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ifal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 saotra no atol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8 – MIDE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Enga anie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Hitohy hat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'Zao fider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'Zay ent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8 – MIDE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Nampananten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Homen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Mba arotsahy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Aty am-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Ho hery manavao ny te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8 – MIDE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adiav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toeranay ao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 iza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mbany fitari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tra am-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izanay mba hanaj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hatong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d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lanitra ary ny 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8 – MIDE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0:04:31Z</dcterms:modified>
  <cp:revision>43</cp:revision>
  <dc:subject/>
  <dc:title>Tiona Advantista</dc:title>
</cp:coreProperties>
</file>