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40B-408B-4179-BAE0-4922759E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055-3EAA-46DD-BF7A-19D12178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B3F-B7CA-46AC-ADA4-D53BACA7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A0F-6F17-44A8-9892-04348CEF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3A06-0990-48BA-A642-FCDF0430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57A1-CE20-42B0-8476-B86A7245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6F8A-D0E7-48B9-BD2A-7136015C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A7D6-B59B-4B9C-BD86-F35EE68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6789-6360-4618-982A-BDEADEFE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259D-36E9-40AC-AD11-DCFACE8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FD0-B778-4E3A-A7AC-C62ED8BC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791-5BAF-44FF-8BCB-03BA960D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A99E-E421-491C-B005-67D1C47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8437-C61D-4381-A7EE-A511235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549D-14AC-4606-88AA-84AB6E72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1797-0F3D-4563-9CF3-70638301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7483-9F7E-464B-99D4-E3423146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30B-24D7-4BD7-AA09-07E95EC7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407-5AA7-48ED-AB7F-AA8370A1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B19-AA5C-43B3-8659-10E174E6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E41-B4B4-4900-A932-09F77A75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53F-A3D5-4CF1-B3DB-6708EA1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17C-C2B8-4EC2-AE79-F76327B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7BD-5B5B-4DFC-92C8-B4D1CF03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D63B-C911-403D-9B4E-33C9D5F17B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F8DD-C4A8-4226-B3F2-6F5BDBCBEC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08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ESOSY Ô, FAMONJ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8 - JESOSY Ô,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ô,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reo ny ad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Reraka aho miten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monjy ô, midina, av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8 - JESOSY Ô,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(Fa ai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Aina hivelomako Ia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(Jesos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Aina mitempo anatiko ao ny avo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O ! Sambatra aho, tretri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Fa mitoetra eo ami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8 - JESOSY Ô, FAMONJ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ô, mofon'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tom-piain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ko he ! karank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ndray Fanahy av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27:42Z</dcterms:modified>
  <cp:revision>119</cp:revision>
  <dc:subject/>
  <dc:title>Tiona Advantista</dc:title>
</cp:coreProperties>
</file>