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3D0-5B78-4220-8F68-6E217262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4D1-435A-4F90-854A-94B6284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804-18F1-4D22-80DA-A2A9BFE8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002-E90D-468D-862E-4DA54A98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922C-4058-425A-8696-C6FEE593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C136-4103-45C8-8147-9F93BB1D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7900-2EB0-4F10-8446-A3C154F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049F-5844-4BAF-8D72-E22498DC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7894-665D-42DF-BE76-C3F620CE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04FC-6B92-4E28-9BAB-4E044F88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5F39-0904-4717-A551-7D145076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EEC-E588-4B99-9B77-FBF8BEE7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7655-2932-4817-A015-5C73BF1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A75-FF04-4B3C-8E51-7987359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68B0-C227-4E7E-833B-A289EB4D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10FC-EFFA-4F45-AF3F-840441E5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74DD-3C97-47E0-BD40-330861B4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789-753F-468E-BB34-394AB798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871-A382-4283-9DAE-9254552D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3C0-304C-43C5-B39E-14999950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B83-DE68-41AB-B509-D3D7D633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05F-B81D-4983-B692-CF935BE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F33-C7B9-4708-B201-0CF06B40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87B-A978-4DB6-A939-D5D06D8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7A24-822B-4C02-98ED-7661B29D78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8946-6E7D-48B2-9C94-460102A32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P. Bilhor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13 – HE MAMIK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3 – HE MAMIKO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mamiko indrind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antar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anga sy mirind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haravo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nandao ny lap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ry an-koa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idina hizaka ny fahoriana et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x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3 – HE MAMIKO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etry sy nihaf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panjak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olona ady maf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vesatra ent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iky sy nano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y ambony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lotra aina koa hanavotra a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x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13 – HE MAMIKO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ano 'lay havo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injonao i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maloka, misaona 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o re n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fa he mijal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rifiry 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Izay Mpampifaly : Henoy fa mitore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x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3 – HE MAMIKO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rakitra lalaik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antara 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etsoventso-tsaik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kalo 'zan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nga ao an-koat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atrehan-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faly loatra Hihira izany indr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x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7:51:46Z</dcterms:modified>
  <cp:revision>36</cp:revision>
  <dc:subject/>
  <dc:title>Tiona Advantista</dc:title>
</cp:coreProperties>
</file>