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D44-C69F-49F3-AD3B-DC8330CF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350-93E5-4269-8617-A41EC388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64D-D07B-4865-B9A8-E9C81182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C58-DB90-4C54-AB06-20C49759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2270-C187-4E97-9C59-CA370E2B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DDB6-1E3E-4A6F-9700-C849C29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74D2-9EE0-4FA9-90A9-721AE246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261C-7EBF-4909-9FA8-27A8886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018-42C6-4210-8652-EA58A9D2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35AD-AAD5-47AF-8CAA-94D18D3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D7FB-C466-4619-A02E-C580049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993-0207-4CDB-B6A8-B03DB5B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A98-CEFB-4562-A16E-30E9F3C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059-C560-44A8-8975-F2010D66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0737-C8A8-452E-BCD2-F231633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C09-3A53-4D2A-947A-8EB9B227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ED70-07BD-46FD-B153-8649E292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2D4-3DBA-4793-9904-05574B8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384-E4A0-43E8-A823-375C5A6B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527-8A4C-4C47-94A3-7A22FB2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EFE-B79C-4A0C-AFB8-C7C7EBF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5E8-FE73-4007-99E1-A5A2569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36A-73BC-4DB8-9BF3-6C38F07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B4F-8F46-4DE1-858F-3B2C524F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BF3-BA92-46A7-92A6-AD55C1810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42EF-113A-45DE-9AEA-544B5BDC4A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Bourge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t : HL2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5 – FANAHY VER Ô,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5 – FANAHY VERY Ô, AVI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very ô,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bola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anany mits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5 – FANAHY VERY Ô, AVI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ô, avi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ebah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'zay ekena h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45 – FANAHY VERY Ô, AVI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satra entana ô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ny Me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ao toa tafah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is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5 – FANAHY VERY Ô, AVI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ry fanahy manjor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, sas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'ilay vokov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25:18Z</dcterms:modified>
  <cp:revision>61</cp:revision>
  <dc:subject/>
  <dc:title>Tiona Advantista</dc:title>
</cp:coreProperties>
</file>