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715-E228-46ED-99B0-03F392F6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602-E923-4AD8-AEB5-BF71FB3A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7D1-6A21-4A42-BFD9-F2810D36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E81-0D8A-4ACA-ADF0-A5EA296D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6F1D-B19B-4AB0-807E-F462EC57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7650-FD9B-4930-B3BC-9DAFCCE5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A478-B64B-4F6D-9E60-D71BE428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4780-5867-4BC5-9501-540AE35D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8247-FB16-4484-9062-D410ED22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EBA7-89F4-4FE7-B238-FBB1D58F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E4B5-F009-4198-BFE3-BF5545C5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634-6E95-458C-809C-3467292E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4D47-8679-49E1-8FE0-096E314B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31FA-E9A1-4DF3-9705-EE53014E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41CD-B197-444E-9B6F-CC508895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765F-316A-4F4F-B829-71DECCFD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5370-2C7E-4720-B92F-62F13607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55E-537C-47D1-A5F5-613E5D30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5341-49B3-440B-BC6D-4644E8A2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A0C-F80E-4C15-AB23-8220B4A8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C24-F961-47F9-A184-7D64D010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15E-19B1-41C2-8B72-C2250D7A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D76-1C58-40B1-A0A2-22CFC557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10B-A8BA-4976-A7D3-6BA9AAB9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73F9-3766-4139-89FD-E9507BBC86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44AC-4B55-4E1B-8401-D6DCBDD6EE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 RA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Ny fiderana sy fisaorana Az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Auteur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r>
              <a:rPr b="0" lang="nl-NL" sz="1000" spc="-1" strike="noStrike">
                <a:solidFill>
                  <a:srgbClr val="000000"/>
                </a:solidFill>
                <a:latin typeface="Tahoma"/>
                <a:ea typeface="Arial"/>
              </a:rPr>
              <a:t>Maintimolaly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mpositeur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(UNION)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onalité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:</a:t>
            </a:r>
            <a:r>
              <a:rPr b="0" lang="fr-FR" sz="10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Tahoma"/>
                <a:ea typeface="Arial"/>
              </a:rPr>
              <a:t>Dô dia G 4/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Arial"/>
                <a:ea typeface="Arial"/>
              </a:rPr>
              <a:t>FFPM001_2 – Andriananahary, Masin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TIONA FFPM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29000" y="51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829000" y="55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88290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829000" y="5877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290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33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5ffff"/>
                </a:solidFill>
                <a:latin typeface="Tahoma"/>
              </a:rPr>
              <a:t>FFPM001_1 – ANDRIANANAHARY, MASINA INDRINDR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masina indrindr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Ny anjelinao izay mitoetr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Mifamaly hoe: Masin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Telo izay 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29000" y="51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29000" y="55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29000" y="5877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290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33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5ffff"/>
                </a:solidFill>
                <a:latin typeface="Tahoma"/>
              </a:rPr>
              <a:t>FFPM001_1 – ANDRIANANAHARY, MASINA INDRINDR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masina indrindr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Na tsy hita aza izao ny voninahitrao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Masina indrindra Hianao ir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Telo izay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8829000" y="55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88290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8829000" y="5877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88290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8833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5ffff"/>
                </a:solidFill>
                <a:latin typeface="Tahoma"/>
              </a:rPr>
              <a:t>FFPM001_1 – ANDRIANANAHARY, MASINA INDRINDR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Zava-manana aina samy manka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Sady manambara Anao izay Tompony iz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Hianao irery no mitahy a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Telo izay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8829000" y="51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88290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4" action="ppaction://hlinksldjump"/>
          </p:cNvPr>
          <p:cNvSpPr/>
          <p:nvPr/>
        </p:nvSpPr>
        <p:spPr>
          <a:xfrm>
            <a:off x="8829000" y="5877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5" action="ppaction://hlinksldjump"/>
          </p:cNvPr>
          <p:cNvSpPr/>
          <p:nvPr/>
        </p:nvSpPr>
        <p:spPr>
          <a:xfrm>
            <a:off x="88290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6" action="ppaction://hlinksldjump"/>
          </p:cNvPr>
          <p:cNvSpPr/>
          <p:nvPr/>
        </p:nvSpPr>
        <p:spPr>
          <a:xfrm>
            <a:off x="8833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5ffff"/>
                </a:solidFill>
                <a:latin typeface="Tahoma"/>
              </a:rPr>
              <a:t>FFPM001_1 – ANDRIANANAHARY, MASINA INDRINDR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feno hatsaran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He, ny fitahianao izay mpanompon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Tsara dia tsara ny omenao a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Telo izay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29000" y="51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9000" y="55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8290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88290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8833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5ffff"/>
                </a:solidFill>
                <a:latin typeface="Tahoma"/>
              </a:rPr>
              <a:t>FFPM001_1 – ANDRIANANAHARY, MASINA INDRINDR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masina indrindr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Corbel"/>
                <a:ea typeface="Arial"/>
              </a:rPr>
              <a:t>Izahay mpanomponao ta hankalaza An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Corbel"/>
                <a:ea typeface="Arial"/>
              </a:rPr>
              <a:t>Feno fahendrena, feno fiant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Telo izay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829000" y="51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829000" y="55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290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29000" y="5877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3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8-04-13T10:52:23Z</dcterms:modified>
  <cp:revision>86</cp:revision>
  <dc:subject/>
  <dc:title>Tiona Advantista</dc:title>
</cp:coreProperties>
</file>