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E10-06DA-46FC-9FA8-E8AD427D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220-030D-43F2-A7E7-672DA3C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D87-2BC4-48C2-804C-EBB3F28B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F7C-69C2-4313-AFFF-59046379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010-5A13-4D71-81BA-72DC5AF2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C9F1-738F-4038-BD9E-0042482F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CB46-DCDC-4CE2-9A01-AF47322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62CC-5B9F-42A0-BBD2-216B268D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576D-9018-40A6-A5CB-CF3E3E2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E1E-E126-484B-8009-2BB3564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E73-6803-4771-B23B-5C1CF330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230-45E4-426D-8DAB-BDB7EC8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F02-8A85-4D30-B116-14BF3C1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F284-E602-41F3-B34C-24AFFB6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42F-AFBC-44DA-A565-C1A8CAB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BFC-DB2C-4D3B-B680-3BAD4832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82DA-563D-4DDD-BAB1-CAB5D65C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49-E3CD-4D95-9A97-97A5ABB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0E4-DC4E-4117-BB7E-87CC62B2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0A3-56B1-46F3-B6D1-1BAEB467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B87-D255-4B25-BB19-FCA4D9C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6D5-5231-430D-94C8-9C2591D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95E-2767-4E14-8122-AE40E12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E0D-A2F7-4B3F-B835-3AB39FF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D4A-F3E5-4B09-B6A8-868A1D5CBD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904-C94C-4099-98E9-614E5D8A1D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NDRIAMANITRA 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Ny fiderana sy fisaorana Az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Auteur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</a:t>
            </a:r>
            <a:r>
              <a:rPr b="0" lang="nl-NL" sz="1000" spc="-1" strike="noStrike">
                <a:solidFill>
                  <a:srgbClr val="000000"/>
                </a:solidFill>
                <a:latin typeface="Tahoma"/>
                <a:ea typeface="Arial"/>
              </a:rPr>
              <a:t>R. Hebert. 1983 - 1926 Nad. J. A. Houlder 1844 - 1932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mpositeur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A. Ston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onalité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0" lang="fr-FR" sz="10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Tahoma"/>
                <a:ea typeface="Arial"/>
              </a:rPr>
              <a:t>Dô dia E 4/4 Mato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Arial"/>
                <a:ea typeface="Arial"/>
              </a:rPr>
              <a:t>FFPM001_1 – Andriananahary,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IONA FFP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Ny anjelinao izay mitoe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Mifamaly hoe: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Na tsy hita aza izao ny voninahitra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Masina indrindra Hiana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Zava-manana aina samy m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Sady manambara Anao izay Tompony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Hianao irery no mitahy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feno hatsaran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He, ny fitahianao izay mpanompo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Tsara dia tsara ny omenao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5ffff"/>
                </a:solidFill>
                <a:latin typeface="Tahoma"/>
              </a:rPr>
              <a:t>FFPM001_1 – ANDRIANANAHARY, MASINA INDRINDR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masina indrindr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Izahay mpanomponao ta hankalaza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orbel"/>
                <a:ea typeface="Arial"/>
              </a:rPr>
              <a:t>Feno fahendrena, feno fiant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  <a:ea typeface="Arial"/>
              </a:rPr>
              <a:t>Andriananahary, Telo i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29000" y="51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9000" y="55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290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9000" y="5877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3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8-04-13T10:50:15Z</dcterms:modified>
  <cp:revision>85</cp:revision>
  <dc:subject/>
  <dc:title>Tiona Advantista</dc:title>
</cp:coreProperties>
</file>